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ACE-D575-4119-AB7C-44EB9473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286-CE1C-4B8B-8927-364A6615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8B6-A8B5-41DC-B98D-7F20F38F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95E-883C-4562-9BA8-16E45135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1299-1DBD-40DA-A09C-15B08729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67DF-9C08-40A2-897B-F192A1B0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9912-3ACB-4597-9705-A47533D6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0159-CC1E-4970-B4A8-0CFC012D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2900-3980-4475-B462-22E6AB3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42E0-BE0E-411F-90B5-091AEF2B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105F-A305-495E-A881-5A9ABCD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823-45DA-4AA0-97AC-876E89A0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407D-A95D-45AE-8899-3F9A83A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445D-B09B-4A1D-A450-D1A111CA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54E1-FA16-4288-B015-703C94E7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E72C-2575-4AD9-B19D-D52C7637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2332-6023-46E0-B88F-19EE0B2E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2FE-A0B2-4A8B-A327-FBCDCD42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EEB-35AD-46B8-8EFA-733DDC5C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514-2407-4F53-82F1-3B57D4D1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20D-5C05-4459-9EAC-1ACD5248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8AD-D34C-4654-A8FA-FB62739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EDC-6788-4520-A614-8CC6D394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F76-3925-4F98-8BE1-C5BA5D06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ECD2-2BF0-4BB9-A24B-37EDE68373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E8C4-CF4C-4C67-958B-9916F9668D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br>
              <a:rPr sz="44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«Образ матери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в музыке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и изобразительном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искусстве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74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Я верю, что женщина – чудо так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акого на Млечном пути не сыск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 если «любимая» - слово свят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о трижды священное –женщина-м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. Рогож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480" y="235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024000" cy="283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600000">
            <a:off x="4379400" y="2798280"/>
            <a:ext cx="4105440" cy="200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305928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. Рену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«Ма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Шарпантье           </a:t>
            </a: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	</a:t>
            </a: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 с детьм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6320" y="189000"/>
            <a:ext cx="6097680" cy="6448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915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ОТВЕТЬ НА ВОПРОСЫ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200" y="764640"/>
            <a:ext cx="8902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Какие средства выразительности помогли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композитору передать образ матер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Красивая мелодия, спокойный умеренный темп валь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Если бы надо было исполнить песню без слов, какой инструмент вы бы выбрали для исполнения мелод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Певучие инструменты, например: флейта, скрип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Найдите в тексте песни слова,  в которых говорится чем красива каждая м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Красива по-своему каждая мама – любовью своей материнской красив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946080"/>
            <a:ext cx="43434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афаэ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00"/>
                </a:solidFill>
                <a:latin typeface="Boyarsky"/>
              </a:rPr>
              <a:t>Сикстинская Мадонн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599000" cy="64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8360" y="122760"/>
            <a:ext cx="352728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0360" y="1773360"/>
            <a:ext cx="428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. Васнец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«Богоматер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с младенце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5800" y="260280"/>
            <a:ext cx="4694400" cy="640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5230800"/>
            <a:ext cx="388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Boyarsky"/>
              </a:rPr>
              <a:t>Богомате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Boyarsky"/>
              </a:rPr>
              <a:t>Тихвинск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0" b="15206"/>
          <a:stretch/>
        </p:blipFill>
        <p:spPr>
          <a:xfrm>
            <a:off x="611280" y="260280"/>
            <a:ext cx="3591000" cy="4824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15208"/>
          <a:stretch/>
        </p:blipFill>
        <p:spPr>
          <a:xfrm>
            <a:off x="5003640" y="260280"/>
            <a:ext cx="3457800" cy="4824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930920" y="5013360"/>
            <a:ext cx="38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50021"/>
                </a:solidFill>
                <a:latin typeface="Boyarsky"/>
              </a:rPr>
              <a:t>Богоматер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Boyarsky"/>
              </a:rPr>
              <a:t>Казанска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0" y="1988640"/>
            <a:ext cx="44276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Богомат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yarsky"/>
              </a:rPr>
              <a:t>Владими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170240" cy="6480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32000" y="1988640"/>
            <a:ext cx="42116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Богомат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yarsky"/>
              </a:rPr>
              <a:t>Владими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yarsky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yarsky"/>
              </a:rPr>
              <a:t>16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468680" cy="6480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Найди слова, которые передают твои чувства когда ты слушаешь музыку, смотришь картины, читаешь стихи, посвящённые Богоматери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463000">
            <a:off x="539280" y="2420640"/>
            <a:ext cx="2592360" cy="576360"/>
          </a:xfrm>
          <a:prstGeom prst="rect">
            <a:avLst/>
          </a:prstGeom>
          <a:solidFill>
            <a:srgbClr val="00ff00"/>
          </a:soli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4920" y="7389360"/>
            <a:ext cx="828180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42600">
            <a:off x="2987640" y="2492280"/>
            <a:ext cx="259236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058800">
            <a:off x="5940000" y="1989000"/>
            <a:ext cx="2889360" cy="6271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БЛАГОР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142600">
            <a:off x="971640" y="3789000"/>
            <a:ext cx="1562040" cy="5763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42600">
            <a:off x="6227640" y="3284640"/>
            <a:ext cx="2592360" cy="576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142600">
            <a:off x="3419640" y="3860640"/>
            <a:ext cx="2592360" cy="57636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744400">
            <a:off x="4932360" y="4868640"/>
            <a:ext cx="2592360" cy="5760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КРА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1184200">
            <a:off x="1908000" y="5876640"/>
            <a:ext cx="2592720" cy="57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5877000"/>
            <a:ext cx="2592720" cy="57636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КО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1184200">
            <a:off x="539640" y="4941360"/>
            <a:ext cx="2592360" cy="57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9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9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9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9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9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9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9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9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9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9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44720" y="333360"/>
            <a:ext cx="7272360" cy="549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850760" y="5982840"/>
            <a:ext cx="531324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. Дейнека   </a:t>
            </a:r>
            <a:r>
              <a:rPr b="1" lang="en-US" sz="4000" spc="-1" strike="noStrike">
                <a:solidFill>
                  <a:srgbClr val="a50021"/>
                </a:solidFill>
                <a:latin typeface="Boyarsky"/>
              </a:rPr>
              <a:t>«Ма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32767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.Петров 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Вод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«1918 г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в Петр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град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348000" y="260280"/>
            <a:ext cx="5602320" cy="6308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7:19:36Z</dcterms:created>
  <dc:creator>***</dc:creator>
  <dc:description/>
  <dc:language>en-US</dc:language>
  <cp:lastModifiedBy>MAMA</cp:lastModifiedBy>
  <dcterms:modified xsi:type="dcterms:W3CDTF">2009-02-22T00:49:41Z</dcterms:modified>
  <cp:revision>18</cp:revision>
  <dc:subject/>
  <dc:title>Можем ли мы увидеть музыку? Тема урока:»Образ матери в музыке</dc:title>
</cp:coreProperties>
</file>