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23C-0C4F-4A08-A5CE-9F8C782A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DA2-DAA3-4727-B071-B4B66747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D0A-2EE7-4A6E-B6BE-C096B30F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8165-2F46-4FF1-AD5E-5D1C7107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C64A-A7FC-40FA-B3C9-637A22AB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3D1E-7BE9-4937-B1C2-B3338ED5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328-62D4-4937-A54E-99C7CC2E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88F-0FE2-4448-8E4A-2E510AD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638-599B-4321-A2E0-2A4E8418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CABD-6781-4C1B-8CAF-36EE8F3C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0E4-BDCC-4CB7-8BEC-8524F70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AA1-D4D1-4A6C-A374-ADD7B55C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86D9-47F8-4BFA-9BC5-D8A6047F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6322-7757-4923-A298-9736D6A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49D-24A0-4721-885F-23DDB49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594-C8E8-4FED-822A-0B26C566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EBC-3AC1-499A-AB32-B1D4F441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569-C34A-4CDD-ACB6-CD187D77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1D8-D72D-44FC-B118-4ACE8635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C53-590F-4E40-B31A-3AEE761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084-43FF-4BE8-B377-16B70EA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A68-68D0-4E44-80A2-FC7BA18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380-6963-4331-BDC2-BA4D7F58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F9C-E613-457F-BB6C-3A238C2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B9C2-04FC-4143-966B-6BC534E192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A57-F471-4B6A-B5CD-7E1D4E7B2E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br>
              <a:rPr sz="44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«Образ матери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в музыке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 изобразительном </a:t>
            </a:r>
            <a:br>
              <a:rPr sz="4800"/>
            </a:b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искусстве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7453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Я верю, что женщина – чудо так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кого на Млечном пути не сыск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И если «любимая» - слово свят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То трижды священное –женщина-м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. Рогож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480" y="235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404640"/>
            <a:ext cx="3024000" cy="283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600000">
            <a:off x="4379400" y="2798280"/>
            <a:ext cx="4105440" cy="200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30592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. Рену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«Ма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Шарпантье           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	</a:t>
            </a:r>
            <a:r>
              <a:rPr b="1" lang="ru-RU" sz="4000" spc="-1" strike="noStrike">
                <a:solidFill>
                  <a:srgbClr val="a50021"/>
                </a:solidFill>
                <a:latin typeface="Boyarsky"/>
              </a:rPr>
              <a:t> с деть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6320" y="189000"/>
            <a:ext cx="6097680" cy="64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915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ТВЕТЬ НА ВОПРОСЫ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200" y="764640"/>
            <a:ext cx="8902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акие средства выразительности помогли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композитору передать образ мат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Красивая мелодия, спокойный умеренный темп валь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Если бы надо было исполнить песню без слов, какой инструмент вы бы выбрали для исполнения мелод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Певучие инструменты, например: флейта, скрип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йдите в тексте песни слова,  в которых говорится чем красива каждая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Красива по-своему каждая мама – любовью своей материнской красив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946080"/>
            <a:ext cx="434340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Рафаэ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00"/>
                </a:solidFill>
                <a:latin typeface="Boyarsky"/>
              </a:rPr>
              <a:t>Сикстинская Мадонн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99000" cy="64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8360" y="122760"/>
            <a:ext cx="352728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0360" y="1773360"/>
            <a:ext cx="428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. Васнец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Богоматер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с младенц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5800" y="260280"/>
            <a:ext cx="4694400" cy="64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5230800"/>
            <a:ext cx="38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Тихвинска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0" r="0" b="15206"/>
          <a:stretch/>
        </p:blipFill>
        <p:spPr>
          <a:xfrm>
            <a:off x="611280" y="260280"/>
            <a:ext cx="35910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15208"/>
          <a:stretch/>
        </p:blipFill>
        <p:spPr>
          <a:xfrm>
            <a:off x="5003640" y="260280"/>
            <a:ext cx="3457800" cy="4824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930920" y="5013360"/>
            <a:ext cx="38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a50021"/>
                </a:solidFill>
                <a:latin typeface="Boyarsky"/>
              </a:rPr>
              <a:t>Богоматер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50021"/>
                </a:solidFill>
                <a:latin typeface="Boyarsky"/>
              </a:rPr>
              <a:t>Казанска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0" y="1988640"/>
            <a:ext cx="4427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17024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32000" y="1988640"/>
            <a:ext cx="42116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Богома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oyarsky"/>
              </a:rPr>
              <a:t>Владими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yarsky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yarsky"/>
              </a:rPr>
              <a:t>16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68680" cy="648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Найди слова, которые передают твои чувства когда ты слушаешь музыку, смотришь картины, читаешь стихи, посвящённые Богоматери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463000">
            <a:off x="539280" y="2420640"/>
            <a:ext cx="2592360" cy="576360"/>
          </a:xfrm>
          <a:prstGeom prst="rect">
            <a:avLst/>
          </a:prstGeom>
          <a:solidFill>
            <a:srgbClr val="00ff00"/>
          </a:soli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4920" y="7389360"/>
            <a:ext cx="828180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42600">
            <a:off x="2987640" y="2492280"/>
            <a:ext cx="2592360" cy="576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058800">
            <a:off x="5940000" y="1989000"/>
            <a:ext cx="2889360" cy="6271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БЛАГОР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142600">
            <a:off x="971640" y="3789000"/>
            <a:ext cx="156204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42600">
            <a:off x="6227640" y="3284640"/>
            <a:ext cx="2592360" cy="57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42600">
            <a:off x="3419640" y="3860640"/>
            <a:ext cx="2592360" cy="57636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744400">
            <a:off x="4932360" y="4868640"/>
            <a:ext cx="2592360" cy="5760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КРА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184200">
            <a:off x="1908000" y="5876640"/>
            <a:ext cx="2592720" cy="57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24360" y="5877000"/>
            <a:ext cx="2592720" cy="57636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КО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184200">
            <a:off x="539640" y="4941360"/>
            <a:ext cx="2592360" cy="57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9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9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49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90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9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900"/>
                            </p:stCondLst>
                            <p:childTnLst>
                              <p:par>
                                <p:cTn id="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9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9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9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4720" y="333360"/>
            <a:ext cx="7272360" cy="549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850760" y="5982840"/>
            <a:ext cx="531324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. Дейнека   </a:t>
            </a:r>
            <a:r>
              <a:rPr b="1" lang="en-US" sz="4000" spc="-1" strike="noStrike">
                <a:solidFill>
                  <a:srgbClr val="a50021"/>
                </a:solidFill>
                <a:latin typeface="Boyarsky"/>
              </a:rPr>
              <a:t>«Ма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32767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.Петров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Вод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«1918 го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в Петр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Boyarsky"/>
              </a:rPr>
              <a:t>град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348000" y="260280"/>
            <a:ext cx="5602320" cy="6308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07:19:36Z</dcterms:created>
  <dc:creator>***</dc:creator>
  <dc:description/>
  <dc:language>en-US</dc:language>
  <cp:lastModifiedBy>MAMA</cp:lastModifiedBy>
  <dcterms:modified xsi:type="dcterms:W3CDTF">2009-02-22T00:49:41Z</dcterms:modified>
  <cp:revision>18</cp:revision>
  <dc:subject/>
  <dc:title>Можем ли мы увидеть музыку? Тема урока:»Образ матери в музыке</dc:title>
</cp:coreProperties>
</file>