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6C7-712B-4637-8E31-2BC312BB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E2B-6869-46D3-A5CA-70FCD28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E0A-4C14-4EE2-BBDE-118B4DDC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60C-E2D3-48F8-B8A8-586DE4B1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925B-8B9D-4DFC-8E8C-C702B2E0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D9AF-5C21-426E-B92C-79DF6C37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2646-5672-4FBB-9295-DC9B74BB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3BB-4B6C-421A-9A20-9D6697A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BDF8-A38C-41CF-A060-609F9B7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3CD0-13EB-4248-BF6D-E68AED8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9F6-39FC-4886-9670-209E8E8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127-6699-49FC-B354-1692C8E9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8735-4EC0-4C13-A2B8-2C9821C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0231-50D2-4624-8C57-06E2703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1F26-B1C5-476E-AD8D-A9CC3E1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9F5-7A0F-4DF5-9A03-2AC4EFE9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9A75-4902-434B-B5E6-22504D72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61D-6777-4DC9-B314-53F17D0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BC5-0083-4A6F-ABA5-E5A2FDC3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ACA-EFB4-44EC-BFC7-DE9B4730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EF5-B229-4C4B-A4FD-684E80BA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167-0C8C-4AC9-B58E-4B9849B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921-D059-482E-A209-DC7B5E7E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414-1C8A-40D8-BCBE-389F1FF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5896-A8DE-4599-9AD2-EE4913948F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626B-AD1E-40FE-B269-AC012EF262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44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«Образ матери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в музыке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 изобразительном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скусстве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74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Я верю, что женщина – чудо так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акого на Млечном пути не сыск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если «любимая» - слово свят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о трижды священное –женщина-м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. Рогож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480" y="235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24000" cy="28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600000">
            <a:off x="4379400" y="2798280"/>
            <a:ext cx="4105440" cy="20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30592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. Рен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«Ма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Шарпантье           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	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 с деть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6320" y="189000"/>
            <a:ext cx="6097680" cy="644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ОТВЕТЬ НА ВОПРОСЫ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200" y="764640"/>
            <a:ext cx="8902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Какие средства выразительности помогли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композитору передать образ мат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расивая мелодия, спокойный умеренный темп валь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Если бы надо было исполнить песню без слов, какой инструмент вы бы выбрали для исполнения мелод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Певучие инструменты, например: флейта, скрип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Найдите в тексте песни слова,  в которых говорится чем красива каждая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Красива по-своему каждая мама – любовью своей материнской красив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946080"/>
            <a:ext cx="43434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афаэ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00"/>
                </a:solidFill>
                <a:latin typeface="Boyarsky"/>
              </a:rPr>
              <a:t>Сикстинская Мадонн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99000" cy="64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8360" y="122760"/>
            <a:ext cx="352728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360" y="1773360"/>
            <a:ext cx="428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. Васнец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«Богомате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с младенц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5800" y="260280"/>
            <a:ext cx="4694400" cy="64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5230800"/>
            <a:ext cx="38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Boyarsky"/>
              </a:rPr>
              <a:t>Богомате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Boyarsky"/>
              </a:rPr>
              <a:t>Тихвинск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0" b="15206"/>
          <a:stretch/>
        </p:blipFill>
        <p:spPr>
          <a:xfrm>
            <a:off x="611280" y="260280"/>
            <a:ext cx="3591000" cy="482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15208"/>
          <a:stretch/>
        </p:blipFill>
        <p:spPr>
          <a:xfrm>
            <a:off x="5003640" y="260280"/>
            <a:ext cx="3457800" cy="482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930920" y="5013360"/>
            <a:ext cx="38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Boyarsky"/>
              </a:rPr>
              <a:t>Богоматер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Boyarsky"/>
              </a:rPr>
              <a:t>Казанска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1988640"/>
            <a:ext cx="4427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Богома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yarsky"/>
              </a:rPr>
              <a:t>Владим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170240" cy="648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32000" y="1988640"/>
            <a:ext cx="4211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Богома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yarsky"/>
              </a:rPr>
              <a:t>Владим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yarsky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yarsky"/>
              </a:rPr>
              <a:t>16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68680" cy="648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Найди слова, которые передают твои чувства когда ты слушаешь музыку, смотришь картины, читаешь стихи, посвящённые Богоматери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463000">
            <a:off x="539280" y="2420640"/>
            <a:ext cx="2592360" cy="576360"/>
          </a:xfrm>
          <a:prstGeom prst="rect">
            <a:avLst/>
          </a:prstGeom>
          <a:solidFill>
            <a:srgbClr val="00ff00"/>
          </a:soli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4920" y="7389360"/>
            <a:ext cx="828180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42600">
            <a:off x="2987640" y="2492280"/>
            <a:ext cx="25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058800">
            <a:off x="5940000" y="1989000"/>
            <a:ext cx="2889360" cy="6271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БЛАГОР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142600">
            <a:off x="971640" y="3789000"/>
            <a:ext cx="156204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42600">
            <a:off x="6227640" y="3284640"/>
            <a:ext cx="2592360" cy="57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42600">
            <a:off x="3419640" y="3860640"/>
            <a:ext cx="2592360" cy="57636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744400">
            <a:off x="4932360" y="4868640"/>
            <a:ext cx="2592360" cy="5760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1184200">
            <a:off x="1908000" y="5876640"/>
            <a:ext cx="2592720" cy="57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5877000"/>
            <a:ext cx="2592720" cy="5763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184200">
            <a:off x="539640" y="4941360"/>
            <a:ext cx="2592360" cy="57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9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9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9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9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9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9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9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9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4720" y="333360"/>
            <a:ext cx="7272360" cy="549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850760" y="5982840"/>
            <a:ext cx="531324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. Дейнека   </a:t>
            </a:r>
            <a:r>
              <a:rPr b="1" lang="en-US" sz="4000" spc="-1" strike="noStrike">
                <a:solidFill>
                  <a:srgbClr val="a50021"/>
                </a:solidFill>
                <a:latin typeface="Boyarsky"/>
              </a:rPr>
              <a:t>«Ма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2767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.Петров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Вод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«1918 г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в Петр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град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5602320" cy="630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7:19:36Z</dcterms:created>
  <dc:creator>***</dc:creator>
  <dc:description/>
  <dc:language>en-US</dc:language>
  <cp:lastModifiedBy>MAMA</cp:lastModifiedBy>
  <dcterms:modified xsi:type="dcterms:W3CDTF">2009-02-22T00:49:41Z</dcterms:modified>
  <cp:revision>18</cp:revision>
  <dc:subject/>
  <dc:title>Можем ли мы увидеть музыку? Тема урока:»Образ матери в музыке</dc:title>
</cp:coreProperties>
</file>