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4.png" ContentType="image/png"/>
  <Override PartName="/ppt/media/image21.png" ContentType="image/png"/>
  <Override PartName="/ppt/media/image19.png" ContentType="image/png"/>
  <Override PartName="/ppt/media/image2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2173-A738-43D0-97DF-E2828CBC71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25BE-EB12-44D2-AF25-1CE468A7F20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E4DB-757C-42A4-AB64-6AC870E5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42B9-7920-40B3-A40B-79D0B647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DD62-6E21-42B8-A088-FEA87053B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9BA1-363A-4A7B-BCAC-6B4982CA0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E413A-7CF1-492E-B76B-10728E9E6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C7E99-9117-43C8-A849-975B2399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931EB-48F8-4B21-8558-36FCB445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81135-4D30-4432-BE3E-D6185311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F4250-A4AB-4503-9636-35096D15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12E2D-A272-4C1E-A507-D0E7C600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D246A-B125-4333-894C-0F31D1CB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03D4-58BC-4AFB-A01A-8F6B568F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CE0EF-B011-41C6-AA75-0EE2467B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8583B-AD00-4748-A56A-FA7BB9E1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9DA22-8BE9-4444-86C8-24A3D46B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7D425-AF9D-4C45-8AB8-FB0196E86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AAA5B-E0D0-47DD-BABE-0F9F798B7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B6652-C9AE-440D-8E4B-DC1C4D66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47540-98D7-4227-B00D-A92DF1A0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FF995-66B6-443B-9410-67B52415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6508F-EC4E-460F-9F68-50AB6C97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5EB63-2CE5-4934-89C2-41C0CAD6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939F-B84E-4C3B-8605-49535272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BBF23-AD7A-49A8-ACFD-3B1DB3A7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3FF49-0C72-4BA2-A621-24D96E1E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68E2D-C603-4D59-80D5-91FA3C0F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7150E-520D-4E1F-BDEE-5B296DBD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9EAEC-90B6-4BC3-92E3-EE1E375B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888D9-8A58-4C10-93FB-F2224812E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0A93B-12AE-472B-9F00-67B2F1C42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0E7E13-4DBD-4EBB-A663-B502B7249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5FFC24-9B3B-4A26-A8DD-7736B5D7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E12EE8-CEC9-492A-AA46-17F16426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F27D-0EAF-4F4E-8EF9-66CA4352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3E3954-04C4-4F9D-A2AE-60ED2111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CCDE0C-F9C1-4A10-AB83-FFB454ED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0625BD-B748-415A-BC38-63F9319B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681194-A387-4F5E-9538-9FE71A81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28FAC8-6B1D-4726-80DE-52417F1E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5749C6-F5C0-4881-A33A-97924E55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9A8C42-161B-4553-B43F-1EC8CA00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14C0A7-B3EA-4A34-A955-74E3B0B28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73278E-B910-4468-9E2B-4B679E06B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EC3882-0B31-4C7C-9395-1E3B8B5F4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D76D-C377-4993-96F5-5DC10011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E74C3C-62EE-4793-9EFB-64719A83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897D4A-7528-4FBA-B35C-5D0489D7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58B5EE-EC34-4C2C-B73A-B7934F2B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497CB1-F0AE-4F7B-BE2C-CFFEE024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AB7679-151F-4DA6-A1E1-E39A26DF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59718B-7B97-4D7D-9B0D-0AB10632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97EEBE-CB9B-4F1A-B52F-8589B97F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DC97D9-9F9E-423C-A219-9B922728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9818C7-141D-4D5C-8F7E-5AE86DDB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3CD90D-EF68-48ED-B5AC-6EA52E7A0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F3A4-621B-4D0F-A6F7-703330CA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2EBEC8-60A2-4571-9190-F14F1DBD5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F3B3FD-FBBF-4DCD-A049-54DFD56F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A1FA08-463B-4802-9ED6-1286C551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F13DFB-4BC9-44B1-92A1-638910CF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A08155-7BFD-4460-9280-EA0046F5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EBDEB5-17CA-459A-B1E7-89460232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04F7D1-5FDF-4A26-945F-18E5CC89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675876-910B-4A41-A699-9BF5371F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132EB6-7D80-4210-A033-6740C0B0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5C47B8-F3C8-4CDA-AF05-6C348189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3968-EA2E-4341-8F82-D2C6DD1F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99E4AB-816F-4897-BDB9-5CA2D3B2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39370C-CECF-4E2F-8624-F09224508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731FDB-4117-415F-8E8E-5F17021F3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A1A1-227D-4E57-969A-62DDAD8E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617F-F6E4-4ABF-A718-6E961F18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4AE0-7CEF-4BAB-9B43-86B8461FD16F}" type="slidenum">
              <a:rPr b="0" lang="ru-RU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009dd9"/>
          </a:solidFill>
          <a:ln w="38160">
            <a:solidFill>
              <a:srgbClr val="009dd9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6CD0-1970-4A9E-9A60-7501816874DF}" type="slidenum">
              <a:rPr b="0" lang="ru-RU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7482-8E3F-4B09-A456-C3486409E737}" type="slidenum">
              <a:rPr b="0" lang="ru-RU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5623-3065-4066-B9B2-D4C861AF01E0}" type="slidenum">
              <a:rPr b="0" lang="ru-RU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DBDB-F7B3-4707-981A-B0F06FE44301}" type="slidenum">
              <a:rPr b="0" lang="ru-RU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527E-A0F3-49BA-B18C-5CCAAA2FB634}" type="slidenum">
              <a:rPr b="0" lang="ru-RU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932000" y="2420640"/>
            <a:ext cx="39243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«Счастливая случайность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выпадает лишь на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одну долю подготовленного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ума»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Л.Пастернак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0" name="Picture 2" descr="FA3F8E66"/>
          <p:cNvPicPr/>
          <p:nvPr/>
        </p:nvPicPr>
        <p:blipFill>
          <a:blip r:embed="rId2"/>
          <a:srcRect l="14430" t="2481" r="14602" b="62624"/>
          <a:stretch/>
        </p:blipFill>
        <p:spPr>
          <a:xfrm>
            <a:off x="395280" y="3429000"/>
            <a:ext cx="4305240" cy="29113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826920" y="620640"/>
            <a:ext cx="76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Явление электромагнитной индукции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2"/>
          <a:stretch/>
        </p:blipFill>
        <p:spPr>
          <a:xfrm>
            <a:off x="450720" y="0"/>
            <a:ext cx="8242560" cy="2286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7" descr="t2205"/>
          <p:cNvPicPr/>
          <p:nvPr/>
        </p:nvPicPr>
        <p:blipFill>
          <a:blip r:embed="rId3"/>
          <a:stretch/>
        </p:blipFill>
        <p:spPr>
          <a:xfrm>
            <a:off x="5796000" y="1628640"/>
            <a:ext cx="3114720" cy="21970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0" descr="t2206"/>
          <p:cNvPicPr/>
          <p:nvPr/>
        </p:nvPicPr>
        <p:blipFill>
          <a:blip r:embed="rId4"/>
          <a:stretch/>
        </p:blipFill>
        <p:spPr>
          <a:xfrm>
            <a:off x="5796000" y="4005360"/>
            <a:ext cx="3105000" cy="2303280"/>
          </a:xfrm>
          <a:prstGeom prst="rect">
            <a:avLst/>
          </a:prstGeom>
          <a:ln w="0">
            <a:noFill/>
          </a:ln>
        </p:spPr>
      </p:pic>
      <p:sp>
        <p:nvSpPr>
          <p:cNvPr id="300" name="Прямоугольник 7"/>
          <p:cNvSpPr/>
          <p:nvPr/>
        </p:nvSpPr>
        <p:spPr>
          <a:xfrm>
            <a:off x="179280" y="1700280"/>
            <a:ext cx="5688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 всяком изменении магнитного потока через проводящий контур в этом контуре возникает электрический ток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1" name="Прямоугольник 8"/>
          <p:cNvSpPr/>
          <p:nvPr/>
        </p:nvSpPr>
        <p:spPr>
          <a:xfrm>
            <a:off x="250920" y="3068640"/>
            <a:ext cx="56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ДС индукции в замкнутом контуре равна скорости изменения магнитного потока через площадь, ограниченную этим контуром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2" name="Прямоугольник 11"/>
          <p:cNvSpPr/>
          <p:nvPr/>
        </p:nvSpPr>
        <p:spPr>
          <a:xfrm>
            <a:off x="250920" y="486900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ок в контуре имеет положительное направление при убывании внешнего магнитного потока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2"/>
          <a:stretch/>
        </p:blipFill>
        <p:spPr>
          <a:xfrm>
            <a:off x="334800" y="133200"/>
            <a:ext cx="8614080" cy="3878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7" descr="electrostatCurves8"/>
          <p:cNvPicPr/>
          <p:nvPr/>
        </p:nvPicPr>
        <p:blipFill>
          <a:blip r:embed="rId3"/>
          <a:srcRect l="5291" t="47583" r="36284" b="31902"/>
          <a:stretch/>
        </p:blipFill>
        <p:spPr>
          <a:xfrm>
            <a:off x="2268360" y="4292640"/>
            <a:ext cx="4232520" cy="20779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1"/>
          <p:cNvSpPr/>
          <p:nvPr/>
        </p:nvSpPr>
        <p:spPr>
          <a:xfrm>
            <a:off x="2919600" y="260280"/>
            <a:ext cx="395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МЕНЕНИЕ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6" name="Прямоугольник 2"/>
          <p:cNvSpPr/>
          <p:nvPr/>
        </p:nvSpPr>
        <p:spPr>
          <a:xfrm>
            <a:off x="468360" y="126828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изводство электрической энерги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7" name="Picture 15" descr="Генератор"/>
          <p:cNvPicPr/>
          <p:nvPr/>
        </p:nvPicPr>
        <p:blipFill>
          <a:blip r:embed="rId2"/>
          <a:stretch/>
        </p:blipFill>
        <p:spPr>
          <a:xfrm>
            <a:off x="5076720" y="1197000"/>
            <a:ext cx="3527640" cy="165564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4"/>
          <p:cNvSpPr/>
          <p:nvPr/>
        </p:nvSpPr>
        <p:spPr>
          <a:xfrm>
            <a:off x="468360" y="3068640"/>
            <a:ext cx="392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образование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ток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9" name="Picture 9" descr="Рисунок 5"/>
          <p:cNvPicPr/>
          <p:nvPr/>
        </p:nvPicPr>
        <p:blipFill>
          <a:blip r:embed="rId3"/>
          <a:srcRect l="0" t="4712" r="0" b="17532"/>
          <a:stretch/>
        </p:blipFill>
        <p:spPr>
          <a:xfrm>
            <a:off x="5076720" y="2924280"/>
            <a:ext cx="3527640" cy="1746000"/>
          </a:xfrm>
          <a:prstGeom prst="rect">
            <a:avLst/>
          </a:prstGeom>
          <a:ln w="0">
            <a:noFill/>
          </a:ln>
        </p:spPr>
      </p:pic>
      <p:sp>
        <p:nvSpPr>
          <p:cNvPr id="310" name="Прямоугольник 12"/>
          <p:cNvSpPr/>
          <p:nvPr/>
        </p:nvSpPr>
        <p:spPr>
          <a:xfrm>
            <a:off x="1121040" y="5013360"/>
            <a:ext cx="243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диотехник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1" name="Picture 12" descr="2-12"/>
          <p:cNvPicPr/>
          <p:nvPr/>
        </p:nvPicPr>
        <p:blipFill>
          <a:blip r:embed="rId4"/>
          <a:srcRect l="0" t="0" r="0" b="10872"/>
          <a:stretch/>
        </p:blipFill>
        <p:spPr>
          <a:xfrm>
            <a:off x="5076720" y="4729320"/>
            <a:ext cx="351000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11" descr="r_55906"/>
          <p:cNvPicPr/>
          <p:nvPr/>
        </p:nvPicPr>
        <p:blipFill>
          <a:blip r:embed="rId2"/>
          <a:srcRect l="8617" t="0" r="16032" b="0"/>
          <a:stretch/>
        </p:blipFill>
        <p:spPr>
          <a:xfrm>
            <a:off x="539640" y="260280"/>
            <a:ext cx="3168720" cy="273708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pic>
        <p:nvPicPr>
          <p:cNvPr id="263" name="Picture 2" descr="2BE089ED"/>
          <p:cNvPicPr/>
          <p:nvPr/>
        </p:nvPicPr>
        <p:blipFill>
          <a:blip r:embed="rId3"/>
          <a:srcRect l="62151" t="59915" r="2267" b="-1333"/>
          <a:stretch/>
        </p:blipFill>
        <p:spPr>
          <a:xfrm>
            <a:off x="6516720" y="3068640"/>
            <a:ext cx="2158920" cy="3456000"/>
          </a:xfrm>
          <a:prstGeom prst="rect">
            <a:avLst/>
          </a:prstGeom>
          <a:ln w="0">
            <a:noFill/>
          </a:ln>
        </p:spPr>
      </p:pic>
      <p:sp>
        <p:nvSpPr>
          <p:cNvPr id="264" name="TextBox 6"/>
          <p:cNvSpPr/>
          <p:nvPr/>
        </p:nvSpPr>
        <p:spPr>
          <a:xfrm>
            <a:off x="468360" y="3573360"/>
            <a:ext cx="525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«Самым  великим моим открытием было открытие Фарадея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Гэмфри Дэв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" name=""/>
          <p:cNvSpPr/>
          <p:nvPr/>
        </p:nvSpPr>
        <p:spPr>
          <a:xfrm>
            <a:off x="4067280" y="404640"/>
            <a:ext cx="453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Открытие электромагнитной индукции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2"/>
          <p:cNvSpPr/>
          <p:nvPr/>
        </p:nvSpPr>
        <p:spPr>
          <a:xfrm>
            <a:off x="4140360" y="1413000"/>
            <a:ext cx="4643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791 – 1867 г.г., английский физик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Почетный член Петербургской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Академии Наук (1830)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Основоположник учения об электромагнитном поле; ввел понятия «электрическое» и «магнитное поле»;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высказал идею существования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электромагнитных волн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7" name="Picture 14" descr="Портрет Фарадея"/>
          <p:cNvPicPr/>
          <p:nvPr/>
        </p:nvPicPr>
        <p:blipFill>
          <a:blip r:embed="rId2"/>
          <a:stretch/>
        </p:blipFill>
        <p:spPr>
          <a:xfrm>
            <a:off x="539640" y="1197000"/>
            <a:ext cx="2880000" cy="367668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5"/>
          <p:cNvSpPr/>
          <p:nvPr/>
        </p:nvSpPr>
        <p:spPr>
          <a:xfrm>
            <a:off x="826920" y="508464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radley Hand ITC"/>
              </a:rPr>
              <a:t>1821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год: «Превратить магнетизм в электричество»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Bradley Hand ITC"/>
              </a:rPr>
              <a:t>1931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год – получил электрический ток с помощью магнитного пол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"/>
          <p:cNvSpPr/>
          <p:nvPr/>
        </p:nvSpPr>
        <p:spPr>
          <a:xfrm>
            <a:off x="468360" y="26028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Майкл Фарадей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1" descr=""/>
          <p:cNvPicPr/>
          <p:nvPr/>
        </p:nvPicPr>
        <p:blipFill>
          <a:blip r:embed="rId2"/>
          <a:stretch/>
        </p:blipFill>
        <p:spPr>
          <a:xfrm>
            <a:off x="1828800" y="182520"/>
            <a:ext cx="4889520" cy="9511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image045"/>
          <p:cNvPicPr/>
          <p:nvPr/>
        </p:nvPicPr>
        <p:blipFill>
          <a:blip r:embed="rId3"/>
          <a:stretch/>
        </p:blipFill>
        <p:spPr>
          <a:xfrm>
            <a:off x="395280" y="1773360"/>
            <a:ext cx="3024360" cy="4176720"/>
          </a:xfrm>
          <a:prstGeom prst="rect">
            <a:avLst/>
          </a:prstGeom>
          <a:ln w="38160">
            <a:solidFill>
              <a:srgbClr val="0000cc"/>
            </a:solidFill>
            <a:miter/>
          </a:ln>
        </p:spPr>
      </p:pic>
      <p:sp>
        <p:nvSpPr>
          <p:cNvPr id="272" name="Прямоугольник 3"/>
          <p:cNvSpPr/>
          <p:nvPr/>
        </p:nvSpPr>
        <p:spPr>
          <a:xfrm>
            <a:off x="4859280" y="119700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Bradley Hand ITC"/>
              </a:rPr>
              <a:t>29 августа 1831 год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Прямоугольник 4"/>
          <p:cNvSpPr/>
          <p:nvPr/>
        </p:nvSpPr>
        <p:spPr>
          <a:xfrm>
            <a:off x="3564000" y="1779480"/>
            <a:ext cx="536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radley Hand ITC"/>
              </a:rPr>
              <a:t>«На широкую деревянную катушку была намотана медная проволока длиной в 203 фута и между витками её намотана проволока такой же длины, изолированная от первой хлопчатобумажной нитью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radley Hand ITC"/>
              </a:rPr>
              <a:t>       </a:t>
            </a:r>
            <a:r>
              <a:rPr b="1" lang="en-US" sz="2000" spc="-1" strike="noStrike">
                <a:solidFill>
                  <a:srgbClr val="ffff00"/>
                </a:solidFill>
                <a:latin typeface="Bradley Hand ITC"/>
              </a:rPr>
              <a:t>Одна из этих спиралей была соединена с гальванометром, другая – с сильной батареей… При замыкании цепи наблюдалось внезапное, но чрезвычайно слабое действие на гальванометре, и то же самое действие замечалось при прекращении тока. При непрерывном же прохождении тока через одну из спиралей не удалось обнаружить отклонения стрелки гальванометра…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1"/>
          <p:cNvSpPr/>
          <p:nvPr/>
        </p:nvSpPr>
        <p:spPr>
          <a:xfrm>
            <a:off x="611280" y="1773360"/>
            <a:ext cx="457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radley Hand ITC"/>
              </a:rPr>
              <a:t>Электрический ток возникал тогда,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radley Hand ITC"/>
              </a:rPr>
              <a:t>когда проводник оказывался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radley Hand ITC"/>
              </a:rPr>
              <a:t>в области  действия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radley Hand ITC"/>
              </a:rPr>
              <a:t>переменного магнитного поля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5" name="Picture 11" descr="clip_image002"/>
          <p:cNvPicPr/>
          <p:nvPr/>
        </p:nvPicPr>
        <p:blipFill>
          <a:blip r:embed="rId2"/>
          <a:srcRect l="0" t="0" r="0" b="4126"/>
          <a:stretch/>
        </p:blipFill>
        <p:spPr>
          <a:xfrm>
            <a:off x="5724360" y="189000"/>
            <a:ext cx="2951280" cy="6421320"/>
          </a:xfrm>
          <a:prstGeom prst="rect">
            <a:avLst/>
          </a:prstGeom>
          <a:ln w="0">
            <a:noFill/>
          </a:ln>
        </p:spPr>
      </p:pic>
      <p:sp>
        <p:nvSpPr>
          <p:cNvPr id="276" name="Прямоугольник 3"/>
          <p:cNvSpPr/>
          <p:nvPr/>
        </p:nvSpPr>
        <p:spPr>
          <a:xfrm>
            <a:off x="546480" y="620640"/>
            <a:ext cx="496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7 октября 1831 года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0" descr="0126r2"/>
          <p:cNvPicPr/>
          <p:nvPr/>
        </p:nvPicPr>
        <p:blipFill>
          <a:blip r:embed="rId2"/>
          <a:srcRect l="8111" t="0" r="2907" b="13123"/>
          <a:stretch/>
        </p:blipFill>
        <p:spPr>
          <a:xfrm>
            <a:off x="5364000" y="4149720"/>
            <a:ext cx="3356280" cy="2448000"/>
          </a:xfrm>
          <a:prstGeom prst="rect">
            <a:avLst/>
          </a:prstGeom>
          <a:ln w="38160">
            <a:solidFill>
              <a:srgbClr val="0000cc"/>
            </a:solidFill>
            <a:miter/>
          </a:ln>
        </p:spPr>
      </p:pic>
      <p:sp>
        <p:nvSpPr>
          <p:cNvPr id="278" name="Прямоугольник 7"/>
          <p:cNvSpPr/>
          <p:nvPr/>
        </p:nvSpPr>
        <p:spPr>
          <a:xfrm>
            <a:off x="468360" y="333360"/>
            <a:ext cx="835164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radley Hand ITC"/>
              </a:rPr>
              <a:t>Электромагнитная индукция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  физическое явление, заключающееся в возникновении вихревого электрического поля, вызывающего электрический ток в замкнутом контуре при изменении потока магнитной индукции через поверхность, ограниченную этим контуром.  Возникающий при этом ток называют </a:t>
            </a:r>
            <a:r>
              <a:rPr b="1" lang="en-US" sz="2800" spc="-1" strike="noStrike">
                <a:solidFill>
                  <a:srgbClr val="ff0000"/>
                </a:solidFill>
                <a:latin typeface="Bradley Hand ITC"/>
              </a:rPr>
              <a:t>индукционным.</a:t>
            </a:r>
            <a:r>
              <a:rPr b="1" i="1" lang="en-US" sz="2400" spc="-1" strike="noStrike">
                <a:solidFill>
                  <a:srgbClr val="ffffff"/>
                </a:solidFill>
                <a:latin typeface="Bradley Hand ITC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9" name="Picture 5" descr="m11"/>
          <p:cNvPicPr/>
          <p:nvPr/>
        </p:nvPicPr>
        <p:blipFill>
          <a:blip r:embed="rId3"/>
          <a:srcRect l="8910" t="0" r="0" b="0"/>
          <a:stretch/>
        </p:blipFill>
        <p:spPr>
          <a:xfrm>
            <a:off x="539640" y="4076640"/>
            <a:ext cx="2016360" cy="24908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4" descr="2 способа"/>
          <p:cNvPicPr/>
          <p:nvPr/>
        </p:nvPicPr>
        <p:blipFill>
          <a:blip r:embed="rId4"/>
          <a:srcRect l="0" t="0" r="0" b="51518"/>
          <a:stretch/>
        </p:blipFill>
        <p:spPr>
          <a:xfrm>
            <a:off x="2987640" y="4724280"/>
            <a:ext cx="211788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Заголовок 1" descr=""/>
          <p:cNvPicPr/>
          <p:nvPr/>
        </p:nvPicPr>
        <p:blipFill>
          <a:blip r:embed="rId2"/>
          <a:stretch/>
        </p:blipFill>
        <p:spPr>
          <a:xfrm>
            <a:off x="450720" y="-291960"/>
            <a:ext cx="8242560" cy="193176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2"/>
          <p:cNvSpPr/>
          <p:nvPr/>
        </p:nvSpPr>
        <p:spPr>
          <a:xfrm>
            <a:off x="1403280" y="1628640"/>
            <a:ext cx="29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radley Hand ITC"/>
              </a:rPr>
              <a:t>Правило Ленц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3" name="Picture 7" descr="pl_032"/>
          <p:cNvPicPr/>
          <p:nvPr/>
        </p:nvPicPr>
        <p:blipFill>
          <a:blip r:embed="rId3"/>
          <a:stretch/>
        </p:blipFill>
        <p:spPr>
          <a:xfrm>
            <a:off x="5940360" y="1916280"/>
            <a:ext cx="2349720" cy="2614320"/>
          </a:xfrm>
          <a:prstGeom prst="rect">
            <a:avLst/>
          </a:prstGeom>
          <a:ln w="25560">
            <a:solidFill>
              <a:srgbClr val="a50021"/>
            </a:solidFill>
            <a:miter/>
          </a:ln>
        </p:spPr>
      </p:pic>
      <p:sp>
        <p:nvSpPr>
          <p:cNvPr id="284" name="Прямоугольник 5"/>
          <p:cNvSpPr/>
          <p:nvPr/>
        </p:nvSpPr>
        <p:spPr>
          <a:xfrm>
            <a:off x="5651640" y="4797360"/>
            <a:ext cx="3024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Э.Х. Ленц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804 – 1865 г.г.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кадемик, ректор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етербургского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ниверситета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Прямоугольник 7"/>
          <p:cNvSpPr/>
          <p:nvPr/>
        </p:nvSpPr>
        <p:spPr>
          <a:xfrm>
            <a:off x="395280" y="2276640"/>
            <a:ext cx="511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radley Hand ITC"/>
              </a:rPr>
              <a:t>Индукционный ток всегда имеет такое направление, при котором возникает противодействие причинам, его породившим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6" name="Picture 6" descr="lenc"/>
          <p:cNvPicPr/>
          <p:nvPr/>
        </p:nvPicPr>
        <p:blipFill>
          <a:blip r:embed="rId4"/>
          <a:stretch/>
        </p:blipFill>
        <p:spPr>
          <a:xfrm>
            <a:off x="1355760" y="4005360"/>
            <a:ext cx="3168720" cy="2376360"/>
          </a:xfrm>
          <a:prstGeom prst="rect">
            <a:avLst/>
          </a:prstGeom>
          <a:ln w="38160">
            <a:solidFill>
              <a:srgbClr val="00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3" descr="Scan0007"/>
          <p:cNvPicPr/>
          <p:nvPr/>
        </p:nvPicPr>
        <p:blipFill>
          <a:blip r:embed="rId2"/>
          <a:stretch/>
        </p:blipFill>
        <p:spPr>
          <a:xfrm>
            <a:off x="684360" y="1700280"/>
            <a:ext cx="2663640" cy="252072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6"/>
          <p:cNvSpPr/>
          <p:nvPr/>
        </p:nvSpPr>
        <p:spPr>
          <a:xfrm>
            <a:off x="3851280" y="1125360"/>
            <a:ext cx="4681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гнитным потоком 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ерез поверхность площадью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называют величину, равную произведения модуля вектора магнитной индукции 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на площадь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косинус угла </a:t>
            </a:r>
            <a:r>
              <a:rPr b="1" i="1" lang="ru-RU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между векторами 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и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Прямоугольник 7"/>
          <p:cNvSpPr/>
          <p:nvPr/>
        </p:nvSpPr>
        <p:spPr>
          <a:xfrm>
            <a:off x="5219640" y="515772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=В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 cos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Прямоугольник 8"/>
          <p:cNvSpPr/>
          <p:nvPr/>
        </p:nvSpPr>
        <p:spPr>
          <a:xfrm>
            <a:off x="5292720" y="5732640"/>
            <a:ext cx="223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=В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"/>
          <p:cNvSpPr/>
          <p:nvPr/>
        </p:nvSpPr>
        <p:spPr>
          <a:xfrm>
            <a:off x="611280" y="333360"/>
            <a:ext cx="79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Магнитный поток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оугольник 3"/>
          <p:cNvSpPr/>
          <p:nvPr/>
        </p:nvSpPr>
        <p:spPr>
          <a:xfrm>
            <a:off x="4788000" y="5300640"/>
            <a:ext cx="435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∆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арактеризуется изменением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исла линий В, пронизывающих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нтур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3" name="Picture 2" descr="Scan0006"/>
          <p:cNvPicPr/>
          <p:nvPr/>
        </p:nvPicPr>
        <p:blipFill>
          <a:blip r:embed="rId2"/>
          <a:srcRect l="7565" t="3550" r="5502" b="0"/>
          <a:stretch/>
        </p:blipFill>
        <p:spPr>
          <a:xfrm>
            <a:off x="5219640" y="1413000"/>
            <a:ext cx="3313080" cy="3914640"/>
          </a:xfrm>
          <a:prstGeom prst="rect">
            <a:avLst/>
          </a:prstGeom>
          <a:ln w="0">
            <a:noFill/>
          </a:ln>
        </p:spPr>
      </p:pic>
      <p:sp>
        <p:nvSpPr>
          <p:cNvPr id="294" name="Прямоугольник 6"/>
          <p:cNvSpPr/>
          <p:nvPr/>
        </p:nvSpPr>
        <p:spPr>
          <a:xfrm>
            <a:off x="395280" y="1413000"/>
            <a:ext cx="457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Определить направление линий индукции внешнего поля В(выходят из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входят в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Определить, увеличивается или уменьшается магнитный поток через контур (если магнит вдвигается в кольцо, то ∆Ф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gt;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, если выдвигается, то ∆Ф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lt;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Определить направление линий индукции магнитного поля В′, созданного индукционным током (если ∆Ф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gt;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, то линии В и В′ направлены в противоположные стороны; если ∆Ф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lt;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, то линии В и В′ сонаправлены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Пользуясь правилом буравчика (правой руки), определить направление индукционного ток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5" name=""/>
          <p:cNvSpPr/>
          <p:nvPr/>
        </p:nvSpPr>
        <p:spPr>
          <a:xfrm>
            <a:off x="684360" y="33336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6" name="Заголовок 1" descr=""/>
          <p:cNvPicPr/>
          <p:nvPr/>
        </p:nvPicPr>
        <p:blipFill>
          <a:blip r:embed="rId3"/>
          <a:stretch/>
        </p:blipFill>
        <p:spPr>
          <a:xfrm>
            <a:off x="822240" y="-6480"/>
            <a:ext cx="787104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14:28:11Z</dcterms:created>
  <dc:creator>Хромовы</dc:creator>
  <dc:description/>
  <dc:language>en-US</dc:language>
  <cp:lastModifiedBy>revaz</cp:lastModifiedBy>
  <dcterms:modified xsi:type="dcterms:W3CDTF">2012-03-29T19:28:46Z</dcterms:modified>
  <cp:revision>19</cp:revision>
  <dc:subject/>
  <dc:title>Явление  электромагнитной  индукции</dc:title>
</cp:coreProperties>
</file>