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1.png" ContentType="image/png"/>
  <Override PartName="/ppt/media/image19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EA3-20A6-47E5-9C6C-F3AC48A2D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8752-3F93-4360-85F1-C76006122B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41B-C6CE-4E17-B7E6-AAF13AB3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FFC-E4BD-4D83-A5E6-BC14563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B4B-28F0-4ADF-91D1-2BB1647D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3C5-234E-4005-BE03-1B69FEDF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3B3A4-E06C-47E6-A4FE-587AD9EE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D3090-EF8D-4F4C-9599-315D06D8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01793-0EC8-4F62-B830-A2EBFA3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C43B-03DB-4BD0-BE97-76FCBAF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F1691-52BD-4E1C-ABEC-E47E693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66FA-9629-4056-99D9-7114A75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E151D-9C01-492B-9297-FBD5BD1B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B46-AD65-411E-BE6F-E3426B20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48EA-E770-42C5-AED2-AFC738E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59D92-3634-4E83-AF39-A1CA320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EA28-F625-4393-A30D-5C97627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0800E-C08C-4E6F-9F01-834B4D9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EFFBC-17F3-41B8-BAC1-89C67DD7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0F57-588E-442F-96A8-BF92A8D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162E-B62C-4108-98ED-9DCF0FE8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3538-39F5-4652-9521-0AEFE4BF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8F9B-7531-4732-8634-3D720F1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40DE-6EA5-4E6D-8148-9DFE7E09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03C-ED18-4387-9ABD-03313A13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24F7-7E8A-4EF9-8B82-63B0F2D9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F582-CC0E-4BBA-AC0E-165BFDB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6F36-4DA3-4762-B587-8A23CF4B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50CD-E85C-45CF-AF15-3B3E83E9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0350-636F-47D4-9554-624E7929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7D09-8820-475D-B733-509D9A58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F13B-67B9-4094-8059-E98174CC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0CD9E-4295-4F07-AA34-3DE6E347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716AE4-695F-48A5-90CB-C336BB5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7C68E-8D3F-4126-8ABD-4A13B374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BAED-C457-4B67-A22A-8BB7EB8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72B49-468E-4F83-9991-8D49B97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8C311-1855-4333-A50F-3CFF2423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8A184-4E10-4F29-B1DC-9611951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C5AD7-7B71-40D8-9257-AEB1327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C74AF-1F7A-4CA1-AB3B-44FE7C1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C1D88-5C54-4301-A0E6-203AAD2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A14B4-BB65-4BA5-B83D-B19BA5E6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1FB467-C578-4ADD-BFB0-F4751ECE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501B0-1584-46B0-AAA3-103F72D1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313D0-B4B0-4587-A0CB-E734987B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25C-6CE8-4087-AEB0-B3EED85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F0A55-6BCF-46C6-B8CE-7873CA1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2EC4E-26CD-4D14-A068-BBD0B5E5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18C86-D84E-4091-95B5-1994EDA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5B499-E8C6-4F1F-B8D1-09D8AEB0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E8C73-B571-4E26-8546-9E031EA6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79BFF-9CF9-430A-859A-C9BC85A9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D93BC-4E06-472B-AC12-1FC83A3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50D45-DE53-4CEF-AAD9-CCB2CC9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D5B64-D7E4-4D6C-94F3-B413EB7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1868F-53DC-41F9-96DC-96A6FEA3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A4B-53D5-40D5-8F13-15A87C13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9C2C2-9092-4279-9801-F4B3CF33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6A757-FADE-46FD-9F3C-C70FC286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EFE7C-074B-4B58-9104-3BF86DF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CA0C2-D3B9-44CB-9480-391B5DB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651FB-5C5A-4835-A02E-B00F0F4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0EB98-72A2-4B16-A5ED-2DBC1B1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6AB54-E786-4864-B2F6-966C6CBD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689AE-77A5-491A-BDDA-AE36B47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FC1AB-CD86-4BDE-BCE0-8928C0A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FC684-E1CF-4803-A024-5F631FE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DE6-714D-4688-AC62-9267F0F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05EC9-BD92-4312-B2E7-7AD2F975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95E23-D379-4F12-91D7-437E51F6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80E4C-82B9-49EC-9636-DC78783D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D8-3721-46C9-B825-5752FBC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4AE-1AB2-4F38-8CBB-537C3A7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19A-952D-48C7-AA18-77AE92C098BF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F38-14C3-4918-9DC4-A1D38925A022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C9F3-2379-4DCE-98E9-EEE904CD08CD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204-71EE-4487-ABAE-E4D35FCCEC96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0D6D-B37E-401B-A19E-E7BD1280BBF1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AB67-63F2-4338-BC0E-68E2FDC3F16A}" type="slidenum">
              <a:rPr b="0" lang="ru-RU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32000" y="2420640"/>
            <a:ext cx="39243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«Счастливая случайност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выпадает лишь н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одну долю подготовленног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ума»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Л.Пастернак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2" descr="FA3F8E66"/>
          <p:cNvPicPr/>
          <p:nvPr/>
        </p:nvPicPr>
        <p:blipFill>
          <a:blip r:embed="rId2"/>
          <a:srcRect l="14430" t="2481" r="14602" b="62624"/>
          <a:stretch/>
        </p:blipFill>
        <p:spPr>
          <a:xfrm>
            <a:off x="395280" y="3429000"/>
            <a:ext cx="4305240" cy="2911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26920" y="62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Явление электромагнитной индукции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2286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2205"/>
          <p:cNvPicPr/>
          <p:nvPr/>
        </p:nvPicPr>
        <p:blipFill>
          <a:blip r:embed="rId3"/>
          <a:stretch/>
        </p:blipFill>
        <p:spPr>
          <a:xfrm>
            <a:off x="5796000" y="1628640"/>
            <a:ext cx="3114720" cy="219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0" descr="t2206"/>
          <p:cNvPicPr/>
          <p:nvPr/>
        </p:nvPicPr>
        <p:blipFill>
          <a:blip r:embed="rId4"/>
          <a:stretch/>
        </p:blipFill>
        <p:spPr>
          <a:xfrm>
            <a:off x="5796000" y="4005360"/>
            <a:ext cx="3105000" cy="230328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7"/>
          <p:cNvSpPr/>
          <p:nvPr/>
        </p:nvSpPr>
        <p:spPr>
          <a:xfrm>
            <a:off x="179280" y="1700280"/>
            <a:ext cx="5688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всяком изменении магнитного потока через проводящий контур в этом контуре возникает электрический то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Прямоугольник 8"/>
          <p:cNvSpPr/>
          <p:nvPr/>
        </p:nvSpPr>
        <p:spPr>
          <a:xfrm>
            <a:off x="250920" y="306864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ДС индукции в замкнутом контуре равна скорости изменения магнитного потока через площадь, ограниченную этим контур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250920" y="486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ок в контуре имеет положительное направление при убывании внешнего магнитного пото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2"/>
          <a:stretch/>
        </p:blipFill>
        <p:spPr>
          <a:xfrm>
            <a:off x="334800" y="133200"/>
            <a:ext cx="8614080" cy="387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electrostatCurves8"/>
          <p:cNvPicPr/>
          <p:nvPr/>
        </p:nvPicPr>
        <p:blipFill>
          <a:blip r:embed="rId3"/>
          <a:srcRect l="5291" t="47583" r="36284" b="31902"/>
          <a:stretch/>
        </p:blipFill>
        <p:spPr>
          <a:xfrm>
            <a:off x="2268360" y="4292640"/>
            <a:ext cx="4232520" cy="2077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2919600" y="260280"/>
            <a:ext cx="39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468360" y="126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изводство электрической энерг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Picture 15" descr="Генератор"/>
          <p:cNvPicPr/>
          <p:nvPr/>
        </p:nvPicPr>
        <p:blipFill>
          <a:blip r:embed="rId2"/>
          <a:stretch/>
        </p:blipFill>
        <p:spPr>
          <a:xfrm>
            <a:off x="5076720" y="1197000"/>
            <a:ext cx="3527640" cy="16556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468360" y="3068640"/>
            <a:ext cx="39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разовани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т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Picture 9" descr="Рисунок 5"/>
          <p:cNvPicPr/>
          <p:nvPr/>
        </p:nvPicPr>
        <p:blipFill>
          <a:blip r:embed="rId3"/>
          <a:srcRect l="0" t="4712" r="0" b="17532"/>
          <a:stretch/>
        </p:blipFill>
        <p:spPr>
          <a:xfrm>
            <a:off x="5076720" y="2924280"/>
            <a:ext cx="3527640" cy="17460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2"/>
          <p:cNvSpPr/>
          <p:nvPr/>
        </p:nvSpPr>
        <p:spPr>
          <a:xfrm>
            <a:off x="1121040" y="501336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иотехни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Picture 12" descr="2-12"/>
          <p:cNvPicPr/>
          <p:nvPr/>
        </p:nvPicPr>
        <p:blipFill>
          <a:blip r:embed="rId4"/>
          <a:srcRect l="0" t="0" r="0" b="10872"/>
          <a:stretch/>
        </p:blipFill>
        <p:spPr>
          <a:xfrm>
            <a:off x="5076720" y="4729320"/>
            <a:ext cx="35100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r_55906"/>
          <p:cNvPicPr/>
          <p:nvPr/>
        </p:nvPicPr>
        <p:blipFill>
          <a:blip r:embed="rId2"/>
          <a:srcRect l="8617" t="0" r="16032" b="0"/>
          <a:stretch/>
        </p:blipFill>
        <p:spPr>
          <a:xfrm>
            <a:off x="539640" y="260280"/>
            <a:ext cx="3168720" cy="2737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pic>
        <p:nvPicPr>
          <p:cNvPr id="263" name="Picture 2" descr="2BE089ED"/>
          <p:cNvPicPr/>
          <p:nvPr/>
        </p:nvPicPr>
        <p:blipFill>
          <a:blip r:embed="rId3"/>
          <a:srcRect l="62151" t="59915" r="2267" b="-1333"/>
          <a:stretch/>
        </p:blipFill>
        <p:spPr>
          <a:xfrm>
            <a:off x="6516720" y="3068640"/>
            <a:ext cx="2158920" cy="34560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6"/>
          <p:cNvSpPr/>
          <p:nvPr/>
        </p:nvSpPr>
        <p:spPr>
          <a:xfrm>
            <a:off x="468360" y="3573360"/>
            <a:ext cx="52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Самым  великим моим открытием было открытие Фарадея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Гэмфри Дэв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4067280" y="404640"/>
            <a:ext cx="45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ткрытие электромагнитной индукци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4140360" y="1413000"/>
            <a:ext cx="464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791 – 1867 г.г., английский физик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очетный член Петербургск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Академии Наук (1830)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сновоположник учения об электромагнитном поле; ввел понятия «электрическое» и «магнитное поле»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высказал идею существования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электромагнитных вол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14" descr="Портрет Фарадея"/>
          <p:cNvPicPr/>
          <p:nvPr/>
        </p:nvPicPr>
        <p:blipFill>
          <a:blip r:embed="rId2"/>
          <a:stretch/>
        </p:blipFill>
        <p:spPr>
          <a:xfrm>
            <a:off x="539640" y="1197000"/>
            <a:ext cx="2880000" cy="3676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826920" y="5084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82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: «Превратить магнетизм в электричеств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193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год – получил электрический ток с помощью магнитного по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260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йкл Фараде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828800" y="182520"/>
            <a:ext cx="4889520" cy="951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image045"/>
          <p:cNvPicPr/>
          <p:nvPr/>
        </p:nvPicPr>
        <p:blipFill>
          <a:blip r:embed="rId3"/>
          <a:stretch/>
        </p:blipFill>
        <p:spPr>
          <a:xfrm>
            <a:off x="395280" y="1773360"/>
            <a:ext cx="3024360" cy="417672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2" name="Прямоугольник 3"/>
          <p:cNvSpPr/>
          <p:nvPr/>
        </p:nvSpPr>
        <p:spPr>
          <a:xfrm>
            <a:off x="4859280" y="119700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radley Hand ITC"/>
              </a:rPr>
              <a:t>29 августа 1831 го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564000" y="1779480"/>
            <a:ext cx="53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«На широкую деревянную катушку была намотана медная проволока длиной в 203 фута и между витками её намотана проволока такой же длины, изолированная от первой хлопчатобумажной нитью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Bradley Hand ITC"/>
              </a:rPr>
              <a:t>Одна из этих спиралей была соединена с гальванометром, другая – с сильной батареей… При замыкании цепи наблюдалось внезапное, но чрезвычайно слабое действие на гальванометре, и то же самое действие замечалось при прекращении тока. При непрерывном же прохождении тока через одну из спиралей не удалось обнаружить отклонения стрелки гальванометра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611280" y="177336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Электрический ток возникал тогда,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когда проводник оказывалс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в области  действия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radley Hand ITC"/>
              </a:rPr>
              <a:t>переменного магнитного пол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11" descr="clip_image002"/>
          <p:cNvPicPr/>
          <p:nvPr/>
        </p:nvPicPr>
        <p:blipFill>
          <a:blip r:embed="rId2"/>
          <a:srcRect l="0" t="0" r="0" b="4126"/>
          <a:stretch/>
        </p:blipFill>
        <p:spPr>
          <a:xfrm>
            <a:off x="5724360" y="189000"/>
            <a:ext cx="2951280" cy="64213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3"/>
          <p:cNvSpPr/>
          <p:nvPr/>
        </p:nvSpPr>
        <p:spPr>
          <a:xfrm>
            <a:off x="546480" y="620640"/>
            <a:ext cx="49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7 октября 1831 го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0126r2"/>
          <p:cNvPicPr/>
          <p:nvPr/>
        </p:nvPicPr>
        <p:blipFill>
          <a:blip r:embed="rId2"/>
          <a:srcRect l="8111" t="0" r="2907" b="13123"/>
          <a:stretch/>
        </p:blipFill>
        <p:spPr>
          <a:xfrm>
            <a:off x="5364000" y="4149720"/>
            <a:ext cx="3356280" cy="244800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278" name="Прямоугольник 7"/>
          <p:cNvSpPr/>
          <p:nvPr/>
        </p:nvSpPr>
        <p:spPr>
          <a:xfrm>
            <a:off x="468360" y="333360"/>
            <a:ext cx="8351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Электромагнитная индукция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 физическое явление, заключающееся в возникновении вихревого электрического поля, вызывающего электрический ток в замкнутом контуре при изменении потока магнитной индукции через поверхность, ограниченную этим контуром.  Возникающий при этом ток называют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индукционным.</a:t>
            </a:r>
            <a:r>
              <a:rPr b="1" i="1" lang="en-US" sz="24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Picture 5" descr="m11"/>
          <p:cNvPicPr/>
          <p:nvPr/>
        </p:nvPicPr>
        <p:blipFill>
          <a:blip r:embed="rId3"/>
          <a:srcRect l="8910" t="0" r="0" b="0"/>
          <a:stretch/>
        </p:blipFill>
        <p:spPr>
          <a:xfrm>
            <a:off x="539640" y="4076640"/>
            <a:ext cx="2016360" cy="2490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2 способа"/>
          <p:cNvPicPr/>
          <p:nvPr/>
        </p:nvPicPr>
        <p:blipFill>
          <a:blip r:embed="rId4"/>
          <a:srcRect l="0" t="0" r="0" b="51518"/>
          <a:stretch/>
        </p:blipFill>
        <p:spPr>
          <a:xfrm>
            <a:off x="2987640" y="4724280"/>
            <a:ext cx="2117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450720" y="-291960"/>
            <a:ext cx="8242560" cy="193176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1403280" y="1628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radley Hand ITC"/>
              </a:rPr>
              <a:t>Правило Ленц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Picture 7" descr="pl_032"/>
          <p:cNvPicPr/>
          <p:nvPr/>
        </p:nvPicPr>
        <p:blipFill>
          <a:blip r:embed="rId3"/>
          <a:stretch/>
        </p:blipFill>
        <p:spPr>
          <a:xfrm>
            <a:off x="5940360" y="1916280"/>
            <a:ext cx="2349720" cy="261432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  <p:sp>
        <p:nvSpPr>
          <p:cNvPr id="284" name="Прямоугольник 5"/>
          <p:cNvSpPr/>
          <p:nvPr/>
        </p:nvSpPr>
        <p:spPr>
          <a:xfrm>
            <a:off x="5651640" y="4797360"/>
            <a:ext cx="30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Э.Х. Ленц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804 – 1865 г.г.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адемик, ректор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ербургс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ниверситет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Прямоугольник 7"/>
          <p:cNvSpPr/>
          <p:nvPr/>
        </p:nvSpPr>
        <p:spPr>
          <a:xfrm>
            <a:off x="395280" y="227664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Индукционный ток всегда имеет такое направление, при котором возникает противодействие причинам, его породивши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6" descr="lenc"/>
          <p:cNvPicPr/>
          <p:nvPr/>
        </p:nvPicPr>
        <p:blipFill>
          <a:blip r:embed="rId4"/>
          <a:stretch/>
        </p:blipFill>
        <p:spPr>
          <a:xfrm>
            <a:off x="1355760" y="4005360"/>
            <a:ext cx="3168720" cy="237636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Scan0007"/>
          <p:cNvPicPr/>
          <p:nvPr/>
        </p:nvPicPr>
        <p:blipFill>
          <a:blip r:embed="rId2"/>
          <a:stretch/>
        </p:blipFill>
        <p:spPr>
          <a:xfrm>
            <a:off x="684360" y="1700280"/>
            <a:ext cx="2663640" cy="25207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3851280" y="1125360"/>
            <a:ext cx="468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гнитным потоком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рез поверхность площадью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зывают величину, равную произведения модуля вектора магнитной индукци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 площадь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косинус угла </a:t>
            </a:r>
            <a:r>
              <a:rPr b="1" i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векторами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5219640" y="5157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 cos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Прямоугольник 8"/>
          <p:cNvSpPr/>
          <p:nvPr/>
        </p:nvSpPr>
        <p:spPr>
          <a:xfrm>
            <a:off x="5292720" y="573264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=В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33336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агнитный поток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4788000" y="5300640"/>
            <a:ext cx="43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∆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арактеризуется изменением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ла линий В, пронизывающ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ур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3" name="Picture 2" descr="Scan0006"/>
          <p:cNvPicPr/>
          <p:nvPr/>
        </p:nvPicPr>
        <p:blipFill>
          <a:blip r:embed="rId2"/>
          <a:srcRect l="7565" t="3550" r="5502" b="0"/>
          <a:stretch/>
        </p:blipFill>
        <p:spPr>
          <a:xfrm>
            <a:off x="5219640" y="1413000"/>
            <a:ext cx="3313080" cy="39146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6"/>
          <p:cNvSpPr/>
          <p:nvPr/>
        </p:nvSpPr>
        <p:spPr>
          <a:xfrm>
            <a:off x="395280" y="14130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Определить направление линий индукции внешнего поля В(выходят из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ходят в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Определить, увеличивается или уменьшается магнитный поток через контур (если магнит вдвигается в кольцо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если выдвигается, то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Определить направление линий индукции магнитного поля В′, созданного индукционным током (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направлены в противоположные стороны; если ∆Ф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 то линии В и В′ сонаправлены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Пользуясь правилом буравчика (правой руки), определить направление индукционного то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684360" y="333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Заголовок 1" descr=""/>
          <p:cNvPicPr/>
          <p:nvPr/>
        </p:nvPicPr>
        <p:blipFill>
          <a:blip r:embed="rId3"/>
          <a:stretch/>
        </p:blipFill>
        <p:spPr>
          <a:xfrm>
            <a:off x="822240" y="-6480"/>
            <a:ext cx="78710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4:28:11Z</dcterms:created>
  <dc:creator>Хромовы</dc:creator>
  <dc:description/>
  <dc:language>en-US</dc:language>
  <cp:lastModifiedBy>revaz</cp:lastModifiedBy>
  <dcterms:modified xsi:type="dcterms:W3CDTF">2012-03-29T19:28:46Z</dcterms:modified>
  <cp:revision>19</cp:revision>
  <dc:subject/>
  <dc:title>Явление  электромагнитной  индукции</dc:title>
</cp:coreProperties>
</file>