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1.png" ContentType="image/png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F961-04D7-420A-BD18-5F06330DE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C98-59F3-438A-A9CA-7667898558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444-6176-46F8-A2F2-D3BA0322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957-90C6-4C9D-8816-3EDBCED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568-44A1-4F68-8F58-AE6C9994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F54-4CB6-46C7-BD77-9A64623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5B27B-467F-4380-B80E-4338E488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16418-0B16-4A48-964A-A85764B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EF6B-AE67-4B19-AA2C-E8C83184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C2167-3FEA-4460-8A60-8B72E11D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21FD-D31A-409F-A4B4-80D36DCF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C876-6472-42EC-8871-E3F84334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E000-54FA-45BE-BE77-17B89A8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DE2-6E9F-4001-B2C1-7B42B662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D010-819F-4DC4-BE20-1BDBF945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85E26-D638-4C06-8F5D-7560EA7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9515E-E3D0-4F56-A365-F3AD8BA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3F33D-7D24-4BCC-AA10-8BF43668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65EC-31C8-49B9-BE8C-FE35D89E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8ED1-F0EC-4925-91E8-EA89429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E4C7-4CAE-47CE-889D-3C7FCAC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03DF-4681-4B03-AB95-C452F148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A0C7-A77A-4E32-B09A-DE5797C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B2DA-7228-4BF4-BE99-AC1D710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E78-C9DF-4210-8201-3B5D38F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CCD3-73E4-483C-AC50-9CB1BB3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B050-DCC8-4B5F-A2C4-2E09E27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B672-DC89-411C-A731-44A35DA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3F8E-87D8-4AB5-9A80-466CEFBB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F4DE-C404-4419-9096-15DD4647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CDB9-EE33-4A01-B8D2-9E406856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8B4A-9192-4685-8437-38E8092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FFD67-1BDC-486A-8E05-EC94C740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A067F-EA05-426B-A9DE-DF3DDA4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32253-DE83-4EE6-9923-1658FEAF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9AF-F92E-434D-8B60-99018796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149F1-843B-4CDB-AD3B-7F32246B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1087D-0896-4828-9586-069E50DE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1437E-95DA-4307-881C-1208F3AD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218D1-1FF8-4B11-95AF-14BC3A5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8A6D5-C88C-4BA9-A33D-670A6DB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99458-ADDB-423F-A201-3F5422E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C4BC2-7ADA-4D73-B3C5-B4B8AC1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04D83-9F93-4F95-B9B9-4B9FD8F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9DE25-83F1-4315-B4B8-3FB4728B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A58FC-A95C-41B5-A8FD-7F4ADE2F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6E2-30B4-443E-B390-2591F414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DACDE-6920-40A5-A9D8-2F560325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BD34A-3E22-40BD-874B-7F69800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1763F-7422-4CF5-ACEB-AD17F77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56DE4-7284-4FD5-824C-4A8DE9A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7D0F0-C9A8-4743-9E15-789ADE6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5D8AE-4F13-4CB2-A485-FC20717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F2961-A9E0-4E81-B1A6-17F0DED3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DC947-200C-45B9-8710-1BA3DC3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68265-9F0B-4C4B-B476-6214C44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402BD-62FE-4EBD-BD2F-3F9D9071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C299-2CA1-4F77-9ED1-F2E09D3D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531CA-58BA-43E1-BC9E-482128AD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427F5-8B0E-4758-BD1B-1C98567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372F9-A941-4C4A-9E78-76EBF46E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8288B8-E9E8-4066-B7FE-8C5E0E60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D6D8B-EFE9-4460-914C-58CC3FD1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02E25-2405-4993-9364-1E6B2AA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BC407-4EA4-4DD2-BA25-BB718BE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273DC-C297-41A0-A865-A88DD70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FAB97-8BDB-439D-B136-3537E93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50D25-E88E-4715-A726-0E5AF27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18F-2D4A-48B8-B1BF-59C22E9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EFDC8-0FB2-4864-9A33-E3FFE022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D032E-E5A1-40A7-AA30-545D4524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6DDD3-2156-46C1-BCD0-D5BAB6EB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E94-BD59-4272-A5C1-D5FED1A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C55-A774-44EC-BE0E-51F3069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163-7DBA-430D-AB2C-A61425C7ADFF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462-CFAA-432B-9C6E-D7DB7900AE1E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915-B8EE-4B2D-95E7-D64FEA67538C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02B7-55CF-45CB-AA2B-500B6B444148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F775-A47E-47E6-8686-26737AE98878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1728-64E9-47A5-90E9-B43A6E41F6B5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32000" y="2420640"/>
            <a:ext cx="392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«Счастливая случайност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выпадает лишь н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одну долю подготовленн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ума»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Л.Пастернак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FA3F8E66"/>
          <p:cNvPicPr/>
          <p:nvPr/>
        </p:nvPicPr>
        <p:blipFill>
          <a:blip r:embed="rId2"/>
          <a:srcRect l="14430" t="2481" r="14602" b="62624"/>
          <a:stretch/>
        </p:blipFill>
        <p:spPr>
          <a:xfrm>
            <a:off x="395280" y="3429000"/>
            <a:ext cx="4305240" cy="2911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26920" y="62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Явление электромагнитной индукци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2205"/>
          <p:cNvPicPr/>
          <p:nvPr/>
        </p:nvPicPr>
        <p:blipFill>
          <a:blip r:embed="rId3"/>
          <a:stretch/>
        </p:blipFill>
        <p:spPr>
          <a:xfrm>
            <a:off x="5796000" y="1628640"/>
            <a:ext cx="3114720" cy="219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0" descr="t2206"/>
          <p:cNvPicPr/>
          <p:nvPr/>
        </p:nvPicPr>
        <p:blipFill>
          <a:blip r:embed="rId4"/>
          <a:stretch/>
        </p:blipFill>
        <p:spPr>
          <a:xfrm>
            <a:off x="5796000" y="4005360"/>
            <a:ext cx="3105000" cy="230328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7"/>
          <p:cNvSpPr/>
          <p:nvPr/>
        </p:nvSpPr>
        <p:spPr>
          <a:xfrm>
            <a:off x="179280" y="1700280"/>
            <a:ext cx="56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всяком изменении магнитного потока через проводящий контур в этом контуре возникает электрический то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250920" y="306864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ДС индукции в замкнутом контуре равна скорости изменения магнитного потока через площадь, ограниченную этим конту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250920" y="486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к в контуре имеет положительное направление при убывании внешнего магнитного пото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2"/>
          <a:stretch/>
        </p:blipFill>
        <p:spPr>
          <a:xfrm>
            <a:off x="334800" y="133200"/>
            <a:ext cx="8614080" cy="387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electrostatCurves8"/>
          <p:cNvPicPr/>
          <p:nvPr/>
        </p:nvPicPr>
        <p:blipFill>
          <a:blip r:embed="rId3"/>
          <a:srcRect l="5291" t="47583" r="36284" b="31902"/>
          <a:stretch/>
        </p:blipFill>
        <p:spPr>
          <a:xfrm>
            <a:off x="2268360" y="4292640"/>
            <a:ext cx="4232520" cy="2077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2919600" y="260280"/>
            <a:ext cx="39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468360" y="126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водство электрической энерг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Picture 15" descr="Генератор"/>
          <p:cNvPicPr/>
          <p:nvPr/>
        </p:nvPicPr>
        <p:blipFill>
          <a:blip r:embed="rId2"/>
          <a:stretch/>
        </p:blipFill>
        <p:spPr>
          <a:xfrm>
            <a:off x="5076720" y="1197000"/>
            <a:ext cx="3527640" cy="16556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468360" y="3068640"/>
            <a:ext cx="39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разовани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Picture 9" descr="Рисунок 5"/>
          <p:cNvPicPr/>
          <p:nvPr/>
        </p:nvPicPr>
        <p:blipFill>
          <a:blip r:embed="rId3"/>
          <a:srcRect l="0" t="4712" r="0" b="17532"/>
          <a:stretch/>
        </p:blipFill>
        <p:spPr>
          <a:xfrm>
            <a:off x="5076720" y="2924280"/>
            <a:ext cx="3527640" cy="17460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2"/>
          <p:cNvSpPr/>
          <p:nvPr/>
        </p:nvSpPr>
        <p:spPr>
          <a:xfrm>
            <a:off x="1121040" y="501336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отехни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12" descr="2-12"/>
          <p:cNvPicPr/>
          <p:nvPr/>
        </p:nvPicPr>
        <p:blipFill>
          <a:blip r:embed="rId4"/>
          <a:srcRect l="0" t="0" r="0" b="10872"/>
          <a:stretch/>
        </p:blipFill>
        <p:spPr>
          <a:xfrm>
            <a:off x="5076720" y="4729320"/>
            <a:ext cx="35100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r_55906"/>
          <p:cNvPicPr/>
          <p:nvPr/>
        </p:nvPicPr>
        <p:blipFill>
          <a:blip r:embed="rId2"/>
          <a:srcRect l="8617" t="0" r="16032" b="0"/>
          <a:stretch/>
        </p:blipFill>
        <p:spPr>
          <a:xfrm>
            <a:off x="539640" y="260280"/>
            <a:ext cx="3168720" cy="2737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63" name="Picture 2" descr="2BE089ED"/>
          <p:cNvPicPr/>
          <p:nvPr/>
        </p:nvPicPr>
        <p:blipFill>
          <a:blip r:embed="rId3"/>
          <a:srcRect l="62151" t="59915" r="2267" b="-1333"/>
          <a:stretch/>
        </p:blipFill>
        <p:spPr>
          <a:xfrm>
            <a:off x="6516720" y="3068640"/>
            <a:ext cx="2158920" cy="3456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6"/>
          <p:cNvSpPr/>
          <p:nvPr/>
        </p:nvSpPr>
        <p:spPr>
          <a:xfrm>
            <a:off x="468360" y="3573360"/>
            <a:ext cx="52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Самым  великим моим открытием было открытие Фарадея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Гэмфри Дэв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404640"/>
            <a:ext cx="45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ткрытие электромагнитной индук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4140360" y="1413000"/>
            <a:ext cx="464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91 – 1867 г.г., английский физик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четный член Петербургск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Академии Наук (1830)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сновоположник учения об электромагнитном поле; ввел понятия «электрическое» и «магнитное поле»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высказал идею существова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электромагнитных вол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14" descr="Портрет Фарадея"/>
          <p:cNvPicPr/>
          <p:nvPr/>
        </p:nvPicPr>
        <p:blipFill>
          <a:blip r:embed="rId2"/>
          <a:stretch/>
        </p:blipFill>
        <p:spPr>
          <a:xfrm>
            <a:off x="539640" y="1197000"/>
            <a:ext cx="2880000" cy="3676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826920" y="5084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82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: «Превратить магнетизм в электричеств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93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 – получил электрический ток с помощью магнитного по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60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йкл Фараде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828800" y="182520"/>
            <a:ext cx="4889520" cy="951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image045"/>
          <p:cNvPicPr/>
          <p:nvPr/>
        </p:nvPicPr>
        <p:blipFill>
          <a:blip r:embed="rId3"/>
          <a:stretch/>
        </p:blipFill>
        <p:spPr>
          <a:xfrm>
            <a:off x="395280" y="1773360"/>
            <a:ext cx="3024360" cy="417672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2" name="Прямоугольник 3"/>
          <p:cNvSpPr/>
          <p:nvPr/>
        </p:nvSpPr>
        <p:spPr>
          <a:xfrm>
            <a:off x="4859280" y="1197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radley Hand ITC"/>
              </a:rPr>
              <a:t>29 августа 1831 го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64000" y="1779480"/>
            <a:ext cx="53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«На широкую деревянную катушку была намотана медная проволока длиной в 203 фута и между витками её намотана проволока такой же длины, изолированная от первой хлопчатобумажной ни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Одна из этих спиралей была соединена с гальванометром, другая – с сильной батареей… При замыкании цепи наблюдалось внезапное, но чрезвычайно слабое действие на гальванометре, и то же самое действие замечалось при прекращении тока. При непрерывном же прохождении тока через одну из спиралей не удалось обнаружить отклонения стрелки гальванометра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11280" y="1773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Электрический ток возникал тогда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когда проводник оказывалс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в области  действи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переменного магнитного пол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11" descr="clip_image002"/>
          <p:cNvPicPr/>
          <p:nvPr/>
        </p:nvPicPr>
        <p:blipFill>
          <a:blip r:embed="rId2"/>
          <a:srcRect l="0" t="0" r="0" b="4126"/>
          <a:stretch/>
        </p:blipFill>
        <p:spPr>
          <a:xfrm>
            <a:off x="5724360" y="189000"/>
            <a:ext cx="2951280" cy="64213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546480" y="620640"/>
            <a:ext cx="49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7 октября 1831 го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0126r2"/>
          <p:cNvPicPr/>
          <p:nvPr/>
        </p:nvPicPr>
        <p:blipFill>
          <a:blip r:embed="rId2"/>
          <a:srcRect l="8111" t="0" r="2907" b="13123"/>
          <a:stretch/>
        </p:blipFill>
        <p:spPr>
          <a:xfrm>
            <a:off x="5364000" y="4149720"/>
            <a:ext cx="3356280" cy="24480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8" name="Прямоугольник 7"/>
          <p:cNvSpPr/>
          <p:nvPr/>
        </p:nvSpPr>
        <p:spPr>
          <a:xfrm>
            <a:off x="468360" y="333360"/>
            <a:ext cx="8351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Электромагнитная индукция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 физическое явление, заключающееся в возникновении вихревого электрического поля, вызывающего электрический ток в замкнутом контуре при изменении потока магнитной индукции через поверхность, ограниченную этим контуром.  Возникающий при этом ток называют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индукционным.</a:t>
            </a: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Picture 5" descr="m11"/>
          <p:cNvPicPr/>
          <p:nvPr/>
        </p:nvPicPr>
        <p:blipFill>
          <a:blip r:embed="rId3"/>
          <a:srcRect l="8910" t="0" r="0" b="0"/>
          <a:stretch/>
        </p:blipFill>
        <p:spPr>
          <a:xfrm>
            <a:off x="539640" y="4076640"/>
            <a:ext cx="2016360" cy="2490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2 способа"/>
          <p:cNvPicPr/>
          <p:nvPr/>
        </p:nvPicPr>
        <p:blipFill>
          <a:blip r:embed="rId4"/>
          <a:srcRect l="0" t="0" r="0" b="51518"/>
          <a:stretch/>
        </p:blipFill>
        <p:spPr>
          <a:xfrm>
            <a:off x="2987640" y="4724280"/>
            <a:ext cx="2117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450720" y="-291960"/>
            <a:ext cx="8242560" cy="193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1403280" y="1628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radley Hand ITC"/>
              </a:rPr>
              <a:t>Правило Ленц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7" descr="pl_032"/>
          <p:cNvPicPr/>
          <p:nvPr/>
        </p:nvPicPr>
        <p:blipFill>
          <a:blip r:embed="rId3"/>
          <a:stretch/>
        </p:blipFill>
        <p:spPr>
          <a:xfrm>
            <a:off x="5940360" y="1916280"/>
            <a:ext cx="2349720" cy="261432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  <p:sp>
        <p:nvSpPr>
          <p:cNvPr id="284" name="Прямоугольник 5"/>
          <p:cNvSpPr/>
          <p:nvPr/>
        </p:nvSpPr>
        <p:spPr>
          <a:xfrm>
            <a:off x="5651640" y="4797360"/>
            <a:ext cx="30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.Х. Ленц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804 – 1865 г.г.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адемик, ректор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ербургс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ниверситет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395280" y="227664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Индукционный ток всегда имеет такое направление, при котором возникает противодействие причинам, его породивши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6" descr="lenc"/>
          <p:cNvPicPr/>
          <p:nvPr/>
        </p:nvPicPr>
        <p:blipFill>
          <a:blip r:embed="rId4"/>
          <a:stretch/>
        </p:blipFill>
        <p:spPr>
          <a:xfrm>
            <a:off x="1355760" y="4005360"/>
            <a:ext cx="3168720" cy="237636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Scan0007"/>
          <p:cNvPicPr/>
          <p:nvPr/>
        </p:nvPicPr>
        <p:blipFill>
          <a:blip r:embed="rId2"/>
          <a:stretch/>
        </p:blipFill>
        <p:spPr>
          <a:xfrm>
            <a:off x="684360" y="1700280"/>
            <a:ext cx="2663640" cy="25207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3851280" y="1125360"/>
            <a:ext cx="468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нитным потоком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рез поверхность площадью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зывают величину, равную произведения модуля вектора магнитной индукци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 площадь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косинус угла </a:t>
            </a:r>
            <a:r>
              <a:rPr b="1" i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векторам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5219640" y="5157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co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5292720" y="573264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33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гнитный поток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4788000" y="530064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рактеризуется изменением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ла линий В, пронизывающ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ур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Scan0006"/>
          <p:cNvPicPr/>
          <p:nvPr/>
        </p:nvPicPr>
        <p:blipFill>
          <a:blip r:embed="rId2"/>
          <a:srcRect l="7565" t="3550" r="5502" b="0"/>
          <a:stretch/>
        </p:blipFill>
        <p:spPr>
          <a:xfrm>
            <a:off x="5219640" y="1413000"/>
            <a:ext cx="3313080" cy="39146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6"/>
          <p:cNvSpPr/>
          <p:nvPr/>
        </p:nvSpPr>
        <p:spPr>
          <a:xfrm>
            <a:off x="395280" y="14130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Определить направление линий индукции внешнего поля В(выходят из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ходят в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Определить, увеличивается или уменьшается магнитный поток через контур (если магнит вдвигается в кольцо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если выдвигается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Определить направление линий индукции магнитного поля В′, созданного индукционным током (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направлены в противоположные стороны; 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сонаправлены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Пользуясь правилом буравчика (правой руки), определить направление индукционного то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333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3"/>
          <a:stretch/>
        </p:blipFill>
        <p:spPr>
          <a:xfrm>
            <a:off x="822240" y="-6480"/>
            <a:ext cx="78710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28:11Z</dcterms:created>
  <dc:creator>Хромовы</dc:creator>
  <dc:description/>
  <dc:language>en-US</dc:language>
  <cp:lastModifiedBy>revaz</cp:lastModifiedBy>
  <dcterms:modified xsi:type="dcterms:W3CDTF">2012-03-29T19:28:46Z</dcterms:modified>
  <cp:revision>19</cp:revision>
  <dc:subject/>
  <dc:title>Явление  электромагнитной  индукции</dc:title>
</cp:coreProperties>
</file>