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1.jpeg" ContentType="image/jpeg"/>
  <Override PartName="/ppt/media/image19.jpeg" ContentType="image/jpe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4.jpeg" ContentType="image/jpe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Lucida Sans Unicode"/>
              </a:rPr>
              <a:t>Click to move the slide</a:t>
            </a:r>
            <a:endParaRPr b="1" lang="en-US" sz="4100" spc="-1" strike="noStrike">
              <a:solidFill>
                <a:srgbClr val="66666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F9C6-1F9B-4457-91FF-198128935D22}"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556F-4622-41F2-A728-B8A27415D9F0}" type="slidenum">
              <a:rPr b="0" lang="ru-RU"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EEEA9-8BBA-44C0-BA37-3C6C29B01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C957B-07F7-42A9-A7BE-FBF25D672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C1A3E-5EC1-4AD7-A431-6BCA43732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2E935-6C9E-439C-BC29-3AE394A43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1508A-1A9E-4148-9AD3-FD61AA9803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23B00-0DBB-455A-87D2-4B60839C6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2C59D-5194-4801-A783-708AF83FC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2DB0F-4F4F-4960-9E94-B4ACA4A8F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008BD-77F8-4CB3-94B8-C36A471C4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D4616-3678-4764-BE73-80BBC84F4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FFAB6-EE23-4109-83F0-BA1E503D1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EEE1D-0F7F-4DA1-BCFC-6841484E6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6CA4D-B517-44A1-A405-0D38E5178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CCFE2-7863-4F7D-B549-09140F2F5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0C55C-C12C-4F3B-926A-45DF2ECB6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5569EE-5DD7-4DDE-AFBE-F3E9C8574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B6CA5-DFD3-43EC-B5F8-B04C7A524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6C87B5-2959-4891-BA9C-6BD850772A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1FBAC7-E7F8-4B9B-9590-D69ED7A2AF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A8D2D0-20FE-4B73-BC74-FFF9EEE6A6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B17EB9-F157-4449-93B7-451D4440F6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D61165-D8EB-45C8-9A2F-B171EBE3AD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2C48B-0337-42B5-8360-C75DCC2D4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16C933-AE5B-4362-85B3-E495B451EF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7CFAF-8C9B-4235-8100-8EFB79367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D8D45-8DFC-4EAA-9372-5A626E736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CB1D66-A11C-4AAC-B30D-911625BA8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BA230C-71D4-4FE9-98FA-FDF614DC31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AE000C-533B-4CAE-91BF-D7F1050F31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2DFBFA-105B-44B3-9661-7FA524F1C6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93814C-F016-4A41-88FF-9DE7B2EC6C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86FA02-FAED-4CE8-8FEC-F2E88C5042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842752-C2C9-42A9-8161-9485F4E45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A9E4A-D220-4103-99B5-D3DB5613D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0CB58F-F2FB-4E3B-A419-EF5A9F1741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22D9CB-EA29-4235-88C0-0325907150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E99901-3E57-4F13-A15D-B24E299B0B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A4350A-5EA7-42E5-9794-5AEDE09DD0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7F9780-5330-422D-AB04-821AEB45CC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A771BA-DB6D-4533-B2E5-B822C47A73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CCC63D-22E8-4480-A4E1-DF2EBDA050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F4C84E-3009-4FC3-9F34-97479E6A58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F1A412-C9B6-444A-B8FF-50CD22E5C6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A2B78E-FAAC-490A-BB13-FB9384FBCD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A7699-7238-418E-B060-52FC1B502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CC25D5-24AF-4359-98C3-C65088B407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34B284-2630-47C9-B75A-3BB04CEC62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1F0F7B-D73A-4185-9A96-3F048C9794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FB215E-7D1A-42F6-AACE-31A9F6344E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0039FA-3AD9-4EE3-ADF7-010D3228CE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EDEA58-A963-435A-A8D9-8FC63EB042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458466-E389-4523-B48B-03E7686BC7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9C001A-8A62-4E30-8202-E6A699E88C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73BA80-6A3E-4E8A-A603-8C5164B0BA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494FC4-7058-4050-80C3-543A0FD3FA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09161-D717-4CDA-919C-60AB27A3B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D6C373-6D8C-44ED-80EE-77B1B978A5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657AF0-04C4-4F94-BAF1-37F8C7AE1B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8E8B93-7CE4-4656-AF97-789BF1A945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2F459F-DCA6-45E1-A411-AAE8BEBE5C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6F7D0C-641A-4BFD-BEDC-5596FB8D34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AA8F82-ECE5-4661-B763-F6639E7076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8473ED-143D-4F30-92B7-645181D34D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35BC44-F45A-4BE8-82D1-C0D4BA2A22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CC79F5-B0BD-4117-9CDE-54490E484D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7DB54B-6CAD-4D51-8D01-501713C65C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54D95-6EC1-42BC-852C-2D62ABF1D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1C0AC4-7D06-49B4-A75A-FE4D981D13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2F7997-E9E7-4578-B8A8-F804300C23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24EFF6-9EAC-4621-8A09-5C8283AC46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8FB2C2-5F5D-43F7-8596-44CFCF6583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04B7B4-0089-4A77-9218-264207572A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E7B98C-D86D-470C-8FF7-7E3815FBD5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AAC14A-DD67-4CF6-904B-6B844F5B76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6E2C97-7F0C-458B-AA75-65978D03DF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80DBC7-82F7-4488-BA15-4C4C1B3A2E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FCB567-7A2E-475A-A022-35C2BBF176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80396-099B-43DB-ACD8-569F828A3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9C6E6D-9370-474F-A674-6FDB12496F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FFE73C-E9CF-4D36-812C-8772C85B03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1CEB9F-789F-4DF7-AB41-B623D333CC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26A80B-84F2-4894-90D2-A42B011BAE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1051A6-AE72-446B-9C0A-9DEAB99A1E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113B5C-1425-4C22-B04C-1F07A53B4F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0CB486-DB95-43E4-83D6-10CF65C14B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E436A0-0998-4943-9C35-279DF47B2C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555E7E-7574-44E6-9E8C-6B964EA3A9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456165-2ED7-4BC7-BA14-A221001951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123B7-064D-4625-95BE-E46057232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99F46A-AAFB-4459-B7EE-6774013167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893ED5-0695-4498-AD4D-79894DCA7C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D88C7E-D735-4D2C-ABC0-132CA9C372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79EFCB-81EF-4060-96CE-FB06C9BF97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4246CE-CA92-448E-BE91-F56A8619A2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14B9CD-31A7-4BCB-ACA3-DCA67B9888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7A0EAE-8A0D-4F40-A8EB-CD7FF42A58A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Lucida Sans Unicode"/>
              </a:rPr>
              <a:t>Click to edit the title text format</a:t>
            </a:r>
            <a:endParaRPr b="1" lang="en-US" sz="4100" spc="-1" strike="noStrike">
              <a:solidFill>
                <a:srgbClr val="66666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F83C-D960-4AF9-AA51-80F2A6D1835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cd004e"/>
              </a:gs>
              <a:gs pos="50000">
                <a:srgbClr val="ff4192"/>
              </a:gs>
              <a:gs pos="100000">
                <a:srgbClr val="cd004e"/>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Полилиния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Lucida Sans Unicode"/>
              </a:rPr>
              <a:t>Click to edit the title text format</a:t>
            </a:r>
            <a:endParaRPr b="1" lang="en-US" sz="4100" spc="-1" strike="noStrike">
              <a:solidFill>
                <a:srgbClr val="66666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7532-069D-46E5-AC63-460CD19D5C8E}"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e0166b"/>
              </a:gs>
              <a:gs pos="100000">
                <a:srgbClr val="ff7aa9"/>
              </a:gs>
            </a:gsLst>
            <a:lin ang="16200000"/>
          </a:gradFill>
          <a:ln cap="rnd" w="3240">
            <a:solidFill>
              <a:srgbClr val="bc266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e0166b"/>
              </a:gs>
              <a:gs pos="100000">
                <a:srgbClr val="ff7aa9"/>
              </a:gs>
            </a:gsLst>
            <a:lin ang="16200000"/>
          </a:gradFill>
          <a:ln cap="rnd" w="3240">
            <a:solidFill>
              <a:srgbClr val="bc266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2d2d2"/>
                </a:solidFill>
                <a:latin typeface="Lucida Sans Unicode"/>
              </a:rPr>
              <a:t>Click to edit the title text format</a:t>
            </a:r>
            <a:endParaRPr b="1" lang="en-US" sz="4100" spc="-1" strike="noStrike">
              <a:solidFill>
                <a:srgbClr val="d2d2d2"/>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0A99-6C20-409A-97C6-B74DD5A1117B}"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2d2d2"/>
                </a:solidFill>
                <a:latin typeface="Lucida Sans Unicode"/>
              </a:rPr>
              <a:t>Click to edit the title text format</a:t>
            </a:r>
            <a:endParaRPr b="1" lang="en-US" sz="4100" spc="-1" strike="noStrike">
              <a:solidFill>
                <a:srgbClr val="d2d2d2"/>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F4FD-255A-4BB8-81DE-7DAF41C8AA2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Lucida Sans Unicode"/>
              </a:rPr>
              <a:t>Click to edit the title text format</a:t>
            </a:r>
            <a:endParaRPr b="1" lang="en-US" sz="4100" spc="-1" strike="noStrike">
              <a:solidFill>
                <a:srgbClr val="66666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3784-6121-4306-9855-9E95F0896B9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2d2d2"/>
                </a:solidFill>
                <a:latin typeface="Lucida Sans Unicode"/>
              </a:rPr>
              <a:t>Click to edit the title text format</a:t>
            </a:r>
            <a:endParaRPr b="1" lang="en-US" sz="4100" spc="-1" strike="noStrike">
              <a:solidFill>
                <a:srgbClr val="d2d2d2"/>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4CEA-7C05-4F7A-AF33-624618313471}"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Lucida Sans Unicode"/>
              </a:rPr>
              <a:t>Click to edit the title text format</a:t>
            </a:r>
            <a:endParaRPr b="1" lang="en-US" sz="4100" spc="-1" strike="noStrike">
              <a:solidFill>
                <a:srgbClr val="66666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3C95-A986-4D6B-B60A-69CC526772D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Полилиния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e0166b"/>
              </a:gs>
              <a:gs pos="100000">
                <a:srgbClr val="ff7aa9"/>
              </a:gs>
            </a:gsLst>
            <a:lin ang="16200000"/>
          </a:gradFill>
          <a:ln cap="rnd" w="3240">
            <a:solidFill>
              <a:srgbClr val="bc266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e0166b"/>
              </a:gs>
              <a:gs pos="100000">
                <a:srgbClr val="ff7aa9"/>
              </a:gs>
            </a:gsLst>
            <a:lin ang="16200000"/>
          </a:gradFill>
          <a:ln cap="rnd" w="3240">
            <a:solidFill>
              <a:srgbClr val="bc266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2d2d2"/>
                </a:solidFill>
                <a:latin typeface="Lucida Sans Unicode"/>
              </a:rPr>
              <a:t>Click to edit the title text format</a:t>
            </a:r>
            <a:endParaRPr b="1" lang="en-US" sz="4100" spc="-1" strike="noStrike">
              <a:solidFill>
                <a:srgbClr val="d2d2d2"/>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0317-8AEF-4E1A-9E61-391A7D24F48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Заголовок 1" descr=""/>
          <p:cNvPicPr/>
          <p:nvPr/>
        </p:nvPicPr>
        <p:blipFill>
          <a:blip r:embed="rId1"/>
          <a:stretch/>
        </p:blipFill>
        <p:spPr>
          <a:xfrm>
            <a:off x="682560" y="781200"/>
            <a:ext cx="8266320" cy="2230200"/>
          </a:xfrm>
          <a:prstGeom prst="rect">
            <a:avLst/>
          </a:prstGeom>
          <a:ln w="0">
            <a:noFill/>
          </a:ln>
        </p:spPr>
      </p:pic>
      <p:sp>
        <p:nvSpPr>
          <p:cNvPr id="378" name="PlaceHolder 1"/>
          <p:cNvSpPr>
            <a:spLocks noGrp="1"/>
          </p:cNvSpPr>
          <p:nvPr>
            <p:ph type="subTitle"/>
          </p:nvPr>
        </p:nvSpPr>
        <p:spPr>
          <a:xfrm>
            <a:off x="685800" y="3000240"/>
            <a:ext cx="7772400" cy="1811520"/>
          </a:xfrm>
          <a:prstGeom prst="rect">
            <a:avLst/>
          </a:prstGeom>
          <a:noFill/>
          <a:ln w="0">
            <a:noFill/>
          </a:ln>
        </p:spPr>
        <p:txBody>
          <a:bodyPr lIns="45720" rIns="4572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9c0042"/>
                </a:solidFill>
                <a:latin typeface="Arial Black"/>
              </a:rPr>
              <a:t>СПОРТ ПРОТИВ НАРКОТИКОВ</a:t>
            </a:r>
            <a:endParaRPr b="0" lang="en-US" sz="6000" spc="-1" strike="noStrike">
              <a:solidFill>
                <a:srgbClr val="000000"/>
              </a:solidFill>
              <a:latin typeface="Lucida Sans Unicode"/>
            </a:endParaRPr>
          </a:p>
        </p:txBody>
      </p:sp>
    </p:spTree>
  </p:cSld>
  <p:transition advTm="5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50% (30 чел.) учащихся ответили, что периодически занимаются ими, 35% (21 чел.) опрошенных систематически выполняют физические упражнения и 15% никогда не занимаются физкультурой дома.</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20 % опрошенных имеют освобождение от физкультуры. </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Всего лишь 20% (12 чел) школьников дополнительно занимаются в спортивных секциях, группах. </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65 % (39 чел.) класса не имеют свой личный распорядок дня. </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На вопрос о соблюдении правил личной гигиены был получен 100% положительный ответ.</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75 %опрошенных детей , которые занимаются физкультурой отрицательно относятся к табакокурению и наркотикам.</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9" name="Заголовок 2" descr=""/>
          <p:cNvPicPr/>
          <p:nvPr/>
        </p:nvPicPr>
        <p:blipFill>
          <a:blip r:embed="rId1"/>
          <a:stretch/>
        </p:blipFill>
        <p:spPr>
          <a:xfrm>
            <a:off x="195120" y="268200"/>
            <a:ext cx="8498160" cy="1158840"/>
          </a:xfrm>
          <a:prstGeom prst="rect">
            <a:avLst/>
          </a:prstGeom>
          <a:ln w="0">
            <a:noFill/>
          </a:ln>
        </p:spPr>
      </p:pic>
    </p:spTree>
  </p:cSld>
  <p:transition advTm="4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Lucida Sans Unicode"/>
              </a:rPr>
              <a:t> </a:t>
            </a:r>
            <a:r>
              <a:rPr b="0" lang="ru-RU" sz="2100" spc="-1" strike="noStrike">
                <a:solidFill>
                  <a:srgbClr val="000000"/>
                </a:solidFill>
                <a:latin typeface="Arial"/>
                <a:ea typeface="Arial"/>
              </a:rPr>
              <a:t>Проанализировав данные исследования можно прийти к выводу, что этот вопрос проблематичен и актуален, т.к. исследования психологов показали, что основной причиной неуспеваемости в общеобразовательных школах у 85% учащихся является слабое здоровье или физические недостатки. </a:t>
            </a:r>
            <a:endParaRPr b="0" lang="en-US" sz="21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Все уроки физической культуры, независимо от их характера, нагрузки и времени проведения, оказывают положительное влияние на академическую успеваемость школьников.</a:t>
            </a:r>
            <a:endParaRPr b="0" lang="en-US" sz="21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У тех учащихся, которые систематически и организованно занимаются физической культурой и спортом, учебное «напряжение» значительно реже приводит к ухудшению умственной работоспособности, по сравнению с теми, которые не занимаются физической культурой и спортом.</a:t>
            </a:r>
            <a:br>
              <a:rPr sz="2100"/>
            </a:br>
            <a:r>
              <a:rPr b="0" lang="ru-RU" sz="2100" spc="-1" strike="noStrike">
                <a:solidFill>
                  <a:srgbClr val="000000"/>
                </a:solidFill>
                <a:latin typeface="Arial"/>
              </a:rPr>
              <a:t> </a:t>
            </a:r>
            <a:endParaRPr b="0" lang="en-US" sz="21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01" name="Заголовок 2" descr=""/>
          <p:cNvPicPr/>
          <p:nvPr/>
        </p:nvPicPr>
        <p:blipFill>
          <a:blip r:embed="rId1"/>
          <a:stretch/>
        </p:blipFill>
        <p:spPr>
          <a:xfrm>
            <a:off x="195120" y="268200"/>
            <a:ext cx="8498160" cy="1158840"/>
          </a:xfrm>
          <a:prstGeom prst="rect">
            <a:avLst/>
          </a:prstGeom>
          <a:ln w="0">
            <a:noFill/>
          </a:ln>
        </p:spPr>
      </p:pic>
    </p:spTree>
  </p:cSld>
  <p:transition advTm="56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4" descr="L:\ФОТО\Спортландия\IMG_0053.jpg"/>
          <p:cNvPicPr/>
          <p:nvPr/>
        </p:nvPicPr>
        <p:blipFill>
          <a:blip r:embed="rId1"/>
          <a:stretch/>
        </p:blipFill>
        <p:spPr>
          <a:xfrm>
            <a:off x="4286160" y="2143080"/>
            <a:ext cx="4714920" cy="4714920"/>
          </a:xfrm>
          <a:prstGeom prst="rect">
            <a:avLst/>
          </a:prstGeom>
          <a:ln w="0">
            <a:noFill/>
          </a:ln>
        </p:spPr>
      </p:pic>
      <p:sp>
        <p:nvSpPr>
          <p:cNvPr id="40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ПИОНЕРБОЛЛ</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БАСКЕТБОЛЛ</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ВОЛЕЙБОЛЛ</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ЧЕРЛИДИНГ</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ХОРЕОГРАФИЯ</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И много других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секций</a:t>
            </a:r>
            <a:endParaRPr b="0" lang="en-US" sz="2700" spc="-1" strike="noStrike">
              <a:solidFill>
                <a:srgbClr val="000000"/>
              </a:solidFill>
              <a:latin typeface="Lucida Sans Unicode"/>
            </a:endParaRPr>
          </a:p>
        </p:txBody>
      </p:sp>
    </p:spTree>
  </p:cSld>
  <p:transition advTm="7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Lucida Sans Unicode"/>
              </a:rPr>
              <a:t>Экология</a:t>
            </a:r>
            <a:endParaRPr b="0" lang="en-US" sz="28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Многие люди обеспокоены в наше время воздействием токсических химических веществ на человека. Это воздействие на сегодня достигло такого уровня, что само существование человечества во многом зависит от того, сумеем ли мы найти компромисс между видами и темпами развития промышленности  и сохранением окружающей среды. Наиболее чувствителен к этим нагрузкам </a:t>
            </a:r>
            <a:r>
              <a:rPr b="0" lang="ru-RU" sz="2700" spc="-1" strike="noStrike" u="sng">
                <a:solidFill>
                  <a:srgbClr val="000000"/>
                </a:solidFill>
                <a:uFillTx/>
                <a:latin typeface="Lucida Sans Unicode"/>
              </a:rPr>
              <a:t>детский организм</a:t>
            </a:r>
            <a:r>
              <a:rPr b="0" lang="ru-RU"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80" name="Заголовок 1" descr=""/>
          <p:cNvPicPr/>
          <p:nvPr/>
        </p:nvPicPr>
        <p:blipFill>
          <a:blip r:embed="rId1"/>
          <a:stretch/>
        </p:blipFill>
        <p:spPr>
          <a:xfrm>
            <a:off x="433440" y="122400"/>
            <a:ext cx="8393040" cy="1341360"/>
          </a:xfrm>
          <a:prstGeom prst="rect">
            <a:avLst/>
          </a:prstGeom>
          <a:ln w="0">
            <a:noFill/>
          </a:ln>
        </p:spPr>
      </p:pic>
    </p:spTree>
  </p:cSld>
  <p:transition advTm="36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1499760" y="1643040"/>
            <a:ext cx="7186680" cy="4363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Прямоугольник 3"/>
          <p:cNvSpPr/>
          <p:nvPr/>
        </p:nvSpPr>
        <p:spPr>
          <a:xfrm>
            <a:off x="714240" y="214200"/>
            <a:ext cx="692964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Lucida Sans Unicode"/>
              </a:rPr>
              <a:t>Экологические проблемы представляют на сегодняшний день колоссальную угрозу здоровью подрастающего поколения, а значит, ставят под сомнение будущее </a:t>
            </a:r>
            <a:r>
              <a:rPr b="1" lang="ru-RU" sz="2600" spc="-1" strike="noStrike" u="sng">
                <a:solidFill>
                  <a:srgbClr val="000000"/>
                </a:solidFill>
                <a:uFillTx/>
                <a:latin typeface="Lucida Sans Unicode"/>
              </a:rPr>
              <a:t>здоровье всей нации.</a:t>
            </a:r>
            <a:endParaRPr b="0" lang="en-US" sz="2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Lucida Sans Unicode"/>
              </a:rPr>
              <a:t>Плохая экологическая обстановка отрицательно сказывается на растущий организм ребенка.</a:t>
            </a:r>
            <a:endParaRPr b="0" lang="en-US" sz="2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Lucida Sans Unicode"/>
              </a:rPr>
              <a:t>У ребенка быстрее, чем у взрослого, возникают перенапряжение и истощение организма,  нарушение обмена веществ. </a:t>
            </a:r>
            <a:endParaRPr b="0" lang="en-US" sz="2600" spc="-1" strike="noStrike">
              <a:solidFill>
                <a:srgbClr val="000000"/>
              </a:solidFill>
              <a:latin typeface="Lucida Sans Unicode"/>
            </a:endParaRPr>
          </a:p>
        </p:txBody>
      </p:sp>
    </p:spTree>
  </p:cSld>
  <p:transition advTm="3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ea typeface="Arial"/>
              </a:rPr>
              <a:t>Вредное производство, грязная среда вызывают различные аллергические реакции: на продукты питания, пыль, цветочную пыльцу... Дети попадают в категорию длительно и часто болеющих. И вот тогда они попадают на обследование и лечение.  Иногда в детском организме находят до </a:t>
            </a:r>
            <a:r>
              <a:rPr b="0" lang="ru-RU" sz="2700" spc="-1" strike="noStrike" u="sng">
                <a:solidFill>
                  <a:srgbClr val="ff0000"/>
                </a:solidFill>
                <a:uFillTx/>
                <a:latin typeface="Arial"/>
                <a:ea typeface="Arial"/>
              </a:rPr>
              <a:t>30 опасных химических компонентов, в том числе свинец, хром, никель, марганец, бензол...</a:t>
            </a:r>
            <a:endParaRPr b="0" lang="en-US" sz="2700" spc="-1" strike="noStrike">
              <a:solidFill>
                <a:srgbClr val="000000"/>
              </a:solidFill>
              <a:latin typeface="Lucida Sans Unicode"/>
            </a:endParaRPr>
          </a:p>
          <a:p>
            <a:pPr marL="365040" indent="-255600">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Заголовок 2" descr=""/>
          <p:cNvPicPr/>
          <p:nvPr/>
        </p:nvPicPr>
        <p:blipFill>
          <a:blip r:embed="rId1"/>
          <a:stretch/>
        </p:blipFill>
        <p:spPr>
          <a:xfrm>
            <a:off x="225360" y="268200"/>
            <a:ext cx="8656560" cy="1158840"/>
          </a:xfrm>
          <a:prstGeom prst="rect">
            <a:avLst/>
          </a:prstGeom>
          <a:ln w="0">
            <a:noFill/>
          </a:ln>
        </p:spPr>
      </p:pic>
    </p:spTree>
  </p:cSld>
  <p:transition advTm="37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Исследования психологов показали, что основной причиной неуспеваемости в общеобразовательных школах у 85% учащихся является слабое здоровье или физические недостатки. </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Заголовок 2" descr=""/>
          <p:cNvPicPr/>
          <p:nvPr/>
        </p:nvPicPr>
        <p:blipFill>
          <a:blip r:embed="rId1"/>
          <a:stretch/>
        </p:blipFill>
        <p:spPr>
          <a:xfrm>
            <a:off x="195120" y="268200"/>
            <a:ext cx="8498160" cy="1158840"/>
          </a:xfrm>
          <a:prstGeom prst="rect">
            <a:avLst/>
          </a:prstGeom>
          <a:ln w="0">
            <a:noFill/>
          </a:ln>
        </p:spPr>
      </p:pic>
      <p:pic>
        <p:nvPicPr>
          <p:cNvPr id="387" name="Рисунок 3" descr="http://www.sportfamily.ru/pics/www.sportfamily.ru/Image/schoolboy2.jpg"/>
          <p:cNvPicPr/>
          <p:nvPr/>
        </p:nvPicPr>
        <p:blipFill>
          <a:blip r:embed="rId2"/>
          <a:stretch/>
        </p:blipFill>
        <p:spPr>
          <a:xfrm>
            <a:off x="5715000" y="3214800"/>
            <a:ext cx="2928960" cy="3500280"/>
          </a:xfrm>
          <a:prstGeom prst="rect">
            <a:avLst/>
          </a:prstGeom>
          <a:ln w="0">
            <a:noFill/>
          </a:ln>
        </p:spPr>
      </p:pic>
    </p:spTree>
  </p:cSld>
  <p:transition advTm="21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Arial"/>
                <a:ea typeface="Arial"/>
              </a:rPr>
              <a:t>Все уроки физической культуры, независимо от их характера, нагрузки и времени проведения, оказывают положительное влияние на  успеваемость школьников.</a:t>
            </a:r>
            <a:endParaRPr b="0" lang="en-US" sz="2700" spc="-1" strike="noStrike">
              <a:solidFill>
                <a:srgbClr val="000000"/>
              </a:solidFill>
              <a:latin typeface="Lucida Sans Unicode"/>
            </a:endParaRPr>
          </a:p>
        </p:txBody>
      </p:sp>
      <p:pic>
        <p:nvPicPr>
          <p:cNvPr id="389" name="Заголовок 2" descr=""/>
          <p:cNvPicPr/>
          <p:nvPr/>
        </p:nvPicPr>
        <p:blipFill>
          <a:blip r:embed="rId1"/>
          <a:stretch/>
        </p:blipFill>
        <p:spPr>
          <a:xfrm>
            <a:off x="171360" y="268200"/>
            <a:ext cx="8667720" cy="1158840"/>
          </a:xfrm>
          <a:prstGeom prst="rect">
            <a:avLst/>
          </a:prstGeom>
          <a:ln w="0">
            <a:noFill/>
          </a:ln>
        </p:spPr>
      </p:pic>
      <p:pic>
        <p:nvPicPr>
          <p:cNvPr id="390" name="Рисунок 2" descr="http://www.sportfamily.ru/pics/www.sportfamily.ru/Image/schoolboy.jpg"/>
          <p:cNvPicPr/>
          <p:nvPr/>
        </p:nvPicPr>
        <p:blipFill>
          <a:blip r:embed="rId2"/>
          <a:stretch/>
        </p:blipFill>
        <p:spPr>
          <a:xfrm>
            <a:off x="5000760" y="3429000"/>
            <a:ext cx="3466800" cy="3306600"/>
          </a:xfrm>
          <a:prstGeom prst="rect">
            <a:avLst/>
          </a:prstGeom>
          <a:ln w="0">
            <a:noFill/>
          </a:ln>
        </p:spPr>
      </p:pic>
    </p:spTree>
  </p:cSld>
  <p:transition advTm="18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28480"/>
            <a:ext cx="7972560" cy="4578120"/>
          </a:xfrm>
          <a:prstGeom prst="rect">
            <a:avLst/>
          </a:prstGeom>
          <a:noFill/>
          <a:ln w="0">
            <a:noFill/>
          </a:ln>
        </p:spPr>
        <p:txBody>
          <a:bodyPr lIns="90000" rIns="90000" tIns="46800" bIns="46800" anchor="t">
            <a:normAutofit/>
          </a:bodyPr>
          <a:p>
            <a:pPr marL="365040" indent="-255600">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2" name="Picture 2" descr="L:\ФОТО\Спортландия\IMG_0054.jpg"/>
          <p:cNvPicPr/>
          <p:nvPr/>
        </p:nvPicPr>
        <p:blipFill>
          <a:blip r:embed="rId1"/>
          <a:stretch/>
        </p:blipFill>
        <p:spPr>
          <a:xfrm>
            <a:off x="4143240" y="3357720"/>
            <a:ext cx="4476960" cy="3357360"/>
          </a:xfrm>
          <a:prstGeom prst="rect">
            <a:avLst/>
          </a:prstGeom>
          <a:ln w="0">
            <a:noFill/>
          </a:ln>
        </p:spPr>
      </p:pic>
      <p:sp>
        <p:nvSpPr>
          <p:cNvPr id="393" name="Прямоугольник 5"/>
          <p:cNvSpPr/>
          <p:nvPr/>
        </p:nvSpPr>
        <p:spPr>
          <a:xfrm>
            <a:off x="571680" y="214200"/>
            <a:ext cx="7929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У тех учащихся, которые систематически и организованно занимаются физической культурой и спортом, учебное «напря - жение» значительно реже приводит к ухудшению умственной работоспособности, по сравнению с теми, которые не занимаются физической культурой и спортом.</a:t>
            </a:r>
            <a:endParaRPr b="0" lang="en-US" sz="2800" spc="-1" strike="noStrike">
              <a:solidFill>
                <a:srgbClr val="000000"/>
              </a:solidFill>
              <a:latin typeface="Lucida Sans Unicode"/>
            </a:endParaRPr>
          </a:p>
        </p:txBody>
      </p:sp>
    </p:spTree>
  </p:cSld>
  <p:transition advTm="21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285840"/>
            <a:ext cx="8229600" cy="5721120"/>
          </a:xfrm>
          <a:prstGeom prst="rect">
            <a:avLst/>
          </a:prstGeom>
          <a:noFill/>
          <a:ln w="0">
            <a:noFill/>
          </a:ln>
        </p:spPr>
        <p:txBody>
          <a:bodyPr lIns="90000" rIns="90000" tIns="46800" bIns="46800" anchor="t">
            <a:normAutofit/>
          </a:bodyPr>
          <a:p>
            <a:pPr marL="365040" indent="-255600" algn="ctr">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ea typeface="Arial"/>
              </a:rPr>
              <a:t>Чтобы правильно выбрать для школьника необходимый двигательный режим, организовать занятия физической культурой и спортом, родители должны хорошо знать особенности развития и возможности детей. </a:t>
            </a:r>
            <a:br>
              <a:rPr sz="2700"/>
            </a:br>
            <a:r>
              <a:rPr b="0" lang="ru-RU" sz="2700" spc="-1" strike="noStrike">
                <a:solidFill>
                  <a:srgbClr val="000000"/>
                </a:solidFill>
                <a:latin typeface="Arial"/>
              </a:rPr>
              <a:t> </a:t>
            </a:r>
            <a:endParaRPr b="0" lang="en-US" sz="2700" spc="-1" strike="noStrike">
              <a:solidFill>
                <a:srgbClr val="000000"/>
              </a:solidFill>
              <a:latin typeface="Lucida Sans Unicode"/>
            </a:endParaRPr>
          </a:p>
          <a:p>
            <a:pPr marL="365040" indent="-255600" algn="ctr">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5" name="Рисунок 4" descr="http://www.sportfamily.ru/pics/www.sportfamily.ru/Image/schoolgirls.jpg"/>
          <p:cNvPicPr/>
          <p:nvPr/>
        </p:nvPicPr>
        <p:blipFill>
          <a:blip r:embed="rId1"/>
          <a:stretch/>
        </p:blipFill>
        <p:spPr>
          <a:xfrm>
            <a:off x="2682720" y="2500200"/>
            <a:ext cx="5389560" cy="3857760"/>
          </a:xfrm>
          <a:prstGeom prst="rect">
            <a:avLst/>
          </a:prstGeom>
          <a:ln w="0">
            <a:noFill/>
          </a:ln>
        </p:spPr>
      </p:pic>
    </p:spTree>
  </p:cSld>
  <p:transition advTm="16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Занимаются ли учащиеся физическими упражнениями дома?</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Как посещают уроки физкультуры учащиеся?</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Имеют ли дети свой распорядок дня?</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Соблюдают ли правила личной гигиены?</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Отношение к табакокурению и наркотикам</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Заголовок 2" descr=""/>
          <p:cNvPicPr/>
          <p:nvPr/>
        </p:nvPicPr>
        <p:blipFill>
          <a:blip r:embed="rId1"/>
          <a:stretch/>
        </p:blipFill>
        <p:spPr>
          <a:xfrm>
            <a:off x="450720" y="-208080"/>
            <a:ext cx="8242560" cy="1635120"/>
          </a:xfrm>
          <a:prstGeom prst="rect">
            <a:avLst/>
          </a:prstGeom>
          <a:ln w="0">
            <a:noFill/>
          </a:ln>
        </p:spPr>
      </p:pic>
    </p:spTree>
  </p:cSld>
  <p:transition advTm="25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0-08-01T07:11:21Z</dcterms:modified>
  <cp:revision>8</cp:revision>
  <dc:subject/>
  <dc:title>КОНФЕРЕНЦИЯ ДЛЯ РОДИТЕЛЕЙ</dc:title>
</cp:coreProperties>
</file>