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23B-C13D-4146-BD6E-0CA20FBD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712-4A6E-4DA3-B8E8-762F7B4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247-87A6-4427-9B88-4D08D6D7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72D-75AB-49E1-8014-1CF81CCA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EAE4-1128-4D12-B226-6ECB95DD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0131-E90D-4150-B73B-0CB1472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DBC3-9275-4EA4-977F-AA965656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0237-F1FA-4A05-AF5F-F17CA44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FF7D-5370-4E66-B01D-E120A21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B6B-7020-4BDA-AD7A-D8104653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797D-C3B1-4B8C-A7CA-DDF19F4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825-92A2-4C82-B94B-E334ADAF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A57-7E36-4143-86D9-EB53CFF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529C-86F5-45E5-BE12-F0DE54F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8A52-DD7C-4059-BB23-36E48A0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7C73-BFA7-4CEB-8161-73980348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B74E-96D3-45C0-A572-7CEF3F2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779-9422-4A24-8D1A-9E1EF250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8D9-A122-4796-B5E7-2FB3BB5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967-9552-4E3D-945A-EB18478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A0C-78AD-422F-B248-BFD6B206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99-63D9-4A46-A9C3-2B10D60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962-AEB3-4B4A-945B-6817565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73A-6DFF-46D3-A8FB-111FE6B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5A68-3500-492C-B0DE-267578F8C5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C85-9557-44ED-AB13-83403B61DD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21076200">
            <a:off x="468000" y="259920"/>
            <a:ext cx="7345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64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ргей Васильевич Рахманинов</a:t>
            </a:r>
            <a:endParaRPr b="1" i="1" lang="en-US" sz="1800" spc="1" strike="noStrike">
              <a:ln w="64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648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0047ff"/>
                    </a:gs>
                    <a:gs pos="100000">
                      <a:srgbClr val="000082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(1873-1943)</a:t>
            </a:r>
            <a:endParaRPr b="1" i="1" lang="en-US" sz="1800" spc="1" strike="noStrike">
              <a:ln w="648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0047ff"/>
                  </a:gs>
                  <a:gs pos="100000">
                    <a:srgbClr val="000082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924280"/>
            <a:ext cx="467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343a1"/>
                </a:solidFill>
                <a:latin typeface="Bookman Old Style"/>
              </a:rPr>
              <a:t>«Я - русский композитор, и моя родина наложила отпечаток на мой характер и мои взгляды. Моя музыка - это плод моего характера, и потому это русская музыка… Единственное, что я стараюсь делать, когда я сочиняю, -это заставить её прямо и просто выражать то, что у меня на сердц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400"/>
                            </p:stCondLst>
                            <p:childTnLst>
                              <p:par>
                                <p:cTn id="2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835280" y="260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255cf7"/>
                    </a:gs>
                    <a:gs pos="50000">
                      <a:srgbClr val="00ff00"/>
                    </a:gs>
                    <a:gs pos="100000">
                      <a:srgbClr val="255cf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Bookman Old Style"/>
              </a:rPr>
              <a:t>Детство и юность</a:t>
            </a:r>
            <a:endParaRPr b="1" i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255cf7"/>
                  </a:gs>
                  <a:gs pos="50000">
                    <a:srgbClr val="00ff00"/>
                  </a:gs>
                  <a:gs pos="100000">
                    <a:srgbClr val="255cf7"/>
                  </a:gs>
                </a:gsLst>
                <a:lin ang="5400000"/>
              </a:gra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85760" cy="389556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80000" y="1484280"/>
            <a:ext cx="496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343a1"/>
                </a:solidFill>
                <a:uFillTx/>
                <a:latin typeface="Bookman Old Style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История рода Рахманинова уходит корнями к внуку молдавского царя Стефана Великого Василию, прозванного Рахманиным. Сергей Рахманинов родился в Старорусском уезде Новгородской губернии 20 марта 1873 г. в дворянской семье с давними музыкальными традициями (его дед Аркадий Александрович Рахманинов (1808 </a:t>
            </a:r>
            <a:r>
              <a:rPr b="1" i="1" lang="ru-RU" sz="20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 1881), был</a:t>
            </a: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2000" spc="-1" strike="noStrike">
                <a:solidFill>
                  <a:srgbClr val="0343a1"/>
                </a:solidFill>
                <a:latin typeface="Bookman Old Style"/>
              </a:rPr>
              <a:t>известен как автор салонных романс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9200"/>
                            </p:stCondLst>
                            <p:childTnLst>
                              <p:par>
                                <p:cTn id="5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7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343a1"/>
                </a:solidFill>
                <a:uFillTx/>
                <a:latin typeface="Bookman Old Style"/>
              </a:rPr>
              <a:t>Обу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осле переезда семьи в Петербург мальчика отдали учиться в консерваторию. Но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особого интереса к учебе он не проявлял. Начал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истематически учиться музыке в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ятилетнем возрасте. В 1885 переехал в Москву и стал студентом Московской консерватории, где занимался вначале у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ианиста-педагога Н.С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Зверева (чьим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учеником был также Скрябин), а с 1888 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 у А.И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Зилоти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(фортепиано), А.С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Аренского               (композиция, инструментовка, гармония),              С.И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Танеева (контрапункт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трогого                         письм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561816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659640" y="2492280"/>
            <a:ext cx="205884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80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2800"/>
                            </p:stCondLst>
                            <p:childTnLst>
                              <p:par>
                                <p:cTn id="97" nodeType="afterEffect" fill="hold" presetClass="exit" presetID="37">
                                  <p:stCondLst>
                                    <p:cond delay="7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800"/>
                            </p:stCondLst>
                            <p:childTnLst>
                              <p:par>
                                <p:cTn id="104" nodeType="afterEffect" fill="hold" presetClass="exit" presetID="37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800"/>
                            </p:stCondLst>
                            <p:childTnLst>
                              <p:par>
                                <p:cTn id="11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59328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Николай Сергеевич Зверев был выдающимся музыкальным учителем и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воспитателем, о чем свидетельствует быстрый рост его нового ученика. Огромное значение для юного музыканта имела художественная и интеллектуальная атмосфера дома Зверева. Рахманинов посещает концерты замечательных пианистов А.Н. Есипова, А.И. Зилоти, А.Г. Рубинштейна и др., знакомится с С.И. Танеевым, В.И. Сафоновым, П.И. Чайковским, дружбой и поддержкой которого Рахманинов очень дорожил. Именно в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годы пребывания у Зверева Рахманинов усвоил то умение трудиться, которое помогло впоследствии вести на редкость интенсивную и разностороннюю работу композитора, пианиста и дириже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Среди произведений, написанных в годы учебы,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Концерт № 1 для фортепиано с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оркестром (1891, 2-я редакция, 1917), юношеская симфония (1891), симфоническая поэма «Князь Ростислав» (по А.К.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Толстому, 1991). В 1891 Рахманинов окончил консерваторию с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большой золотой медалью как пианист, а в 1892 </a:t>
            </a:r>
            <a:r>
              <a:rPr b="1" i="1" lang="ru-RU" sz="18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 как композитор. Дипломной работой Рахманинова стала одноактная опера «Алеко» по поэме А.С. Пушкина «Цыганы» (1892,</a:t>
            </a:r>
            <a:r>
              <a:rPr b="1" i="1" lang="en-US" sz="18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800" spc="-1" strike="noStrike">
                <a:solidFill>
                  <a:srgbClr val="0343a1"/>
                </a:solidFill>
                <a:latin typeface="Bookman Old Style"/>
              </a:rPr>
              <a:t>поставлена в Большом театре в 189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2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1800"/>
                            </p:stCondLst>
                            <p:childTnLst>
                              <p:par>
                                <p:cTn id="136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38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04000" cy="59054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042920" y="260280"/>
            <a:ext cx="72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Зверев Н.С.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8220240" cy="5686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1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3a1"/>
                </a:solidFill>
                <a:latin typeface="Bookman Old Style"/>
              </a:rPr>
              <a:t>Диплом об окончании Московской консерв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xit" presetID="37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36480"/>
            <a:ext cx="9144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343a1"/>
                </a:solidFill>
                <a:uFillTx/>
                <a:latin typeface="Bookman Old Style"/>
              </a:rPr>
              <a:t>Первые творческие успе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Громадные успехи С.В. Рахманинова и по классу фортепиано, и по специальной теории с каждым годом все ярче выделяли его среди учеников консерва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В конце 1889 года Рахманинов уходит от Н.С. Зверева и находит пристанище в семье Сатиных </a:t>
            </a:r>
            <a:r>
              <a:rPr b="1" i="1" lang="ru-RU" sz="16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 Александра Александровича и Варвары Аркадьевны. Перейдя весной на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следующий курс консерватории, Сергей Васильевич проводит лето с Сатиными в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их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имении Ивановка Тамбовской губернии, которое стало его любимым местом отдыха и</a:t>
            </a:r>
            <a:r>
              <a:rPr b="1" i="1" lang="en-US" sz="1600" spc="-1" strike="noStrike">
                <a:solidFill>
                  <a:srgbClr val="0343a1"/>
                </a:solidFill>
                <a:latin typeface="Bookman Old Style"/>
              </a:rPr>
              <a:t> 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его лучшей творческой лабораторией на вс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343a1"/>
                </a:solidFill>
                <a:uFillTx/>
                <a:latin typeface="Bookman Old Style"/>
              </a:rPr>
              <a:t>Самостоятельная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С 1890-х годов начинается самостоятельна жизнь С.В. Рахманинова. Он зарабатывает себе на жизнь уроками фортепиано и теорией музы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Еще в годы учения в Московской консерватории выступления Рахманинова проходили с большим успехом. 30 января 1892 года, он дает свой первый самостоятельный концерт, в котором выступает не только как пианист, но и как автор ряда произведений. Сезон 1982 </a:t>
            </a:r>
            <a:r>
              <a:rPr b="1" i="1" lang="ru-RU" sz="1600" spc="-1" strike="noStrike">
                <a:solidFill>
                  <a:srgbClr val="0343a1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0343a1"/>
                </a:solidFill>
                <a:latin typeface="Bookman Old Style"/>
              </a:rPr>
              <a:t> 93 гг. стал началом артистического пути «свободного художника» Рахманинова. Он выступает в концертах в Москве, Харькове и других городах. Смерть П.И. Чайковского 25 октября 1893 года была большим ударом для Рахманинова. Под влиянием тяжелой утраты он написал Элегическое трио, посвятив его памяти Чайко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2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9:37:16Z</dcterms:created>
  <dc:creator>Zver</dc:creator>
  <dc:description/>
  <dc:language>en-US</dc:language>
  <cp:lastModifiedBy>Zver</cp:lastModifiedBy>
  <dcterms:modified xsi:type="dcterms:W3CDTF">2007-12-23T18:44:12Z</dcterms:modified>
  <cp:revision>6</cp:revision>
  <dc:subject/>
  <dc:title>Сергей Васильевич Рахманинов</dc:title>
</cp:coreProperties>
</file>