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4C2-4C73-4D7C-9DF4-C501A5F9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D47-B437-48CF-91F0-D3EA0CE8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BA6-56BA-4BE8-9F6B-5A0D23AD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82A-265A-4358-9987-BE387ECB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D6B6-7466-42D4-AE40-6D90093D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0F0A-5905-43D3-8701-5B854E52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C24C-4B5B-4DF3-80D2-2FA5C05F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8941-66BF-4087-8922-DEB01251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F5D5-0734-47A2-92C2-19913E0F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169E-A213-4AE8-99E3-47FD60D0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3273-FD3B-4601-A530-807A6CA1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5A7-8F75-466D-A7A6-A28E771A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05BE-A483-40E5-A0E9-C7556089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6DC7-D4B5-4D81-A577-494C1BA1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32A2-EA8E-43C7-BAF7-259B248E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3C34-47A3-40D6-9333-3AF14907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7F0F-B23A-49B0-8894-85B07C50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3BB-9278-4DDE-820D-E19902E4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6BA-1F15-4D3C-8393-5766C2AE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116-E83B-47A5-AF05-F7C4AE7D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7A5-2E3D-45B7-904A-51A479AC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622-1B26-4A35-9497-B76D816C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551-0800-415E-855D-6C4015F6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68A-7812-4E16-A935-05900707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fef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E2E2-0073-448F-9FBA-E95CF961DB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520C-B91E-43A0-A032-4FF110DF25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 rot="21076200">
            <a:off x="468000" y="259920"/>
            <a:ext cx="7345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648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ргей Васильевич Рахманинов</a:t>
            </a:r>
            <a:endParaRPr b="1" i="1" lang="en-US" sz="1800" spc="1" strike="noStrike">
              <a:ln w="648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648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1873-1943)</a:t>
            </a:r>
            <a:endParaRPr b="1" i="1" lang="en-US" sz="1800" spc="1" strike="noStrike">
              <a:ln w="648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24360" y="26370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2924280"/>
            <a:ext cx="467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343a1"/>
                </a:solidFill>
                <a:latin typeface="Bookman Old Style"/>
              </a:rPr>
              <a:t>«Я - русский композитор, и моя родина наложила отпечаток на мой характер и мои взгляды. Моя музыка - это плод моего характера, и потому это русская музыка… Единственное, что я стараюсь делать, когда я сочиняю, -это заставить её прямо и просто выражать то, что у меня на сердце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400"/>
                            </p:stCondLst>
                            <p:childTnLst>
                              <p:par>
                                <p:cTn id="2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83528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255cf7"/>
                    </a:gs>
                    <a:gs pos="50000">
                      <a:srgbClr val="00ff00"/>
                    </a:gs>
                    <a:gs pos="100000">
                      <a:srgbClr val="255cf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Bookman Old Style"/>
              </a:rPr>
              <a:t>Детство и юность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255cf7"/>
                  </a:gs>
                  <a:gs pos="50000">
                    <a:srgbClr val="00ff00"/>
                  </a:gs>
                  <a:gs pos="100000">
                    <a:srgbClr val="255cf7"/>
                  </a:gs>
                </a:gsLst>
                <a:lin ang="5400000"/>
              </a:gra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2885760" cy="389556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780000" y="1484280"/>
            <a:ext cx="496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343a1"/>
                </a:solidFill>
                <a:uFillTx/>
                <a:latin typeface="Bookman Old Style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343a1"/>
                </a:solidFill>
                <a:latin typeface="Bookman Old Style"/>
              </a:rPr>
              <a:t>История рода Рахманинова уходит корнями к внуку молдавского царя Стефана Великого Василию, прозванного Рахманиным. Сергей Рахманинов родился в Старорусском уезде Новгородской губернии 20 марта 1873 г. в дворянской семье с давними музыкальными традициями (его дед Аркадий Александрович Рахманинов (1808 </a:t>
            </a:r>
            <a:r>
              <a:rPr b="1" i="1" lang="ru-RU" sz="20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2000" spc="-1" strike="noStrike">
                <a:solidFill>
                  <a:srgbClr val="0343a1"/>
                </a:solidFill>
                <a:latin typeface="Bookman Old Style"/>
              </a:rPr>
              <a:t> 1881), был</a:t>
            </a:r>
            <a:r>
              <a:rPr b="1" i="1" lang="en-US" sz="20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2000" spc="-1" strike="noStrike">
                <a:solidFill>
                  <a:srgbClr val="0343a1"/>
                </a:solidFill>
                <a:latin typeface="Bookman Old Style"/>
              </a:rPr>
              <a:t>известен как автор салонных романс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200"/>
                            </p:stCondLst>
                            <p:childTnLst>
                              <p:par>
                                <p:cTn id="5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47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343a1"/>
                </a:solidFill>
                <a:uFillTx/>
                <a:latin typeface="Bookman Old Style"/>
              </a:rPr>
              <a:t>Обу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осле переезда семьи в Петербург мальчика отдали учиться в консерваторию. Но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особого интереса к учебе он не проявлял. Начал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систематически учиться музыке в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ятилетнем возрасте. В 1885 переехал в Москву и стал студентом Московской консерватории, где занимался вначале у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ианиста-педагога Н.С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Зверева (чьим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учеником был также Скрябин), а с 1888 </a:t>
            </a:r>
            <a:r>
              <a:rPr b="1" i="1" lang="ru-RU" sz="18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 у А.И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Зилоти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(фортепиано), А.С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Аренского               (композиция, инструментовка, гармония),              С.И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Танеева (контрапункт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строгого                         письма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5618160" cy="26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659640" y="2492280"/>
            <a:ext cx="2058840" cy="32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80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2800"/>
                            </p:stCondLst>
                            <p:childTnLst>
                              <p:par>
                                <p:cTn id="97" nodeType="afterEffect" fill="hold" presetClass="exit" presetID="37">
                                  <p:stCondLst>
                                    <p:cond delay="7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800"/>
                            </p:stCondLst>
                            <p:childTnLst>
                              <p:par>
                                <p:cTn id="104" nodeType="afterEffect" fill="hold" presetClass="exit" presetID="37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800"/>
                            </p:stCondLst>
                            <p:childTnLst>
                              <p:par>
                                <p:cTn id="111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59328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Николай Сергеевич Зверев был выдающимся музыкальным учителем и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воспитателем, о чем свидетельствует быстрый рост его нового ученика. Огромное значение для юного музыканта имела художественная и интеллектуальная атмосфера дома Зверева. Рахманинов посещает концерты замечательных пианистов А.Н. Есипова, А.И. Зилоти, А.Г. Рубинштейна и др., знакомится с С.И. Танеевым, В.И. Сафоновым, П.И. Чайковским, дружбой и поддержкой которого Рахманинов очень дорожил. Именно в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годы пребывания у Зверева Рахманинов усвоил то умение трудиться, которое помогло впоследствии вести на редкость интенсивную и разностороннюю работу композитора, пианиста и дирижер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Среди произведений, написанных в годы учебы,</a:t>
            </a:r>
            <a:r>
              <a:rPr b="1" i="1" lang="ru-RU" sz="18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Концерт № 1 для фортепиано с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оркестром (1891, 2-я редакция, 1917), юношеская симфония (1891), симфоническая поэма «Князь Ростислав» (по А.К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Толстому, 1991). В 1891 Рахманинов окончил консерваторию с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большой золотой медалью как пианист, а в 1892 </a:t>
            </a:r>
            <a:r>
              <a:rPr b="1" i="1" lang="ru-RU" sz="18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 как композитор. Дипломной работой Рахманинова стала одноактная опера «Алеко» по поэме А.С. Пушкина «Цыганы» (1892,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оставлена в Большом театре в 189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2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8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38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704000" cy="59054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042920" y="26028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3a1"/>
                </a:solidFill>
                <a:latin typeface="Bookman Old Style"/>
              </a:rPr>
              <a:t>Зверев Н.С. с уче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8220240" cy="5686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1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3a1"/>
                </a:solidFill>
                <a:latin typeface="Bookman Old Style"/>
              </a:rPr>
              <a:t>Диплом об окончании Московской консерв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xit" presetID="37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xit" presetID="37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36480"/>
            <a:ext cx="9144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343a1"/>
                </a:solidFill>
                <a:uFillTx/>
                <a:latin typeface="Bookman Old Style"/>
              </a:rPr>
              <a:t>Первые творческие успе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Громадные успехи С.В. Рахманинова и по классу фортепиано, и по специальной теории с каждым годом все ярче выделяли его среди учеников консервато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В конце 1889 года Рахманинов уходит от Н.С. Зверева и находит пристанище в семье Сатиных </a:t>
            </a:r>
            <a:r>
              <a:rPr b="1" i="1" lang="ru-RU" sz="16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 Александра Александровича и Варвары Аркадьевны. Перейдя весной на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следующий курс консерватории, Сергей Васильевич проводит лето с Сатиными в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их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имении Ивановка Тамбовской губернии, которое стало его любимым местом отдыха и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его лучшей творческой лабораторией на вс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343a1"/>
                </a:solidFill>
                <a:uFillTx/>
                <a:latin typeface="Bookman Old Style"/>
              </a:rPr>
              <a:t>Самостоятельная 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С 1890-х годов начинается самостоятельна жизнь С.В. Рахманинова. Он зарабатывает себе на жизнь уроками фортепиано и теорией музы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Еще в годы учения в Московской консерватории выступления Рахманинова проходили с большим успехом. 30 января 1892 года, он дает свой первый самостоятельный концерт, в котором выступает не только как пианист, но и как автор ряда произведений. Сезон 1982 </a:t>
            </a:r>
            <a:r>
              <a:rPr b="1" i="1" lang="ru-RU" sz="16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 93 гг. стал началом артистического пути «свободного художника» Рахманинова. Он выступает в концертах в Москве, Харькове и других городах. Смерть П.И. Чайковского 25 октября 1893 года была большим ударом для Рахманинова. Под влиянием тяжелой утраты он написал Элегическое трио, посвятив его памяти Чайков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2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9:37:16Z</dcterms:created>
  <dc:creator>Zver</dc:creator>
  <dc:description/>
  <dc:language>en-US</dc:language>
  <cp:lastModifiedBy>Zver</cp:lastModifiedBy>
  <dcterms:modified xsi:type="dcterms:W3CDTF">2007-12-23T18:44:12Z</dcterms:modified>
  <cp:revision>6</cp:revision>
  <dc:subject/>
  <dc:title>Сергей Васильевич Рахманинов</dc:title>
</cp:coreProperties>
</file>