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88B-EB11-40E0-AB35-6843BD27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885-67A6-41FC-B7BC-9AC4F3C5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A0D-5B6D-4D45-BB92-738738C9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838-D68C-4C1D-AAF7-760DB856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863-1B61-4D8A-96E7-78DB8E1A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1D80-B61F-4154-B1A3-749AE37B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2B8E-C91F-4180-8DA7-6B53DD25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CE18-25D3-47D0-A49B-0211F2A6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59A8-117A-4F76-81CC-E32D911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8F5B-0FFF-4436-80EB-71672C9E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55A-F45E-40CC-91B1-E24E896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37E-678C-4FD9-A160-12C1C7AD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8A26-FAB2-483A-A08E-C9AE146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C333-D6E1-48B3-B0E1-9A73D5D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585-D081-4452-A229-31239D9C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E883-2CD5-45FE-B233-5D9796B7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8E41-97AC-4490-AE45-2D7C5D5A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A58-E236-4DE5-A225-1CE8EC4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D8A-F044-4A40-9604-309F619E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681-1C20-42EE-ABCB-C295FDB1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4D4-309D-4181-BD45-166E26BE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902-DC97-4D30-913D-E47B1D3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38C-A746-4BBB-9A99-98FAD7E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C86-22FA-4386-A3BE-2D6049B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AF59-C230-48F8-98F9-2D20DE7DEE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4C9E-7CEE-4BF9-B89A-64B75FE256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21076200">
            <a:off x="468000" y="259920"/>
            <a:ext cx="7345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64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ргей Васильевич Рахманинов</a:t>
            </a:r>
            <a:endParaRPr b="1" i="1" lang="en-US" sz="1800" spc="1" strike="noStrike">
              <a:ln w="64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64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1873-1943)</a:t>
            </a:r>
            <a:endParaRPr b="1" i="1" lang="en-US" sz="1800" spc="1" strike="noStrike">
              <a:ln w="64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924280"/>
            <a:ext cx="467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343a1"/>
                </a:solidFill>
                <a:latin typeface="Bookman Old Style"/>
              </a:rPr>
              <a:t>«Я - русский композитор, и моя родина наложила отпечаток на мой характер и мои взгляды. Моя музыка - это плод моего характера, и потому это русская музыка… Единственное, что я стараюсь делать, когда я сочиняю, -это заставить её прямо и просто выражать то, что у меня на сердц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40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83528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255cf7"/>
                    </a:gs>
                    <a:gs pos="50000">
                      <a:srgbClr val="00ff00"/>
                    </a:gs>
                    <a:gs pos="100000">
                      <a:srgbClr val="255cf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Bookman Old Style"/>
              </a:rPr>
              <a:t>Детство и юность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255cf7"/>
                  </a:gs>
                  <a:gs pos="50000">
                    <a:srgbClr val="00ff00"/>
                  </a:gs>
                  <a:gs pos="100000">
                    <a:srgbClr val="255cf7"/>
                  </a:gs>
                </a:gsLst>
                <a:lin ang="5400000"/>
              </a:gra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85760" cy="389556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80000" y="1484280"/>
            <a:ext cx="496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343a1"/>
                </a:solidFill>
                <a:uFillTx/>
                <a:latin typeface="Bookman Old Style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История рода Рахманинова уходит корнями к внуку молдавского царя Стефана Великого Василию, прозванного Рахманиным. Сергей Рахманинов родился в Старорусском уезде Новгородской губернии 20 марта 1873 г. в дворянской семье с давними музыкальными традициями (его дед Аркадий Александрович Рахманинов (1808 </a:t>
            </a:r>
            <a:r>
              <a:rPr b="1" i="1" lang="ru-RU" sz="20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 1881), был</a:t>
            </a: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известен как автор салонных романс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200"/>
                            </p:stCondLst>
                            <p:childTnLst>
                              <p:par>
                                <p:cTn id="5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7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343a1"/>
                </a:solidFill>
                <a:uFillTx/>
                <a:latin typeface="Bookman Old Style"/>
              </a:rPr>
              <a:t>Обу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осле переезда семьи в Петербург мальчика отдали учиться в консерваторию. Но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особого интереса к учебе он не проявлял. Начал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истематически учиться музыке в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ятилетнем возрасте. В 1885 переехал в Москву и стал студентом Московской консерватории, где занимался вначале у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ианиста-педагога Н.С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Зверева (чьим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учеником был также Скрябин), а с 1888 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 у А.И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Зилоти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(фортепиано), А.С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Аренского               (композиция, инструментовка, гармония),              С.И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Танеева (контрапункт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трогого                         письм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561816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05884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8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800"/>
                            </p:stCondLst>
                            <p:childTnLst>
                              <p:par>
                                <p:cTn id="97" nodeType="afterEffect" fill="hold" presetClass="exit" presetID="37">
                                  <p:stCondLst>
                                    <p:cond delay="7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8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800"/>
                            </p:stCondLst>
                            <p:childTnLst>
                              <p:par>
                                <p:cTn id="11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59328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Николай Сергеевич Зверев был выдающимся музыкальным учителем и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воспитателем, о чем свидетельствует быстрый рост его нового ученика. Огромное значение для юного музыканта имела художественная и интеллектуальная атмосфера дома Зверева. Рахманинов посещает концерты замечательных пианистов А.Н. Есипова, А.И. Зилоти, А.Г. Рубинштейна и др., знакомится с С.И. Танеевым, В.И. Сафоновым, П.И. Чайковским, дружбой и поддержкой которого Рахманинов очень дорожил. Именно в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годы пребывания у Зверева Рахманинов усвоил то умение трудиться, которое помогло впоследствии вести на редкость интенсивную и разностороннюю работу композитора, пианиста и дириже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реди произведений, написанных в годы учебы,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Концерт № 1 для фортепиано с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оркестром (1891, 2-я редакция, 1917), юношеская симфония (1891), симфоническая поэма «Князь Ростислав» (по А.К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Толстому, 1991). В 1891 Рахманинов окончил консерваторию с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большой золотой медалью как пианист, а в 1892 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 как композитор. Дипломной работой Рахманинова стала одноактная опера «Алеко» по поэме А.С. Пушкина «Цыганы» (1892,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оставлена в Большом театре в 189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2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8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8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04000" cy="59054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04292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Зверев Н.С.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8220240" cy="5686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Диплом об окончании Московской консерв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36480"/>
            <a:ext cx="9144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343a1"/>
                </a:solidFill>
                <a:uFillTx/>
                <a:latin typeface="Bookman Old Style"/>
              </a:rPr>
              <a:t>Первые творческие усп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Громадные успехи С.В. Рахманинова и по классу фортепиано, и по специальной теории с каждым годом все ярче выделяли его среди учеников консерва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В конце 1889 года Рахманинов уходит от Н.С. Зверева и находит пристанище в семье Сатиных </a:t>
            </a:r>
            <a:r>
              <a:rPr b="1" i="1" lang="ru-RU" sz="16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 Александра Александровича и Варвары Аркадьевны. Перейдя весной на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следующий курс консерватории, Сергей Васильевич проводит лето с Сатиными в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их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имении Ивановка Тамбовской губернии, которое стало его любимым местом отдыха и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его лучшей творческой лабораторией на вс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343a1"/>
                </a:solidFill>
                <a:uFillTx/>
                <a:latin typeface="Bookman Old Style"/>
              </a:rPr>
              <a:t>Самостоятельная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С 1890-х годов начинается самостоятельна жизнь С.В. Рахманинова. Он зарабатывает себе на жизнь уроками фортепиано и теорией музы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Еще в годы учения в Московской консерватории выступления Рахманинова проходили с большим успехом. 30 января 1892 года, он дает свой первый самостоятельный концерт, в котором выступает не только как пианист, но и как автор ряда произведений. Сезон 1982 </a:t>
            </a:r>
            <a:r>
              <a:rPr b="1" i="1" lang="ru-RU" sz="16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 93 гг. стал началом артистического пути «свободного художника» Рахманинова. Он выступает в концертах в Москве, Харькове и других городах. Смерть П.И. Чайковского 25 октября 1893 года была большим ударом для Рахманинова. Под влиянием тяжелой утраты он написал Элегическое трио, посвятив его памяти Чайко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2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9:37:16Z</dcterms:created>
  <dc:creator>Zver</dc:creator>
  <dc:description/>
  <dc:language>en-US</dc:language>
  <cp:lastModifiedBy>Zver</cp:lastModifiedBy>
  <dcterms:modified xsi:type="dcterms:W3CDTF">2007-12-23T18:44:12Z</dcterms:modified>
  <cp:revision>6</cp:revision>
  <dc:subject/>
  <dc:title>Сергей Васильевич Рахманинов</dc:title>
</cp:coreProperties>
</file>