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9265A-6F3A-4D3E-AB53-6A55EF6D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4B92-A3CB-413B-B9A4-59D26BDF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81AA1-5A03-4AA6-9538-E129AA1EE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A3336-E7E8-4728-8A31-4CCCFC054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0DB18-95C4-41EE-BD1E-E43FDBDAC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A64C8-87B7-4B38-A7FE-637F32433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F3816-3940-4DAA-A3EA-88E59B998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DB142-843F-46A5-A44A-703D320F7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7B6C-005B-4480-A489-DC4D7F2D2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B7814-B171-49D7-9BC0-2D2E10DDB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12B7-D179-4D91-A5EC-98383826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5B5F-B43A-4D37-89AA-F2782C61B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1C0D-885B-4B03-A39B-54851553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302DE-E718-431C-B93E-57205A45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0FF5F-303E-49C8-AD14-6FC555440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92380-7976-4C1C-A2CC-0731FB65D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8D4B6-0F15-478E-B376-6C852CFE2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9AE20-22F9-4FE5-939D-4FD0E76351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79283-6295-4D05-B328-9E5904F43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CE146-13E1-40CD-8EB0-39D22B0E0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A0112-BEDC-471D-B507-ED62CB01D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A91DC-D8CB-48CE-92BB-AA1DFE424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90AE-0FAA-43EB-9027-9A0F37D26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60638-5CB7-4571-B2A5-D435A4CCA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5812F-08FE-4843-A033-DFEB60605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F6438-C6F5-4948-9F16-AD3759AE3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3B9E9-B4E8-41B7-9F94-87E7C5FE4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E1F0B-EA19-46CF-8F5B-177F0221C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EAA36-BE3E-4065-8C49-A204047A97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5374D9-9ACE-4267-A015-27BC29E84B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FC6C0-50BE-4AB8-B5FE-2F4CAF3E17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027C9-1644-44D4-AF72-45C4C180F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8D1DA-005F-4780-A88D-806945B04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BC35-584B-493F-BE9D-3D037601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CFDC7-2B02-4FC2-A765-6B7AEE6C2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3DE277-BE3F-41D5-A00C-330DC1677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A55EF-8F23-4529-A1DF-7EE8F6A24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C8F79-E778-4BD4-A092-F1DD3AD72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8EAB3-3BCD-440F-B169-EA9C55AC5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9730F-D36F-4503-B960-D2E07CAD2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06FF4-195F-45EB-8F3A-14F984F47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BB8606-617D-4725-B301-CA42EA733D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53E4EE-EF45-41AD-ADC3-90B0817CEC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EEDE4A-3906-4DF3-A587-74B3E5919D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8FB5-7805-4CC4-9B3A-7CC9C8EB3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A9CD34-AF71-445D-BEBB-6DBE475F6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F1CD0-8032-4D37-B70C-D500CCC8B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0C73E-606E-4963-B9EC-4C0824E3A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80841C-0881-4542-9236-59A2390284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4B800-813A-4952-8A39-36B2610B0A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DA317-4275-4DE4-B40B-2866F0287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B6990-7BE0-4496-9689-9393A4885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3133E-9C3C-4581-BF3F-33A95016C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627DEB-7DC6-46B1-B871-1F680B98F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CB036-C502-44EE-B52C-0D4D3F1488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6DF25-3D57-4105-9525-419FFA67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0FAFC9-EDC1-4FE5-88F0-1AF55E0B98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A0525B-2EFF-43DE-AE3A-D382A93FCA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5DFCF-4FFC-47C8-86BC-430399476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3C131-FFC7-4984-89A8-002A30A206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68D2F-BC06-46D9-9840-C50AFDBA4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3E7B5D-82FA-46A0-B0D0-2902CFBC4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037926-A905-49D1-BA8B-667AF11F9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B99EDD-CA21-46CA-9697-7D5CBD82F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F43B5-099B-44BB-AC10-FD60B1067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8442F-322B-4131-ABB4-386189094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9960-8AC9-4E63-8DDA-44178D3D5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60BC5-FEF7-45C1-A47E-363532A8A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ECC77-FC7E-4754-A07D-40C0EF80D0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E1618A-0A07-4F1B-B571-52725A0F91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E488-FFC2-4745-BE76-30CA7169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509A-B0F4-4BA1-9E45-DCB6FB538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614D-670B-49E8-A26C-685A48FB5BE5}"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3"/>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Прямая соединительная линия 20" descr=""/>
            <p:cNvPicPr/>
            <p:nvPr/>
          </p:nvPicPr>
          <p:blipFill>
            <a:blip r:embed="rId4"/>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lt;date/time&gt;</a:t>
            </a:r>
            <a:endParaRPr b="0" lang="en-US" sz="1000" spc="-1" strike="noStrike">
              <a:solidFill>
                <a:srgbClr val="000000"/>
              </a:solidFill>
              <a:latin typeface="Calibri"/>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8387-80EA-433B-BC85-32B800B12471}" type="slidenum">
              <a:rPr b="0" lang="ru-RU"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F86B-8ABD-4934-927E-FD6F85B8DBF9}"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661B-B776-4DF3-AF64-8DEF997C8122}"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92ED-4E2E-49C1-961C-48DBBA40DD06}"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9" name="Прямоугольный треугольник 16"/>
          <p:cNvGrpSpPr/>
          <p:nvPr/>
        </p:nvGrpSpPr>
        <p:grpSpPr>
          <a:xfrm>
            <a:off x="-12600" y="5784840"/>
            <a:ext cx="3414600" cy="1092240"/>
            <a:chOff x="-12600" y="5784840"/>
            <a:chExt cx="3414600" cy="1092240"/>
          </a:xfrm>
        </p:grpSpPr>
        <p:pic>
          <p:nvPicPr>
            <p:cNvPr id="230"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2"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23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9012-B942-4E20-8F0B-6E46AEAC8725}"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
          <p:cNvPicPr/>
          <p:nvPr/>
        </p:nvPicPr>
        <p:blipFill>
          <a:blip r:embed="rId1"/>
          <a:stretch/>
        </p:blipFill>
        <p:spPr>
          <a:xfrm>
            <a:off x="2187720" y="1481040"/>
            <a:ext cx="4768560" cy="4525920"/>
          </a:xfrm>
          <a:prstGeom prst="rect">
            <a:avLst/>
          </a:prstGeom>
          <a:ln w="0">
            <a:noFill/>
          </a:ln>
        </p:spPr>
      </p:pic>
      <p:pic>
        <p:nvPicPr>
          <p:cNvPr id="277" name="Заголовок 3" descr=""/>
          <p:cNvPicPr/>
          <p:nvPr/>
        </p:nvPicPr>
        <p:blipFill>
          <a:blip r:embed="rId2"/>
          <a:stretch/>
        </p:blipFill>
        <p:spPr>
          <a:xfrm>
            <a:off x="450720" y="268200"/>
            <a:ext cx="8242560" cy="1158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0" dur="1000" fill="hold"/>
                                        <p:tgtEl>
                                          <p:spTgt spid="27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
        <p:nvSpPr>
          <p:cNvPr id="298" name="Прямоугольник 3"/>
          <p:cNvSpPr/>
          <p:nvPr/>
        </p:nvSpPr>
        <p:spPr>
          <a:xfrm>
            <a:off x="611280" y="1484280"/>
            <a:ext cx="624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любителей, пионербол — распространённое развлечение и способ отдыха благодаря простоте правил и доступности инвентаря.</a:t>
            </a:r>
            <a:endParaRPr b="0" lang="en-US" sz="2000" spc="-1" strike="noStrike">
              <a:solidFill>
                <a:srgbClr val="000000"/>
              </a:solidFill>
              <a:latin typeface="Calibri"/>
            </a:endParaRPr>
          </a:p>
        </p:txBody>
      </p:sp>
      <p:pic>
        <p:nvPicPr>
          <p:cNvPr id="299" name="Picture 1" descr=""/>
          <p:cNvPicPr/>
          <p:nvPr/>
        </p:nvPicPr>
        <p:blipFill>
          <a:blip r:embed="rId1"/>
          <a:stretch/>
        </p:blipFill>
        <p:spPr>
          <a:xfrm>
            <a:off x="3924360" y="2852640"/>
            <a:ext cx="4762440" cy="338796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2565000"/>
            <a:ext cx="4914720" cy="35146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процессе игры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либо игрок защищающейся команды допустил ошибку.</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279" name="Заголовок 1" descr=""/>
          <p:cNvPicPr/>
          <p:nvPr/>
        </p:nvPicPr>
        <p:blipFill>
          <a:blip r:embed="rId1"/>
          <a:stretch/>
        </p:blipFill>
        <p:spPr>
          <a:xfrm>
            <a:off x="219240" y="450720"/>
            <a:ext cx="8991360" cy="1543320"/>
          </a:xfrm>
          <a:prstGeom prst="rect">
            <a:avLst/>
          </a:prstGeom>
          <a:ln w="0">
            <a:noFill/>
          </a:ln>
        </p:spPr>
      </p:pic>
      <p:pic>
        <p:nvPicPr>
          <p:cNvPr id="280" name="Рисунок 5" descr=""/>
          <p:cNvPicPr/>
          <p:nvPr/>
        </p:nvPicPr>
        <p:blipFill>
          <a:blip r:embed="rId2"/>
          <a:stretch/>
        </p:blipFill>
        <p:spPr>
          <a:xfrm>
            <a:off x="5292720" y="2565360"/>
            <a:ext cx="3672000" cy="3456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0" y="691920"/>
            <a:ext cx="8964720" cy="5314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гра ведётся с волейбольным мячом на волейбольной площадке. В каждой команде — от 3 до 8 человек. Площадка по количеству игроков условно разделена на 6 зон. Одна из команд по жребию начинает игру с подачи. При этом правый игрок задней линии из-за дальней (лицевой) черты площадки броском одной руки подает мяч на сторону противника. Подача считается правильной, если мяч перелетит над сеткой и опустится в пределах площадки команды противника. Принимающая команда старается поймать мяч и перебросить его на противоположную сторону, сделав не более трёх шагов на своей половине площадки. Один из игроков первой команды также должен поймать мяч и, сделав не более трёх шагов, перебросить его на половину поля команды соперника. Если в результате таких перебрасываний мяча, он опустится в пределах площадки одной из двух команд, то команда получает 1 очко. Игроки команды, выигравшей подачу, делают переход, они перемещаются на своей стороне площадки на одно место по часовой стрелке. Так в команде меняется подающий игрок. Играют до тех пор, пока одна из команд не наберет 15 очков. Но при этом проигрывающая команда должна иметь как минимум на 2 очка меньше. В противном случае игра продолжается до тех пор, пока разница не будет составлять 2 очка.  После 15 очков команды меняются сторонами поля, и разыгрывается вторая партия. Если результат двух партий 1-1, назначается третья партия. </a:t>
            </a:r>
            <a:endParaRPr b="0" lang="en-US" sz="1800" spc="-1" strike="noStrike">
              <a:solidFill>
                <a:srgbClr val="000000"/>
              </a:solidFill>
              <a:latin typeface="Lucida Sans Unicode"/>
            </a:endParaRPr>
          </a:p>
        </p:txBody>
      </p:sp>
      <p:pic>
        <p:nvPicPr>
          <p:cNvPr id="282" name="Заголовок 2" descr=""/>
          <p:cNvPicPr/>
          <p:nvPr/>
        </p:nvPicPr>
        <p:blipFill>
          <a:blip r:embed="rId1"/>
          <a:stretch/>
        </p:blipFill>
        <p:spPr>
          <a:xfrm>
            <a:off x="450720" y="-19080"/>
            <a:ext cx="8242560" cy="86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0720" y="262080"/>
            <a:ext cx="8242560" cy="871560"/>
          </a:xfrm>
          <a:prstGeom prst="rect">
            <a:avLst/>
          </a:prstGeom>
          <a:ln w="0">
            <a:noFill/>
          </a:ln>
        </p:spPr>
      </p:pic>
      <p:pic>
        <p:nvPicPr>
          <p:cNvPr id="284" name="Содержимое 4" descr=""/>
          <p:cNvPicPr/>
          <p:nvPr/>
        </p:nvPicPr>
        <p:blipFill>
          <a:blip r:embed="rId2"/>
          <a:stretch/>
        </p:blipFill>
        <p:spPr>
          <a:xfrm>
            <a:off x="2627280" y="1052640"/>
            <a:ext cx="3673440" cy="5256000"/>
          </a:xfrm>
          <a:prstGeom prst="rect">
            <a:avLst/>
          </a:prstGeom>
          <a:ln w="0">
            <a:noFill/>
          </a:ln>
        </p:spPr>
      </p:pic>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Заголовок 1" descr=""/>
          <p:cNvPicPr/>
          <p:nvPr/>
        </p:nvPicPr>
        <p:blipFill>
          <a:blip r:embed="rId1"/>
          <a:stretch/>
        </p:blipFill>
        <p:spPr>
          <a:xfrm>
            <a:off x="450720" y="268200"/>
            <a:ext cx="8242560" cy="1158840"/>
          </a:xfrm>
          <a:prstGeom prst="rect">
            <a:avLst/>
          </a:prstGeom>
          <a:ln w="0">
            <a:noFill/>
          </a:ln>
        </p:spPr>
      </p:pic>
      <p:sp>
        <p:nvSpPr>
          <p:cNvPr id="286" name=""/>
          <p:cNvSpPr txBox="1"/>
          <p:nvPr/>
        </p:nvSpPr>
        <p:spPr>
          <a:xfrm>
            <a:off x="457200" y="1196640"/>
            <a:ext cx="8229600" cy="4809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считается проигранным принимающей командой,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 подающая команда теряет подачу, если:</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манда коснулась мяча более трех раз;</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коснулся тела игрока ниже пояс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мячу два раза подряд;</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сетке;</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Заступ на задней (лицевой) линии при подаче мяч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ерешел через среднюю линию;</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над сеткой, но </a:t>
            </a:r>
            <a:r>
              <a:rPr b="0" lang="ru-RU" sz="2000" spc="-1" strike="noStrike">
                <a:solidFill>
                  <a:srgbClr val="000000"/>
                </a:solidFill>
                <a:latin typeface="Times New Roman"/>
                <a:ea typeface="Times New Roman"/>
              </a:rPr>
              <a:t>приземлился за линиями, ограничивающими площадку;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под сеткой или коснулся предметов, находящихся вне пределов площадки.</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яч, приземлившийся на черту, считается правильным (ограничительная черта считается площадкой).</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287" name="Рисунок 4" descr=""/>
          <p:cNvPicPr/>
          <p:nvPr/>
        </p:nvPicPr>
        <p:blipFill>
          <a:blip r:embed="rId2"/>
          <a:stretch/>
        </p:blipFill>
        <p:spPr>
          <a:xfrm>
            <a:off x="6588000" y="5084640"/>
            <a:ext cx="1905120" cy="1428840"/>
          </a:xfrm>
          <a:prstGeom prst="rect">
            <a:avLst/>
          </a:prstGeom>
          <a:ln w="0">
            <a:noFill/>
          </a:ln>
        </p:spPr>
      </p:pic>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49068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лейбольный мяч состоит из шести шестиугольных деталей кожи (естественной или искусственной), натянутой вокруг каркаса. Каждая деталь состоит из трёх секций или рядов. Мяч может быть разноцветный или полностью белый. Длина окружности мяча 65—67 см; вес – 260 - 280 </a:t>
            </a:r>
            <a:r>
              <a:rPr b="0" lang="ru-RU" sz="2000" spc="-1" strike="noStrike">
                <a:solidFill>
                  <a:srgbClr val="000000"/>
                </a:solidFill>
                <a:latin typeface="Times New Roman"/>
                <a:ea typeface="Times New Roman"/>
              </a:rPr>
              <a:t>гр</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289" name="Заголовок 2" descr=""/>
          <p:cNvPicPr/>
          <p:nvPr/>
        </p:nvPicPr>
        <p:blipFill>
          <a:blip r:embed="rId1"/>
          <a:stretch/>
        </p:blipFill>
        <p:spPr>
          <a:xfrm>
            <a:off x="450720" y="268200"/>
            <a:ext cx="8242560" cy="1158840"/>
          </a:xfrm>
          <a:prstGeom prst="rect">
            <a:avLst/>
          </a:prstGeom>
          <a:ln w="0">
            <a:noFill/>
          </a:ln>
        </p:spPr>
      </p:pic>
      <p:pic>
        <p:nvPicPr>
          <p:cNvPr id="290" name="Рисунок 3" descr=""/>
          <p:cNvPicPr/>
          <p:nvPr/>
        </p:nvPicPr>
        <p:blipFill>
          <a:blip r:embed="rId2"/>
          <a:stretch/>
        </p:blipFill>
        <p:spPr>
          <a:xfrm>
            <a:off x="5219640" y="2637000"/>
            <a:ext cx="3429000" cy="342900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450720" y="237960"/>
            <a:ext cx="8242560" cy="1189080"/>
          </a:xfrm>
          <a:prstGeom prst="rect">
            <a:avLst/>
          </a:prstGeom>
          <a:ln w="0">
            <a:noFill/>
          </a:ln>
        </p:spPr>
      </p:pic>
      <p:pic>
        <p:nvPicPr>
          <p:cNvPr id="292" name="Picture 4" descr="C:\Users\Lenovo\Desktop\ШКОЛА\пионербол\80021339.jpg"/>
          <p:cNvPicPr/>
          <p:nvPr/>
        </p:nvPicPr>
        <p:blipFill>
          <a:blip r:embed="rId2"/>
          <a:stretch/>
        </p:blipFill>
        <p:spPr>
          <a:xfrm>
            <a:off x="1042920" y="1481040"/>
            <a:ext cx="7129440" cy="44690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4" name="Picture 2" descr=""/>
          <p:cNvPicPr/>
          <p:nvPr/>
        </p:nvPicPr>
        <p:blipFill>
          <a:blip r:embed="rId1"/>
          <a:stretch/>
        </p:blipFill>
        <p:spPr>
          <a:xfrm>
            <a:off x="1476360" y="1268280"/>
            <a:ext cx="6191280" cy="426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6" name="Picture 4" descr="C:\Users\Lenovo\Desktop\ШКОЛА\пионербол\77e6735796d3891c3148d0f528eb4bc2.gif"/>
          <p:cNvPicPr/>
          <p:nvPr/>
        </p:nvPicPr>
        <p:blipFill>
          <a:blip r:embed="rId1"/>
          <a:stretch/>
        </p:blipFill>
        <p:spPr>
          <a:xfrm>
            <a:off x="1258920" y="981000"/>
            <a:ext cx="7058160" cy="502596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04:07:01Z</dcterms:created>
  <dc:creator>НВ</dc:creator>
  <dc:description/>
  <dc:language>en-US</dc:language>
  <cp:lastModifiedBy>Lenovo</cp:lastModifiedBy>
  <dcterms:modified xsi:type="dcterms:W3CDTF">2013-12-05T09:49:50Z</dcterms:modified>
  <cp:revision>10</cp:revision>
  <dc:subject/>
  <dc:title>Презентация PowerPoint</dc:title>
</cp:coreProperties>
</file>