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2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6CE-C179-4206-B733-4CE78451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3AC2-26C3-40F5-A938-21F0AC26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F247-C2A9-4600-9E6A-2B10D9D2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66DE-2171-4974-A63A-A80F93F9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20C0-BEF0-4749-9C5F-A24EC989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7079-36B1-4C0D-AF44-12CD0F17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997-5A17-4B22-A12D-1D330B9A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6C26-BAA8-4E1C-AD75-D408EB3A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619-70B4-489D-94C8-EB0AF6DA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4A1-1CB9-4111-A5CF-36F7E44D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B62D-F178-4F61-B573-12F2D031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E997-FB12-4F87-B261-CBF3FBC0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CEB7-2166-4547-A881-1ABB7A671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34076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импиаду надо выигры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1916280"/>
            <a:ext cx="799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й задачей Олимпийского комитета России (ОКР) при подготовке к Олимпийским и Паралимпийским играм 2014 года в Сочи станет не только участие в организации Игр, но и формирование олимпийской сборной, способной победить на домашних Играх в неофициальном командном зач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image001"/>
          <p:cNvPicPr/>
          <p:nvPr/>
        </p:nvPicPr>
        <p:blipFill>
          <a:blip r:embed="rId1"/>
          <a:stretch/>
        </p:blipFill>
        <p:spPr>
          <a:xfrm>
            <a:off x="324000" y="189000"/>
            <a:ext cx="952200" cy="2038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title2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ОД СОЧИ: ИНТЕРЕСНЫЕ ФАК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181440" y="1052280"/>
            <a:ext cx="5256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чи — самый крупный курорт в России. Он простирается на 147 км вдоль берега Черного моря. Официально «Сочи» — название только центральной части курорта, который также включает районы Лазаревское, Хоста и Адл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map-sochi2-full"/>
          <p:cNvPicPr/>
          <p:nvPr/>
        </p:nvPicPr>
        <p:blipFill>
          <a:blip r:embed="rId1"/>
          <a:stretch/>
        </p:blipFill>
        <p:spPr>
          <a:xfrm>
            <a:off x="0" y="3789360"/>
            <a:ext cx="5003640" cy="27352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 rot="10845600">
            <a:off x="204120" y="2965320"/>
            <a:ext cx="894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map-adler-full"/>
          <p:cNvPicPr/>
          <p:nvPr/>
        </p:nvPicPr>
        <p:blipFill>
          <a:blip r:embed="rId2"/>
          <a:stretch/>
        </p:blipFill>
        <p:spPr>
          <a:xfrm>
            <a:off x="5148360" y="4149720"/>
            <a:ext cx="3995640" cy="2336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ap-hosta-full"/>
          <p:cNvPicPr/>
          <p:nvPr/>
        </p:nvPicPr>
        <p:blipFill>
          <a:blip r:embed="rId3"/>
          <a:stretch/>
        </p:blipFill>
        <p:spPr>
          <a:xfrm>
            <a:off x="5148360" y="1484280"/>
            <a:ext cx="39956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ная часть Сочи (Красная Поляна) расположена всего в 40 км от побережья Черного моря. Высота гор Кавказского хребта вокруг Сочи — 2000 метров. Самая высокая гора в Европе — Эльбрус (5642 м). Этот массив Кавказских гор выше, чем Монблан (4810 м)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79408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7920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9152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поддержке Правительства РФ в течение ближайших семи лет в уникальном городе-курорте Сочи будет построена новая транспортная инфраструктура, расширена сеть гостиниц, модернизированы инженерные коммуникации, а также возведен ряд современных спортивных сооружений. Спортсмены из России и стран ближнего зарубежья получат самую современную тренировочную базу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map-sochi-full"/>
          <p:cNvPicPr/>
          <p:nvPr/>
        </p:nvPicPr>
        <p:blipFill>
          <a:blip r:embed="rId1"/>
          <a:stretch/>
        </p:blipFill>
        <p:spPr>
          <a:xfrm>
            <a:off x="1332000" y="2276640"/>
            <a:ext cx="6696000" cy="424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324000" y="692280"/>
            <a:ext cx="8569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ежный покров склонов Красной поляны имеет уникальное качество благодаря местному микроклимату. Горы удерживают умеренные воздушные массы и являются естественной преградой для морского ветра, что обеспечивает идеальное качество снега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 Сочи проживают около 400 000 человек. Сочи входит в состав Краснодарского края, одного из крупнейших в России, население которого составляет 5,1 миллиона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чи — это 200 000 гектаров земли с лесами и домами, а также 30 000 гектаров дендрариев, ботанических садов и охраняемых природных заповедников с уникальной флор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30"/>
          <p:cNvPicPr/>
          <p:nvPr/>
        </p:nvPicPr>
        <p:blipFill>
          <a:blip r:embed="rId1"/>
          <a:stretch/>
        </p:blipFill>
        <p:spPr>
          <a:xfrm>
            <a:off x="2916360" y="1989000"/>
            <a:ext cx="316836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90544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няя резиденция Президента России находится в Сочи, поэтому город неофициально называют «летн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ицей России»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2708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е всемирно известные спортсмены, как Мария Шарапова и Евгений Кафельников, начали свою спортивную карьеру в Сочинской школе теннис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14"/>
          <p:cNvPicPr/>
          <p:nvPr/>
        </p:nvPicPr>
        <p:blipFill>
          <a:blip r:embed="rId1"/>
          <a:stretch/>
        </p:blipFill>
        <p:spPr>
          <a:xfrm>
            <a:off x="395280" y="692280"/>
            <a:ext cx="2521080" cy="129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5"/>
          <p:cNvPicPr/>
          <p:nvPr/>
        </p:nvPicPr>
        <p:blipFill>
          <a:blip r:embed="rId2"/>
          <a:stretch/>
        </p:blipFill>
        <p:spPr>
          <a:xfrm>
            <a:off x="684360" y="4437000"/>
            <a:ext cx="1439640" cy="180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2b0dcff04839"/>
          <p:cNvPicPr/>
          <p:nvPr/>
        </p:nvPicPr>
        <p:blipFill>
          <a:blip r:embed="rId3"/>
          <a:stretch/>
        </p:blipFill>
        <p:spPr>
          <a:xfrm>
            <a:off x="6372360" y="4149720"/>
            <a:ext cx="1728720" cy="244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 flipV="1" rot="10870200">
            <a:off x="5000400" y="5350680"/>
            <a:ext cx="115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рап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 flipV="1" rot="10800000">
            <a:off x="2340000" y="5013000"/>
            <a:ext cx="149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гений Кафе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65628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92360" y="692280"/>
            <a:ext cx="7005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всю историю зимних Олимпийских игр россияне выиграли 293 медали. За последние 25 лет наша страна более 100 раз принимала у себя международные чемпионаты и соревнования. Россияне любят спорт многочисленные победы наших спортсменов внесли огромный вклад в формирование национального самосознания. Вся страна с нетерпением ждет зимних Олимпийских иг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image001"/>
          <p:cNvPicPr/>
          <p:nvPr/>
        </p:nvPicPr>
        <p:blipFill>
          <a:blip r:embed="rId1"/>
          <a:stretch/>
        </p:blipFill>
        <p:spPr>
          <a:xfrm>
            <a:off x="324000" y="189000"/>
            <a:ext cx="952200" cy="2038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332000" y="3213000"/>
            <a:ext cx="888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никальная растительность Черноморского побережья представлена в Хостинской тисосамшитовой роще, являющейся частью Кавказского государственного заповедника. К южным границам Кавказского государственного заповедника примыкает территория Сочинского национального парка. Решение экологических проблем региона должно опираться на общегосударственный комплекс природоохранных мероприятий, включающих проведение налоговой политики, внедрение санкций, ограничений, поощрени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храним нашу Землю для себя и потомк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title2"/>
          <p:cNvPicPr/>
          <p:nvPr/>
        </p:nvPicPr>
        <p:blipFill>
          <a:blip r:embed="rId1"/>
          <a:stretch/>
        </p:blipFill>
        <p:spPr>
          <a:xfrm>
            <a:off x="0" y="5715000"/>
            <a:ext cx="9229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ы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.Сочи – город краевого или районного подчин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очи – город краевого подчинения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 какие районы делится гор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Административно город делится на 4 района: Лазаревский, Центральный, Хостинский и Адлерский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 чем заключается уникальность гор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аличие моря и гор, средиземноморский клима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Какие памятники природы находятся в гор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очинский дендрарий, Хостинская тисосамшитовая роща, Адлерский парк «Южные культуры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мультимедийные презентации по рекомендуемым тем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рода города Со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Красная Поляна - это Сочинский национальный парк и Кавказский биосферный заповед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охранение уникальных и типичных природных комплексов и объектов растительного и животного мира, достопримечательных природных образо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Хостинскоя тисосамшитовая роща – реликтовый л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Сочинский национальный пар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Кавказский биосферный заповед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42472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 Сочи раскину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 подножья Кавказских 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 побережье Че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 располаг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 географической широ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ццы и Торон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имат в Со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тропиче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темпера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ом +26˚С, зимой -3˚С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4572000" y="3500280"/>
            <a:ext cx="4032360" cy="25927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4211640" y="365400"/>
            <a:ext cx="49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последние сто лет в Сочи побывали миллионы гостей, приехавших для того, чтобы своими глазами увидеть живописное морское побережь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ытать на себе целительное действие чистого воздуха и сочинских минеральных 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дведь или мамонтёнок станет символом Олимпиады-2014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2637000"/>
            <a:ext cx="8218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ициативная группа, предложившая мамонтенка в качестве талисмана Олимпиады-2014 в Сочи, отправила его первый предварительный эскиз в заявочный комитет Олимпиады, сообщил в четверг глава муниципалитета "Округ Петровский" города Санкт-Петербурга Дмитрий Ильковский, который возглавляет инициативную группу по продвижению мамонтенк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3"/>
          <p:cNvPicPr/>
          <p:nvPr/>
        </p:nvPicPr>
        <p:blipFill>
          <a:blip r:embed="rId1"/>
          <a:stretch/>
        </p:blipFill>
        <p:spPr>
          <a:xfrm>
            <a:off x="6732720" y="5445000"/>
            <a:ext cx="1619280" cy="1008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31"/>
          <p:cNvPicPr/>
          <p:nvPr/>
        </p:nvPicPr>
        <p:blipFill>
          <a:blip r:embed="rId2"/>
          <a:stretch/>
        </p:blipFill>
        <p:spPr>
          <a:xfrm>
            <a:off x="611280" y="404640"/>
            <a:ext cx="85716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тальянские предприятия готовы поставить в Сочи машины для производства искусственного снега. Об этом сообщил посол Италии в России Витторио Клаудио на встрече с исполняющим обязанности главы Сочи Константином Мищенко. Итальянцы также готовы поделиться с сочинцами своим опытом в проведении Олимпиа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лия готова поставлять в Сочи машины для изготовления снег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e0e09328c6c8"/>
          <p:cNvPicPr/>
          <p:nvPr/>
        </p:nvPicPr>
        <p:blipFill>
          <a:blip r:embed="rId1"/>
          <a:stretch/>
        </p:blipFill>
        <p:spPr>
          <a:xfrm>
            <a:off x="324000" y="3141720"/>
            <a:ext cx="3903480" cy="271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otel"/>
          <p:cNvPicPr/>
          <p:nvPr/>
        </p:nvPicPr>
        <p:blipFill>
          <a:blip r:embed="rId2"/>
          <a:stretch/>
        </p:blipFill>
        <p:spPr>
          <a:xfrm>
            <a:off x="4427640" y="3213000"/>
            <a:ext cx="38894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ин: выбор Сочи столицей Олимпиады-2014 - "признание наших возможностей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Сочи в качестве столицы Олимпиады-2014 был сделан в честной борьбе и стал свидетельством признания курса, проводимого Росси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импийские и Паралимпийские игры 2014 пройдут в Со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дународный Олимпийский комитет выбрал город Сочи столицей XXII Олимпийских и XI Паралимпийских зимних игр 2014 года. Благодаря этому решению Россия сможет провести первые в своей истории зимние Игры. На протяжении двухлетней кампании Заявочный комитет «Сочи-2014» продемонстрировал свою увлеченность и уверенность в победе, создав инновационную концепцию Игр. Мы убедительно продемонстрировали Международному Олимпийскому комитету, что Россия является самым надежным партнером для Олимпийских и Паралимпийских Игр. Жители России испытывают особую любовь к зимнему спорту, высоко ценят Олимпийские идеалы. Мы благодарим всех, кто помог сделать реальностью Олимпийскую мечту Росси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rogge_putin"/>
          <p:cNvPicPr/>
          <p:nvPr/>
        </p:nvPicPr>
        <p:blipFill>
          <a:blip r:embed="rId1"/>
          <a:stretch/>
        </p:blipFill>
        <p:spPr>
          <a:xfrm>
            <a:off x="3635280" y="5229360"/>
            <a:ext cx="19051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ставители Организационного комитета по поддержке выдвижения г. Сочи в качестве города-кандидата на проведение ХХII Зимних Олимпийских Игр и XI Паралимпийских Игр 201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://sochi2014.com/pictures/sch_pictures/empty.gif"/>
          <p:cNvPicPr/>
          <p:nvPr/>
        </p:nvPicPr>
        <p:blipFill>
          <a:blip r:embed="rId1"/>
          <a:stretch/>
        </p:blipFill>
        <p:spPr>
          <a:xfrm>
            <a:off x="69840" y="2876400"/>
            <a:ext cx="9360" cy="38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69840" y="2876400"/>
            <a:ext cx="876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417600" y="28764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2" descr="img_joukov"/>
          <p:cNvPicPr/>
          <p:nvPr/>
        </p:nvPicPr>
        <p:blipFill>
          <a:blip r:embed="rId2"/>
          <a:stretch/>
        </p:blipFill>
        <p:spPr>
          <a:xfrm>
            <a:off x="250920" y="1700280"/>
            <a:ext cx="846000" cy="110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3" descr="img_kudrin"/>
          <p:cNvPicPr/>
          <p:nvPr/>
        </p:nvPicPr>
        <p:blipFill>
          <a:blip r:embed="rId3"/>
          <a:stretch/>
        </p:blipFill>
        <p:spPr>
          <a:xfrm>
            <a:off x="4140360" y="1700280"/>
            <a:ext cx="846000" cy="11048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4"/>
          <p:cNvSpPr/>
          <p:nvPr/>
        </p:nvSpPr>
        <p:spPr>
          <a:xfrm>
            <a:off x="5144040" y="1650960"/>
            <a:ext cx="251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дрин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ексей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меститель председателя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1403280" y="1844640"/>
            <a:ext cx="180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уко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Александр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Председ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9280" y="3068640"/>
          <a:ext cx="3853080" cy="3600360"/>
        </p:xfrm>
        <a:graphic>
          <a:graphicData uri="http://schemas.openxmlformats.org/drawingml/2006/table">
            <a:tbl>
              <a:tblPr/>
              <a:tblGrid>
                <a:gridCol w="3853080"/>
              </a:tblGrid>
              <a:tr h="36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тисов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ячеслав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Федерального агентства по физической культуре и спор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гачев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онид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идент Олимпийского комитета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36" descr="img_fetisov"/>
          <p:cNvPicPr/>
          <p:nvPr/>
        </p:nvPicPr>
        <p:blipFill>
          <a:blip r:embed="rId4"/>
          <a:stretch/>
        </p:blipFill>
        <p:spPr>
          <a:xfrm>
            <a:off x="4140360" y="3284640"/>
            <a:ext cx="846000" cy="1104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7" descr="img_tiagachiov"/>
          <p:cNvPicPr/>
          <p:nvPr/>
        </p:nvPicPr>
        <p:blipFill>
          <a:blip r:embed="rId5"/>
          <a:stretch/>
        </p:blipFill>
        <p:spPr>
          <a:xfrm>
            <a:off x="4140360" y="5013360"/>
            <a:ext cx="846000" cy="110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8" descr="img_tkachev"/>
          <p:cNvPicPr/>
          <p:nvPr/>
        </p:nvPicPr>
        <p:blipFill>
          <a:blip r:embed="rId6"/>
          <a:stretch/>
        </p:blipFill>
        <p:spPr>
          <a:xfrm>
            <a:off x="8101080" y="3284640"/>
            <a:ext cx="846000" cy="1104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2"/>
          <p:cNvSpPr/>
          <p:nvPr/>
        </p:nvSpPr>
        <p:spPr>
          <a:xfrm>
            <a:off x="6372360" y="2985840"/>
            <a:ext cx="151272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каче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ександр</a:t>
            </a:r>
            <a:br>
              <a:rPr sz="1400"/>
            </a:b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бернатор Краснодарского кр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3" descr="img_kolodyajniy"/>
          <p:cNvPicPr/>
          <p:nvPr/>
        </p:nvPicPr>
        <p:blipFill>
          <a:blip r:embed="rId7"/>
          <a:stretch/>
        </p:blipFill>
        <p:spPr>
          <a:xfrm>
            <a:off x="8101080" y="4941720"/>
            <a:ext cx="846000" cy="11052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4"/>
          <p:cNvSpPr/>
          <p:nvPr/>
        </p:nvSpPr>
        <p:spPr>
          <a:xfrm flipV="1" rot="10800000">
            <a:off x="6368760" y="4987440"/>
            <a:ext cx="1374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лодяжны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ктор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а города Со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седатель Оценочной комиссии Международного Олимпийского комитета Чихару Игайа (в центр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172056965_9525101"/>
          <p:cNvPicPr/>
          <p:nvPr/>
        </p:nvPicPr>
        <p:blipFill>
          <a:blip r:embed="rId1"/>
          <a:stretch/>
        </p:blipFill>
        <p:spPr>
          <a:xfrm>
            <a:off x="1332000" y="1628640"/>
            <a:ext cx="649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но-Туристический Центр ОАО "ГАЗПРОМ" Красная Поляна, Соч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image002(4)"/>
          <p:cNvPicPr/>
          <p:nvPr/>
        </p:nvPicPr>
        <p:blipFill>
          <a:blip r:embed="rId1"/>
          <a:stretch/>
        </p:blipFill>
        <p:spPr>
          <a:xfrm>
            <a:off x="1187280" y="2060640"/>
            <a:ext cx="6840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172056901_00246"/>
          <p:cNvPicPr/>
          <p:nvPr/>
        </p:nvPicPr>
        <p:blipFill>
          <a:blip r:embed="rId1"/>
          <a:stretch/>
        </p:blipFill>
        <p:spPr>
          <a:xfrm>
            <a:off x="395280" y="981000"/>
            <a:ext cx="4176720" cy="2592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468360" y="32112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Путин на верхней станции  канатных дорог ГТЦ ОАО "ГАЗПРОМ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5213"/>
          <p:cNvPicPr/>
          <p:nvPr/>
        </p:nvPicPr>
        <p:blipFill>
          <a:blip r:embed="rId2"/>
          <a:stretch/>
        </p:blipFill>
        <p:spPr>
          <a:xfrm>
            <a:off x="4859280" y="1052640"/>
            <a:ext cx="3951360" cy="253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1172056896_90074"/>
          <p:cNvPicPr/>
          <p:nvPr/>
        </p:nvPicPr>
        <p:blipFill>
          <a:blip r:embed="rId3"/>
          <a:stretch/>
        </p:blipFill>
        <p:spPr>
          <a:xfrm>
            <a:off x="2700360" y="3645000"/>
            <a:ext cx="3806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7:59:04Z</dcterms:created>
  <dc:creator>Anna</dc:creator>
  <dc:description/>
  <dc:language>en-US</dc:language>
  <cp:lastModifiedBy>ZooM</cp:lastModifiedBy>
  <dcterms:modified xsi:type="dcterms:W3CDTF">2013-12-03T20:37:57Z</dcterms:modified>
  <cp:revision>11</cp:revision>
  <dc:subject/>
  <dc:title>Олимпиаду надо выигрывать</dc:title>
</cp:coreProperties>
</file>