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559-B8F6-40C7-9BA6-4A377943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E03-0F3D-4043-BB05-9FE6F68C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F39-51C1-4764-B2F4-4D162ED8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4D5-D0F8-4AF8-B7E1-E837655B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7BC-C5AD-4C5D-9C2A-B54AE5A6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CAA-59D3-4208-9233-CF1B6C4E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F9B-85B1-4F54-B311-0FD1A9A9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2A0-C4D8-4345-9B0E-FDA1CC46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656-0BFC-4DBA-AE5B-1CC52842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671-0186-4B8A-B91F-9FA2827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D6E-92C3-4F51-8497-8D1D91E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C4B-ACE5-4DB8-988C-0A76488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1A0-2814-48E6-BC84-2989617A6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407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аду надо выигр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91628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задачей Олимпийского комитета России (ОКР) при подготовке к Олимпийским и Паралимпийским играм 2014 года в Сочи станет не только участие в организации Игр, но и формирование олимпийской сборной, способной победить на домашних Играх в неофициальном командном зач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title2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СОЧИ: ИНТЕРЕСНЫЕ ФАК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81440" y="1052280"/>
            <a:ext cx="525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самый крупный курорт в России. Он простирается на 147 км вдоль берега Черного моря. Официально «Сочи» — название только центральной части курорта, который также включает районы Лазаревское, Хоста и Ад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ap-sochi2-full"/>
          <p:cNvPicPr/>
          <p:nvPr/>
        </p:nvPicPr>
        <p:blipFill>
          <a:blip r:embed="rId1"/>
          <a:stretch/>
        </p:blipFill>
        <p:spPr>
          <a:xfrm>
            <a:off x="0" y="3789360"/>
            <a:ext cx="500364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 rot="10845600">
            <a:off x="204120" y="2965320"/>
            <a:ext cx="89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ap-adler-full"/>
          <p:cNvPicPr/>
          <p:nvPr/>
        </p:nvPicPr>
        <p:blipFill>
          <a:blip r:embed="rId2"/>
          <a:stretch/>
        </p:blipFill>
        <p:spPr>
          <a:xfrm>
            <a:off x="5148360" y="4149720"/>
            <a:ext cx="39956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ap-hosta-full"/>
          <p:cNvPicPr/>
          <p:nvPr/>
        </p:nvPicPr>
        <p:blipFill>
          <a:blip r:embed="rId3"/>
          <a:stretch/>
        </p:blipFill>
        <p:spPr>
          <a:xfrm>
            <a:off x="5148360" y="1484280"/>
            <a:ext cx="39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ная часть Сочи (Красная Поляна) расположена всего в 40 км от побережья Черного моря. Высота гор Кавказского хребта вокруг Сочи — 2000 метров. Самая высокая гора в Европе — Эльбрус (5642 м). Этот массив Кавказских гор выше, чем Монблан (4810 м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2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 Правительства РФ в течение ближайших семи лет в уникальном городе-курорте Сочи будет построена новая транспортная инфраструктура, расширена сеть гостиниц, модернизированы инженерные коммуникации, а также возведен ряд современных спортивных сооружений. Спортсмены из России и стран ближнего зарубежья получат самую современную тренировочную баз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p-sochi-full"/>
          <p:cNvPicPr/>
          <p:nvPr/>
        </p:nvPicPr>
        <p:blipFill>
          <a:blip r:embed="rId1"/>
          <a:stretch/>
        </p:blipFill>
        <p:spPr>
          <a:xfrm>
            <a:off x="1332000" y="2276640"/>
            <a:ext cx="669600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4000" y="69228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жный покров склонов Красной поляны имеет уникальное качество благодаря местному микроклимату. Горы удерживают умеренные воздушные массы и являются естественной преградой для морского ветра, что обеспечивает идеальное качество снег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 Сочи проживают около 400 000 человек. Сочи входит в состав Краснодарского края, одного из крупнейших в России, население которого составляет 5,1 миллион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это 200 000 гектаров земли с лесами и домами, а также 30 000 гектаров дендрариев, ботанических садов и охраняемых природных заповедников с уникальной фло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1"/>
          <a:stretch/>
        </p:blipFill>
        <p:spPr>
          <a:xfrm>
            <a:off x="2916360" y="1989000"/>
            <a:ext cx="31683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05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яя резиденция Президента России находится в Сочи, поэтому город неофициально называют «летн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й России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всемирно известные спортсмены, как Мария Шарапова и Евгений Кафельников, начали свою спортивную карьеру в Сочинской школе теннис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4"/>
          <p:cNvPicPr/>
          <p:nvPr/>
        </p:nvPicPr>
        <p:blipFill>
          <a:blip r:embed="rId1"/>
          <a:stretch/>
        </p:blipFill>
        <p:spPr>
          <a:xfrm>
            <a:off x="395280" y="69228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5"/>
          <p:cNvPicPr/>
          <p:nvPr/>
        </p:nvPicPr>
        <p:blipFill>
          <a:blip r:embed="rId2"/>
          <a:stretch/>
        </p:blipFill>
        <p:spPr>
          <a:xfrm>
            <a:off x="684360" y="4437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b0dcff04839"/>
          <p:cNvPicPr/>
          <p:nvPr/>
        </p:nvPicPr>
        <p:blipFill>
          <a:blip r:embed="rId3"/>
          <a:stretch/>
        </p:blipFill>
        <p:spPr>
          <a:xfrm>
            <a:off x="6372360" y="414972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 flipV="1" rot="10870200">
            <a:off x="5000400" y="535068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рап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flipV="1" rot="10800000">
            <a:off x="2340000" y="5013000"/>
            <a:ext cx="14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гений Кафе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5628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360" y="692280"/>
            <a:ext cx="7005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сю историю зимних Олимпийских игр россияне выиграли 293 медали. За последние 25 лет наша страна более 100 раз принимала у себя международные чемпионаты и соревнования. Россияне любят спорт многочисленные победы наших спортсменов внесли огромный вклад в формирование национального самосознания. Вся страна с нетерпением ждет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32000" y="3213000"/>
            <a:ext cx="888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кальная растительность Черноморского побережья представлена в Хостинской тисосамшитовой роще, являющейся частью Кавказского государственного заповедника. К южным границам Кавказского государственного заповедника примыкает территория Сочинского национального парка. Решение экологических проблем региона должно опираться на общегосударственный комплекс природоохранных мероприятий, включающих проведение налоговой политики, внедрение санкций, ограничений, поощрен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им нашу Землю для себя и потом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itle2"/>
          <p:cNvPicPr/>
          <p:nvPr/>
        </p:nvPicPr>
        <p:blipFill>
          <a:blip r:embed="rId1"/>
          <a:stretch/>
        </p:blipFill>
        <p:spPr>
          <a:xfrm>
            <a:off x="0" y="5715000"/>
            <a:ext cx="9229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.Сочи – город краевого или районного подчи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 – город краевого подч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 какие районы делится го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дминистративно город делится на 4 района: Лазаревский, Центральный, Хостинский и Адлерски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чем заключается уникальность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личие моря и гор, средиземноморский клима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ие памятники природы находятся в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нский дендрарий, Хостинская тисосамшитовая роща, Адлерский парк «Южные культуры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мультимедийные презентации по рекомендуемым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рода города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расная Поляна - это Сочинский национальный парк и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хранение уникальных и типичных природных комплексов и объектов растительного и животного мира, достопримечательных природных образ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Хостинскоя тисосамшитовая роща – реликтовый л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очинский национальный 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4247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Сочи раскину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 подножья Кавказских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побережье Че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распола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географической ши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ццы и Торон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мат в Со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троп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темп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+26˚С, зимой -3˚С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032360" cy="259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211640" y="36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последние сто лет в Сочи побывали миллионы гостей, приехавших для того, чтобы своими глазами увидеть живописное морское побережь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ытать на себе целительное действие чистого воздуха и сочинских минераль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ведь или мамонтёнок станет символом Олимпиады-2014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ная группа, предложившая мамонтенка в качестве талисмана Олимпиады-2014 в Сочи, отправила его первый предварительный эскиз в заявочный комитет Олимпиады, сообщил в четверг глава муниципалитета "Округ Петровский" города Санкт-Петербурга Дмитрий Ильковский, который возглавляет инициативную группу по продвижению мамонт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3"/>
          <p:cNvPicPr/>
          <p:nvPr/>
        </p:nvPicPr>
        <p:blipFill>
          <a:blip r:embed="rId1"/>
          <a:stretch/>
        </p:blipFill>
        <p:spPr>
          <a:xfrm>
            <a:off x="6732720" y="5445000"/>
            <a:ext cx="1619280" cy="10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31"/>
          <p:cNvPicPr/>
          <p:nvPr/>
        </p:nvPicPr>
        <p:blipFill>
          <a:blip r:embed="rId2"/>
          <a:stretch/>
        </p:blipFill>
        <p:spPr>
          <a:xfrm>
            <a:off x="611280" y="404640"/>
            <a:ext cx="8571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альянские предприятия готовы поставить в Сочи машины для производства искусственного снега. Об этом сообщил посол Италии в России Витторио Клаудио на встрече с исполняющим обязанности главы Сочи Константином Мищенко. Итальянцы также готовы поделиться с сочинцами своим опытом в проведении Олимпи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ия готова поставлять в Сочи машины для изготовления сне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e0e09328c6c8"/>
          <p:cNvPicPr/>
          <p:nvPr/>
        </p:nvPicPr>
        <p:blipFill>
          <a:blip r:embed="rId1"/>
          <a:stretch/>
        </p:blipFill>
        <p:spPr>
          <a:xfrm>
            <a:off x="324000" y="3141720"/>
            <a:ext cx="3903480" cy="271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otel"/>
          <p:cNvPicPr/>
          <p:nvPr/>
        </p:nvPicPr>
        <p:blipFill>
          <a:blip r:embed="rId2"/>
          <a:stretch/>
        </p:blipFill>
        <p:spPr>
          <a:xfrm>
            <a:off x="4427640" y="3213000"/>
            <a:ext cx="3889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н: выбор Сочи столицей Олимпиады-2014 - "признание наших возможностей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Сочи в качестве столицы Олимпиады-2014 был сделан в честной борьбе и стал свидетельством признания курса, проводимого Росс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импийские и Паралимпийские игры 2014 пройдут в 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ый Олимпийский комитет выбрал город Сочи столицей XXII Олимпийских и XI Паралимпийских зимних игр 2014 года. Благодаря этому решению Россия сможет провести первые в своей истории зимние Игры. На протяжении двухлетней кампании Заявочный комитет «Сочи-2014» продемонстрировал свою увлеченность и уверенность в победе, создав инновационную концепцию Игр. Мы убедительно продемонстрировали Международному Олимпийскому комитету, что Россия является самым надежным партнером для Олимпийских и Паралимпийских Игр. Жители России испытывают особую любовь к зимнему спорту, высоко ценят Олимпийские идеалы. Мы благодарим всех, кто помог сделать реальностью Олимпийскую мечту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gge_putin"/>
          <p:cNvPicPr/>
          <p:nvPr/>
        </p:nvPicPr>
        <p:blipFill>
          <a:blip r:embed="rId1"/>
          <a:stretch/>
        </p:blipFill>
        <p:spPr>
          <a:xfrm>
            <a:off x="3635280" y="5229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и Организационного комитета по поддержке выдвижения г. Сочи в качестве города-кандидата на проведение ХХII Зимних Олимпийских Игр и XI Паралимпийских Игр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sochi2014.com/pictures/sch_pictures/empty.gif"/>
          <p:cNvPicPr/>
          <p:nvPr/>
        </p:nvPicPr>
        <p:blipFill>
          <a:blip r:embed="rId1"/>
          <a:stretch/>
        </p:blipFill>
        <p:spPr>
          <a:xfrm>
            <a:off x="69840" y="2876400"/>
            <a:ext cx="9360" cy="38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9840" y="2876400"/>
            <a:ext cx="87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17600" y="2876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img_joukov"/>
          <p:cNvPicPr/>
          <p:nvPr/>
        </p:nvPicPr>
        <p:blipFill>
          <a:blip r:embed="rId2"/>
          <a:stretch/>
        </p:blipFill>
        <p:spPr>
          <a:xfrm>
            <a:off x="250920" y="170028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img_kudrin"/>
          <p:cNvPicPr/>
          <p:nvPr/>
        </p:nvPicPr>
        <p:blipFill>
          <a:blip r:embed="rId3"/>
          <a:stretch/>
        </p:blipFill>
        <p:spPr>
          <a:xfrm>
            <a:off x="4140360" y="170028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4"/>
          <p:cNvSpPr/>
          <p:nvPr/>
        </p:nvSpPr>
        <p:spPr>
          <a:xfrm>
            <a:off x="5144040" y="1650960"/>
            <a:ext cx="251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др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й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403280" y="184464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Александ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едсед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3068640"/>
          <a:ext cx="3853080" cy="3600360"/>
        </p:xfrm>
        <a:graphic>
          <a:graphicData uri="http://schemas.openxmlformats.org/drawingml/2006/table">
            <a:tbl>
              <a:tblPr/>
              <a:tblGrid>
                <a:gridCol w="3853080"/>
              </a:tblGrid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тисо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чеслав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Федерального агентства по физической культуре и спор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гач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онид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Олимпийского комитета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6" descr="img_fetisov"/>
          <p:cNvPicPr/>
          <p:nvPr/>
        </p:nvPicPr>
        <p:blipFill>
          <a:blip r:embed="rId4"/>
          <a:stretch/>
        </p:blipFill>
        <p:spPr>
          <a:xfrm>
            <a:off x="4140360" y="328464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7" descr="img_tiagachiov"/>
          <p:cNvPicPr/>
          <p:nvPr/>
        </p:nvPicPr>
        <p:blipFill>
          <a:blip r:embed="rId5"/>
          <a:stretch/>
        </p:blipFill>
        <p:spPr>
          <a:xfrm>
            <a:off x="4140360" y="501336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img_tkachev"/>
          <p:cNvPicPr/>
          <p:nvPr/>
        </p:nvPicPr>
        <p:blipFill>
          <a:blip r:embed="rId6"/>
          <a:stretch/>
        </p:blipFill>
        <p:spPr>
          <a:xfrm>
            <a:off x="8101080" y="328464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2"/>
          <p:cNvSpPr/>
          <p:nvPr/>
        </p:nvSpPr>
        <p:spPr>
          <a:xfrm>
            <a:off x="6372360" y="2985840"/>
            <a:ext cx="151272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каче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br>
              <a:rPr sz="1400"/>
            </a:b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ернатор Краснодарского кр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3" descr="img_kolodyajniy"/>
          <p:cNvPicPr/>
          <p:nvPr/>
        </p:nvPicPr>
        <p:blipFill>
          <a:blip r:embed="rId7"/>
          <a:stretch/>
        </p:blipFill>
        <p:spPr>
          <a:xfrm>
            <a:off x="8101080" y="4941720"/>
            <a:ext cx="846000" cy="1105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4"/>
          <p:cNvSpPr/>
          <p:nvPr/>
        </p:nvSpPr>
        <p:spPr>
          <a:xfrm flipV="1" rot="10800000">
            <a:off x="6368760" y="4987440"/>
            <a:ext cx="1374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одяж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то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а города С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едатель Оценочной комиссии Международного Олимпийского комитета Чихару Игайа (в цент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72056965_9525101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о-Туристический Центр ОАО "ГАЗПРОМ" Красная Поляна, Со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002(4)"/>
          <p:cNvPicPr/>
          <p:nvPr/>
        </p:nvPicPr>
        <p:blipFill>
          <a:blip r:embed="rId1"/>
          <a:stretch/>
        </p:blipFill>
        <p:spPr>
          <a:xfrm>
            <a:off x="1187280" y="2060640"/>
            <a:ext cx="68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72056901_00246"/>
          <p:cNvPicPr/>
          <p:nvPr/>
        </p:nvPicPr>
        <p:blipFill>
          <a:blip r:embed="rId1"/>
          <a:stretch/>
        </p:blipFill>
        <p:spPr>
          <a:xfrm>
            <a:off x="395280" y="98100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68360" y="32112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Путин на верхней станции  канатных дорог ГТЦ ОАО "ГАЗПРОМ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213"/>
          <p:cNvPicPr/>
          <p:nvPr/>
        </p:nvPicPr>
        <p:blipFill>
          <a:blip r:embed="rId2"/>
          <a:stretch/>
        </p:blipFill>
        <p:spPr>
          <a:xfrm>
            <a:off x="4859280" y="1052640"/>
            <a:ext cx="395136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172056896_90074"/>
          <p:cNvPicPr/>
          <p:nvPr/>
        </p:nvPicPr>
        <p:blipFill>
          <a:blip r:embed="rId3"/>
          <a:stretch/>
        </p:blipFill>
        <p:spPr>
          <a:xfrm>
            <a:off x="2700360" y="3645000"/>
            <a:ext cx="3806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7:59:04Z</dcterms:created>
  <dc:creator>Anna</dc:creator>
  <dc:description/>
  <dc:language>en-US</dc:language>
  <cp:lastModifiedBy>ZooM</cp:lastModifiedBy>
  <dcterms:modified xsi:type="dcterms:W3CDTF">2013-12-03T20:37:57Z</dcterms:modified>
  <cp:revision>11</cp:revision>
  <dc:subject/>
  <dc:title>Олимпиаду надо выигрывать</dc:title>
</cp:coreProperties>
</file>