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CA4-B8C4-49F4-8F4C-976FA47F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AFE-97B7-4A39-BBA2-4D0CCAA2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D01-9779-44A4-A6D7-5433649B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461-65F9-4485-9A57-2202EC6A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AD0F-C7AD-42D7-9130-48F185E9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5839-E2FF-4C9C-B6C6-6F9D8C5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277-510C-471B-98BB-4BD0AB6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F9FD-AE73-4189-91CF-04D5A24E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762B-10E8-4B6B-B3EB-9BFC5C3A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6816-C67A-4C2C-B1D5-2DDE416E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2498-CDAB-45B6-9591-22507F8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075-CFE6-49D7-A47A-606FC5F9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DF9-49BF-46AA-9ABF-BC5E02D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0EAF-DBFA-4D38-8AAE-47D3C9A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FDB5-ECC1-4612-92BE-1D6FDF02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92A-9440-4AC3-9E2C-F1D4EA8A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884-B31C-4B49-A9BF-A9DEABB2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3BF-2722-454C-8325-966FFB3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284-3932-4918-904D-8B67A2C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562-A13A-44E6-8575-4FC40C6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27C-16F0-419E-AE72-32BA151E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CEF-7C02-46B2-8867-2BF361F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BF1-B8A6-4983-ACDD-3817AFC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FFC-930B-4229-8BE4-B7DAC51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667-E116-44C3-BC3B-CE704CE61F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D2CE-0E5D-4FCE-A366-AC29A6029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ие хищные птицы из Красной книги обитают в нашей местност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ы: Павлова Алина 6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ванова Алена 6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ы считаем , что в нашей местности обитают хищные  птицы , занесенные в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исследов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яснить какие птицы обитают в нашей мест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учить Красную книгу Саратовской обла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яснить обитают ли в нашей местности хищные птицы, занесенные в Красную книг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ше иссле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учили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яли заметки из старых газет, архивов, Интерн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шли фотограф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зит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мееяд (Али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евой лунь (Але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вой лу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6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УНЬ ПОЛЕВОЙ (Circus cyane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ипичный представитель группы луней. Общая длина 45-56 см, размах крыльев полевого луня 100- 125 см, длина крыла 33-40 см, вес 300- 600 г. Самки полевого луня заметно крупнее самцов. Окраска взрослых самцов и самок резко различна. У самцов (двухлетних и старше) спинная сторона бледно-сизая, "седая" ("седой как лунь"); надхвостье белое; передние первостепенные маховые с черной вершиной, остальные серо-сизые, все с беловатыми основаниями внутренних опахал; средние рулевые серо-сизые, остальные сизые на наружных опахалах, белые с буроватыми пестринами на внутренних опахалах; брюшная сторона белая; горло, зоб, а иногда и грудь сизые. Клюв черный, радужина желтая, когти черные, восковица и лапы желтые. У самок спинная сторона бурая с охристо-рыжеватыми пятнами, с поперечнополосатыми маховыми и рулевыми; брюшная сторона охристая с бурым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5280" y="1557000"/>
            <a:ext cx="5508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кий гнездящийся вид области. В прошлом широко населял все Правобережье, однако повсеместно (даже в самых северных районах) уступал на гнездовании по численности степному луню (Радищев, 1899). В первой половине нашего столетия встречи вида в репродуктивный период известны почти из всех районов области (Козловский, 1949). В настоящее время гнездовой ареал отодвинулся на север. В Правобережье распространен широко, в приграничных районах с Пензенской и Ульяновской областями даже является характерной птицей открытого ландшафта. Южнее распространен более спорадично. В Заволжье сохранился только в северных, прилегающих к р. Волге, районах.В пределах Саратовской области лежит южная часть ареала вида, численность повсеместно низкая. По данным маршрутных учетов, в гнездовое время в открытых местообитаниях Татищевского района в 1991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ЛУНЬ ПОЛЕВОЙ"/>
          <p:cNvPicPr/>
          <p:nvPr/>
        </p:nvPicPr>
        <p:blipFill>
          <a:blip r:embed="rId1"/>
          <a:stretch/>
        </p:blipFill>
        <p:spPr>
          <a:xfrm>
            <a:off x="6227640" y="12682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меея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39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МЕЕЯД (Circaetus gallic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бщая длина змееяда обыкновенного 67-72 см, размах крыльев 160-190 см, длина крыла 52- 60 см. Самки змееяда обыкновенного крупнее самцов. Оба пола окрашены одинаково. Общая окраска спинной стороны взрослых птиц серовато-бурая с черно-бурыми первостепенными передними маховыми, на задних первостепенных маховых беловатый рисунок у основания; рулевые бурые с 2-4 черно-бурыми поперечными полосами; брюшная сторона бледно-бурая и охристая с бурым продольным и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редкий гнездящийся вид. Литературные сведения о прошлом распространении змееяда на севере Нижнего Поволжья крайне скудны. Они ограничиваются наблюдениями И.Б. Волчанецкого (1937), П.Н. Козловского (1949) и П.С. Козлова (1950). На основе этих исследований достоверное гнездование птиц в первой половине нашего столетия подтверждено лишь для территории Вольского района. В настоящее время встречается в Красноармейском районе вдоль р. Волги (Мосейкин, 1991), а также на юге Вольского райо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341000"/>
            <a:ext cx="4316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нездится в Воскресенском районе, кроме того, на основании многочисленных летних встреч и богатства трофической базы, предполагается гнездование змееяда в пойме р. Хопра в пределах Романовского, Аркадакского и Балашовского районов. В.П. Белик (1995) указывает на встречи в гнездовой период взрослых и находки жилых гнезд и выводков змееяда в верховьях р. Иловли в Красноармейском районе. Популяция змееяда в Саратовской области стабильна и насчитывает около 30 пар (Красная книга…, 1996)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ЗМЕЕЯД"/>
          <p:cNvPicPr/>
          <p:nvPr/>
        </p:nvPicPr>
        <p:blipFill>
          <a:blip r:embed="rId1"/>
          <a:stretch/>
        </p:blipFill>
        <p:spPr>
          <a:xfrm>
            <a:off x="6012000" y="11253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9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в ряд источников из архивов газет, Интернета, мы пришли к вывод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территории Саратовской области отмечено 32 вида дневных хищных птиц, принадлежащих к трем семействам (Pandionidae, Accipitridae и Falconidae). Из них 24 гнездящихся, 3 пролетных и 5 залетных видов. Наиболее многочисленными в Саратовской области в целом за период исследований являются черный коршун, луговой лунь, ястреб-перепелятник, канюк, чеглок, обыкновенная пустельга и кобчик. В Красную книгу Саратовской области включены 14 видов дневных хищных птиц изучаемых семейст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пользованная литератур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 http://www.floranimal.ru/pages/animal/l/1189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ttp://www.floranimal.ru/pages/animal/l/1194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щные птицы Саратовской области Е.В. Завьялов Саратовский ун-т, кафедра морфологии и экологии животных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http://www.ucheba.ru/referats/7233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5:00:51Z</dcterms:created>
  <dc:creator>south6</dc:creator>
  <dc:description/>
  <dc:language>en-US</dc:language>
  <cp:lastModifiedBy>Коля</cp:lastModifiedBy>
  <dcterms:modified xsi:type="dcterms:W3CDTF">2013-07-03T21:31:51Z</dcterms:modified>
  <cp:revision>4</cp:revision>
  <dc:subject/>
  <dc:title>Какие животные из Красной книги обитают в нашей местности?</dc:title>
</cp:coreProperties>
</file>