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C29-352A-45C5-B4B0-A5E224AF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B83-D4F3-4B4E-9708-B60CED12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4E1-3DE6-48D8-9691-AC79F86F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EBE-420A-4014-88AA-424AB5F4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55C6-937A-46FD-A564-15BFB69E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7DA6-9EC2-4524-9A51-B979CC88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7B6-7326-4069-9FBA-171A7A0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0389-5D43-4166-BCE5-6C602D0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349-5996-441B-9FAD-2DF0D18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B41-4DB7-4B76-9F35-17C7E5D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35C-BEEB-48FB-9998-AF14C1F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8F6-BC84-4809-A615-19EFC41C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9CE-ABFE-45C4-9B29-AAC5890F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A344-D947-4B9A-8462-63B00D5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79C-01C4-402A-8559-FFEBE4E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3E2E-823F-42F3-B8A6-96332257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7E9-4C96-47D1-AAA7-0AFB6E28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69A-84A9-4A32-8A24-219638D2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006-19E3-4D38-8B13-EF6E65F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1D5-8CC7-4C39-BCFC-DEFA1DDE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838-5779-4B98-9D09-7F4B25F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4A7-E0D2-45F0-AB6D-47E18EA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EFD-05C3-41D1-B286-093404BF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819-ABB3-4534-AB49-F2D997D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41C8-E54B-4256-B6E8-2E63446374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6841-C6C0-4B4A-AE47-D8513A2F3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е хищные птицы из Красной книги обитают в нашей местност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ы: Павлова Али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ванова Але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ы считаем , что в нашей местности обитают хищные  птицы , занесенные в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исследов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какие птицы обитают в нашей мест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ть Красную книгу Саратовской обла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обитают ли в нашей местности хищные птицы, занесенные в Красную книг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ше иссле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ли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яли заметки из старых газет, архивов, Интерн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шли фотограф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зит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мееяд (Али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евой лунь (Але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вой лу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УНЬ ПОЛЕВОЙ (Circus cyane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ипичный представитель группы луней. Общая длина 45-56 см, размах крыльев полевого луня 100- 125 см, длина крыла 33-40 см, вес 300- 600 г. Самки полевого луня заметно крупнее самцов. Окраска взрослых самцов и самок резко различна. У самцов (двухлетних и старше) спинная сторона бледно-сизая, "седая" ("седой как лунь"); надхвостье белое; передние первостепенные маховые с черной вершиной, остальные серо-сизые, все с беловатыми основаниями внутренних опахал; средние рулевые серо-сизые, остальные сизые на наружных опахалах, белые с буроватыми пестринами на внутренних опахалах; брюшная сторона белая; горло, зоб, а иногда и грудь сизые. Клюв черный, радужина желтая, когти черные, восковица и лапы желтые. У самок спинная сторона бурая с охристо-рыжеватыми пятнами, с поперечнополосатыми маховыми и рулевыми; брюшная сторона охристая с бурым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508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й гнездящийся вид области. В прошлом широко населял все Правобережье, однако повсеместно (даже в самых северных районах) уступал на гнездовании по численности степному луню (Радищев, 1899). В первой половине нашего столетия встречи вида в репродуктивный период известны почти из всех районов области (Козловский, 1949). В настоящее время гнездовой ареал отодвинулся на север. В Правобережье распространен широко, в приграничных районах с Пензенской и Ульяновской областями даже является характерной птицей открытого ландшафта. Южнее распространен более спорадично. В Заволжье сохранился только в северных, прилегающих к р. Волге, районах.В пределах Саратовской области лежит южная часть ареала вида, численность повсеместно низкая. По данным маршрутных учетов, в гнездовое время в открытых местообитаниях Татищевского района в 1991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ЛУНЬ ПОЛЕВОЙ"/>
          <p:cNvPicPr/>
          <p:nvPr/>
        </p:nvPicPr>
        <p:blipFill>
          <a:blip r:embed="rId1"/>
          <a:stretch/>
        </p:blipFill>
        <p:spPr>
          <a:xfrm>
            <a:off x="6227640" y="12682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меея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39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ЕЯД (Circaetus gallic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щая длина змееяда обыкновенного 67-72 см, размах крыльев 160-190 см, длина крыла 52- 60 см. Самки змееяда обыкновенного крупнее самцов. Оба пола окрашены одинаково. Общая окраска спинной стороны взрослых птиц серовато-бурая с черно-бурыми первостепенными передними маховыми, на задних первостепенных маховых беловатый рисунок у основания; рулевые бурые с 2-4 черно-бурыми поперечными полосами; брюшная сторона бледно-бурая и охристая с бурым продольным и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редкий гнездящийся вид. Литературные сведения о прошлом распространении змееяда на севере Нижнего Поволжья крайне скудны. Они ограничиваются наблюдениями И.Б. Волчанецкого (1937), П.Н. Козловского (1949) и П.С. Козлова (1950). На основе этих исследований достоверное гнездование птиц в первой половине нашего столетия подтверждено лишь для территории Вольского района. В настоящее время встречается в Красноармейском районе вдоль р. Волги (Мосейкин, 1991), а также на юге Вольского рай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41000"/>
            <a:ext cx="4316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нездится в Воскресенском районе, кроме того, на основании многочисленных летних встреч и богатства трофической базы, предполагается гнездование змееяда в пойме р. Хопра в пределах Романовского, Аркадакского и Балашовского районов. В.П. Белик (1995) указывает на встречи в гнездовой период взрослых и находки жилых гнезд и выводков змееяда в верховьях р. Иловли в Красноармейском районе. Популяция змееяда в Саратовской области стабильна и насчитывает около 30 пар (Красная книга…, 1996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ЗМЕЕЯД"/>
          <p:cNvPicPr/>
          <p:nvPr/>
        </p:nvPicPr>
        <p:blipFill>
          <a:blip r:embed="rId1"/>
          <a:stretch/>
        </p:blipFill>
        <p:spPr>
          <a:xfrm>
            <a:off x="6012000" y="11253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9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в ряд источников из архивов газет, Интернета, мы пришли к вывод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ерритории Саратовской области отмечено 32 вида дневных хищных птиц, принадлежащих к трем семействам (Pandionidae, Accipitridae и Falconidae). Из них 24 гнездящихся, 3 пролетных и 5 залетных видов. Наиболее многочисленными в Саратовской области в целом за период исследований являются черный коршун, луговой лунь, ястреб-перепелятник, канюк, чеглок, обыкновенная пустельга и кобчик. В Красную книгу Саратовской области включены 14 видов дневных хищных птиц изучаемых семейст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ая литератур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 http://www.floranimal.ru/pages/animal/l/1189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ttp://www.floranimal.ru/pages/animal/l/1194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щные птицы Саратовской области Е.В. Завьялов Саратовский ун-т, кафедра морфологии и экологии животных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http://www.ucheba.ru/referats/7233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5:00:51Z</dcterms:created>
  <dc:creator>south6</dc:creator>
  <dc:description/>
  <dc:language>en-US</dc:language>
  <cp:lastModifiedBy>Коля</cp:lastModifiedBy>
  <dcterms:modified xsi:type="dcterms:W3CDTF">2013-07-03T21:31:51Z</dcterms:modified>
  <cp:revision>4</cp:revision>
  <dc:subject/>
  <dc:title>Какие животные из Красной книги обитают в нашей местности?</dc:title>
</cp:coreProperties>
</file>