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BA5-427F-497A-B405-4F52F477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F60-2645-457B-9B57-1F609050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44D-F65F-4678-ACD3-4AE70849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115-C6CA-44A4-9100-DEECC813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4600-CBE3-4508-91F9-74D1252F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B455-3038-4FE1-804E-871568A6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069F-A966-4DDF-BA75-5F0C1A2F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2EBC-6F9E-480D-943D-1D9C5168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DC68-337C-4EFF-B0DA-90FDB90E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2FE8-C0AF-4FA5-9729-FC86F38B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7062-EE78-4166-AD34-CF0ADB2B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4E5-57BA-46C4-AA96-5E11F0F4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5D9F-2714-465C-A909-0C66E293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BD97-EEB8-430D-A1B4-7351D330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871E-8C78-49BB-85F8-A1F8834F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4166-0E48-482C-8E14-1482F28F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579B-DD17-4B4B-9A4B-92C4A8D9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1A8-F154-4681-B943-90CA65A0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2F1-9AFF-4533-85B0-F026FC0F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A62-03B7-46B8-AA36-8BBAB5F7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736-3FBA-4FA8-A829-5FFB4EAA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450-B0A7-4EC2-9DF8-C8044E1C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CFF-02FC-4D9A-9AF2-8B16D89A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AD7-A31E-4151-B2E5-CAF562EF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4B71-BD0B-462D-BFD7-3CBD29F0E6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DAF8-C7DE-491E-8DA2-4603BA64C4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02560" cy="24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Какие хищные птицы из Красной книги обитают в нашей местности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ы: Павлова Алина 6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ванова Алена 6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Гипотез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ы считаем , что в нашей местности обитают хищные  птицы , занесенные в Красную книгу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лан исследования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яснить какие птицы обитают в нашей мест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учить Красную книгу Саратовской обла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яснить обитают ли в нашей местности хищные птицы, занесенные в Красную книг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ше исследов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учили Красную книгу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зяли заметки из старых газет, архивов, Интерн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шли фотограф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изит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мееяд (Алин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евой лунь (Ален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59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левой лун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396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УНЬ ПОЛЕВОЙ (Circus cyaneus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типичный представитель группы луней. Общая длина 45-56 см, размах крыльев полевого луня 100- 125 см, длина крыла 33-40 см, вес 300- 600 г. Самки полевого луня заметно крупнее самцов. Окраска взрослых самцов и самок резко различна. У самцов (двухлетних и старше) спинная сторона бледно-сизая, "седая" ("седой как лунь"); надхвостье белое; передние первостепенные маховые с черной вершиной, остальные серо-сизые, все с беловатыми основаниями внутренних опахал; средние рулевые серо-сизые, остальные сизые на наружных опахалах, белые с буроватыми пестринами на внутренних опахалах; брюшная сторона белая; горло, зоб, а иногда и грудь сизые. Клюв черный, радужина желтая, когти черные, восковица и лапы желтые. У самок спинная сторона бурая с охристо-рыжеватыми пятнами, с поперечнополосатыми маховыми и рулевыми; брюшная сторона охристая с бурым поперечным рисунко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35280" y="1557000"/>
            <a:ext cx="55087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дкий гнездящийся вид области. В прошлом широко населял все Правобережье, однако повсеместно (даже в самых северных районах) уступал на гнездовании по численности степному луню (Радищев, 1899). В первой половине нашего столетия встречи вида в репродуктивный период известны почти из всех районов области (Козловский, 1949). В настоящее время гнездовой ареал отодвинулся на север. В Правобережье распространен широко, в приграничных районах с Пензенской и Ульяновской областями даже является характерной птицей открытого ландшафта. Южнее распространен более спорадично. В Заволжье сохранился только в северных, прилегающих к р. Волге, районах.В пределах Саратовской области лежит южная часть ареала вида, численность повсеместно низкая. По данным маршрутных учетов, в гнездовое время в открытых местообитаниях Татищевского района в 1991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ЛУНЬ ПОЛЕВОЙ"/>
          <p:cNvPicPr/>
          <p:nvPr/>
        </p:nvPicPr>
        <p:blipFill>
          <a:blip r:embed="rId1"/>
          <a:stretch/>
        </p:blipFill>
        <p:spPr>
          <a:xfrm>
            <a:off x="6227640" y="126828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99" name="WordArt 11"/>
          <p:cNvSpPr txBox="1"/>
          <p:nvPr/>
        </p:nvSpPr>
        <p:spPr>
          <a:xfrm>
            <a:off x="179280" y="6453360"/>
            <a:ext cx="649440" cy="23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з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меея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439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МЕЕЯД (Circaetus gallicus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бщая длина змееяда обыкновенного 67-72 см, размах крыльев 160-190 см, длина крыла 52- 60 см. Самки змееяда обыкновенного крупнее самцов. Оба пола окрашены одинаково. Общая окраска спинной стороны взрослых птиц серовато-бурая с черно-бурыми первостепенными передними маховыми, на задних первостепенных маховых беловатый рисунок у основания; рулевые бурые с 2-4 черно-бурыми поперечными полосами; брюшная сторона бледно-бурая и охристая с бурым продольным и поперечным рисунко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чень редкий гнездящийся вид. Литературные сведения о прошлом распространении змееяда на севере Нижнего Поволжья крайне скудны. Они ограничиваются наблюдениями И.Б. Волчанецкого (1937), П.Н. Козловского (1949) и П.С. Козлова (1950). На основе этих исследований достоверное гнездование птиц в первой половине нашего столетия подтверждено лишь для территории Вольского района. В настоящее время встречается в Красноармейском районе вдоль р. Волги (Мосейкин, 1991), а также на юге Вольского район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341000"/>
            <a:ext cx="4316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Гнездится в Воскресенском районе, кроме того, на основании многочисленных летних встреч и богатства трофической базы, предполагается гнездование змееяда в пойме р. Хопра в пределах Романовского, Аркадакского и Балашовского районов. В.П. Белик (1995) указывает на встречи в гнездовой период взрослых и находки жилых гнезд и выводков змееяда в верховьях р. Иловли в Красноармейском районе. Популяция змееяда в Саратовской области стабильна и насчитывает около 30 пар (Красная книга…, 1996)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ЗМЕЕЯД"/>
          <p:cNvPicPr/>
          <p:nvPr/>
        </p:nvPicPr>
        <p:blipFill>
          <a:blip r:embed="rId1"/>
          <a:stretch/>
        </p:blipFill>
        <p:spPr>
          <a:xfrm>
            <a:off x="6012000" y="112536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9"/>
          <p:cNvSpPr txBox="1"/>
          <p:nvPr/>
        </p:nvSpPr>
        <p:spPr>
          <a:xfrm>
            <a:off x="179280" y="6453360"/>
            <a:ext cx="649440" cy="23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з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учив ряд источников из архивов газет, Интернета, мы пришли к вывод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 территории Саратовской области отмечено 32 вида дневных хищных птиц, принадлежащих к трем семействам (Pandionidae, Accipitridae и Falconidae). Из них 24 гнездящихся, 3 пролетных и 5 залетных видов. Наиболее многочисленными в Саратовской области в целом за период исследований являются черный коршун, луговой лунь, ястреб-перепелятник, канюк, чеглок, обыкновенная пустельга и кобчик. В Красную книгу Саратовской области включены 14 видов дневных хищных птиц изучаемых семейств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спользованная литература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…ради людей, ради животных» http://www.floranimal.ru/pages/animal/l/1189.htm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…ради людей, ради животных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ttp://www.floranimal.ru/pages/animal/l/1194.htm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ищные птицы Саратовской области Е.В. Завьялов Саратовский ун-т, кафедра морфологии и экологии животных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http://www.ucheba.ru/referats/7233.htm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5:00:51Z</dcterms:created>
  <dc:creator>south6</dc:creator>
  <dc:description/>
  <dc:language>en-US</dc:language>
  <cp:lastModifiedBy>Коля</cp:lastModifiedBy>
  <dcterms:modified xsi:type="dcterms:W3CDTF">2013-07-03T21:31:51Z</dcterms:modified>
  <cp:revision>4</cp:revision>
  <dc:subject/>
  <dc:title>Какие животные из Красной книги обитают в нашей местности?</dc:title>
</cp:coreProperties>
</file>