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E2F-6D74-4F1A-964E-CC7D3075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93F-CEA4-4BCD-AA79-0D1B69EE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A90-43B0-469B-A981-B9C58E90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DF8-FE26-4803-8084-00F7AFEB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3A004-AB83-469C-B023-91FC7831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E91A8-CA68-4DFE-A24D-7C76A3B5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2B0D4-676C-4516-BF63-C0F7B545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AFEA2-4532-41BE-967D-7F03EC42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779C7-F935-4A41-B04C-5095F488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5623C-57E6-4A23-B41A-6F169157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7E4FE-3C89-4C44-ACA1-10B23BC5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7D4-CC6E-46A8-A6D3-108E7F78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35517-EA76-4647-A563-F82DF68A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57C40-77B2-4D1D-A9FF-FBD5EF8A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8A679-83D0-4FC3-B1D1-0F6B7D02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69347-2515-4050-AA9F-D7B2DBCF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EA81F-266A-47C8-AE5A-7BF35676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9E62-CFB2-4C3D-8918-FBFBEAF1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8EA58-BAC4-4F53-B748-7D6304AE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115B-9FA7-4940-A9FB-876463C6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6675-ECB9-4022-93EC-D500A8F8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24832-5B2D-4E81-8A4B-1292266E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920-0836-443F-996B-2E4FB56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A6D2-8CEF-4FAC-BE28-974F9EBD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203F-A4E6-412D-928E-EC9BD8BF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40AB3-C840-4641-85B7-1B1DC5EC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59ED-8905-4950-B5DE-6084BDE9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B1A2-BB95-4791-A6C1-0C9D176B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0174-8E41-4678-A1E2-2568BD70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42E8-1908-4B9E-83D8-0948CDBC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B5C-FD15-4267-AA48-3A5DF787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E29-3640-4A09-8235-49D62234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532-2098-4C0C-BE05-09F3F9E1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0CB-750E-4588-ACD6-87FB7D7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CC5-AB9F-4CE3-A2B5-5E57680C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7CE-9ED4-49A7-9A17-8A94B56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B91A-109B-4CE4-9F62-E75F47FA66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21A7-DF90-4BF1-BF8A-A6B848D7D30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0783-C149-43CC-BCF0-F46B4601A8E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esson-history.narod.ru/map/mos-kn.gif" TargetMode="External"/><Relationship Id="rId2" Type="http://schemas.openxmlformats.org/officeDocument/2006/relationships/hyperlink" Target="http://www.allrussias.com/images/bio_vasily.jpg" TargetMode="External"/><Relationship Id="rId3" Type="http://schemas.openxmlformats.org/officeDocument/2006/relationships/hyperlink" Target="http://upload.wikimedia.org/wikipedia/ru/thumb/2/2a/Duchies_of_Mamai.jpg/360px-Duchies_of_Mamai.jpg" TargetMode="External"/><Relationship Id="rId4" Type="http://schemas.openxmlformats.org/officeDocument/2006/relationships/hyperlink" Target="http://www.museum.lviv.ua/index.php?option=com_joomgallery&amp;func=watermark&amp;catid=37&amp;id=213&amp;Itemid=0" TargetMode="External"/><Relationship Id="rId5" Type="http://schemas.openxmlformats.org/officeDocument/2006/relationships/hyperlink" Target="http://lectures.edu.ru/default.asp?ob_no=16558" TargetMode="External"/><Relationship Id="rId6" Type="http://schemas.openxmlformats.org/officeDocument/2006/relationships/hyperlink" Target="http://viol.narod.ru/images/krviola/bell/tohtamish_s.jpg" TargetMode="External"/><Relationship Id="rId7" Type="http://schemas.openxmlformats.org/officeDocument/2006/relationships/hyperlink" Target="http://zhurnal.lib.ru/img/d/dolgaja_g_a/gur-amir/index.shtml" TargetMode="External"/><Relationship Id="rId8" Type="http://schemas.openxmlformats.org/officeDocument/2006/relationships/hyperlink" Target="http://www.castle.lv/person/vkl/k1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cc"/>
                </a:solidFill>
                <a:latin typeface="Arial Black"/>
              </a:rPr>
              <a:t>Москва</a:t>
            </a:r>
            <a:br>
              <a:rPr sz="8000"/>
            </a:br>
            <a:r>
              <a:rPr b="0" lang="ru-RU" sz="8000" spc="-1" strike="noStrike">
                <a:solidFill>
                  <a:srgbClr val="ffffcc"/>
                </a:solidFill>
                <a:latin typeface="Arial Black"/>
              </a:rPr>
              <a:t>и Литва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800"/>
            </a:b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на рубеже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Arial Black"/>
              </a:rPr>
              <a:t>XIV –</a:t>
            </a: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ffffcc"/>
                </a:solidFill>
                <a:latin typeface="Arial Black"/>
              </a:rPr>
              <a:t>XV </a:t>
            </a: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вв</a:t>
            </a: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88600" y="6305400"/>
            <a:ext cx="22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eorgia"/>
              </a:rPr>
              <a:t>Л.А. Кацва, 201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 и Орда. Битва на Ворск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76720" y="907920"/>
            <a:ext cx="5867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ва закончилась полным разгромом литовско-рус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ражении погибли сражавшие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водительством Витов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дрей и Дмитрий Ольгердовичи, Дмитрий Боброк-Волынец и другие русские княз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ынцы осадили Киев и заставили горожан уплатить огромный по тому времени выкуп –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хтамыш практически утратил влияние, бежал в Сибирь и позднее был убит сыном Темирь-Кутлуга Шаниб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Эдигея значительно возро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Битва на Ворскле"/>
          <p:cNvPicPr/>
          <p:nvPr/>
        </p:nvPicPr>
        <p:blipFill>
          <a:blip r:embed="rId1"/>
          <a:stretch/>
        </p:blipFill>
        <p:spPr>
          <a:xfrm>
            <a:off x="0" y="907920"/>
            <a:ext cx="3268800" cy="43149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0" y="5248440"/>
            <a:ext cx="32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ва на Ворск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Лицевого с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, Москва, О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508720" y="764640"/>
            <a:ext cx="36352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коре после битв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орскле Витовт предъявил претензии на Псков, Новгород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«верховские»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между Москвой и Вильно резко ухудш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Кому это было выгод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Литва в 15 веке"/>
          <p:cNvPicPr/>
          <p:nvPr/>
        </p:nvPicPr>
        <p:blipFill>
          <a:blip r:embed="rId1"/>
          <a:stretch/>
        </p:blipFill>
        <p:spPr>
          <a:xfrm>
            <a:off x="0" y="765000"/>
            <a:ext cx="5651640" cy="4535640"/>
          </a:xfrm>
          <a:prstGeom prst="rect">
            <a:avLst/>
          </a:prstGeom>
          <a:ln w="0">
            <a:noFill/>
          </a:ln>
        </p:spPr>
      </p:pic>
      <p:sp>
        <p:nvSpPr>
          <p:cNvPr id="212" name="Oval 8"/>
          <p:cNvSpPr/>
          <p:nvPr/>
        </p:nvSpPr>
        <p:spPr>
          <a:xfrm>
            <a:off x="6877080" y="3789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0" y="5373720"/>
            <a:ext cx="91440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дигей обещал Василию помощь против Витов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408 г. московское и литовское войска вышли на р. Уг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битвы не дошло: противники помирились, осозна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их вражда на руку только Ор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, Литва и О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03280" y="764640"/>
            <a:ext cx="5940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же 1408 г. Эдигей вторг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сковские пределы. Ордынцы разорили и сожгли Дмитров, Ростов, Переяславль-Залес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штурм каменных стен Москвы Эдигей не решился, но Москве пришлось увеличи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лачиваемый Орде «выход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инение Орде, ослабевшее после падения Тохтамыша, вновь усил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0" y="5537160"/>
            <a:ext cx="32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ествие Эдиг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Лицевого с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Нашествие Едигея"/>
          <p:cNvPicPr/>
          <p:nvPr/>
        </p:nvPicPr>
        <p:blipFill>
          <a:blip r:embed="rId1"/>
          <a:stretch/>
        </p:blipFill>
        <p:spPr>
          <a:xfrm>
            <a:off x="0" y="765000"/>
            <a:ext cx="329580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юнвальдская б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859280" y="764640"/>
            <a:ext cx="428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я борьбу с Ордой, Литва продолжала противостоять Тевтонскому орд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410 г. польские и литовские войс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командование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гайло и Витов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лись с тевтонскими рыцарями в битв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Грюнвальд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нем. литературе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анненберг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Грюнвальдская битва_Ян Матейко"/>
          <p:cNvPicPr/>
          <p:nvPr/>
        </p:nvPicPr>
        <p:blipFill>
          <a:blip r:embed="rId1"/>
          <a:stretch/>
        </p:blipFill>
        <p:spPr>
          <a:xfrm>
            <a:off x="0" y="836640"/>
            <a:ext cx="4859280" cy="34527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0" y="4292640"/>
            <a:ext cx="485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юнвальдская би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. Ян Матей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0" y="52484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ско-литовская армия насчитывала 32 тыс.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е войск Витовта были и 3 смоленских по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мия Ордена насчитывала 27 тыс. рыцаре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ных ландскнехтов и пеших наем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юнвальдская б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95280" y="836280"/>
            <a:ext cx="51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овская конница атаковала левый фланг крестоносце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была отброш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цари начали преследование отступающих литов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ленские пешие пол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ись на поле бо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ковали часть сил Орд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ская конница прорвала правый фланг крестоносце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била атаку рыцарей, вернувшихся после преследования литов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Грюнвальдская битва"/>
          <p:cNvPicPr/>
          <p:nvPr/>
        </p:nvPicPr>
        <p:blipFill>
          <a:blip r:embed="rId1"/>
          <a:stretch/>
        </p:blipFill>
        <p:spPr>
          <a:xfrm>
            <a:off x="0" y="836640"/>
            <a:ext cx="3949560" cy="4897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0" y="5753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аку поляков поддержали вернувшиеся в битву лит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часть рыцарей была окружена и переб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юнвальдская бит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96000" y="765000"/>
            <a:ext cx="3348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тысяч воинов Ордена погибл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 тыс. попа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юзная армия цел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сяц осаждала столицу Ордена крепость Мальборк (Мариенбур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После Грюнвальдской битвы_Худ_А_Муха"/>
          <p:cNvPicPr/>
          <p:nvPr/>
        </p:nvPicPr>
        <p:blipFill>
          <a:blip r:embed="rId1"/>
          <a:stretch/>
        </p:blipFill>
        <p:spPr>
          <a:xfrm>
            <a:off x="0" y="806400"/>
            <a:ext cx="5867280" cy="36892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0" y="4508640"/>
            <a:ext cx="5867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Грюнвальдской бит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. Альфонс М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1042920" y="51577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666440" y="544500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чем значение Грюнвальдской бит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сломлена военно-политическая мощь Орде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ся его быстрый уп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ьско-литовская уния 1413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10920" y="764640"/>
            <a:ext cx="4465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413 г. между Польш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Литвой была заключена новая уния – Городель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ва осталась самостоятельной, требовалось лишь согласие польской шляхты на выбор великого князя, а литов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а выбор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х привилегий добилась в Литве католическая церк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Витовт_1"/>
          <p:cNvPicPr/>
          <p:nvPr/>
        </p:nvPicPr>
        <p:blipFill>
          <a:blip r:embed="rId1"/>
          <a:stretch/>
        </p:blipFill>
        <p:spPr>
          <a:xfrm>
            <a:off x="0" y="765000"/>
            <a:ext cx="2417760" cy="3168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Ягайло_3"/>
          <p:cNvPicPr/>
          <p:nvPr/>
        </p:nvPicPr>
        <p:blipFill>
          <a:blip r:embed="rId2"/>
          <a:stretch/>
        </p:blipFill>
        <p:spPr>
          <a:xfrm>
            <a:off x="6837480" y="765000"/>
            <a:ext cx="2306520" cy="3095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0" y="3933720"/>
            <a:ext cx="226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ов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княз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овск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ус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6927840" y="3881520"/>
            <a:ext cx="221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исла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айл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л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324000" y="53737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1123920" y="5445000"/>
            <a:ext cx="80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Как должно было сказаться на русско-литовских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отношениях предоставление привилегий катол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точная Европа в 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етверт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онцу 1-й четвер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Московское государство значительно расширило свои границы, стал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условным лидером Северо-Восточной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дная Русь оставалась под властью Литовско-Русского великого княжества, также претендовавшего на объединение всех русских земель под своим гл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и Вильно соперничали за влия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скове и Новго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еще сильна оставалась Орда. Объединившись под властью эмира Эдигея, она нанесла поражение Литв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. Ворскле, вынудила Москву увеличить «выход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талась стравливать Москву и Вильн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втонский орден после битвы при Грюнвальд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 клониться к упа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етилось сближение Литвы и Поль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ь знание д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50920" y="981000"/>
            <a:ext cx="396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ы правления Васил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50920" y="1700280"/>
            <a:ext cx="39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ение Нижне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города к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50920" y="256536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вская у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вы и Поль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250920" y="3500280"/>
            <a:ext cx="39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ва на Ворск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250920" y="414972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од Эдигея на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250920" y="4869000"/>
            <a:ext cx="39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юнвальдская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250920" y="558972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ельская у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вы и Поль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6084720" y="1052640"/>
            <a:ext cx="273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89–1425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1"/>
          <p:cNvSpPr/>
          <p:nvPr/>
        </p:nvSpPr>
        <p:spPr>
          <a:xfrm>
            <a:off x="4211640" y="1125360"/>
            <a:ext cx="1873080" cy="287640"/>
          </a:xfrm>
          <a:prstGeom prst="rightArrow">
            <a:avLst>
              <a:gd name="adj1" fmla="val 50000"/>
              <a:gd name="adj2" fmla="val 16279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2"/>
          <p:cNvSpPr/>
          <p:nvPr/>
        </p:nvSpPr>
        <p:spPr>
          <a:xfrm>
            <a:off x="6084720" y="177336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4"/>
          <p:cNvSpPr/>
          <p:nvPr/>
        </p:nvSpPr>
        <p:spPr>
          <a:xfrm>
            <a:off x="4211640" y="1916280"/>
            <a:ext cx="1873080" cy="288720"/>
          </a:xfrm>
          <a:prstGeom prst="rightArrow">
            <a:avLst>
              <a:gd name="adj1" fmla="val 50000"/>
              <a:gd name="adj2" fmla="val 16218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6084720" y="2565360"/>
            <a:ext cx="27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8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7"/>
          <p:cNvSpPr/>
          <p:nvPr/>
        </p:nvSpPr>
        <p:spPr>
          <a:xfrm>
            <a:off x="4211640" y="2781360"/>
            <a:ext cx="1873080" cy="287280"/>
          </a:xfrm>
          <a:prstGeom prst="rightArrow">
            <a:avLst>
              <a:gd name="adj1" fmla="val 50000"/>
              <a:gd name="adj2" fmla="val 1630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8"/>
          <p:cNvSpPr/>
          <p:nvPr/>
        </p:nvSpPr>
        <p:spPr>
          <a:xfrm>
            <a:off x="6084720" y="3500280"/>
            <a:ext cx="27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9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4211640" y="3573360"/>
            <a:ext cx="1873080" cy="287280"/>
          </a:xfrm>
          <a:prstGeom prst="rightArrow">
            <a:avLst>
              <a:gd name="adj1" fmla="val 50000"/>
              <a:gd name="adj2" fmla="val 16300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1"/>
          <p:cNvSpPr/>
          <p:nvPr/>
        </p:nvSpPr>
        <p:spPr>
          <a:xfrm>
            <a:off x="6084720" y="414972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3"/>
          <p:cNvSpPr/>
          <p:nvPr/>
        </p:nvSpPr>
        <p:spPr>
          <a:xfrm>
            <a:off x="4211640" y="4292640"/>
            <a:ext cx="1873080" cy="288720"/>
          </a:xfrm>
          <a:prstGeom prst="rightArrow">
            <a:avLst>
              <a:gd name="adj1" fmla="val 50000"/>
              <a:gd name="adj2" fmla="val 16218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6084720" y="4869000"/>
            <a:ext cx="27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6"/>
          <p:cNvSpPr/>
          <p:nvPr/>
        </p:nvSpPr>
        <p:spPr>
          <a:xfrm>
            <a:off x="4211640" y="4941720"/>
            <a:ext cx="1873080" cy="287640"/>
          </a:xfrm>
          <a:prstGeom prst="rightArrow">
            <a:avLst>
              <a:gd name="adj1" fmla="val 50000"/>
              <a:gd name="adj2" fmla="val 16279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084720" y="5589720"/>
            <a:ext cx="27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8"/>
          <p:cNvSpPr/>
          <p:nvPr/>
        </p:nvSpPr>
        <p:spPr>
          <a:xfrm>
            <a:off x="4211640" y="5805360"/>
            <a:ext cx="1873080" cy="287640"/>
          </a:xfrm>
          <a:prstGeom prst="rightArrow">
            <a:avLst>
              <a:gd name="adj1" fmla="val 50000"/>
              <a:gd name="adj2" fmla="val 16279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2–3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sson-history.narod.ru/map/mos-kn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russias.com/images/bio_vasil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5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upload.wikimedia.org/wikipedia/ru/thumb/2/2a/Duchies_of_Mamai.jpg/360px-Duchies_of_Mama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useum.lviv.ua/index.php?option=com_joomgallery&amp;func=watermark&amp;catid=37&amp;id=213&amp;Itemid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7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ectures.edu.ru/default.asp?ob_no=165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viol.narod.ru/images/krviola/bell/tohtamish_s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zhurnal.lib.ru/img/d/dolgaja_g_a/gur-amir/index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9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castle.lv/person/vkl/k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0. http://www.hrono.ru/statii/2009/1399vorskl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1. http://upload.wikimedia.org/wikipedia/commons/a/a9/VKL-1462-ru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2. http://www.runivers.ru/images/date/2009_december/01/e_18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3. http://wildhunting.narod.ru/photos/grun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4. http://www.bg-znanie.ru/articles/1302/Grunval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5. http://smallbay.ru/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6. http://wildhunting.narod.ru/photos/vitov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kpu.lublin.pl/wyklady/zulynski/1/Image17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овская Русь при Василии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16720" y="765000"/>
            <a:ext cx="2627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княжения Васил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, бесспорно, сильнейшим княжеством Сев.-Восточной Ру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Московское княжество 1340–1462"/>
          <p:cNvPicPr/>
          <p:nvPr/>
        </p:nvPicPr>
        <p:blipFill>
          <a:blip r:embed="rId1"/>
          <a:stretch/>
        </p:blipFill>
        <p:spPr>
          <a:xfrm>
            <a:off x="0" y="765000"/>
            <a:ext cx="6516720" cy="4203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0" y="4941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Московского княжества вошли белозерские, костромские, галицкие, углицкие, дмитровские зем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территории великого Владимирского кн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один князь Северо-Восточной Рус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не оспаривал первенства Мос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овская Русь при Василии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16720" y="836280"/>
            <a:ext cx="262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2–1393 г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Москве были присоединены Муромско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уздальско-Нижегородское княжества, Городец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ару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Московское княжество 1340–1462"/>
          <p:cNvPicPr/>
          <p:nvPr/>
        </p:nvPicPr>
        <p:blipFill>
          <a:blip r:embed="rId1"/>
          <a:stretch/>
        </p:blipFill>
        <p:spPr>
          <a:xfrm>
            <a:off x="0" y="765000"/>
            <a:ext cx="6516720" cy="4203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0" y="501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сь присоединение к московским владениям вологодских и устюжских земель на р. Сух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овская Русь при Василии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19280" y="836640"/>
            <a:ext cx="5724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ое боярство торопилось перейти на сторону великого княз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егородские бояре заявили своему князю: «</a:t>
            </a:r>
            <a:r>
              <a:rPr b="0" lang="ru-RU" sz="2400" spc="-1" strike="noStrike">
                <a:solidFill>
                  <a:srgbClr val="000000"/>
                </a:solidFill>
                <a:latin typeface="Izhitza"/>
              </a:rPr>
              <a:t>Княже, господине! Не надейся на ны, уже бо мы отныне не твои и несть есмя с тобо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Izhitza"/>
              </a:rPr>
              <a:t>но на тя ес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Чем объясняется отказ местных бояр от верности своим князья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быстрый переход на сторону великого князя позволял местным боярам сохранить свои вот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5157720"/>
            <a:ext cx="34196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илий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митриевич, Великий князь Москов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ладимирск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89–14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а из «Титуляр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5796000" y="3573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Василий I Дмитриевич_2"/>
          <p:cNvPicPr/>
          <p:nvPr/>
        </p:nvPicPr>
        <p:blipFill>
          <a:blip r:embed="rId1"/>
          <a:stretch/>
        </p:blipFill>
        <p:spPr>
          <a:xfrm>
            <a:off x="0" y="765000"/>
            <a:ext cx="342756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и Л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80000" y="836640"/>
            <a:ext cx="536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м соперником Москв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убе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–X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. являлос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ое княжеств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овское и Рус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го состав входила большая часть западнорусских земель: Киевское, Переяславское, Новгород-Северское, Черниговское, Волынское,  Полоцкое, Минское, Гродненское княж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ую часть населения составляли славян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лавянский язык, близк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таробелорусскому, был государственным наряд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литов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Литва в 13-15 веке_2"/>
          <p:cNvPicPr/>
          <p:nvPr/>
        </p:nvPicPr>
        <p:blipFill>
          <a:blip r:embed="rId1"/>
          <a:stretch/>
        </p:blipFill>
        <p:spPr>
          <a:xfrm>
            <a:off x="0" y="836640"/>
            <a:ext cx="38149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и Л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700000" y="764640"/>
            <a:ext cx="644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похода Тохтамыша в 1382 г. литовский великий князь Ягайл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ался от намерения жени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очери Дмитрия Донс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ратить Литву в правосла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85 г. он женился на польской королеве Ядвиге (наследнице династии Пястов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ал польским королем Владислав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сновав династию Ягелл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а заключена польско-Литовская Кревская у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овцы-язычники были крещен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атолическому обря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0" y="472428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айл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ль Поль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4" descr="Ягайло_4"/>
          <p:cNvPicPr/>
          <p:nvPr/>
        </p:nvPicPr>
        <p:blipFill>
          <a:blip r:embed="rId1"/>
          <a:stretch/>
        </p:blipFill>
        <p:spPr>
          <a:xfrm>
            <a:off x="0" y="692280"/>
            <a:ext cx="273204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и Л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76720" y="691920"/>
            <a:ext cx="5867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2 г. великим князем Литвы ста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ов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воюродный брат Ягай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ский король остался верховным сюзереном великого княжества, но практически не вмешивался в его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в 1390 г. Витовт выдал свою дочь Софью за московского великого князя Васил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е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 время Витовт был самым могущественным среди русских князей. Иные русские князья называли его даже не «братом старейшим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«отцом» или «дедом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6 г. Витовт и Василий Дмитриевич договорились в Смоленс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совместном противостоянии Ор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0" y="4508640"/>
            <a:ext cx="3203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ил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митриев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офья Витовт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жизненное изображение на саккос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а Фо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Василий I и Софья Витовтовна"/>
          <p:cNvPicPr/>
          <p:nvPr/>
        </p:nvPicPr>
        <p:blipFill>
          <a:blip r:embed="rId1"/>
          <a:stretch/>
        </p:blipFill>
        <p:spPr>
          <a:xfrm>
            <a:off x="0" y="765000"/>
            <a:ext cx="3332160" cy="374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 и О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00360" y="836640"/>
            <a:ext cx="35272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395 г. в Литву, под защиту Витовта бежал хан Золотой Орды Тохтамыш, потерпевший поражение от Тим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итовта появился шанс подчинить Ор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Izhitsa"/>
              </a:rPr>
              <a:t>Посадим во Орде царя Тохтамыша и то все будет наше, и царь наш, и мы не толико Литовскую землю владети, но и всеми велими княжени руски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Тамерлан_1"/>
          <p:cNvPicPr/>
          <p:nvPr/>
        </p:nvPicPr>
        <p:blipFill>
          <a:blip r:embed="rId1"/>
          <a:stretch/>
        </p:blipFill>
        <p:spPr>
          <a:xfrm>
            <a:off x="6365880" y="765000"/>
            <a:ext cx="2778120" cy="374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Тохтамыш_2"/>
          <p:cNvPicPr/>
          <p:nvPr/>
        </p:nvPicPr>
        <p:blipFill>
          <a:blip r:embed="rId2"/>
          <a:stretch/>
        </p:blipFill>
        <p:spPr>
          <a:xfrm>
            <a:off x="0" y="765000"/>
            <a:ext cx="2620800" cy="3743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4"/>
          <p:cNvSpPr/>
          <p:nvPr/>
        </p:nvSpPr>
        <p:spPr>
          <a:xfrm>
            <a:off x="6372360" y="4508640"/>
            <a:ext cx="27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мур (Тамерлан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среднеазиат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оев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0" y="450864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хтамыш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н Золотой Ор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971640" y="5229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0" y="6093000"/>
            <a:ext cx="29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Каковы были цел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итов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3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ва и Орда. Битва на Ворск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579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вгусте 1399 г. литовское войско Витовта и Тохтамыша встретилос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. Ворскле (севернее Полтавы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рдынским войск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на Темирь-Кутлуга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ического правителя Орд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ира Эдиге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ороне литовцев был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 западнорусских князей с дружинами и  около сотни тевтонских рыцар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хтамыш привел несколько тысяч татарских вса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нению польских историко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ва на Ворскле был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м сраж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0" y="5367240"/>
            <a:ext cx="33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ов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ий княз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овский и Рус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Витовт_3"/>
          <p:cNvPicPr/>
          <p:nvPr/>
        </p:nvPicPr>
        <p:blipFill>
          <a:blip r:embed="rId1"/>
          <a:stretch/>
        </p:blipFill>
        <p:spPr>
          <a:xfrm>
            <a:off x="0" y="907920"/>
            <a:ext cx="32385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52:04Z</dcterms:created>
  <dc:creator>Admin</dc:creator>
  <dc:description/>
  <dc:language>en-US</dc:language>
  <cp:lastModifiedBy>Коля</cp:lastModifiedBy>
  <dcterms:modified xsi:type="dcterms:W3CDTF">2013-10-04T12:15:10Z</dcterms:modified>
  <cp:revision>28</cp:revision>
  <dc:subject/>
  <dc:title>Московское государство  в конце XIV –  начале XV вв.</dc:title>
</cp:coreProperties>
</file>