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C21-E626-407A-95EE-B627F3BB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55B-629D-45C1-B3B6-668242E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4D8-1226-4CAC-A4C2-62962EF7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C2A-7168-49D3-AA2C-80DFD650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AE32-A66E-456F-8322-8963D2A4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B0DAF-9E71-4B62-99D4-0B7D8CE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70C5B-9271-4D32-A554-308310CA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38550-38A4-4A49-BFDA-0E18E28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3A3C-BB86-45D8-BA3F-863B69E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3E31-FB86-4928-A6AD-8C7BCC6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3C4E-0794-4386-A3BB-B86ED99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335-46EA-4672-9774-D9931E1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E0DFE-2CAF-4AA8-BAE8-C299929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B1383-62D4-4A12-A765-507CCE0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1432C-DD24-453F-87F7-160C7B6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AC8AA-A14F-4D0B-B843-844A664A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B39B7-D2E4-4D13-A6F7-C18912C9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3F1E-4E74-464E-9FA0-3CFB5737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8C00-61FE-42C0-A6B9-1AECAF2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7E60-29A5-430D-9BA2-710775C1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7766-55C3-40F6-AE62-E51764D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0F6E-D82E-41D9-9F83-830563E8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E7B-2CFC-45C9-BA48-66BB223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098C-3839-41C6-8456-338A192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69AD-63CC-4E6B-B6A4-446D74B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7E02-B343-48B8-A15C-5D556A0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88CF-4A2A-4533-B639-C44D3B1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E99B-D4F3-48E9-99A1-E197986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E049-817A-44FB-95BB-28C70336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314C-73EF-4619-A105-069FE542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CCC-D75F-4682-8929-167AD4E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E29-F580-4AB8-B14A-14ED6BB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C74-D676-4D1B-909B-45E7DE9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1E5-6D99-482B-ACA4-53FA16E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981-1076-4AE8-ACF0-A9FFF7F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C73-1589-4D5F-BA93-E25E1D3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6D1-26D7-4963-8817-75ED8C47D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9E1-78AA-48DD-A683-809C2DFBDD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E895-9225-4876-9075-F11D8DC295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esson-history.narod.ru/map/mos-kn.gif" TargetMode="External"/><Relationship Id="rId2" Type="http://schemas.openxmlformats.org/officeDocument/2006/relationships/hyperlink" Target="http://www.allrussias.com/images/bio_vasily.jpg" TargetMode="External"/><Relationship Id="rId3" Type="http://schemas.openxmlformats.org/officeDocument/2006/relationships/hyperlink" Target="http://upload.wikimedia.org/wikipedia/ru/thumb/2/2a/Duchies_of_Mamai.jpg/360px-Duchies_of_Mamai.jpg" TargetMode="External"/><Relationship Id="rId4" Type="http://schemas.openxmlformats.org/officeDocument/2006/relationships/hyperlink" Target="http://www.museum.lviv.ua/index.php?option=com_joomgallery&amp;func=watermark&amp;catid=37&amp;id=213&amp;Itemid=0" TargetMode="External"/><Relationship Id="rId5" Type="http://schemas.openxmlformats.org/officeDocument/2006/relationships/hyperlink" Target="http://lectures.edu.ru/default.asp?ob_no=16558" TargetMode="External"/><Relationship Id="rId6" Type="http://schemas.openxmlformats.org/officeDocument/2006/relationships/hyperlink" Target="http://viol.narod.ru/images/krviola/bell/tohtamish_s.jpg" TargetMode="External"/><Relationship Id="rId7" Type="http://schemas.openxmlformats.org/officeDocument/2006/relationships/hyperlink" Target="http://zhurnal.lib.ru/img/d/dolgaja_g_a/gur-amir/index.shtml" TargetMode="External"/><Relationship Id="rId8" Type="http://schemas.openxmlformats.org/officeDocument/2006/relationships/hyperlink" Target="http://www.castle.lv/person/vkl/k1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Москва</a:t>
            </a:r>
            <a:br>
              <a:rPr sz="8000"/>
            </a:b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и Литв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на рубеже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IV –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V 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вв</a:t>
            </a: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88600" y="6305400"/>
            <a:ext cx="22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Л.А. Кацва, 20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76720" y="907920"/>
            <a:ext cx="5867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закончилась полным разгромом литовско-рус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ажении погибли сражавшие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водительством Витов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й и Дмитрий Ольгердовичи, Дмитрий Боброк-Волынец и другие русские кня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ынцы осадили Киев и заставили горожан уплатить огромный по тому времени выкуп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актически утратил влияние, бежал в Сибирь и позднее был убит сыном Темирь-Кутлуга Шаниб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Эдигея значительно воз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Битва на Ворскле"/>
          <p:cNvPicPr/>
          <p:nvPr/>
        </p:nvPicPr>
        <p:blipFill>
          <a:blip r:embed="rId1"/>
          <a:stretch/>
        </p:blipFill>
        <p:spPr>
          <a:xfrm>
            <a:off x="0" y="907920"/>
            <a:ext cx="3268800" cy="4314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0" y="524844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ва на Ворск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, Москва,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508720" y="764640"/>
            <a:ext cx="36352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коре после бит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орскле Витовт предъявил претензии на Псков, Новгород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«верховские»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между Москвой и Вильно резко ухудш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ому это было выгод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Литва в 15 веке"/>
          <p:cNvPicPr/>
          <p:nvPr/>
        </p:nvPicPr>
        <p:blipFill>
          <a:blip r:embed="rId1"/>
          <a:stretch/>
        </p:blipFill>
        <p:spPr>
          <a:xfrm>
            <a:off x="0" y="765000"/>
            <a:ext cx="5651640" cy="4535640"/>
          </a:xfrm>
          <a:prstGeom prst="rect">
            <a:avLst/>
          </a:prstGeom>
          <a:ln w="0">
            <a:noFill/>
          </a:ln>
        </p:spPr>
      </p:pic>
      <p:sp>
        <p:nvSpPr>
          <p:cNvPr id="212" name="Oval 8"/>
          <p:cNvSpPr/>
          <p:nvPr/>
        </p:nvSpPr>
        <p:spPr>
          <a:xfrm>
            <a:off x="6877080" y="378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0" y="5373720"/>
            <a:ext cx="9144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игей обещал Василию помощь против Витов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08 г. московское и литовское войска вышли на р. У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битвы не дошло: противники помирились, осозна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х вражда на руку только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, 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03280" y="764640"/>
            <a:ext cx="594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же 1408 г. Эдигей вторг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сковские пределы. Ордынцы разорили и сожгли Дмитров, Ростов, Переяславль-Залес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штурм каменных стен Москвы Эдигей не решился, но Москве пришлось увелич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чиваемый Орде «выход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инение Орде, ослабевшее после падения Тохтамыша, вновь усил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0" y="553716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ствие Эдиг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Нашествие Едигея"/>
          <p:cNvPicPr/>
          <p:nvPr/>
        </p:nvPicPr>
        <p:blipFill>
          <a:blip r:embed="rId1"/>
          <a:stretch/>
        </p:blipFill>
        <p:spPr>
          <a:xfrm>
            <a:off x="0" y="765000"/>
            <a:ext cx="32958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9280" y="764640"/>
            <a:ext cx="42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я борьбу с Ордой, Литва продолжала противостоять Тевтонскому орд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0 г. польские и литовские войс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омандование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айло и Витов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лись с тевтонскими рыцарями в битв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рюнвальд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нем. литератур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нненбер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Грюнвальдская битва_Ян Матейко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3452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0" y="4292640"/>
            <a:ext cx="485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юнвальдская б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Ян Матей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5248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о-литовская армия насчитывала 32 тыс.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е войск Витовта были и 3 смоленских по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мия Ордена насчитывала 27 тыс. рыцаре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ных ландскнехтов и пеших наем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5280" y="836280"/>
            <a:ext cx="51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ая конница атаковала левый фланг крестоносце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была отброш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цари начали преследование отступающих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ленские пешие пол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ись на поле бо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овали часть сил Ор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ая конница прорвала правый фланг крестоносце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била атаку рыцарей, вернувшихся после преследования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Грюнвальдская битва"/>
          <p:cNvPicPr/>
          <p:nvPr/>
        </p:nvPicPr>
        <p:blipFill>
          <a:blip r:embed="rId1"/>
          <a:stretch/>
        </p:blipFill>
        <p:spPr>
          <a:xfrm>
            <a:off x="0" y="836640"/>
            <a:ext cx="3949560" cy="4897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0" y="5753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аку поляков поддержали вернувшиеся в битву лит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рыцарей была окружена и пере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96000" y="765000"/>
            <a:ext cx="3348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тысяч воинов Ордена погибл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тыс. поп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ная армия це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сяц осаждала столицу Ордена крепость Мальборк (Мариенбур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После Грюнвальдской битвы_Худ_А_Муха"/>
          <p:cNvPicPr/>
          <p:nvPr/>
        </p:nvPicPr>
        <p:blipFill>
          <a:blip r:embed="rId1"/>
          <a:stretch/>
        </p:blipFill>
        <p:spPr>
          <a:xfrm>
            <a:off x="0" y="806400"/>
            <a:ext cx="5867280" cy="3689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0" y="4508640"/>
            <a:ext cx="5867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Грюнвальдской бит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Альфонс М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042920" y="5157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666440" y="5445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чем значение Грюнвальдской бит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сломлена военно-политическая мощь Орде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ся его быстрый у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ьско-литовская уния 141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10920" y="764640"/>
            <a:ext cx="4465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3 г. между Польш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итвой была заключена новая уния – Городель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а осталась самостоятельной, требовалось лишь согласие польской шляхты на выбор великого князя, а литов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 выбор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х привилегий добилась в Литве католическая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Витовт_1"/>
          <p:cNvPicPr/>
          <p:nvPr/>
        </p:nvPicPr>
        <p:blipFill>
          <a:blip r:embed="rId1"/>
          <a:stretch/>
        </p:blipFill>
        <p:spPr>
          <a:xfrm>
            <a:off x="0" y="765000"/>
            <a:ext cx="241776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Ягайло_3"/>
          <p:cNvPicPr/>
          <p:nvPr/>
        </p:nvPicPr>
        <p:blipFill>
          <a:blip r:embed="rId2"/>
          <a:stretch/>
        </p:blipFill>
        <p:spPr>
          <a:xfrm>
            <a:off x="6837480" y="765000"/>
            <a:ext cx="2306520" cy="3095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0" y="3933720"/>
            <a:ext cx="22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927840" y="3881520"/>
            <a:ext cx="22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исла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324000" y="5373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123920" y="5445000"/>
            <a:ext cx="80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 должно было сказаться на русско-литовских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отношениях предоставление привилегий катол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точная Европа в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твер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онцу 1-й четвер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Московское государство значительно расширило свои границы, ста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ым лидером Северо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ая Русь оставалась под властью Литовско-Русского великого княжества, также претендовавшего на объединение всех русских земель под своим гл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и Вильно соперничали за влия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скове и Нов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еще сильна оставалась Орда. Объединившись под властью эмира Эдигея, она нанесла поражение Литв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, вынудила Москву увеличить «выход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талась стравливать Москву и Вильн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втонский орден после битвы при Грюнваль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 клониться к уп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етилось сближение Литвы и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 знание 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50920" y="981000"/>
            <a:ext cx="396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ы правл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0920" y="1700280"/>
            <a:ext cx="39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Нижн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города к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50920" y="256536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вская у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50920" y="350028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50920" y="4149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д Эдигея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0920" y="486900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50920" y="558972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ельская у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6084720" y="1052640"/>
            <a:ext cx="27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9–1425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4211640" y="112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6084720" y="1773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4211640" y="191628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084720" y="256536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7"/>
          <p:cNvSpPr/>
          <p:nvPr/>
        </p:nvSpPr>
        <p:spPr>
          <a:xfrm>
            <a:off x="4211640" y="2781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6084720" y="3500280"/>
            <a:ext cx="27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4211640" y="3573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6084720" y="414972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/>
          <p:cNvSpPr/>
          <p:nvPr/>
        </p:nvSpPr>
        <p:spPr>
          <a:xfrm>
            <a:off x="4211640" y="429264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084720" y="486900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4211640" y="494172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084720" y="558972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4211640" y="580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2–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sson-history.narod.ru/map/mos-k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russias.com/images/bio_vasil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pload.wikimedia.org/wikipedia/ru/thumb/2/2a/Duchies_of_Mamai.jpg/360px-Duchies_of_Mama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useum.lviv.ua/index.php?option=com_joomgallery&amp;func=watermark&amp;catid=37&amp;id=213&amp;Itemid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ectures.edu.ru/default.asp?ob_no=165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viol.narod.ru/images/krviola/bell/tohtamish_s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zhurnal.lib.ru/img/d/dolgaja_g_a/gur-amir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astle.lv/person/vkl/k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. http://www.hrono.ru/statii/2009/1399vorskl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1. http://upload.wikimedia.org/wikipedia/commons/a/a9/VKL-1462-ru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2. http://www.runivers.ru/images/date/2009_december/01/e_18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3. http://wildhunting.narod.ru/photos/grun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4. http://www.bg-znanie.ru/articles/1302/Grunval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5. http://smallbay.ru/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6. http://wildhunting.narod.ru/photos/vitov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kpu.lublin.pl/wyklady/zulynski/1/Image17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16720" y="765000"/>
            <a:ext cx="262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княж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, бесспорно, сильнейшим княжеством Сев.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Московского княжества вошли белозерские, костромские, галицкие, углицкие, дмитровские зем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территории великого Владимирского кн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ин князь Северо-Восточной Рус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не оспаривал первенства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16720" y="836280"/>
            <a:ext cx="262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–1393 г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скве были присоединены Муромско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уздальско-Нижегородское княжества, Городец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ру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0" y="501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сь присоединение к московским владениям вологодских и устюжских земель на р. Сух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19280" y="836640"/>
            <a:ext cx="5724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ое боярство торопилось перейти на сторону великого кня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городские бояре заявили своему князю: «</a:t>
            </a: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Княже, господине! Не надейся на ны, уже бо мы отныне не твои и несть есмя с тобо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но на тя ес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Чем объясняется отказ местных бояр от верности своим князь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ыстрый переход на сторону великого князя позволял местным боярам сохранить свои вот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5157720"/>
            <a:ext cx="3419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ич, Великий князь Москов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ладимирск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89–14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из «Титуляр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796000" y="357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Василий I Дмитриевич_2"/>
          <p:cNvPicPr/>
          <p:nvPr/>
        </p:nvPicPr>
        <p:blipFill>
          <a:blip r:embed="rId1"/>
          <a:stretch/>
        </p:blipFill>
        <p:spPr>
          <a:xfrm>
            <a:off x="0" y="765000"/>
            <a:ext cx="342756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36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соперником Моск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–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 явля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е княже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ое и Рус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став входила большая часть западнорусских земель: Киевское, Переяславское, Новгород-Северское, Черниговское, Волынское,  Полоцкое, Минское, Гродненское кня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ую часть населения составляли славян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лавянский язык, близ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аробелорусскому, был государственным наря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итов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Литва в 13-15 веке_2"/>
          <p:cNvPicPr/>
          <p:nvPr/>
        </p:nvPicPr>
        <p:blipFill>
          <a:blip r:embed="rId1"/>
          <a:stretch/>
        </p:blipFill>
        <p:spPr>
          <a:xfrm>
            <a:off x="0" y="836640"/>
            <a:ext cx="38149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00000" y="764640"/>
            <a:ext cx="644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похода Тохтамыша в 1382 г. литовский великий князь Ягай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ался от намерения жен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чери Дмитрия Дон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ить Литву в правосла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85 г. он женился на польской королеве Ядвиге (наследнице династии Пяст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ал польским королем Владислав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новав династию Ягелл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заключена польско-Литовская Кревская у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цы-язычники были крещен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толическому об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0" y="47242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4" descr="Ягайло_4"/>
          <p:cNvPicPr/>
          <p:nvPr/>
        </p:nvPicPr>
        <p:blipFill>
          <a:blip r:embed="rId1"/>
          <a:stretch/>
        </p:blipFill>
        <p:spPr>
          <a:xfrm>
            <a:off x="0" y="692280"/>
            <a:ext cx="27320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76720" y="691920"/>
            <a:ext cx="5867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 г. великим князем Литвы ста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ов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оюродный брат Ягай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ий король остался верховным сюзереном великого княжества, но практически не вмешивался в е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 1390 г. Витовт выдал свою дочь Софью за московского великого княз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 время Витовт был самым могущественным среди русских князей. Иные русские князья называли его даже не «братом старейшим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«отцом» или «дедом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6 г. Витовт и Василий Дмитриевич договорились в Смоленс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овместном противостоянии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4508640"/>
            <a:ext cx="3203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митр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фья Витовт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жизненное изображение на саккос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а Фо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Василий I и Софья Витовтовна"/>
          <p:cNvPicPr/>
          <p:nvPr/>
        </p:nvPicPr>
        <p:blipFill>
          <a:blip r:embed="rId1"/>
          <a:stretch/>
        </p:blipFill>
        <p:spPr>
          <a:xfrm>
            <a:off x="0" y="765000"/>
            <a:ext cx="333216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00360" y="836640"/>
            <a:ext cx="3527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5 г. в Литву, под защиту Витовта бежал хан Золотой Орды Тохтамыш, потерпевший поражение от Тим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итовта появился шанс подчинить Ор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Izhitsa"/>
              </a:rPr>
              <a:t>Посадим во Орде царя Тохтамыша и то все будет наше, и царь наш, и мы не толико Литовскую землю владети, но и всеми велими княжени рус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Тамерлан_1"/>
          <p:cNvPicPr/>
          <p:nvPr/>
        </p:nvPicPr>
        <p:blipFill>
          <a:blip r:embed="rId1"/>
          <a:stretch/>
        </p:blipFill>
        <p:spPr>
          <a:xfrm>
            <a:off x="6365880" y="765000"/>
            <a:ext cx="2778120" cy="374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Тохтамыш_2"/>
          <p:cNvPicPr/>
          <p:nvPr/>
        </p:nvPicPr>
        <p:blipFill>
          <a:blip r:embed="rId2"/>
          <a:stretch/>
        </p:blipFill>
        <p:spPr>
          <a:xfrm>
            <a:off x="0" y="765000"/>
            <a:ext cx="2620800" cy="3743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6372360" y="4508640"/>
            <a:ext cx="27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мур (Тамерла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среднеазиат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оев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0" y="4508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хтамыш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н Золотой О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971640" y="522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0" y="6093000"/>
            <a:ext cx="29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овы были цел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итов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57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вгусте 1399 г. литовское войско Витовта и Тохтамыша встрети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 (севернее Полтавы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рдынским войс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на Темирь-Кутлуг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ического правителя Ор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ира Эдиг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ороне литовцев бы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 западнорусских князей с дружинами и  около сотни тевтонских рыца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ивел несколько тысяч татарских вс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нению польских историк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 бы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м сраж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0" y="5367240"/>
            <a:ext cx="33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Витовт_3"/>
          <p:cNvPicPr/>
          <p:nvPr/>
        </p:nvPicPr>
        <p:blipFill>
          <a:blip r:embed="rId1"/>
          <a:stretch/>
        </p:blipFill>
        <p:spPr>
          <a:xfrm>
            <a:off x="0" y="9079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52:04Z</dcterms:created>
  <dc:creator>Admin</dc:creator>
  <dc:description/>
  <dc:language>en-US</dc:language>
  <cp:lastModifiedBy>Коля</cp:lastModifiedBy>
  <dcterms:modified xsi:type="dcterms:W3CDTF">2013-10-04T12:15:10Z</dcterms:modified>
  <cp:revision>28</cp:revision>
  <dc:subject/>
  <dc:title>Московское государство  в конце XIV –  начале XV вв.</dc:title>
</cp:coreProperties>
</file>