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AF8-6E3D-42E3-8FB7-68605421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C80B-4E37-4A5C-A21F-1AADA940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F70-B79C-4BCB-A133-C1BED85E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658-CCAC-4011-9606-17E3BBF1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7B46F-AE27-4809-B388-8E350931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DB97A-824E-4E27-81A1-5388B03A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38894-D503-4181-BACE-EFDF7555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673F9-7C51-44B1-87B1-CFBD700A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A1D5F-C35D-4F77-8DB2-A2595CB8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1162D-43E2-49FB-B85E-A625A562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EA727-9CD5-4F53-9527-D9BCB290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A34-1BB4-4D34-99DE-4E1C1A40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06DCD-ACD6-4411-A38B-739B191E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92165-0EB7-4E2E-B13E-1CD8D5D8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EB709-3268-40D0-91DE-F1429749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09442-F99B-4889-A0E3-2D57C5F6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1D56E-05F3-4717-8C8E-6064A1B2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D741-EBF5-4A04-9EA1-F2EC5B1C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531A7-D839-429B-8ACB-06237EAD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89C72-AA12-45AE-87A5-A85348DB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E2095-A93F-469D-882F-F89046AE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8E93A-2F68-4E1E-9DA4-5A5FB3E8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B4F-D873-4040-80C7-3A5F0D02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9E26A-0B10-4ECF-A8E0-81E6D99A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D7576-4628-4A0E-ACD6-D91C00DE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A21B-E718-47F5-B603-C841602B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93025-0CA8-47CF-B1E5-1C11524B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D4FD3-03D3-4CF8-A149-C0B8E4BF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3901E-3EC4-4600-8BD3-4AFB6E3C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7B3DC-DD30-421D-80B4-6908CC8B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DCAD-03A3-4C4B-93E8-D49046F3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95D-687F-4D35-8539-BAF8DBEF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328-4290-4DC8-B78A-921E0A93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DDF-F893-4FB9-872B-920B8CD6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A94-C466-413E-82E1-C1D8F8ED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FBB-5AF3-4D9E-B80D-E4E09190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D8BF-2E05-426C-B216-C6F525734B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75D4-140B-42A6-898B-39732424DC2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CAA6-FB24-440A-8E87-C1075128310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lesson-history.narod.ru/map/mos-kn.gif" TargetMode="External"/><Relationship Id="rId2" Type="http://schemas.openxmlformats.org/officeDocument/2006/relationships/hyperlink" Target="http://www.allrussias.com/images/bio_vasily.jpg" TargetMode="External"/><Relationship Id="rId3" Type="http://schemas.openxmlformats.org/officeDocument/2006/relationships/hyperlink" Target="http://upload.wikimedia.org/wikipedia/ru/thumb/2/2a/Duchies_of_Mamai.jpg/360px-Duchies_of_Mamai.jpg" TargetMode="External"/><Relationship Id="rId4" Type="http://schemas.openxmlformats.org/officeDocument/2006/relationships/hyperlink" Target="http://www.museum.lviv.ua/index.php?option=com_joomgallery&amp;func=watermark&amp;catid=37&amp;id=213&amp;Itemid=0" TargetMode="External"/><Relationship Id="rId5" Type="http://schemas.openxmlformats.org/officeDocument/2006/relationships/hyperlink" Target="http://lectures.edu.ru/default.asp?ob_no=16558" TargetMode="External"/><Relationship Id="rId6" Type="http://schemas.openxmlformats.org/officeDocument/2006/relationships/hyperlink" Target="http://viol.narod.ru/images/krviola/bell/tohtamish_s.jpg" TargetMode="External"/><Relationship Id="rId7" Type="http://schemas.openxmlformats.org/officeDocument/2006/relationships/hyperlink" Target="http://zhurnal.lib.ru/img/d/dolgaja_g_a/gur-amir/index.shtml" TargetMode="External"/><Relationship Id="rId8" Type="http://schemas.openxmlformats.org/officeDocument/2006/relationships/hyperlink" Target="http://www.castle.lv/person/vkl/k1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cc"/>
                </a:solidFill>
                <a:latin typeface="Arial Black"/>
              </a:rPr>
              <a:t>Москва</a:t>
            </a:r>
            <a:br>
              <a:rPr sz="8000"/>
            </a:br>
            <a:r>
              <a:rPr b="0" lang="ru-RU" sz="8000" spc="-1" strike="noStrike">
                <a:solidFill>
                  <a:srgbClr val="ffffcc"/>
                </a:solidFill>
                <a:latin typeface="Arial Black"/>
              </a:rPr>
              <a:t>и Литва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800"/>
            </a:br>
            <a:r>
              <a:rPr b="1" lang="ru-RU" sz="6000" spc="-1" strike="noStrike">
                <a:solidFill>
                  <a:srgbClr val="ffffcc"/>
                </a:solidFill>
                <a:latin typeface="Arial Black"/>
              </a:rPr>
              <a:t>на рубеже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Arial Black"/>
              </a:rPr>
              <a:t>XIV –</a:t>
            </a:r>
            <a:r>
              <a:rPr b="1" lang="ru-RU" sz="60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en-US" sz="6000" spc="-1" strike="noStrike">
                <a:solidFill>
                  <a:srgbClr val="ffffcc"/>
                </a:solidFill>
                <a:latin typeface="Arial Black"/>
              </a:rPr>
              <a:t>XV </a:t>
            </a:r>
            <a:r>
              <a:rPr b="1" lang="ru-RU" sz="6000" spc="-1" strike="noStrike">
                <a:solidFill>
                  <a:srgbClr val="ffffcc"/>
                </a:solidFill>
                <a:latin typeface="Arial Black"/>
              </a:rPr>
              <a:t>вв</a:t>
            </a:r>
            <a:r>
              <a:rPr b="1" lang="ru-RU" sz="3600" spc="-1" strike="noStrike">
                <a:solidFill>
                  <a:srgbClr val="ffffcc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88600" y="6305400"/>
            <a:ext cx="225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Л.А. Кацва, 20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ва и Орда. Битва на Ворск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76720" y="907920"/>
            <a:ext cx="5867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тва закончилась полным разгромом литовско-русск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ражении погибли сражавшие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водительством Витов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дрей и Дмитрий Ольгердовичи, Дмитрий Боброк-Волынец и другие русские княз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дынцы осадили Киев и заставили горожан уплатить огромный по тому времени выкуп –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хтамыш практически утратил влияние, бежал в Сибирь и позднее был убит сыном Темирь-Кутлуга Шаниб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Эдигея значительно возро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Битва на Ворскле"/>
          <p:cNvPicPr/>
          <p:nvPr/>
        </p:nvPicPr>
        <p:blipFill>
          <a:blip r:embed="rId1"/>
          <a:stretch/>
        </p:blipFill>
        <p:spPr>
          <a:xfrm>
            <a:off x="0" y="907920"/>
            <a:ext cx="3268800" cy="43149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0" y="5248440"/>
            <a:ext cx="3203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ва на Ворск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Лицевого с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ва, Москва, О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508720" y="764640"/>
            <a:ext cx="36352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коре после битв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орскле Витовт предъявил претензии на Псков, Новгород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«верховские»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 между Москвой и Вильно резко ухудш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Кому это было выгод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Литва в 15 веке"/>
          <p:cNvPicPr/>
          <p:nvPr/>
        </p:nvPicPr>
        <p:blipFill>
          <a:blip r:embed="rId1"/>
          <a:stretch/>
        </p:blipFill>
        <p:spPr>
          <a:xfrm>
            <a:off x="0" y="765000"/>
            <a:ext cx="5651640" cy="4535640"/>
          </a:xfrm>
          <a:prstGeom prst="rect">
            <a:avLst/>
          </a:prstGeom>
          <a:ln w="0">
            <a:noFill/>
          </a:ln>
        </p:spPr>
      </p:pic>
      <p:sp>
        <p:nvSpPr>
          <p:cNvPr id="212" name="Oval 8"/>
          <p:cNvSpPr/>
          <p:nvPr/>
        </p:nvSpPr>
        <p:spPr>
          <a:xfrm>
            <a:off x="6877080" y="378936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0" y="5373720"/>
            <a:ext cx="914400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дигей обещал Василию помощь против Витов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408 г. московское и литовское войска вышли на р. Уг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битвы не дошло: противники помирились, осознав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их вражда на руку только Ор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, Литва и О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03280" y="764640"/>
            <a:ext cx="5940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же 1408 г. Эдигей вторгс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осковские пределы. Ордынцы разорили и сожгли Дмитров, Ростов, Переяславль-Залес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штурм каменных стен Москвы Эдигей не решился, но Москве пришлось увеличи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лачиваемый Орде «выход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чинение Орде, ослабевшее после падения Тохтамыша, вновь усил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0" y="5537160"/>
            <a:ext cx="3203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ествие Эдиг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Лицевого с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Нашествие Едигея"/>
          <p:cNvPicPr/>
          <p:nvPr/>
        </p:nvPicPr>
        <p:blipFill>
          <a:blip r:embed="rId1"/>
          <a:stretch/>
        </p:blipFill>
        <p:spPr>
          <a:xfrm>
            <a:off x="0" y="765000"/>
            <a:ext cx="329580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юнвальдская б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859280" y="764640"/>
            <a:ext cx="428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я борьбу с Ордой, Литва продолжала противостоять Тевтонскому орд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410 г. польские и литовские войс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командование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гайло и Витов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тились с тевтонскими рыцарями в битв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Грюнвальд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нем. литературе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Танненберг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Грюнвальдская битва_Ян Матейко"/>
          <p:cNvPicPr/>
          <p:nvPr/>
        </p:nvPicPr>
        <p:blipFill>
          <a:blip r:embed="rId1"/>
          <a:stretch/>
        </p:blipFill>
        <p:spPr>
          <a:xfrm>
            <a:off x="0" y="836640"/>
            <a:ext cx="4859280" cy="34527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0" y="4292640"/>
            <a:ext cx="4859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юнвальдская би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. Ян Матей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0" y="52484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ско-литовская армия насчитывала 32 тыс.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е войск Витовта были и 3 смоленских по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мия Ордена насчитывала 27 тыс. рыцаре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ных ландскнехтов и пеших наем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3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юнвальдская б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95280" y="836280"/>
            <a:ext cx="51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овская конница атаковала левый фланг крестоносцев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была отброш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цари начали преследование отступающих литов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оленские пешие пол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ись на поле бо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ковали часть сил Орд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ская конница прорвала правый фланг крестоносце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била атаку рыцарей, вернувшихся после преследования литов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Грюнвальдская битва"/>
          <p:cNvPicPr/>
          <p:nvPr/>
        </p:nvPicPr>
        <p:blipFill>
          <a:blip r:embed="rId1"/>
          <a:stretch/>
        </p:blipFill>
        <p:spPr>
          <a:xfrm>
            <a:off x="0" y="836640"/>
            <a:ext cx="3949560" cy="4897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7"/>
          <p:cNvSpPr/>
          <p:nvPr/>
        </p:nvSpPr>
        <p:spPr>
          <a:xfrm>
            <a:off x="0" y="5753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аку поляков поддержали вернувшиеся в битву лит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часть рыцарей была окружена и переб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юнвальдская бит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96000" y="765000"/>
            <a:ext cx="3348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тысяч воинов Ордена погибл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 тыс. попа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юзная армия цел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сяц осаждала столицу Ордена крепость Мальборк (Мариенбур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После Грюнвальдской битвы_Худ_А_Муха"/>
          <p:cNvPicPr/>
          <p:nvPr/>
        </p:nvPicPr>
        <p:blipFill>
          <a:blip r:embed="rId1"/>
          <a:stretch/>
        </p:blipFill>
        <p:spPr>
          <a:xfrm>
            <a:off x="0" y="806400"/>
            <a:ext cx="5867280" cy="36892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0" y="4508640"/>
            <a:ext cx="5867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Грюнвальдской бит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. Альфонс М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1042920" y="51577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666440" y="5445000"/>
            <a:ext cx="67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 чем значение Грюнвальдской бит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а сломлена военно-политическая мощь Орде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ся его быстрый упа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ьско-литовская уния 1413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10920" y="764640"/>
            <a:ext cx="4465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413 г. между Польш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Литвой была заключена новая уния – Городель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ва осталась самостоятельной, требовалось лишь согласие польской шляхты на выбор великого князя, а литов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а выбор ко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х привилегий добилась в Литве католическая церк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Витовт_1"/>
          <p:cNvPicPr/>
          <p:nvPr/>
        </p:nvPicPr>
        <p:blipFill>
          <a:blip r:embed="rId1"/>
          <a:stretch/>
        </p:blipFill>
        <p:spPr>
          <a:xfrm>
            <a:off x="0" y="765000"/>
            <a:ext cx="2417760" cy="3168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Ягайло_3"/>
          <p:cNvPicPr/>
          <p:nvPr/>
        </p:nvPicPr>
        <p:blipFill>
          <a:blip r:embed="rId2"/>
          <a:stretch/>
        </p:blipFill>
        <p:spPr>
          <a:xfrm>
            <a:off x="6837480" y="765000"/>
            <a:ext cx="2306520" cy="3095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0" y="3933720"/>
            <a:ext cx="226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ов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княз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овск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ус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6927840" y="3881520"/>
            <a:ext cx="221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исла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гайл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л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324000" y="53737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1123920" y="5445000"/>
            <a:ext cx="80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Как должно было сказаться на русско-литовских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отношениях предоставление привилегий католик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точная Европа в 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етверт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концу 1-й четвер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Московское государство значительно расширило свои границы, стал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условным лидером Северо-Восточной Ру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адная Русь оставалась под властью Литовско-Русского великого княжества, также претендовавшего на объединение всех русских земель под своим гл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и Вильно соперничали за влия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скове и Новго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еще сильна оставалась Орда. Объединившись под властью эмира Эдигея, она нанесла поражение Литв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. Ворскле, вынудила Москву увеличить «выход»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талась стравливать Москву и Вильн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втонский орден после битвы при Грюнвальд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 клониться к упад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етилось сближение Литвы и Поль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ь знание д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250920" y="981000"/>
            <a:ext cx="3960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ы правления Васил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50920" y="1700280"/>
            <a:ext cx="39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оединение Нижнег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города к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50920" y="256536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вская у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вы и Поль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250920" y="3500280"/>
            <a:ext cx="39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тва на Ворск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250920" y="414972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од Эдигея на Мос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250920" y="4869000"/>
            <a:ext cx="39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юнвальдская би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250920" y="5589720"/>
            <a:ext cx="396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ельская у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вы и Поль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6084720" y="1052640"/>
            <a:ext cx="273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89–1425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1"/>
          <p:cNvSpPr/>
          <p:nvPr/>
        </p:nvSpPr>
        <p:spPr>
          <a:xfrm>
            <a:off x="4211640" y="1125360"/>
            <a:ext cx="1873080" cy="287640"/>
          </a:xfrm>
          <a:prstGeom prst="rightArrow">
            <a:avLst>
              <a:gd name="adj1" fmla="val 50000"/>
              <a:gd name="adj2" fmla="val 16279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2"/>
          <p:cNvSpPr/>
          <p:nvPr/>
        </p:nvSpPr>
        <p:spPr>
          <a:xfrm>
            <a:off x="6084720" y="1773360"/>
            <a:ext cx="27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4"/>
          <p:cNvSpPr/>
          <p:nvPr/>
        </p:nvSpPr>
        <p:spPr>
          <a:xfrm>
            <a:off x="4211640" y="1916280"/>
            <a:ext cx="1873080" cy="288720"/>
          </a:xfrm>
          <a:prstGeom prst="rightArrow">
            <a:avLst>
              <a:gd name="adj1" fmla="val 50000"/>
              <a:gd name="adj2" fmla="val 16218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6084720" y="2565360"/>
            <a:ext cx="273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8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7"/>
          <p:cNvSpPr/>
          <p:nvPr/>
        </p:nvSpPr>
        <p:spPr>
          <a:xfrm>
            <a:off x="4211640" y="2781360"/>
            <a:ext cx="1873080" cy="287280"/>
          </a:xfrm>
          <a:prstGeom prst="rightArrow">
            <a:avLst>
              <a:gd name="adj1" fmla="val 50000"/>
              <a:gd name="adj2" fmla="val 16300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8"/>
          <p:cNvSpPr/>
          <p:nvPr/>
        </p:nvSpPr>
        <p:spPr>
          <a:xfrm>
            <a:off x="6084720" y="3500280"/>
            <a:ext cx="273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9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4211640" y="3573360"/>
            <a:ext cx="1873080" cy="287280"/>
          </a:xfrm>
          <a:prstGeom prst="rightArrow">
            <a:avLst>
              <a:gd name="adj1" fmla="val 50000"/>
              <a:gd name="adj2" fmla="val 16300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1"/>
          <p:cNvSpPr/>
          <p:nvPr/>
        </p:nvSpPr>
        <p:spPr>
          <a:xfrm>
            <a:off x="6084720" y="4149720"/>
            <a:ext cx="27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3"/>
          <p:cNvSpPr/>
          <p:nvPr/>
        </p:nvSpPr>
        <p:spPr>
          <a:xfrm>
            <a:off x="4211640" y="4292640"/>
            <a:ext cx="1873080" cy="288720"/>
          </a:xfrm>
          <a:prstGeom prst="rightArrow">
            <a:avLst>
              <a:gd name="adj1" fmla="val 50000"/>
              <a:gd name="adj2" fmla="val 16218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6084720" y="4869000"/>
            <a:ext cx="27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6"/>
          <p:cNvSpPr/>
          <p:nvPr/>
        </p:nvSpPr>
        <p:spPr>
          <a:xfrm>
            <a:off x="4211640" y="4941720"/>
            <a:ext cx="1873080" cy="287640"/>
          </a:xfrm>
          <a:prstGeom prst="rightArrow">
            <a:avLst>
              <a:gd name="adj1" fmla="val 50000"/>
              <a:gd name="adj2" fmla="val 16279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084720" y="5589720"/>
            <a:ext cx="273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1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8"/>
          <p:cNvSpPr/>
          <p:nvPr/>
        </p:nvSpPr>
        <p:spPr>
          <a:xfrm>
            <a:off x="4211640" y="5805360"/>
            <a:ext cx="1873080" cy="287640"/>
          </a:xfrm>
          <a:prstGeom prst="rightArrow">
            <a:avLst>
              <a:gd name="adj1" fmla="val 50000"/>
              <a:gd name="adj2" fmla="val 16279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2–3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esson-history.narod.ru/map/mos-kn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lrussias.com/images/bio_vasil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5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upload.wikimedia.org/wikipedia/ru/thumb/2/2a/Duchies_of_Mamai.jpg/360px-Duchies_of_Mamai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useum.lviv.ua/index.php?option=com_joomgallery&amp;func=watermark&amp;catid=37&amp;id=213&amp;Itemid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7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lectures.edu.ru/default.asp?ob_no=165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8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viol.narod.ru/images/krviola/bell/tohtamish_s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zhurnal.lib.ru/img/d/dolgaja_g_a/gur-amir/index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9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castle.lv/person/vkl/k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0. http://www.hrono.ru/statii/2009/1399vorskl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1. http://upload.wikimedia.org/wikipedia/commons/a/a9/VKL-1462-ru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2. http://www.runivers.ru/images/date/2009_december/01/e_18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3. http://wildhunting.narod.ru/photos/grun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4. http://www.bg-znanie.ru/articles/1302/Grunval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5. http://smallbay.ru/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6. http://wildhunting.narod.ru/photos/vitov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ekpu.lublin.pl/wyklady/zulynski/1/Image17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овская Русь при Василии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16720" y="765000"/>
            <a:ext cx="262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княжения Васил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а, бесспорно, сильнейшим княжеством Сев.-Восточной Ру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Московское княжество 1340–1462"/>
          <p:cNvPicPr/>
          <p:nvPr/>
        </p:nvPicPr>
        <p:blipFill>
          <a:blip r:embed="rId1"/>
          <a:stretch/>
        </p:blipFill>
        <p:spPr>
          <a:xfrm>
            <a:off x="0" y="765000"/>
            <a:ext cx="6516720" cy="4203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0" y="4941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 Московского княжества вошли белозерские, костромские, галицкие, углицкие, дмитровские зем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территории великого Владимирского кн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один князь Северо-Восточной Рус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не оспаривал первенства Мос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овская Русь при Василии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16720" y="836280"/>
            <a:ext cx="262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392–1393 г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Москве были присоединены Муромско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уздальско-Нижегородское княжества, Городец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ару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Московское княжество 1340–1462"/>
          <p:cNvPicPr/>
          <p:nvPr/>
        </p:nvPicPr>
        <p:blipFill>
          <a:blip r:embed="rId1"/>
          <a:stretch/>
        </p:blipFill>
        <p:spPr>
          <a:xfrm>
            <a:off x="0" y="765000"/>
            <a:ext cx="6516720" cy="4203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0" y="501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сь присоединение к московским владениям вологодских и устюжских земель на р. Сух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овская Русь при Василии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19280" y="836640"/>
            <a:ext cx="5724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ное боярство торопилось перейти на сторону великого княз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жегородские бояре заявили своему князю: «</a:t>
            </a:r>
            <a:r>
              <a:rPr b="0" lang="ru-RU" sz="2400" spc="-1" strike="noStrike">
                <a:solidFill>
                  <a:srgbClr val="000000"/>
                </a:solidFill>
                <a:latin typeface="Izhitza"/>
              </a:rPr>
              <a:t>Княже, господине! Не надейся на ны, уже бо мы отныне не твои и несть есмя с тобою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Izhitza"/>
              </a:rPr>
              <a:t>но на тя ес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Чем объясняется отказ местных бояр от верности своим князья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быстрый переход на сторону великого князя позволял местным боярам сохранить свои вот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0" y="5157720"/>
            <a:ext cx="34196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силий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митриевич, Великий князь Москов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ладимирски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89–14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атюра из «Титулярн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5796000" y="357336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Василий I Дмитриевич_2"/>
          <p:cNvPicPr/>
          <p:nvPr/>
        </p:nvPicPr>
        <p:blipFill>
          <a:blip r:embed="rId1"/>
          <a:stretch/>
        </p:blipFill>
        <p:spPr>
          <a:xfrm>
            <a:off x="0" y="765000"/>
            <a:ext cx="342756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и Л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80000" y="836640"/>
            <a:ext cx="536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м соперником Москв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убе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V–X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. являлос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ое княжеств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овское и Рус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его состав входила большая часть западнорусских земель: Киевское, Переяславское, Новгород-Северское, Черниговское, Волынское,  Полоцкое, Минское, Гродненское княж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ую часть населения составляли славяне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славянский язык, близк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старобелорусскому, был государственным наряд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литов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Литва в 13-15 веке_2"/>
          <p:cNvPicPr/>
          <p:nvPr/>
        </p:nvPicPr>
        <p:blipFill>
          <a:blip r:embed="rId1"/>
          <a:stretch/>
        </p:blipFill>
        <p:spPr>
          <a:xfrm>
            <a:off x="0" y="836640"/>
            <a:ext cx="381492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и Л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700000" y="764640"/>
            <a:ext cx="6443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похода Тохтамыша в 1382 г. литовский великий князь Ягайл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ался от намерения жени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очери Дмитрия Донск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ить Литву в правосла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385 г. он женился на польской королеве Ядвиге (наследнице династии Пястов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тал польским королем Владислав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сновав династию Ягелл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а заключена польско-Литовская Кревская у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овцы-язычники были крещен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атолическому обря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0" y="472428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гайл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ль Поль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4" descr="Ягайло_4"/>
          <p:cNvPicPr/>
          <p:nvPr/>
        </p:nvPicPr>
        <p:blipFill>
          <a:blip r:embed="rId1"/>
          <a:stretch/>
        </p:blipFill>
        <p:spPr>
          <a:xfrm>
            <a:off x="0" y="692280"/>
            <a:ext cx="2732040" cy="403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и Л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76720" y="691920"/>
            <a:ext cx="58672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392 г. великим князем Литвы ста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ов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воюродный брат Ягай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ский король остался верховным сюзереном великого княжества, но практически не вмешивался в его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в 1390 г. Витовт выдал свою дочь Софью за московского великого князя Васил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митриеви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 время Витовт был самым могущественным среди русских князей. Иные русские князья называли его даже не «братом старейшим»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«отцом» или «дедом»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396 г. Витовт и Василий Дмитриевич договорились в Смоленс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совместном противостоянии Ор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0" y="4508640"/>
            <a:ext cx="32036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сил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митриев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офья Витовт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жизненное изображение на саккос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трополита Фо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Василий I и Софья Витовтовна"/>
          <p:cNvPicPr/>
          <p:nvPr/>
        </p:nvPicPr>
        <p:blipFill>
          <a:blip r:embed="rId1"/>
          <a:stretch/>
        </p:blipFill>
        <p:spPr>
          <a:xfrm>
            <a:off x="0" y="765000"/>
            <a:ext cx="3332160" cy="3743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ва и О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00360" y="836640"/>
            <a:ext cx="35272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395 г. в Литву, под защиту Витовта бежал хан Золотой Орды Тохтамыш, потерпевший поражение от Тим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итовта появился шанс подчинить Ор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Izhitsa"/>
              </a:rPr>
              <a:t>Посадим во Орде царя Тохтамыша и то все будет наше, и царь наш, и мы не толико Литовскую землю владети, но и всеми велими княжени руски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Тамерлан_1"/>
          <p:cNvPicPr/>
          <p:nvPr/>
        </p:nvPicPr>
        <p:blipFill>
          <a:blip r:embed="rId1"/>
          <a:stretch/>
        </p:blipFill>
        <p:spPr>
          <a:xfrm>
            <a:off x="6365880" y="765000"/>
            <a:ext cx="2778120" cy="3743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Тохтамыш_2"/>
          <p:cNvPicPr/>
          <p:nvPr/>
        </p:nvPicPr>
        <p:blipFill>
          <a:blip r:embed="rId2"/>
          <a:stretch/>
        </p:blipFill>
        <p:spPr>
          <a:xfrm>
            <a:off x="0" y="765000"/>
            <a:ext cx="2620800" cy="37436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4"/>
          <p:cNvSpPr/>
          <p:nvPr/>
        </p:nvSpPr>
        <p:spPr>
          <a:xfrm>
            <a:off x="6372360" y="4508640"/>
            <a:ext cx="27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мур (Тамерлан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среднеазиат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оева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0" y="450864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хтамыш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н Золотой Ор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971640" y="522936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0" y="6093000"/>
            <a:ext cx="29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Каковы были цели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итов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3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ва и Орда. Битва на Ворск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348000" y="907920"/>
            <a:ext cx="579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вгусте 1399 г. литовское войско Витовта и Тохтамыша встретилос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. Ворскле (севернее Полтавы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рдынским войск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на Темирь-Кутлуга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ического правителя Орд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ира Эдиге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тороне литовцев был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 западнорусских князей с дружинами и  около сотни тевтонских рыцар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хтамыш привел несколько тысяч татарских вса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нению польских историков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тва на Ворскле был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ейшим сраже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0" y="5367240"/>
            <a:ext cx="33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ов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княз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овский и Рус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Витовт_3"/>
          <p:cNvPicPr/>
          <p:nvPr/>
        </p:nvPicPr>
        <p:blipFill>
          <a:blip r:embed="rId1"/>
          <a:stretch/>
        </p:blipFill>
        <p:spPr>
          <a:xfrm>
            <a:off x="0" y="907920"/>
            <a:ext cx="32385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52:04Z</dcterms:created>
  <dc:creator>Admin</dc:creator>
  <dc:description/>
  <dc:language>en-US</dc:language>
  <cp:lastModifiedBy>Коля</cp:lastModifiedBy>
  <dcterms:modified xsi:type="dcterms:W3CDTF">2013-10-04T12:15:10Z</dcterms:modified>
  <cp:revision>28</cp:revision>
  <dc:subject/>
  <dc:title>Московское государство  в конце XIV –  начале XV вв.</dc:title>
</cp:coreProperties>
</file>