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CE4-F124-4CB1-AD6F-71F5F865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B6F-3B3B-42E4-A167-5C4D2BB0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166-9562-4F9C-B4CD-FB91165C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7BC-E35C-47B9-9953-C6572EFF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B465C-2B19-41C4-AFEF-1ED27C8E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2F28E-B705-47AF-8741-C6C9ADED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B9410-3564-49EB-8669-767FA7B2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294A7-FFEF-4D6E-A891-2CA5C177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5872-F9CB-47ED-83C4-397ACF58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CA5A7-1FE7-4130-920C-1CE035D2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1B14-D987-46A8-8FE5-81A8414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455-9CD2-4DA2-9CEB-975D309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FC1CF-7D5A-4D7E-9D46-4D6FFBD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283FB-0354-4078-9C91-AC6FF20E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73EB5-91FA-4CFB-A3E5-7E74818C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A98F-9C5A-4A72-93A7-A51A2111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89BA0-ACBA-4CF1-B014-9504B936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B6F-3485-412A-9D6B-D1124C72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6B4-EB2A-423B-BA47-0F2AD3B2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3B2-94E6-4F0B-9443-19427B5D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FE2-2176-4F42-9786-FE45564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D4E-0252-4250-A1B4-3C854C5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C70-613F-4127-854B-9E2D4BE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DE1-DA75-4ED5-8DFF-D936328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C9DA-5917-4D2C-87A0-90BCEC0F2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DA75-1F4C-4D73-9636-EA14D1A72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85c00"/>
                </a:solidFill>
                <a:latin typeface="Tahoma"/>
              </a:rPr>
              <a:t>Мифы о школьном психолог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10312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молодого специалиста о должности школьного психолог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кольный психолог – это такой человек, у которого есть свой кабинет, уютный, с цветами, с удобным диваном и мягкими креслами, с пушистым ковром на полу. В кабинете тихо жужжит и подмигивает лампочками компьютер, чуть слышна спокойная музыка (или шум прибоя), а мягкий свет изящных ламп создает особую, немного волшебную атмосфе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дминистрация встречает молодого специалиста как долгожданного друга, исполняет все его желания и тихо и млеет, осознавая, как им повез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лшебные методики дают абсолютно понятные результаты, которые элементарно интерпретирую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я и родители, затаив дыхание, выслушивают рекомендации и незамедлительно бросаются их выполн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и при встрече виснут на шее психолога, рассказывая обо всех своих самых сокровенных тревогах и надеждах, ходят за ним гурьбой и слушаются его с полусл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администрации о школьном психоло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молодой специалист, закончивший лучший ВУЗ с красным дипломом, воспитанный, не имеющий своего мнения, который будет выполнять любую работу, идеально вести документацию, на два дня раньше срока сдавать отчеты, брать на себя все неприятные разговоры с родителями и учителями, никогда ничего не требовать (в том числе и повышения зарплаты), и безмерно счастливый от того, что ему дают заниматься любим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учителей о школьном психолог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в советах которого я абсолютно не нуждаюсь. Лучше бы он убрал из нашего класса Вовочку Сидорова и перевел его в 7 «Б» или вообще в другую школу. Остальные проблемы мы и сами реш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родителей о школьном психолог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который знает о нашем ребенке все. Нужно только обратиться к нему, и он сразу решит все проблемы. Наше чадо станет таким, как нам хочется: будет отличником, начнет помогать по дому, перестанет грубить, поступит в самый престижный ВУЗ и семья, наконец обретёт по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582920" cy="13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учащихся о школьном психологе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который лечит всяких психов и очень хочет, чтобы мы ему всё о себе рассказывали. Иногда приходит со своими дурацкими тестами и думает, что самый ум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5:12:15Z</dcterms:created>
  <dc:creator>Психолог</dc:creator>
  <dc:description/>
  <dc:language>en-US</dc:language>
  <cp:lastModifiedBy>Анюта</cp:lastModifiedBy>
  <dcterms:modified xsi:type="dcterms:W3CDTF">2011-01-21T07:28:35Z</dcterms:modified>
  <cp:revision>12</cp:revision>
  <dc:subject/>
  <dc:title>Слайд 1</dc:title>
</cp:coreProperties>
</file>