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0EF6-21EA-4F1C-BFC5-45ACCB09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9C5C-F190-4D68-993B-C10BA03C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2E72-A429-414C-B219-F5EDDC85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3D1E-C417-4264-B581-339405DF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FE3F0-08E8-4535-BE75-07AFFA63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5F9CA-035E-4AD0-9DC0-C75F3B8E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4340A-AB8C-453D-90F2-0F780229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BA189-4595-4B2E-87EA-AE9A176B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48B6C-AA04-4CD3-ACA1-764CFC8E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92CCD-A019-4E85-85E8-9123E56A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FC327-53A8-4050-B93C-9351E8CC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E381-7A38-4EB2-8BA9-43907F6D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4B005-F3C3-42D5-AA1B-3D5F38E8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21EAE-8DCF-41D4-9B65-030C42A6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7A4E2-2F31-4A3C-BFD3-4C546422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77DA6-667A-45D7-B090-4FF7B57F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FAD2E-0C3B-456F-831C-E1C2D9F7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D120-B56F-4209-8044-7A9CCBEA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27DC-48BC-47F0-AEC5-7031B8F9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1529-4590-4B6C-9837-2F8AED5D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2443-142D-4862-8F3C-32EF9596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307B-BED5-4D35-B9C9-7906501C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0C68-779A-4BA6-A0F0-E3F7E4EA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D87A-0D66-48F3-8DBB-4C52D942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E6C2-2BC1-497A-90BF-859170B9F0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A613-EC04-4275-9750-4D708DA115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b85c00"/>
                </a:solidFill>
                <a:latin typeface="Tahoma"/>
              </a:rPr>
              <a:t>Мифы о школьном психолог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2103120" cy="295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5c00"/>
                </a:solidFill>
                <a:latin typeface="Tahoma"/>
              </a:rPr>
              <a:t>Миф молодого специалиста о должности школьного психолог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Школьный психолог – это такой человек, у которого есть свой кабинет, уютный, с цветами, с удобным диваном и мягкими креслами, с пушистым ковром на полу. В кабинете тихо жужжит и подмигивает лампочками компьютер, чуть слышна спокойная музыка (или шум прибоя), а мягкий свет изящных ламп создает особую, немного волшебную атмосфер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дминистрация встречает молодого специалиста как долгожданного друга, исполняет все его желания и тихо и млеет, осознавая, как им повезл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лшебные методики дают абсолютно понятные результаты, которые элементарно интерпретирую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теля и родители, затаив дыхание, выслушивают рекомендации и незамедлительно бросаются их выполня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ти при встрече виснут на шее психолога, рассказывая обо всех своих самых сокровенных тревогах и надеждах, ходят за ним гурьбой и слушаются его с полусло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5c00"/>
                </a:solidFill>
                <a:latin typeface="Tahoma"/>
              </a:rPr>
              <a:t>Миф  администрации о школьном психолог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о молодой специалист, закончивший лучший ВУЗ с красным дипломом, воспитанный, не имеющий своего мнения, который будет выполнять любую работу, идеально вести документацию, на два дня раньше срока сдавать отчеты, брать на себя все неприятные разговоры с родителями и учителями, никогда ничего не требовать (в том числе и повышения зарплаты), и безмерно счастливый от того, что ему дают заниматься любимым дел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5c00"/>
                </a:solidFill>
                <a:latin typeface="Tahoma"/>
              </a:rPr>
              <a:t>Миф  учителей о школьном психологе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такой человек, в советах которого я абсолютно не нуждаюсь. Лучше бы он убрал из нашего класса Вовочку Сидорова и перевел его в 7 «Б» или вообще в другую школу. Остальные проблемы мы и сами реши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5c00"/>
                </a:solidFill>
                <a:latin typeface="Tahoma"/>
              </a:rPr>
              <a:t>Миф  родителей о школьном психологе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такой человек, который знает о нашем ребенке все. Нужно только обратиться к нему, и он сразу решит все проблемы. Наше чадо станет таким, как нам хочется: будет отличником, начнет помогать по дому, перестанет грубить, поступит в самый престижный ВУЗ и семья, наконец обретёт пок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948360" y="476280"/>
            <a:ext cx="1582920" cy="130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5c00"/>
                </a:solidFill>
                <a:latin typeface="Tahoma"/>
              </a:rPr>
              <a:t>Миф  учащихся о школьном психологе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такой человек, который лечит всяких психов и очень хочет, чтобы мы ему всё о себе рассказывали. Иногда приходит со своими дурацкими тестами и думает, что самый умны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5:12:15Z</dcterms:created>
  <dc:creator>Психолог</dc:creator>
  <dc:description/>
  <dc:language>en-US</dc:language>
  <cp:lastModifiedBy>Анюта</cp:lastModifiedBy>
  <dcterms:modified xsi:type="dcterms:W3CDTF">2011-01-21T07:28:35Z</dcterms:modified>
  <cp:revision>12</cp:revision>
  <dc:subject/>
  <dc:title>Слайд 1</dc:title>
</cp:coreProperties>
</file>