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018-D828-4370-B07F-638D177E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12D-5B2E-4FD6-AFA5-738F1BC5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3CF-D2E4-47E3-9F34-E32A4AAE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4F0-6FE4-4BE3-9C01-C68376BF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C0688-5879-4A17-BF83-9EDFAB95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79FF8-9F0E-45B5-AADD-5C68B733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545A1-B590-4F0E-8818-272DD9D1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B9D66-5D58-4DAD-B224-A19886C4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9306-18F5-4E7B-B7FF-81CC3FF0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214B8-EFEF-48E6-809D-97059ABF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9CFA6-0F90-45D1-8DA1-DD0E6A80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AB4-C56E-47F5-B242-764CC5E5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DC367-8884-4748-9DFC-499F0C0F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FD00A-78FD-4870-976D-C1BF4B60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6350A-79E0-485A-B44C-F5278670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80F13-DE04-4D1E-85CE-CB404A0D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65988-2D5D-4AB6-B747-9E0292DB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4CD6-24F0-4C86-B66D-8CA6816D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9C6-0ECA-4690-9E62-46D496A7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61C-B49C-46FB-9652-95F3D77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4FD-4040-4EFA-87F3-6294C0C1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FC3-9E54-428A-B30B-238DF968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F28-3DB1-4AED-9094-88B3CAD5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D92-B0F0-4AB2-8604-474F8DD5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7595-BCE0-4F3A-A451-E7522D6CA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46DE-74D4-4893-B559-464350E1F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85c00"/>
                </a:solidFill>
                <a:latin typeface="Tahoma"/>
              </a:rPr>
              <a:t>Мифы о школьном психолог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210312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молодого специалиста о должности школьного психолог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кольный психолог – это такой человек, у которого есть свой кабинет, уютный, с цветами, с удобным диваном и мягкими креслами, с пушистым ковром на полу. В кабинете тихо жужжит и подмигивает лампочками компьютер, чуть слышна спокойная музыка (или шум прибоя), а мягкий свет изящных ламп создает особую, немного волшебную атмосфе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дминистрация встречает молодого специалиста как долгожданного друга, исполняет все его желания и тихо и млеет, осознавая, как им повез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лшебные методики дают абсолютно понятные результаты, которые элементарно интерпретирую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я и родители, затаив дыхание, выслушивают рекомендации и незамедлительно бросаются их выполн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и при встрече виснут на шее психолога, рассказывая обо всех своих самых сокровенных тревогах и надеждах, ходят за ним гурьбой и слушаются его с полусло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администрации о школьном психоло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молодой специалист, закончивший лучший ВУЗ с красным дипломом, воспитанный, не имеющий своего мнения, который будет выполнять любую работу, идеально вести документацию, на два дня раньше срока сдавать отчеты, брать на себя все неприятные разговоры с родителями и учителями, никогда ничего не требовать (в том числе и повышения зарплаты), и безмерно счастливый от того, что ему дают заниматься любимым де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учителей о школьном психолог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в советах которого я абсолютно не нуждаюсь. Лучше бы он убрал из нашего класса Вовочку Сидорова и перевел его в 7 «Б» или вообще в другую школу. Остальные проблемы мы и сами реш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родителей о школьном психолог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который знает о нашем ребенке все. Нужно только обратиться к нему, и он сразу решит все проблемы. Наше чадо станет таким, как нам хочется: будет отличником, начнет помогать по дому, перестанет грубить, поступит в самый престижный ВУЗ и семья, наконец обретёт по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582920" cy="13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5c00"/>
                </a:solidFill>
                <a:latin typeface="Tahoma"/>
              </a:rPr>
              <a:t>Миф  учащихся о школьном психологе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такой человек, который лечит всяких психов и очень хочет, чтобы мы ему всё о себе рассказывали. Иногда приходит со своими дурацкими тестами и думает, что самый умны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5:12:15Z</dcterms:created>
  <dc:creator>Психолог</dc:creator>
  <dc:description/>
  <dc:language>en-US</dc:language>
  <cp:lastModifiedBy>Анюта</cp:lastModifiedBy>
  <dcterms:modified xsi:type="dcterms:W3CDTF">2011-01-21T07:28:35Z</dcterms:modified>
  <cp:revision>12</cp:revision>
  <dc:subject/>
  <dc:title>Слайд 1</dc:title>
</cp:coreProperties>
</file>