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voltage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FCC-57D6-4C2D-B6CD-E82623E1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2E9-0B27-485B-8E2D-E9B8ECF8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922-E14F-41F5-B989-7681220B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FBB-5865-44CE-9CB5-84BFDC17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020-A47D-498D-9BB6-53E3432A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331-88B5-4217-8E45-23A84996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549-FFFE-4883-B078-168C09E0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5F7-AA5A-4D65-94EF-3CCDDADF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F25-CFA2-4C7B-95DA-11AF265C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39A-05EB-4034-AB38-A091C773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51E-C85F-45F9-9826-8C1F7E9D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AF0-DA28-4478-B073-2DDE214A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AE12-4AD7-49A2-B2B3-8F02AE8E5C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0000" cy="6616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5780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зентация к у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162864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дивидуальная защита в баскетб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2200" y="5589720"/>
            <a:ext cx="355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 Филюшин А 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 физическ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мназии №1    г Нерюнг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н Вуден « Современный баскетбол» Москва «Физкультура и спорт»1987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ндарь А.И. Учись играть в баскетбол – Минск: Полынья , 198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теровский Д.И. Баскетбол: Теория и методика обучения: учеб. пособие для студентов высших учебных заведений. Москва.,«Академия»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541440" y="-406440"/>
            <a:ext cx="9866520" cy="7402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82789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а в защите, или попытки отобрать мяч у противника при действиях в пределах правил, также важна, как и игра в напад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3640" y="38862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дать противнику забросить мяч в корзину для исхода игры означает то же, что и успешный бросок в напад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316080"/>
            <a:ext cx="9753840" cy="740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сихологические треб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3640" y="184464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елание и реш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Ж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Уравновеш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Инициатива и  агресс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Гор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Концент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Увер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Рассуд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16720" y="5661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4038480" cy="2954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2000"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ие треб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26560" y="2852640"/>
            <a:ext cx="64738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Быст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Равновесие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Г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Гол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00560" y="5248440"/>
            <a:ext cx="21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5796000" y="3873600"/>
            <a:ext cx="3078000" cy="27162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2000">
    <p:cover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24000" y="-892080"/>
            <a:ext cx="9753840" cy="7750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жные принципы защ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Когда твой подопечный владеет мячом, оставайся,  между ним и корзиной, спиной к послед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Заставляй своего подопечного получать только те передачи, которые направлены от корзины, и затрудняй прием мяча в зоне бро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Не стой на прямых ногах Не перекрещивай ног, передвигайся приставными ша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Удерживай голову на одной высоте. Не давай ей отклоняться вперед или наз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Сместись в сильную или опасную сторону по отношению к своему подопечному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Выбирай дистанцию для держания в зависимости от расстояния твоего подопечного до мяча и корз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Ближняя к осевой линии площадки  нога должна быть ,выставлена впе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Не врезайся в подопечного. Сближайся с ним осторожно, в низкой стой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. Потеряв мяч . Быстро возвращайся назад в защи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0. Предугадывай движения. Изучай сильные и слабые стороны своего подопеч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1.Сохраняй равновесие, будь расслаблен и готов к действиям. Не скачи и    не наклоняйся впер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2. Выбивай мяч у дриблера, делая движение снизу вверх ближней ру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3 Не выпрыгивай, пока не убедился, что мяч или игрок с мячом в воздух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. Чем дальше твой подопечный от мяча, тем дальше ты можешь отступить от н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5. Оттесняй дриблера от корзины в сторону боковой линии, угла площад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over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68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68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щитные позиции относительно мя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027440" y="2627280"/>
            <a:ext cx="2628360" cy="2394000"/>
            <a:chOff x="1027440" y="2627280"/>
            <a:chExt cx="2628360" cy="2394000"/>
          </a:xfrm>
        </p:grpSpPr>
        <p:sp>
          <p:nvSpPr>
            <p:cNvPr id="66" name=""/>
            <p:cNvSpPr/>
            <p:nvPr/>
          </p:nvSpPr>
          <p:spPr>
            <a:xfrm>
              <a:off x="1027440" y="2627280"/>
              <a:ext cx="2628360" cy="2394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13240" y="2627280"/>
              <a:ext cx="1142280" cy="112752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1480" y="3472920"/>
              <a:ext cx="685800" cy="562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41480" y="3754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41560" y="3613680"/>
              <a:ext cx="228240" cy="281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70160" y="3049920"/>
              <a:ext cx="228240" cy="2818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5960" y="4318200"/>
              <a:ext cx="228240" cy="28080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55880" y="3049920"/>
              <a:ext cx="228960" cy="2818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55880" y="4035960"/>
              <a:ext cx="228960" cy="2818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13240" y="2909160"/>
              <a:ext cx="114840" cy="1404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4280" y="3613680"/>
              <a:ext cx="113760" cy="1404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0080" y="4035960"/>
              <a:ext cx="113760" cy="1404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1760" y="3754080"/>
              <a:ext cx="114120" cy="1404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27640" y="2909160"/>
              <a:ext cx="114120" cy="14112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131080" y="2622600"/>
            <a:ext cx="2628360" cy="2368080"/>
            <a:chOff x="5131080" y="2622600"/>
            <a:chExt cx="2628360" cy="2368080"/>
          </a:xfrm>
        </p:grpSpPr>
        <p:sp>
          <p:nvSpPr>
            <p:cNvPr id="81" name=""/>
            <p:cNvSpPr/>
            <p:nvPr/>
          </p:nvSpPr>
          <p:spPr>
            <a:xfrm>
              <a:off x="5131080" y="2622600"/>
              <a:ext cx="2628360" cy="2368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16880" y="2622600"/>
              <a:ext cx="1142280" cy="11152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45120" y="3459600"/>
              <a:ext cx="685800" cy="555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45120" y="3737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73800" y="2901600"/>
              <a:ext cx="228240" cy="27864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73720" y="3737520"/>
              <a:ext cx="228960" cy="277920"/>
            </a:xfrm>
            <a:prstGeom prst="flowChartConnector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59520" y="2901600"/>
              <a:ext cx="228960" cy="27864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02600" y="3877200"/>
              <a:ext cx="228960" cy="2779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31000" y="3040560"/>
              <a:ext cx="114840" cy="1396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16880" y="3737520"/>
              <a:ext cx="111600" cy="1389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87840" y="3598560"/>
              <a:ext cx="114840" cy="1396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59520" y="3737520"/>
              <a:ext cx="113760" cy="1396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16800" y="3040560"/>
              <a:ext cx="114120" cy="140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45200" y="3877200"/>
              <a:ext cx="228240" cy="2779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7073640" y="3877200"/>
              <a:ext cx="22896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731280" y="3040560"/>
              <a:ext cx="22824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473800" y="3877200"/>
              <a:ext cx="34308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02040" y="3040560"/>
              <a:ext cx="22896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cover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64000" y="4149720"/>
            <a:ext cx="3367080" cy="2525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положение игроков в защ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а против игрока нижний линии (центров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а против игрока задней линии( крайний нападающ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70000" y="3195360"/>
            <a:ext cx="2628360" cy="1942560"/>
            <a:chOff x="1170000" y="3195360"/>
            <a:chExt cx="2628360" cy="1942560"/>
          </a:xfrm>
        </p:grpSpPr>
        <p:sp>
          <p:nvSpPr>
            <p:cNvPr id="104" name=""/>
            <p:cNvSpPr/>
            <p:nvPr/>
          </p:nvSpPr>
          <p:spPr>
            <a:xfrm>
              <a:off x="1170000" y="3195360"/>
              <a:ext cx="2628360" cy="1942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55800" y="3195360"/>
              <a:ext cx="1142280" cy="91512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84040" y="3881520"/>
              <a:ext cx="685800" cy="45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84040" y="41097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12720" y="3538080"/>
              <a:ext cx="22824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98520" y="456732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98440" y="3538080"/>
              <a:ext cx="228960" cy="22860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1520" y="4224240"/>
              <a:ext cx="22896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84040" y="3538080"/>
              <a:ext cx="11484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55800" y="3881520"/>
              <a:ext cx="11376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12640" y="4109760"/>
              <a:ext cx="11484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98440" y="3995640"/>
              <a:ext cx="11376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70200" y="3423960"/>
              <a:ext cx="11412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84120" y="422424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55800" y="365292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495440" y="4007520"/>
              <a:ext cx="342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312640" y="42242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112560" y="4109760"/>
              <a:ext cx="22896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40960" y="365292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275440" y="3266640"/>
            <a:ext cx="2628360" cy="1942560"/>
            <a:chOff x="5275440" y="3266640"/>
            <a:chExt cx="2628360" cy="1942560"/>
          </a:xfrm>
        </p:grpSpPr>
        <p:sp>
          <p:nvSpPr>
            <p:cNvPr id="124" name=""/>
            <p:cNvSpPr/>
            <p:nvPr/>
          </p:nvSpPr>
          <p:spPr>
            <a:xfrm>
              <a:off x="5275440" y="3266640"/>
              <a:ext cx="2628360" cy="1942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61240" y="3266640"/>
              <a:ext cx="1142280" cy="91476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89480" y="3953160"/>
              <a:ext cx="685800" cy="45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89480" y="4181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18160" y="3609720"/>
              <a:ext cx="22824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03960" y="463860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03880" y="3609720"/>
              <a:ext cx="22896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46960" y="4295880"/>
              <a:ext cx="228960" cy="227880"/>
            </a:xfrm>
            <a:prstGeom prst="flowChartConnector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89480" y="3609720"/>
              <a:ext cx="11484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46400" y="4067280"/>
              <a:ext cx="11340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32200" y="4409640"/>
              <a:ext cx="11484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33200" y="4181040"/>
              <a:ext cx="11376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75640" y="3724560"/>
              <a:ext cx="11412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89560" y="429588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618160" y="4181040"/>
              <a:ext cx="22824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46400" y="37245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89760" y="37245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18080" y="4523400"/>
              <a:ext cx="113760" cy="1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cover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11280" y="1808280"/>
            <a:ext cx="6732720" cy="5049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положение игроков в защ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а против игрока задней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098720" y="3627000"/>
            <a:ext cx="2628360" cy="1942560"/>
            <a:chOff x="1098720" y="3627000"/>
            <a:chExt cx="2628360" cy="1942560"/>
          </a:xfrm>
        </p:grpSpPr>
        <p:sp>
          <p:nvSpPr>
            <p:cNvPr id="146" name=""/>
            <p:cNvSpPr/>
            <p:nvPr/>
          </p:nvSpPr>
          <p:spPr>
            <a:xfrm>
              <a:off x="1098720" y="3627000"/>
              <a:ext cx="2628360" cy="1942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84520" y="3627000"/>
              <a:ext cx="1142280" cy="91476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12760" y="4313520"/>
              <a:ext cx="685800" cy="45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12760" y="4541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1440" y="3855960"/>
              <a:ext cx="22824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41360" y="5113080"/>
              <a:ext cx="228960" cy="227880"/>
            </a:xfrm>
            <a:prstGeom prst="flowChartConnector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27160" y="3855960"/>
              <a:ext cx="22896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70240" y="4656240"/>
              <a:ext cx="22896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98640" y="3970080"/>
              <a:ext cx="11484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55560" y="4656240"/>
              <a:ext cx="112320" cy="11304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55480" y="4884120"/>
              <a:ext cx="114840" cy="11484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1280" y="4656240"/>
              <a:ext cx="11412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84440" y="3970080"/>
              <a:ext cx="114120" cy="1152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12840" y="465624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4038840" cy="2992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900"/>
                            </p:stCondLst>
                            <p:childTnLst>
                              <p:par>
                                <p:cTn id="247" nodeType="after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59280" y="2428920"/>
            <a:ext cx="5903640" cy="442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clip_image006"/>
          <p:cNvPicPr/>
          <p:nvPr/>
        </p:nvPicPr>
        <p:blipFill>
          <a:blip r:embed="rId2"/>
          <a:srcRect l="6260" t="4451" r="6260" b="4451"/>
          <a:stretch/>
        </p:blipFill>
        <p:spPr>
          <a:xfrm>
            <a:off x="324000" y="260280"/>
            <a:ext cx="2160360" cy="25923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63" name="Picture 7" descr="clip_image011"/>
          <p:cNvPicPr/>
          <p:nvPr/>
        </p:nvPicPr>
        <p:blipFill>
          <a:blip r:embed="rId3"/>
          <a:srcRect l="5544" t="4758" r="8434" b="7144"/>
          <a:stretch/>
        </p:blipFill>
        <p:spPr>
          <a:xfrm>
            <a:off x="6300720" y="260280"/>
            <a:ext cx="2171880" cy="25909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64" name="Picture 8" descr="clip_image012"/>
          <p:cNvPicPr/>
          <p:nvPr/>
        </p:nvPicPr>
        <p:blipFill>
          <a:blip r:embed="rId4"/>
          <a:srcRect l="4334" t="7146" r="4525" b="3566"/>
          <a:stretch/>
        </p:blipFill>
        <p:spPr>
          <a:xfrm>
            <a:off x="3276720" y="260280"/>
            <a:ext cx="2319120" cy="25909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65" name="Picture 16" descr="clip_image001"/>
          <p:cNvPicPr/>
          <p:nvPr/>
        </p:nvPicPr>
        <p:blipFill>
          <a:blip r:embed="rId5"/>
          <a:srcRect l="6012" t="3323" r="6886" b="7116"/>
          <a:stretch/>
        </p:blipFill>
        <p:spPr>
          <a:xfrm>
            <a:off x="395280" y="3500280"/>
            <a:ext cx="2819520" cy="26244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66" name="Picture 13" descr="clip_image007"/>
          <p:cNvPicPr/>
          <p:nvPr/>
        </p:nvPicPr>
        <p:blipFill>
          <a:blip r:embed="rId6"/>
          <a:srcRect l="5070" t="4441" r="8819" b="8896"/>
          <a:stretch/>
        </p:blipFill>
        <p:spPr>
          <a:xfrm>
            <a:off x="3348000" y="3500280"/>
            <a:ext cx="2435400" cy="266544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67" name="Picture 44" descr=""/>
          <p:cNvPicPr/>
          <p:nvPr/>
        </p:nvPicPr>
        <p:blipFill>
          <a:blip r:embed="rId7"/>
          <a:stretch/>
        </p:blipFill>
        <p:spPr>
          <a:xfrm>
            <a:off x="5940360" y="3500280"/>
            <a:ext cx="2303640" cy="26654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2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2:01:28Z</dcterms:created>
  <dc:creator>Loner-XP</dc:creator>
  <dc:description/>
  <dc:language>en-US</dc:language>
  <cp:lastModifiedBy>@</cp:lastModifiedBy>
  <dcterms:modified xsi:type="dcterms:W3CDTF">2012-02-21T00:13:40Z</dcterms:modified>
  <cp:revision>12</cp:revision>
  <dc:subject/>
  <dc:title>Слайд 1</dc:title>
</cp:coreProperties>
</file>