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15.jpeg" ContentType="image/jpeg"/>
  <Override PartName="/ppt/media/image14.png" ContentType="image/png"/>
  <Override PartName="/ppt/media/image13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voltage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0652-184F-4B06-95E9-FFECFF4B2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6DA8-8CD9-4C2C-BB27-C36580B6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FA31-D429-45E9-B4D5-E7788247C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BDC5-5302-48BD-B9DF-CE2E0704B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5887-FA42-41A8-84D0-6C7A81E3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E3E5-598C-4A30-B4BF-C3D7570B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BB9E-6548-48C3-99E7-A9BCA4DD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8D98-1945-4EAE-A44A-8D010868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8039-3993-41DB-B947-5956A243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AAD3-622F-4074-9D3A-AF4D1372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72F5-4EB7-4236-AC9D-222DDDBC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1AB5-DCE9-48FA-9413-D886C79A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FEC1-961A-4203-89F7-604EB3971A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20000" cy="6616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57800" y="3333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зентация к уро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1628640"/>
            <a:ext cx="727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ндивидуальная защита в баскетбо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2200" y="5589720"/>
            <a:ext cx="355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 Филюшин А 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 физической куль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имназии №1    г Нерюнг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пользуемая 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жон Вуден « Современный баскетбол» Москва «Физкультура и спорт»1987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ндарь А.И. Учись играть в баскетбол – Минск: Полынья , 198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теровский Д.И. Баскетбол: Теория и методика обучения: учеб. пособие для студентов высших учебных заведений. Москва.,«Академия»,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541440" y="-406440"/>
            <a:ext cx="9866520" cy="7402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1197000"/>
            <a:ext cx="82789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гра в защите, или попытки отобрать мяч у противника при действиях в пределах правил, также важна, как и игра в напад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23640" y="3886200"/>
            <a:ext cx="799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дать противнику забросить мяч в корзину для исхода игры означает то же, что и успешный бросок в нападе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04920" y="-316080"/>
            <a:ext cx="9753840" cy="7402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Психологические требов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23640" y="184464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елание и реши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Жи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Уравновеш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Инициатива и  агресс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Гор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Концентр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Увер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Рассуди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16720" y="566100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"/>
          <p:cNvPicPr/>
          <p:nvPr/>
        </p:nvPicPr>
        <p:blipFill>
          <a:blip r:embed="rId2"/>
          <a:stretch/>
        </p:blipFill>
        <p:spPr>
          <a:xfrm>
            <a:off x="5105520" y="3962520"/>
            <a:ext cx="4038480" cy="29541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p:transition spd="slow" advTm="2000">
    <p:cover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ические треб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26560" y="2852640"/>
            <a:ext cx="647388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Быст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Равновесие 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Гл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Гол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00560" y="5248440"/>
            <a:ext cx="210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"/>
          <p:cNvPicPr/>
          <p:nvPr/>
        </p:nvPicPr>
        <p:blipFill>
          <a:blip r:embed="rId2"/>
          <a:stretch/>
        </p:blipFill>
        <p:spPr>
          <a:xfrm>
            <a:off x="5796000" y="3873600"/>
            <a:ext cx="3078000" cy="27162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p:transition spd="slow" advTm="2000">
    <p:cover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324000" y="-892080"/>
            <a:ext cx="9753840" cy="7750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ажные принципы защи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0" y="907560"/>
            <a:ext cx="914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.Когда твой подопечный владеет мячом, оставайся,  между ним и корзиной, спиной к последн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Заставляй своего подопечного получать только те передачи, которые направлены от корзины, и затрудняй прием мяча в зоне брос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. Не стой на прямых ногах Не перекрещивай ног, передвигайся приставными шаг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4. Удерживай голову на одной высоте. Не давай ей отклоняться вперед или наза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5.Сместись в сильную или опасную сторону по отношению к своему подопечному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6. Выбирай дистанцию для держания в зависимости от расстояния твоего подопечного до мяча и корзи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. Ближняя к осевой линии площадки  нога должна быть ,выставлена впер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8. Не врезайся в подопечного. Сближайся с ним осторожно, в низкой стой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9. Потеряв мяч . Быстро возвращайся назад в защи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0. Предугадывай движения. Изучай сильные и слабые стороны своего подопечн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1.Сохраняй равновесие, будь расслаблен и готов к действиям. Не скачи и    не наклоняйся впере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2. Выбивай мяч у дриблера, делая движение снизу вверх ближней ру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3 Не выпрыгивай, пока не убедился, что мяч или игрок с мячом в воздух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4. Чем дальше твой подопечный от мяча, тем дальше ты можешь отступить от не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5. Оттесняй дриблера от корзины в сторону боковой линии, угла площад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cover dir="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68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68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68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щитные позиции относительно мя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027440" y="2627280"/>
            <a:ext cx="2628360" cy="2394000"/>
            <a:chOff x="1027440" y="2627280"/>
            <a:chExt cx="2628360" cy="2394000"/>
          </a:xfrm>
        </p:grpSpPr>
        <p:sp>
          <p:nvSpPr>
            <p:cNvPr id="66" name=""/>
            <p:cNvSpPr/>
            <p:nvPr/>
          </p:nvSpPr>
          <p:spPr>
            <a:xfrm>
              <a:off x="1027440" y="2627280"/>
              <a:ext cx="2628360" cy="23940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713240" y="2627280"/>
              <a:ext cx="1142280" cy="112752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41480" y="3472920"/>
              <a:ext cx="685800" cy="562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941480" y="37540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41560" y="3613680"/>
              <a:ext cx="228240" cy="2818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70160" y="3049920"/>
              <a:ext cx="228240" cy="281880"/>
            </a:xfrm>
            <a:prstGeom prst="flowChartConnec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55960" y="4318200"/>
              <a:ext cx="228240" cy="280800"/>
            </a:xfrm>
            <a:prstGeom prst="flowChartConnec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55880" y="3049920"/>
              <a:ext cx="228960" cy="281880"/>
            </a:xfrm>
            <a:prstGeom prst="flowChartConnec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55880" y="4035960"/>
              <a:ext cx="228960" cy="281880"/>
            </a:xfrm>
            <a:prstGeom prst="flowChartConnec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13240" y="2909160"/>
              <a:ext cx="114840" cy="14040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84280" y="3613680"/>
              <a:ext cx="113760" cy="14040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70080" y="4035960"/>
              <a:ext cx="113760" cy="14040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41760" y="3754080"/>
              <a:ext cx="114120" cy="14040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27640" y="2909160"/>
              <a:ext cx="114120" cy="14112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131080" y="2622600"/>
            <a:ext cx="2628360" cy="2368080"/>
            <a:chOff x="5131080" y="2622600"/>
            <a:chExt cx="2628360" cy="2368080"/>
          </a:xfrm>
        </p:grpSpPr>
        <p:sp>
          <p:nvSpPr>
            <p:cNvPr id="81" name=""/>
            <p:cNvSpPr/>
            <p:nvPr/>
          </p:nvSpPr>
          <p:spPr>
            <a:xfrm>
              <a:off x="5131080" y="2622600"/>
              <a:ext cx="2628360" cy="23680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16880" y="2622600"/>
              <a:ext cx="1142280" cy="111528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45120" y="3459600"/>
              <a:ext cx="685800" cy="555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45120" y="37375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73800" y="2901600"/>
              <a:ext cx="228240" cy="27864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73720" y="3737520"/>
              <a:ext cx="228960" cy="277920"/>
            </a:xfrm>
            <a:prstGeom prst="flowChartConnector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959520" y="2901600"/>
              <a:ext cx="228960" cy="27864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302600" y="3877200"/>
              <a:ext cx="228960" cy="27792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31000" y="3040560"/>
              <a:ext cx="114840" cy="13968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16880" y="3737520"/>
              <a:ext cx="111600" cy="13896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87840" y="3598560"/>
              <a:ext cx="114840" cy="13968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59520" y="3737520"/>
              <a:ext cx="113760" cy="13968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16800" y="3040560"/>
              <a:ext cx="114120" cy="14076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45200" y="3877200"/>
              <a:ext cx="228240" cy="27792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7073640" y="3877200"/>
              <a:ext cx="228960" cy="13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6731280" y="3040560"/>
              <a:ext cx="22824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5473800" y="3877200"/>
              <a:ext cx="343080" cy="13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02040" y="3040560"/>
              <a:ext cx="22896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cover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64000" y="4149720"/>
            <a:ext cx="3367080" cy="25257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сположение игроков в защи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щита против игрока нижний линии (центровог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щита против игрока задней линии( крайний нападающ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170000" y="3195360"/>
            <a:ext cx="2628360" cy="1942560"/>
            <a:chOff x="1170000" y="3195360"/>
            <a:chExt cx="2628360" cy="1942560"/>
          </a:xfrm>
        </p:grpSpPr>
        <p:sp>
          <p:nvSpPr>
            <p:cNvPr id="104" name=""/>
            <p:cNvSpPr/>
            <p:nvPr/>
          </p:nvSpPr>
          <p:spPr>
            <a:xfrm>
              <a:off x="1170000" y="3195360"/>
              <a:ext cx="2628360" cy="19425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55800" y="3195360"/>
              <a:ext cx="1142280" cy="91512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84040" y="3881520"/>
              <a:ext cx="685800" cy="45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84040" y="410976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12720" y="3538080"/>
              <a:ext cx="228240" cy="22860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98520" y="4567320"/>
              <a:ext cx="228240" cy="2278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98440" y="3538080"/>
              <a:ext cx="228960" cy="228600"/>
            </a:xfrm>
            <a:prstGeom prst="flowChartConnector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41520" y="4224240"/>
              <a:ext cx="228960" cy="2278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84040" y="3538080"/>
              <a:ext cx="114840" cy="11448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55800" y="3881520"/>
              <a:ext cx="113760" cy="11376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312640" y="4109760"/>
              <a:ext cx="114840" cy="11448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98440" y="3995640"/>
              <a:ext cx="113760" cy="11376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70200" y="3423960"/>
              <a:ext cx="114120" cy="11448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84120" y="4224240"/>
              <a:ext cx="228240" cy="2278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55800" y="3652920"/>
              <a:ext cx="11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1495440" y="4007520"/>
              <a:ext cx="3423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312640" y="422424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3112560" y="4109760"/>
              <a:ext cx="22896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40960" y="365292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275440" y="3266640"/>
            <a:ext cx="2628360" cy="1942560"/>
            <a:chOff x="5275440" y="3266640"/>
            <a:chExt cx="2628360" cy="1942560"/>
          </a:xfrm>
        </p:grpSpPr>
        <p:sp>
          <p:nvSpPr>
            <p:cNvPr id="124" name=""/>
            <p:cNvSpPr/>
            <p:nvPr/>
          </p:nvSpPr>
          <p:spPr>
            <a:xfrm>
              <a:off x="5275440" y="3266640"/>
              <a:ext cx="2628360" cy="19425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961240" y="3266640"/>
              <a:ext cx="1142280" cy="91476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89480" y="3953160"/>
              <a:ext cx="685800" cy="45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89480" y="41810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618160" y="3609720"/>
              <a:ext cx="228240" cy="22860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03960" y="4638600"/>
              <a:ext cx="228240" cy="2278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103880" y="3609720"/>
              <a:ext cx="228960" cy="22860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446960" y="4295880"/>
              <a:ext cx="228960" cy="227880"/>
            </a:xfrm>
            <a:prstGeom prst="flowChartConnector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89480" y="3609720"/>
              <a:ext cx="114840" cy="11448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46400" y="4067280"/>
              <a:ext cx="113400" cy="11376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532200" y="4409640"/>
              <a:ext cx="114840" cy="11376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333200" y="4181040"/>
              <a:ext cx="113760" cy="11448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75640" y="3724560"/>
              <a:ext cx="114120" cy="11448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89560" y="4295880"/>
              <a:ext cx="228240" cy="2278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618160" y="4181040"/>
              <a:ext cx="22824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46400" y="372456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89760" y="372456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418080" y="4523400"/>
              <a:ext cx="113760" cy="11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cover dir="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411280" y="1808280"/>
            <a:ext cx="6732720" cy="50497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сположение игроков в защи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щита против игрока задней ли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098720" y="3627000"/>
            <a:ext cx="2628360" cy="1942560"/>
            <a:chOff x="1098720" y="3627000"/>
            <a:chExt cx="2628360" cy="1942560"/>
          </a:xfrm>
        </p:grpSpPr>
        <p:sp>
          <p:nvSpPr>
            <p:cNvPr id="146" name=""/>
            <p:cNvSpPr/>
            <p:nvPr/>
          </p:nvSpPr>
          <p:spPr>
            <a:xfrm>
              <a:off x="1098720" y="3627000"/>
              <a:ext cx="2628360" cy="19425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784520" y="3627000"/>
              <a:ext cx="1142280" cy="914760"/>
            </a:xfrm>
            <a:prstGeom prst="flowChartManualOpe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12760" y="4313520"/>
              <a:ext cx="685800" cy="45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12760" y="4541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41440" y="3855960"/>
              <a:ext cx="228240" cy="22860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41360" y="5113080"/>
              <a:ext cx="228960" cy="227880"/>
            </a:xfrm>
            <a:prstGeom prst="flowChartConnector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27160" y="3855960"/>
              <a:ext cx="228960" cy="22860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70240" y="4656240"/>
              <a:ext cx="228960" cy="2278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98640" y="3970080"/>
              <a:ext cx="114840" cy="11448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55560" y="4656240"/>
              <a:ext cx="112320" cy="11304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55480" y="4884120"/>
              <a:ext cx="114840" cy="11484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41280" y="4656240"/>
              <a:ext cx="114120" cy="11376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84440" y="3970080"/>
              <a:ext cx="114120" cy="115200"/>
            </a:xfrm>
            <a:prstGeom prst="flowChartExtra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12840" y="4656240"/>
              <a:ext cx="228240" cy="2278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643280" y="3645000"/>
            <a:ext cx="4038840" cy="29923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d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900"/>
                            </p:stCondLst>
                            <p:childTnLst>
                              <p:par>
                                <p:cTn id="247" nodeType="after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059280" y="2428920"/>
            <a:ext cx="5903640" cy="4429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clip_image006"/>
          <p:cNvPicPr/>
          <p:nvPr/>
        </p:nvPicPr>
        <p:blipFill>
          <a:blip r:embed="rId2"/>
          <a:srcRect l="6260" t="4451" r="6260" b="4451"/>
          <a:stretch/>
        </p:blipFill>
        <p:spPr>
          <a:xfrm>
            <a:off x="324000" y="260280"/>
            <a:ext cx="2160360" cy="259236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163" name="Picture 7" descr="clip_image011"/>
          <p:cNvPicPr/>
          <p:nvPr/>
        </p:nvPicPr>
        <p:blipFill>
          <a:blip r:embed="rId3"/>
          <a:srcRect l="5544" t="4758" r="8434" b="7144"/>
          <a:stretch/>
        </p:blipFill>
        <p:spPr>
          <a:xfrm>
            <a:off x="6300720" y="260280"/>
            <a:ext cx="2171880" cy="259092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pic>
        <p:nvPicPr>
          <p:cNvPr id="164" name="Picture 8" descr="clip_image012"/>
          <p:cNvPicPr/>
          <p:nvPr/>
        </p:nvPicPr>
        <p:blipFill>
          <a:blip r:embed="rId4"/>
          <a:srcRect l="4334" t="7146" r="4525" b="3566"/>
          <a:stretch/>
        </p:blipFill>
        <p:spPr>
          <a:xfrm>
            <a:off x="3276720" y="260280"/>
            <a:ext cx="2319120" cy="259092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pic>
        <p:nvPicPr>
          <p:cNvPr id="165" name="Picture 16" descr="clip_image001"/>
          <p:cNvPicPr/>
          <p:nvPr/>
        </p:nvPicPr>
        <p:blipFill>
          <a:blip r:embed="rId5"/>
          <a:srcRect l="6012" t="3323" r="6886" b="7116"/>
          <a:stretch/>
        </p:blipFill>
        <p:spPr>
          <a:xfrm>
            <a:off x="395280" y="3500280"/>
            <a:ext cx="2819520" cy="262440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pic>
        <p:nvPicPr>
          <p:cNvPr id="166" name="Picture 13" descr="clip_image007"/>
          <p:cNvPicPr/>
          <p:nvPr/>
        </p:nvPicPr>
        <p:blipFill>
          <a:blip r:embed="rId6"/>
          <a:srcRect l="5070" t="4441" r="8819" b="8896"/>
          <a:stretch/>
        </p:blipFill>
        <p:spPr>
          <a:xfrm>
            <a:off x="3348000" y="3500280"/>
            <a:ext cx="2435400" cy="266544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pic>
        <p:nvPicPr>
          <p:cNvPr id="167" name="Picture 44" descr=""/>
          <p:cNvPicPr/>
          <p:nvPr/>
        </p:nvPicPr>
        <p:blipFill>
          <a:blip r:embed="rId7"/>
          <a:stretch/>
        </p:blipFill>
        <p:spPr>
          <a:xfrm>
            <a:off x="5940360" y="3500280"/>
            <a:ext cx="2303640" cy="266544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p:transition spd="slow" advTm="2000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02:01:28Z</dcterms:created>
  <dc:creator>Loner-XP</dc:creator>
  <dc:description/>
  <dc:language>en-US</dc:language>
  <cp:lastModifiedBy>@</cp:lastModifiedBy>
  <dcterms:modified xsi:type="dcterms:W3CDTF">2012-02-21T00:13:40Z</dcterms:modified>
  <cp:revision>12</cp:revision>
  <dc:subject/>
  <dc:title>Слайд 1</dc:title>
</cp:coreProperties>
</file>