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voltag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4B2-EBAA-417E-AC1E-3170D150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CE8-52D3-4262-9C80-DE393AE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A90-9D77-4E36-B2E9-6DC8070D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BE2-5AFE-43DA-8567-BF13E582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ECB-709C-4ACF-BEA4-7363AE4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E70-1ACB-4218-8A82-CF0BE7A8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124-59F4-44DF-8AE7-4DB0E07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7B3-349A-4485-8AA0-C7D31DD3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D19-D437-489D-ABCD-D1A00D20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A5A-608E-4749-94D6-44FC68C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9B2-37BC-4224-A182-BD7CEFC6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EEF-4DB7-4094-A446-25F882B8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B615-F91B-4B51-BB60-407428A67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61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5780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дивидуальная защита в баскетб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2200" y="5589720"/>
            <a:ext cx="35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Филюшин А 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и №1    г Нерюнг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Вуден « Современный баскетбол» Москва «Физкультура и спорт»198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ь А.И. Учись играть в баскетбол – Минск: Полынья , 198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еровский Д.И. Баскетбол: Теория и методика обучения: учеб. пособие для студентов высших учебных заведений. Москва.,«Академия»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41440" y="-406440"/>
            <a:ext cx="9866520" cy="740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2789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 в защите, или попытки отобрать мяч у противника при действиях в пределах правил, также важна, как и игра в напа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дать противнику забросить мяч в корзину для исхода игры означает то же, что и успешный бросок в напад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40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сихологические треб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и реш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Ж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равновеш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Инициатива и  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онцен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вер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ссуд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5661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4038480" cy="2954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6560" y="2852640"/>
            <a:ext cx="64738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Быст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вновеси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00560" y="524844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5796000" y="3873600"/>
            <a:ext cx="3078000" cy="27162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-892080"/>
            <a:ext cx="9753840" cy="7750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ые принципы защ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Когда твой подопечный владеет мячом, оставайся,  между ним и корзиной, спиной к после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Заставляй своего подопечного получать только те передачи, которые направлены от корзины, и затрудняй прием мяча в зоне бро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Не стой на прямых ногах Не перекрещивай ног, передвигайся приставными ша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Удерживай голову на одной высоте. Не давай ей отклоняться вперед или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Сместись в сильную или опасную сторону по отношению к своему подопечному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ыбирай дистанцию для держания в зависимости от расстояния твоего подопечного до мяча и кор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Ближняя к осевой линии площадки  нога должна быть ,выставлена в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Не врезайся в подопечного. Сближайся с ним осторожно, в низкой сто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Потеряв мяч . Быстро возвращайся назад в защи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Предугадывай движения. Изучай сильные и слабые стороны своего подопеч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.Сохраняй равновесие, будь расслаблен и готов к действиям. Не скачи и    не наклоняйся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 Выбивай мяч у дриблера, делая движение снизу вверх ближней ру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 Не выпрыгивай, пока не убедился, что мяч или игрок с мячом в воздух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. Чем дальше твой подопечный от мяча, тем дальше ты можешь отступить от н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5. Оттесняй дриблера от корзины в сторону боковой линии, угла площа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щитные позиции относительно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27440" y="2627280"/>
            <a:ext cx="2628360" cy="2394000"/>
            <a:chOff x="1027440" y="2627280"/>
            <a:chExt cx="2628360" cy="2394000"/>
          </a:xfrm>
        </p:grpSpPr>
        <p:sp>
          <p:nvSpPr>
            <p:cNvPr id="66" name=""/>
            <p:cNvSpPr/>
            <p:nvPr/>
          </p:nvSpPr>
          <p:spPr>
            <a:xfrm>
              <a:off x="1027440" y="2627280"/>
              <a:ext cx="2628360" cy="2394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3240" y="2627280"/>
              <a:ext cx="1142280" cy="11275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1480" y="3472920"/>
              <a:ext cx="685800" cy="56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41480" y="375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1560" y="3613680"/>
              <a:ext cx="228240" cy="281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0160" y="3049920"/>
              <a:ext cx="22824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4318200"/>
              <a:ext cx="228240" cy="2808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55880" y="304992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55880" y="403596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3240" y="2909160"/>
              <a:ext cx="11484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4280" y="361368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0080" y="403596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1760" y="3754080"/>
              <a:ext cx="11412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7640" y="2909160"/>
              <a:ext cx="114120" cy="14112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31080" y="2622600"/>
            <a:ext cx="2628360" cy="2368080"/>
            <a:chOff x="5131080" y="2622600"/>
            <a:chExt cx="2628360" cy="2368080"/>
          </a:xfrm>
        </p:grpSpPr>
        <p:sp>
          <p:nvSpPr>
            <p:cNvPr id="81" name=""/>
            <p:cNvSpPr/>
            <p:nvPr/>
          </p:nvSpPr>
          <p:spPr>
            <a:xfrm>
              <a:off x="5131080" y="2622600"/>
              <a:ext cx="2628360" cy="236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6880" y="2622600"/>
              <a:ext cx="1142280" cy="11152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5120" y="3459600"/>
              <a:ext cx="685800" cy="5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45120" y="3737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3800" y="2901600"/>
              <a:ext cx="22824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73720" y="3737520"/>
              <a:ext cx="228960" cy="27792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9520" y="2901600"/>
              <a:ext cx="22896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02600" y="3877200"/>
              <a:ext cx="22896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1000" y="3040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16880" y="3737520"/>
              <a:ext cx="111600" cy="1389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87840" y="3598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59520" y="3737520"/>
              <a:ext cx="11376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6800" y="3040560"/>
              <a:ext cx="114120" cy="140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45200" y="3877200"/>
              <a:ext cx="22824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7073640" y="3877200"/>
              <a:ext cx="22896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731280" y="3040560"/>
              <a:ext cx="2282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473800" y="3877200"/>
              <a:ext cx="34308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02040" y="3040560"/>
              <a:ext cx="22896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67080" cy="2525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нижний линии (центров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( крайний нападаю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70000" y="3195360"/>
            <a:ext cx="2628360" cy="1942560"/>
            <a:chOff x="1170000" y="3195360"/>
            <a:chExt cx="2628360" cy="1942560"/>
          </a:xfrm>
        </p:grpSpPr>
        <p:sp>
          <p:nvSpPr>
            <p:cNvPr id="104" name=""/>
            <p:cNvSpPr/>
            <p:nvPr/>
          </p:nvSpPr>
          <p:spPr>
            <a:xfrm>
              <a:off x="1170000" y="319536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55800" y="3195360"/>
              <a:ext cx="1142280" cy="9151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84040" y="3881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4040" y="4109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12720" y="353808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98520" y="456732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98440" y="3538080"/>
              <a:ext cx="228960" cy="2286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1520" y="4224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84040" y="3538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5800" y="388152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12640" y="410976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8440" y="399564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0200" y="34239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4120" y="4224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5800" y="36529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5440" y="4007520"/>
              <a:ext cx="342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312640" y="4224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12560" y="4109760"/>
              <a:ext cx="2289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0960" y="365292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275440" y="3266640"/>
            <a:ext cx="2628360" cy="1942560"/>
            <a:chOff x="5275440" y="3266640"/>
            <a:chExt cx="2628360" cy="1942560"/>
          </a:xfrm>
        </p:grpSpPr>
        <p:sp>
          <p:nvSpPr>
            <p:cNvPr id="124" name=""/>
            <p:cNvSpPr/>
            <p:nvPr/>
          </p:nvSpPr>
          <p:spPr>
            <a:xfrm>
              <a:off x="5275440" y="326664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61240" y="326664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89480" y="395316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89480" y="418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18160" y="360972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463860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03880" y="360972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46960" y="42958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89480" y="360972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46400" y="4067280"/>
              <a:ext cx="11340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2200" y="4409640"/>
              <a:ext cx="11484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3200" y="4181040"/>
              <a:ext cx="11376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5640" y="37245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9560" y="429588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618160" y="418104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46400" y="37245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89760" y="37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18080" y="4523400"/>
              <a:ext cx="11376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808280"/>
            <a:ext cx="6732720" cy="5049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98720" y="3627000"/>
            <a:ext cx="2628360" cy="1942560"/>
            <a:chOff x="1098720" y="3627000"/>
            <a:chExt cx="2628360" cy="1942560"/>
          </a:xfrm>
        </p:grpSpPr>
        <p:sp>
          <p:nvSpPr>
            <p:cNvPr id="146" name=""/>
            <p:cNvSpPr/>
            <p:nvPr/>
          </p:nvSpPr>
          <p:spPr>
            <a:xfrm>
              <a:off x="1098720" y="362700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84520" y="362700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2760" y="4313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2760" y="454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1440" y="385596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1360" y="51130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27160" y="385596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0240" y="4656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98640" y="3970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5560" y="4656240"/>
              <a:ext cx="112320" cy="1130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55480" y="4884120"/>
              <a:ext cx="114840" cy="1148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1280" y="4656240"/>
              <a:ext cx="11412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84440" y="3970080"/>
              <a:ext cx="114120" cy="1152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12840" y="4656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038840" cy="2992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00"/>
                            </p:stCondLst>
                            <p:childTnLst>
                              <p:par>
                                <p:cTn id="247" nodeType="after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59280" y="2428920"/>
            <a:ext cx="5903640" cy="44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lip_image006"/>
          <p:cNvPicPr/>
          <p:nvPr/>
        </p:nvPicPr>
        <p:blipFill>
          <a:blip r:embed="rId2"/>
          <a:srcRect l="6260" t="4451" r="6260" b="4451"/>
          <a:stretch/>
        </p:blipFill>
        <p:spPr>
          <a:xfrm>
            <a:off x="324000" y="260280"/>
            <a:ext cx="2160360" cy="2592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63" name="Picture 7" descr="clip_image011"/>
          <p:cNvPicPr/>
          <p:nvPr/>
        </p:nvPicPr>
        <p:blipFill>
          <a:blip r:embed="rId3"/>
          <a:srcRect l="5544" t="4758" r="8434" b="7144"/>
          <a:stretch/>
        </p:blipFill>
        <p:spPr>
          <a:xfrm>
            <a:off x="6300720" y="260280"/>
            <a:ext cx="217188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4" name="Picture 8" descr="clip_image012"/>
          <p:cNvPicPr/>
          <p:nvPr/>
        </p:nvPicPr>
        <p:blipFill>
          <a:blip r:embed="rId4"/>
          <a:srcRect l="4334" t="7146" r="4525" b="3566"/>
          <a:stretch/>
        </p:blipFill>
        <p:spPr>
          <a:xfrm>
            <a:off x="3276720" y="260280"/>
            <a:ext cx="231912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5" name="Picture 16" descr="clip_image001"/>
          <p:cNvPicPr/>
          <p:nvPr/>
        </p:nvPicPr>
        <p:blipFill>
          <a:blip r:embed="rId5"/>
          <a:srcRect l="6012" t="3323" r="6886" b="7116"/>
          <a:stretch/>
        </p:blipFill>
        <p:spPr>
          <a:xfrm>
            <a:off x="395280" y="3500280"/>
            <a:ext cx="2819520" cy="26244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6" name="Picture 13" descr="clip_image007"/>
          <p:cNvPicPr/>
          <p:nvPr/>
        </p:nvPicPr>
        <p:blipFill>
          <a:blip r:embed="rId6"/>
          <a:srcRect l="5070" t="4441" r="8819" b="8896"/>
          <a:stretch/>
        </p:blipFill>
        <p:spPr>
          <a:xfrm>
            <a:off x="3348000" y="3500280"/>
            <a:ext cx="2435400" cy="26654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7" name="Picture 44" descr=""/>
          <p:cNvPicPr/>
          <p:nvPr/>
        </p:nvPicPr>
        <p:blipFill>
          <a:blip r:embed="rId7"/>
          <a:stretch/>
        </p:blipFill>
        <p:spPr>
          <a:xfrm>
            <a:off x="5940360" y="3500280"/>
            <a:ext cx="2303640" cy="2665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2:01:28Z</dcterms:created>
  <dc:creator>Loner-XP</dc:creator>
  <dc:description/>
  <dc:language>en-US</dc:language>
  <cp:lastModifiedBy>@</cp:lastModifiedBy>
  <dcterms:modified xsi:type="dcterms:W3CDTF">2012-02-21T00:13:40Z</dcterms:modified>
  <cp:revision>12</cp:revision>
  <dc:subject/>
  <dc:title>Слайд 1</dc:title>
</cp:coreProperties>
</file>