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B81F-7311-412B-B5F8-AC404489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93E-97BA-46B3-AB89-EBDEEE44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29C-CC68-48C6-AC15-36A839B8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972-5FCB-449B-A0E0-74D39531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951F3-6602-4AA5-88D6-C5E4571A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F7BF5-D11F-4E5A-866B-EFA8304E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95470-9060-4BC3-9E0E-9E81F93B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2A999-5721-4EA4-BFA0-4C6C2630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E5EA6-0E86-4E7D-83EE-DB06AD88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D5950-6ECA-4513-8AFB-9128EB4D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5951A-862E-42AD-BAC5-CF8F031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2C7-3F5B-4E08-BB8B-A6601520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8A3F4-EAB3-432B-A231-C01AFAF5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78D52-386F-4C61-851C-70B0DBBC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A5A4A-CB6D-4A72-91A2-DF1C3DE6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42C58-C2C6-41EF-B3B5-CF786037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D19EF-829B-42C3-BD3C-12751728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27C0C-EAFE-413A-A10B-7FFA1687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6FAB8-41AA-43A7-AA98-50E491F9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3308E-0494-4F41-B065-FE703A86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C20D6-7F67-4C85-8DD6-5CFF8EBD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29108-F2FA-4640-A0BE-2F969BAD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4C3-9631-490B-AC2E-477231DC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97019-A225-4AB0-8A29-B78A992E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4AEE-EEB6-486B-AE62-82F3A6BF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DA56-AC63-4953-A942-FFF521A5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F26A0-6364-4A08-BCC4-F619C636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818C-1D40-4CE5-A63D-62E79707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0A7F1-83E4-4AF9-9BD7-966A91E0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0C352-D2D4-4446-B33A-E415E957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1EE8FA-0F6C-4773-AB24-821CEB85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F298A0-09B9-428F-B427-F8E36C7D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EEBAF-B535-435A-AF7E-EC1532E4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BE7-9127-4F17-9F57-38C9369D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9D819B-C6BB-46D1-99B5-3779FEB5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917211-1E1C-42C1-9AB9-5343E724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C9085-E5F2-4E19-9BF2-272418B8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40C33B-24D3-47D4-A2F8-D8E3EB46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E6068-D0D9-40D9-9753-323D7058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E10F8C-60B7-461F-8A19-94408915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3F44E7-1438-4246-8122-3AA79D2C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E2BBEB-A146-4D75-89D5-7259897F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F672AA-F2A7-4B09-BE38-13E373C2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79D-92F7-4214-91D0-0D0C3258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7AE-8DCD-45B1-AFFB-2D8DD622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91C-36FC-40A7-B0AA-EEB45CF9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D1C-1CDE-4FAB-8005-28205153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E3F-1648-437A-914F-E96FC1AC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7F9E-BB5A-4F1D-9A47-3816E343DE3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4CF3-7B33-4C5F-8912-AA14521C36C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1DE6-E45A-48A1-A316-9B8A10619F2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80F2-6EB5-42AF-8D19-FF283002DC4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176040" y="55440"/>
            <a:ext cx="851724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7908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50392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в основ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ранее полученные знания на уроках обществоведения, информация из С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( Актуализация субъективного опыта учащихся 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ВОПРОС: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     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Вы согласны, что сборная России в          Ванкувере - провалилась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Documents and Settings\XXX\Рабочий стол\02894722.jpg"/>
          <p:cNvPicPr/>
          <p:nvPr/>
        </p:nvPicPr>
        <p:blipFill>
          <a:blip r:embed="rId1"/>
          <a:stretch/>
        </p:blipFill>
        <p:spPr>
          <a:xfrm>
            <a:off x="2786040" y="928800"/>
            <a:ext cx="3500640" cy="381312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ая соединительная линия 5"/>
          <p:cNvSpPr/>
          <p:nvPr/>
        </p:nvSpPr>
        <p:spPr>
          <a:xfrm>
            <a:off x="1857240" y="142920"/>
            <a:ext cx="4857840" cy="4786200"/>
          </a:xfrm>
          <a:prstGeom prst="line">
            <a:avLst/>
          </a:prstGeom>
          <a:ln cap="rnd"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ая соединительная линия 10"/>
          <p:cNvSpPr/>
          <p:nvPr/>
        </p:nvSpPr>
        <p:spPr>
          <a:xfrm flipH="1">
            <a:off x="2356920" y="142920"/>
            <a:ext cx="4357800" cy="4643280"/>
          </a:xfrm>
          <a:prstGeom prst="line">
            <a:avLst/>
          </a:prstGeom>
          <a:ln cap="rnd"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Прямоугольник 16" descr=""/>
          <p:cNvPicPr/>
          <p:nvPr/>
        </p:nvPicPr>
        <p:blipFill>
          <a:blip r:embed="rId2"/>
          <a:stretch/>
        </p:blipFill>
        <p:spPr>
          <a:xfrm>
            <a:off x="-6480" y="5132520"/>
            <a:ext cx="91569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Содержимое 2" descr=""/>
          <p:cNvPicPr/>
          <p:nvPr/>
        </p:nvPicPr>
        <p:blipFill>
          <a:blip r:embed="rId1"/>
          <a:stretch/>
        </p:blipFill>
        <p:spPr>
          <a:xfrm>
            <a:off x="2066760" y="457200"/>
            <a:ext cx="4699080" cy="4548240"/>
          </a:xfrm>
          <a:prstGeom prst="rect">
            <a:avLst/>
          </a:prstGeom>
          <a:ln w="0">
            <a:noFill/>
          </a:ln>
        </p:spPr>
      </p:pic>
      <p:pic>
        <p:nvPicPr>
          <p:cNvPr id="179" name="Заголовок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XXX\Рабочий стол\1267271110_olimpiada_09.jpg"/>
          <p:cNvPicPr/>
          <p:nvPr/>
        </p:nvPicPr>
        <p:blipFill>
          <a:blip r:embed="rId3"/>
          <a:stretch/>
        </p:blipFill>
        <p:spPr>
          <a:xfrm>
            <a:off x="6000840" y="1382760"/>
            <a:ext cx="2633400" cy="1749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Documents and Settings\XXX\Рабочий стол\olimp_12.jpg"/>
          <p:cNvPicPr/>
          <p:nvPr/>
        </p:nvPicPr>
        <p:blipFill>
          <a:blip r:embed="rId4"/>
          <a:stretch/>
        </p:blipFill>
        <p:spPr>
          <a:xfrm>
            <a:off x="5500800" y="35956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Documents and Settings\XXX\Рабочий стол\thm_20091016134051.jpg"/>
          <p:cNvPicPr/>
          <p:nvPr/>
        </p:nvPicPr>
        <p:blipFill>
          <a:blip r:embed="rId5"/>
          <a:stretch/>
        </p:blipFill>
        <p:spPr>
          <a:xfrm>
            <a:off x="785880" y="3714840"/>
            <a:ext cx="3286080" cy="24573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ая соединительная линия 7"/>
          <p:cNvSpPr/>
          <p:nvPr/>
        </p:nvSpPr>
        <p:spPr>
          <a:xfrm flipV="1">
            <a:off x="1000080" y="1357200"/>
            <a:ext cx="7643880" cy="5143680"/>
          </a:xfrm>
          <a:prstGeom prst="line">
            <a:avLst/>
          </a:prstGeom>
          <a:ln cap="rnd"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C:\Documents and Settings\XXX\Мои документы\Фото\Фото\HPIM0865.JPG"/>
          <p:cNvPicPr/>
          <p:nvPr/>
        </p:nvPicPr>
        <p:blipFill>
          <a:blip r:embed="rId6"/>
          <a:stretch/>
        </p:blipFill>
        <p:spPr>
          <a:xfrm>
            <a:off x="428760" y="1500120"/>
            <a:ext cx="28843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 Канада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7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5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 Герман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13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7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3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3 СШ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9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5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13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3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 Норвег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8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6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5 Южная Коре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6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6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6 Швейцария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6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3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7 Китай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2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8 Шве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5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9 Австр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6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1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0 Нидерланды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8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11 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Россия 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3 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5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 7 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1" descr=""/>
          <p:cNvPicPr/>
          <p:nvPr/>
        </p:nvPicPr>
        <p:blipFill>
          <a:blip r:embed="rId1"/>
          <a:stretch/>
        </p:blipFill>
        <p:spPr>
          <a:xfrm>
            <a:off x="255600" y="512640"/>
            <a:ext cx="4183200" cy="7797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3" descr="http://pics.sport.rbc.ru/sport_pics/olymp2010/big_gold.png"/>
          <p:cNvPicPr/>
          <p:nvPr/>
        </p:nvPicPr>
        <p:blipFill>
          <a:blip r:embed="rId2"/>
          <a:stretch/>
        </p:blipFill>
        <p:spPr>
          <a:xfrm>
            <a:off x="4214880" y="8571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" descr="http://pics.sport.rbc.ru/sport_pics/olymp2010/big_silver.png"/>
          <p:cNvPicPr/>
          <p:nvPr/>
        </p:nvPicPr>
        <p:blipFill>
          <a:blip r:embed="rId3"/>
          <a:stretch/>
        </p:blipFill>
        <p:spPr>
          <a:xfrm>
            <a:off x="5857920" y="85716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5" descr="http://pics.sport.rbc.ru/sport_pics/olymp2010/big_bronze.png"/>
          <p:cNvPicPr/>
          <p:nvPr/>
        </p:nvPicPr>
        <p:blipFill>
          <a:blip r:embed="rId4"/>
          <a:stretch/>
        </p:blipFill>
        <p:spPr>
          <a:xfrm>
            <a:off x="6786720" y="8571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6" descr="http://pics.sport.rbc.ru/sport_pics/olymp2010/all.png"/>
          <p:cNvPicPr/>
          <p:nvPr/>
        </p:nvPicPr>
        <p:blipFill>
          <a:blip r:embed="rId5"/>
          <a:stretch/>
        </p:blipFill>
        <p:spPr>
          <a:xfrm>
            <a:off x="7715160" y="785880"/>
            <a:ext cx="46368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7231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42508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3394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2:53:40Z</dcterms:created>
  <dc:creator>Тарасова Л.Н.</dc:creator>
  <dc:description/>
  <dc:language>en-US</dc:language>
  <cp:lastModifiedBy>Роман</cp:lastModifiedBy>
  <dcterms:modified xsi:type="dcterms:W3CDTF">2011-11-16T06:26:49Z</dcterms:modified>
  <cp:revision>29</cp:revision>
  <dc:subject/>
  <dc:title>Слайд 1</dc:title>
</cp:coreProperties>
</file>