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8334-01A9-4236-8503-F38067683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D656-84C5-499C-9C44-37875E66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D48C-D38F-4CD8-BAF5-D959D206A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4B5B-FC3F-4019-AA01-1E0A299A1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7415A-FEBC-424E-9BA1-7A3D02500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6586F3-82F5-4045-9AC0-5A984CC6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20F08-4ADE-455F-A4C7-713B4731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E697AC-B0EA-491A-BB9E-6E88DF82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CA58FC-8BA0-4181-AB4E-FE72F925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3DE36-5236-4A65-8B9B-BFA7408B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9527A-0FB4-47F5-8304-567552DA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98EB-390A-4D4A-98A5-2760CF89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347355-C20B-450F-9A89-DE37A7AC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D4057-04B8-4C29-8B70-14D991C5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CF919-64CF-41DE-B353-B75702FB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54569-28EF-425B-8497-F2AA5A379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A64CB-836F-44AB-A093-81D7EED21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9EE5C-F786-40A2-9F7A-83E9B494F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E5485-080F-46A9-ADBF-1C983326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307A4-7C22-48F2-A22C-06A209D0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38F4B-5B34-4A19-A18B-D718ED3C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ABD3D-15B5-48CF-98DD-9ACB9A3C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A988-233E-4D12-9987-F2824901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85453-076A-42B5-80D0-B457D711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45E02-E5E7-450A-A7B0-A71197D2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F2FE4-D6C1-438E-A6B9-C5F50669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D9AD1-5AA8-40AF-A12E-400B8D6B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0A834-5F7D-4010-9441-70B7AE24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37338-EFE1-4136-A93D-EEF8FB708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B2BA5-5A1A-4B4F-9184-4128A2D27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BDAB3C-7802-4A3B-8A03-3E96FA2D8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411FF8-A59B-411F-8520-05AB95A4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3D0AD0-3965-44A3-9BAC-FF140782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6602-A329-4DA3-8615-5BEDD18B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07C466-B24C-4018-B56C-77F3C8E1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F9B3BD-E9BB-4807-B45E-C53FA41B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31DD59-4FB8-4D6C-8B45-4F482014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8C3A17-D043-4E43-AE36-311C4B01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D07145-4775-48CF-BB4B-0D9E4C7B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440C50-A373-4334-8ADF-496E120E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35BD98-8314-4448-8B1D-477A2EB6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E2B92E-32BF-4CED-AED3-E32F1020D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032840-96B3-4AB5-BB07-D9A0D5668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3A51-86A3-4EC4-8F3D-81BE1AEF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0C6C-0477-4B93-9B80-596E70AB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026F-3595-451A-9E2B-342873EB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955D-00A8-4493-86F1-D76C86AF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72B2-9DC8-41AE-9F3B-9464DFC5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EC7F-83A5-4BA7-8A98-D2DDAF1A3549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4A31-B6CD-462A-89E6-0ADFC70FDDC2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D58A-83BF-4078-B044-7F5B140BB928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7DCC-1E4B-4A7F-BF89-A81C35496BD1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Заголовок 1" descr=""/>
          <p:cNvPicPr/>
          <p:nvPr/>
        </p:nvPicPr>
        <p:blipFill>
          <a:blip r:embed="rId1"/>
          <a:stretch/>
        </p:blipFill>
        <p:spPr>
          <a:xfrm>
            <a:off x="176040" y="55440"/>
            <a:ext cx="8517240" cy="666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Заголовок 1" descr=""/>
          <p:cNvPicPr/>
          <p:nvPr/>
        </p:nvPicPr>
        <p:blipFill>
          <a:blip r:embed="rId1"/>
          <a:stretch/>
        </p:blipFill>
        <p:spPr>
          <a:xfrm>
            <a:off x="255600" y="146160"/>
            <a:ext cx="8437680" cy="59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79080" cy="60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Заголовок 1" descr=""/>
          <p:cNvPicPr/>
          <p:nvPr/>
        </p:nvPicPr>
        <p:blipFill>
          <a:blip r:embed="rId1"/>
          <a:stretch/>
        </p:blipFill>
        <p:spPr>
          <a:xfrm>
            <a:off x="255600" y="146160"/>
            <a:ext cx="843768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Заголовок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503920" cy="60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394840" cy="43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ffff00"/>
                </a:solidFill>
                <a:latin typeface="Constantia"/>
              </a:rPr>
              <a:t>в основе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Constantia"/>
              </a:rPr>
              <a:t>   </a:t>
            </a:r>
            <a:r>
              <a:rPr b="1" lang="ru-RU" sz="2600" spc="-1" strike="noStrike">
                <a:solidFill>
                  <a:srgbClr val="ffff00"/>
                </a:solidFill>
                <a:latin typeface="Constantia"/>
              </a:rPr>
              <a:t>ранее полученные знания на уроках обществоведения, информация из СМ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( Актуализация субъективного опыта учащихся 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ВОПРОС: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Constantia"/>
              </a:rPr>
              <a:t>     </a:t>
            </a:r>
            <a:r>
              <a:rPr b="1" lang="ru-RU" sz="2600" spc="-1" strike="noStrike">
                <a:solidFill>
                  <a:srgbClr val="ffff00"/>
                </a:solidFill>
                <a:latin typeface="Constantia"/>
              </a:rPr>
              <a:t>Вы согласны, что сборная России в          Ванкувере - провалилась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Заголовок 1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C:\Documents and Settings\XXX\Рабочий стол\02894722.jpg"/>
          <p:cNvPicPr/>
          <p:nvPr/>
        </p:nvPicPr>
        <p:blipFill>
          <a:blip r:embed="rId1"/>
          <a:stretch/>
        </p:blipFill>
        <p:spPr>
          <a:xfrm>
            <a:off x="2786040" y="928800"/>
            <a:ext cx="3500640" cy="381312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ая соединительная линия 5"/>
          <p:cNvSpPr/>
          <p:nvPr/>
        </p:nvSpPr>
        <p:spPr>
          <a:xfrm>
            <a:off x="1857240" y="142920"/>
            <a:ext cx="4857840" cy="4786200"/>
          </a:xfrm>
          <a:prstGeom prst="line">
            <a:avLst/>
          </a:prstGeom>
          <a:ln cap="rnd" w="254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Прямая соединительная линия 10"/>
          <p:cNvSpPr/>
          <p:nvPr/>
        </p:nvSpPr>
        <p:spPr>
          <a:xfrm flipH="1">
            <a:off x="2356920" y="142920"/>
            <a:ext cx="4357800" cy="4643280"/>
          </a:xfrm>
          <a:prstGeom prst="line">
            <a:avLst/>
          </a:prstGeom>
          <a:ln cap="rnd" w="254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Прямоугольник 16" descr=""/>
          <p:cNvPicPr/>
          <p:nvPr/>
        </p:nvPicPr>
        <p:blipFill>
          <a:blip r:embed="rId2"/>
          <a:stretch/>
        </p:blipFill>
        <p:spPr>
          <a:xfrm>
            <a:off x="-6480" y="5132520"/>
            <a:ext cx="915696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1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Содержимое 2" descr=""/>
          <p:cNvPicPr/>
          <p:nvPr/>
        </p:nvPicPr>
        <p:blipFill>
          <a:blip r:embed="rId1"/>
          <a:stretch/>
        </p:blipFill>
        <p:spPr>
          <a:xfrm>
            <a:off x="2066760" y="457200"/>
            <a:ext cx="4699080" cy="4548240"/>
          </a:xfrm>
          <a:prstGeom prst="rect">
            <a:avLst/>
          </a:prstGeom>
          <a:ln w="0">
            <a:noFill/>
          </a:ln>
        </p:spPr>
      </p:pic>
      <p:pic>
        <p:nvPicPr>
          <p:cNvPr id="179" name="Заголовок 1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C:\Documents and Settings\XXX\Рабочий стол\1267271110_olimpiada_09.jpg"/>
          <p:cNvPicPr/>
          <p:nvPr/>
        </p:nvPicPr>
        <p:blipFill>
          <a:blip r:embed="rId3"/>
          <a:stretch/>
        </p:blipFill>
        <p:spPr>
          <a:xfrm>
            <a:off x="6000840" y="1382760"/>
            <a:ext cx="2633400" cy="1749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C:\Documents and Settings\XXX\Рабочий стол\olimp_12.jpg"/>
          <p:cNvPicPr/>
          <p:nvPr/>
        </p:nvPicPr>
        <p:blipFill>
          <a:blip r:embed="rId4"/>
          <a:stretch/>
        </p:blipFill>
        <p:spPr>
          <a:xfrm>
            <a:off x="5500800" y="359568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C:\Documents and Settings\XXX\Рабочий стол\thm_20091016134051.jpg"/>
          <p:cNvPicPr/>
          <p:nvPr/>
        </p:nvPicPr>
        <p:blipFill>
          <a:blip r:embed="rId5"/>
          <a:stretch/>
        </p:blipFill>
        <p:spPr>
          <a:xfrm>
            <a:off x="785880" y="3714840"/>
            <a:ext cx="3286080" cy="2457360"/>
          </a:xfrm>
          <a:prstGeom prst="rect">
            <a:avLst/>
          </a:prstGeom>
          <a:ln w="0">
            <a:noFill/>
          </a:ln>
        </p:spPr>
      </p:pic>
      <p:sp>
        <p:nvSpPr>
          <p:cNvPr id="183" name="Прямая соединительная линия 7"/>
          <p:cNvSpPr/>
          <p:nvPr/>
        </p:nvSpPr>
        <p:spPr>
          <a:xfrm flipV="1">
            <a:off x="1000080" y="1357200"/>
            <a:ext cx="7643880" cy="5143680"/>
          </a:xfrm>
          <a:prstGeom prst="line">
            <a:avLst/>
          </a:prstGeom>
          <a:ln cap="rnd" w="254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C:\Documents and Settings\XXX\Мои документы\Фото\Фото\HPIM0865.JPG"/>
          <p:cNvPicPr/>
          <p:nvPr/>
        </p:nvPicPr>
        <p:blipFill>
          <a:blip r:embed="rId6"/>
          <a:stretch/>
        </p:blipFill>
        <p:spPr>
          <a:xfrm>
            <a:off x="428760" y="1500120"/>
            <a:ext cx="288432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1 Канада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14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7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5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26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2 Германия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10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13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7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30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3 США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9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15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13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37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4 Норвегия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9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8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6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23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5 Южная Корея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6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6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2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6 Швейцария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6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0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3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7 Китай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5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2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4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8 Швеция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5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2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4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9 Австрия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4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6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6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16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10 Нидерланды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4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1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8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11 </a:t>
            </a: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Россия </a:t>
            </a: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3 </a:t>
            </a: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5</a:t>
            </a: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 7 </a:t>
            </a: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6" name="Заголовок 1" descr=""/>
          <p:cNvPicPr/>
          <p:nvPr/>
        </p:nvPicPr>
        <p:blipFill>
          <a:blip r:embed="rId1"/>
          <a:stretch/>
        </p:blipFill>
        <p:spPr>
          <a:xfrm>
            <a:off x="255600" y="512640"/>
            <a:ext cx="4183200" cy="77976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3" descr="http://pics.sport.rbc.ru/sport_pics/olymp2010/big_gold.png"/>
          <p:cNvPicPr/>
          <p:nvPr/>
        </p:nvPicPr>
        <p:blipFill>
          <a:blip r:embed="rId2"/>
          <a:stretch/>
        </p:blipFill>
        <p:spPr>
          <a:xfrm>
            <a:off x="4214880" y="85716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4" descr="http://pics.sport.rbc.ru/sport_pics/olymp2010/big_silver.png"/>
          <p:cNvPicPr/>
          <p:nvPr/>
        </p:nvPicPr>
        <p:blipFill>
          <a:blip r:embed="rId3"/>
          <a:stretch/>
        </p:blipFill>
        <p:spPr>
          <a:xfrm>
            <a:off x="5857920" y="85716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5" descr="http://pics.sport.rbc.ru/sport_pics/olymp2010/big_bronze.png"/>
          <p:cNvPicPr/>
          <p:nvPr/>
        </p:nvPicPr>
        <p:blipFill>
          <a:blip r:embed="rId4"/>
          <a:stretch/>
        </p:blipFill>
        <p:spPr>
          <a:xfrm>
            <a:off x="6786720" y="85716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6" descr="http://pics.sport.rbc.ru/sport_pics/olymp2010/all.png"/>
          <p:cNvPicPr/>
          <p:nvPr/>
        </p:nvPicPr>
        <p:blipFill>
          <a:blip r:embed="rId5"/>
          <a:stretch/>
        </p:blipFill>
        <p:spPr>
          <a:xfrm>
            <a:off x="7715160" y="785880"/>
            <a:ext cx="46368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Заголовок 1" descr=""/>
          <p:cNvPicPr/>
          <p:nvPr/>
        </p:nvPicPr>
        <p:blipFill>
          <a:blip r:embed="rId1"/>
          <a:stretch/>
        </p:blipFill>
        <p:spPr>
          <a:xfrm>
            <a:off x="139680" y="268200"/>
            <a:ext cx="872316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Заголовок 1" descr=""/>
          <p:cNvPicPr/>
          <p:nvPr/>
        </p:nvPicPr>
        <p:blipFill>
          <a:blip r:embed="rId1"/>
          <a:stretch/>
        </p:blipFill>
        <p:spPr>
          <a:xfrm>
            <a:off x="268200" y="225360"/>
            <a:ext cx="8425080" cy="61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339400" cy="41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12:53:40Z</dcterms:created>
  <dc:creator>Тарасова Л.Н.</dc:creator>
  <dc:description/>
  <dc:language>en-US</dc:language>
  <cp:lastModifiedBy>Роман</cp:lastModifiedBy>
  <dcterms:modified xsi:type="dcterms:W3CDTF">2011-11-16T06:26:49Z</dcterms:modified>
  <cp:revision>29</cp:revision>
  <dc:subject/>
  <dc:title>Слайд 1</dc:title>
</cp:coreProperties>
</file>