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89B-BD64-45AE-98F0-0EB07934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BEA-E788-460B-86FE-2A2FFAD4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535-1AD1-447F-A1CE-7DD4FFE4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1BA-907D-41A6-ACAF-9CCE2647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C5D80-9F8B-4C5D-8864-231B2CF3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079DD-8493-42BC-A27A-7A611F8E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C43EF-C1FB-4B21-8EB1-5C5C0D59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8F5C7-BAF7-42F9-8BB8-6944D82E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5831E-DB15-4C6E-BC79-A5C0C832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43D4F-DE47-4D8E-AD27-4AA0BB53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46EDE-4FFC-4B38-A318-696CDE8D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C1E-D2D3-4304-910E-AF924FFB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78CB0-FDB3-4048-BCEF-2F949F42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10641-CA4C-4746-B387-2F67665D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9E1DB-F29D-4F6D-81BF-78F6CA14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5A7A5-DD73-400A-B3D0-78B54F25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83F6D-E706-44B0-8C2C-85226520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83F3A-5410-47E9-A428-83226AB2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A847D-1360-485D-B923-864EAEB7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328D2-D787-471B-A90A-E00581C3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B604-E1B5-478C-A07A-94210D54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0AA42-06F5-4275-B16F-BE2A74AB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34B-E062-45DA-9B56-F49D5A8B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9AC08-BC7E-4B93-8357-50A17145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55624-099C-45D9-910C-BC70C921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86227-943E-43FD-A7FC-67A2A639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EF3B9-5923-458F-B34C-D9BEBB19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B1A56-333D-4576-837E-E5F00859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69F4B-6C82-4D4C-AE94-13C0B08A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0EC7B-EA5E-4EB9-87F4-69A6D1BB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126F17-5B99-438B-9025-A4E8EC47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F41E47-7428-4F36-92A0-AF36E723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8979AF-B1EB-49B2-8F58-9073D670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567-DA46-4E52-8FE0-DED6E6F5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51D95B-A5DB-4208-8143-DE719A8E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A3B92E-73BA-477B-B49F-F4E22941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25C120-502E-4AD0-B341-EE158D28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2D2CE4-3739-4BB6-B2D3-68BEE3F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A3ADD4-1A6D-4B33-B7D5-B6DD3470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1D14CF-69F9-4467-946F-A48ED981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9A0302-5F93-4776-9A55-777C10B1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9DA598-0B36-4783-BFAE-0DDA0219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6E95A5-58D0-4783-A1B5-B6D68B4D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D34-E93E-4B04-AB49-BAAC9BEB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AC8-EBA8-4B9F-BCCE-AEDF539E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51F-4F27-42F1-82E5-14E27CD3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0910-94EB-4E3F-AE98-C0435068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79A-713D-47D7-98A3-40F61F3D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E24D-3FB4-46B4-B8EF-DAB0EF5E3CD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3C12-42F6-425F-8C2D-3D89A6433CA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B77E-06F8-46F8-85A6-4F04C14C9AC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39EF-A4BF-4440-A8E7-513C43088ED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176040" y="55440"/>
            <a:ext cx="851724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7908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50392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в основ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ранее полученные знания на уроках обществоведения, информация из С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( Актуализация субъективного опыта учащихся 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ВОПРОС: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     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Вы согласны, что сборная России в          Ванкувере - провалилась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Documents and Settings\XXX\Рабочий стол\02894722.jpg"/>
          <p:cNvPicPr/>
          <p:nvPr/>
        </p:nvPicPr>
        <p:blipFill>
          <a:blip r:embed="rId1"/>
          <a:stretch/>
        </p:blipFill>
        <p:spPr>
          <a:xfrm>
            <a:off x="2786040" y="928800"/>
            <a:ext cx="3500640" cy="381312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ая соединительная линия 5"/>
          <p:cNvSpPr/>
          <p:nvPr/>
        </p:nvSpPr>
        <p:spPr>
          <a:xfrm>
            <a:off x="1857240" y="142920"/>
            <a:ext cx="4857840" cy="4786200"/>
          </a:xfrm>
          <a:prstGeom prst="line">
            <a:avLst/>
          </a:prstGeom>
          <a:ln cap="rnd"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ая соединительная линия 10"/>
          <p:cNvSpPr/>
          <p:nvPr/>
        </p:nvSpPr>
        <p:spPr>
          <a:xfrm flipH="1">
            <a:off x="2356920" y="142920"/>
            <a:ext cx="4357800" cy="4643280"/>
          </a:xfrm>
          <a:prstGeom prst="line">
            <a:avLst/>
          </a:prstGeom>
          <a:ln cap="rnd"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Прямоугольник 16" descr=""/>
          <p:cNvPicPr/>
          <p:nvPr/>
        </p:nvPicPr>
        <p:blipFill>
          <a:blip r:embed="rId2"/>
          <a:stretch/>
        </p:blipFill>
        <p:spPr>
          <a:xfrm>
            <a:off x="-6480" y="5132520"/>
            <a:ext cx="91569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Содержимое 2" descr=""/>
          <p:cNvPicPr/>
          <p:nvPr/>
        </p:nvPicPr>
        <p:blipFill>
          <a:blip r:embed="rId1"/>
          <a:stretch/>
        </p:blipFill>
        <p:spPr>
          <a:xfrm>
            <a:off x="2066760" y="457200"/>
            <a:ext cx="4699080" cy="4548240"/>
          </a:xfrm>
          <a:prstGeom prst="rect">
            <a:avLst/>
          </a:prstGeom>
          <a:ln w="0">
            <a:noFill/>
          </a:ln>
        </p:spPr>
      </p:pic>
      <p:pic>
        <p:nvPicPr>
          <p:cNvPr id="179" name="Заголовок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XXX\Рабочий стол\1267271110_olimpiada_09.jpg"/>
          <p:cNvPicPr/>
          <p:nvPr/>
        </p:nvPicPr>
        <p:blipFill>
          <a:blip r:embed="rId3"/>
          <a:stretch/>
        </p:blipFill>
        <p:spPr>
          <a:xfrm>
            <a:off x="6000840" y="1382760"/>
            <a:ext cx="2633400" cy="1749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Documents and Settings\XXX\Рабочий стол\olimp_12.jpg"/>
          <p:cNvPicPr/>
          <p:nvPr/>
        </p:nvPicPr>
        <p:blipFill>
          <a:blip r:embed="rId4"/>
          <a:stretch/>
        </p:blipFill>
        <p:spPr>
          <a:xfrm>
            <a:off x="5500800" y="35956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Documents and Settings\XXX\Рабочий стол\thm_20091016134051.jpg"/>
          <p:cNvPicPr/>
          <p:nvPr/>
        </p:nvPicPr>
        <p:blipFill>
          <a:blip r:embed="rId5"/>
          <a:stretch/>
        </p:blipFill>
        <p:spPr>
          <a:xfrm>
            <a:off x="785880" y="3714840"/>
            <a:ext cx="3286080" cy="24573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ая соединительная линия 7"/>
          <p:cNvSpPr/>
          <p:nvPr/>
        </p:nvSpPr>
        <p:spPr>
          <a:xfrm flipV="1">
            <a:off x="1000080" y="1357200"/>
            <a:ext cx="7643880" cy="5143680"/>
          </a:xfrm>
          <a:prstGeom prst="line">
            <a:avLst/>
          </a:prstGeom>
          <a:ln cap="rnd"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C:\Documents and Settings\XXX\Мои документы\Фото\Фото\HPIM0865.JPG"/>
          <p:cNvPicPr/>
          <p:nvPr/>
        </p:nvPicPr>
        <p:blipFill>
          <a:blip r:embed="rId6"/>
          <a:stretch/>
        </p:blipFill>
        <p:spPr>
          <a:xfrm>
            <a:off x="428760" y="1500120"/>
            <a:ext cx="28843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 Канада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7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5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 Герман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13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7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3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3 СШ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9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5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13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3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 Норвег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8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6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5 Южная Коре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6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6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6 Швейцария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6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3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7 Китай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2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8 Шве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5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9 Австр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6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1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0 Нидерланды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8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11 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Россия 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3 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5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 7 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1" descr=""/>
          <p:cNvPicPr/>
          <p:nvPr/>
        </p:nvPicPr>
        <p:blipFill>
          <a:blip r:embed="rId1"/>
          <a:stretch/>
        </p:blipFill>
        <p:spPr>
          <a:xfrm>
            <a:off x="255600" y="512640"/>
            <a:ext cx="4183200" cy="7797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3" descr="http://pics.sport.rbc.ru/sport_pics/olymp2010/big_gold.png"/>
          <p:cNvPicPr/>
          <p:nvPr/>
        </p:nvPicPr>
        <p:blipFill>
          <a:blip r:embed="rId2"/>
          <a:stretch/>
        </p:blipFill>
        <p:spPr>
          <a:xfrm>
            <a:off x="4214880" y="8571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" descr="http://pics.sport.rbc.ru/sport_pics/olymp2010/big_silver.png"/>
          <p:cNvPicPr/>
          <p:nvPr/>
        </p:nvPicPr>
        <p:blipFill>
          <a:blip r:embed="rId3"/>
          <a:stretch/>
        </p:blipFill>
        <p:spPr>
          <a:xfrm>
            <a:off x="5857920" y="85716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5" descr="http://pics.sport.rbc.ru/sport_pics/olymp2010/big_bronze.png"/>
          <p:cNvPicPr/>
          <p:nvPr/>
        </p:nvPicPr>
        <p:blipFill>
          <a:blip r:embed="rId4"/>
          <a:stretch/>
        </p:blipFill>
        <p:spPr>
          <a:xfrm>
            <a:off x="6786720" y="8571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6" descr="http://pics.sport.rbc.ru/sport_pics/olymp2010/all.png"/>
          <p:cNvPicPr/>
          <p:nvPr/>
        </p:nvPicPr>
        <p:blipFill>
          <a:blip r:embed="rId5"/>
          <a:stretch/>
        </p:blipFill>
        <p:spPr>
          <a:xfrm>
            <a:off x="7715160" y="785880"/>
            <a:ext cx="46368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7231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42508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3394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2:53:40Z</dcterms:created>
  <dc:creator>Тарасова Л.Н.</dc:creator>
  <dc:description/>
  <dc:language>en-US</dc:language>
  <cp:lastModifiedBy>Роман</cp:lastModifiedBy>
  <dcterms:modified xsi:type="dcterms:W3CDTF">2011-11-16T06:26:49Z</dcterms:modified>
  <cp:revision>29</cp:revision>
  <dc:subject/>
  <dc:title>Слайд 1</dc:title>
</cp:coreProperties>
</file>