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9.jpeg" ContentType="image/jpeg"/>
  <Override PartName="/ppt/media/image3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1BC-79EA-47F5-AF9F-19D48C3FC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AEC-192E-456D-8FD1-EA74E06F5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5A4-025C-4769-B57C-4F350E39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79D-5B40-4190-A7FD-4552A3F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D73-446F-4485-A414-F73F2BE9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C46-9976-4B4A-ACD1-C4578E98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207-4253-4924-88CA-E338D3B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BD9-3D8F-475C-B30E-7D8CD9B0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9E5-F5F1-4190-BA83-9B280FA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672-3867-4399-A61A-F1699DA7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06C-F093-44D2-B15F-F0B23A6E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361-1DA7-4157-AECF-D971F19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F6A-5034-49B6-9AFB-8804CE3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8F1-8E1C-4A94-A5CC-0D09B425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A8C7-D07C-4135-8EF3-3CB1A1035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2"/>
          <a:stretch/>
        </p:blipFill>
        <p:spPr>
          <a:xfrm>
            <a:off x="1401840" y="1133640"/>
            <a:ext cx="4979880" cy="2401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00040" y="42148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Воспитатель ГПД :  Рудник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500280" y="4572000"/>
            <a:ext cx="42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ветла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6150240" cy="841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" descr=""/>
          <p:cNvPicPr/>
          <p:nvPr/>
        </p:nvPicPr>
        <p:blipFill>
          <a:blip r:embed="rId3"/>
          <a:stretch/>
        </p:blipFill>
        <p:spPr>
          <a:xfrm>
            <a:off x="3352680" y="1206360"/>
            <a:ext cx="4438800" cy="841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712300.jpg"/>
          <p:cNvPicPr/>
          <p:nvPr/>
        </p:nvPicPr>
        <p:blipFill>
          <a:blip r:embed="rId4"/>
          <a:stretch/>
        </p:blipFill>
        <p:spPr>
          <a:xfrm>
            <a:off x="4572000" y="4778280"/>
            <a:ext cx="3000240" cy="207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0_446d_77fb8e78_XL.jpg"/>
          <p:cNvPicPr/>
          <p:nvPr/>
        </p:nvPicPr>
        <p:blipFill>
          <a:blip r:embed="rId5"/>
          <a:stretch/>
        </p:blipFill>
        <p:spPr>
          <a:xfrm>
            <a:off x="0" y="4643280"/>
            <a:ext cx="166068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i.jpg"/>
          <p:cNvPicPr/>
          <p:nvPr/>
        </p:nvPicPr>
        <p:blipFill>
          <a:blip r:embed="rId6"/>
          <a:stretch/>
        </p:blipFill>
        <p:spPr>
          <a:xfrm>
            <a:off x="1000080" y="857160"/>
            <a:ext cx="2274840" cy="1500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mb1171.jpg"/>
          <p:cNvPicPr/>
          <p:nvPr/>
        </p:nvPicPr>
        <p:blipFill>
          <a:blip r:embed="rId7"/>
          <a:stretch/>
        </p:blipFill>
        <p:spPr>
          <a:xfrm>
            <a:off x="6429240" y="1928880"/>
            <a:ext cx="2714760" cy="2262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1" descr="OlgaT15.jpg"/>
          <p:cNvPicPr/>
          <p:nvPr/>
        </p:nvPicPr>
        <p:blipFill>
          <a:blip r:embed="rId8"/>
          <a:stretch/>
        </p:blipFill>
        <p:spPr>
          <a:xfrm>
            <a:off x="157968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2" descr="behealthy_2.jpg"/>
          <p:cNvPicPr/>
          <p:nvPr/>
        </p:nvPicPr>
        <p:blipFill>
          <a:blip r:embed="rId9"/>
          <a:stretch/>
        </p:blipFill>
        <p:spPr>
          <a:xfrm>
            <a:off x="3081240" y="2509920"/>
            <a:ext cx="3400560" cy="2214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0_647e_420a9b36_XL.jpg"/>
          <p:cNvPicPr/>
          <p:nvPr/>
        </p:nvPicPr>
        <p:blipFill>
          <a:blip r:embed="rId10"/>
          <a:stretch/>
        </p:blipFill>
        <p:spPr>
          <a:xfrm>
            <a:off x="7215120" y="0"/>
            <a:ext cx="192888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AB59BA6AE206347Bhealthy_food.jpg"/>
          <p:cNvPicPr/>
          <p:nvPr/>
        </p:nvPicPr>
        <p:blipFill>
          <a:blip r:embed="rId11"/>
          <a:stretch/>
        </p:blipFill>
        <p:spPr>
          <a:xfrm>
            <a:off x="357120" y="2357280"/>
            <a:ext cx="2405160" cy="2405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1175085066625__laugh.jpg"/>
          <p:cNvPicPr/>
          <p:nvPr/>
        </p:nvPicPr>
        <p:blipFill>
          <a:blip r:embed="rId12"/>
          <a:stretch/>
        </p:blipFill>
        <p:spPr>
          <a:xfrm>
            <a:off x="6988320" y="3865680"/>
            <a:ext cx="2155680" cy="299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1" descr=""/>
          <p:cNvPicPr/>
          <p:nvPr/>
        </p:nvPicPr>
        <p:blipFill>
          <a:blip r:embed="rId2"/>
          <a:stretch/>
        </p:blipFill>
        <p:spPr>
          <a:xfrm>
            <a:off x="2124000" y="115920"/>
            <a:ext cx="6723000" cy="1766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2" descr=""/>
          <p:cNvPicPr/>
          <p:nvPr/>
        </p:nvPicPr>
        <p:blipFill>
          <a:blip r:embed="rId3"/>
          <a:stretch/>
        </p:blipFill>
        <p:spPr>
          <a:xfrm>
            <a:off x="1908000" y="1628640"/>
            <a:ext cx="8639280" cy="3517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8.jpg"/>
          <p:cNvPicPr/>
          <p:nvPr/>
        </p:nvPicPr>
        <p:blipFill>
          <a:blip r:embed="rId4"/>
          <a:stretch/>
        </p:blipFill>
        <p:spPr>
          <a:xfrm>
            <a:off x="7308720" y="4800600"/>
            <a:ext cx="183528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post-884-1223036034.jpg"/>
          <p:cNvPicPr/>
          <p:nvPr/>
        </p:nvPicPr>
        <p:blipFill>
          <a:blip r:embed="rId5"/>
          <a:stretch/>
        </p:blipFill>
        <p:spPr>
          <a:xfrm>
            <a:off x="-14400" y="4264200"/>
            <a:ext cx="1729080" cy="2593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1794.jpg"/>
          <p:cNvPicPr/>
          <p:nvPr/>
        </p:nvPicPr>
        <p:blipFill>
          <a:blip r:embed="rId6"/>
          <a:stretch/>
        </p:blipFill>
        <p:spPr>
          <a:xfrm>
            <a:off x="3132000" y="5157720"/>
            <a:ext cx="2928960" cy="18306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6" descr="150330727.jpg"/>
          <p:cNvPicPr/>
          <p:nvPr/>
        </p:nvPicPr>
        <p:blipFill>
          <a:blip r:embed="rId7"/>
          <a:stretch/>
        </p:blipFill>
        <p:spPr>
          <a:xfrm>
            <a:off x="7072200" y="1643040"/>
            <a:ext cx="1928880" cy="28940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7" descr="octect1.jpg"/>
          <p:cNvPicPr/>
          <p:nvPr/>
        </p:nvPicPr>
        <p:blipFill>
          <a:blip r:embed="rId8"/>
          <a:stretch/>
        </p:blipFill>
        <p:spPr>
          <a:xfrm>
            <a:off x="395280" y="549360"/>
            <a:ext cx="1436760" cy="340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170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Bodoni MT"/>
              </a:rPr>
              <a:t>крас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429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трой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5280" y="39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с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7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лов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27664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креп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39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румя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50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gency FB"/>
              </a:rPr>
              <a:t>подтяну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Box 1" descr=""/>
          <p:cNvPicPr/>
          <p:nvPr/>
        </p:nvPicPr>
        <p:blipFill>
          <a:blip r:embed="rId2"/>
          <a:stretch/>
        </p:blipFill>
        <p:spPr>
          <a:xfrm>
            <a:off x="3121200" y="146160"/>
            <a:ext cx="5943600" cy="2921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928800" y="2357280"/>
            <a:ext cx="657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3252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Существуют ли полезные микробы? ( Д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Где они встречаются? ( В кефире, ряженке, соленых огурцах и помидорах, и соленой капу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43000" y="3714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2. Как попадают микробы в наш организм? ( При кашле, через грязные руки и продукты, ран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57160" y="492912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</a:rPr>
              <a:t>3. Как защититься от микробов?  ( Прикрывать рот, мыть руки, ранки обрабатывать лекар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16114686.jpg"/>
          <p:cNvPicPr/>
          <p:nvPr/>
        </p:nvPicPr>
        <p:blipFill>
          <a:blip r:embed="rId3">
            <a:lum bright="10000"/>
          </a:blip>
          <a:stretch/>
        </p:blipFill>
        <p:spPr>
          <a:xfrm rot="21094800">
            <a:off x="713880" y="500040"/>
            <a:ext cx="1179720" cy="1452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QPCAV4WJNTCA0F65ZWCA06X98TCA8GMJ1PCA3QOGSACAMXXJDUCAJ8SJZICAUBGVENCASM5YI2CA08P7UXCA10L11TCA1ZDBW8CAPKVWK1CAVM37W1CAR5H92LCAYK0TCPCAGHVK3HCAC3T86DCAQJ3PU6.jpg"/>
          <p:cNvPicPr/>
          <p:nvPr/>
        </p:nvPicPr>
        <p:blipFill>
          <a:blip r:embed="rId4"/>
          <a:stretch/>
        </p:blipFill>
        <p:spPr>
          <a:xfrm rot="562800">
            <a:off x="7097760" y="4923000"/>
            <a:ext cx="1785960" cy="1336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7656840" cy="10303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0" y="1000080"/>
            <a:ext cx="67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грызу ручки и каранд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осле еды я полощу 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Вечерами я долго сижу перед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786040" y="32148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часто ем слад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Перед едой я не мою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Люблю  слушать громкую му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6560" y="164304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чищу зубы два раза в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0" y="235728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сле еды я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полощу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1835280" y="357192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плю с открытой форточ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2786040" y="4286160"/>
            <a:ext cx="48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люблю фрукты и 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771640" y="50133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Я слежу за своей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3" descr="image_1210743904.jpg"/>
          <p:cNvPicPr/>
          <p:nvPr/>
        </p:nvPicPr>
        <p:blipFill>
          <a:blip r:embed="rId3"/>
          <a:stretch/>
        </p:blipFill>
        <p:spPr>
          <a:xfrm rot="249000">
            <a:off x="7343280" y="30718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141103_5.jpg"/>
          <p:cNvPicPr/>
          <p:nvPr/>
        </p:nvPicPr>
        <p:blipFill>
          <a:blip r:embed="rId4"/>
          <a:stretch/>
        </p:blipFill>
        <p:spPr>
          <a:xfrm rot="21412200">
            <a:off x="213840" y="3642840"/>
            <a:ext cx="2121120" cy="303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6" descr="113370_1.jpg"/>
          <p:cNvPicPr/>
          <p:nvPr/>
        </p:nvPicPr>
        <p:blipFill>
          <a:blip r:embed="rId5"/>
          <a:stretch/>
        </p:blipFill>
        <p:spPr>
          <a:xfrm rot="265200">
            <a:off x="5715000" y="857160"/>
            <a:ext cx="2544840" cy="19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5" descr="00f8d1b7508e4a1536247193f3fbeec1.jpg"/>
          <p:cNvPicPr/>
          <p:nvPr/>
        </p:nvPicPr>
        <p:blipFill>
          <a:blip r:embed="rId6"/>
          <a:stretch/>
        </p:blipFill>
        <p:spPr>
          <a:xfrm>
            <a:off x="4643280" y="5430960"/>
            <a:ext cx="2143440" cy="1427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3139920" y="208080"/>
            <a:ext cx="366876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1500120" y="2000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500120" y="1428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00120" y="2571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00120" y="3143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00120" y="3714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500120" y="4286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500120" y="4857840"/>
          <a:ext cx="6096240" cy="579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00120" y="5429160"/>
          <a:ext cx="6096240" cy="579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Box 14"/>
          <p:cNvSpPr/>
          <p:nvPr/>
        </p:nvSpPr>
        <p:spPr>
          <a:xfrm>
            <a:off x="1547640" y="141300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571760" y="2000160"/>
            <a:ext cx="42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2786040" y="25718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1571760" y="3143160"/>
            <a:ext cx="35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2786040" y="3714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0"/>
          <p:cNvSpPr/>
          <p:nvPr/>
        </p:nvSpPr>
        <p:spPr>
          <a:xfrm>
            <a:off x="1571760" y="428616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3429000" y="4857840"/>
            <a:ext cx="5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2843280" y="5143680"/>
            <a:ext cx="657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extBox 1" descr=""/>
          <p:cNvPicPr/>
          <p:nvPr/>
        </p:nvPicPr>
        <p:blipFill>
          <a:blip r:embed="rId2"/>
          <a:stretch/>
        </p:blipFill>
        <p:spPr>
          <a:xfrm>
            <a:off x="1920960" y="2419200"/>
            <a:ext cx="5370480" cy="1586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priroda.jpg"/>
          <p:cNvPicPr/>
          <p:nvPr/>
        </p:nvPicPr>
        <p:blipFill>
          <a:blip r:embed="rId3"/>
          <a:stretch/>
        </p:blipFill>
        <p:spPr>
          <a:xfrm>
            <a:off x="0" y="4029120"/>
            <a:ext cx="3857760" cy="2828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getfull.jpg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664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5" descr="01_03_00.jpg"/>
          <p:cNvPicPr/>
          <p:nvPr/>
        </p:nvPicPr>
        <p:blipFill>
          <a:blip r:embed="rId5"/>
          <a:stretch/>
        </p:blipFill>
        <p:spPr>
          <a:xfrm>
            <a:off x="6929280" y="3525840"/>
            <a:ext cx="2214720" cy="3332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1185700116_577009.jpg"/>
          <p:cNvPicPr/>
          <p:nvPr/>
        </p:nvPicPr>
        <p:blipFill>
          <a:blip r:embed="rId6"/>
          <a:stretch/>
        </p:blipFill>
        <p:spPr>
          <a:xfrm>
            <a:off x="0" y="0"/>
            <a:ext cx="3524400" cy="26431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d181d0bed0bd.jpg"/>
          <p:cNvPicPr/>
          <p:nvPr/>
        </p:nvPicPr>
        <p:blipFill>
          <a:blip r:embed="rId7"/>
          <a:stretch/>
        </p:blipFill>
        <p:spPr>
          <a:xfrm>
            <a:off x="3929040" y="4357800"/>
            <a:ext cx="2930400" cy="1930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29f8b07c0949.jpg"/>
          <p:cNvPicPr/>
          <p:nvPr/>
        </p:nvPicPr>
        <p:blipFill>
          <a:blip r:embed="rId8"/>
          <a:stretch/>
        </p:blipFill>
        <p:spPr>
          <a:xfrm>
            <a:off x="3071880" y="214200"/>
            <a:ext cx="25272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extBox 1" descr=""/>
          <p:cNvPicPr/>
          <p:nvPr/>
        </p:nvPicPr>
        <p:blipFill>
          <a:blip r:embed="rId2"/>
          <a:stretch/>
        </p:blipFill>
        <p:spPr>
          <a:xfrm>
            <a:off x="1920960" y="4206960"/>
            <a:ext cx="6089400" cy="20178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2" descr="1219276464_0lik_ru_bezimeni-11.jpg"/>
          <p:cNvPicPr/>
          <p:nvPr/>
        </p:nvPicPr>
        <p:blipFill>
          <a:blip r:embed="rId3"/>
          <a:stretch/>
        </p:blipFill>
        <p:spPr>
          <a:xfrm>
            <a:off x="2143080" y="357120"/>
            <a:ext cx="5032440" cy="4025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40:57Z</dcterms:created>
  <dc:creator>Дима</dc:creator>
  <dc:description/>
  <dc:language>en-US</dc:language>
  <cp:lastModifiedBy>Учитель</cp:lastModifiedBy>
  <dcterms:modified xsi:type="dcterms:W3CDTF">2010-10-03T19:11:46Z</dcterms:modified>
  <cp:revision>86</cp:revision>
  <dc:subject/>
  <dc:title>Слайд 1</dc:title>
</cp:coreProperties>
</file>