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9.jpeg" ContentType="image/jpeg"/>
  <Override PartName="/ppt/media/image3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8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8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A133-F6C4-4B06-834F-92A1AAFC4C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AC1B-967A-437C-8EA7-316FF1A65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B0E-255C-448A-B28B-D842A58D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051-FB73-4888-931E-6B4A696B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F47-15B4-4BD8-B052-A03CE1CE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E7B-C9A1-4647-9C55-0EF4C1A6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23D-F9CF-4725-93A2-1BD65AB8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999-AFCB-4A90-B210-FC947E1D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7F3-2DFB-44B7-A309-ECB51340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7DC-1E4E-47D0-8E02-4A5845F2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06D-2043-4120-93A4-D631A4B7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959-ACFC-47F6-B87C-476C1689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B08-4D38-49DD-BD4A-BFF18C66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8E2-CE86-4D28-AF96-0697A7AF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EAE6-37DE-47B7-ACAE-FA2E920C4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3" descr=""/>
          <p:cNvPicPr/>
          <p:nvPr/>
        </p:nvPicPr>
        <p:blipFill>
          <a:blip r:embed="rId2"/>
          <a:stretch/>
        </p:blipFill>
        <p:spPr>
          <a:xfrm>
            <a:off x="1401840" y="1133640"/>
            <a:ext cx="4979880" cy="24015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00040" y="421488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Воспитатель ГПД :  Рудник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500280" y="457200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Светлан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1" descr=""/>
          <p:cNvPicPr/>
          <p:nvPr/>
        </p:nvPicPr>
        <p:blipFill>
          <a:blip r:embed="rId2"/>
          <a:stretch/>
        </p:blipFill>
        <p:spPr>
          <a:xfrm>
            <a:off x="853920" y="-6480"/>
            <a:ext cx="6150240" cy="8416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2" descr=""/>
          <p:cNvPicPr/>
          <p:nvPr/>
        </p:nvPicPr>
        <p:blipFill>
          <a:blip r:embed="rId3"/>
          <a:stretch/>
        </p:blipFill>
        <p:spPr>
          <a:xfrm>
            <a:off x="3352680" y="1206360"/>
            <a:ext cx="4438800" cy="8416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712300.jpg"/>
          <p:cNvPicPr/>
          <p:nvPr/>
        </p:nvPicPr>
        <p:blipFill>
          <a:blip r:embed="rId4"/>
          <a:stretch/>
        </p:blipFill>
        <p:spPr>
          <a:xfrm>
            <a:off x="4572000" y="4778280"/>
            <a:ext cx="3000240" cy="2079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0_446d_77fb8e78_XL.jpg"/>
          <p:cNvPicPr/>
          <p:nvPr/>
        </p:nvPicPr>
        <p:blipFill>
          <a:blip r:embed="rId5"/>
          <a:stretch/>
        </p:blipFill>
        <p:spPr>
          <a:xfrm>
            <a:off x="0" y="4643280"/>
            <a:ext cx="1660680" cy="2214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i.jpg"/>
          <p:cNvPicPr/>
          <p:nvPr/>
        </p:nvPicPr>
        <p:blipFill>
          <a:blip r:embed="rId6"/>
          <a:stretch/>
        </p:blipFill>
        <p:spPr>
          <a:xfrm>
            <a:off x="1000080" y="857160"/>
            <a:ext cx="2274840" cy="1500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mb1171.jpg"/>
          <p:cNvPicPr/>
          <p:nvPr/>
        </p:nvPicPr>
        <p:blipFill>
          <a:blip r:embed="rId7"/>
          <a:stretch/>
        </p:blipFill>
        <p:spPr>
          <a:xfrm>
            <a:off x="6429240" y="1928880"/>
            <a:ext cx="2714760" cy="22622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OlgaT15.jpg"/>
          <p:cNvPicPr/>
          <p:nvPr/>
        </p:nvPicPr>
        <p:blipFill>
          <a:blip r:embed="rId8"/>
          <a:stretch/>
        </p:blipFill>
        <p:spPr>
          <a:xfrm>
            <a:off x="1579680" y="44290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behealthy_2.jpg"/>
          <p:cNvPicPr/>
          <p:nvPr/>
        </p:nvPicPr>
        <p:blipFill>
          <a:blip r:embed="rId9"/>
          <a:stretch/>
        </p:blipFill>
        <p:spPr>
          <a:xfrm>
            <a:off x="3081240" y="2509920"/>
            <a:ext cx="3400560" cy="2214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0_647e_420a9b36_XL.jpg"/>
          <p:cNvPicPr/>
          <p:nvPr/>
        </p:nvPicPr>
        <p:blipFill>
          <a:blip r:embed="rId10"/>
          <a:stretch/>
        </p:blipFill>
        <p:spPr>
          <a:xfrm>
            <a:off x="7215120" y="0"/>
            <a:ext cx="192888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2" descr="AB59BA6AE206347Bhealthy_food.jpg"/>
          <p:cNvPicPr/>
          <p:nvPr/>
        </p:nvPicPr>
        <p:blipFill>
          <a:blip r:embed="rId11"/>
          <a:stretch/>
        </p:blipFill>
        <p:spPr>
          <a:xfrm>
            <a:off x="357120" y="2357280"/>
            <a:ext cx="2405160" cy="2405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3" descr="1175085066625__laugh.jpg"/>
          <p:cNvPicPr/>
          <p:nvPr/>
        </p:nvPicPr>
        <p:blipFill>
          <a:blip r:embed="rId12"/>
          <a:stretch/>
        </p:blipFill>
        <p:spPr>
          <a:xfrm>
            <a:off x="6988320" y="3865680"/>
            <a:ext cx="2155680" cy="2992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extBox 1" descr=""/>
          <p:cNvPicPr/>
          <p:nvPr/>
        </p:nvPicPr>
        <p:blipFill>
          <a:blip r:embed="rId2"/>
          <a:stretch/>
        </p:blipFill>
        <p:spPr>
          <a:xfrm>
            <a:off x="2124000" y="115920"/>
            <a:ext cx="6723000" cy="17668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2" descr=""/>
          <p:cNvPicPr/>
          <p:nvPr/>
        </p:nvPicPr>
        <p:blipFill>
          <a:blip r:embed="rId3"/>
          <a:stretch/>
        </p:blipFill>
        <p:spPr>
          <a:xfrm>
            <a:off x="1908000" y="1628640"/>
            <a:ext cx="8639280" cy="35179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8.jpg"/>
          <p:cNvPicPr/>
          <p:nvPr/>
        </p:nvPicPr>
        <p:blipFill>
          <a:blip r:embed="rId4"/>
          <a:stretch/>
        </p:blipFill>
        <p:spPr>
          <a:xfrm>
            <a:off x="7308720" y="4800600"/>
            <a:ext cx="183528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post-884-1223036034.jpg"/>
          <p:cNvPicPr/>
          <p:nvPr/>
        </p:nvPicPr>
        <p:blipFill>
          <a:blip r:embed="rId5"/>
          <a:stretch/>
        </p:blipFill>
        <p:spPr>
          <a:xfrm>
            <a:off x="-14400" y="4264200"/>
            <a:ext cx="1729080" cy="25938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1794.jpg"/>
          <p:cNvPicPr/>
          <p:nvPr/>
        </p:nvPicPr>
        <p:blipFill>
          <a:blip r:embed="rId6"/>
          <a:stretch/>
        </p:blipFill>
        <p:spPr>
          <a:xfrm>
            <a:off x="3132000" y="5157720"/>
            <a:ext cx="2928960" cy="18306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6" descr="150330727.jpg"/>
          <p:cNvPicPr/>
          <p:nvPr/>
        </p:nvPicPr>
        <p:blipFill>
          <a:blip r:embed="rId7"/>
          <a:stretch/>
        </p:blipFill>
        <p:spPr>
          <a:xfrm>
            <a:off x="7072200" y="1643040"/>
            <a:ext cx="1928880" cy="28940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7" descr="octect1.jpg"/>
          <p:cNvPicPr/>
          <p:nvPr/>
        </p:nvPicPr>
        <p:blipFill>
          <a:blip r:embed="rId8"/>
          <a:stretch/>
        </p:blipFill>
        <p:spPr>
          <a:xfrm>
            <a:off x="395280" y="549360"/>
            <a:ext cx="1436760" cy="340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1700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Bodoni MT"/>
              </a:rPr>
              <a:t>краси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3429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строй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35280" y="39337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gency FB"/>
              </a:rPr>
              <a:t>си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773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gency FB"/>
              </a:rPr>
              <a:t>лов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227664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gency FB"/>
              </a:rPr>
              <a:t>креп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3933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gency FB"/>
              </a:rPr>
              <a:t>румя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50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gency FB"/>
              </a:rPr>
              <a:t>подтяну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Box 1" descr=""/>
          <p:cNvPicPr/>
          <p:nvPr/>
        </p:nvPicPr>
        <p:blipFill>
          <a:blip r:embed="rId2"/>
          <a:stretch/>
        </p:blipFill>
        <p:spPr>
          <a:xfrm>
            <a:off x="3121200" y="146160"/>
            <a:ext cx="5943600" cy="292104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928800" y="235728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3252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32523"/>
                </a:solidFill>
                <a:latin typeface="Arial"/>
              </a:rPr>
              <a:t>Существуют ли полезные микробы? ( Да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32523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632523"/>
                </a:solidFill>
                <a:latin typeface="Arial"/>
              </a:rPr>
              <a:t>Где они встречаются? ( В кефире, ряженке, соленых огурцах и помидорах, и соленой капу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143000" y="37148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32523"/>
                </a:solidFill>
                <a:latin typeface="Arial"/>
              </a:rPr>
              <a:t>2. Как попадают микробы в наш организм? ( При кашле, через грязные руки и продукты, ран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857160" y="492912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32523"/>
                </a:solidFill>
                <a:latin typeface="Arial"/>
              </a:rPr>
              <a:t>3. Как защититься от микробов?  ( Прикрывать рот, мыть руки, ранки обрабатывать лекарств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5" descr="16114686.jpg"/>
          <p:cNvPicPr/>
          <p:nvPr/>
        </p:nvPicPr>
        <p:blipFill>
          <a:blip r:embed="rId3">
            <a:lum bright="10000"/>
          </a:blip>
          <a:stretch/>
        </p:blipFill>
        <p:spPr>
          <a:xfrm rot="21094800">
            <a:off x="713880" y="500040"/>
            <a:ext cx="1179720" cy="14526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QPCAV4WJNTCA0F65ZWCA06X98TCA8GMJ1PCA3QOGSACAMXXJDUCAJ8SJZICAUBGVENCASM5YI2CA08P7UXCA10L11TCA1ZDBW8CAPKVWK1CAVM37W1CAR5H92LCAYK0TCPCAGHVK3HCAC3T86DCAQJ3PU6.jpg"/>
          <p:cNvPicPr/>
          <p:nvPr/>
        </p:nvPicPr>
        <p:blipFill>
          <a:blip r:embed="rId4"/>
          <a:stretch/>
        </p:blipFill>
        <p:spPr>
          <a:xfrm rot="562800">
            <a:off x="7097760" y="4923000"/>
            <a:ext cx="1785960" cy="1336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1" descr=""/>
          <p:cNvPicPr/>
          <p:nvPr/>
        </p:nvPicPr>
        <p:blipFill>
          <a:blip r:embed="rId2"/>
          <a:stretch/>
        </p:blipFill>
        <p:spPr>
          <a:xfrm>
            <a:off x="853920" y="-6480"/>
            <a:ext cx="7656840" cy="103032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0" y="1000080"/>
            <a:ext cx="678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чищу зубы два раза в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грызу ручки и каранд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После еды я полощу 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Вечерами я долго сижу перед компью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2786040" y="3214800"/>
            <a:ext cx="557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часто ем слад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сплю с открытой форточ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Перед едой я не мою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люблю фрукты и ов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Люблю  слушать громкую му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слежу за своей одеж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16560" y="164304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Я чищу зубы два раза в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0" y="2357280"/>
            <a:ext cx="52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После еды я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полощу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1835280" y="357192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         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Я сплю с открытой форточ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2786040" y="4286160"/>
            <a:ext cx="481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Я люблю фрукты и ов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2771640" y="5013360"/>
            <a:ext cx="55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Я слежу за своей одеж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3" descr="image_1210743904.jpg"/>
          <p:cNvPicPr/>
          <p:nvPr/>
        </p:nvPicPr>
        <p:blipFill>
          <a:blip r:embed="rId3"/>
          <a:stretch/>
        </p:blipFill>
        <p:spPr>
          <a:xfrm rot="249000">
            <a:off x="7343280" y="307188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4" descr="141103_5.jpg"/>
          <p:cNvPicPr/>
          <p:nvPr/>
        </p:nvPicPr>
        <p:blipFill>
          <a:blip r:embed="rId4"/>
          <a:stretch/>
        </p:blipFill>
        <p:spPr>
          <a:xfrm rot="21412200">
            <a:off x="213840" y="3642840"/>
            <a:ext cx="2121120" cy="303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6" descr="113370_1.jpg"/>
          <p:cNvPicPr/>
          <p:nvPr/>
        </p:nvPicPr>
        <p:blipFill>
          <a:blip r:embed="rId5"/>
          <a:stretch/>
        </p:blipFill>
        <p:spPr>
          <a:xfrm rot="265200">
            <a:off x="5715000" y="857160"/>
            <a:ext cx="2544840" cy="1908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5" descr="00f8d1b7508e4a1536247193f3fbeec1.jpg"/>
          <p:cNvPicPr/>
          <p:nvPr/>
        </p:nvPicPr>
        <p:blipFill>
          <a:blip r:embed="rId6"/>
          <a:stretch/>
        </p:blipFill>
        <p:spPr>
          <a:xfrm>
            <a:off x="4643280" y="5430960"/>
            <a:ext cx="2143440" cy="1427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5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3" descr=""/>
          <p:cNvPicPr/>
          <p:nvPr/>
        </p:nvPicPr>
        <p:blipFill>
          <a:blip r:embed="rId2"/>
          <a:stretch/>
        </p:blipFill>
        <p:spPr>
          <a:xfrm>
            <a:off x="3139920" y="208080"/>
            <a:ext cx="3668760" cy="103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500120" y="2000160"/>
          <a:ext cx="6096240" cy="579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500120" y="1428840"/>
          <a:ext cx="6096240" cy="579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00120" y="2571840"/>
          <a:ext cx="6096240" cy="579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500120" y="3143160"/>
          <a:ext cx="6096240" cy="579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500120" y="3714840"/>
          <a:ext cx="6096240" cy="579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500120" y="4286160"/>
          <a:ext cx="6096240" cy="579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500120" y="4857840"/>
          <a:ext cx="6096240" cy="579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500120" y="5429160"/>
          <a:ext cx="6096240" cy="579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Box 14"/>
          <p:cNvSpPr/>
          <p:nvPr/>
        </p:nvSpPr>
        <p:spPr>
          <a:xfrm>
            <a:off x="1547640" y="141300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1571760" y="2000160"/>
            <a:ext cx="42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2786040" y="25718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1571760" y="3143160"/>
            <a:ext cx="35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2786040" y="3714840"/>
            <a:ext cx="5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0"/>
          <p:cNvSpPr/>
          <p:nvPr/>
        </p:nvSpPr>
        <p:spPr>
          <a:xfrm>
            <a:off x="1571760" y="428616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3429000" y="4857840"/>
            <a:ext cx="5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2843280" y="5143680"/>
            <a:ext cx="657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extBox 1" descr=""/>
          <p:cNvPicPr/>
          <p:nvPr/>
        </p:nvPicPr>
        <p:blipFill>
          <a:blip r:embed="rId2"/>
          <a:stretch/>
        </p:blipFill>
        <p:spPr>
          <a:xfrm>
            <a:off x="1920960" y="2419200"/>
            <a:ext cx="5370480" cy="15861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priroda.jpg"/>
          <p:cNvPicPr/>
          <p:nvPr/>
        </p:nvPicPr>
        <p:blipFill>
          <a:blip r:embed="rId3"/>
          <a:stretch/>
        </p:blipFill>
        <p:spPr>
          <a:xfrm>
            <a:off x="0" y="4029120"/>
            <a:ext cx="3857760" cy="2828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getfull.jpg"/>
          <p:cNvPicPr/>
          <p:nvPr/>
        </p:nvPicPr>
        <p:blipFill>
          <a:blip r:embed="rId4"/>
          <a:stretch/>
        </p:blipFill>
        <p:spPr>
          <a:xfrm>
            <a:off x="5572080" y="0"/>
            <a:ext cx="3571920" cy="2664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01_03_00.jpg"/>
          <p:cNvPicPr/>
          <p:nvPr/>
        </p:nvPicPr>
        <p:blipFill>
          <a:blip r:embed="rId5"/>
          <a:stretch/>
        </p:blipFill>
        <p:spPr>
          <a:xfrm>
            <a:off x="6929280" y="3525840"/>
            <a:ext cx="2214720" cy="33321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1185700116_577009.jpg"/>
          <p:cNvPicPr/>
          <p:nvPr/>
        </p:nvPicPr>
        <p:blipFill>
          <a:blip r:embed="rId6"/>
          <a:stretch/>
        </p:blipFill>
        <p:spPr>
          <a:xfrm>
            <a:off x="0" y="0"/>
            <a:ext cx="3524400" cy="26431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7" descr="d181d0bed0bd.jpg"/>
          <p:cNvPicPr/>
          <p:nvPr/>
        </p:nvPicPr>
        <p:blipFill>
          <a:blip r:embed="rId7"/>
          <a:stretch/>
        </p:blipFill>
        <p:spPr>
          <a:xfrm>
            <a:off x="3929040" y="4357800"/>
            <a:ext cx="2930400" cy="19303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8" descr="29f8b07c0949.jpg"/>
          <p:cNvPicPr/>
          <p:nvPr/>
        </p:nvPicPr>
        <p:blipFill>
          <a:blip r:embed="rId8"/>
          <a:stretch/>
        </p:blipFill>
        <p:spPr>
          <a:xfrm>
            <a:off x="3071880" y="214200"/>
            <a:ext cx="252720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extBox 1" descr=""/>
          <p:cNvPicPr/>
          <p:nvPr/>
        </p:nvPicPr>
        <p:blipFill>
          <a:blip r:embed="rId2"/>
          <a:stretch/>
        </p:blipFill>
        <p:spPr>
          <a:xfrm>
            <a:off x="1920960" y="4206960"/>
            <a:ext cx="6089400" cy="20178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2" descr="1219276464_0lik_ru_bezimeni-11.jpg"/>
          <p:cNvPicPr/>
          <p:nvPr/>
        </p:nvPicPr>
        <p:blipFill>
          <a:blip r:embed="rId3"/>
          <a:stretch/>
        </p:blipFill>
        <p:spPr>
          <a:xfrm>
            <a:off x="2143080" y="357120"/>
            <a:ext cx="5032440" cy="40258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9:40:57Z</dcterms:created>
  <dc:creator>Дима</dc:creator>
  <dc:description/>
  <dc:language>en-US</dc:language>
  <cp:lastModifiedBy>Учитель</cp:lastModifiedBy>
  <dcterms:modified xsi:type="dcterms:W3CDTF">2010-10-03T19:11:46Z</dcterms:modified>
  <cp:revision>86</cp:revision>
  <dc:subject/>
  <dc:title>Слайд 1</dc:title>
</cp:coreProperties>
</file>