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7DF-8BC7-48DB-B931-F51AA2E2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B18-58AA-4F89-9FEF-E51FA8A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147-7401-4A29-8386-DBDCFA29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074-921A-4F2B-9F51-F99479DE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FB80-9177-42B4-AECE-E5360E08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1FD0-9DE2-44E5-A1D3-B7723AA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16A-9E0A-48DE-B265-37CA42D0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D437-76F3-490B-8B14-0244F8D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43B4-1B2B-478D-A008-1E998DB3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5180-DC94-4109-A53E-DB8836C3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F30-75E9-4A3B-9584-3F03BD9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A8B-E39C-45A0-8BEC-8215A4D4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394-ABFD-4B4A-A005-681E5A3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E79-9B2E-4981-B5F8-EAEC389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9677-E687-4303-B518-D3A9A13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95F1-B836-430D-ACC6-D22C4300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DB3-8DA1-47C8-97B7-63D50C88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973B-6366-4746-843C-0892D1A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A1A6-D4DE-431F-82E1-2D231D78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B83F-6931-43B9-8A49-69083CA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7CE2-B7C9-4BD5-9DE9-52EB432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5C16-7AC5-43B6-B918-3DD125D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492-F18C-4AD6-BCA2-588835B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E81B-966E-40EA-8737-F5A23772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9232-E173-4F26-B7AA-99E0EFC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7288-88AA-4699-8C78-990C62E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C624-3B68-4C94-85E8-B93936F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CAA2-513B-4DF7-A45F-A9EF8882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0413-B3F5-4D86-99B2-0789EEBD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1950-D62C-4D1E-B343-510E783A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0B02-5554-4C25-B99E-3EFC50F3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C8AF-F40A-43BB-A915-8DB496C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BA70-8BA0-4A43-9C07-033A33E3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AA1-E320-439F-851A-B7FFCC43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9CD6-4AB7-4A5C-9B62-00E3369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D681-F588-4DC1-8670-8A20AAF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F08C-07F2-4DA7-ADF1-DF7C720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8CD4-DA22-461E-A698-C2CF4EA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2ECE-9095-4741-973E-5435E62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8CD1-35A5-4D80-BF55-739E8C4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5C57-6DCC-40E8-B61D-60A85CE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797B-F309-408C-A283-757D8D48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0772-7F50-41AF-9CAB-C8B761C4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75D-D1A5-4C97-9BAE-E3F5249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745-E986-444D-9915-43CB01A7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BC4-4B83-4424-8C4E-F5F38E4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45C-988C-4B3E-AB73-373A7CA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76B-F14A-4A87-AAA9-C409F0B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FB1-491E-44A2-89CF-A181425F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82EB-1124-4E67-A2F0-5AA3DBAB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A816-9B82-4246-A12B-15DA71D7F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7D9-3850-4A09-9A0A-0D8B5B9EE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КАНАД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01080" cy="50212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9280" y="189000"/>
            <a:ext cx="8712360" cy="6479280"/>
            <a:chOff x="179280" y="189000"/>
            <a:chExt cx="8712360" cy="6479280"/>
          </a:xfrm>
        </p:grpSpPr>
        <p:cxnSp>
          <p:nvCxnSpPr>
            <p:cNvPr id="261" name="_s54299"/>
            <p:cNvCxnSpPr>
              <a:stCxn id="262" idx="3"/>
              <a:endCxn id="263" idx="2"/>
            </p:cNvCxnSpPr>
            <p:nvPr/>
          </p:nvCxnSpPr>
          <p:spPr>
            <a:xfrm flipV="1">
              <a:off x="5406840" y="836640"/>
              <a:ext cx="871920" cy="55101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4" name="_s54293"/>
            <p:cNvCxnSpPr>
              <a:stCxn id="265" idx="3"/>
              <a:endCxn id="263" idx="2"/>
            </p:cNvCxnSpPr>
            <p:nvPr/>
          </p:nvCxnSpPr>
          <p:spPr>
            <a:xfrm flipV="1">
              <a:off x="5406840" y="836280"/>
              <a:ext cx="871920" cy="4537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6" name="_s54291"/>
            <p:cNvCxnSpPr/>
            <p:nvPr/>
          </p:nvCxnSpPr>
          <p:spPr>
            <a:xfrm flipV="1">
              <a:off x="5437080" y="836640"/>
              <a:ext cx="871920" cy="3565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7" name="_s54287"/>
            <p:cNvCxnSpPr>
              <a:stCxn id="268" idx="3"/>
              <a:endCxn id="263" idx="2"/>
            </p:cNvCxnSpPr>
            <p:nvPr/>
          </p:nvCxnSpPr>
          <p:spPr>
            <a:xfrm flipV="1">
              <a:off x="5406840" y="836640"/>
              <a:ext cx="871920" cy="2593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9" name="_s54286"/>
            <p:cNvCxnSpPr>
              <a:stCxn id="270" idx="3"/>
              <a:endCxn id="263" idx="2"/>
            </p:cNvCxnSpPr>
            <p:nvPr/>
          </p:nvCxnSpPr>
          <p:spPr>
            <a:xfrm flipV="1">
              <a:off x="5406840" y="836280"/>
              <a:ext cx="871920" cy="162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71" name="_s54285"/>
            <p:cNvCxnSpPr>
              <a:stCxn id="272" idx="3"/>
              <a:endCxn id="263" idx="2"/>
            </p:cNvCxnSpPr>
            <p:nvPr/>
          </p:nvCxnSpPr>
          <p:spPr>
            <a:xfrm flipV="1">
              <a:off x="5406840" y="837000"/>
              <a:ext cx="871920" cy="6483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263" name="_s54281"/>
            <p:cNvSpPr/>
            <p:nvPr/>
          </p:nvSpPr>
          <p:spPr>
            <a:xfrm>
              <a:off x="3664080" y="189000"/>
              <a:ext cx="522756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66"/>
              </a:solidFill>
              <a:miter/>
            </a:ln>
            <a:effectLst>
              <a:outerShdw dist="63504" dir="19383909" blurRad="0" rotWithShape="0">
                <a:srgbClr val="99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зависимости от климатических поясов  различаетс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и растительность Канад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54282"/>
            <p:cNvSpPr/>
            <p:nvPr/>
          </p:nvSpPr>
          <p:spPr>
            <a:xfrm>
              <a:off x="179280" y="1161000"/>
              <a:ext cx="5227560" cy="64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ля северных районов характер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тундровая и лесотундровая растительность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54283"/>
            <p:cNvSpPr/>
            <p:nvPr/>
          </p:nvSpPr>
          <p:spPr>
            <a:xfrm>
              <a:off x="179280" y="2133360"/>
              <a:ext cx="5227560" cy="64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Западные склоны Кордильер покрыты влажными океани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ческими лесами(складчатая туя, ситхинская ель, хемлок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4284"/>
            <p:cNvSpPr/>
            <p:nvPr/>
          </p:nvSpPr>
          <p:spPr>
            <a:xfrm>
              <a:off x="179280" y="3105720"/>
              <a:ext cx="522756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авнины  возле Гудзонского залива покрыты тайг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белая берёза, белая ель, бальзамическая пихта)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4290"/>
            <p:cNvSpPr/>
            <p:nvPr/>
          </p:nvSpPr>
          <p:spPr>
            <a:xfrm>
              <a:off x="179280" y="4078080"/>
              <a:ext cx="5227560" cy="64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клоны скалистых гор покрыты редкими сосновыми лесам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54292"/>
            <p:cNvSpPr/>
            <p:nvPr/>
          </p:nvSpPr>
          <p:spPr>
            <a:xfrm>
              <a:off x="184680" y="5050080"/>
              <a:ext cx="5222160" cy="64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юго – востоке растут смешанные и широколиственные ле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дубы, каштаны, буки, клёны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54298"/>
            <p:cNvSpPr/>
            <p:nvPr/>
          </p:nvSpPr>
          <p:spPr>
            <a:xfrm>
              <a:off x="179280" y="6022440"/>
              <a:ext cx="5227560" cy="645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прериях южной Канады произрастают в основном трав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ritannic Bold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ФЛ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14172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5911920" y="1268280"/>
            <a:ext cx="2693880" cy="489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187200"/>
            <a:ext cx="9143640" cy="6670440"/>
            <a:chOff x="0" y="187200"/>
            <a:chExt cx="9143640" cy="6670440"/>
          </a:xfrm>
        </p:grpSpPr>
        <p:sp>
          <p:nvSpPr>
            <p:cNvPr id="278" name="_s55326"/>
            <p:cNvSpPr/>
            <p:nvPr/>
          </p:nvSpPr>
          <p:spPr>
            <a:xfrm flipH="1" flipV="1">
              <a:off x="3527280" y="2574000"/>
              <a:ext cx="479520" cy="3571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_s55325"/>
            <p:cNvSpPr/>
            <p:nvPr/>
          </p:nvSpPr>
          <p:spPr>
            <a:xfrm>
              <a:off x="322920" y="1051200"/>
              <a:ext cx="2017800" cy="188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55324"/>
            <p:cNvSpPr/>
            <p:nvPr/>
          </p:nvSpPr>
          <p:spPr>
            <a:xfrm flipH="1">
              <a:off x="3406320" y="3634560"/>
              <a:ext cx="600120" cy="441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55323"/>
            <p:cNvSpPr/>
            <p:nvPr/>
          </p:nvSpPr>
          <p:spPr>
            <a:xfrm>
              <a:off x="0" y="3283920"/>
              <a:ext cx="3552120" cy="2304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хвойных лесах и тайге – лось 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икобраз, чёрный медведь(барибал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ысь, лиса, волк, заяц, куница, красн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ка, бобр, сурок, енот, красная рысь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ерая белка, лесной олень, заяц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иргинский олень, бизон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55322"/>
            <p:cNvSpPr/>
            <p:nvPr/>
          </p:nvSpPr>
          <p:spPr>
            <a:xfrm>
              <a:off x="4442040" y="4005720"/>
              <a:ext cx="38880" cy="6642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55321"/>
            <p:cNvSpPr/>
            <p:nvPr/>
          </p:nvSpPr>
          <p:spPr>
            <a:xfrm>
              <a:off x="3348000" y="4674600"/>
              <a:ext cx="2232360" cy="2183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55308"/>
            <p:cNvSpPr/>
            <p:nvPr/>
          </p:nvSpPr>
          <p:spPr>
            <a:xfrm>
              <a:off x="5257080" y="3861720"/>
              <a:ext cx="478080" cy="354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55307"/>
            <p:cNvSpPr/>
            <p:nvPr/>
          </p:nvSpPr>
          <p:spPr>
            <a:xfrm>
              <a:off x="5507640" y="3357360"/>
              <a:ext cx="3636000" cy="223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безлесных районах юга – вислорог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антилопа, ослиный олень, хорёк, суслик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арсук, койот, степная лисица. В горах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орная коза, горный баран, пума, медвед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ризли .В реках и озёрах много пресно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одной рыбы(сиг, форель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55306"/>
            <p:cNvSpPr/>
            <p:nvPr/>
          </p:nvSpPr>
          <p:spPr>
            <a:xfrm flipV="1">
              <a:off x="4953600" y="2574000"/>
              <a:ext cx="478080" cy="3549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55305"/>
            <p:cNvSpPr/>
            <p:nvPr/>
          </p:nvSpPr>
          <p:spPr>
            <a:xfrm>
              <a:off x="6516720" y="906840"/>
              <a:ext cx="2337120" cy="2280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55304"/>
            <p:cNvSpPr/>
            <p:nvPr/>
          </p:nvSpPr>
          <p:spPr>
            <a:xfrm flipV="1">
              <a:off x="4442040" y="1987560"/>
              <a:ext cx="1800" cy="709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55303"/>
            <p:cNvSpPr/>
            <p:nvPr/>
          </p:nvSpPr>
          <p:spPr>
            <a:xfrm>
              <a:off x="2411640" y="187200"/>
              <a:ext cx="4084920" cy="1919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островах и в тундре –северный олень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ый медведь, мускусный бык,  песец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полярный заяц, полярная сова, лемминг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55302"/>
            <p:cNvSpPr/>
            <p:nvPr/>
          </p:nvSpPr>
          <p:spPr>
            <a:xfrm>
              <a:off x="3058200" y="2205360"/>
              <a:ext cx="2926800" cy="21412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66"/>
                  </a:solidFill>
                  <a:latin typeface="Arial"/>
                </a:rPr>
                <a:t>ФАУНА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8">
            <a:lum contrast="48000"/>
          </a:blip>
          <a:stretch/>
        </p:blipFill>
        <p:spPr>
          <a:xfrm>
            <a:off x="3348000" y="4581360"/>
            <a:ext cx="2232000" cy="2276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>
            <a:lum contrast="48000"/>
          </a:blip>
          <a:stretch/>
        </p:blipFill>
        <p:spPr>
          <a:xfrm>
            <a:off x="179280" y="765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>
            <a:lum contrast="30000"/>
          </a:blip>
          <a:stretch/>
        </p:blipFill>
        <p:spPr>
          <a:xfrm>
            <a:off x="6516720" y="836640"/>
            <a:ext cx="2448000" cy="2376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189000"/>
            <a:ext cx="2771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КРАСНАЯ БЕЛ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189000"/>
            <a:ext cx="284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БЕЛЫЙ МЕДВЕ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734080"/>
            <a:ext cx="2449800" cy="917640"/>
          </a:xfrm>
          <a:prstGeom prst="leftArrow">
            <a:avLst>
              <a:gd name="adj1" fmla="val 50000"/>
              <a:gd name="adj2" fmla="val 6674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МЕДВЕДЬ ГРИЗ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140360" y="981000"/>
            <a:ext cx="4679640" cy="53276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олезные ископаемые  посколь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распространены не вез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относятся к невозобновляем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м ресур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имеет богатей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е ресурс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нефть, природный газ, уго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дь, цинк, никель, свинец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олибден, железо, ура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золото, серебро. По разрабо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ногих полезных ископа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занимает перв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сто в м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5877000"/>
            <a:ext cx="35287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НЕФТЯ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ЫШ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32240" cy="453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64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– страна  с высокоразвитой экономикой , современным промышленным производством, квалифицированной рабочей сил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имеет высокоразвитую обрабатывающую промышленность и одновременно занимает ведущие позиции в мире  по производству отдельных видов сырья: цинка (1-е место в мире), никеля (2-е место). Меди(3-е место), свинца (5-е место). Урана, алюминия, золота. Важнейшими отраслями промышленности являются нефтяная, газовая, целлюлозно-бумажная, деревообрабатывающая, цветная металлургия, автомобилестроение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42920" y="260280"/>
            <a:ext cx="72057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мышленность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3789360"/>
            <a:ext cx="5041800" cy="64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ДЕРЕВООБРАБАТЫВАЮЩИЙ</a:t>
            </a:r>
            <a:br>
              <a:rPr sz="1200"/>
            </a:b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ЗАВ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27040" y="1600200"/>
            <a:ext cx="8088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4292640"/>
            <a:ext cx="3936960" cy="21607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ЛЬСКО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360" y="4292640"/>
            <a:ext cx="3927600" cy="223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нада крупнейший в мире производитель яч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сновные посевы ячменя находятся на великих равнинах. Для сбора урожая используется автоматизированная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ех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агодаря тёплому лету и обширным плодородными равнинам  в степных  провинциях Канады развито высокопродуктивное сельское хозяйство. Восточная Канада –это производитель молочных продуктов, ягод (малина. черника), овощей (горох, бобы, картофель), фруктов (вплоть до персиков и груш), а также центр рыб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овства (треска, лосось, окунь). Западная Канада выращивает пшеницу. рожь, масличный лён, овощ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рукты;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ДЕС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азвито животновод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тели Северной Канады  живут охотой и рыболовств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789360"/>
            <a:ext cx="106200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27600" cy="1798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ЭКСПОРТА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АВТОМОБИЛИ И ЗАПЧАСТИ К НИМ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НЕФТЬ И ПРИРОДНЫЙ ГАЗ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ЛЕСОМАТЕРИАЛ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АЛЮМИНИ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ШЕНИЦА, ЯЧМЕНЬ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6)  РЫБА И РЫБОПРОДУК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ИМПОРТ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ПАССАЖИРСКИЕ ВАГО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АВТОМОБИЛИ И ЗАПЧАСТИ К НИ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КОМПЬЮТЕРЫ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ТЕЛЕКОМММУНИКАЦИОННОЕ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ОБОРУДОВАН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СЫРЬЁ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РОДОВОЛЬ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НЫЕ ТОРГОВЫЕ ПАРТНЁРЫ 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ША, ВЕЛИКОБРИТАНИЯ. ГЕРМАНИЯ, ЯПОНИЯ, КИТАЙ, МЕКСИКА, ЮЖНАЯ КО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8000" y="18900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651640" y="1484280"/>
            <a:ext cx="3168360" cy="1943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067280" y="3068640"/>
            <a:ext cx="1407960" cy="289080"/>
          </a:xfrm>
          <a:prstGeom prst="rightArrow">
            <a:avLst>
              <a:gd name="adj1" fmla="val 50000"/>
              <a:gd name="adj2" fmla="val 1217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4149720"/>
            <a:ext cx="649440" cy="358920"/>
          </a:xfrm>
          <a:prstGeom prst="leftArrow">
            <a:avLst>
              <a:gd name="adj1" fmla="val 50000"/>
              <a:gd name="adj2" fmla="val 4523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179280" y="3573360"/>
            <a:ext cx="345600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ОРОД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050920" y="189000"/>
            <a:ext cx="5124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5661000"/>
            <a:ext cx="4032360" cy="1197000"/>
          </a:xfrm>
          <a:prstGeom prst="upArrow">
            <a:avLst>
              <a:gd name="adj1" fmla="val 82287"/>
              <a:gd name="adj2" fmla="val 2372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ЬКОБЕЖЦЫ- ЛЮБИТЕЛИ СКОЛЬ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ЯТ ПО ЛЬДУ КАНАЛА РИДО МИМ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ШЕН КАНАДСКОГО ПАРЛАМЕНТА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ЦЕНТРЕ ОТТАВ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5661000"/>
            <a:ext cx="3743280" cy="1197000"/>
          </a:xfrm>
          <a:prstGeom prst="upArrow">
            <a:avLst>
              <a:gd name="adj1" fmla="val 83222"/>
              <a:gd name="adj2" fmla="val 274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НКУВЕР – КРУПНАЯ ЕСТЕСТВЕН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 ГАВАНЬ, ЦЕНТР МОР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РГОВЛИ, ТРЕТИЙ ПО ВЕЛИЧИНЕ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ОД КАНА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40208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9085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11640" y="1413000"/>
            <a:ext cx="4537080" cy="4824360"/>
          </a:xfrm>
          <a:prstGeom prst="octagon">
            <a:avLst>
              <a:gd name="adj" fmla="val 29287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УЗЕ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 Канаде множество музеев. В Оттаве – Национальная галерея, Канадский музей природы, Музей науки и техники; В Торонто – Королевский музей с коллекцией китайского искусства, телебашня Си Эн (553 м); в Налаймо – Этнографический музей, парк петроглифов (наскальных рисунков); в Квебеке – Музей провинции Квебек, Музей университета Лаваля, монастырь урсулинок 17 века, соборы и церкви 17 века; В Монреале – замок Шато-де-Рамзе начала 18 века; в Ванкувере – Морской музей; в Эдмонтоне – Музей деревянного зод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79640" y="189000"/>
            <a:ext cx="5124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353988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ПАРКИ И ЗАПОВЕДНИКИ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лючительная по своей красоте природа привлекает в Канаду огромное количество туристов со всего мира. Здесь множество национальных парков и заповедников: Элк-Айленд (Лосиный остров). Вуд- Буффало с самым большим стадом бизонов, Джаспер с ледниками, озёрами, горячими источниками, горный курорт Банфф –старейший национальный парк Канады. На границе с США находится Ниагарский водопад высотой 51 м. один из красивейших в ми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909800" y="189000"/>
            <a:ext cx="5324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3645000"/>
            <a:ext cx="3384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БАНФФ – ГОРНЫЙ КУРОР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6308640"/>
            <a:ext cx="360072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иагарский водо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4192560"/>
            <a:ext cx="392760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92760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85120" cy="489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ДОБРО ПОЖАЛОВАТЬ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В КАНАДУ – СТРАНУ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ЛЕСОВ И ОЗЁР 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620640"/>
            <a:ext cx="7777080" cy="5788080"/>
          </a:xfrm>
          <a:prstGeom prst="verticalScroll">
            <a:avLst>
              <a:gd name="adj" fmla="val 12495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7921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n-US" sz="14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стория открытия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                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 того как первые европейцы (викинги) достигли канадског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берега и обосновались в Северо – Восточной Америке (9 -10вв.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 территории Канады жили предки современных индейцев и эски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мосов (около 40000 лет назад).В 1497г. итальянский мореплава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жон Кабот высаживается на острове Кейп – Бретон  и заявляе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рава Англии на открытую им территорию. В 1534г. французский мо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еплаватель Жак Картье достигает залива Св.Лаврентия , иссле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вав территорию, объявляет этот район французским 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званием Новая Франция с центром в Квебеке. В конце 17 века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чинается колонизация Канады. В 1663г.создана колония , 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территорию современной Канады с Францией начала сопернича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Англия. В результате поражения французской армии в Семилетн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ойне 1756 -1763гг. Великобритания получила права на территор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Канады.  В 1848г.Канада добивается права на внутреннее самоуправ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ление. А в 1867г. создаётся канадская федерац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220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08720" y="3357720"/>
            <a:ext cx="1835280" cy="321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Географическо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           положение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  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нада, имеющая самую длинную в мире береговую линию, занимает две пятых территории Северной Америки и обширные площади за Северным полярным кругом, в том числе острова: Канадский  Арктический архипелаг, Ньюфаундленд, Ванкувер, острова Королевы Шарлотты и др. Канада – вторая по площади страна мира: крупнее её только Россия. Общая площадь составляет 9 970 610 км. Канада  граничит на юге и северо – западе  (штат Аляска) с США. На севере и северо – востоке омывается Северным Ледовитым океаном, на востоке – Атлантическим океаном. На западе – Тихим океа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2916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1341360"/>
            <a:ext cx="8424720" cy="52563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4249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Канада – федеративное государство в составе Британского Содружества. Канада является членом ООН, НАТО. Глава государства – британский монарх, представленный генерал-губернатором. Реальная исполнительная власть находится в руках правительства во главе с премьер-министром. Законодательная власть: двухпалатный парламент, состоящий из Сената (верхней палаты) и Палаты  общин (нижней палаты). Административно-терротиториальное деление: 10 провинций и 3 территории. Столица страны – Оттава (1000 тыс. человек. Наиболее влиятельные политические партии: Либеральная, Новая демократическая, Прогрессивно – консервативная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2920" y="5516640"/>
            <a:ext cx="374508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ание канадского парламента в столиц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нады Отта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lum contrast="72000"/>
          </a:blip>
          <a:srcRect l="0" t="6540" r="0" b="0"/>
          <a:stretch/>
        </p:blipFill>
        <p:spPr>
          <a:xfrm>
            <a:off x="250920" y="189000"/>
            <a:ext cx="2114280" cy="1023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600360" cy="331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Bauhaus 93"/>
              </a:rPr>
              <a:t>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640" y="333360"/>
            <a:ext cx="4032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одна из наименее населённы стран мира.   Население составляет 31 000 000 человек. Средняя плотность населения – менее 4 человека на 1кв.км .Обширные территории, особенно на севере, безлюдны. Большая часть населения сосредоточена  на юго – востоке, вблизи  границы  с США, по берегам Великих озёр и вдоль реки Св.Лаврентия. Столица Канады – Оттава, но по численности населения лидируют Торонто (4683 тыс. человек) и Монреаль (3426 тыс. человек).Народы европейского происхождения составляют более 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населения Канады: итальянцы, немцы, голландцы, поляки, венгры, украинцы. Здесь существуют два языка – английский и французский –и две культуры. Коренное население Канады – эскимосы и  индей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скимосы живут на севере, сохраняя традиционный уклад жизни и и свой язык. В 1999г. Впервые в истории Канады коренное население обрело автономию – была образована  эскимосская автономная территория Нунаву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5400000">
            <a:off x="-2556360" y="2996280"/>
            <a:ext cx="6335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СЕЛЕ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260280"/>
            <a:ext cx="1079280" cy="295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отем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ол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ндей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5950080"/>
            <a:ext cx="381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рен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житель Канады - эским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1812960" cy="266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00240" cy="201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6200000">
            <a:off x="4248360" y="1736640"/>
            <a:ext cx="4032000" cy="2664000"/>
          </a:xfrm>
          <a:prstGeom prst="triangle">
            <a:avLst>
              <a:gd name="adj" fmla="val 50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               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РЕЛИГ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5589720"/>
            <a:ext cx="7632720" cy="93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толики-46%, протестанты- 25%,приверженицы униатской церкви- 16%, а также православные, мусульмане ,индуисты, буддисты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уда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2205000"/>
            <a:ext cx="165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ХРИСТИА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МОЛЯТСЯ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ЕДИНОМУ БОГ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В КАППЕЛАХ,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ЦЕРКВЯХ И СОБОР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2857680" cy="3671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0920" y="18900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121320 h 936360"/>
              <a:gd name="textAreaBottom" fmla="*/ 815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"/>
              </a:rPr>
              <a:t>Рельеф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андшафт Канады очень разнообразен: это и изрезанные горные хребты, и ледяные пустыни , и плодородные прерии, а также низины и равнины с умеренным климатом.    Почти шестая часть общей площади Канады приходится на острова, включая остров       Баффинова Земля – пятый по величине остров в мире. Территорию Канады условно можно разделить на четыре части: Канадский щит с равнинами и плато , канадские Кордильеры, Великие равнины и Аппалачи. Самая высокая точка Канады- гора Логан (5951 м ). Ландшафт  Канады сформировался в первую очередь под воздействием оледенения . Ледники, существующие на севере страны, -остатки гигантского ледяного щита, который когда -то занимал всю территорию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500280"/>
            <a:ext cx="172872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Бизон пасё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на травяни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равнине 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поднож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Скалистых го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013360"/>
            <a:ext cx="28872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5400720" cy="295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51280" y="981000"/>
            <a:ext cx="4967280" cy="5877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Внутренние воды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381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где в мире нет такого количества больших и малых рек и озёр, как в Канаде. По оценкам, Канада располагает более чем 25% мировых ресурсов пресной воды. В границах  Канады расположено более 200 озёр. Самые крупные из них: Верхнее озеро (самое большое пресноводное озеро в мире),Большое Медвежье озеро(находится в десятке самых больших озёр мира),Большое Невольничье озеро, Гурон, Эри, Виннипег, Онтарио. Речная сеть в стране густая. Самая длинная река Канады- Макензи (1733 км),но самой важной для торговли и судоходства является Св. Лаврентия . Эта река образует более чем 4000-километровый водный путь, соединяющий Великие озёра с Атлантическим океаном. К главным рекам страны относятся также: Саскачеван, Фрейзер. Юкон. Колумб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5877000"/>
            <a:ext cx="2590920" cy="43164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Река Св.Лаврен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313080" cy="37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loud"/>
          <p:cNvSpPr/>
          <p:nvPr/>
        </p:nvSpPr>
        <p:spPr>
          <a:xfrm>
            <a:off x="0" y="692280"/>
            <a:ext cx="9144000" cy="597852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КЛИМАТ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0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Климат Канады арктический, субарктический и               умеренный.Большая часть территории страны находится в области вечной мерзлоты. На западном и восточном побережьях климат более влажный и мягкий: лето не очень жаркое, а зимы достаточно мягкие. В центральных районах  климат резко континентальный и засушливый; в горных районах – довольно сухой, но в горах Селкирка часто бывают дожди, снегопады. Средние температуры : в январе – от -35 С на севере до +4 С на юге, в июле – от +4 С на островах Канадского Арктического архипелага до +21 С на юге. Годовое количество осадков распределяется по стране  неравномерно :  на севере выпадает 150 мм, в центре страны– 250  - 400 мм, на восточном побережье – 1250 мм,   на  западном – 2500 м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 rot="21003600">
            <a:off x="9360" y="403200"/>
            <a:ext cx="47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ИМАТ.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0:39Z</dcterms:created>
  <dc:creator>*</dc:creator>
  <dc:description/>
  <dc:language>en-US</dc:language>
  <cp:lastModifiedBy>Болотников А.В.</cp:lastModifiedBy>
  <dcterms:modified xsi:type="dcterms:W3CDTF">2008-05-24T14:42:06Z</dcterms:modified>
  <cp:revision>38</cp:revision>
  <dc:subject/>
  <dc:title>Слайд 1</dc:title>
</cp:coreProperties>
</file>