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5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9542-56ED-4F55-9FD9-CA3AAEFA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666-58CF-46FC-9FFE-2AA355D7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7AE-202C-4C7D-ACD2-B2FA8B63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AA4-E83B-4FAC-A650-29FAC7D1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E570-CA35-4605-8FE1-3F429850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DE81-4AC0-4D55-AE8F-7FD540DF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527F-5C7C-40AD-BB71-8DCCE0A0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FA24-3614-4DBD-9B37-A67C5A61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9273-DF71-4082-8A2A-5FE7D546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A93D-CEA1-401B-A1C7-3B21FD42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F369-B2BE-4CEE-AC5E-5A9CE094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EEA-9E4F-4E18-8C17-8CD7A722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A9B1-E258-4CB1-9F6E-85D56D9D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391F-0E06-4BF7-8780-0F76051E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C4CA-3E70-4884-877C-C165AF49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3A49-7F4E-4F0B-9411-79BFFED2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F1F0-99AE-4865-9C25-4042CB7A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964DB-4A1D-49B1-8778-0E744093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51DD2-54B7-4262-A997-2391369E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67409-1FB9-4A08-BE7B-743973EB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E794C-2E16-4B32-928E-34886510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EA552-8AF1-482A-8339-5B937E59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6C7-E8BA-4B58-8FEF-CB19A6CA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1228-6BE7-4000-A123-85A1D667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E3C77-70F4-4FC9-864D-1CDB7E5A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82AE7-00D5-4685-B720-8476FFDB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4144-7E67-4C10-BB2F-E3136E62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ACCB0-C973-43A2-9375-9D31D20E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029C8-F4B0-4AAB-88BA-EF753341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EEE92-FA2D-4219-B617-AACE2B83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F99CA-6BA2-4A30-9DDF-43D6021A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A5956-71F7-4B1B-AFF7-DF2D42EA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539A2-5632-4D0B-B782-22B84DFA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2C8C-206D-42C5-824B-3E1E2C4E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5C6BF-7F8A-414A-8A54-6430D787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D88F3-B365-4CE9-9C57-E3F72BAC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0F71E-AC10-45A0-BCAD-CF1F596B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EEC34-3295-49B9-9ECB-5EC25E10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1C342-C204-4207-AA8E-E7D3DC39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0374-F322-46E8-A49D-404EA85B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F8BDF-3395-4E8A-A32D-2DC3B63B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AFCE7-F2E1-4F8F-91DB-F6E6FEC3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19FE5-F7A5-4394-A0F5-7C00053C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C62-9302-48BC-B60E-D0438CF9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2E3-77A9-452A-B53A-F5E5E4F5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1D4-F947-4320-A917-959B4AB5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0DF4-47C3-469C-8E18-F15B906F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AD0-D8CB-4E81-B7C9-1E37F0D5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93FC-3A8A-41ED-86F9-F37DA2143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A615-9481-45D0-B09D-87D2059D8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689F-EB71-470B-8591-FEB419655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0333-6DE9-49E3-B524-BD7FD10E69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КАНАД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101080" cy="502128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179280" y="189000"/>
            <a:ext cx="8712360" cy="6479280"/>
            <a:chOff x="179280" y="189000"/>
            <a:chExt cx="8712360" cy="6479280"/>
          </a:xfrm>
        </p:grpSpPr>
        <p:cxnSp>
          <p:nvCxnSpPr>
            <p:cNvPr id="261" name="_s54299"/>
            <p:cNvCxnSpPr>
              <a:stCxn id="262" idx="3"/>
              <a:endCxn id="263" idx="2"/>
            </p:cNvCxnSpPr>
            <p:nvPr/>
          </p:nvCxnSpPr>
          <p:spPr>
            <a:xfrm flipV="1">
              <a:off x="5406840" y="836640"/>
              <a:ext cx="871920" cy="551016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264" name="_s54293"/>
            <p:cNvCxnSpPr>
              <a:stCxn id="265" idx="3"/>
              <a:endCxn id="263" idx="2"/>
            </p:cNvCxnSpPr>
            <p:nvPr/>
          </p:nvCxnSpPr>
          <p:spPr>
            <a:xfrm flipV="1">
              <a:off x="5406840" y="836280"/>
              <a:ext cx="871920" cy="453780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266" name="_s54291"/>
            <p:cNvCxnSpPr/>
            <p:nvPr/>
          </p:nvCxnSpPr>
          <p:spPr>
            <a:xfrm flipV="1">
              <a:off x="5437080" y="836640"/>
              <a:ext cx="871920" cy="356544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267" name="_s54287"/>
            <p:cNvCxnSpPr>
              <a:stCxn id="268" idx="3"/>
              <a:endCxn id="263" idx="2"/>
            </p:cNvCxnSpPr>
            <p:nvPr/>
          </p:nvCxnSpPr>
          <p:spPr>
            <a:xfrm flipV="1">
              <a:off x="5406840" y="836640"/>
              <a:ext cx="871920" cy="259344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269" name="_s54286"/>
            <p:cNvCxnSpPr>
              <a:stCxn id="270" idx="3"/>
              <a:endCxn id="263" idx="2"/>
            </p:cNvCxnSpPr>
            <p:nvPr/>
          </p:nvCxnSpPr>
          <p:spPr>
            <a:xfrm flipV="1">
              <a:off x="5406840" y="836280"/>
              <a:ext cx="871920" cy="162108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cxnSp>
          <p:nvCxnSpPr>
            <p:cNvPr id="271" name="_s54285"/>
            <p:cNvCxnSpPr>
              <a:stCxn id="272" idx="3"/>
              <a:endCxn id="263" idx="2"/>
            </p:cNvCxnSpPr>
            <p:nvPr/>
          </p:nvCxnSpPr>
          <p:spPr>
            <a:xfrm flipV="1">
              <a:off x="5406840" y="837000"/>
              <a:ext cx="871920" cy="64836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</a:ln>
          </p:spPr>
        </p:cxnSp>
        <p:sp>
          <p:nvSpPr>
            <p:cNvPr id="263" name="_s54281"/>
            <p:cNvSpPr/>
            <p:nvPr/>
          </p:nvSpPr>
          <p:spPr>
            <a:xfrm>
              <a:off x="3664080" y="189000"/>
              <a:ext cx="5227560" cy="648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ff66"/>
              </a:solidFill>
              <a:miter/>
            </a:ln>
            <a:effectLst>
              <a:outerShdw dist="63504" dir="19383909" blurRad="0" rotWithShape="0">
                <a:srgbClr val="99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В зависимости от климатических поясов  различается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и растительность Канады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_s54282"/>
            <p:cNvSpPr/>
            <p:nvPr/>
          </p:nvSpPr>
          <p:spPr>
            <a:xfrm>
              <a:off x="179280" y="1161000"/>
              <a:ext cx="5227560" cy="64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66"/>
              </a:solidFill>
              <a:miter/>
            </a:ln>
            <a:effectLst>
              <a:outerShdw dist="63504" dir="19383909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Для северных районов характерн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тундровая и лесотундровая растительность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_s54283"/>
            <p:cNvSpPr/>
            <p:nvPr/>
          </p:nvSpPr>
          <p:spPr>
            <a:xfrm>
              <a:off x="179280" y="2133360"/>
              <a:ext cx="5227560" cy="64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66"/>
              </a:solidFill>
              <a:miter/>
            </a:ln>
            <a:effectLst>
              <a:outerShdw dist="63504" dir="19383909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Западные склоны Кордильер покрыты влажными океани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ческими лесами(складчатая туя, ситхинская ель, хемлок)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54284"/>
            <p:cNvSpPr/>
            <p:nvPr/>
          </p:nvSpPr>
          <p:spPr>
            <a:xfrm>
              <a:off x="179280" y="3105720"/>
              <a:ext cx="5227560" cy="64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66"/>
              </a:solidFill>
              <a:miter/>
            </a:ln>
            <a:effectLst>
              <a:outerShdw dist="63504" dir="19383909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Равнины  возле Гудзонского залива покрыты тайго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(белая берёза, белая ель, бальзамическая пихта).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_s54290"/>
            <p:cNvSpPr/>
            <p:nvPr/>
          </p:nvSpPr>
          <p:spPr>
            <a:xfrm>
              <a:off x="179280" y="4078080"/>
              <a:ext cx="5227560" cy="64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66"/>
              </a:solidFill>
              <a:miter/>
            </a:ln>
            <a:effectLst>
              <a:outerShdw dist="63504" dir="19383909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Склоны скалистых гор покрыты редкими сосновыми лесами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_s54292"/>
            <p:cNvSpPr/>
            <p:nvPr/>
          </p:nvSpPr>
          <p:spPr>
            <a:xfrm>
              <a:off x="184680" y="5050080"/>
              <a:ext cx="5222160" cy="64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66"/>
              </a:solidFill>
              <a:miter/>
            </a:ln>
            <a:effectLst>
              <a:outerShdw dist="63504" dir="19383909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На юго – востоке растут смешанные и широколиственные лес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(дубы, каштаны, буки, клёны)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54298"/>
            <p:cNvSpPr/>
            <p:nvPr/>
          </p:nvSpPr>
          <p:spPr>
            <a:xfrm>
              <a:off x="179280" y="6022440"/>
              <a:ext cx="5227560" cy="645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66"/>
              </a:solidFill>
              <a:miter/>
            </a:ln>
            <a:effectLst>
              <a:outerShdw dist="63504" dir="19383909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В прериях южной Канады произрастают в основном травы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Britannic Bold"/>
              </a:rPr>
              <a:t>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ФЛО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5508720" y="314172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5911920" y="1268280"/>
            <a:ext cx="2693880" cy="4897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0" y="187200"/>
            <a:ext cx="9143640" cy="6670440"/>
            <a:chOff x="0" y="187200"/>
            <a:chExt cx="9143640" cy="6670440"/>
          </a:xfrm>
        </p:grpSpPr>
        <p:sp>
          <p:nvSpPr>
            <p:cNvPr id="278" name="_s55326"/>
            <p:cNvSpPr/>
            <p:nvPr/>
          </p:nvSpPr>
          <p:spPr>
            <a:xfrm flipH="1" flipV="1">
              <a:off x="3527280" y="2574000"/>
              <a:ext cx="479520" cy="3571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_s55325"/>
            <p:cNvSpPr/>
            <p:nvPr/>
          </p:nvSpPr>
          <p:spPr>
            <a:xfrm>
              <a:off x="322920" y="1051200"/>
              <a:ext cx="2017800" cy="1889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_s55324"/>
            <p:cNvSpPr/>
            <p:nvPr/>
          </p:nvSpPr>
          <p:spPr>
            <a:xfrm flipH="1">
              <a:off x="3406320" y="3634560"/>
              <a:ext cx="600120" cy="4417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_s55323"/>
            <p:cNvSpPr/>
            <p:nvPr/>
          </p:nvSpPr>
          <p:spPr>
            <a:xfrm>
              <a:off x="0" y="3283920"/>
              <a:ext cx="3552120" cy="23043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В хвойных лесах и тайге – лось 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дикобраз, чёрный медведь(барибал)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рысь, лиса, волк, заяц, куница, красна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белка, бобр, сурок, енот, красная рысь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серая белка, лесной олень, заяц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виргинский олень, бизон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_s55322"/>
            <p:cNvSpPr/>
            <p:nvPr/>
          </p:nvSpPr>
          <p:spPr>
            <a:xfrm>
              <a:off x="4442040" y="4005720"/>
              <a:ext cx="38880" cy="6642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55321"/>
            <p:cNvSpPr/>
            <p:nvPr/>
          </p:nvSpPr>
          <p:spPr>
            <a:xfrm>
              <a:off x="3348000" y="4674600"/>
              <a:ext cx="2232360" cy="21830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_s55308"/>
            <p:cNvSpPr/>
            <p:nvPr/>
          </p:nvSpPr>
          <p:spPr>
            <a:xfrm>
              <a:off x="5257080" y="3861720"/>
              <a:ext cx="478080" cy="3546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_s55307"/>
            <p:cNvSpPr/>
            <p:nvPr/>
          </p:nvSpPr>
          <p:spPr>
            <a:xfrm>
              <a:off x="5507640" y="3357360"/>
              <a:ext cx="3636000" cy="22312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В безлесных районах юга – вислорога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антилопа, ослиный олень, хорёк, суслик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барсук, койот, степная лисица. В горах –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горная коза, горный баран, пума, медведь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гризли .В реках и озёрах много пресно –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водной рыбы(сиг, форель)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_s55306"/>
            <p:cNvSpPr/>
            <p:nvPr/>
          </p:nvSpPr>
          <p:spPr>
            <a:xfrm flipV="1">
              <a:off x="4953600" y="2574000"/>
              <a:ext cx="478080" cy="3549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_s55305"/>
            <p:cNvSpPr/>
            <p:nvPr/>
          </p:nvSpPr>
          <p:spPr>
            <a:xfrm>
              <a:off x="6516720" y="906840"/>
              <a:ext cx="2337120" cy="2280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_s55304"/>
            <p:cNvSpPr/>
            <p:nvPr/>
          </p:nvSpPr>
          <p:spPr>
            <a:xfrm flipV="1">
              <a:off x="4442040" y="1987560"/>
              <a:ext cx="1800" cy="7099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_s55303"/>
            <p:cNvSpPr/>
            <p:nvPr/>
          </p:nvSpPr>
          <p:spPr>
            <a:xfrm>
              <a:off x="2411640" y="187200"/>
              <a:ext cx="4084920" cy="19195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На островах и в тундре –северный олень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белый медведь, мускусный бык,  песец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</a:rPr>
                <a:t>полярный заяц, полярная сова, лемминги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55302"/>
            <p:cNvSpPr/>
            <p:nvPr/>
          </p:nvSpPr>
          <p:spPr>
            <a:xfrm>
              <a:off x="3058200" y="2205360"/>
              <a:ext cx="2926800" cy="21412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66"/>
                  </a:solidFill>
                  <a:latin typeface="Arial"/>
                </a:rPr>
                <a:t>ФАУНА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8">
            <a:lum contrast="48000"/>
          </a:blip>
          <a:stretch/>
        </p:blipFill>
        <p:spPr>
          <a:xfrm>
            <a:off x="3348000" y="4581360"/>
            <a:ext cx="2232000" cy="22766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9">
            <a:lum contrast="48000"/>
          </a:blip>
          <a:stretch/>
        </p:blipFill>
        <p:spPr>
          <a:xfrm>
            <a:off x="179280" y="765000"/>
            <a:ext cx="2232000" cy="23767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0">
            <a:lum contrast="30000"/>
          </a:blip>
          <a:stretch/>
        </p:blipFill>
        <p:spPr>
          <a:xfrm>
            <a:off x="6516720" y="836640"/>
            <a:ext cx="2448000" cy="2376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189000"/>
            <a:ext cx="27716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КРАСНАЯ БЕЛ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00720" y="189000"/>
            <a:ext cx="2843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БЕЛЫЙ МЕДВЕД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5734080"/>
            <a:ext cx="2449800" cy="917640"/>
          </a:xfrm>
          <a:prstGeom prst="leftArrow">
            <a:avLst>
              <a:gd name="adj1" fmla="val 50000"/>
              <a:gd name="adj2" fmla="val 6674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МЕДВЕДЬ ГРИЗ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140360" y="981000"/>
            <a:ext cx="4679640" cy="5327640"/>
          </a:xfrm>
          <a:prstGeom prst="horizontalScroll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Полезные ископаемые  посколь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распространены не вез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относятся к невозобновляем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природным ресурс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Канада имеет богатейш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природные ресурс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нефть, природный газ, угол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медь, цинк, никель, свинец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молибден, железо, ура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золото, серебро. По разработ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многих полезных ископаем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Канада занимает перв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место в ми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" y="5877000"/>
            <a:ext cx="3528720" cy="576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НЕФТЯН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ВЫШ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32240" cy="4530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539640" y="4508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анада – страна  с высокоразвитой экономикой , современным промышленным производством, квалифицированной рабочей сил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анада имеет высокоразвитую обрабатывающую промышленность и одновременно занимает ведущие позиции в мире  по производству отдельных видов сырья: цинка (1-е место в мире), никеля (2-е место). Меди(3-е место), свинца (5-е место). Урана, алюминия, золота. Важнейшими отраслями промышленности являются нефтяная, газовая, целлюлозно-бумажная, деревообрабатывающая, цветная металлургия, автомобилестроение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042920" y="260280"/>
            <a:ext cx="72057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мышленность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35280" y="3789360"/>
            <a:ext cx="5041800" cy="647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ДЕРЕВООБРАБАТЫВАЮЩИЙ</a:t>
            </a:r>
            <a:br>
              <a:rPr sz="1200"/>
            </a:b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ЗАВ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27040" y="1600200"/>
            <a:ext cx="8088480" cy="2189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68360" y="4292640"/>
            <a:ext cx="3936960" cy="216072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ЕЛЬСКОЕ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ХОЗЯЙ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8360" y="4292640"/>
            <a:ext cx="3927600" cy="2232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Канада крупнейший в мире производитель ячме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Основные посевы ячменя находятся на великих равнинах. Для сбора урожая используется автоматизированная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ех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427640" y="1904760"/>
            <a:ext cx="441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лагодаря тёплому лету и обширным плодородными равнинам  в степных  провинциях Канады развито высокопродуктивное сельское хозяйство. Восточная Канада –это производитель молочных продуктов, ягод (малина. черника), овощей (горох, бобы, картофель), фруктов (вплоть до персиков и груш), а также центр рыбо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овства (треска, лосось, окунь). Западная Канада выращивает пшеницу. рожь, масличный лён, овощ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фрукты;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ЗДЕСЬ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развито животноводств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Жители Северной Канады  живут охотой и рыболовств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35280" y="3789360"/>
            <a:ext cx="106200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927600" cy="17985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ОСНОВНЫЕ СТАТЬИ ЭКСПОРТА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1) АВТОМОБИЛИ И ЗАПЧАСТИ К НИМ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2) НЕФТЬ И ПРИРОДНЫЙ ГАЗ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3) ЛЕСОМАТЕРИАЛЫ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4) АЛЮМИНИЙ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5) ПШЕНИЦА, ЯЧМЕНЬ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6)  РЫБА И РЫБОПРОДУКТ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ОСНОВНЫЕ СТАТЬИ ИМПОРТА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1) ПАССАЖИРСКИЕ ВАГОНЫ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2) АВТОМОБИЛИ И ЗАПЧАСТИ К НИМ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3) КОМПЬЮТЕРЫ 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ТЕЛЕКОМММУНИКАЦИОННОЕ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ОБОРУДОВАНИЕ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4) СЫРЬЁ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1600" spc="-1" strike="noStrike">
                <a:solidFill>
                  <a:srgbClr val="99ff33"/>
                </a:solidFill>
                <a:latin typeface="Times New Roman"/>
              </a:rPr>
              <a:t>5) ПРОДОВОЛЬСТВ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ГЛАВНЫЕ ТОРГОВЫЕ ПАРТНЁРЫ  -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США, ВЕЛИКОБРИТАНИЯ. ГЕРМАНИЯ, ЯПОНИЯ, КИТАЙ, МЕКСИКА, ЮЖНАЯ КОРЕ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908000" y="189000"/>
            <a:ext cx="41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ОРГОВЛ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5651640" y="1484280"/>
            <a:ext cx="3168360" cy="19432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4067280" y="3068640"/>
            <a:ext cx="1407960" cy="289080"/>
          </a:xfrm>
          <a:prstGeom prst="rightArrow">
            <a:avLst>
              <a:gd name="adj1" fmla="val 50000"/>
              <a:gd name="adj2" fmla="val 121762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35280" y="4149720"/>
            <a:ext cx="649440" cy="358920"/>
          </a:xfrm>
          <a:prstGeom prst="leftArrow">
            <a:avLst>
              <a:gd name="adj1" fmla="val 50000"/>
              <a:gd name="adj2" fmla="val 4523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>
            <a:lum contrast="48000"/>
          </a:blip>
          <a:stretch/>
        </p:blipFill>
        <p:spPr>
          <a:xfrm>
            <a:off x="179280" y="3573360"/>
            <a:ext cx="3456000" cy="1656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ГОРОДА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050920" y="189000"/>
            <a:ext cx="5124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ДОСТОПРИМЕЧА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5661000"/>
            <a:ext cx="4032360" cy="1197000"/>
          </a:xfrm>
          <a:prstGeom prst="upArrow">
            <a:avLst>
              <a:gd name="adj1" fmla="val 82287"/>
              <a:gd name="adj2" fmla="val 2372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ЬКОБЕЖЦЫ- ЛЮБИТЕЛИ СКОЛЬ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ЯТ ПО ЛЬДУ КАНАЛА РИДО МИМО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АШЕН КАНАДСКОГО ПАРЛАМЕНТА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ЦЕНТРЕ ОТТАВ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32360" y="5661000"/>
            <a:ext cx="3743280" cy="1197000"/>
          </a:xfrm>
          <a:prstGeom prst="upArrow">
            <a:avLst>
              <a:gd name="adj1" fmla="val 83222"/>
              <a:gd name="adj2" fmla="val 2745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АНКУВЕР – КРУПНАЯ ЕСТЕСТВЕН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Я ГАВАНЬ, ЦЕНТР МОР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РГОВЛИ, ТРЕТИЙ ПО ВЕЛИЧИНЕ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РОД КАНА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887640" cy="40208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3908520" cy="410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211640" y="1413000"/>
            <a:ext cx="4537080" cy="4824360"/>
          </a:xfrm>
          <a:prstGeom prst="octagon">
            <a:avLst>
              <a:gd name="adj" fmla="val 29287"/>
            </a:avLst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МУЗЕИ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344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В Канаде множество музеев. В Оттаве – Национальная галерея, Канадский музей природы, Музей науки и техники; В Торонто – Королевский музей с коллекцией китайского искусства, телебашня Си Эн (553 м); в Налаймо – Этнографический музей, парк петроглифов (наскальных рисунков); в Квебеке – Музей провинции Квебек, Музей университета Лаваля, монастырь урсулинок 17 века, соборы и церкви 17 века; В Монреале – замок Шато-де-Рамзе начала 18 века; в Ванкувере – Морской музей; в Эдмонтоне – Музей деревянного зодче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979640" y="189000"/>
            <a:ext cx="51246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ДОСТОПРИМЕЧА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24000" y="952560"/>
            <a:ext cx="3539880" cy="59054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6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ПАРКИ И ЗАПОВЕДНИКИ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сключительная по своей красоте природа привлекает в Канаду огромное количество туристов со всего мира. Здесь множество национальных парков и заповедников: Элк-Айленд (Лосиный остров). Вуд- Буффало с самым большим стадом бизонов, Джаспер с ледниками, озёрами, горячими источниками, горный курорт Банфф –старейший национальный парк Канады. На границе с США находится Ниагарский водопад высотой 51 м. один из красивейших в мир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909800" y="189000"/>
            <a:ext cx="5324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ДОСТОПРИМЕЧАТЕЛЬН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3645000"/>
            <a:ext cx="3384360" cy="358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БАНФФ – ГОРНЫЙ КУРОР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00000" y="6308640"/>
            <a:ext cx="360072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иагарский водоп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838080" y="4192560"/>
            <a:ext cx="3927600" cy="17859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3927600" cy="19047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385120" cy="489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ДОБРО ПОЖАЛОВАТЬ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    В КАНАДУ – СТРАНУ 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        </a:t>
            </a:r>
            <a:br>
              <a:rPr sz="4400"/>
            </a:b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        ЛЕСОВ И ОЗЁР 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50920" y="620640"/>
            <a:ext cx="7777080" cy="5788080"/>
          </a:xfrm>
          <a:prstGeom prst="verticalScroll">
            <a:avLst>
              <a:gd name="adj" fmla="val 12495"/>
            </a:avLst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79218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i="1" lang="en-US" sz="1400" spc="-1" strike="noStrike">
                <a:solidFill>
                  <a:srgbClr val="009900"/>
                </a:solidFill>
                <a:latin typeface="Times New Roman"/>
              </a:rPr>
              <a:t>И</a:t>
            </a:r>
            <a:r>
              <a:rPr b="1" i="1" lang="en-US" sz="1800" spc="-1" strike="noStrike">
                <a:solidFill>
                  <a:srgbClr val="009900"/>
                </a:solidFill>
                <a:latin typeface="Times New Roman"/>
              </a:rPr>
              <a:t>стория открытия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00"/>
                </a:solidFill>
                <a:latin typeface="Times New Roman"/>
              </a:rPr>
              <a:t>                         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До того как первые европейцы (викинги) достигли канадского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берега и обосновались в Северо – Восточной Америке (9 -10вв.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на территории Канады жили предки современных индейцев и эски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мосов (около 40000 лет назад).В 1497г. итальянский мореплавател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Джон Кабот высаживается на острове Кейп – Бретон  и заявляет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права Англии на открытую им территорию. В 1534г. французский мо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реплаватель Жак Картье достигает залива Св.Лаврентия , иссле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довав территорию, объявляет этот район французским 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названием Новая Франция с центром в Квебеке. В конце 17 века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начинается колонизация Канады. В 1663г.создана колония , з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территорию современной Канады с Францией начала соперничать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Англия. В результате поражения французской армии в Семилетне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войне 1756 -1763гг. Великобритания получила права на территорию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Канады.  В 1848г.Канада добивается права на внутреннее самоуправ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ление. А в 1867г. создаётся канадская федерац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7220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308720" y="3357720"/>
            <a:ext cx="1835280" cy="3219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Географическое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           положение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                     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59280" y="184464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нада, имеющая самую длинную в мире береговую линию, занимает две пятых территории Северной Америки и обширные площади за Северным полярным кругом, в том числе острова: Канадский  Арктический архипелаг, Ньюфаундленд, Ванкувер, острова Королевы Шарлотты и др. Канада – вторая по площади страна мира: крупнее её только Россия. Общая площадь составляет 9 970 610 км. Канада  граничит на юге и северо – западе  (штат Аляска) с США. На севере и северо – востоке омывается Северным Ледовитым океаном, на востоке – Атлантическим океаном. На западе – Тихим океан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4529160" cy="51847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95280" y="1341360"/>
            <a:ext cx="8424720" cy="525636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42498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Канада – федеративное государство в составе Британского Содружества. Канада является членом ООН, НАТО. Глава государства – британский монарх, представленный генерал-губернатором. Реальная исполнительная власть находится в руках правительства во главе с премьер-министром. Законодательная власть: двухпалатный парламент, состоящий из Сената (верхней палаты) и Палаты  общин (нижней палаты). Административно-терротиториальное деление: 10 провинций и 3 территории. Столица страны – Оттава (1000 тыс. человек. Наиболее влиятельные политические партии: Либеральная, Новая демократическая, Прогрессивно – консервативная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2920" y="5516640"/>
            <a:ext cx="374508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дание канадского парламента в столиц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нады Отта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>
            <a:lum contrast="72000"/>
          </a:blip>
          <a:srcRect l="0" t="6540" r="0" b="0"/>
          <a:stretch/>
        </p:blipFill>
        <p:spPr>
          <a:xfrm>
            <a:off x="250920" y="189000"/>
            <a:ext cx="2114280" cy="1023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3600360" cy="331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Bauhaus 93"/>
              </a:rPr>
              <a:t>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71640" y="333360"/>
            <a:ext cx="4032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нада – одна из наименее населённы стран мира.   Население составляет 31 000 000 человек. Средняя плотность населения – менее 4 человека на 1кв.км .Обширные территории, особенно на севере, безлюдны. Большая часть населения сосредоточена  на юго – востоке, вблизи  границы  с США, по берегам Великих озёр и вдоль реки Св.Лаврентия. Столица Канады – Оттава, но по численности населения лидируют Торонто (4683 тыс. человек) и Монреаль (3426 тыс. человек).Народы европейского происхождения составляют более 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 населения Канады: итальянцы, немцы, голландцы, поляки, венгры, украинцы. Здесь существуют два языка – английский и французский –и две культуры. Коренное население Канады – эскимосы и  индейц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скимосы живут на севере, сохраняя традиционный уклад жизни и и свой язык. В 1999г. Впервые в истории Канады коренное население обрело автономию – была образована  эскимосская автономная территория Нунаву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 rot="5400000">
            <a:off x="-2556360" y="2996280"/>
            <a:ext cx="63356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НАСЕЛЕНИЕ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96360" y="260280"/>
            <a:ext cx="1079280" cy="2952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Тотем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стол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ндейц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48360" y="5950080"/>
            <a:ext cx="381636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Коренно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житель Канады - эским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1812960" cy="2665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148360" y="3645000"/>
            <a:ext cx="3000240" cy="2019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 rot="16200000">
            <a:off x="4248360" y="1736640"/>
            <a:ext cx="4032000" cy="2664000"/>
          </a:xfrm>
          <a:prstGeom prst="triangle">
            <a:avLst>
              <a:gd name="adj" fmla="val 50000"/>
            </a:avLst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632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 Black"/>
              </a:rPr>
              <a:t>               </a:t>
            </a:r>
            <a:r>
              <a:rPr b="1" lang="en-US" sz="4000" spc="-1" strike="noStrike">
                <a:solidFill>
                  <a:srgbClr val="006600"/>
                </a:solidFill>
                <a:latin typeface="Arial Black"/>
              </a:rPr>
              <a:t>РЕЛИГ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6920" y="5589720"/>
            <a:ext cx="7632720" cy="938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Католики-46%, протестанты- 25%,приверженицы униатской церкви- 16%, а также православные, мусульмане ,индуисты, буддисты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иудаис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2000" y="2205000"/>
            <a:ext cx="1657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ХРИСТИАН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МОЛЯТСЯ</a:t>
            </a:r>
            <a:br>
              <a:rPr sz="1600"/>
            </a:b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ЕДИНОМУ БОГ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В КАППЕЛАХ,</a:t>
            </a:r>
            <a:br>
              <a:rPr sz="1600"/>
            </a:b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ЦЕРКВЯХ И СОБОР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2857680" cy="3671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050920" y="189000"/>
            <a:ext cx="4897440" cy="936360"/>
          </a:xfrm>
          <a:custGeom>
            <a:avLst/>
            <a:gdLst>
              <a:gd name="textAreaLeft" fmla="*/ 0 w 4897440"/>
              <a:gd name="textAreaRight" fmla="*/ 4897800 w 4897440"/>
              <a:gd name="textAreaTop" fmla="*/ 121320 h 936360"/>
              <a:gd name="textAreaBottom" fmla="*/ 8150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3851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"/>
              </a:rPr>
              <a:t>Рельеф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3516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Ландшафт Канады очень разнообразен: это и изрезанные горные хребты, и ледяные пустыни , и плодородные прерии, а также низины и равнины с умеренным климатом.    Почти шестая часть общей площади Канады приходится на острова, включая остров       Баффинова Земля – пятый по величине остров в мире. Территорию Канады условно можно разделить на четыре части: Канадский щит с равнинами и плато , канадские Кордильеры, Великие равнины и Аппалачи. Самая высокая точка Канады- гора Логан (5951 м ). Ландшафт  Канады сформировался в первую очередь под воздействием оледенения . Ледники, существующие на севере страны, -остатки гигантского ледяного щита, который когда -то занимал всю территорию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3500280"/>
            <a:ext cx="1728720" cy="3097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Бизон пасё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на травянист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равнине 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поднож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Скалистых го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5640" y="5013360"/>
            <a:ext cx="28872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5400720" cy="2952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51280" y="981000"/>
            <a:ext cx="4967280" cy="5877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851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Внутренние воды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3816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игде в мире нет такого количества больших и малых рек и озёр, как в Канаде. По оценкам, Канада располагает более чем 25% мировых ресурсов пресной воды. В границах  Канады расположено более 200 озёр. Самые крупные из них: Верхнее озеро (самое большое пресноводное озеро в мире),Большое Медвежье озеро(находится в десятке самых больших озёр мира),Большое Невольничье озеро, Гурон, Эри, Виннипег, Онтарио. Речная сеть в стране густая. Самая длинная река Канады- Макензи (1733 км),но самой важной для торговли и судоходства является Св. Лаврентия . Эта река образует более чем 4000-километровый водный путь, соединяющий Великие озёра с Атлантическим океаном. К главным рекам страны относятся также: Саскачеван, Фрейзер. Юкон. Колумб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76720" y="5877000"/>
            <a:ext cx="2590920" cy="43164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Река Св.Лаврен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0" y="1989000"/>
            <a:ext cx="3313080" cy="3711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loud"/>
          <p:cNvSpPr/>
          <p:nvPr/>
        </p:nvSpPr>
        <p:spPr>
          <a:xfrm>
            <a:off x="0" y="692280"/>
            <a:ext cx="9144000" cy="597852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3024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comic"/>
              </a:rPr>
              <a:t>КЛИМАТ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770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Климат Канады арктический, субарктический и               умеренный.Большая часть территории страны находится в области вечной мерзлоты. На западном и восточном побережьях климат более влажный и мягкий: лето не очень жаркое, а зимы достаточно мягкие. В центральных районах  климат резко континентальный и засушливый; в горных районах – довольно сухой, но в горах Селкирка часто бывают дожди, снегопады. Средние температуры : в январе – от -35 С на севере до +4 С на юге, в июле – от +4 С на островах Канадского Арктического архипелага до +21 С на юге. Годовое количество осадков распределяется по стране  неравномерно :  на севере выпадает 150 мм, в центре страны– 250  - 400 мм, на восточном побережье – 1250 мм,   на  западном – 2500 м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 rot="21003600">
            <a:off x="9360" y="403200"/>
            <a:ext cx="478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ЛИМАТ.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/>
          <p:nvPr/>
        </p:nvSpPr>
        <p:spPr>
          <a:xfrm>
            <a:off x="7956720" y="260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4:20:39Z</dcterms:created>
  <dc:creator>*</dc:creator>
  <dc:description/>
  <dc:language>en-US</dc:language>
  <cp:lastModifiedBy>Болотников А.В.</cp:lastModifiedBy>
  <dcterms:modified xsi:type="dcterms:W3CDTF">2008-05-24T14:42:06Z</dcterms:modified>
  <cp:revision>38</cp:revision>
  <dc:subject/>
  <dc:title>Слайд 1</dc:title>
</cp:coreProperties>
</file>