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01A-CE89-47A2-94CD-F4F41BC2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855-3AA0-4D30-A360-E45E96B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9C1-B28F-49F7-BC1A-45E9B199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DB4-C27E-4D88-A40C-8EE0ABE1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97E1-7FF5-4D4C-87F5-ABD46E74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204F-5DED-4A6D-BC96-DCC5317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DC88-0443-42DD-942D-FF30BD36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4619-6026-4F02-8DB7-155B497A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1C29-2930-4EF4-B8F0-A6825205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4C4B-D335-449A-BFE2-EDB1D94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0B4D-D480-4715-A1C6-69CBFDA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31E-1715-46D8-8DD3-F946E40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EC42-4726-42C7-BBC3-0C196A99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6FA3-8214-450A-B4A4-08BB06C5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E576-41E4-42AE-A9CB-7640C78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AC46-2178-4193-A91F-58E762C9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D5F5-0203-4722-AE5B-2B8E46DB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F035-9300-4614-98AA-FA460A8D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AB66-E49A-461C-A38F-ECB68A28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DF09-1630-4A63-8200-E13A6E7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B910-C3BA-4163-8FED-F2911F84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5982-D24A-45D1-B1C0-37B2FE7F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845-2CC6-4A0B-9180-11289C90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A364-1F17-42DD-989D-93A63E8E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29BB-4740-4910-BB24-65DD2A7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1B81-5EF5-4DFA-A1FC-DD50677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7E48-FE42-4A06-9F75-86573891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83C4-2047-42CF-B33E-256983B8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7EAB-3832-47FF-BED9-0709CB7F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B026-BA9B-479A-8452-24517AF5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9C9C-216B-454B-8CFA-65EEB60E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096D-E125-4B4A-AEB9-49FB839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5DEB-B106-4963-B226-DEF1A2EB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4AD-8238-4D6E-9B27-CC958153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84B3-FBD4-46C6-B9CD-6343153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0A12-330E-4154-B1DD-4748EFC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1BA2-406D-4584-B456-471E69DB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B09C-868E-40C1-AB3D-8D9EC18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18A2-FC67-4DD1-AA73-4FB5492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54942-8693-4B1A-950C-88296AC0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94F8-4891-44CB-953D-A1705C96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9FCB-3B67-44B9-8470-71504413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34D5-ABE7-4C21-A867-932657D7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C86-1678-4222-AD2F-51F98A7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9BB-7345-435C-AB7F-C3F1080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484-AFC8-4699-BFAF-141A9C37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3D6-8261-4664-9616-C7FD7E77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249-AA53-4681-9FBD-31C8BA76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0D8C-190A-4130-9EA0-C81B07EA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19A4-B2DC-4703-8ECB-900024712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5947-D04B-4CA8-BB03-7A22661BE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D11F-242F-49B4-B7F6-E03484195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КАНАД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01080" cy="50212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79280" y="189000"/>
            <a:ext cx="8712360" cy="6479280"/>
            <a:chOff x="179280" y="189000"/>
            <a:chExt cx="8712360" cy="6479280"/>
          </a:xfrm>
        </p:grpSpPr>
        <p:cxnSp>
          <p:nvCxnSpPr>
            <p:cNvPr id="261" name="_s54299"/>
            <p:cNvCxnSpPr>
              <a:stCxn id="262" idx="3"/>
              <a:endCxn id="263" idx="2"/>
            </p:cNvCxnSpPr>
            <p:nvPr/>
          </p:nvCxnSpPr>
          <p:spPr>
            <a:xfrm flipV="1">
              <a:off x="5406840" y="836640"/>
              <a:ext cx="871920" cy="55101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4" name="_s54293"/>
            <p:cNvCxnSpPr>
              <a:stCxn id="265" idx="3"/>
              <a:endCxn id="263" idx="2"/>
            </p:cNvCxnSpPr>
            <p:nvPr/>
          </p:nvCxnSpPr>
          <p:spPr>
            <a:xfrm flipV="1">
              <a:off x="5406840" y="836280"/>
              <a:ext cx="871920" cy="45378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6" name="_s54291"/>
            <p:cNvCxnSpPr/>
            <p:nvPr/>
          </p:nvCxnSpPr>
          <p:spPr>
            <a:xfrm flipV="1">
              <a:off x="5437080" y="836640"/>
              <a:ext cx="871920" cy="35654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7" name="_s54287"/>
            <p:cNvCxnSpPr>
              <a:stCxn id="268" idx="3"/>
              <a:endCxn id="263" idx="2"/>
            </p:cNvCxnSpPr>
            <p:nvPr/>
          </p:nvCxnSpPr>
          <p:spPr>
            <a:xfrm flipV="1">
              <a:off x="5406840" y="836640"/>
              <a:ext cx="871920" cy="25934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9" name="_s54286"/>
            <p:cNvCxnSpPr>
              <a:stCxn id="270" idx="3"/>
              <a:endCxn id="263" idx="2"/>
            </p:cNvCxnSpPr>
            <p:nvPr/>
          </p:nvCxnSpPr>
          <p:spPr>
            <a:xfrm flipV="1">
              <a:off x="5406840" y="836280"/>
              <a:ext cx="871920" cy="162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71" name="_s54285"/>
            <p:cNvCxnSpPr>
              <a:stCxn id="272" idx="3"/>
              <a:endCxn id="263" idx="2"/>
            </p:cNvCxnSpPr>
            <p:nvPr/>
          </p:nvCxnSpPr>
          <p:spPr>
            <a:xfrm flipV="1">
              <a:off x="5406840" y="837000"/>
              <a:ext cx="871920" cy="6483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263" name="_s54281"/>
            <p:cNvSpPr/>
            <p:nvPr/>
          </p:nvSpPr>
          <p:spPr>
            <a:xfrm>
              <a:off x="3664080" y="189000"/>
              <a:ext cx="522756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66"/>
              </a:solidFill>
              <a:miter/>
            </a:ln>
            <a:effectLst>
              <a:outerShdw dist="63504" dir="19383909" blurRad="0" rotWithShape="0">
                <a:srgbClr val="99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зависимости от климатических поясов  различаетс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и растительность Канады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54282"/>
            <p:cNvSpPr/>
            <p:nvPr/>
          </p:nvSpPr>
          <p:spPr>
            <a:xfrm>
              <a:off x="179280" y="1161000"/>
              <a:ext cx="5227560" cy="64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Для северных районов характерн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тундровая и лесотундровая растительность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54283"/>
            <p:cNvSpPr/>
            <p:nvPr/>
          </p:nvSpPr>
          <p:spPr>
            <a:xfrm>
              <a:off x="179280" y="2133360"/>
              <a:ext cx="5227560" cy="64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Западные склоны Кордильер покрыты влажными океани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ческими лесами(складчатая туя, ситхинская ель, хемлок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54284"/>
            <p:cNvSpPr/>
            <p:nvPr/>
          </p:nvSpPr>
          <p:spPr>
            <a:xfrm>
              <a:off x="179280" y="3105720"/>
              <a:ext cx="5227560" cy="64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Равнины  возле Гудзонского залива покрыты тайг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(белая берёза, белая ель, бальзамическая пихта)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_s54290"/>
            <p:cNvSpPr/>
            <p:nvPr/>
          </p:nvSpPr>
          <p:spPr>
            <a:xfrm>
              <a:off x="179280" y="4078080"/>
              <a:ext cx="5227560" cy="64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Склоны скалистых гор покрыты редкими сосновыми лесам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54292"/>
            <p:cNvSpPr/>
            <p:nvPr/>
          </p:nvSpPr>
          <p:spPr>
            <a:xfrm>
              <a:off x="184680" y="5050080"/>
              <a:ext cx="5222160" cy="64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На юго – востоке растут смешанные и широколиственные лес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(дубы, каштаны, буки, клёны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54298"/>
            <p:cNvSpPr/>
            <p:nvPr/>
          </p:nvSpPr>
          <p:spPr>
            <a:xfrm>
              <a:off x="179280" y="6022440"/>
              <a:ext cx="5227560" cy="645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прериях южной Канады произрастают в основном травы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ritannic Bold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ФЛ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14172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5911920" y="1268280"/>
            <a:ext cx="2693880" cy="489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187200"/>
            <a:ext cx="9143640" cy="6670440"/>
            <a:chOff x="0" y="187200"/>
            <a:chExt cx="9143640" cy="6670440"/>
          </a:xfrm>
        </p:grpSpPr>
        <p:sp>
          <p:nvSpPr>
            <p:cNvPr id="278" name="_s55326"/>
            <p:cNvSpPr/>
            <p:nvPr/>
          </p:nvSpPr>
          <p:spPr>
            <a:xfrm flipH="1" flipV="1">
              <a:off x="3527280" y="2574000"/>
              <a:ext cx="479520" cy="3571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_s55325"/>
            <p:cNvSpPr/>
            <p:nvPr/>
          </p:nvSpPr>
          <p:spPr>
            <a:xfrm>
              <a:off x="322920" y="1051200"/>
              <a:ext cx="2017800" cy="1889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55324"/>
            <p:cNvSpPr/>
            <p:nvPr/>
          </p:nvSpPr>
          <p:spPr>
            <a:xfrm flipH="1">
              <a:off x="3406320" y="3634560"/>
              <a:ext cx="600120" cy="441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55323"/>
            <p:cNvSpPr/>
            <p:nvPr/>
          </p:nvSpPr>
          <p:spPr>
            <a:xfrm>
              <a:off x="0" y="3283920"/>
              <a:ext cx="3552120" cy="2304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хвойных лесах и тайге – лось 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дикобраз, чёрный медведь(барибал)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рысь, лиса, волк, заяц, куница, красна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елка, бобр, сурок, енот, красная рысь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серая белка, лесной олень, заяц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иргинский олень, бизон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55322"/>
            <p:cNvSpPr/>
            <p:nvPr/>
          </p:nvSpPr>
          <p:spPr>
            <a:xfrm>
              <a:off x="4442040" y="4005720"/>
              <a:ext cx="38880" cy="6642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55321"/>
            <p:cNvSpPr/>
            <p:nvPr/>
          </p:nvSpPr>
          <p:spPr>
            <a:xfrm>
              <a:off x="3348000" y="4674600"/>
              <a:ext cx="2232360" cy="2183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55308"/>
            <p:cNvSpPr/>
            <p:nvPr/>
          </p:nvSpPr>
          <p:spPr>
            <a:xfrm>
              <a:off x="5257080" y="3861720"/>
              <a:ext cx="478080" cy="354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55307"/>
            <p:cNvSpPr/>
            <p:nvPr/>
          </p:nvSpPr>
          <p:spPr>
            <a:xfrm>
              <a:off x="5507640" y="3357360"/>
              <a:ext cx="3636000" cy="223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безлесных районах юга – вислорога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антилопа, ослиный олень, хорёк, суслик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арсук, койот, степная лисица. В горах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горная коза, горный баран, пума, медвед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гризли .В реках и озёрах много пресно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одной рыбы(сиг, форель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55306"/>
            <p:cNvSpPr/>
            <p:nvPr/>
          </p:nvSpPr>
          <p:spPr>
            <a:xfrm flipV="1">
              <a:off x="4953600" y="2574000"/>
              <a:ext cx="478080" cy="3549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55305"/>
            <p:cNvSpPr/>
            <p:nvPr/>
          </p:nvSpPr>
          <p:spPr>
            <a:xfrm>
              <a:off x="6516720" y="906840"/>
              <a:ext cx="2337120" cy="2280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55304"/>
            <p:cNvSpPr/>
            <p:nvPr/>
          </p:nvSpPr>
          <p:spPr>
            <a:xfrm flipV="1">
              <a:off x="4442040" y="1987560"/>
              <a:ext cx="1800" cy="709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_s55303"/>
            <p:cNvSpPr/>
            <p:nvPr/>
          </p:nvSpPr>
          <p:spPr>
            <a:xfrm>
              <a:off x="2411640" y="187200"/>
              <a:ext cx="4084920" cy="19195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На островах и в тундре –северный олень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елый медведь, мускусный бык,  песец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полярный заяц, полярная сова, лемминг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55302"/>
            <p:cNvSpPr/>
            <p:nvPr/>
          </p:nvSpPr>
          <p:spPr>
            <a:xfrm>
              <a:off x="3058200" y="2205360"/>
              <a:ext cx="2926800" cy="21412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66"/>
                  </a:solidFill>
                  <a:latin typeface="Arial"/>
                </a:rPr>
                <a:t>ФАУНА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8">
            <a:lum contrast="48000"/>
          </a:blip>
          <a:stretch/>
        </p:blipFill>
        <p:spPr>
          <a:xfrm>
            <a:off x="3348000" y="4581360"/>
            <a:ext cx="2232000" cy="2276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>
            <a:lum contrast="48000"/>
          </a:blip>
          <a:stretch/>
        </p:blipFill>
        <p:spPr>
          <a:xfrm>
            <a:off x="179280" y="765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>
            <a:lum contrast="30000"/>
          </a:blip>
          <a:stretch/>
        </p:blipFill>
        <p:spPr>
          <a:xfrm>
            <a:off x="6516720" y="836640"/>
            <a:ext cx="2448000" cy="2376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189000"/>
            <a:ext cx="2771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КРАСНАЯ БЕЛ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189000"/>
            <a:ext cx="284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БЕЛЫЙ МЕДВЕД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734080"/>
            <a:ext cx="2449800" cy="917640"/>
          </a:xfrm>
          <a:prstGeom prst="leftArrow">
            <a:avLst>
              <a:gd name="adj1" fmla="val 50000"/>
              <a:gd name="adj2" fmla="val 6674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МЕДВЕДЬ ГРИЗ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140360" y="981000"/>
            <a:ext cx="4679640" cy="53276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олезные ископаемые  посколь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распространены не вез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относятся к невозобновляем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риродным ресурс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Канада имеет богатей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риродные ресурс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нефть, природный газ, угол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едь, цинк, никель, свинец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олибден, железо, ура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золото, серебро. По разработ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ногих полезных ископа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Канада занимает перв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есто в м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5877000"/>
            <a:ext cx="352872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НЕФТЯ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ВЫШ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32240" cy="453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39640" y="4508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нада – страна  с высокоразвитой экономикой , современным промышленным производством, квалифицированной рабочей сил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нада имеет высокоразвитую обрабатывающую промышленность и одновременно занимает ведущие позиции в мире  по производству отдельных видов сырья: цинка (1-е место в мире), никеля (2-е место). Меди(3-е место), свинца (5-е место). Урана, алюминия, золота. Важнейшими отраслями промышленности являются нефтяная, газовая, целлюлозно-бумажная, деревообрабатывающая, цветная металлургия, автомобилестроение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42920" y="260280"/>
            <a:ext cx="72057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мышленность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3789360"/>
            <a:ext cx="5041800" cy="647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ДЕРЕВООБРАБАТЫВАЮЩИЙ</a:t>
            </a:r>
            <a:br>
              <a:rPr sz="1200"/>
            </a:b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ЗАВ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27040" y="1600200"/>
            <a:ext cx="808848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4292640"/>
            <a:ext cx="3936960" cy="21607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ЕЛЬСКОЕ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ХОЗЯ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8360" y="4292640"/>
            <a:ext cx="3927600" cy="2232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анада крупнейший в мире производитель яч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сновные посевы ячменя находятся на великих равнинах. Для сбора урожая используется автоматизированная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ех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агодаря тёплому лету и обширным плодородными равнинам  в степных  провинциях Канады развито высокопродуктивное сельское хозяйство. Восточная Канада –это производитель молочных продуктов, ягод (малина. черника), овощей (горох, бобы, картофель), фруктов (вплоть до персиков и груш), а также центр рыб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овства (треска, лосось, окунь). Западная Канада выращивает пшеницу. рожь, масличный лён, овощ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рукты;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ДЕС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развито животноводст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Жители Северной Канады  живут охотой и рыболовств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5280" y="3789360"/>
            <a:ext cx="106200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927600" cy="1798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ОСНОВНЫЕ СТАТЬИ ЭКСПОРТА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1) АВТОМОБИЛИ И ЗАПЧАСТИ К НИМ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2) НЕФТЬ И ПРИРОДНЫЙ ГАЗ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3) ЛЕСОМАТЕРИАЛ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4) АЛЮМИНИЙ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5) ПШЕНИЦА, ЯЧМЕНЬ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6)  РЫБА И РЫБОПРОДУКТ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ОСНОВНЫЕ СТАТЬИ ИМПОРТА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1) ПАССАЖИРСКИЕ ВАГО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2) АВТОМОБИЛИ И ЗАПЧАСТИ К НИ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3) КОМПЬЮТЕРЫ 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ТЕЛЕКОМММУНИКАЦИОННОЕ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ОБОРУДОВАНИ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4) СЫРЬЁ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5) ПРОДОВОЛЬСТВ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ЛАВНЫЕ ТОРГОВЫЕ ПАРТНЁРЫ  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ША, ВЕЛИКОБРИТАНИЯ. ГЕРМАНИЯ, ЯПОНИЯ, КИТАЙ, МЕКСИКА, ЮЖНАЯ КО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908000" y="18900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651640" y="1484280"/>
            <a:ext cx="3168360" cy="1943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067280" y="3068640"/>
            <a:ext cx="1407960" cy="289080"/>
          </a:xfrm>
          <a:prstGeom prst="rightArrow">
            <a:avLst>
              <a:gd name="adj1" fmla="val 50000"/>
              <a:gd name="adj2" fmla="val 12176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4149720"/>
            <a:ext cx="649440" cy="358920"/>
          </a:xfrm>
          <a:prstGeom prst="leftArrow">
            <a:avLst>
              <a:gd name="adj1" fmla="val 50000"/>
              <a:gd name="adj2" fmla="val 4523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179280" y="3573360"/>
            <a:ext cx="3456000" cy="165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ОРОД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050920" y="189000"/>
            <a:ext cx="5124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5661000"/>
            <a:ext cx="4032360" cy="1197000"/>
          </a:xfrm>
          <a:prstGeom prst="upArrow">
            <a:avLst>
              <a:gd name="adj1" fmla="val 82287"/>
              <a:gd name="adj2" fmla="val 2372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ЬКОБЕЖЦЫ- ЛЮБИТЕЛИ СКОЛЬ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ЯТ ПО ЛЬДУ КАНАЛА РИДО МИМО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ШЕН КАНАДСКОГО ПАРЛАМЕНТА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ЦЕНТРЕ ОТТАВ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32360" y="5661000"/>
            <a:ext cx="3743280" cy="1197000"/>
          </a:xfrm>
          <a:prstGeom prst="upArrow">
            <a:avLst>
              <a:gd name="adj1" fmla="val 83222"/>
              <a:gd name="adj2" fmla="val 2745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НКУВЕР – КРУПНАЯ ЕСТЕСТВЕН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Я ГАВАНЬ, ЦЕНТР МОР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РГОВЛИ, ТРЕТИЙ ПО ВЕЛИЧИНЕ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ОД КАНА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40208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90852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211640" y="1413000"/>
            <a:ext cx="4537080" cy="4824360"/>
          </a:xfrm>
          <a:prstGeom prst="octagon">
            <a:avLst>
              <a:gd name="adj" fmla="val 29287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МУЗЕИ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344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В Канаде множество музеев. В Оттаве – Национальная галерея, Канадский музей природы, Музей науки и техники; В Торонто – Королевский музей с коллекцией китайского искусства, телебашня Си Эн (553 м); в Налаймо – Этнографический музей, парк петроглифов (наскальных рисунков); в Квебеке – Музей провинции Квебек, Музей университета Лаваля, монастырь урсулинок 17 века, соборы и церкви 17 века; В Монреале – замок Шато-де-Рамзе начала 18 века; в Ванкувере – Морской музей; в Эдмонтоне – Музей деревянного зодч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979640" y="189000"/>
            <a:ext cx="51246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24000" y="952560"/>
            <a:ext cx="3539880" cy="5905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ПАРКИ И ЗАПОВЕДНИКИ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ключительная по своей красоте природа привлекает в Канаду огромное количество туристов со всего мира. Здесь множество национальных парков и заповедников: Элк-Айленд (Лосиный остров). Вуд- Буффало с самым большим стадом бизонов, Джаспер с ледниками, озёрами, горячими источниками, горный курорт Банфф –старейший национальный парк Канады. На границе с США находится Ниагарский водопад высотой 51 м. один из красивейших в ми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909800" y="189000"/>
            <a:ext cx="5324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3645000"/>
            <a:ext cx="338436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БАНФФ – ГОРНЫЙ КУРОР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6308640"/>
            <a:ext cx="360072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иагарский водоп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4192560"/>
            <a:ext cx="3927600" cy="178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927600" cy="1904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385120" cy="489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ДОБРО ПОЖАЛОВАТЬ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В КАНАДУ – СТРАНУ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   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    ЛЕСОВ И ОЗЁР 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620640"/>
            <a:ext cx="7777080" cy="5788080"/>
          </a:xfrm>
          <a:prstGeom prst="verticalScroll">
            <a:avLst>
              <a:gd name="adj" fmla="val 12495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7921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en-US" sz="1400" spc="-1" strike="noStrike">
                <a:solidFill>
                  <a:srgbClr val="009900"/>
                </a:solidFill>
                <a:latin typeface="Times New Roman"/>
              </a:rPr>
              <a:t>И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стория открытия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00"/>
                </a:solidFill>
                <a:latin typeface="Times New Roman"/>
              </a:rPr>
              <a:t>                        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о того как первые европейцы (викинги) достигли канадског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берега и обосновались в Северо – Восточной Америке (9 -10вв.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 территории Канады жили предки современных индейцев и эски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мосов (около 40000 лет назад).В 1497г. итальянский мореплавате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жон Кабот высаживается на острове Кейп – Бретон  и заявляет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рава Англии на открытую им территорию. В 1534г. французский мо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реплаватель Жак Картье достигает залива Св.Лаврентия , иссле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овав территорию, объявляет этот район французским 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званием Новая Франция с центром в Квебеке. В конце 17 века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чинается колонизация Канады. В 1663г.создана колония , 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территорию современной Канады с Францией начала соперничать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Англия. В результате поражения французской армии в Семилетне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войне 1756 -1763гг. Великобритания получила права на территори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Канады.  В 1848г.Канада добивается права на внутреннее самоуправ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ление. А в 1867г. создаётся канадская федерац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220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08720" y="3357720"/>
            <a:ext cx="1835280" cy="321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Географическое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           положение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            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928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нада, имеющая самую длинную в мире береговую линию, занимает две пятых территории Северной Америки и обширные площади за Северным полярным кругом, в том числе острова: Канадский  Арктический архипелаг, Ньюфаундленд, Ванкувер, острова Королевы Шарлотты и др. Канада – вторая по площади страна мира: крупнее её только Россия. Общая площадь составляет 9 970 610 км. Канада  граничит на юге и северо – западе  (штат Аляска) с США. На севере и северо – востоке омывается Северным Ледовитым океаном, на востоке – Атлантическим океаном. На западе – Тихим океан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529160" cy="5184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5280" y="1341360"/>
            <a:ext cx="8424720" cy="525636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4249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Канада – федеративное государство в составе Британского Содружества. Канада является членом ООН, НАТО. Глава государства – британский монарх, представленный генерал-губернатором. Реальная исполнительная власть находится в руках правительства во главе с премьер-министром. Законодательная власть: двухпалатный парламент, состоящий из Сената (верхней палаты) и Палаты  общин (нижней палаты). Административно-терротиториальное деление: 10 провинций и 3 территории. Столица страны – Оттава (1000 тыс. человек. Наиболее влиятельные политические партии: Либеральная, Новая демократическая, Прогрессивно – консервативная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2920" y="5516640"/>
            <a:ext cx="374508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ание канадского парламента в столиц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нады Отта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lum contrast="72000"/>
          </a:blip>
          <a:srcRect l="0" t="6540" r="0" b="0"/>
          <a:stretch/>
        </p:blipFill>
        <p:spPr>
          <a:xfrm>
            <a:off x="250920" y="189000"/>
            <a:ext cx="2114280" cy="1023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600360" cy="331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Bauhaus 93"/>
              </a:rPr>
              <a:t>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640" y="333360"/>
            <a:ext cx="4032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– одна из наименее населённы стран мира.   Население составляет 31 000 000 человек. Средняя плотность населения – менее 4 человека на 1кв.км .Обширные территории, особенно на севере, безлюдны. Большая часть населения сосредоточена  на юго – востоке, вблизи  границы  с США, по берегам Великих озёр и вдоль реки Св.Лаврентия. Столица Канады – Оттава, но по численности населения лидируют Торонто (4683 тыс. человек) и Монреаль (3426 тыс. человек).Народы европейского происхождения составляют более 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 населения Канады: итальянцы, немцы, голландцы, поляки, венгры, украинцы. Здесь существуют два языка – английский и французский –и две культуры. Коренное население Канады – эскимосы и  индейц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скимосы живут на севере, сохраняя традиционный уклад жизни и и свой язык. В 1999г. Впервые в истории Канады коренное население обрело автономию – была образована  эскимосская автономная территория Нунаву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5400000">
            <a:off x="-2556360" y="2996280"/>
            <a:ext cx="6335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НАСЕЛЕНИ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96360" y="260280"/>
            <a:ext cx="1079280" cy="295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отем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тол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ндей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5950080"/>
            <a:ext cx="381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оренно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житель Канады - эским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1812960" cy="2665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000240" cy="2019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16200000">
            <a:off x="4248360" y="1736640"/>
            <a:ext cx="4032000" cy="2664000"/>
          </a:xfrm>
          <a:prstGeom prst="triangle">
            <a:avLst>
              <a:gd name="adj" fmla="val 500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32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               </a:t>
            </a: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РЕЛИГ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920" y="5589720"/>
            <a:ext cx="7632720" cy="938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атолики-46%, протестанты- 25%,приверженицы униатской церкви- 16%, а также православные, мусульмане ,индуисты, буддисты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уда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2205000"/>
            <a:ext cx="165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ХРИСТИА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МОЛЯТСЯ</a:t>
            </a:r>
            <a:br>
              <a:rPr sz="1600"/>
            </a:b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ЕДИНОМУ БОГ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В КАППЕЛАХ,</a:t>
            </a:r>
            <a:br>
              <a:rPr sz="1600"/>
            </a:b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ЦЕРКВЯХ И СОБОР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2857680" cy="3671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0920" y="18900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121320 h 936360"/>
              <a:gd name="textAreaBottom" fmla="*/ 815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"/>
              </a:rPr>
              <a:t>Рельеф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андшафт Канады очень разнообразен: это и изрезанные горные хребты, и ледяные пустыни , и плодородные прерии, а также низины и равнины с умеренным климатом.    Почти шестая часть общей площади Канады приходится на острова, включая остров       Баффинова Земля – пятый по величине остров в мире. Территорию Канады условно можно разделить на четыре части: Канадский щит с равнинами и плато , канадские Кордильеры, Великие равнины и Аппалачи. Самая высокая точка Канады- гора Логан (5951 м ). Ландшафт  Канады сформировался в первую очередь под воздействием оледенения . Ледники, существующие на севере страны, -остатки гигантского ледяного щита, который когда -то занимал всю территорию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500280"/>
            <a:ext cx="1728720" cy="3097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Бизон пасё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на травянист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равнине 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поднож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Скалистых го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5013360"/>
            <a:ext cx="28872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5400720" cy="2952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51280" y="981000"/>
            <a:ext cx="4967280" cy="5877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Внутренние воды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381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где в мире нет такого количества больших и малых рек и озёр, как в Канаде. По оценкам, Канада располагает более чем 25% мировых ресурсов пресной воды. В границах  Канады расположено более 200 озёр. Самые крупные из них: Верхнее озеро (самое большое пресноводное озеро в мире),Большое Медвежье озеро(находится в десятке самых больших озёр мира),Большое Невольничье озеро, Гурон, Эри, Виннипег, Онтарио. Речная сеть в стране густая. Самая длинная река Канады- Макензи (1733 км),но самой важной для торговли и судоходства является Св. Лаврентия . Эта река образует более чем 4000-километровый водный путь, соединяющий Великие озёра с Атлантическим океаном. К главным рекам страны относятся также: Саскачеван, Фрейзер. Юкон. Колумб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5877000"/>
            <a:ext cx="2590920" cy="43164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Река Св.Лаврен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3313080" cy="37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loud"/>
          <p:cNvSpPr/>
          <p:nvPr/>
        </p:nvSpPr>
        <p:spPr>
          <a:xfrm>
            <a:off x="0" y="692280"/>
            <a:ext cx="9144000" cy="597852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302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comic"/>
              </a:rPr>
              <a:t>КЛИМАТ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70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Климат Канады арктический, субарктический и               умеренный.Большая часть территории страны находится в области вечной мерзлоты. На западном и восточном побережьях климат более влажный и мягкий: лето не очень жаркое, а зимы достаточно мягкие. В центральных районах  климат резко континентальный и засушливый; в горных районах – довольно сухой, но в горах Селкирка часто бывают дожди, снегопады. Средние температуры : в январе – от -35 С на севере до +4 С на юге, в июле – от +4 С на островах Канадского Арктического архипелага до +21 С на юге. Годовое количество осадков распределяется по стране  неравномерно :  на севере выпадает 150 мм, в центре страны– 250  - 400 мм, на восточном побережье – 1250 мм,   на  западном – 2500 м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 rot="21003600">
            <a:off x="9360" y="403200"/>
            <a:ext cx="478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ИМАТ.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>
            <a:off x="795672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0:39Z</dcterms:created>
  <dc:creator>*</dc:creator>
  <dc:description/>
  <dc:language>en-US</dc:language>
  <cp:lastModifiedBy>Болотников А.В.</cp:lastModifiedBy>
  <dcterms:modified xsi:type="dcterms:W3CDTF">2008-05-24T14:42:06Z</dcterms:modified>
  <cp:revision>38</cp:revision>
  <dc:subject/>
  <dc:title>Слайд 1</dc:title>
</cp:coreProperties>
</file>