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4F11-9259-4EF1-9AE0-DCECA06B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E8B4-BFE4-4482-9D6C-AD4EA4AF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98B3-6D9F-43FA-96CC-89632E33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0778-44AE-4B4B-91BC-8FF66ED4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92C8-E077-484F-A702-68BA2D6E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CC4C-3C7E-4F63-B90C-7C67F2B2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5376-6535-4393-BA3F-C9006D2F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4435-6FDD-4123-9FAF-1A262537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E0CE-8438-4600-827A-8E5E20D7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0EDB-0DE3-43F3-8EFA-E47C9B24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FC1E-0BB4-45AC-BB4B-E6D40A1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8EFC-1E0B-412D-9349-5E2F6E8C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5BA3-01D1-4B3B-9EA1-7BD74BD0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0091-6D30-4C68-8C44-50FE8FBA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F968-EA8A-4366-ABC6-84B435AC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3FC2-7CF1-4CEA-BBE7-C4C58525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A381-F412-495D-A942-4A787A62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C577-7E29-4F78-BA8D-7E1B3E2D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03F4-2F4D-497B-A524-5900FAD8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E45EB-A41B-419A-936A-6A20F3A4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8DB1-074F-41D9-958E-DCAB855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B976-2277-4C15-9971-CE37A03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253A-CD15-4617-9678-3F3C14F9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24AA-5C3A-4D17-A1FB-99E7C5EF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656A-74F7-47B0-AD34-0BCD5BD001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3776-C894-468D-AAC2-76B094A928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Камерная и симфоническая музык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примере шедевров Бетхов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юдвиг Ван Бетхов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оды жизн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нтересные фрагменты жизненного пу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т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Юнос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блемы со здоровьем, неудачи в любв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Жизнеутверждающие проблемы композ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узыкальные шедев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744720" cy="46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514">
                <a:alpha val="50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51055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тство Бетхове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выми учениками были отец и де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шести лет очень много уделял внимания музыкальным упражн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одители хотели сделать из юного Бетховена второго Моца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ец жестоко обращался с сыном- заставлял заниматься даже ноч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Ю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ределяющим моментом в жизни Бетховена стала встреча с гениальным австрийским композитором Моцар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862280"/>
            <a:ext cx="3608280" cy="4303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Жизнеутверждающие моменты из жизни композито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 30 годам полностью потерял слу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дуг изменил жизнь компози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тховен продолжал сочинять музыку  и героически противостоять ударам судьб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разделенная любов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частья в любви композитору не удалось испытать из- за своего простого происхо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4719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узыкальные шедевры композито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мфоническая музыка – 5 симфония- посвящена меценатам- князю Лобковицу и графу Разумовском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мерная музыка « К Элизе»- знаменитая миниатюра, пьеса мечтательного и напевного характ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озитор посвятил произведение своей возлюбленной- Терезе Мальфат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75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6825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825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1055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575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05:36:16Z</dcterms:created>
  <dc:creator>ученик</dc:creator>
  <dc:description/>
  <dc:language>en-US</dc:language>
  <cp:lastModifiedBy>Андрей</cp:lastModifiedBy>
  <dcterms:modified xsi:type="dcterms:W3CDTF">2007-05-10T18:35:26Z</dcterms:modified>
  <cp:revision>21</cp:revision>
  <dc:subject/>
  <dc:title>Камерная и симфоническая музыка</dc:title>
</cp:coreProperties>
</file>