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08A9-C616-45BA-8DAC-FCCAF42C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8B1D-A824-464B-A13D-EA58553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69F1-1D76-4836-99D5-E73D3E87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7F49-BA8B-4F76-8D14-31A9D355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29BF-8E41-4FE4-BE8E-664062E8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774-8DE2-49A9-9A88-DE095514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C995-27F5-42DE-AFD7-D069417A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368-56A3-4447-A5FB-823333A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54B-9665-4ABC-AB3C-C2B64AA9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3E6-4F4A-48AC-A59E-A5261384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5D89-EE87-4319-82CE-33621056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A538-C51C-49D7-B10B-7F4CE69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0974-BBF1-49EE-B4C4-9978D42E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6ABA-33BC-4D67-8ACC-AEDA3AB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2939-B16E-4707-BE8B-C8E37D0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7FB-D065-41D1-9EFC-14E4E103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5619-1D7F-4EA6-95B7-E6FA018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DD05-F5E4-4904-9F22-DDED34F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1094-E500-4F1D-B27B-21D4C3F4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D011-FD98-43CD-8297-005C6B97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2248-6E73-419F-AA5C-D2F826D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DC30-1229-4978-A45B-59B291B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A456-3A4E-4CAE-9A00-08DC95F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CAE1-7EC4-441F-8238-FFDD490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797-6391-4372-A6A4-61959928D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BE60-D7EE-48B6-9708-41A42CA9A5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Камерная и симфоническая музык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примере шедевров Бетхов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юдвиг Ван Бетхов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оды жизн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нтересные фрагменты жизненного пу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т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Ю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блемы со здоровьем, неудачи в любв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Жизнеутверждающие проблемы композито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узыкальные шедев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7447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5105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ство Бетхове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ми учениками были отец и де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шести лет очень много уделял внимания музыкальным упражн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одители хотели сделать из юного Бетховена второго Моц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ец жестоко обращался с сыном- заставлял заниматься даже ноч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яющим моментом в жизни Бетховена стала встреча с гениальным австрийским композитором Моцар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62280"/>
            <a:ext cx="3608280" cy="43034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Жизнеутверждающие моменты из жизни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 30 годам полностью потерял слу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уг изменил жизнь композит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тховен продолжал сочинять музыку  и героически противостоять ударам судь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разделенная любов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частья в любви композитору не удалось испытать из- за своего простого происхо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47190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узыкальные шедевры композито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фоническая музыка – 5 симфония- посвящена меценатам- князю Лобковицу и графу Разумовско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мерная музыка « К Элизе»- знаменитая миниатюра, пьеса мечтательного и напевного характ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озитор посвятил произведение своей возлюбленной- Терезе Мальфат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75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825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825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1055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75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5:36:16Z</dcterms:created>
  <dc:creator>ученик</dc:creator>
  <dc:description/>
  <dc:language>en-US</dc:language>
  <cp:lastModifiedBy>Андрей</cp:lastModifiedBy>
  <dcterms:modified xsi:type="dcterms:W3CDTF">2007-05-10T18:35:26Z</dcterms:modified>
  <cp:revision>21</cp:revision>
  <dc:subject/>
  <dc:title>Камерная и симфоническая музыка</dc:title>
</cp:coreProperties>
</file>