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42FF6-7488-44F8-B542-E2865108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D856A-87E6-49FA-9F7F-66650E6F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3464-5D84-4229-AA3E-2307C075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14BB-81A3-47D1-BC8C-DEA693E0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606F-8A1B-4F23-A4B1-59F4AF60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69DB-1D0A-4BFA-8A82-E1438678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0CED-9F77-4F07-9C75-BC987A88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E54F-EC24-4B12-81CB-4827D5B9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E756-5625-4C5A-B558-E5725E2A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949B-434F-4A9A-A6C4-662F73FE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2F92-FA10-4DDE-ADEF-DFD62C44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1803-05BD-41A7-8DD0-3C4DF1D3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0189-9BAF-4CED-B55C-844DA628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46DE-63AD-4D7A-8B3C-C6BFF645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F467-79F6-4460-BC51-37745524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6B52-BC3F-45C2-8BA4-A17FCDE5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54FF-8845-4F85-870F-FD4D6CA5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E2769-D43B-4DBC-B83B-8BAEAED9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0D473-1CD0-4DED-9882-03D378CC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0689-BDF6-488B-A43B-23BF5FFF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EE27-B055-401E-B58C-3763A7D3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8E63-3282-49BA-A125-D662AEEA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71323-DCC1-4FF4-8838-75EFB0A9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5700-08A3-49BA-B7E9-F13F7312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8AFF-EF07-4A86-BCE2-EBF455FD1E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B828-4D07-463E-9D56-6D02BE5733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Камерная и симфоническая музыка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 примере шедевров Бетхов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юдвиг Ван Бетхове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оды жизн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нтересные фрагменты жизненного пу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етст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Юнос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облемы со здоровьем, неудачи в любв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Жизнеутверждающие проблемы композит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Музыкальные шедев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3744720" cy="4681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514">
                <a:alpha val="50000"/>
              </a:srgbClr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51055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етство Бетхове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ервыми учениками были отец и де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 шести лет очень много уделял внимания музыкальным упражн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одители хотели сделать из юного Бетховена второго Моцар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тец жестоко обращался с сыном- заставлял заниматься даже ноч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Юно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ределяющим моментом в жизни Бетховена стала встреча с гениальным австрийским композитором Моцарт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862280"/>
            <a:ext cx="3608280" cy="4303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Жизнеутверждающие моменты из жизни композито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 30 годам полностью потерял слу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дуг изменил жизнь композит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тховен продолжал сочинять музыку  и героически противостоять ударам судьб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разделенная любов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частья в любви композитору не удалось испытать из- за своего простого происхо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47190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Музыкальные шедевры композито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мфоническая музыка – 5 симфония- посвящена меценатам- князю Лобковицу и графу Разумовском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мерная музыка « К Элизе»- знаменитая миниатюра, пьеса мечтательного и напевного характ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озитор посвятил произведение своей возлюбленной- Терезе Мальфат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575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6825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825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51055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575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05:36:16Z</dcterms:created>
  <dc:creator>ученик</dc:creator>
  <dc:description/>
  <dc:language>en-US</dc:language>
  <cp:lastModifiedBy>Андрей</cp:lastModifiedBy>
  <dcterms:modified xsi:type="dcterms:W3CDTF">2007-05-10T18:35:26Z</dcterms:modified>
  <cp:revision>21</cp:revision>
  <dc:subject/>
  <dc:title>Камерная и симфоническая музыка</dc:title>
</cp:coreProperties>
</file>