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461-3D38-47B8-8F44-83421905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EF0-5507-48AB-A302-2FB24EF5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135-DF6C-4665-A615-858B12BA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8DA-C685-4E13-AA8E-67BD5474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7EC3-4250-4C6D-82D2-9164CE99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6AC0-B1F0-4404-A824-0BC7E8AE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27BA-6BC4-431E-9E58-727ED586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7B8F-6A6D-4A53-857E-FF5D82D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79A6-04C3-4A11-9027-6B6771C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DDC2-CFEA-4A3F-B2FA-7D373A4D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5DFC-7A68-45C2-BC55-56D7BE80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A80-6106-4C22-B567-9D0F72F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3DBE-64F6-41FD-A2E5-83926C6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D46-1B04-465C-8854-6F7ABAB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7B2E-B42D-4DE4-BBAF-597AA6DB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5E31-2A05-4146-B44B-DBD9CE9A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5A75-354C-43AD-B2A5-6EE39A78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BAA-75FB-482D-95B4-1EE89921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5E4-1CAF-47B4-992F-BDACAC7F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6F1-E943-42B9-9B15-E627DC01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B72-996A-4C2A-B93D-8CCED74C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E63-AD76-427B-A25D-0DECE3A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DA9-352D-46BE-913B-3899DA7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9A8-D2C4-43F2-BCBB-2FF87AF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3E8-648F-4C76-A244-FE2019B46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BCC-211E-46BF-86BA-692B892E0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Интеграционная модель образовательной среды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ритерии экспертизы образовательной сред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Педагог – «значимый другой»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92440"/>
            <a:ext cx="3166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дошкольный перио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(родитель)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школьнику  приобр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предметным мир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тоб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начальной школе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ладшим школьни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смог достичь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значимым взрослым 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другим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29480" y="1844640"/>
            <a:ext cx="350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начально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огает младшему школьнику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обрести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о взрослы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тобы 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в подрост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смог достич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 социумом  свер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01560" y="3357720"/>
            <a:ext cx="4453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основно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ростку  приобрести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 социумом сверстник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тобы то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старше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мо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ести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ю с гражданск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бще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определиться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авлением своего профессион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я и гражданской позиц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вопросу участия в жизни местного сообществ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9680" y="4365720"/>
            <a:ext cx="3550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старшей шко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едагог помог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ршекласснику  приобре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гражданским обществ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я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сво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будущ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фессиональным выб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амоопределением по отнош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воей малой Род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5489640"/>
            <a:ext cx="410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400" spc="-1" strike="noStrike" u="sng">
                <a:solidFill>
                  <a:srgbClr val="339933"/>
                </a:solidFill>
                <a:uFillTx/>
                <a:latin typeface="Arial"/>
              </a:rPr>
              <a:t>период профессионального обуч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 помогает студенту достич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коммуникативный комф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со сво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будущим (своей профессией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я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армонии со своим настоящ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осмысленным обучением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2349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27813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2920" y="3789360"/>
            <a:ext cx="115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5805360"/>
            <a:ext cx="86508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92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 гражданского образования у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Ценностные установ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578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симальный учет интересов и потребностей ребенка в социальном взрос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ребенком самого себя своими усил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ние свободы, активности и самостоятельности родовыми чертами человека и факторами его само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размерность права свободного выбора социальному опыту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згляд на самосознание и самодеятельность ребенка как на взаимосвязанные части его автоном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ерие взрослого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мократический стиль общения педагога с детьми, на стыке взаим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ение о педагоге как о «значимом другом»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субъектов гражданского образования (ребенок, педагог, школьное и местное сообществ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Субъектные отнош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аритетность интерес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зрачное правовое простран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ормы не запрещают, а предупреждаю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общении не пугать, а помогат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формы деятельности ребенка, детского коллектива и педагог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диагностики результа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ние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как система психолого-педагогической поддержки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социального взросления школьников предполагает: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ные цели и связанные с ними ценностные установ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 гражданского образования (ребенок, педагог, школьное и местное сообщест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ные отно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закономерностей социального взросления челове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еятельности ребенка, детского коллектива и педагог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педагога, направленную на погружение ребенка и детского коллектива в мир общественных отношений с учетом их «зоны ближайшего развития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 и детского коллектива в педагогически организованных общественных отношени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критерии диагностики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Критерии диагностики результатов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4 классы (сент. 2008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00000" y="1905120"/>
          <a:ext cx="6480360" cy="48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648036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Авторское педагогическое видение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образовательной среды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696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озда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дагогического сопровождения школьников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99"/>
                </a:solidFill>
                <a:latin typeface="Arial"/>
              </a:rPr>
              <a:t>обеспечивающей самоопределение и самореализацию учащихся в условиях дальневосточного региона и стран АТ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Критерии диагностики результатов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5 классы (сент. 2008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979640"/>
          <a:ext cx="820872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79640"/>
                    <a:ext cx="820872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Итого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03280" y="1812960"/>
          <a:ext cx="640872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12960"/>
                    <a:ext cx="640872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ыражается в классно-урочной систем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равлена на освоение школьниками федерального государственного стандарта среднего общего образования (начального основного и полного среднего уровней образования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ностно-ориентированные иде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ление межпредметных связей с целью повышения эффективности классно-урочной системы в процессе социального взросления школьник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ыстраивание вертикали обществоведческого образования с включением в нее специальных учебных курсов гражданской направле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ет возрастных физиологических особенностей и социальных интересов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едметная составляющая интеграционной систем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бное занятие предполага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60c4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еятельность педагога направленную на погружение ребенка и детского коллектива в мир гражданской культуры с учетом их «зоны ближайшего развития»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60c4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чебную и внеучебную самодеятельность ребенка, детского коллектива в педагогически организованном гражданском социокультурном пространств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отенциальной возможности образовательной среды в организации процесса самопознания и обретения школьниками социального опыта на договорной  основе за пределами классно-урочной системы достигается путем создания разнообразных социальных институт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детского самоуправ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чное общество учащих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енные детские и молодежные объедин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дополнительного образования и т.д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аждая ступень школьного образования обладает своими детскими социальными институтами, которые на последующей школьной ступени усложняются в своей организации,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школьные социальные институты создаются с учетом возрастных особенностей детей, предполагают соблюдение паритетности интересов и добровольность участ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оектная составляющая интеграционной 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никновения у школьников потребности к участию в разнообразных социально-значимых проектах учебной и внеучебной деятель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деятельности школьников по формулированию проектных целей и поиску способов их достиж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зентации школьниками готовых социально-значимых продукт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ганизации общественного признания результатов реализации детских проектов в учебной и внеучебной деятельности на разных уровнях (классного коллектива, школы, местного сообщества и т.д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2997360"/>
            <a:ext cx="769608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Что будем 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410c"/>
                </a:solidFill>
                <a:latin typeface="Arial Black"/>
              </a:rPr>
              <a:t>Способность к интеграции в мир общественных отношений на правах участника социального партнерств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99"/>
                </a:solidFill>
                <a:latin typeface="Arial"/>
              </a:rPr>
              <a:t>Мир поликультурен, поли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мение предвидеть возможные последствия от совершенного или только спланированного социального поступка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ритическое мышле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олерантность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жданское долженствовани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тветственность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331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Обретение личностью перечисленных выше гражданских новообразований осуществляется при соблюдении в общении с ним 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принципов социального партнерства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, среди которых можно отметить: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578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ние человека субъектом общественных отношений, т.е. признание участниками общественных отношений его обособленности, самостоятельности и правоспособ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знание за человеком как субъектом общественных отношений права на свободный выб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вольное признание человеком своей обязанностью сохранение обособленности, самостоятельности и правоспособности другого субъекта общественных отноше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овольное признание человеком за другим субъектом общественных отношений права на свободный выбор;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ные принципы могут рассматриваться частью ценностного поля культуры гражданского общества. Соблюдение участниками общественных отношений  принципов социального партнерства обеспечивает сохранение паритетности интересов в гражданском обще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80000" y="112536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060640"/>
            <a:ext cx="259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Verdana"/>
              </a:rPr>
              <a:t>ОБОСОБ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ормирующаяся в процесс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индивидуализации в ви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«образа Я» и жизненн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о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2060640"/>
            <a:ext cx="215892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Verdana"/>
              </a:rPr>
              <a:t>САМОСТО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снованная на его праве быть субъектом свои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ей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оявляется в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2060640"/>
            <a:ext cx="302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Verdana"/>
              </a:rPr>
              <a:t>ПРАВО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родовая черта человек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ыраженная в его право-вой защищенности со стороны «системного  мира» (школы, общества, государства) от посягательства на 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рава (возможности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других субъ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общественных отнош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620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ность 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нтеграции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ир обществен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равах участника социального партн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Закономерности социального взросления человек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циальное партнер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становится нормой для общественных отношений в школьном сообщест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 бо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оздаются благоприятные услов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для овладения школьниками способностью к интеграции в мир общественных отношений на правах участника социального партне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в образовательном учреждении будут созда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словия для персонификации л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школьник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успешно сформирует свою гражданскую идентич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в процессе социального взрос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более процесс взаимодействия детей со значимым другим (педагогом) будет происходить в 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«зоне ближайшего развития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тем 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ерсонификация личности будет ускорять</a:t>
            </a:r>
            <a:r>
              <a:rPr b="0" lang="en-US" sz="2000" spc="-1" strike="noStrike">
                <a:solidFill>
                  <a:srgbClr val="b8410c"/>
                </a:solidFill>
                <a:latin typeface="Arial"/>
              </a:rPr>
              <a:t> процесс обретения  школьниками способности к интеграции в мир общественных отношений на правах участника социального партне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2133720"/>
            <a:ext cx="1656000" cy="143964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Я </a:t>
            </a:r>
            <a:r>
              <a:rPr b="0" lang="en-US" sz="3300" spc="-1" strike="noStrike">
                <a:solidFill>
                  <a:srgbClr val="f60c44"/>
                </a:solidFill>
                <a:latin typeface="Arial Black"/>
              </a:rPr>
              <a:t>субъект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общественных отношен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6989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18000" y="21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800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1800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8164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800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1120" y="3562200"/>
            <a:ext cx="47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Целостное самосозн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9040" y="2944800"/>
            <a:ext cx="42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Развитие талантов и способн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1520" y="2133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улирование жизн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/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11480" y="38084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ризис со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убъек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3528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573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40360" y="2923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9242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59280" y="21337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13372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2781360"/>
            <a:ext cx="36036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332000" y="2420640"/>
            <a:ext cx="503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85264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35120" y="493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800" y="44370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с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5440" y="4437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персон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465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9960" y="4797360"/>
            <a:ext cx="780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ражданств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ажает достижение ребенком гармонии меж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ым «хочу» и общественным «над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авосубъек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авторство ребенка в договорных и прав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 Black"/>
              </a:rPr>
              <a:t>Принципы персонификац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1017000" y="1911240"/>
            <a:ext cx="456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сониз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бенок – о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лушность – условие успеш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язан – дол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ймать и на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9680" y="3979800"/>
            <a:ext cx="399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Персониф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Ребенок –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аво свободного вы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Право – дол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явить и пом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1:00:03Z</dcterms:created>
  <dc:creator>NoName</dc:creator>
  <dc:description/>
  <dc:language>en-US</dc:language>
  <cp:lastModifiedBy>Skif</cp:lastModifiedBy>
  <dcterms:modified xsi:type="dcterms:W3CDTF">2011-06-20T05:02:30Z</dcterms:modified>
  <cp:revision>5</cp:revision>
  <dc:subject/>
  <dc:title>Слайд 1</dc:title>
</cp:coreProperties>
</file>