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B83-BF61-432C-AA4A-0E23A3D6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756-8322-41BF-8AA5-ABE5F47C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3DC-7F08-41B0-BFB9-4BCFF631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CE2-C346-4B70-9E23-46950515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1B9F-638C-4F02-8157-EED70B30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0F00-54FB-4126-9477-7383FFB2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5DD6-53A7-4329-81A5-91321F76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538D-ABB0-4EDD-8636-95472154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3C12-CBBC-44DD-9E74-D58C5791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CB45-81A4-4B2D-B332-91589535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D0E5-609F-493B-ADEA-CED367F9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2B1-EB94-49AD-8C31-8A8A456A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DE46-2443-4FA1-AB77-472E01F7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84F7-023D-4654-802E-69EB8990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E6F4-F6D5-453F-884A-A68B7581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8811-2D11-4437-8042-A0DF4113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855C-7AAA-40B4-80AB-3F988279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150-C3B0-4562-8615-CDB17C18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75D-D4CB-4075-AF45-856E6975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BC0-0BDA-41D8-96FE-9A70FE16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3C4-D612-4956-81E4-B8427CEE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0DD-6809-41E6-B6DB-4D90869C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4B6-C87C-42E5-B438-F76B9E18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4E9-6FA2-429C-95C7-FEB49AB4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4C90-F07E-41BB-9A54-25139F879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3FD4-05F0-4035-BF74-A076C2244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Интеграционная модель образовательной среды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Критерии экспертизы образовательной среды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Закономерности социального взросления челове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циальное партнер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становится нормой для общественных отношений в школьном сообщест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здаются благоприятные услов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для овладения школьниками способностью к интеграции в мир общественных отношений на правах участника социального партнерств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в образовательном учреждении будут созда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словия для персонификации л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лов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школьник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успешно сформирует свою гражданскую идентич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в процессе социального взрос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процесс взаимодействия детей со значимым другим (педагогом) будет происходить в 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«зоне ближайшего развития»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ерсонификация личности будет ускорять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 процесс обретения  школьниками способности к интеграции в мир общественных отношений на правах участника социального партне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Black"/>
              </a:rPr>
              <a:t>Педагог – «значимый другой»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792440"/>
            <a:ext cx="3166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дошкольный перио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едагог (родитель) помог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школьнику  приобре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предметным мир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чтоб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начальной школе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а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ладшим школьник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 смог достичь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и с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значимым взрослым и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другим ребе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29480" y="1844640"/>
            <a:ext cx="350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начальной шко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едаг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могает младшему школьнику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обрести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со взрослы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чтобы 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ав подростк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смог достич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и с социумом  свер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01560" y="3357720"/>
            <a:ext cx="4453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основной шко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едагог помог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ростку  приобрести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с социумом сверстник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тобы то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старшей шко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м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ести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ю с гражданск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обществ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определиться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равлением своего профессиона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зования и гражданской позици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вопросу участия в жизни местного сообществ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9680" y="4365720"/>
            <a:ext cx="3550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старшей шко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едагог помог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аршекласснику  приобре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с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гражданским обществ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стижения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и со сво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будущ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рофессиональным выбор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самоопределением по отнош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своей малой Род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5489640"/>
            <a:ext cx="4103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период профессионального обуче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 помогает студенту достич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со сво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будущим (своей профессией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стижения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и со своим настоящ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осмысленным обучением профе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2349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72000" y="2781360"/>
            <a:ext cx="216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2920" y="3789360"/>
            <a:ext cx="1152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5805360"/>
            <a:ext cx="865080" cy="1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92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 гражданского образования (ребенок, педагог, школьное и местное сообщест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еятельности ребенка, детского коллектива и педаго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диагностики результатов гражданского образования у школь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 Black"/>
              </a:rPr>
              <a:t>Ценностные установк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578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ксимальный учет интересов и потребностей ребенка в социальном взрос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ребенком самого себя своими усил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ние свободы, активности и самостоятельности родовыми чертами человека и факторами его само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размерность права свободного выбора социальному опыту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згляд на самосознание и самодеятельность ребенка как на взаимосвязанные части его автономно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верие взрослого к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мократический стиль общения педагога с детьми, на стыке взаимных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ение о педагоге как о «значимом другом»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субъектов гражданского образования (ребенок, педагог, школьное и местное сообществ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еятельности ребенка, детского коллектива и педаго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диагностики результа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 Black"/>
              </a:rPr>
              <a:t>Субъектные отнош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аритетность интерес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зрачное правовое пространств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ормы не запрещают, а предупреждаю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 общении не пугать, а помогат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 гражданского образования (ребенок, педагог, школьное и местное сообщест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еятельности ребенка, детского коллектива и педаго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диагностики результа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 гражданского образования (ребенок, педагог, школьное и местное сообщест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формы деятельности ребенка, детского коллектива и педагог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диагностики результа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 гражданского образования (ребенок, педагог, школьное и местное сообщест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еятельности ребенка, детского коллектива и педаго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критерии диагностики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Критерии диагностики результатов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4 классы (сент. 2008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00000" y="1905120"/>
          <a:ext cx="6480360" cy="48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05120"/>
                    <a:ext cx="648036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Авторское педагогическое видение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тельной среды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6964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оздани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истемы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едагогического сопровождения школьников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99"/>
                </a:solidFill>
                <a:latin typeface="Arial"/>
              </a:rPr>
              <a:t>обеспечивающей самоопределение и самореализацию учащихся в условиях дальневосточного региона и стран АТ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Критерии диагностики результатов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5 классы (сент. 2008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979640"/>
          <a:ext cx="820872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79640"/>
                    <a:ext cx="820872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Итого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03280" y="1812960"/>
          <a:ext cx="640872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12960"/>
                    <a:ext cx="640872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едметная составляющая интеграционной систем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ыражается в классно-урочной систем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правлена на освоение школьниками федерального государственного стандарта среднего общего образования (начального основного и полного среднего уровней образования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едметная составляющая интеграционной систем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енностно-ориентированные иде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овление межпредметных связей с целью повышения эффективности классно-урочной системы в процессе социального взросления школьник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страивание вертикали обществоведческого образования с включением в нее специальных учебных курсов гражданской направл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чет возрастных физиологических особенностей и социальных интересов школь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едметная составляющая интеграционной систем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чебное занятие предполагае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60c4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еятельность педагога направленную на погружение ребенка и детского коллектива в мир гражданской культуры с учетом их «зоны ближайшего развития»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60c4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, детского коллектива в педагогически организованном гражданском социокультурном пространств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оектная составляющая интеграционной модел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потенциальной возможности образовательной среды в организации процесса самопознания и обретения школьниками социального опыта на договорной  основе за пределами классно-урочной системы достигается путем создания разнообразных социальных институ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детского самоуправ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учное общество учащих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енные детские и молодежные объеди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дополнительного образования и т.д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оектная составляющая интеграционной модел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каждая ступень школьного образования обладает своими детскими социальными институтами, которые на последующей школьной ступени усложняются в своей организации,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школьные социальные институты создаются с учетом возрастных особенностей детей, предполагают соблюдение паритетности интересов и добровольность участ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оектная составляющая интеграционной модел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зникновения у школьников потребности к участию в разнообразных социально-значимых проектах учебной и внеучебной деятельн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одеятельности школьников по формулированию проектных целей и поиску способов их достиже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зентации школьниками готовых социально-значимых продукт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рганизации общественного признания результатов реализации детских проектов в учебной и внеучебной деятельности на разных уровнях (классного коллектива, школы, местного сообщества и т.д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2120" y="2997360"/>
            <a:ext cx="7696080" cy="29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Что будем дел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Закономерности социального взросления челове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циальное партнер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становится нормой для общественных отношений в школьном сообщест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здаются благоприятные услов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для овладения школьниками способностью к интеграции в мир общественных отношений на правах участника социального партнерств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в образовательном учреждении будут созда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словия для персонификации л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лов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школьник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успешно сформирует свою гражданскую идентич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в процессе социального взрос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процесс взаимодействия детей со значимым другим (педагогом) будет происходить в 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«зоне ближайшего развития»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ерсонификация личности будет ускорять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 процесс обретения  школьниками способности к интеграции в мир общественных отношений на правах участника социального партне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5331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410c"/>
                </a:solidFill>
                <a:latin typeface="Arial Black"/>
              </a:rPr>
              <a:t>Способность к интеграции в мир общественных отношений на правах участника социального партнерства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Arial"/>
              </a:rPr>
              <a:t>Мир поликультурен, поли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мение предвидеть возможные последствия от совершенного или только спланированного социального поступка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ритическое мышлени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олерантность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ражданское долженствовани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тветственност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5331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Обретение личностью перечисленных выше гражданских новообразований осуществляется при соблюдении в общении с ним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принципов социального партнерства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, среди которых можно отметить: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578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знание человека субъектом общественных отношений, т.е. признание участниками общественных отношений его обособленности, самостоятельности и правоспособ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знание за человеком как субъектом общественных отношений права на свободный выбор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бровольное признание человеком своей обязанностью сохранение обособленности, самостоятельности и правоспособности другого субъекта общественных отноше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бровольное признание человеком за другим субъектом общественных отношений права на свободный выбор;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ные принципы могут рассматриваться частью ценностного поля культуры гражданского общества. Соблюдение участниками общественных отношений  принципов социального партнерства обеспечивает сохранение паритетности интересов в гражданском общест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80000" y="112536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060640"/>
            <a:ext cx="2592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Verdana"/>
              </a:rPr>
              <a:t>ОБОСОБ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родовая черта челове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ормирующаяся в процесс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индивидуализации в ви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«образа Я» и жизненног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о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2060640"/>
            <a:ext cx="215892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Verdana"/>
              </a:rPr>
              <a:t>САМОСТО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родовая черта челове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основанная на его праве быть субъектом свои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ейств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оявляется в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2060640"/>
            <a:ext cx="302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Verdana"/>
              </a:rPr>
              <a:t>ПРАВОСПОСОБ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родовая черта человек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ыраженная в его право-вой защищенности со стороны «системного  мира» (школы, общества, государства) от посягательства на 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ава (возможности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ругих субъе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общественных отнош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6206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особность 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нтеграции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ир обществен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равах участника социального партн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Закономерности социального взросления человека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циальное партнер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становится нормой для общественных отношений в школьном сообщест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здаются благоприятные услов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для овладения школьниками способностью к интеграции в мир общественных отношений на правах участника социального партнерств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в образовательном учреждении будут созда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словия для персонификации л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лов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школьник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успешно сформирует свою гражданскую идентич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в процессе социального взрос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процесс взаимодействия детей со значимым другим (педагогом) будет происходить в 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«зоне ближайшего развития»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ерсонификация личности будет ускорять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 процесс обретения  школьниками способности к интеграции в мир общественных отношений на правах участника социального партне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47640" y="2133720"/>
            <a:ext cx="1656000" cy="1439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Я </a:t>
            </a:r>
            <a:r>
              <a:rPr b="0" lang="en-US" sz="3300" spc="-1" strike="noStrike">
                <a:solidFill>
                  <a:srgbClr val="f60c44"/>
                </a:solidFill>
                <a:latin typeface="Arial Black"/>
              </a:rPr>
              <a:t>субъект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общественных отношени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6989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18000" y="21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1800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18000" y="31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8164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1800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1120" y="3562200"/>
            <a:ext cx="47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Целостное самосозн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/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9040" y="2944800"/>
            <a:ext cx="42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Развитие талантов и способност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/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1520" y="213372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Формулирование жизн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о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/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11480" y="380844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Кризис соци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убъек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635280" y="3573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3573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140360" y="2923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2924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859280" y="21337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213372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332000" y="2781360"/>
            <a:ext cx="36036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332000" y="2420640"/>
            <a:ext cx="503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2852640"/>
            <a:ext cx="43164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2781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2781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35120" y="4930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9800" y="44370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с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5440" y="44370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персон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465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9960" y="4797360"/>
            <a:ext cx="780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Гражданств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ажает достижение ребенком гармонии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ым «хочу» и общественным «над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авосубъект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авторство ребенка в договорных и прав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 Black"/>
              </a:rPr>
              <a:t>Принципы персонификаци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1017000" y="1911240"/>
            <a:ext cx="4565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сониз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бенок – о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слушность – условие успеш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язан – дол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ймать и наказ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39680" y="3979800"/>
            <a:ext cx="399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ерсонифик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Ребенок – су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Право свободного вы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Право – дол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Выявить и помо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21:00:03Z</dcterms:created>
  <dc:creator>NoName</dc:creator>
  <dc:description/>
  <dc:language>en-US</dc:language>
  <cp:lastModifiedBy>Skif</cp:lastModifiedBy>
  <dcterms:modified xsi:type="dcterms:W3CDTF">2011-06-20T05:02:30Z</dcterms:modified>
  <cp:revision>5</cp:revision>
  <dc:subject/>
  <dc:title>Слайд 1</dc:title>
</cp:coreProperties>
</file>