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FDD-61E0-4167-B241-00DE479751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599-C307-4725-87F4-34A08B8EE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014-B6E3-4904-B452-D02313CA7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C5AC-7C73-4A05-A735-A9AE77A31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1E35-7AE1-4DC6-9C74-D7E3EED5D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0377-55D0-40F6-986D-860189A7E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A10-CACD-478A-974B-194512222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CEF1-635B-48BC-91D8-771CE64A7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433-406C-4763-93D7-D02E63BE2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6459-CA81-4787-A16A-AAC8815E2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FCC-DDBA-4574-BEE8-A65B10A93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586B-3DD9-4B75-BE84-ADA39D80B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346C-D3BA-4E62-B14F-2159C0D85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AE8-682F-44FC-B708-4DEDAB101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028B-550F-4416-9715-E7D474C7D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F86B-410B-430E-8312-E46160F28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26A0-AD8B-43B4-95A1-7702EB5CF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7B4E-954F-428F-8CFB-A8C529933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D92-035B-4A6C-BE21-830986C2D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1A0E-F63E-4CC9-A18D-6667A8BF1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4E14-BE07-4D32-AA11-0EB9D94AE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F4D-610C-42AB-A97C-9FC9E7E99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B86-9EA4-4458-A59C-5D1FFB8F9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6AF6-5CEE-4D76-80D4-F42ECE850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F9C-6496-4299-932D-632E6762B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C522-DB03-4910-93D0-C2EA0795A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E67-9F73-4002-AA6B-AB112429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530-8828-465C-ACF7-55CD3EF1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048-5D22-4DC3-A293-8754E81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74B-C66B-4631-B988-F9CADF86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396E-1501-4A02-AE6B-C0505912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CD8D-3E3C-40EC-BA60-EC94EBC4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FE83-F683-4FDD-9CC0-5375260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B8E9-D126-4DF8-B7FE-3382225E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9FDB-39BE-4459-9C09-DA3845F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5250-09A2-4B3E-A87B-222CE987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BAE5-B682-49D0-AF30-517D3C4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D67-25A9-4CBA-84D5-231C2D6A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497-D075-4913-BBAE-538C20A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A857-6DBE-4742-BE5E-35CCF11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C205-303B-4E7B-BCAF-CCCD0267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D27E-627C-45DD-BD76-97046626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BEF9-0F24-49A7-B15A-B48CB17C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53F-3842-4BAA-9C2A-0C09534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425-9614-48DD-B32B-8332C115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36B-E717-465C-A2E9-694CEAC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776-66AA-4DAA-9904-4D715806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6E8-F914-44C8-8C41-FC0D543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D4B-0F05-4D45-99B2-F9320D0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B0B-473D-48B1-9D25-DCA4614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D9E6-A64F-47FD-A006-C8146D7E7AEC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55A-3CCA-4396-8CCC-B8B2CDD7FD9C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/>
          <p:cNvSpPr/>
          <p:nvPr/>
        </p:nvSpPr>
        <p:spPr>
          <a:xfrm>
            <a:off x="1857240" y="16430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Готовимся к ЕГЭ по рус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2143080" y="2286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Stencil"/>
              </a:rPr>
              <a:t>Учебный тренажёр и проверочн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Stencil"/>
              </a:rPr>
              <a:t>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tenci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Stencil"/>
              </a:rPr>
              <a:t>Выполнение заданий част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G:\sova_2_1.png"/>
          <p:cNvPicPr/>
          <p:nvPr/>
        </p:nvPicPr>
        <p:blipFill>
          <a:blip r:embed="rId6"/>
          <a:srcRect l="13776" t="9726" r="13062" b="7849"/>
          <a:stretch/>
        </p:blipFill>
        <p:spPr>
          <a:xfrm>
            <a:off x="3857760" y="3429000"/>
            <a:ext cx="1143000" cy="16444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"/>
          <p:cNvSpPr/>
          <p:nvPr/>
        </p:nvSpPr>
        <p:spPr>
          <a:xfrm>
            <a:off x="228600" y="152280"/>
            <a:ext cx="8478720" cy="18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7.  Укажите верную характеристику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Эмоции, ощущения только  окрашивают то, что мы думаем, или подталкивают мысль в каком-то отношении, но мысли наши все формулируются яз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990720" y="1600200"/>
            <a:ext cx="7273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е с бессоюзной и союзной сочинитель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57200" y="1828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е с союзной подчинительной и сочинитель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8381880" y="1828800"/>
            <a:ext cx="304920" cy="304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Укажите правильную морфологическую характеристику слова ВАЖНЕЙШИЙ из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imes New Roman"/>
              </a:rPr>
              <a:t>Важнейший способ узнать человека – прислушаться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прилагательное в сравнительной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прилагательное в превосходной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е 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9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 варианте ответа правильно указаны все цифры, на месте которых пишется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6422"/>
                </a:solidFill>
                <a:latin typeface="Tahoma"/>
              </a:rPr>
              <a:t>А. устра…вать   Б.кольц…вой     В. засушл…вый     Г. ноч…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99072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89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7"/>
          <p:cNvSpPr/>
          <p:nvPr/>
        </p:nvSpPr>
        <p:spPr>
          <a:xfrm>
            <a:off x="228600" y="228600"/>
            <a:ext cx="8478720" cy="174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10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варианте ответа правильно указаны все цифры, на месте которых пишется И?   </a:t>
            </a:r>
            <a:r>
              <a:rPr b="1" lang="ru-RU" sz="2000" spc="-1" strike="noStrike">
                <a:solidFill>
                  <a:srgbClr val="546422"/>
                </a:solidFill>
                <a:latin typeface="Tahoma"/>
              </a:rPr>
              <a:t>Какую бы профессию в своей жизни вы бы н(1) избрали, словари во что бы то н(2) стало должны стать вашими помощниками. Ведь н(3) одна книга н(4) несёт в себе столько новых сведений, как слов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1066680" y="2666880"/>
            <a:ext cx="719784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45720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45720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4572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1066680" y="3505320"/>
            <a:ext cx="71964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1066680" y="4495680"/>
            <a:ext cx="71964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990720" y="5486400"/>
            <a:ext cx="72723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8381880" y="2743200"/>
            <a:ext cx="4366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8458200" y="3657600"/>
            <a:ext cx="30492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8458200" y="4648320"/>
            <a:ext cx="3808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8381880" y="5791320"/>
            <a:ext cx="43668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31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7"/>
          <p:cNvSpPr/>
          <p:nvPr/>
        </p:nvSpPr>
        <p:spPr>
          <a:xfrm>
            <a:off x="304920" y="228600"/>
            <a:ext cx="84024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1. В каком предложении оба слова пишутся раздельно?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вы ни делали, чем(бы) ни занимались, вам всегда понадобится умный и верный помощник-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смотря на свою страшную слабость, он продолжал ещё ползти (в)течение нескольких минут, пока не потерял созн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)продолжении повести мы познакомились с новыми героями, а так(же) узнали о  дальнейшей судьбе известных персона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еками и озёрами происходит то(же) самое, что и с морями: они исчезают. Горы так(же) не остаются неизм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2.Укажите правильное объяснение постановки запятой или её отсутствия в предложении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Зима была снежная (…) и нужно было подготовиться заранее к ожидаемому весеннему половод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 предложение, перед союзом И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 предложение, перед союзом И не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 с однородными членами, перед союзом И запятая не ну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 с однородными членами, перед союзом И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7"/>
          <p:cNvSpPr/>
          <p:nvPr/>
        </p:nvSpPr>
        <p:spPr>
          <a:xfrm>
            <a:off x="228600" y="228600"/>
            <a:ext cx="8478720" cy="167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3.В каком варианте ответа правильно указаны все цифры, на месте которых в предложении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Книги Н.Островского (1) забрызганные кровью  и (2) простреленные пулями (3) были переданы музею (4) носившему его имя (5) друзьями погибших во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457200" y="1905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99072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990720" y="1600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7"/>
          <p:cNvSpPr/>
          <p:nvPr/>
        </p:nvSpPr>
        <p:spPr>
          <a:xfrm>
            <a:off x="228600" y="228600"/>
            <a:ext cx="84787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4.В каком варианте ответа правильно указаны все цифры, на месте которых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Матвей Лозинский (1) разумеется (2) не знал ещё (3) к своему несчастью (4) местных обыча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4"/>
          <p:cNvSpPr/>
          <p:nvPr/>
        </p:nvSpPr>
        <p:spPr>
          <a:xfrm>
            <a:off x="990720" y="5181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101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 этом году тебе предстоит сдавать 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деемся, что эти занятия помогут тебе успешно подготовиться к  экзамену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7"/>
          <p:cNvSpPr/>
          <p:nvPr/>
        </p:nvSpPr>
        <p:spPr>
          <a:xfrm>
            <a:off x="304920" y="30492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5. Укажите предложение, в котором надо поставить одну запят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99072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ы в Лондоне бывают если не каждый день то через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и животные пытались спастись от потоков воды и свирепого ветра и метались в поисках подходящего убеж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ерила гаданьям простонародной старины и снам и карточным гаданьям и предсказаниям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5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гай этот был склочной и крикливой птицей и в течение месяца отравлял жизнь своему хозяину и всему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6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Как объяснить постановку двоеточия в данном предложении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Пополз я по густой траве вдоль по оврагу, смотрю: лес кончился, несколько казаков выезжают из него на поля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дополняет содержание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содержит вывод по отношению к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часть бессоюзного сложного предложения указывает на время совершения того, о чём говорится во втор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7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варианте ответа правильно указаны все цифры, на месте которых в предложении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Слепой знал (1) что в комнату смотрит солнце и (2) что (3) если он протянет руку в окно (4) то с кустов посыплется рос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06668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9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/>
          <p:cNvSpPr/>
          <p:nvPr/>
        </p:nvSpPr>
        <p:spPr>
          <a:xfrm>
            <a:off x="1066680" y="1600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9"/>
          <p:cNvSpPr/>
          <p:nvPr/>
        </p:nvSpPr>
        <p:spPr>
          <a:xfrm>
            <a:off x="8458200" y="2971800"/>
            <a:ext cx="36036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0"/>
          <p:cNvSpPr/>
          <p:nvPr/>
        </p:nvSpPr>
        <p:spPr>
          <a:xfrm>
            <a:off x="8458200" y="1905120"/>
            <a:ext cx="36036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7"/>
          <p:cNvSpPr/>
          <p:nvPr/>
        </p:nvSpPr>
        <p:spPr>
          <a:xfrm>
            <a:off x="228600" y="228600"/>
            <a:ext cx="8478720" cy="106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8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предложении придаточную часть СПП нельзя заменить обособленным определением, выраженным причастным обор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, в котором было много грибов, находился недалеко от наше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990720" y="3657600"/>
            <a:ext cx="72738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 жизнь людей искусства кажется сплошным праздником, а на самом деле любимая работа для них – огромный труд, который требует терпения, выдержки и упо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страшным для подпольщиков была измена Павлова- человека, который казался абсолютно надёж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и, которые развевались над домами, придавали городу праздни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9.В каком ряду во всех словах пропущена безударная </a:t>
            </a:r>
            <a:r>
              <a:rPr b="1" lang="ru-RU" sz="2400" spc="-1" strike="noStrike">
                <a:solidFill>
                  <a:srgbClr val="7e9632"/>
                </a:solidFill>
                <a:latin typeface="Tahoma"/>
              </a:rPr>
              <a:t>проверяемая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гласная кор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…сение, присоед…ниться, вы…с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гл…димое, пл…вчиха, впеч…т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…жать, д…легация, оч…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…лчать, з…рница, разг…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10.В каком ряду во всех словах пропущена буква 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…шь, зави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…шься, обид…вш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…шь, удосто…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…мся, выкра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515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0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>
            <a:off x="285840" y="5000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2. Если ты выбрал правильный ответ, появится     «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люс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3. Если ты выбрал неверный ответ, появится «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инус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1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1.  В каком  слове верно выделена буква, обозначающая ударный гласный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де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2.  В каком предложении вместо слова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ЕДИНСТВЕННЫЙ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нужно употребить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ЕДИНИЧНЫЙ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990720" y="1295280"/>
            <a:ext cx="72723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д тому назад у него умер единственный сын, это так его поразило, что вскоре старик сам заболел и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й вечер в Сокольниках»-единственный пейзаж Левитана, где присутству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радость для меня –  это общение с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990720" y="5013360"/>
            <a:ext cx="7273800" cy="115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блюдали нарушение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. К сожалению, этот случай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3.  Укажите пример с ошибкой в образовании формы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мыть) шампу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чу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91440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мед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вухсот двадцати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152280" y="228600"/>
            <a:ext cx="85550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0505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Укажите грамматически правильное продолжени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Отправившись в туристический по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стретилось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встречали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м понрав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990720" y="4952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ось испытать много труд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9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5. 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Какие слова являются грамматической основой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Это надо понять досконально, во всей многозначности и многозначительности этого ф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онять доск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1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7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6.  Укажите предложение с грамматической ошибкой (с нарушением синтаксической нор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99072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ит зайти в любую из церквей Венеции, попросить служителя зажечь свечи, и из тьмы выступят великолепные краски старинных поло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ночь безостановочно, с тупым упрямством, не сворачивая с опасных дорог, пробивался я к сев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рмской губернии идёт превосходная широкая дорога, давно наезженная и которую я видел до этого времени только раз в м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так полюбил Никиту, что, когда тот уходил куда-нибудь, зверь тревожно нюхал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Юрий</cp:lastModifiedBy>
  <dcterms:modified xsi:type="dcterms:W3CDTF">2011-12-13T14:13:29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