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13F8-6250-416E-AA5C-2A4572A6B1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CBFB-8714-4C17-B8D0-9CD83E198C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E5A1-5505-4DC6-9489-BC1DFAF449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F5F2-7B9C-40D6-85E0-BEE4CE2FC1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9CA8-A968-4AED-B7C8-43F02B0F7C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23D6-BB54-4F94-88B3-599EC595C9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B657-F5D1-4486-B853-2AD694CF7C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C747-FFF5-437F-92B4-F0CEA055E7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16F0-6B4A-4FCA-BA35-37E55A1CD3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6753-B020-46EF-99C3-96BDAE1D1E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1300-C378-4B85-9469-98CB3F7B9C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5B52-C43A-46A5-BDCA-83431E8D56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7824-E9D4-434A-868C-A6EB3B5E9F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CABA-90E5-4925-B6E5-D1AD01AE90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4515-0924-47F8-908A-2713617249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F793-1622-408F-8B9D-E260D39CB6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42D8-124B-4F4B-AFAB-A028902FAB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A4B5-33AD-40A9-9FF0-76028B18F9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F3DD-D98D-4147-B089-A8AC83D1DA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B90A-871C-421F-B4CA-F5BD0F49F8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1F8E-F0F4-43D2-A255-86600EECDC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27F6-DB61-449C-90A3-E5DB85D748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87BC-5B3A-4534-B1FE-A30B95A0A2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5DF6-2752-457D-AA9B-EE1F33CF77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4DD4-CF84-460F-A16D-87EB8CF4C6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167B-8A6B-4827-B2BD-6F62F475B1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734-9592-4A68-98A3-A0A89303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5F9-22B1-491F-873C-277C7006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23C-81F7-4923-BB69-F23B9FB2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CF9-1674-49E5-B0F0-0365038F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FBB1-2021-45A7-9C13-CF03C24A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9927-38F3-47A4-89F4-C3DCDF8E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8085-1F93-4EE9-AC83-5C3EDB92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4238-EE8A-4603-A29B-D40CDEDD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C494-1155-4DE1-8302-059BFFD4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5E62-4EE5-4509-92EE-1FF93952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B560-D123-466F-BB3B-69ED06DF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62A-C8BA-479F-B52D-01A4FC50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AD1D-4136-4B4F-AE6E-BE96B0F0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385B-B472-4632-BF54-4A34E074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F14E-AC7E-485C-A172-C9A47EEE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7CF9-6CBD-48E9-9926-095DDE60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09F8-16F9-4335-8447-6785F2D3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C9B9-989C-4C42-B367-5C5E87EB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843-B4FD-4B10-90D9-505514FE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42B-5982-4689-93E1-7E14CCB7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CE82-2DCD-49A9-9CAD-4F896181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92B-62F4-4AAD-BFFE-5EADE1F6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51E-F789-4595-8CFF-F0D66E8C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637-A858-4CCD-91AB-45CB0B4F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960B-FE6D-4617-BF85-844852BE6472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C7DD-80F3-444E-A842-3E2B7AE454BB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children_0120.gif"/>
          <p:cNvPicPr/>
          <p:nvPr/>
        </p:nvPicPr>
        <p:blipFill>
          <a:blip r:embed="rId1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children_0170.gif"/>
          <p:cNvPicPr/>
          <p:nvPr/>
        </p:nvPicPr>
        <p:blipFill>
          <a:blip r:embed="rId2"/>
          <a:stretch/>
        </p:blipFill>
        <p:spPr>
          <a:xfrm>
            <a:off x="6804000" y="2924280"/>
            <a:ext cx="1224000" cy="1958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children_0133.gif"/>
          <p:cNvPicPr/>
          <p:nvPr/>
        </p:nvPicPr>
        <p:blipFill>
          <a:blip r:embed="rId3"/>
          <a:stretch/>
        </p:blipFill>
        <p:spPr>
          <a:xfrm>
            <a:off x="1042920" y="51530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children_0127.gif"/>
          <p:cNvPicPr/>
          <p:nvPr/>
        </p:nvPicPr>
        <p:blipFill>
          <a:blip r:embed="rId4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children_0166.gif"/>
          <p:cNvPicPr/>
          <p:nvPr/>
        </p:nvPicPr>
        <p:blipFill>
          <a:blip r:embed="rId5"/>
          <a:stretch/>
        </p:blipFill>
        <p:spPr>
          <a:xfrm>
            <a:off x="250920" y="2708280"/>
            <a:ext cx="1257120" cy="15238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2"/>
          <p:cNvSpPr/>
          <p:nvPr/>
        </p:nvSpPr>
        <p:spPr>
          <a:xfrm>
            <a:off x="1857240" y="1643040"/>
            <a:ext cx="52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Готовимся к ЕГЭ по русскому язы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3"/>
          <p:cNvSpPr/>
          <p:nvPr/>
        </p:nvSpPr>
        <p:spPr>
          <a:xfrm>
            <a:off x="2143080" y="2286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Stencil"/>
              </a:rPr>
              <a:t>Учебный тренажёр и проверочный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Stencil"/>
              </a:rPr>
              <a:t>по 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Stenci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Stencil"/>
              </a:rPr>
              <a:t>Выполнение заданий части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G:\sova_2_1.png"/>
          <p:cNvPicPr/>
          <p:nvPr/>
        </p:nvPicPr>
        <p:blipFill>
          <a:blip r:embed="rId6"/>
          <a:srcRect l="13776" t="9726" r="13062" b="7849"/>
          <a:stretch/>
        </p:blipFill>
        <p:spPr>
          <a:xfrm>
            <a:off x="3857760" y="3429000"/>
            <a:ext cx="1143000" cy="16444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3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Rectangle 7"/>
          <p:cNvSpPr/>
          <p:nvPr/>
        </p:nvSpPr>
        <p:spPr>
          <a:xfrm>
            <a:off x="228600" y="152280"/>
            <a:ext cx="8478720" cy="186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7.  Укажите верную характеристику предложения: </a:t>
            </a:r>
            <a:r>
              <a:rPr b="1" lang="ru-RU" sz="2000" spc="-1" strike="noStrike">
                <a:solidFill>
                  <a:srgbClr val="009dd9"/>
                </a:solidFill>
                <a:latin typeface="Tahoma"/>
              </a:rPr>
              <a:t>Эмоции, ощущения только  окрашивают то, что мы думаем, или подталкивают мысль в каком-то отношении, но мысли наши все формулируются язы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990720" y="1600200"/>
            <a:ext cx="7273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е с бессоюзной и союзной сочинительной связ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457200" y="1828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е с союзной подчинительной и сочинительной связ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ё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подчинё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6"/>
          <p:cNvSpPr/>
          <p:nvPr/>
        </p:nvSpPr>
        <p:spPr>
          <a:xfrm>
            <a:off x="8381880" y="1828800"/>
            <a:ext cx="304920" cy="3049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5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7"/>
          <p:cNvSpPr/>
          <p:nvPr/>
        </p:nvSpPr>
        <p:spPr>
          <a:xfrm>
            <a:off x="228600" y="228600"/>
            <a:ext cx="8478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8.  </a:t>
            </a:r>
            <a:r>
              <a:rPr b="1" lang="ru-RU" sz="2000" spc="-1" strike="noStrike">
                <a:solidFill>
                  <a:srgbClr val="505050"/>
                </a:solidFill>
                <a:latin typeface="Times New Roman"/>
              </a:rPr>
              <a:t>Укажите правильную морфологическую характеристику слова ВАЖНЕЙШИЙ из предложения: </a:t>
            </a:r>
            <a:r>
              <a:rPr b="1" lang="ru-RU" sz="2000" spc="-1" strike="noStrike">
                <a:solidFill>
                  <a:srgbClr val="009dd9"/>
                </a:solidFill>
                <a:latin typeface="Times New Roman"/>
              </a:rPr>
              <a:t>Важнейший способ узнать человека – прислушаться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ое прилагательное в сравнительной степ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ое прилагательное в превосходной степ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ительное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тельное при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7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228600" y="228600"/>
            <a:ext cx="8478720" cy="113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9.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В каком  варианте ответа правильно указаны все цифры, на месте которых пишется 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6422"/>
                </a:solidFill>
                <a:latin typeface="Tahoma"/>
              </a:rPr>
              <a:t>А. устра…вать   Б.кольц…вой     В. засушл…вый     Г. ноч…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8"/>
          <p:cNvSpPr/>
          <p:nvPr/>
        </p:nvSpPr>
        <p:spPr>
          <a:xfrm>
            <a:off x="990720" y="1371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,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,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8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89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Rectangle 7"/>
          <p:cNvSpPr/>
          <p:nvPr/>
        </p:nvSpPr>
        <p:spPr>
          <a:xfrm>
            <a:off x="228600" y="228600"/>
            <a:ext cx="8478720" cy="174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10.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В каком варианте ответа правильно указаны все цифры, на месте которых пишется И?   </a:t>
            </a:r>
            <a:r>
              <a:rPr b="1" lang="ru-RU" sz="2000" spc="-1" strike="noStrike">
                <a:solidFill>
                  <a:srgbClr val="546422"/>
                </a:solidFill>
                <a:latin typeface="Tahoma"/>
              </a:rPr>
              <a:t>Какую бы профессию в своей жизни вы бы н(1) избрали, словари во что бы то н(2) стало должны стать вашими помощниками. Ведь н(3) одна книга н(4) несёт в себе столько новых сведений, как слова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8"/>
          <p:cNvSpPr/>
          <p:nvPr/>
        </p:nvSpPr>
        <p:spPr>
          <a:xfrm>
            <a:off x="1066680" y="2666880"/>
            <a:ext cx="719784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457200" y="2895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457200" y="3657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1"/>
          <p:cNvSpPr/>
          <p:nvPr/>
        </p:nvSpPr>
        <p:spPr>
          <a:xfrm>
            <a:off x="457200" y="4648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2"/>
          <p:cNvSpPr/>
          <p:nvPr/>
        </p:nvSpPr>
        <p:spPr>
          <a:xfrm>
            <a:off x="45720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3"/>
          <p:cNvSpPr/>
          <p:nvPr/>
        </p:nvSpPr>
        <p:spPr>
          <a:xfrm>
            <a:off x="1066680" y="3505320"/>
            <a:ext cx="71964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4"/>
          <p:cNvSpPr/>
          <p:nvPr/>
        </p:nvSpPr>
        <p:spPr>
          <a:xfrm>
            <a:off x="1066680" y="4495680"/>
            <a:ext cx="71964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5"/>
          <p:cNvSpPr/>
          <p:nvPr/>
        </p:nvSpPr>
        <p:spPr>
          <a:xfrm>
            <a:off x="990720" y="5486400"/>
            <a:ext cx="727236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6"/>
          <p:cNvSpPr/>
          <p:nvPr/>
        </p:nvSpPr>
        <p:spPr>
          <a:xfrm>
            <a:off x="8381880" y="2743200"/>
            <a:ext cx="436680" cy="457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7"/>
          <p:cNvSpPr/>
          <p:nvPr/>
        </p:nvSpPr>
        <p:spPr>
          <a:xfrm>
            <a:off x="8458200" y="3657600"/>
            <a:ext cx="304920" cy="457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8"/>
          <p:cNvSpPr/>
          <p:nvPr/>
        </p:nvSpPr>
        <p:spPr>
          <a:xfrm>
            <a:off x="8458200" y="4648320"/>
            <a:ext cx="380880" cy="457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9"/>
          <p:cNvSpPr/>
          <p:nvPr/>
        </p:nvSpPr>
        <p:spPr>
          <a:xfrm>
            <a:off x="8381880" y="5791320"/>
            <a:ext cx="436680" cy="3808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>
            <a:hlinkClick r:id="rId1" action="ppaction://hlinksldjump"/>
          </p:cNvPr>
          <p:cNvSpPr/>
          <p:nvPr/>
        </p:nvSpPr>
        <p:spPr>
          <a:xfrm>
            <a:off x="1295280" y="1882800"/>
            <a:ext cx="69343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я отличные! Перехожу к те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>
            <a:hlinkClick r:id="rId2" action="ppaction://hlinksldjump"/>
          </p:cNvPr>
          <p:cNvSpPr/>
          <p:nvPr/>
        </p:nvSpPr>
        <p:spPr>
          <a:xfrm>
            <a:off x="1295280" y="3330720"/>
            <a:ext cx="7010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12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317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Чтобы узнать свой результат, нажми на кнопку «Результат». 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4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2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Rectangle 7"/>
          <p:cNvSpPr/>
          <p:nvPr/>
        </p:nvSpPr>
        <p:spPr>
          <a:xfrm>
            <a:off x="304920" y="228600"/>
            <a:ext cx="8402400" cy="125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1. В каком предложении оба слова пишутся раздельно?</a:t>
            </a: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вы ни делали, чем(бы) ни занимались, вам всегда понадобится умный и верный помощник-кни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5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)смотря на свою страшную слабость, он продолжал ещё ползти (в)течение нескольких минут, пока не потерял созн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6"/>
          <p:cNvSpPr/>
          <p:nvPr/>
        </p:nvSpPr>
        <p:spPr>
          <a:xfrm>
            <a:off x="106668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)продолжении повести мы познакомились с новыми героями, а так(же) узнали о  дальнейшей судьбе известных персонаж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7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еками и озёрами происходит то(же) самое, что и с морями: они исчезают. Горы так(же) не остаются неизме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21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22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4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997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045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4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7"/>
          <p:cNvSpPr/>
          <p:nvPr/>
        </p:nvSpPr>
        <p:spPr>
          <a:xfrm>
            <a:off x="228600" y="228600"/>
            <a:ext cx="8478720" cy="13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2.Укажите правильное объяснение постановки запятой или её отсутствия в предложении: </a:t>
            </a:r>
            <a:r>
              <a:rPr b="1" lang="ru-RU" sz="2000" spc="-1" strike="noStrike">
                <a:solidFill>
                  <a:srgbClr val="7e9632"/>
                </a:solidFill>
                <a:latin typeface="Tahoma"/>
              </a:rPr>
              <a:t>Зима была снежная (…) и нужно было подготовиться заранее к ожидаемому весеннему половод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ённое предложение, перед союзом И нужна запя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ённое предложение, перед союзом И не нужна запя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 с однородными членами, перед союзом И запятая не нуж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5"/>
          <p:cNvSpPr/>
          <p:nvPr/>
        </p:nvSpPr>
        <p:spPr>
          <a:xfrm>
            <a:off x="914400" y="1371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 с однородными членами, перед союзом И нужна запя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094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6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Rectangle 7"/>
          <p:cNvSpPr/>
          <p:nvPr/>
        </p:nvSpPr>
        <p:spPr>
          <a:xfrm>
            <a:off x="228600" y="228600"/>
            <a:ext cx="8478720" cy="1679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3.В каком варианте ответа правильно указаны все цифры, на месте которых в предложении должны стоять запятые: </a:t>
            </a:r>
            <a:r>
              <a:rPr b="1" lang="ru-RU" sz="2000" spc="-1" strike="noStrike">
                <a:solidFill>
                  <a:srgbClr val="7e9632"/>
                </a:solidFill>
                <a:latin typeface="Tahoma"/>
              </a:rPr>
              <a:t>Книги Н.Островского (1) забрызганные кровью  и (2) простреленные пулями (3) были переданы музею (4) носившему его имя (5) друзьями погибших вои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,4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2"/>
          <p:cNvSpPr/>
          <p:nvPr/>
        </p:nvSpPr>
        <p:spPr>
          <a:xfrm>
            <a:off x="457200" y="1905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3"/>
          <p:cNvSpPr/>
          <p:nvPr/>
        </p:nvSpPr>
        <p:spPr>
          <a:xfrm>
            <a:off x="990720" y="2666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,4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5"/>
          <p:cNvSpPr/>
          <p:nvPr/>
        </p:nvSpPr>
        <p:spPr>
          <a:xfrm>
            <a:off x="990720" y="1600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167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239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8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Rectangle 7"/>
          <p:cNvSpPr/>
          <p:nvPr/>
        </p:nvSpPr>
        <p:spPr>
          <a:xfrm>
            <a:off x="228600" y="228600"/>
            <a:ext cx="8478720" cy="143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4.В каком варианте ответа правильно указаны все цифры, на месте которых должны стоять запятые: </a:t>
            </a:r>
            <a:r>
              <a:rPr b="1" lang="ru-RU" sz="2000" spc="-1" strike="noStrike">
                <a:solidFill>
                  <a:srgbClr val="7e9632"/>
                </a:solidFill>
                <a:latin typeface="Tahoma"/>
              </a:rPr>
              <a:t>Матвей Лозинский (1) разумеется (2) не знал ещё (3) к своему несчастью (4) местных обыча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2"/>
          <p:cNvSpPr/>
          <p:nvPr/>
        </p:nvSpPr>
        <p:spPr>
          <a:xfrm>
            <a:off x="457200" y="1752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4"/>
          <p:cNvSpPr/>
          <p:nvPr/>
        </p:nvSpPr>
        <p:spPr>
          <a:xfrm>
            <a:off x="990720" y="51814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5"/>
          <p:cNvSpPr/>
          <p:nvPr/>
        </p:nvSpPr>
        <p:spPr>
          <a:xfrm>
            <a:off x="99072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312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336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101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9"/>
          <p:cNvSpPr/>
          <p:nvPr/>
        </p:nvSpPr>
        <p:spPr>
          <a:xfrm>
            <a:off x="228600" y="228600"/>
            <a:ext cx="86104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орогой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В этом году тебе предстоит сдавать  государственный экзамен по русскому я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дготовиться к нему тебе поможет данный образовательный ресурс. Его первый уровень представляет собой тренажёр, с помощью которого ты можешь вспомнить определённое правило из курса русского языка  и усовершенствовать свои умения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Второй уровень – проверочный тест по данной теме, за который ты получишь отме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Надеемся, что эти занятия помогут тебе успешно подготовиться к  экзамену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елаем удачи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>
            <a:hlinkClick r:id="rId1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1">
            <a:hlinkClick r:id="rId2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0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Rectangle 7"/>
          <p:cNvSpPr/>
          <p:nvPr/>
        </p:nvSpPr>
        <p:spPr>
          <a:xfrm>
            <a:off x="304920" y="304920"/>
            <a:ext cx="84787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5. Укажите предложение, в котором надо поставить одну запят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/>
          <p:cNvSpPr/>
          <p:nvPr/>
        </p:nvSpPr>
        <p:spPr>
          <a:xfrm>
            <a:off x="990720" y="2666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аны в Лондоне бывают если не каждый день то через 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и животные пытались спастись от потоков воды и свирепого ветра и метались в поисках подходящего убеж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ьяна верила гаданьям простонародной старины и снам и карточным гаданьям и предсказаниям лу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5"/>
          <p:cNvSpPr/>
          <p:nvPr/>
        </p:nvSpPr>
        <p:spPr>
          <a:xfrm>
            <a:off x="990720" y="1295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гай этот был склочной и крикливой птицей и в течение месяца отравлял жизнь своему хозяину и всему д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385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409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433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2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7"/>
          <p:cNvSpPr/>
          <p:nvPr/>
        </p:nvSpPr>
        <p:spPr>
          <a:xfrm>
            <a:off x="228600" y="228600"/>
            <a:ext cx="8478720" cy="13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6.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Как объяснить постановку двоеточия в данном предложении: </a:t>
            </a:r>
            <a:r>
              <a:rPr b="1" lang="ru-RU" sz="2000" spc="-1" strike="noStrike">
                <a:solidFill>
                  <a:srgbClr val="7e9632"/>
                </a:solidFill>
                <a:latin typeface="Tahoma"/>
              </a:rPr>
              <a:t>Пополз я по густой траве вдоль по оврагу, смотрю: лес кончился, несколько казаков выезжают из него на поля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часть бессоюзного сложного предложения дополняет содержание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часть бессоюзного сложного предложения содержит вывод по отношению к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часть бессоюзного сложного предложения указывает на причину того, о чём говорится в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5"/>
          <p:cNvSpPr/>
          <p:nvPr/>
        </p:nvSpPr>
        <p:spPr>
          <a:xfrm>
            <a:off x="914400" y="1371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часть бессоюзного сложного предложения указывает на время совершения того, о чём говорится во втор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458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482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506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3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Rectangle 7"/>
          <p:cNvSpPr/>
          <p:nvPr/>
        </p:nvSpPr>
        <p:spPr>
          <a:xfrm>
            <a:off x="228600" y="228600"/>
            <a:ext cx="8478720" cy="13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7.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В каком варианте ответа правильно указаны все цифры, на месте которых в предложении должны стоять запятые: </a:t>
            </a:r>
            <a:r>
              <a:rPr b="1" lang="ru-RU" sz="2000" spc="-1" strike="noStrike">
                <a:solidFill>
                  <a:srgbClr val="7e9632"/>
                </a:solidFill>
                <a:latin typeface="Tahoma"/>
              </a:rPr>
              <a:t>Слепой знал (1) что в комнату смотрит солнце и (2) что (3) если он протянет руку в окно (4) то с кустов посыплется рос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8"/>
          <p:cNvSpPr/>
          <p:nvPr/>
        </p:nvSpPr>
        <p:spPr>
          <a:xfrm>
            <a:off x="1066680" y="2666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9"/>
          <p:cNvSpPr/>
          <p:nvPr/>
        </p:nvSpPr>
        <p:spPr>
          <a:xfrm>
            <a:off x="457200" y="2895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2"/>
          <p:cNvSpPr/>
          <p:nvPr/>
        </p:nvSpPr>
        <p:spPr>
          <a:xfrm>
            <a:off x="457200" y="1752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5"/>
          <p:cNvSpPr/>
          <p:nvPr/>
        </p:nvSpPr>
        <p:spPr>
          <a:xfrm>
            <a:off x="1066680" y="1600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9"/>
          <p:cNvSpPr/>
          <p:nvPr/>
        </p:nvSpPr>
        <p:spPr>
          <a:xfrm>
            <a:off x="8458200" y="2971800"/>
            <a:ext cx="360360" cy="457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0"/>
          <p:cNvSpPr/>
          <p:nvPr/>
        </p:nvSpPr>
        <p:spPr>
          <a:xfrm>
            <a:off x="8458200" y="1905120"/>
            <a:ext cx="360360" cy="457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555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579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5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7"/>
          <p:cNvSpPr/>
          <p:nvPr/>
        </p:nvSpPr>
        <p:spPr>
          <a:xfrm>
            <a:off x="228600" y="228600"/>
            <a:ext cx="8478720" cy="106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8.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В каком предложении придаточную часть СПП нельзя заменить обособленным определением, выраженным причастным оборот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, в котором было много грибов, находился недалеко от нашей дерев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3"/>
          <p:cNvSpPr/>
          <p:nvPr/>
        </p:nvSpPr>
        <p:spPr>
          <a:xfrm>
            <a:off x="990720" y="3657600"/>
            <a:ext cx="72738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м жизнь людей искусства кажется сплошным праздником, а на самом деле любимая работа для них – огромный труд, который требует терпения, выдержки и упо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страшным для подпольщиков была измена Павлова- человека, который казался абсолютно надёж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и, которые развевались над домами, придавали городу праздничны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652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676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700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724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7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7"/>
          <p:cNvSpPr/>
          <p:nvPr/>
        </p:nvSpPr>
        <p:spPr>
          <a:xfrm>
            <a:off x="228600" y="228600"/>
            <a:ext cx="84787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9.В каком ряду во всех словах пропущена безударная </a:t>
            </a:r>
            <a:r>
              <a:rPr b="1" lang="ru-RU" sz="2400" spc="-1" strike="noStrike">
                <a:solidFill>
                  <a:srgbClr val="7e9632"/>
                </a:solidFill>
                <a:latin typeface="Tahoma"/>
              </a:rPr>
              <a:t>проверяемая</a:t>
            </a: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 гласная кор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етр…сение, присоед…ниться, вы…с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гл…димое, пл…вчиха, впеч…т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…жать, д…легация, оч…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…лчать, з…рница, разг…д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9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2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749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1773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797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821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9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Rectangle 7"/>
          <p:cNvSpPr/>
          <p:nvPr/>
        </p:nvSpPr>
        <p:spPr>
          <a:xfrm>
            <a:off x="228600" y="228600"/>
            <a:ext cx="84787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10.В каком ряду во всех словах пропущена буква Е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…шь, завис…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…шься, обид…вши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…шь, удосто…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…мся, выкрас…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1846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870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894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515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0">
            <a:hlinkClick r:id="rId1" action="ppaction://hlinksldjump"/>
          </p:cNvPr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93">
            <a:hlinkClick r:id="rId2" action="ppaction://hlinksldjump"/>
          </p:cNvPr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94"/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95"/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96"/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98"/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09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9"/>
          <p:cNvSpPr/>
          <p:nvPr/>
        </p:nvSpPr>
        <p:spPr>
          <a:xfrm>
            <a:off x="285840" y="5000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228600" y="12193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2. Если ты выбрал правильный ответ, появится     «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люс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3. Если ты выбрал неверный ответ, появится «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минус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Желаем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118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9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1.  В каком  слове верно выделена буква, обозначающая ударный гласный зву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дев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р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3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2.  В каком предложении вместо слова </a:t>
            </a:r>
            <a:r>
              <a:rPr b="1" lang="ru-RU" sz="2000" spc="-1" strike="noStrike">
                <a:solidFill>
                  <a:srgbClr val="009dd9"/>
                </a:solidFill>
                <a:latin typeface="Tahoma"/>
              </a:rPr>
              <a:t>ЕДИНСТВЕННЫЙ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нужно употребить </a:t>
            </a:r>
            <a:r>
              <a:rPr b="1" lang="ru-RU" sz="2000" spc="-1" strike="noStrike">
                <a:solidFill>
                  <a:srgbClr val="009dd9"/>
                </a:solidFill>
                <a:latin typeface="Tahoma"/>
              </a:rPr>
              <a:t>ЕДИНИЧНЫЙ</a:t>
            </a: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990720" y="1295280"/>
            <a:ext cx="72723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од тому назад у него умер единственный сын, это так его поразило, что вскоре старик сам заболел и у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енний вечер в Сокольниках»-единственный пейзаж Левитана, где присутствует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ая радость для меня –  это общение с друзь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/>
          <p:cNvSpPr/>
          <p:nvPr/>
        </p:nvSpPr>
        <p:spPr>
          <a:xfrm>
            <a:off x="990720" y="5013360"/>
            <a:ext cx="7273800" cy="1158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блюдали нарушение техники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изводстве. К сожалению, этот случай 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56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9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3.  Укажите пример с ошибкой в образовании формы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мыть) шампу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 чу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8"/>
          <p:cNvSpPr/>
          <p:nvPr/>
        </p:nvSpPr>
        <p:spPr>
          <a:xfrm>
            <a:off x="91440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медл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двухсот двадцати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2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4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75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9"/>
          <p:cNvSpPr/>
          <p:nvPr/>
        </p:nvSpPr>
        <p:spPr>
          <a:xfrm>
            <a:off x="152280" y="228600"/>
            <a:ext cx="855504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0505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Укажите грамматически правильное продолжение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Tahoma"/>
              </a:rPr>
              <a:t>Отправившись в туристический похо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встретилось много интерес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овстречали много интерес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м понрави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9"/>
          <p:cNvSpPr/>
          <p:nvPr/>
        </p:nvSpPr>
        <p:spPr>
          <a:xfrm>
            <a:off x="990720" y="4952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ось испытать много труд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3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4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94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9"/>
          <p:cNvSpPr/>
          <p:nvPr/>
        </p:nvSpPr>
        <p:spPr>
          <a:xfrm>
            <a:off x="228600" y="228600"/>
            <a:ext cx="8478720" cy="113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5. 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Какие слова являются грамматической основой предложения: </a:t>
            </a:r>
            <a:r>
              <a:rPr b="1" lang="ru-RU" sz="2000" spc="-1" strike="noStrike">
                <a:solidFill>
                  <a:srgbClr val="009dd9"/>
                </a:solidFill>
                <a:latin typeface="Tahoma"/>
              </a:rPr>
              <a:t>Это надо понять досконально, во всей многозначности и многозначительности этого фа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до по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понять доскона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по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13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7"/>
          <p:cNvSpPr/>
          <p:nvPr/>
        </p:nvSpPr>
        <p:spPr>
          <a:xfrm>
            <a:off x="228600" y="228600"/>
            <a:ext cx="847872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6.  Укажите предложение с грамматической ошибкой (с нарушением синтаксической нор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990720" y="1371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ит зайти в любую из церквей Венеции, попросить служителя зажечь свечи, и из тьмы выступят великолепные краски старинных полот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ю ночь безостановочно, с тупым упрямством, не сворачивая с опасных дорог, пробивался я к сев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ермской губернии идёт превосходная широкая дорога, давно наезженная и которую я видел до этого времени только раз в мое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 так полюбил Никиту, что, когда тот уходил куда-нибудь, зверь тревожно нюхал возд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3:52:20Z</dcterms:created>
  <dc:creator>user</dc:creator>
  <dc:description/>
  <dc:language>en-US</dc:language>
  <cp:lastModifiedBy>Юрий</cp:lastModifiedBy>
  <dcterms:modified xsi:type="dcterms:W3CDTF">2011-12-13T14:13:29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