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A9D3-CCEA-4775-94D0-B808356669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0E22-12E1-4A94-A0C1-F111B05773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99E-5AEC-48F3-803E-D500E612A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B2CA-97DE-4A15-9ABC-09E7E65AF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E7C-1828-4D06-A9E9-303CC3E7F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7D8B-8AF2-438A-9D2E-4DB90EB9E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B627-6250-487E-BBDD-7F19152C8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0480-5CC2-46A2-AE52-2B5F0D773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FE79-C44E-4584-BFB4-987FD7239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9AC5-6B20-481B-A4F7-204A3FE3F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1A6F-2B0B-4E78-93D0-B09AFF619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BF86-D027-4D95-930B-8B21EC5DE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AB1E-28DA-49EA-BAA6-0C92532CE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AAF6-4168-42AA-A4EF-AC9027AE9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77A-F4AD-4844-ACC5-ED444642E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DF81-1800-4361-954A-45333A243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466B-9495-499F-8363-7ED1F2E9A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7AB4-10E6-4A20-A261-8F9F5E5A3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6E35-6129-4929-95C3-8E075ECA3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81E0-F1EA-4D90-B21C-1D7942B2C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07A7-3356-42F6-BD0B-DBD7FFC2F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6F64-6B8B-4E27-B617-A28FC0B22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769D-4686-4CE4-9286-6F99D048F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A31-97EC-43B8-902B-C11FD9830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1663-13A1-48D6-96AD-E4BED33AF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225F-E63A-4C1A-AA6A-0EE601E88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DB6-E4AA-44B5-B476-09B21F93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F5E-96D5-474D-B8C8-C7059065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794-9419-4764-BC55-F910D689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927-F3DF-4804-B48D-A325A41C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4821-418B-4D76-BA33-70FE6A56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B343-FDEF-43B9-9B07-C08E2A05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A063-8FA8-44C0-86FB-C7797CB3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B8AB-02D3-4D82-95FC-2DFD9FC7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F4C8-AC53-492E-8D8D-48096D2F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4B4F-3515-43C4-AA8A-44580B7A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DCA9-C5CE-4487-8D33-A425A2D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D3E-283D-47D6-816D-E54998C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F317-D146-475D-9675-CA99A4B1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252D-67E6-4179-8439-2E2E444E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B197-4347-4D71-AD5E-338D51BE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B84A-C815-45CD-80AC-848F6DC4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710B-F918-4054-A3E1-CB0962D4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CFC-16BE-404C-9238-50B16D7C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81B-9B30-4007-9D9E-6C867FB6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8C0-64EC-48A4-A2B4-830F22C8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413-B6DE-424C-A219-178B60F5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AC5-EB0E-4768-A1D5-B1B8824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EC1-9E40-48EC-9F6E-FDB3CA58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840-46E1-48E5-AF13-C268C4D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F132-18D4-4CCE-9D23-B69C594B63BE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414E-DA63-4F0C-AF9F-0F1A95B6F077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2"/>
          <p:cNvSpPr/>
          <p:nvPr/>
        </p:nvSpPr>
        <p:spPr>
          <a:xfrm>
            <a:off x="1857240" y="1643040"/>
            <a:ext cx="52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Готовимся к ЕГЭ по рус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2143080" y="2286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Stencil"/>
              </a:rPr>
              <a:t>Учебный тренажёр и проверочны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Stencil"/>
              </a:rPr>
              <a:t>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Stenci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Stencil"/>
              </a:rPr>
              <a:t>Выполнение заданий част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G:\sova_2_1.png"/>
          <p:cNvPicPr/>
          <p:nvPr/>
        </p:nvPicPr>
        <p:blipFill>
          <a:blip r:embed="rId6"/>
          <a:srcRect l="13776" t="9726" r="13062" b="7849"/>
          <a:stretch/>
        </p:blipFill>
        <p:spPr>
          <a:xfrm>
            <a:off x="3857760" y="3429000"/>
            <a:ext cx="1143000" cy="16444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7"/>
          <p:cNvSpPr/>
          <p:nvPr/>
        </p:nvSpPr>
        <p:spPr>
          <a:xfrm>
            <a:off x="228600" y="152280"/>
            <a:ext cx="8478720" cy="18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7.  Укажите верную характеристику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Эмоции, ощущения только  окрашивают то, что мы думаем, или подталкивают мысль в каком-то отношении, но мысли наши все формулируются язы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990720" y="1600200"/>
            <a:ext cx="7273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е с бессоюзной и союзной сочинительной с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57200" y="1828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е с союзной подчинительной и сочинительной связ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подчин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8381880" y="1828800"/>
            <a:ext cx="304920" cy="304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8.  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Укажите правильную морфологическую характеристику слова ВАЖНЕЙШИЙ из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imes New Roman"/>
              </a:rPr>
              <a:t>Важнейший способ узнать человека – прислушаться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прилагательное в сравнительной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ое прилагательное в превосходной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ое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е при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9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 варианте ответа правильно указаны все цифры, на месте которых пишется 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6422"/>
                </a:solidFill>
                <a:latin typeface="Tahoma"/>
              </a:rPr>
              <a:t>А. устра…вать   Б.кольц…вой     В. засушл…вый     Г. ноч…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99072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89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7"/>
          <p:cNvSpPr/>
          <p:nvPr/>
        </p:nvSpPr>
        <p:spPr>
          <a:xfrm>
            <a:off x="228600" y="228600"/>
            <a:ext cx="8478720" cy="174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10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варианте ответа правильно указаны все цифры, на месте которых пишется И?   </a:t>
            </a:r>
            <a:r>
              <a:rPr b="1" lang="ru-RU" sz="2000" spc="-1" strike="noStrike">
                <a:solidFill>
                  <a:srgbClr val="546422"/>
                </a:solidFill>
                <a:latin typeface="Tahoma"/>
              </a:rPr>
              <a:t>Какую бы профессию в своей жизни вы бы н(1) избрали, словари во что бы то н(2) стало должны стать вашими помощниками. Ведь н(3) одна книга н(4) несёт в себе столько новых сведений, как слов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1066680" y="2666880"/>
            <a:ext cx="719784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45720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457200" y="4648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457200" y="5791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1066680" y="3505320"/>
            <a:ext cx="71964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1066680" y="4495680"/>
            <a:ext cx="71964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990720" y="5486400"/>
            <a:ext cx="72723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8381880" y="2743200"/>
            <a:ext cx="4366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8458200" y="3657600"/>
            <a:ext cx="30492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8458200" y="4648320"/>
            <a:ext cx="38088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8381880" y="5791320"/>
            <a:ext cx="436680" cy="380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31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Rectangle 7"/>
          <p:cNvSpPr/>
          <p:nvPr/>
        </p:nvSpPr>
        <p:spPr>
          <a:xfrm>
            <a:off x="304920" y="228600"/>
            <a:ext cx="84024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1. В каком предложении оба слова пишутся раздельно?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вы ни делали, чем(бы) ни занимались, вам всегда понадобится умный и верный помощник-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смотря на свою страшную слабость, он продолжал ещё ползти (в)течение нескольких минут, пока не потерял созн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)продолжении повести мы познакомились с новыми героями, а так(же) узнали о  дальнейшей судьбе известных персона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еками и озёрами происходит то(же) самое, что и с морями: они исчезают. Горы так(же) не остаются неизм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2.Укажите правильное объяснение постановки запятой или её отсутствия в предложении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Зима была снежная (…) и нужно было подготовиться заранее к ожидаемому весеннему половод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 предложение, перед союзом И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ённое предложение, перед союзом И не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 с однородными членами, перед союзом И запятая не ну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5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 с однородными членами, перед союзом И нужна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7"/>
          <p:cNvSpPr/>
          <p:nvPr/>
        </p:nvSpPr>
        <p:spPr>
          <a:xfrm>
            <a:off x="228600" y="228600"/>
            <a:ext cx="8478720" cy="167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3.В каком варианте ответа правильно указаны все цифры, на месте которых в предложении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Книги Н.Островского (1) забрызганные кровью  и (2) простреленные пулями (3) были переданы музею (4) носившему его имя (5) друзьями погибших во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457200" y="1905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>
            <a:off x="99072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>
            <a:off x="990720" y="1600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7"/>
          <p:cNvSpPr/>
          <p:nvPr/>
        </p:nvSpPr>
        <p:spPr>
          <a:xfrm>
            <a:off x="228600" y="228600"/>
            <a:ext cx="84787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4.В каком варианте ответа правильно указаны все цифры, на месте которых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Матвей Лозинский (1) разумеется (2) не знал ещё (3) к своему несчастью (4) местных обыча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457200" y="1752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4"/>
          <p:cNvSpPr/>
          <p:nvPr/>
        </p:nvSpPr>
        <p:spPr>
          <a:xfrm>
            <a:off x="990720" y="5181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5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101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В этом году тебе предстоит сдавать 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деемся, что эти занятия помогут тебе успешно подготовиться к  экзамену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7"/>
          <p:cNvSpPr/>
          <p:nvPr/>
        </p:nvSpPr>
        <p:spPr>
          <a:xfrm>
            <a:off x="304920" y="30492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5. Укажите предложение, в котором надо поставить одну запят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99072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ы в Лондоне бывают если не каждый день то через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и животные пытались спастись от потоков воды и свирепого ветра и метались в поисках подходящего убеж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верила гаданьям простонародной старины и снам и карточным гаданьям и предсказаниям 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5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гай этот был склочной и крикливой птицей и в течение месяца отравлял жизнь своему хозяину и всему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6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Как объяснить постановку двоеточия в данном предложении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Пополз я по густой траве вдоль по оврагу, смотрю: лес кончился, несколько казаков выезжают из него на поля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дополняет содержание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содержит вывод по отношению к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часть бессоюзного сложного предложения указывает на причину того, о чём говорится в перв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/>
          <p:cNvSpPr/>
          <p:nvPr/>
        </p:nvSpPr>
        <p:spPr>
          <a:xfrm>
            <a:off x="91440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часть бессоюзного сложного предложения указывает на время совершения того, о чём говорится во втор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Rectangle 7"/>
          <p:cNvSpPr/>
          <p:nvPr/>
        </p:nvSpPr>
        <p:spPr>
          <a:xfrm>
            <a:off x="228600" y="228600"/>
            <a:ext cx="847872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7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варианте ответа правильно указаны все цифры, на месте которых в предложении должны стоять запятые: </a:t>
            </a:r>
            <a:r>
              <a:rPr b="1" lang="ru-RU" sz="2000" spc="-1" strike="noStrike">
                <a:solidFill>
                  <a:srgbClr val="7e9632"/>
                </a:solidFill>
                <a:latin typeface="Tahoma"/>
              </a:rPr>
              <a:t>Слепой знал (1) что в комнату смотрит солнце и (2) что (3) если он протянет руку в окно (4) то с кустов посыплется рос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106668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9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2"/>
          <p:cNvSpPr/>
          <p:nvPr/>
        </p:nvSpPr>
        <p:spPr>
          <a:xfrm>
            <a:off x="457200" y="1752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5"/>
          <p:cNvSpPr/>
          <p:nvPr/>
        </p:nvSpPr>
        <p:spPr>
          <a:xfrm>
            <a:off x="1066680" y="1600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9"/>
          <p:cNvSpPr/>
          <p:nvPr/>
        </p:nvSpPr>
        <p:spPr>
          <a:xfrm>
            <a:off x="8458200" y="2971800"/>
            <a:ext cx="36036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0"/>
          <p:cNvSpPr/>
          <p:nvPr/>
        </p:nvSpPr>
        <p:spPr>
          <a:xfrm>
            <a:off x="8458200" y="1905120"/>
            <a:ext cx="36036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7"/>
          <p:cNvSpPr/>
          <p:nvPr/>
        </p:nvSpPr>
        <p:spPr>
          <a:xfrm>
            <a:off x="228600" y="228600"/>
            <a:ext cx="8478720" cy="106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8.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В каком предложении придаточную часть СПП нельзя заменить обособленным определением, выраженным причастным оборо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, в котором было много грибов, находился недалеко от наше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990720" y="3657600"/>
            <a:ext cx="72738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 жизнь людей искусства кажется сплошным праздником, а на самом деле любимая работа для них – огромный труд, который требует терпения, выдержки и упо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страшным для подпольщиков была измена Павлова- человека, который казался абсолютно надёж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и, которые развевались над домами, придавали городу праздни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9.В каком ряду во всех словах пропущена безударная </a:t>
            </a:r>
            <a:r>
              <a:rPr b="1" lang="ru-RU" sz="2400" spc="-1" strike="noStrike">
                <a:solidFill>
                  <a:srgbClr val="7e9632"/>
                </a:solidFill>
                <a:latin typeface="Tahoma"/>
              </a:rPr>
              <a:t>проверяемая</a:t>
            </a: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 гласная кор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…сение, присоед…ниться, вы…с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гл…димое, пл…вчиха, впеч…т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…жать, д…легация, оч…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…лчать, з…рница, разг…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ahoma"/>
              </a:rPr>
              <a:t>10.В каком ряду во всех словах пропущена буква 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…шь, зави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…шься, обид…вш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…шь, удосто…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…мся, выкрас…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515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0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9"/>
          <p:cNvSpPr/>
          <p:nvPr/>
        </p:nvSpPr>
        <p:spPr>
          <a:xfrm>
            <a:off x="285840" y="5000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2. Если ты выбрал правильный ответ, появится     «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люс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3. Если ты выбрал неверный ответ, появится «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инус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18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1.  В каком  слове верно выделена буква, обозначающая ударный гласный зв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де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2.  В каком предложении вместо слова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ЕДИНСТВЕННЫЙ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нужно употребить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ЕДИНИЧНЫЙ</a:t>
            </a: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990720" y="1295280"/>
            <a:ext cx="72723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д тому назад у него умер единственный сын, это так его поразило, что вскоре старик сам заболел и у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ний вечер в Сокольниках»-единственный пейзаж Левитана, где присутству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ая радость для меня –  это общение с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990720" y="5013360"/>
            <a:ext cx="7273800" cy="115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блюдали нарушение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. К сожалению, этот случай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5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9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3.  Укажите пример с ошибкой в образовании формы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мыть) шампу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чу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91440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медл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двухсот двадцати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5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9"/>
          <p:cNvSpPr/>
          <p:nvPr/>
        </p:nvSpPr>
        <p:spPr>
          <a:xfrm>
            <a:off x="152280" y="228600"/>
            <a:ext cx="85550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0505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Укажите грамматически правильное продолжени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Отправившись в туристический пох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встретилось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встречали много интерес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м понрави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990720" y="4952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ось испытать много труд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9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5.  </a:t>
            </a:r>
            <a:r>
              <a:rPr b="1" lang="ru-RU" sz="2000" spc="-1" strike="noStrike">
                <a:solidFill>
                  <a:srgbClr val="505050"/>
                </a:solidFill>
                <a:latin typeface="Tahoma"/>
              </a:rPr>
              <a:t>Какие слова являются грамматической основой предложения: </a:t>
            </a:r>
            <a:r>
              <a:rPr b="1" lang="ru-RU" sz="2000" spc="-1" strike="noStrike">
                <a:solidFill>
                  <a:srgbClr val="009dd9"/>
                </a:solidFill>
                <a:latin typeface="Tahoma"/>
              </a:rPr>
              <a:t>Это надо понять досконально, во всей многозначности и многозначительности этого фа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д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понять доскон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по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1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dbf5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7"/>
          <p:cNvSpPr/>
          <p:nvPr/>
        </p:nvSpPr>
        <p:spPr>
          <a:xfrm>
            <a:off x="228600" y="228600"/>
            <a:ext cx="847872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ahoma"/>
              </a:rPr>
              <a:t>6.  Укажите предложение с грамматической ошибкой (с нарушением синтаксической нор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990720" y="1371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ит зайти в любую из церквей Венеции, попросить служителя зажечь свечи, и из тьмы выступят великолепные краски старинных поло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ночь безостановочно, с тупым упрямством, не сворачивая с опасных дорог, пробивался я к сев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рмской губернии идёт превосходная широкая дорога, давно наезженная и которую я видел до этого времени только раз в м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 так полюбил Никиту, что, когда тот уходил куда-нибудь, зверь тревожно нюхал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Юрий</cp:lastModifiedBy>
  <dcterms:modified xsi:type="dcterms:W3CDTF">2011-12-13T14:13:29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