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94A-5FDE-4205-A597-BDA4327A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FBB-8891-4391-BA25-D49A88F5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99F-5663-4670-BF0B-F52DA0B5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16E-EE67-4D9A-B0C7-EA457F86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4600-E7C1-42C9-A3A8-18408C30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9F1E-F059-46A4-90CF-F1FD5551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8BFC-9BED-4AEE-B3DC-0DC8B448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5B9C-9970-430A-A04A-6398E7CD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2B8E-6615-4C9F-A151-984A0332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51D0-42BC-45B0-AF8F-77959D46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799E-CA61-4176-98BB-55C9EB28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39D-0BB2-4317-98D3-183E3C4E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964F-3D9C-4DBA-B9E5-0A8AB762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EE88-B371-46B4-8AE6-6109E725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0539-5672-48F3-9E09-254FD963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3515-DB00-447B-967A-50DC3C8A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BC38-47CC-44B0-AF77-9C1F25DE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754-6B2D-4D24-B431-8E9402C7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FED-D158-42D0-BBAA-A7EC28DE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924-EDAF-4035-B21E-5207DFD5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FE2-3CC3-43EA-98E1-4400A20C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896-4BD5-4409-B892-5D569A7A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498-B012-435D-B672-5628E67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D11-48F9-4436-B5ED-94436773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61CF-DDE4-4BC5-B3C1-70825C276C7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2D93-9900-4DC1-B89B-EEB620BAD6F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33440" y="237960"/>
            <a:ext cx="8613720" cy="5626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227280" y="5013000"/>
            <a:ext cx="29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овская область Г.Щелково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У СОШ №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лассный руководитель 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.А.Янков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14360" y="60480"/>
            <a:ext cx="8242200" cy="1963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5720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рожный зна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хо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етофо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амва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ши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4038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Шо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ассажи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еше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на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станов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Троллейбус, трамва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тоя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Автобу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бг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ветоф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апрещающ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Тротуа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ДТ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еб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ерекрес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Вним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олес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нспект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юв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ло знаков росло с каждым годом, начиная с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1909 го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Назначение дорожных знаков легко запомнить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. Запрещающи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круглые с красной каймой (ассоциация с огнем) с белым, а некоторые с голубым фоном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. Предупреждающи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треугольной формы, с красной каймой.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Предписывающие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т.е. указывающие направление движения, минимальную скорость и т.д. – голубые круглые.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Информационно – указательные знак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они имеют различный фон: синий, зеленый, белый, желтый. Прямоугольные, квадратные, шестиугольны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Содержимое 3" descr="plakat_bd2.jpg"/>
          <p:cNvPicPr/>
          <p:nvPr/>
        </p:nvPicPr>
        <p:blipFill>
          <a:blip r:embed="rId1"/>
          <a:stretch/>
        </p:blipFill>
        <p:spPr>
          <a:xfrm>
            <a:off x="-142920" y="0"/>
            <a:ext cx="9429840" cy="664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3" descr="Znaki.jpg"/>
          <p:cNvPicPr/>
          <p:nvPr/>
        </p:nvPicPr>
        <p:blipFill>
          <a:blip r:embed="rId2"/>
          <a:stretch/>
        </p:blipFill>
        <p:spPr>
          <a:xfrm>
            <a:off x="1309680" y="1600200"/>
            <a:ext cx="652464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3" descr="direction.jpg"/>
          <p:cNvPicPr/>
          <p:nvPr/>
        </p:nvPicPr>
        <p:blipFill>
          <a:blip r:embed="rId2"/>
          <a:stretch/>
        </p:blipFill>
        <p:spPr>
          <a:xfrm>
            <a:off x="500040" y="1357200"/>
            <a:ext cx="807264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4848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3" descr="znaki008_1.jpg"/>
          <p:cNvPicPr/>
          <p:nvPr/>
        </p:nvPicPr>
        <p:blipFill>
          <a:blip r:embed="rId2"/>
          <a:stretch/>
        </p:blipFill>
        <p:spPr>
          <a:xfrm>
            <a:off x="2443320" y="1639800"/>
            <a:ext cx="4257360" cy="4629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ервый светофор был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изобретен в 1868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оду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в Лондон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 Это был газовый фонарь с двумя фильтрами: зеленым и красным. Цвета менялись с помощью ручного привода, которым управлял полицейск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ервый сигнальный светофор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оявил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США в 1919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од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iCA11IJ5G.jpg"/>
          <p:cNvPicPr/>
          <p:nvPr/>
        </p:nvPicPr>
        <p:blipFill>
          <a:blip r:embed="rId2"/>
          <a:stretch/>
        </p:blipFill>
        <p:spPr>
          <a:xfrm>
            <a:off x="285840" y="1714680"/>
            <a:ext cx="385740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5" descr="1237549102_1.jp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1822320" y="171360"/>
            <a:ext cx="5499360" cy="15541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picture-390h.jpg"/>
          <p:cNvPicPr/>
          <p:nvPr/>
        </p:nvPicPr>
        <p:blipFill>
          <a:blip r:embed="rId2"/>
          <a:stretch/>
        </p:blipFill>
        <p:spPr>
          <a:xfrm>
            <a:off x="1762200" y="1792440"/>
            <a:ext cx="5943600" cy="4395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28800" y="428760"/>
            <a:ext cx="7143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ля сравн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в Швеции ДТП с участием пешеходов всего 7,3 %, а вот в Румынии – 56 %. Еще несколько примеров. Оказывается, пешеходы терпеть не могут подходящего момента, чтобы перейти дорогу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ловина готова стоять на тротуаре всего 4 секунды, на пятой они готовы рисковать жизнь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чтобы оказаться на противоположной стороне дороги. Надо бороться с подобным нетерпением, помня о том, что первым приходит тот, кто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«торопится медленн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01760" y="128520"/>
            <a:ext cx="846756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2362320"/>
            <a:ext cx="40402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омни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во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это самое незащищенное транспортное средство. У него нет дверей, предохраняющих от удара сбоку, нет бампера, который отчасти принял бы на себя лобовой удар. Поэтому при любом столкновении или наезде на препятствие велосипедист очень уязвим. А себя надо беречь – полноценных запчастей для человека пока не изобр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тор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ездить на велосипеде комфортно там, где для этого создана специальная безопасная зона. Так как таких зон очень мало, старайтесь предупредить любую потенциальную опас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Треть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равило: никогда не пытайтесь проехать между едущим и стоящим автомобилем. Остановитесь, пропустите движущийся на вас автомобиль. Не считайте это за трусость, это всего лишь здравый смысл. Элементарное чувство сохране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ер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лав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старайтесь не выезжать на проезжую часть, даже если вам исполнилось 14 л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мопеде вы можете выезжать на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оезжую часть с 16 ле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Но помните: двигаться вы должны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только по крайней правой полосе, в один ряд, как можно правее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носительная зона безопасности кончается дальше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одного метра от тротуар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371520" y="195120"/>
            <a:ext cx="8583480" cy="1335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омнили главные правила управления этого транспортного средства на дорогах и во дворах нашего города и, и поняли главное – </a:t>
            </a:r>
            <a:r>
              <a:rPr b="1" lang="ru-RU" sz="3600" spc="-1" strike="noStrike" u="sng">
                <a:solidFill>
                  <a:srgbClr val="660033"/>
                </a:solidFill>
                <a:uFillTx/>
                <a:latin typeface="Times New Roman"/>
              </a:rPr>
              <a:t>не стоит подвергать свою жизнь неоправданному риску. Быть осторожным на дороге – это не трусость, а расче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6:18:05Z</dcterms:created>
  <dc:creator>ирина</dc:creator>
  <dc:description/>
  <dc:language>en-US</dc:language>
  <cp:lastModifiedBy>ирина</cp:lastModifiedBy>
  <dcterms:modified xsi:type="dcterms:W3CDTF">2011-05-16T18:16:53Z</dcterms:modified>
  <cp:revision>14</cp:revision>
  <dc:subject/>
  <dc:title>Дисциплина, осторожность и соблюдение правил дорожного движения водителями и пешеходами – основа безопасного движения на улице.</dc:title>
</cp:coreProperties>
</file>