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8C9-212C-4BA8-95C9-CE056D8E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FB8-EBF6-4C53-B7AF-8389AE74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A42-EC61-478D-9B32-DD36DD36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90A-CC17-4A7E-97F3-8AC761AD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EDE8-11BD-472A-BE11-EE75AB2A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7795-FCEF-4C8E-9579-B224CC8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6C69-2857-4AD2-88EE-957C1813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4696-B5FA-4FB4-8862-443CD8CC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A370-A42C-4189-8161-EFE45173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B937-C1AE-486A-8D70-C6564DBB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3D49-B346-4031-A4A4-08090C61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94A-CF86-4BDD-918C-23BF655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1A7C-9077-4706-99C8-B713039D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C2B5-5DED-40B5-A74E-14DC2D1E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4493-623A-49A0-90FC-F1D755BC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5B55-9D5A-4099-BA72-B732DB9C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B8BD-A880-4CB8-A847-EDB8E67E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EAC-FF54-417A-A198-CFA8F3BC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6FF-40EC-40F6-A8BA-1C97E9C9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460-C965-4D93-8D9F-21FBB2B4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C19-13D3-4CCD-A138-830AA93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CF5-64D9-4014-AF45-64B2559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FF8-7217-4611-B912-846D561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A6A-CA82-4D9C-89BF-E40358E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B867-B93A-4E15-81EC-A5D7E92A0F3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A95-F64E-4A0B-B215-1EE24CD0D8A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33440" y="237960"/>
            <a:ext cx="8613720" cy="5626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227280" y="501300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овская область Г.Щелково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У СОШ №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лассный руководитель 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.А.Янков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14360" y="60480"/>
            <a:ext cx="8242200" cy="1963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5720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рожный зна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хо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етофо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амва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 algn="ctr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Шо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ассажи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еше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на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танов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роллейбус, трамва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тоя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Автобу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бг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ветоф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прещающ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Тротуа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ДТ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еб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ерекрес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ним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олес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нспект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юв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ло знаков росло с каждым годом, начиная с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1909 го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Назначение дорожных знаков легко запомнить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. Запрещающ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круглые с красной каймой (ассоциация с огнем) с белым, а некоторые с голубым фоном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. Предупреждающ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треугольной формы, с красной каймой.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Предписывающие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т.е. указывающие направление движения, минимальную скорость и т.д. – голубые круглые.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</a:rPr>
              <a:t>Информационно – указательные знак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– они имеют различный фон: синий, зеленый, белый, желтый. Прямоугольные, квадратные, шестиугольны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Содержимое 3" descr="plakat_bd2.jpg"/>
          <p:cNvPicPr/>
          <p:nvPr/>
        </p:nvPicPr>
        <p:blipFill>
          <a:blip r:embed="rId1"/>
          <a:stretch/>
        </p:blipFill>
        <p:spPr>
          <a:xfrm>
            <a:off x="-142920" y="0"/>
            <a:ext cx="942984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3" descr="Znaki.jpg"/>
          <p:cNvPicPr/>
          <p:nvPr/>
        </p:nvPicPr>
        <p:blipFill>
          <a:blip r:embed="rId2"/>
          <a:stretch/>
        </p:blipFill>
        <p:spPr>
          <a:xfrm>
            <a:off x="1309680" y="1600200"/>
            <a:ext cx="652464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3" descr="direction.jpg"/>
          <p:cNvPicPr/>
          <p:nvPr/>
        </p:nvPicPr>
        <p:blipFill>
          <a:blip r:embed="rId2"/>
          <a:stretch/>
        </p:blipFill>
        <p:spPr>
          <a:xfrm>
            <a:off x="500040" y="1357200"/>
            <a:ext cx="8072640" cy="4786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4848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3" descr="znaki008_1.jpg"/>
          <p:cNvPicPr/>
          <p:nvPr/>
        </p:nvPicPr>
        <p:blipFill>
          <a:blip r:embed="rId2"/>
          <a:stretch/>
        </p:blipFill>
        <p:spPr>
          <a:xfrm>
            <a:off x="2443320" y="1639800"/>
            <a:ext cx="4257360" cy="4629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вый светофор был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изобретен в 1868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оду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в Лондон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Это был газовый фонарь с двумя фильтрами: зеленым и красным. Цвета менялись с помощью ручного привода, которым управлял полицейск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ервый сигнальный светофор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оявил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США в 1919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од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iCA11IJ5G.jpg"/>
          <p:cNvPicPr/>
          <p:nvPr/>
        </p:nvPicPr>
        <p:blipFill>
          <a:blip r:embed="rId2"/>
          <a:stretch/>
        </p:blipFill>
        <p:spPr>
          <a:xfrm>
            <a:off x="285840" y="1714680"/>
            <a:ext cx="38574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1237549102_1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1822320" y="171360"/>
            <a:ext cx="5499360" cy="1554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picture-390h.jpg"/>
          <p:cNvPicPr/>
          <p:nvPr/>
        </p:nvPicPr>
        <p:blipFill>
          <a:blip r:embed="rId2"/>
          <a:stretch/>
        </p:blipFill>
        <p:spPr>
          <a:xfrm>
            <a:off x="1762200" y="1792440"/>
            <a:ext cx="5943600" cy="4395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28800" y="428760"/>
            <a:ext cx="7143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ля сравн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в Швеции ДТП с участием пешеходов всего 7,3 %, а вот в Румынии – 56 %. Еще несколько примеров. Оказывается, пешеходы терпеть не могут подходящего момента, чтобы перейти дорогу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ловина готова стоять на тротуаре всего 4 секунды, на пятой они готовы рисковать жизнь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чтобы оказаться на противоположной стороне дороги. Надо бороться с подобным нетерпением, помня о том, что первым приходит тот, кто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«торопится медлен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01760" y="128520"/>
            <a:ext cx="846756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2362320"/>
            <a:ext cx="40402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омни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в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это самое незащищенное транспортное средство. У него нет дверей, предохраняющих от удара сбоку, нет бампера, который отчасти принял бы на себя лобовой удар. Поэтому при любом столкновении или наезде на препятствие велосипедист очень уязвим. А себя надо беречь – полноценных запчастей для человека пока не изобр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тор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ездить на велосипеде комфортно там, где для этого создана специальная безопасная зона. Так как таких зон очень мало, старайтесь предупредить любую потенциальную опас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Треть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равило: никогда не пытайтесь проехать между едущим и стоящим автомобилем. Остановитесь, пропустите движущийся на вас автомобиль. Не считайте это за трусость, это всего лишь здравый смысл. Элементарное чувство сохран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ер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лав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старайтесь не выезжать на проезжую часть, даже если вам исполнилось 14 л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мопеде вы можете выезжать на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езжую часть с 16 ле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Но помните: двигаться вы должны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только по крайней правой полосе, в один ряд, как можно правее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сительная зона безопасности кончается дальше </a:t>
            </a: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одного метра от тротуар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371520" y="195120"/>
            <a:ext cx="8583480" cy="1335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омнили главные правила управления этого транспортного средства на дорогах и во дворах нашего города и, и поняли главное – </a:t>
            </a:r>
            <a:r>
              <a:rPr b="1" lang="ru-RU" sz="3600" spc="-1" strike="noStrike" u="sng">
                <a:solidFill>
                  <a:srgbClr val="660033"/>
                </a:solidFill>
                <a:uFillTx/>
                <a:latin typeface="Times New Roman"/>
              </a:rPr>
              <a:t>не стоит подвергать свою жизнь неоправданному риску. Быть осторожным на дороге – это не трусость, а расч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6:18:05Z</dcterms:created>
  <dc:creator>ирина</dc:creator>
  <dc:description/>
  <dc:language>en-US</dc:language>
  <cp:lastModifiedBy>ирина</cp:lastModifiedBy>
  <dcterms:modified xsi:type="dcterms:W3CDTF">2011-05-16T18:16:53Z</dcterms:modified>
  <cp:revision>14</cp:revision>
  <dc:subject/>
  <dc:title>Дисциплина, осторожность и соблюдение правил дорожного движения водителями и пешеходами – основа безопасного движения на улице.</dc:title>
</cp:coreProperties>
</file>