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5FE-0430-4EBB-84AC-41A1183F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A8B-1DB9-4A58-AD10-5C7FC8D4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FC6-922B-4D40-AAB4-F91A1F0B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BA5-C87A-4DEF-97ED-931E1B1F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5FF6-2998-43B1-88B4-2E828BE6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01C7-EE57-4D03-A5CA-973A91F9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133D-B7DA-4CAA-89A2-93BBA124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1A2A-0951-4C09-90A0-C83ED3A9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17A7-832A-400C-8B02-B6ED82B9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73AE-1CF5-4BFF-A7CC-3B14A8C2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25DE-52BA-4C29-877A-F8BDE90F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454-D5D4-4BAB-B82F-3183B450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E6BE-23DD-4223-BA10-583711CF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8453-4132-4364-B610-D83F9536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4722-5C26-4095-86EC-EA2EAF50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4A5E-F440-4978-A464-AAB9572E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BCA1-D56E-4509-932E-2F3BAD37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28A-4FA9-4664-93B0-D5BB1301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6B8-2AA7-4D00-BE3D-3EC3381F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B8B-5D62-4545-84FF-79BB3D68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53D-0EDC-497E-91FE-A91D1E92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E66-EE65-473B-91E6-4BD825FF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EFC-AFC6-4DD6-950F-E5AF598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C92-0474-41BF-A838-7644E480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4897-B040-4B7A-8B61-51A7345E53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5A2F-A7B4-4FFC-AC39-BD1AC297C9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184720" cy="52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Урок биологии 11 класс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02840" y="2493720"/>
            <a:ext cx="8489880" cy="22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3c145"/>
                </a:solidFill>
                <a:latin typeface="Monotype Corsiva"/>
              </a:rPr>
              <a:t>«Человеческие расы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3c145"/>
                </a:solidFill>
                <a:latin typeface="Monotype Corsiva"/>
              </a:rPr>
              <a:t>их происхождение и единство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5" descr="расы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210360" y="593640"/>
            <a:ext cx="2394000" cy="18496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1"/>
          <p:cNvSpPr/>
          <p:nvPr/>
        </p:nvSpPr>
        <p:spPr>
          <a:xfrm>
            <a:off x="3660840" y="4581360"/>
            <a:ext cx="509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диченко Елена Иван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биологии 1 катего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КОУ СОШ №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ницы Суворовск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горного муниципального рай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вропольского кр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Монголоидная рас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63230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ёсткие, прямые и тёмные волосы. Кожа темноватая с жёлтым оттенком, борода и усы растут слабо. Лицо широкое, уплощённое, скулы сильно выступают, нос уплощён, ноздри расположены под углом друг к другу. Глаза узкие, внешний угол глаз чуть выше внутреннего. Губы по толщине - сред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9" descr="mong2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43657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1"/>
          <p:cNvSpPr/>
          <p:nvPr/>
        </p:nvSpPr>
        <p:spPr>
          <a:xfrm>
            <a:off x="6084720" y="4941720"/>
            <a:ext cx="2772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сто возникновения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13" descr="images"/>
          <p:cNvPicPr/>
          <p:nvPr/>
        </p:nvPicPr>
        <p:blipFill>
          <a:blip r:embed="rId2"/>
          <a:stretch/>
        </p:blipFill>
        <p:spPr>
          <a:xfrm>
            <a:off x="395280" y="4149720"/>
            <a:ext cx="1531800" cy="2278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" descr="монг3"/>
          <p:cNvPicPr/>
          <p:nvPr/>
        </p:nvPicPr>
        <p:blipFill>
          <a:blip r:embed="rId3"/>
          <a:stretch/>
        </p:blipFill>
        <p:spPr>
          <a:xfrm>
            <a:off x="4067280" y="4292640"/>
            <a:ext cx="1450800" cy="1946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5" descr="монг2"/>
          <p:cNvPicPr/>
          <p:nvPr/>
        </p:nvPicPr>
        <p:blipFill>
          <a:blip r:embed="rId4"/>
          <a:stretch/>
        </p:blipFill>
        <p:spPr>
          <a:xfrm>
            <a:off x="2340000" y="4869000"/>
            <a:ext cx="1511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030_20"/>
          <p:cNvPicPr/>
          <p:nvPr/>
        </p:nvPicPr>
        <p:blipFill>
          <a:blip r:embed="rId1"/>
          <a:stretch/>
        </p:blipFill>
        <p:spPr>
          <a:xfrm>
            <a:off x="179280" y="260280"/>
            <a:ext cx="4248360" cy="6402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4643280" y="327240"/>
            <a:ext cx="450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онголоидная раса самая многочисленная ра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Люди, принадлежащие к этой расе, очень отличаются друг от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аже ученым пришлось разделять эту расу на подра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сибирские монголои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северокитайские монголои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южнокитайские монголои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малайские монголои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тибетские монголои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41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Негроидная ра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67564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ди с курчавыми волосами, с очень тёмной кожей, Борода и усы растут слабо. Лицо узкое и низкое, нос широкий. Глаза широко открытые. Характерно выступание вперёд нижней части лица. Губы обычно толстые, нередко вздут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5" descr="н2"/>
          <p:cNvPicPr/>
          <p:nvPr/>
        </p:nvPicPr>
        <p:blipFill>
          <a:blip r:embed="rId1"/>
          <a:stretch/>
        </p:blipFill>
        <p:spPr>
          <a:xfrm>
            <a:off x="4140360" y="2749680"/>
            <a:ext cx="4752720" cy="3565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7" descr="trumb_13150815"/>
          <p:cNvPicPr/>
          <p:nvPr/>
        </p:nvPicPr>
        <p:blipFill>
          <a:blip r:embed="rId2"/>
          <a:stretch/>
        </p:blipFill>
        <p:spPr>
          <a:xfrm>
            <a:off x="1042920" y="2492280"/>
            <a:ext cx="2879640" cy="338292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8"/>
          <p:cNvSpPr/>
          <p:nvPr/>
        </p:nvSpPr>
        <p:spPr>
          <a:xfrm>
            <a:off x="0" y="609300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сто возникновения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фрика, к югу от Сах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По мнению других учёных</a:t>
            </a:r>
            <a:r>
              <a:rPr b="1" lang="en-US" sz="4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в виде </a:t>
            </a:r>
            <a:r>
              <a:rPr b="1" lang="en-US" sz="4400" spc="-1" strike="noStrike">
                <a:solidFill>
                  <a:srgbClr val="ffffcc"/>
                </a:solidFill>
                <a:latin typeface="Monotype Corsiva"/>
              </a:rPr>
              <a:t>Homo Sapiens</a:t>
            </a: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 выделяют 4 больше ра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5" name="Picture 6" descr="image020"/>
          <p:cNvPicPr/>
          <p:nvPr/>
        </p:nvPicPr>
        <p:blipFill>
          <a:blip r:embed="rId1"/>
          <a:stretch/>
        </p:blipFill>
        <p:spPr>
          <a:xfrm>
            <a:off x="395280" y="1484280"/>
            <a:ext cx="4818240" cy="51116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7"/>
          <p:cNvSpPr/>
          <p:nvPr/>
        </p:nvSpPr>
        <p:spPr>
          <a:xfrm>
            <a:off x="5364000" y="2205000"/>
            <a:ext cx="39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1.Монголои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2.Европеои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3.Австралои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4.Негрои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17680" y="333000"/>
            <a:ext cx="59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АВСТРАЛОИДНАЯ РАС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2420640"/>
            <a:ext cx="4194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ходит в большую экваториальную (негро-австралоидную) рас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ны темная кожа, широкий нос, прогнатизм, волнистые волосы, сильный рост волос на лице и теле. Распространена в Австралии, Южной Азии и Океан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Picture 6" descr="австралий"/>
          <p:cNvPicPr/>
          <p:nvPr/>
        </p:nvPicPr>
        <p:blipFill>
          <a:blip r:embed="rId1"/>
          <a:stretch/>
        </p:blipFill>
        <p:spPr>
          <a:xfrm>
            <a:off x="468360" y="260280"/>
            <a:ext cx="2305080" cy="201132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7"/>
          <p:cNvSpPr/>
          <p:nvPr/>
        </p:nvSpPr>
        <p:spPr>
          <a:xfrm>
            <a:off x="395280" y="6021360"/>
            <a:ext cx="83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ногие антропологи выделяют австралийскую расу в самостоятельную большую рас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4257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274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Индейская раса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(америнды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42920" y="2060640"/>
            <a:ext cx="4194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ямые чёрные волосы, медного оттенка кожа, тёмные глаза, широкие скулы, орлиный выступающий нос и лопатовидные передние зубы-резц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ейцы — общее название коренного населения Америки . Название возникло от ошибочного представления первых европейских мореплавателей (Христофора Колумба и др., конца XV века), считавших, что открыли Инд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антропологическому типу индейцы принадлежат к американоидной рас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7" descr="51"/>
          <p:cNvPicPr/>
          <p:nvPr/>
        </p:nvPicPr>
        <p:blipFill>
          <a:blip r:embed="rId1"/>
          <a:stretch/>
        </p:blipFill>
        <p:spPr>
          <a:xfrm>
            <a:off x="324000" y="1341360"/>
            <a:ext cx="43192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cc"/>
                </a:solidFill>
                <a:uFillTx/>
                <a:latin typeface="Tahoma"/>
              </a:rPr>
              <a:t>Все современное человечество принадлежит к одному виду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3789360"/>
            <a:ext cx="854064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о умственным способностям (способность к познанию, творчеству, труду) все расы одинаковы. Различия в уровне культуры связаны не с биологическими особенностями, а с социальными условиями развития общества. Расы подразделяются на подрасы, а те – на национальности и народ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Нация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это совокупность людей, объединенных общностью языка, территории и экономического уклада.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Picture 7" descr="могнг"/>
          <p:cNvPicPr/>
          <p:nvPr/>
        </p:nvPicPr>
        <p:blipFill>
          <a:blip r:embed="rId1"/>
          <a:stretch/>
        </p:blipFill>
        <p:spPr>
          <a:xfrm>
            <a:off x="291636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ка"/>
          <p:cNvPicPr/>
          <p:nvPr/>
        </p:nvPicPr>
        <p:blipFill>
          <a:blip r:embed="rId2"/>
          <a:stretch/>
        </p:blipFill>
        <p:spPr>
          <a:xfrm>
            <a:off x="6227640" y="1125360"/>
            <a:ext cx="2479680" cy="2592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9" descr="евр"/>
          <p:cNvPicPr/>
          <p:nvPr/>
        </p:nvPicPr>
        <p:blipFill>
          <a:blip r:embed="rId3"/>
          <a:stretch/>
        </p:blipFill>
        <p:spPr>
          <a:xfrm>
            <a:off x="324000" y="1268280"/>
            <a:ext cx="2044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ahoma"/>
              </a:rPr>
              <a:t>Расизм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— это реакционная идеология и политика, направленная на оправдание эксплуатации человека человеком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336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Расизм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- это социальн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убеждение, существующее п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ношению к групп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юдей на основании физическ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арактеристик (пигментация кож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ипичные черты лица, текстура волос, речь, манеры и другие (этнические) показатели), которые отчетливо видны, но не отражают таких биологически значимых качеств, как пригодность или способ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Расизм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это идеология, которая использует внешние отличия в качестве основной причины для отказа в равном отношении к членам другой группы , считают их отличающимися от своей собственной группы и изначально нижестоящи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Picture 4" descr="рас"/>
          <p:cNvPicPr/>
          <p:nvPr/>
        </p:nvPicPr>
        <p:blipFill>
          <a:blip r:embed="rId1"/>
          <a:stretch/>
        </p:blipFill>
        <p:spPr>
          <a:xfrm>
            <a:off x="5796000" y="1484280"/>
            <a:ext cx="2797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Мы с тобой одной крови: </a:t>
            </a:r>
            <a:br>
              <a:rPr sz="5400"/>
            </a:b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ты и я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4" name="Picture 7" descr="24992045_6968913_5278762_2rm2rdz1"/>
          <p:cNvPicPr/>
          <p:nvPr/>
        </p:nvPicPr>
        <p:blipFill>
          <a:blip r:embed="rId1"/>
          <a:stretch/>
        </p:blipFill>
        <p:spPr>
          <a:xfrm>
            <a:off x="395280" y="1338120"/>
            <a:ext cx="828036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1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03280" y="1125000"/>
            <a:ext cx="614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Monotype Corsiva"/>
              </a:rPr>
              <a:t>Цели урока: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54064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знаний о биологических особенностях человеческих ра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причин их возникновения, формирование понятия о единстве происхождения и биологической равноценности человеческих ра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работка у учащихся правильного подхода к оценке расизма, нацизма, социального дарвинизма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7" descr="i"/>
          <p:cNvPicPr/>
          <p:nvPr/>
        </p:nvPicPr>
        <p:blipFill>
          <a:blip r:embed="rId1"/>
          <a:stretch/>
        </p:blipFill>
        <p:spPr>
          <a:xfrm>
            <a:off x="971640" y="933480"/>
            <a:ext cx="23763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4723920"/>
            <a:ext cx="8820000" cy="16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fa9b7"/>
                </a:solidFill>
                <a:latin typeface="Monotype Corsiva"/>
              </a:rPr>
              <a:t>Человеческие рас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то большие группы людей, отличающиеся некоторыми физическими признаками, например чертами лица, цветом кожи, глаз, волос, формой волос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8" descr="030_9"/>
          <p:cNvPicPr/>
          <p:nvPr/>
        </p:nvPicPr>
        <p:blipFill>
          <a:blip r:embed="rId1"/>
          <a:stretch/>
        </p:blipFill>
        <p:spPr>
          <a:xfrm>
            <a:off x="179280" y="260280"/>
            <a:ext cx="2190960" cy="33339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030_33"/>
          <p:cNvPicPr/>
          <p:nvPr/>
        </p:nvPicPr>
        <p:blipFill>
          <a:blip r:embed="rId2"/>
          <a:stretch/>
        </p:blipFill>
        <p:spPr>
          <a:xfrm>
            <a:off x="6423120" y="333360"/>
            <a:ext cx="2720880" cy="3600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030_26"/>
          <p:cNvPicPr/>
          <p:nvPr/>
        </p:nvPicPr>
        <p:blipFill>
          <a:blip r:embed="rId3"/>
          <a:stretch/>
        </p:blipFill>
        <p:spPr>
          <a:xfrm>
            <a:off x="2411280" y="1413000"/>
            <a:ext cx="396108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современном человечестве выделяют три основные рас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8" descr="1188339530_01"/>
          <p:cNvPicPr/>
          <p:nvPr/>
        </p:nvPicPr>
        <p:blipFill>
          <a:blip r:embed="rId1"/>
          <a:stretch/>
        </p:blipFill>
        <p:spPr>
          <a:xfrm>
            <a:off x="2916360" y="2349360"/>
            <a:ext cx="3421080" cy="24955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9"/>
          <p:cNvSpPr/>
          <p:nvPr/>
        </p:nvSpPr>
        <p:spPr>
          <a:xfrm>
            <a:off x="3385800" y="537372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 е г р о и д н у 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11" descr="030_29"/>
          <p:cNvPicPr/>
          <p:nvPr/>
        </p:nvPicPr>
        <p:blipFill>
          <a:blip r:embed="rId2"/>
          <a:stretch/>
        </p:blipFill>
        <p:spPr>
          <a:xfrm>
            <a:off x="250920" y="1700280"/>
            <a:ext cx="2409840" cy="32004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46800" y="50846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Е в р о п е о и д н у 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6012000" y="5013360"/>
            <a:ext cx="31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 о н г о л о и д н у 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14" descr="030_19"/>
          <p:cNvPicPr/>
          <p:nvPr/>
        </p:nvPicPr>
        <p:blipFill>
          <a:blip r:embed="rId3"/>
          <a:stretch/>
        </p:blipFill>
        <p:spPr>
          <a:xfrm>
            <a:off x="6588000" y="1557360"/>
            <a:ext cx="2233800" cy="31687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5"/>
          <p:cNvSpPr/>
          <p:nvPr/>
        </p:nvSpPr>
        <p:spPr>
          <a:xfrm>
            <a:off x="395280" y="594216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ля каждой расы характерно единство происхождения и формирования на определённой территории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5" descr="карта распределения цвета кожи"/>
          <p:cNvPicPr/>
          <p:nvPr/>
        </p:nvPicPr>
        <p:blipFill>
          <a:blip r:embed="rId1"/>
          <a:stretch/>
        </p:blipFill>
        <p:spPr>
          <a:xfrm>
            <a:off x="539640" y="1268280"/>
            <a:ext cx="6588360" cy="518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7236000" y="1197000"/>
          <a:ext cx="1390320" cy="5257800"/>
        </p:xfrm>
        <a:graphic>
          <a:graphicData uri="http://schemas.openxmlformats.org/drawingml/2006/table">
            <a:tbl>
              <a:tblPr/>
              <a:tblGrid>
                <a:gridCol w="139032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ень блед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вольно бледный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5d6b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межуто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00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ём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ень тём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05" name="Rectangle 41"/>
          <p:cNvSpPr/>
          <p:nvPr/>
        </p:nvSpPr>
        <p:spPr>
          <a:xfrm>
            <a:off x="1155240" y="259560"/>
            <a:ext cx="74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Карта распределения цвета ко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188640"/>
            <a:ext cx="8591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ждая из рас делится на малые расы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435280" y="1628280"/>
            <a:ext cx="3708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зличие между расами сводятся к особенностям цвета кожи, волос, глаз, формы носа, губ и т.д. возникли эти различия в процессе приспособления человеческих популяций к местным природным условия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82"/>
          <p:cNvPicPr/>
          <p:nvPr/>
        </p:nvPicPr>
        <p:blipFill>
          <a:blip r:embed="rId1"/>
          <a:stretch/>
        </p:blipFill>
        <p:spPr>
          <a:xfrm>
            <a:off x="250920" y="1341360"/>
            <a:ext cx="5472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23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асовая классификация человечества без учёта происхождения рас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Picture 6" descr="расовая классиф-я человеч-ва без учёта проих рас"/>
          <p:cNvPicPr/>
          <p:nvPr/>
        </p:nvPicPr>
        <p:blipFill>
          <a:blip r:embed="rId1"/>
          <a:stretch/>
        </p:blipFill>
        <p:spPr>
          <a:xfrm>
            <a:off x="395280" y="1989000"/>
            <a:ext cx="4968720" cy="4621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10507_1"/>
          <p:cNvPicPr/>
          <p:nvPr/>
        </p:nvPicPr>
        <p:blipFill>
          <a:blip r:embed="rId2"/>
          <a:stretch/>
        </p:blipFill>
        <p:spPr>
          <a:xfrm>
            <a:off x="5651640" y="1989000"/>
            <a:ext cx="3205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Европеоидная ра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987280" y="1628280"/>
            <a:ext cx="59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юди с прямыми или волнистыми, часто светлыми волосами, со светлой кожей. Борода и усы растут обычно сильно, лицо узкое с выступающим носом, ширина носа невелика, ноздри параллельны друг другу. Глаза расположены горизонтально, складка верхнего века отсутствует, челюстная часть лица не выступает вперёд, губы обычно тонк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сто возникновения-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вропа и Передняя А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5" descr="europ"/>
          <p:cNvPicPr/>
          <p:nvPr/>
        </p:nvPicPr>
        <p:blipFill>
          <a:blip r:embed="rId1"/>
          <a:stretch/>
        </p:blipFill>
        <p:spPr>
          <a:xfrm>
            <a:off x="0" y="1197000"/>
            <a:ext cx="2749680" cy="3446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200px-Kalashg"/>
          <p:cNvPicPr/>
          <p:nvPr/>
        </p:nvPicPr>
        <p:blipFill>
          <a:blip r:embed="rId2"/>
          <a:stretch/>
        </p:blipFill>
        <p:spPr>
          <a:xfrm>
            <a:off x="2484360" y="278136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01680" y="2781000"/>
            <a:ext cx="4194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потеплением климата пустынные области центральной Африки стали сдвигаться к северу. Белое население стало перемещаться в Малую Азию и далее в Восточную и Западную Европу, частично Сибир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ая раса была более многочисленна, чем негроидная и вероятно имела лучшую организацию, что позволило ей одерживать победу над негроидами, которые стали вытесняться из благоприятных мест для проживания в Африк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11" descr="ев"/>
          <p:cNvPicPr/>
          <p:nvPr/>
        </p:nvPicPr>
        <p:blipFill>
          <a:blip r:embed="rId1"/>
          <a:stretch/>
        </p:blipFill>
        <p:spPr>
          <a:xfrm>
            <a:off x="6659640" y="260280"/>
            <a:ext cx="2095560" cy="2519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030_32"/>
          <p:cNvPicPr/>
          <p:nvPr/>
        </p:nvPicPr>
        <p:blipFill>
          <a:blip r:embed="rId2"/>
          <a:stretch/>
        </p:blipFill>
        <p:spPr>
          <a:xfrm>
            <a:off x="4643280" y="2924280"/>
            <a:ext cx="4092840" cy="36795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3"/>
          <p:cNvSpPr/>
          <p:nvPr/>
        </p:nvSpPr>
        <p:spPr>
          <a:xfrm>
            <a:off x="250920" y="260280"/>
            <a:ext cx="6300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умилев утверждает, что белая раса - возникла в Европе, а оттуда распространилась в Средней Азии, северной Африке и Инд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 это не так: белая раса возникла в северной Африке, на том месте, где сейчас пустыня Сахара. Сначала ореол её распространения была вся Северная Африка до пустынь в центральной Африке и Аравийский полуостров. В ледниковый период в центральных частях Африки были пусты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1:53:13Z</dcterms:created>
  <dc:creator>Helen</dc:creator>
  <dc:description/>
  <dc:language>en-US</dc:language>
  <cp:lastModifiedBy>Admin</cp:lastModifiedBy>
  <dcterms:modified xsi:type="dcterms:W3CDTF">2011-12-27T06:32:17Z</dcterms:modified>
  <cp:revision>5</cp:revision>
  <dc:subject/>
  <dc:title>Урок биологии</dc:title>
</cp:coreProperties>
</file>