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7.jpeg" ContentType="image/jpeg"/>
  <Override PartName="/ppt/media/image50.jpeg" ContentType="image/jpeg"/>
  <Override PartName="/ppt/media/image42.png" ContentType="image/png"/>
  <Override PartName="/ppt/media/image47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1.jpeg" ContentType="image/jpeg"/>
  <Override PartName="/ppt/media/image13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55.jpeg" ContentType="image/jpeg"/>
  <Override PartName="/ppt/media/image56.png" ContentType="image/png"/>
  <Override PartName="/ppt/media/image32.jpeg" ContentType="image/jpeg"/>
  <Override PartName="/ppt/media/image30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35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11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AC2-74FD-4B93-B023-3474F80E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147-8FBE-45C4-BB51-7A33A542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FC9-9915-4214-8750-FA979B8D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F70-801F-4031-9C7D-69DF949D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4F4B-5B5D-4D04-AC7C-8296B29A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A9C-8036-4B8C-8F2F-EDBC48BE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1A3B-8877-4896-A82E-0D82A634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D787-3AA6-4C4A-8E11-EC294F4D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21B2-386B-4A94-8A5A-5EF56194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DE5B-34B3-4337-9F8F-9263F559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753D-2BD1-434A-B363-5DCB057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0E2-7268-413F-91AB-34C82998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1E82-FD0A-4838-941C-3F0137F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F927-1DA0-4591-AE73-F9800A28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A7B-4BBC-496F-9726-67567562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1785-7947-4DC5-AEFE-EA361B67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3DAD-05B2-483B-B189-7C9E010F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0D05-9675-4EB4-B558-ABAFD7B3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1198-9302-4AA8-8C00-ED033875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B1E6-4D9C-4614-831D-34A362C9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7F45-9A91-4DC5-8ABD-DEF9E2D1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6C0C-1C0C-4A31-8B3F-ADFED032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224-EDCA-4B1F-B0A5-F26D18E5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49E9-AC66-477E-B8E5-1C67EEA2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8A7F-8C3F-4CCC-8164-BF30779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6EF5-5412-4CE8-97FB-3083C279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6B5C-C805-4F1D-920A-95D7788F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8F4C-7FE7-461B-96C6-279FCA20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549F-A475-4A05-ABEC-988D7AC3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8861-BCE5-434F-BA5D-C826C7E6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A5764-8A5F-492B-85AB-7B58737C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7F432-B0AC-4E51-8B1F-7EBCF195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9A07-516A-49D8-A8C5-14A47082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F51-45D2-4C3D-8BCB-7475E191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79CC1-CD94-4FD0-BBCF-A612EC96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AFCEB-2370-4A27-A5C3-74994960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A0D5-81C6-4C92-B163-09360A83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C152-F7E2-4977-969C-D61EA561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075A5-6DC4-4B6F-BC91-8B34D162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5358-FA37-4BE8-87E2-8854020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DA633-ED83-419D-BA1F-102BF2EE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85CF-D2F1-4E7E-BCA0-EF538C2C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31CD2-3C1F-432E-9963-2771E8D4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4725-F768-4A22-907B-D444153D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B6E-34C2-498D-B54C-B58B4BD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4D3B-DD93-4F32-95B7-DE17C575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998D3-69C7-40E0-AA81-847735DD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FE0E9-E02F-4101-9783-870460F9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3D88-61D6-4DCF-9191-0C47BD0C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2372A-D69B-4C6F-BB23-71B9337D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A32C-F7DA-4597-81C1-8CEEA0B9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F7ED8-F3FB-459B-A9F4-9160EE5B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DB762-FCAD-4063-8246-3FBE1D35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93018-25AE-4F48-BB8B-FE78577D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0F15-7289-4011-9796-2A5602C2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0FA-6B6A-465A-BA4F-A253123D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EA644-6155-449B-8E5E-7CDD1B07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158-20FE-4FF3-B6C3-6BCC5A9C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F11-A836-40A7-AB12-38AF9465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23A-D54A-4472-83C3-4270A511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059B-A6B1-456E-8C3B-D56F3544461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7E06-A2AB-4449-9064-B5B31DFCAE1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42A0-576A-4FEB-835E-0906EDC68BB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ACAB-D800-4FFB-AB5D-D315BB16402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0D59-8961-4688-8631-2E545BA9405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4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5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20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«Будет ныне учреждён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Наш союз вагант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Для людей любых племён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наний и талантов.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( из поэзии вагантов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6" name="Содержимое 3" descr="окуджава2.jpg"/>
          <p:cNvPicPr/>
          <p:nvPr/>
        </p:nvPicPr>
        <p:blipFill>
          <a:blip r:embed="rId2"/>
          <a:stretch/>
        </p:blipFill>
        <p:spPr>
          <a:xfrm>
            <a:off x="1785960" y="1500120"/>
            <a:ext cx="5000760" cy="5143680"/>
          </a:xfrm>
          <a:prstGeom prst="rect">
            <a:avLst/>
          </a:prstGeom>
          <a:ln w="0">
            <a:noFill/>
          </a:ln>
        </p:spPr>
      </p:pic>
      <p:pic>
        <p:nvPicPr>
          <p:cNvPr id="257" name="Б.ОКУДЖАВА - ДО СВИДАНИЯ, МАЛЬЧИКИ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593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3" descr="окуджава3.jpg"/>
          <p:cNvPicPr/>
          <p:nvPr/>
        </p:nvPicPr>
        <p:blipFill>
          <a:blip r:embed="rId2"/>
          <a:stretch/>
        </p:blipFill>
        <p:spPr>
          <a:xfrm>
            <a:off x="457200" y="160956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1" name="Содержимое 3" descr="высоцкий.jpg"/>
          <p:cNvPicPr/>
          <p:nvPr/>
        </p:nvPicPr>
        <p:blipFill>
          <a:blip r:embed="rId2"/>
          <a:stretch/>
        </p:blipFill>
        <p:spPr>
          <a:xfrm>
            <a:off x="1714680" y="1609560"/>
            <a:ext cx="47862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AutoShap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358040" cy="115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2563920" cy="3810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3733920" y="2590920"/>
            <a:ext cx="541008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дающийся русский советский поэт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евец и актёр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втор нескольких прозаических произведений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служенный артист РСФСР (1986, посмертно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лауреат Государственной премии СССР (1987, посмертно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3" descr="высоцкий3.jpg"/>
          <p:cNvPicPr/>
          <p:nvPr/>
        </p:nvPicPr>
        <p:blipFill>
          <a:blip r:embed="rId2"/>
          <a:stretch/>
        </p:blipFill>
        <p:spPr>
          <a:xfrm>
            <a:off x="285840" y="1714680"/>
            <a:ext cx="7572240" cy="4071600"/>
          </a:xfrm>
          <a:prstGeom prst="rect">
            <a:avLst/>
          </a:prstGeom>
          <a:ln w="0">
            <a:noFill/>
          </a:ln>
        </p:spPr>
      </p:pic>
      <p:pic>
        <p:nvPicPr>
          <p:cNvPr id="267" name="А сыновья уходыт в бой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1049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3" descr="высоцкий2.jpg"/>
          <p:cNvPicPr/>
          <p:nvPr/>
        </p:nvPicPr>
        <p:blipFill>
          <a:blip r:embed="rId2"/>
          <a:stretch/>
        </p:blipFill>
        <p:spPr>
          <a:xfrm>
            <a:off x="714240" y="1428840"/>
            <a:ext cx="6786720" cy="5429160"/>
          </a:xfrm>
          <a:prstGeom prst="rect">
            <a:avLst/>
          </a:prstGeom>
          <a:ln w="0">
            <a:noFill/>
          </a:ln>
        </p:spPr>
      </p:pic>
      <p:pic>
        <p:nvPicPr>
          <p:cNvPr id="270" name="ВЫСОЦКИЙ - Я НЕ ЛЮБЛЮ(+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2046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2" name="Содержимое 3" descr="высоцкий4.jpg"/>
          <p:cNvPicPr/>
          <p:nvPr/>
        </p:nvPicPr>
        <p:blipFill>
          <a:blip r:embed="rId2"/>
          <a:stretch/>
        </p:blipFill>
        <p:spPr>
          <a:xfrm>
            <a:off x="1785960" y="1357200"/>
            <a:ext cx="4857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4" name="Содержимое 3" descr="визбор2.jpg"/>
          <p:cNvPicPr/>
          <p:nvPr/>
        </p:nvPicPr>
        <p:blipFill>
          <a:blip r:embed="rId2"/>
          <a:stretch/>
        </p:blipFill>
        <p:spPr>
          <a:xfrm>
            <a:off x="1071720" y="1428840"/>
            <a:ext cx="5929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6" name="Содержимое 3" descr="визбор3.jpg"/>
          <p:cNvPicPr/>
          <p:nvPr/>
        </p:nvPicPr>
        <p:blipFill>
          <a:blip r:embed="rId2"/>
          <a:stretch/>
        </p:blipFill>
        <p:spPr>
          <a:xfrm>
            <a:off x="1643040" y="1571760"/>
            <a:ext cx="5072040" cy="5286240"/>
          </a:xfrm>
          <a:prstGeom prst="rect">
            <a:avLst/>
          </a:prstGeom>
          <a:ln w="0">
            <a:noFill/>
          </a:ln>
        </p:spPr>
      </p:pic>
      <p:pic>
        <p:nvPicPr>
          <p:cNvPr id="277" name="ВИЗБОР ЮРИЙ_Солнышко мое (кл 192)_12866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007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3" descr="визбор4.jpg"/>
          <p:cNvPicPr/>
          <p:nvPr/>
        </p:nvPicPr>
        <p:blipFill>
          <a:blip r:embed="rId2"/>
          <a:stretch/>
        </p:blipFill>
        <p:spPr>
          <a:xfrm>
            <a:off x="504720" y="1652760"/>
            <a:ext cx="7143840" cy="4762440"/>
          </a:xfrm>
          <a:prstGeom prst="rect">
            <a:avLst/>
          </a:prstGeom>
          <a:ln w="0">
            <a:noFill/>
          </a:ln>
        </p:spPr>
      </p:pic>
      <p:pic>
        <p:nvPicPr>
          <p:cNvPr id="280" name="за туманом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1415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вторская песня- своеобразный городской фольклор, который называют по-разном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рдовская песн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одеятельная песн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эзия под гитар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AutoShap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200px-Mityaev1bw"/>
          <p:cNvPicPr/>
          <p:nvPr/>
        </p:nvPicPr>
        <p:blipFill>
          <a:blip r:embed="rId2"/>
          <a:stretch/>
        </p:blipFill>
        <p:spPr>
          <a:xfrm>
            <a:off x="762120" y="2590920"/>
            <a:ext cx="2539800" cy="3682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 flipV="1" rot="10800000">
            <a:off x="3276720" y="3013560"/>
            <a:ext cx="586728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оссийский бард, музыкант, актёр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лен Союза писателей Росси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родный артис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втор и первый исполнитель песни «Как здорово, что все мы здесь сегодня собрались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5" name="Содержимое 3" descr="митяев2.jpg"/>
          <p:cNvPicPr/>
          <p:nvPr/>
        </p:nvPicPr>
        <p:blipFill>
          <a:blip r:embed="rId2"/>
          <a:stretch/>
        </p:blipFill>
        <p:spPr>
          <a:xfrm>
            <a:off x="457200" y="1641600"/>
            <a:ext cx="7238880" cy="4782960"/>
          </a:xfrm>
          <a:prstGeom prst="rect">
            <a:avLst/>
          </a:prstGeom>
          <a:ln w="0">
            <a:noFill/>
          </a:ln>
        </p:spPr>
      </p:pic>
      <p:pic>
        <p:nvPicPr>
          <p:cNvPr id="286" name="КАК ЗДОРОВО ЧТО ВСЕ МЫ ЗДЕСЬ СЕГОДНЯ СОБРАЛИСЬ 0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129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3" descr="никитины2.jpg"/>
          <p:cNvPicPr/>
          <p:nvPr/>
        </p:nvPicPr>
        <p:blipFill>
          <a:blip r:embed="rId2"/>
          <a:stretch/>
        </p:blipFill>
        <p:spPr>
          <a:xfrm>
            <a:off x="1214280" y="1428840"/>
            <a:ext cx="5715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90" name="Содержимое 3" descr="никитины4.jpg"/>
          <p:cNvPicPr/>
          <p:nvPr/>
        </p:nvPicPr>
        <p:blipFill>
          <a:blip r:embed="rId2"/>
          <a:stretch/>
        </p:blipFill>
        <p:spPr>
          <a:xfrm>
            <a:off x="714240" y="1357200"/>
            <a:ext cx="6643800" cy="5072040"/>
          </a:xfrm>
          <a:prstGeom prst="rect">
            <a:avLst/>
          </a:prstGeom>
          <a:ln w="0">
            <a:noFill/>
          </a:ln>
        </p:spPr>
      </p:pic>
      <p:pic>
        <p:nvPicPr>
          <p:cNvPr id="291" name="НИКИТИНЫ ТАТЬЯНА И СЕРГЕЙ - ВЕСЕННЕЕ ТАНГО(+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846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93" name="Содержимое 3" descr="никитины.jpg"/>
          <p:cNvPicPr/>
          <p:nvPr/>
        </p:nvPicPr>
        <p:blipFill>
          <a:blip r:embed="rId2"/>
          <a:stretch/>
        </p:blipFill>
        <p:spPr>
          <a:xfrm>
            <a:off x="785880" y="1571760"/>
            <a:ext cx="6429240" cy="4846680"/>
          </a:xfrm>
          <a:prstGeom prst="rect">
            <a:avLst/>
          </a:prstGeom>
          <a:ln w="0">
            <a:noFill/>
          </a:ln>
        </p:spPr>
      </p:pic>
      <p:pic>
        <p:nvPicPr>
          <p:cNvPr id="294" name="НИКИТИН СЕРГЕЙ_Под Музыку Вивальди (зб 128)_9437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6700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96" name="Содержимое 3" descr="берковский.jpg"/>
          <p:cNvPicPr/>
          <p:nvPr/>
        </p:nvPicPr>
        <p:blipFill>
          <a:blip r:embed="rId2"/>
          <a:stretch/>
        </p:blipFill>
        <p:spPr>
          <a:xfrm>
            <a:off x="1285920" y="1428840"/>
            <a:ext cx="5715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98" name="Содержимое 3" descr="берковский 2.jpg"/>
          <p:cNvPicPr/>
          <p:nvPr/>
        </p:nvPicPr>
        <p:blipFill>
          <a:blip r:embed="rId2"/>
          <a:stretch/>
        </p:blipFill>
        <p:spPr>
          <a:xfrm>
            <a:off x="1214280" y="1428840"/>
            <a:ext cx="5857920" cy="5286240"/>
          </a:xfrm>
          <a:prstGeom prst="rect">
            <a:avLst/>
          </a:prstGeom>
          <a:ln w="0">
            <a:noFill/>
          </a:ln>
        </p:spPr>
      </p:pic>
      <p:pic>
        <p:nvPicPr>
          <p:cNvPr id="299" name="гренада Берковский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1576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838080" y="1642680"/>
            <a:ext cx="76932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ешь ли ты, кто такие барды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 такое, по твоему мнению, «авторская песня»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 чем поют барды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ешь ли ты какие-нибудь известные бардовские песн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ют ли эти песни в твоей семь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ких известных бардов нашей страны ты знаеш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, по твоему мнению, нравится людям в бардовской песн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ородской романс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нт(бытовая многоголосная песня)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рестьянские песни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Творчество декабристо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сни беспризорнико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уденческий фольклор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рд-(от английского и ирландского- певец)- народный певец у древних кельтских племё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наши дни бардами называют создателей авторской пес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йчас их имена знают вс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AutoShap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626680" cy="1785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928880" y="2361960"/>
            <a:ext cx="6526080" cy="36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Ю.Визбо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.Окуджав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.Берковск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Ю.Ки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.Высоцк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.Никитин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.Никити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.Митяе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.Розембау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4" descr="ab829seq[1]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0" y="1981080"/>
            <a:ext cx="1928880" cy="48769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6" descr="Высоцкий.jpg"/>
          <p:cNvPicPr/>
          <p:nvPr/>
        </p:nvPicPr>
        <p:blipFill>
          <a:blip r:embed="rId3"/>
          <a:stretch/>
        </p:blipFill>
        <p:spPr>
          <a:xfrm>
            <a:off x="6215040" y="3500280"/>
            <a:ext cx="838080" cy="12463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7" descr="Городницкий.jpg"/>
          <p:cNvPicPr/>
          <p:nvPr/>
        </p:nvPicPr>
        <p:blipFill>
          <a:blip r:embed="rId4"/>
          <a:stretch/>
        </p:blipFill>
        <p:spPr>
          <a:xfrm>
            <a:off x="4143240" y="3500280"/>
            <a:ext cx="838440" cy="12574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Ким.jpg"/>
          <p:cNvPicPr/>
          <p:nvPr/>
        </p:nvPicPr>
        <p:blipFill>
          <a:blip r:embed="rId5"/>
          <a:stretch/>
        </p:blipFill>
        <p:spPr>
          <a:xfrm>
            <a:off x="5143680" y="3500280"/>
            <a:ext cx="838080" cy="1257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Визбор.jpg"/>
          <p:cNvPicPr/>
          <p:nvPr/>
        </p:nvPicPr>
        <p:blipFill>
          <a:blip r:embed="rId6"/>
          <a:stretch/>
        </p:blipFill>
        <p:spPr>
          <a:xfrm>
            <a:off x="5562720" y="2362320"/>
            <a:ext cx="1238040" cy="9619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Митяев.jpg"/>
          <p:cNvPicPr/>
          <p:nvPr/>
        </p:nvPicPr>
        <p:blipFill>
          <a:blip r:embed="rId7"/>
          <a:stretch/>
        </p:blipFill>
        <p:spPr>
          <a:xfrm>
            <a:off x="6786720" y="4786200"/>
            <a:ext cx="1623960" cy="1143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1" descr="Никитины.jpg"/>
          <p:cNvPicPr/>
          <p:nvPr/>
        </p:nvPicPr>
        <p:blipFill>
          <a:blip r:embed="rId8"/>
          <a:stretch/>
        </p:blipFill>
        <p:spPr>
          <a:xfrm>
            <a:off x="7143840" y="3500280"/>
            <a:ext cx="1209600" cy="11811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2" descr="Галич.jpg"/>
          <p:cNvPicPr/>
          <p:nvPr/>
        </p:nvPicPr>
        <p:blipFill>
          <a:blip r:embed="rId9"/>
          <a:stretch/>
        </p:blipFill>
        <p:spPr>
          <a:xfrm>
            <a:off x="4495680" y="2286000"/>
            <a:ext cx="981360" cy="11714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3" descr="Окуджава.jpg"/>
          <p:cNvPicPr/>
          <p:nvPr/>
        </p:nvPicPr>
        <p:blipFill>
          <a:blip r:embed="rId10"/>
          <a:stretch/>
        </p:blipFill>
        <p:spPr>
          <a:xfrm>
            <a:off x="6858000" y="2286000"/>
            <a:ext cx="87624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4" descr="novella-matveeva.jpg"/>
          <p:cNvPicPr/>
          <p:nvPr/>
        </p:nvPicPr>
        <p:blipFill>
          <a:blip r:embed="rId11"/>
          <a:stretch/>
        </p:blipFill>
        <p:spPr>
          <a:xfrm>
            <a:off x="5357880" y="4786200"/>
            <a:ext cx="1371600" cy="11970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5" descr="yakusheva.jpg"/>
          <p:cNvPicPr/>
          <p:nvPr/>
        </p:nvPicPr>
        <p:blipFill>
          <a:blip r:embed="rId12"/>
          <a:stretch/>
        </p:blipFill>
        <p:spPr>
          <a:xfrm>
            <a:off x="4000680" y="478620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2" name="AutoShap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80720" cy="18716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гусляр.jpg"/>
          <p:cNvPicPr/>
          <p:nvPr/>
        </p:nvPicPr>
        <p:blipFill>
          <a:blip r:embed="rId2"/>
          <a:stretch/>
        </p:blipFill>
        <p:spPr>
          <a:xfrm>
            <a:off x="3357720" y="2143080"/>
            <a:ext cx="2666880" cy="29386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скоморохи.jpg"/>
          <p:cNvPicPr/>
          <p:nvPr/>
        </p:nvPicPr>
        <p:blipFill>
          <a:blip r:embed="rId3"/>
          <a:stretch/>
        </p:blipFill>
        <p:spPr>
          <a:xfrm>
            <a:off x="5786280" y="4572000"/>
            <a:ext cx="3200400" cy="2411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шуты.jpg"/>
          <p:cNvPicPr/>
          <p:nvPr/>
        </p:nvPicPr>
        <p:blipFill>
          <a:blip r:embed="rId4"/>
          <a:stretch/>
        </p:blipFill>
        <p:spPr>
          <a:xfrm>
            <a:off x="0" y="3276720"/>
            <a:ext cx="3460680" cy="38638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9" descr="менестрель.jpg"/>
          <p:cNvPicPr/>
          <p:nvPr/>
        </p:nvPicPr>
        <p:blipFill>
          <a:blip r:embed="rId5"/>
          <a:stretch/>
        </p:blipFill>
        <p:spPr>
          <a:xfrm>
            <a:off x="5894280" y="1857240"/>
            <a:ext cx="32497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450720" y="920880"/>
            <a:ext cx="7255080" cy="944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928880" y="2209680"/>
            <a:ext cx="621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мысл их песен –незатейливый, иногда скрытый поэтический, вроде басни под музык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каждой песне – целый мир, каким видит его каждый из исполнителе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ех творцов авторской песни объединяет уважение к человеческой индивидуальности , мечта о таком обществе, где соблюдаются  права личност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Рисунок 12" descr="Галич.jpg"/>
          <p:cNvPicPr/>
          <p:nvPr/>
        </p:nvPicPr>
        <p:blipFill>
          <a:blip r:embed="rId2"/>
          <a:stretch/>
        </p:blipFill>
        <p:spPr>
          <a:xfrm>
            <a:off x="0" y="2438280"/>
            <a:ext cx="1809720" cy="2160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1" descr="Никитины.jpg"/>
          <p:cNvPicPr/>
          <p:nvPr/>
        </p:nvPicPr>
        <p:blipFill>
          <a:blip r:embed="rId3"/>
          <a:stretch/>
        </p:blipFill>
        <p:spPr>
          <a:xfrm>
            <a:off x="0" y="4800600"/>
            <a:ext cx="1951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755640" y="835200"/>
            <a:ext cx="7937640" cy="115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761760" y="2743200"/>
            <a:ext cx="7692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ждого ли автора, исполняющего собственные песни, можно назвать бардом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чему люди, родившиеся в мирное время, пишут песни о войн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4" name="Содержимое 3" descr="окуджава.jpg"/>
          <p:cNvPicPr/>
          <p:nvPr/>
        </p:nvPicPr>
        <p:blipFill>
          <a:blip r:embed="rId2"/>
          <a:stretch/>
        </p:blipFill>
        <p:spPr>
          <a:xfrm>
            <a:off x="571680" y="1428840"/>
            <a:ext cx="6858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6:56:38Z</dcterms:created>
  <dc:creator>XP GAME 2008</dc:creator>
  <dc:description/>
  <dc:language>en-US</dc:language>
  <cp:lastModifiedBy>XP GAME 2008</cp:lastModifiedBy>
  <dcterms:modified xsi:type="dcterms:W3CDTF">2011-11-07T10:03:35Z</dcterms:modified>
  <cp:revision>7</cp:revision>
  <dc:subject/>
  <dc:title>Авторская песня: прошлое и настоящее.</dc:title>
</cp:coreProperties>
</file>