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4.jpeg" ContentType="image/jpeg"/>
  <Override PartName="/ppt/media/image40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37.jpeg" ContentType="image/jpeg"/>
  <Override PartName="/ppt/media/image50.jpeg" ContentType="image/jpeg"/>
  <Override PartName="/ppt/media/image42.png" ContentType="image/png"/>
  <Override PartName="/ppt/media/image47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51.jpeg" ContentType="image/jpeg"/>
  <Override PartName="/ppt/media/image13.jpeg" ContentType="image/jpeg"/>
  <Override PartName="/ppt/media/image48.jpeg" ContentType="image/jpeg"/>
  <Override PartName="/ppt/media/image53.png" ContentType="image/png"/>
  <Override PartName="/ppt/media/image54.jpeg" ContentType="image/jpeg"/>
  <Override PartName="/ppt/media/image55.jpeg" ContentType="image/jpeg"/>
  <Override PartName="/ppt/media/image56.png" ContentType="image/png"/>
  <Override PartName="/ppt/media/image32.jpeg" ContentType="image/jpeg"/>
  <Override PartName="/ppt/media/image30.jpeg" ContentType="image/jpeg"/>
  <Override PartName="/ppt/media/image10.jpeg" ContentType="image/jpeg"/>
  <Override PartName="/ppt/media/image38.jpeg" ContentType="image/jpeg"/>
  <Override PartName="/ppt/media/image28.png" ContentType="image/png"/>
  <Override PartName="/ppt/media/image35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11.jpeg" ContentType="image/jpe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F516-1A69-4572-B607-AC97A093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8B8A-7333-48EC-AFE4-172D808E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BCDB-EE35-4D45-81BD-9A235225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25F-DCEC-4F6D-A1C6-D25FEBB5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1985-EC0C-4AF9-BBC8-01938BD6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68FD-1FF2-43C9-920F-6C4E7C80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BAA4-A7B4-4966-8F35-FACC30EB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F8BF-7E3E-4E95-B2EF-16311D50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B123-EE49-44B6-B243-C79F2C6D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3CDD-FD37-4E14-BEDB-7C03D025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773E-E78F-4FEB-AF12-A3E65D4A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CD08-EE4A-4F6A-BF9C-A0095E78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6697-D1E5-42A7-B6E5-310BD7DA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07E3-E5D6-479A-A051-F6A02847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81B7-25E0-4A4F-AB3D-4160FD57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6ED3-F5E1-4754-9D9B-628956F9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BE1D-FEF5-4184-8095-656182C1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4E6F-35C8-40F3-B42C-E7A48ABA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E9410-F902-4F14-9D5A-A657B958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5DA99-3C9D-4AA1-8E76-E0FBF374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0C7CE-AB61-4B43-8F07-C6A57AA5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5FDF3-7E38-467D-BDBF-329ED468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26C-7C23-4A2D-8FA5-95D4D08E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45E14-6227-4BFA-8C4B-4F4CA98E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87B63-4343-421D-A875-D66F57AA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175CB-3E65-4F61-8772-7C3338CC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4618F-4C69-4B8C-A867-838525A4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82BD6-6D91-46EC-92EA-8A50DC6B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11E06-D078-4474-98D1-03273EBD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4F097-B1DC-4F92-B56E-CD14134E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BB8AD-C364-4B79-95D1-911182D1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37D82-B2BF-48F8-85D3-893C619C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53437-F9D3-44B6-8B94-290C984D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46CF-BC35-4654-992D-776A7D0B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EDDA1-3BC4-4244-8A81-13CB78C9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203EA-1835-4E2D-AB21-8500FC97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06CC0-6F7E-41EE-B489-C5384073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6BC18-A008-40A2-AB52-753ADDC2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0B4B8-699F-4EE9-965A-9555CAA9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C64CD-2FFD-4BB0-B515-C03CB2C0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86231-8505-4708-BC4D-C54B5F6D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9BD76-600E-46B1-AF93-2020C7A4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7256E-CC97-45E2-9502-B11C68AA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040CE-4D5C-45BD-B261-AFC044D0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A2F-352C-447E-B0FE-F931D0E5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8A912-3FDF-4B6E-BF2A-49FDC9FB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F2ED9-1764-498D-AA8D-010BE877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066C3-496D-47B4-A1C3-CDEB3B53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B22D4-30DB-48AC-B144-AA109A75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256E3-73F3-46E9-B3E3-9151F6CB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FA8BA-D7BA-421A-93E2-2256D950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666A3-514D-4C8A-9AC9-BF7455CB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C0664-D47C-457C-834B-2CC1948B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B6398-ADAB-4CDE-AC57-5DB15927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50FA5-EDF1-4D19-B4BC-B44BA9A7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BB5A-F03E-484C-AFAC-3C308BE9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8B65C-3415-4FE8-A747-6DB02CAA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543C-05D6-42E8-A845-BA069BFB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674-5FD7-486B-82EE-3F2DD8B1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73C9-490B-450A-AD27-26672489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BBEF-2A03-4078-B0AA-5F950040F89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46FA-06AC-4A37-ABCA-1634C90E356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C5B0-CEC5-4D9D-8D43-1398316CAD9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B125-F21D-4690-9552-35E330746D35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B6C8-6B13-463A-9C95-82DC56235E7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7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8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4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1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2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5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04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20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«Будет ныне учреждён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Наш союз вагантов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Для людей любых племён,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Знаний и талантов.»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( из поэзии вагантов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56" name="Содержимое 3" descr="окуджава2.jpg"/>
          <p:cNvPicPr/>
          <p:nvPr/>
        </p:nvPicPr>
        <p:blipFill>
          <a:blip r:embed="rId2"/>
          <a:stretch/>
        </p:blipFill>
        <p:spPr>
          <a:xfrm>
            <a:off x="1785960" y="1500120"/>
            <a:ext cx="5000760" cy="5143680"/>
          </a:xfrm>
          <a:prstGeom prst="rect">
            <a:avLst/>
          </a:prstGeom>
          <a:ln w="0">
            <a:noFill/>
          </a:ln>
        </p:spPr>
      </p:pic>
      <p:pic>
        <p:nvPicPr>
          <p:cNvPr id="257" name="Б.ОКУДЖАВА - ДО СВИДАНИЯ, МАЛЬЧИКИ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2593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59" name="Содержимое 3" descr="окуджава3.jpg"/>
          <p:cNvPicPr/>
          <p:nvPr/>
        </p:nvPicPr>
        <p:blipFill>
          <a:blip r:embed="rId2"/>
          <a:stretch/>
        </p:blipFill>
        <p:spPr>
          <a:xfrm>
            <a:off x="457200" y="160956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61" name="Содержимое 3" descr="высоцкий.jpg"/>
          <p:cNvPicPr/>
          <p:nvPr/>
        </p:nvPicPr>
        <p:blipFill>
          <a:blip r:embed="rId2"/>
          <a:stretch/>
        </p:blipFill>
        <p:spPr>
          <a:xfrm>
            <a:off x="1714680" y="1609560"/>
            <a:ext cx="478620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AutoShap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358040" cy="1150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1066680" y="2666880"/>
            <a:ext cx="2563920" cy="38102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5"/>
          <p:cNvSpPr/>
          <p:nvPr/>
        </p:nvSpPr>
        <p:spPr>
          <a:xfrm>
            <a:off x="3733920" y="2590920"/>
            <a:ext cx="541008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ыдающийся русский советский поэт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евец и актёр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втор нескольких прозаических произведений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заслуженный артист РСФСР (1986, посмертно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 лауреат Государственной премии СССР (1987, посмертно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66" name="Содержимое 3" descr="высоцкий3.jpg"/>
          <p:cNvPicPr/>
          <p:nvPr/>
        </p:nvPicPr>
        <p:blipFill>
          <a:blip r:embed="rId2"/>
          <a:stretch/>
        </p:blipFill>
        <p:spPr>
          <a:xfrm>
            <a:off x="285840" y="1714680"/>
            <a:ext cx="7572240" cy="4071600"/>
          </a:xfrm>
          <a:prstGeom prst="rect">
            <a:avLst/>
          </a:prstGeom>
          <a:ln w="0">
            <a:noFill/>
          </a:ln>
        </p:spPr>
      </p:pic>
      <p:pic>
        <p:nvPicPr>
          <p:cNvPr id="267" name="А сыновья уходыт в бой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1049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69" name="Содержимое 3" descr="высоцкий2.jpg"/>
          <p:cNvPicPr/>
          <p:nvPr/>
        </p:nvPicPr>
        <p:blipFill>
          <a:blip r:embed="rId2"/>
          <a:stretch/>
        </p:blipFill>
        <p:spPr>
          <a:xfrm>
            <a:off x="714240" y="1428840"/>
            <a:ext cx="6786720" cy="5429160"/>
          </a:xfrm>
          <a:prstGeom prst="rect">
            <a:avLst/>
          </a:prstGeom>
          <a:ln w="0">
            <a:noFill/>
          </a:ln>
        </p:spPr>
      </p:pic>
      <p:pic>
        <p:nvPicPr>
          <p:cNvPr id="270" name="ВЫСОЦКИЙ - Я НЕ ЛЮБЛЮ(+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32046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2" name="Содержимое 3" descr="высоцкий4.jpg"/>
          <p:cNvPicPr/>
          <p:nvPr/>
        </p:nvPicPr>
        <p:blipFill>
          <a:blip r:embed="rId2"/>
          <a:stretch/>
        </p:blipFill>
        <p:spPr>
          <a:xfrm>
            <a:off x="1785960" y="1357200"/>
            <a:ext cx="4857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4" name="Содержимое 3" descr="визбор2.jpg"/>
          <p:cNvPicPr/>
          <p:nvPr/>
        </p:nvPicPr>
        <p:blipFill>
          <a:blip r:embed="rId2"/>
          <a:stretch/>
        </p:blipFill>
        <p:spPr>
          <a:xfrm>
            <a:off x="1071720" y="1428840"/>
            <a:ext cx="59292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6" name="Содержимое 3" descr="визбор3.jpg"/>
          <p:cNvPicPr/>
          <p:nvPr/>
        </p:nvPicPr>
        <p:blipFill>
          <a:blip r:embed="rId2"/>
          <a:stretch/>
        </p:blipFill>
        <p:spPr>
          <a:xfrm>
            <a:off x="1643040" y="1571760"/>
            <a:ext cx="5072040" cy="5286240"/>
          </a:xfrm>
          <a:prstGeom prst="rect">
            <a:avLst/>
          </a:prstGeom>
          <a:ln w="0">
            <a:noFill/>
          </a:ln>
        </p:spPr>
      </p:pic>
      <p:pic>
        <p:nvPicPr>
          <p:cNvPr id="277" name="ВИЗБОР ЮРИЙ_Солнышко мое (кл 192)_12866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6007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9" name="Содержимое 3" descr="визбор4.jpg"/>
          <p:cNvPicPr/>
          <p:nvPr/>
        </p:nvPicPr>
        <p:blipFill>
          <a:blip r:embed="rId2"/>
          <a:stretch/>
        </p:blipFill>
        <p:spPr>
          <a:xfrm>
            <a:off x="504720" y="1652760"/>
            <a:ext cx="7143840" cy="4762440"/>
          </a:xfrm>
          <a:prstGeom prst="rect">
            <a:avLst/>
          </a:prstGeom>
          <a:ln w="0">
            <a:noFill/>
          </a:ln>
        </p:spPr>
      </p:pic>
      <p:pic>
        <p:nvPicPr>
          <p:cNvPr id="280" name="за туманом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81415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вторская песня- своеобразный городской фольклор, который называют по-разному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ардовская песн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амодеятельная песн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эзия под гитар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AutoShap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200px-Mityaev1bw"/>
          <p:cNvPicPr/>
          <p:nvPr/>
        </p:nvPicPr>
        <p:blipFill>
          <a:blip r:embed="rId2"/>
          <a:stretch/>
        </p:blipFill>
        <p:spPr>
          <a:xfrm>
            <a:off x="762120" y="2590920"/>
            <a:ext cx="2539800" cy="36828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5"/>
          <p:cNvSpPr/>
          <p:nvPr/>
        </p:nvSpPr>
        <p:spPr>
          <a:xfrm flipV="1" rot="10800000">
            <a:off x="3276720" y="3013560"/>
            <a:ext cx="5867280" cy="26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оссийский бард, музыкант, актёр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лен Союза писателей Росси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родный артист Российской Федерации 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втор и первый исполнитель песни «Как здорово, что все мы здесь сегодня собрались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85" name="Содержимое 3" descr="митяев2.jpg"/>
          <p:cNvPicPr/>
          <p:nvPr/>
        </p:nvPicPr>
        <p:blipFill>
          <a:blip r:embed="rId2"/>
          <a:stretch/>
        </p:blipFill>
        <p:spPr>
          <a:xfrm>
            <a:off x="457200" y="1641600"/>
            <a:ext cx="7238880" cy="4782960"/>
          </a:xfrm>
          <a:prstGeom prst="rect">
            <a:avLst/>
          </a:prstGeom>
          <a:ln w="0">
            <a:noFill/>
          </a:ln>
        </p:spPr>
      </p:pic>
      <p:pic>
        <p:nvPicPr>
          <p:cNvPr id="286" name="КАК ЗДОРОВО ЧТО ВСЕ МЫ ЗДЕСЬ СЕГОДНЯ СОБРАЛИСЬ 01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7129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288" name="Содержимое 3" descr="никитины2.jpg"/>
          <p:cNvPicPr/>
          <p:nvPr/>
        </p:nvPicPr>
        <p:blipFill>
          <a:blip r:embed="rId2"/>
          <a:stretch/>
        </p:blipFill>
        <p:spPr>
          <a:xfrm>
            <a:off x="1214280" y="1428840"/>
            <a:ext cx="5715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290" name="Содержимое 3" descr="никитины4.jpg"/>
          <p:cNvPicPr/>
          <p:nvPr/>
        </p:nvPicPr>
        <p:blipFill>
          <a:blip r:embed="rId2"/>
          <a:stretch/>
        </p:blipFill>
        <p:spPr>
          <a:xfrm>
            <a:off x="714240" y="1357200"/>
            <a:ext cx="6643800" cy="5072040"/>
          </a:xfrm>
          <a:prstGeom prst="rect">
            <a:avLst/>
          </a:prstGeom>
          <a:ln w="0">
            <a:noFill/>
          </a:ln>
        </p:spPr>
      </p:pic>
      <p:pic>
        <p:nvPicPr>
          <p:cNvPr id="291" name="НИКИТИНЫ ТАТЬЯНА И СЕРГЕЙ - ВЕСЕННЕЕ ТАНГО(+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846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293" name="Содержимое 3" descr="никитины.jpg"/>
          <p:cNvPicPr/>
          <p:nvPr/>
        </p:nvPicPr>
        <p:blipFill>
          <a:blip r:embed="rId2"/>
          <a:stretch/>
        </p:blipFill>
        <p:spPr>
          <a:xfrm>
            <a:off x="785880" y="1571760"/>
            <a:ext cx="6429240" cy="4846680"/>
          </a:xfrm>
          <a:prstGeom prst="rect">
            <a:avLst/>
          </a:prstGeom>
          <a:ln w="0">
            <a:noFill/>
          </a:ln>
        </p:spPr>
      </p:pic>
      <p:pic>
        <p:nvPicPr>
          <p:cNvPr id="294" name="НИКИТИН СЕРГЕЙ_Под Музыку Вивальди (зб 128)_9437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66700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96" name="Содержимое 3" descr="берковский.jpg"/>
          <p:cNvPicPr/>
          <p:nvPr/>
        </p:nvPicPr>
        <p:blipFill>
          <a:blip r:embed="rId2"/>
          <a:stretch/>
        </p:blipFill>
        <p:spPr>
          <a:xfrm>
            <a:off x="1285920" y="1428840"/>
            <a:ext cx="5715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98" name="Содержимое 3" descr="берковский 2.jpg"/>
          <p:cNvPicPr/>
          <p:nvPr/>
        </p:nvPicPr>
        <p:blipFill>
          <a:blip r:embed="rId2"/>
          <a:stretch/>
        </p:blipFill>
        <p:spPr>
          <a:xfrm>
            <a:off x="1214280" y="1428840"/>
            <a:ext cx="5857920" cy="5286240"/>
          </a:xfrm>
          <a:prstGeom prst="rect">
            <a:avLst/>
          </a:prstGeom>
          <a:ln w="0">
            <a:noFill/>
          </a:ln>
        </p:spPr>
      </p:pic>
      <p:pic>
        <p:nvPicPr>
          <p:cNvPr id="299" name="гренада Берковский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91576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838080" y="1642680"/>
            <a:ext cx="76932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наешь ли ты, кто такие барды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то такое, по твоему мнению, «авторская песня»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 чем поют барды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наешь ли ты какие-нибудь известные бардовские песн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ют ли эти песни в твоей семье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аких известных бардов нашей страны ты знаешь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Что, по твоему мнению, нравится людям в бардовской песне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Городской романс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ант(бытовая многоголосная песня)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Крестьянские песни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Творчество декабристов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есни беспризорников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туденческий фольклор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ард-(от английского и ирландского- певец)- народный певец у древних кельтских племё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наши дни бардами называют создателей авторской песн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ейчас их имена знают вс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AutoShap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626680" cy="17859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928880" y="2361960"/>
            <a:ext cx="6526080" cy="36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Ю.Визбор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.Окуджав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.Берковски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Ю.Ки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.Высоцки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.Никитин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.Никитин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.Митяев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.Розембау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4" descr="ab829seq[1]"/>
          <p:cNvPicPr/>
          <p:nvPr/>
        </p:nvPicPr>
        <p:blipFill>
          <a:blip r:embed="rId2">
            <a:lum contrast="16000"/>
          </a:blip>
          <a:stretch/>
        </p:blipFill>
        <p:spPr>
          <a:xfrm>
            <a:off x="0" y="1981080"/>
            <a:ext cx="1928880" cy="48769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6" descr="Высоцкий.jpg"/>
          <p:cNvPicPr/>
          <p:nvPr/>
        </p:nvPicPr>
        <p:blipFill>
          <a:blip r:embed="rId3"/>
          <a:stretch/>
        </p:blipFill>
        <p:spPr>
          <a:xfrm>
            <a:off x="6215040" y="3500280"/>
            <a:ext cx="838080" cy="124632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7" descr="Городницкий.jpg"/>
          <p:cNvPicPr/>
          <p:nvPr/>
        </p:nvPicPr>
        <p:blipFill>
          <a:blip r:embed="rId4"/>
          <a:stretch/>
        </p:blipFill>
        <p:spPr>
          <a:xfrm>
            <a:off x="4143240" y="3500280"/>
            <a:ext cx="838440" cy="12574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8" descr="Ким.jpg"/>
          <p:cNvPicPr/>
          <p:nvPr/>
        </p:nvPicPr>
        <p:blipFill>
          <a:blip r:embed="rId5"/>
          <a:stretch/>
        </p:blipFill>
        <p:spPr>
          <a:xfrm>
            <a:off x="5143680" y="3500280"/>
            <a:ext cx="838080" cy="125748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9" descr="Визбор.jpg"/>
          <p:cNvPicPr/>
          <p:nvPr/>
        </p:nvPicPr>
        <p:blipFill>
          <a:blip r:embed="rId6"/>
          <a:stretch/>
        </p:blipFill>
        <p:spPr>
          <a:xfrm>
            <a:off x="5562720" y="2362320"/>
            <a:ext cx="1238040" cy="96192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0" descr="Митяев.jpg"/>
          <p:cNvPicPr/>
          <p:nvPr/>
        </p:nvPicPr>
        <p:blipFill>
          <a:blip r:embed="rId7"/>
          <a:stretch/>
        </p:blipFill>
        <p:spPr>
          <a:xfrm>
            <a:off x="6786720" y="4786200"/>
            <a:ext cx="1623960" cy="11430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11" descr="Никитины.jpg"/>
          <p:cNvPicPr/>
          <p:nvPr/>
        </p:nvPicPr>
        <p:blipFill>
          <a:blip r:embed="rId8"/>
          <a:stretch/>
        </p:blipFill>
        <p:spPr>
          <a:xfrm>
            <a:off x="7143840" y="3500280"/>
            <a:ext cx="1209600" cy="11811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2" descr="Галич.jpg"/>
          <p:cNvPicPr/>
          <p:nvPr/>
        </p:nvPicPr>
        <p:blipFill>
          <a:blip r:embed="rId9"/>
          <a:stretch/>
        </p:blipFill>
        <p:spPr>
          <a:xfrm>
            <a:off x="4495680" y="2286000"/>
            <a:ext cx="981360" cy="117144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3" descr="Окуджава.jpg"/>
          <p:cNvPicPr/>
          <p:nvPr/>
        </p:nvPicPr>
        <p:blipFill>
          <a:blip r:embed="rId10"/>
          <a:stretch/>
        </p:blipFill>
        <p:spPr>
          <a:xfrm>
            <a:off x="6858000" y="2286000"/>
            <a:ext cx="876240" cy="11523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4" descr="novella-matveeva.jpg"/>
          <p:cNvPicPr/>
          <p:nvPr/>
        </p:nvPicPr>
        <p:blipFill>
          <a:blip r:embed="rId11"/>
          <a:stretch/>
        </p:blipFill>
        <p:spPr>
          <a:xfrm>
            <a:off x="5357880" y="4786200"/>
            <a:ext cx="1371600" cy="119700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5" descr="yakusheva.jpg"/>
          <p:cNvPicPr/>
          <p:nvPr/>
        </p:nvPicPr>
        <p:blipFill>
          <a:blip r:embed="rId12"/>
          <a:stretch/>
        </p:blipFill>
        <p:spPr>
          <a:xfrm>
            <a:off x="4000680" y="478620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2" name="AutoShap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80720" cy="18716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гусляр.jpg"/>
          <p:cNvPicPr/>
          <p:nvPr/>
        </p:nvPicPr>
        <p:blipFill>
          <a:blip r:embed="rId2"/>
          <a:stretch/>
        </p:blipFill>
        <p:spPr>
          <a:xfrm>
            <a:off x="3357720" y="2143080"/>
            <a:ext cx="2666880" cy="293868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скоморохи.jpg"/>
          <p:cNvPicPr/>
          <p:nvPr/>
        </p:nvPicPr>
        <p:blipFill>
          <a:blip r:embed="rId3"/>
          <a:stretch/>
        </p:blipFill>
        <p:spPr>
          <a:xfrm>
            <a:off x="5786280" y="4572000"/>
            <a:ext cx="3200400" cy="24112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8" descr="шуты.jpg"/>
          <p:cNvPicPr/>
          <p:nvPr/>
        </p:nvPicPr>
        <p:blipFill>
          <a:blip r:embed="rId4"/>
          <a:stretch/>
        </p:blipFill>
        <p:spPr>
          <a:xfrm>
            <a:off x="0" y="3276720"/>
            <a:ext cx="3460680" cy="38638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9" descr="менестрель.jpg"/>
          <p:cNvPicPr/>
          <p:nvPr/>
        </p:nvPicPr>
        <p:blipFill>
          <a:blip r:embed="rId5"/>
          <a:stretch/>
        </p:blipFill>
        <p:spPr>
          <a:xfrm>
            <a:off x="5894280" y="1857240"/>
            <a:ext cx="324972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450720" y="920880"/>
            <a:ext cx="7255080" cy="944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1928880" y="2209680"/>
            <a:ext cx="621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мысл их песен –незатейливый, иногда скрытый поэтический, вроде басни под музык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каждой песне – целый мир, каким видит его каждый из исполнителе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сех творцов авторской песни объединяет уважение к человеческой индивидуальности , мечта о таком обществе, где соблюдаются  права личност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Рисунок 12" descr="Галич.jpg"/>
          <p:cNvPicPr/>
          <p:nvPr/>
        </p:nvPicPr>
        <p:blipFill>
          <a:blip r:embed="rId2"/>
          <a:stretch/>
        </p:blipFill>
        <p:spPr>
          <a:xfrm>
            <a:off x="0" y="2438280"/>
            <a:ext cx="1809720" cy="2160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1" descr="Никитины.jpg"/>
          <p:cNvPicPr/>
          <p:nvPr/>
        </p:nvPicPr>
        <p:blipFill>
          <a:blip r:embed="rId3"/>
          <a:stretch/>
        </p:blipFill>
        <p:spPr>
          <a:xfrm>
            <a:off x="0" y="4800600"/>
            <a:ext cx="1951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755640" y="835200"/>
            <a:ext cx="7937640" cy="1152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761760" y="2743200"/>
            <a:ext cx="7692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ждого ли автора, исполняющего собственные песни, можно назвать бардом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чему люди, родившиеся в мирное время, пишут песни о войне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54" name="Содержимое 3" descr="окуджава.jpg"/>
          <p:cNvPicPr/>
          <p:nvPr/>
        </p:nvPicPr>
        <p:blipFill>
          <a:blip r:embed="rId2"/>
          <a:stretch/>
        </p:blipFill>
        <p:spPr>
          <a:xfrm>
            <a:off x="571680" y="1428840"/>
            <a:ext cx="6858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6:56:38Z</dcterms:created>
  <dc:creator>XP GAME 2008</dc:creator>
  <dc:description/>
  <dc:language>en-US</dc:language>
  <cp:lastModifiedBy>XP GAME 2008</cp:lastModifiedBy>
  <dcterms:modified xsi:type="dcterms:W3CDTF">2011-11-07T10:03:35Z</dcterms:modified>
  <cp:revision>7</cp:revision>
  <dc:subject/>
  <dc:title>Авторская песня: прошлое и настоящее.</dc:title>
</cp:coreProperties>
</file>