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79B-041D-4BD5-9AF5-6DB703B1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EBE-6894-482B-BC78-5037FA5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CD6-6748-4C11-ACBD-32DA1677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C59-F9C2-4DC4-9C5E-52E9298F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9C4-B984-4AA5-BE0D-DA6AB1B4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7B6D-85A8-4E22-BE5D-35B9121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69A-37E2-4647-815C-D30D2317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EC2-6DDC-463A-B891-7E5DBD21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A6E9-307B-47CB-85BF-547BB6AE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78D7-6AE1-48F2-A44D-7B65F733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4EC6-F528-4FB3-A911-799278B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295-537C-48F5-8A1F-1F66F8A8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FE3-B0E7-4E1F-8B0D-A83371D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D9FB-E569-4847-9E4D-CDC04DE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4A2-CD89-448B-8C43-B842C3D7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1D54-DB11-4088-A212-892D564B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6DA8-C5B1-434D-B3E0-652A526A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9140B-281B-456D-B4C7-DCD83974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BF34B-65EA-4484-AB34-54E395AB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3911A-27CD-4A29-8C74-C360C671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0F5B5-7FB8-4326-AE96-686F8FC0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6A252-E2A7-478F-B88C-0611D49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15D-A81E-4EF0-B029-2F47E8A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3D654-3104-4FC3-90A0-6ABF3D5C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B1F3E-C4AF-46BB-95C2-08E2400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51F8D-72FE-44F9-A74F-788E4E9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E14E9-996E-4F97-9889-317AADF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3DAB6-A836-4B54-B986-8538DBA7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BAF49-68BC-4DF0-82AB-E089CBFA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572F2-D736-4FD0-986C-F5D9A729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6EA09-8911-4676-9B7A-843B89C2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7B442-685A-4A3B-A8C5-27F4C691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4406C-CCF1-4494-80D3-006717E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A0F-A86B-4146-8757-3122F1F4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0434A-D167-4897-A1A9-C4F2598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14347-340F-4539-83D6-E1D756F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C09D8-87AE-40DA-93AA-CEC8437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6CB20-D9E8-4D05-9AD5-AECA6F0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A2A2D-76D5-4114-98AC-5673795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063C9-D0DD-4BBD-B4D0-D567F9FA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38E53-2938-4FCF-A570-42A6DF25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CAE18-5ED5-4347-9606-EF286943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30B84-2AFF-4BAC-AA4E-1C48B42B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3797E-7F84-4477-9A20-66823387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AF5-CDD8-43AB-83FA-89B067D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841F2-A20D-4482-96B9-2E06C21C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FA05C-DA1D-4DCF-847F-5C150029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21766-047E-4F0E-9AB4-ACCB29DC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88C36-7450-436D-850C-D6947657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9E0D3-7D3A-427F-9E56-DA87A90E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BAD29-0186-46B3-B828-2F1C71D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6BB7E-6270-46E5-BFC6-9BA6CDF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99B3F-AFF0-4C74-9439-AA071B0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ADB2E-2E4C-42EB-87A4-5E2C119F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A3C74-8C68-46F0-922E-52CA1FDC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D4C-ED90-400B-9AD1-A62B1BEF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D2413-52D9-4509-A8D6-78DC1FB3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D1940-C667-410C-81B8-D6FF273A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5264A-71E4-4147-8807-77C7A11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216E-EE85-4C37-8819-AFA7D06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6D25-18FE-4525-8766-F1844172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25B2-440F-442A-B290-D603ED03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C1FD-98AD-4C9F-AA7B-6A70639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9985-3237-4C9B-8F73-2210941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15F7-2FFF-44AC-B499-0D5A8AB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D0CF-88E0-471C-AE96-40AEE6B0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C26-555F-42AB-BB35-4789CBA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57B9D-10AC-45F3-A836-A947563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2CF4-0D24-41AD-9A26-928ED436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EFD7-147C-4D51-B8C5-390BE09C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8CCB8-9CB7-4608-A1A7-1D7A3BA5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ECB2E9-9AE4-47A6-B2B2-B3A6558D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C5943-659A-412A-AF7E-0610971F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A68F7-6C21-4118-8526-1641DE8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8ADAC-F913-4E24-901F-ABB4B94E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9A1E9-785B-49B7-9C6B-BAAD3473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CB599-F53A-4C5F-A33F-B75C1FA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269-FB21-4D88-B6E3-D31BC6BD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4A9F7-53C9-43D9-8C9F-ACD2CF5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35A6B-FF4B-426C-8CFF-C3B4CC63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98A0B-0143-4205-8052-010EBC4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DF7F9-CFB3-47F6-9054-0448DF1F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74CDB-E9FD-4581-97FA-7D6CA22F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AC87-CDCA-4EF3-A906-2B5CF19A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A0BE0-F07E-4B55-89EF-25CD0F74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069A-F3E7-41B7-BB6D-04C7F2F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8EFDD-F65A-4AF1-A37F-E847D534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94093-4D49-4C46-8A0F-EBCA6626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61E-24A2-4662-9C0C-897E9044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74CD6-7C9E-45C3-80CC-A1C7CC5C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AE1FE-CC41-4190-B282-2DF896A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2D82D-F778-45D3-9A5E-F33BC5D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049DB-4142-4E8E-98C7-045BD00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D7B45-19CB-4D34-A478-A66AE1CD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4F1FD-0E67-41C2-941D-852976FD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822D6-DBD0-4285-99EC-EAFD2F05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6BC6-B7FF-4A3C-8207-D19DD9C3EC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7C34-916C-4FFE-AF3E-7D8D48A4768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F9EA-E7DA-495D-838C-85C4F6880B73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2BB-A5E7-4E6A-8E7F-C4CC9C9F28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BEBE-4B83-4D7D-88C6-3E6CB86A61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827C-D1D3-49ED-BEE7-7C8D48BE03B7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1607-3AEB-41E9-8EFA-76C25EE42CF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9E1-AC47-43E4-B625-690C8DC09E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85920" y="10000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bddc3"/>
                </a:solidFill>
                <a:latin typeface="Comic Sans MS"/>
              </a:rPr>
              <a:t>АНГЛИЯ ПРИ ТЮДОРАХ.</a:t>
            </a:r>
            <a:endParaRPr b="0" lang="en-US" sz="6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2920" y="2785680"/>
            <a:ext cx="857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17c36"/>
                </a:solidFill>
                <a:latin typeface="Comic Sans MS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оциально-экономическое развитие англ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грарный переворо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ролевская власть и реформац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4200" y="380520"/>
            <a:ext cx="82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ddc3"/>
                </a:solidFill>
                <a:latin typeface="Calibri"/>
              </a:rPr>
              <a:t>БРИТАНИЯ – ВЛАДЫЧИЦА МОРЕЙ.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28400" y="2819160"/>
            <a:ext cx="7786440" cy="29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нутренняя полити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нешняя полити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онархия и парламен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ЕРМИНЫ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Т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Л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ТУ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К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РИТА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1553 – 1558гг. – правление Марии </a:t>
            </a:r>
            <a:r>
              <a:rPr b="0" lang="en-US" sz="38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Тюдор (Католической,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ровавой).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онтрреформация в Англии.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857680" y="2071800"/>
            <a:ext cx="340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58 – 1603 гг. – правление Елизаветы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Тюдор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Золотой век» Елизаветы.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2786040" y="1785960"/>
            <a:ext cx="3782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984840" cy="5786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5000760" y="571680"/>
            <a:ext cx="3700440" cy="58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7888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рочитайте первый пункт  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&amp; 16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 и выпишите в тетрадь </a:t>
            </a:r>
            <a:r>
              <a:rPr b="1" lang="ru-RU" sz="4000" spc="-1" strike="noStrike">
                <a:solidFill>
                  <a:srgbClr val="94b6d2"/>
                </a:solidFill>
                <a:latin typeface="Calibri"/>
              </a:rPr>
              <a:t>направления внутренней политики 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Елизаветы 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b6d2"/>
                </a:solidFill>
                <a:latin typeface="Calibri"/>
              </a:rPr>
              <a:t>ТЕОРИЯ СМЕШАННОЙ МОНАРХИИ (ПАРЛАМЕНТСКАЯ МОНАРХИЯ):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13e1b"/>
                </a:solidFill>
                <a:latin typeface="Calibri"/>
              </a:rPr>
              <a:t>- ВЫСШАЯ ВЛАСТЬ В СТРАНЕ ПРИНАДЛЕЖИТ КОРОЛЮ В ПАРЛАМЕНТ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Comic Sans MS"/>
              </a:rPr>
              <a:t>СТРУКТУРА АНГЛИЙСКОГО ПАРЛАМЕНТ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3500280" y="1357200"/>
            <a:ext cx="228600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4"/>
          <p:cNvSpPr/>
          <p:nvPr/>
        </p:nvSpPr>
        <p:spPr>
          <a:xfrm>
            <a:off x="3357720" y="2071800"/>
            <a:ext cx="484200" cy="5713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трелка вниз 5"/>
          <p:cNvSpPr/>
          <p:nvPr/>
        </p:nvSpPr>
        <p:spPr>
          <a:xfrm>
            <a:off x="5429160" y="2000160"/>
            <a:ext cx="484200" cy="8575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1357200" y="2714760"/>
            <a:ext cx="2772000" cy="7142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ЛАТА ЛОРДОВ (ВЕРХНЯ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4572000" y="3000240"/>
            <a:ext cx="4214880" cy="928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ЛАТА ОБЩИН (НИЖНЯЯ). СПИКЕР -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8"/>
          <p:cNvSpPr/>
          <p:nvPr/>
        </p:nvSpPr>
        <p:spPr>
          <a:xfrm rot="3053400">
            <a:off x="5510520" y="4074480"/>
            <a:ext cx="484200" cy="809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9"/>
          <p:cNvSpPr/>
          <p:nvPr/>
        </p:nvSpPr>
        <p:spPr>
          <a:xfrm>
            <a:off x="2500200" y="4286160"/>
            <a:ext cx="2786040" cy="714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БИЛЛЬ – ПРОЕКТ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0"/>
          <p:cNvSpPr/>
          <p:nvPr/>
        </p:nvSpPr>
        <p:spPr>
          <a:xfrm rot="19294200">
            <a:off x="2870280" y="3506400"/>
            <a:ext cx="484200" cy="6685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трелка вниз 11"/>
          <p:cNvSpPr/>
          <p:nvPr/>
        </p:nvSpPr>
        <p:spPr>
          <a:xfrm>
            <a:off x="3571920" y="51436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2"/>
          <p:cNvSpPr/>
          <p:nvPr/>
        </p:nvSpPr>
        <p:spPr>
          <a:xfrm>
            <a:off x="1571760" y="5643720"/>
            <a:ext cx="4000320" cy="9144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СТАТУТ – ЗАКОН (ПРОЕКТ, ПОДПИСАННЫЙ КОРОЛ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низ 13"/>
          <p:cNvSpPr/>
          <p:nvPr/>
        </p:nvSpPr>
        <p:spPr>
          <a:xfrm rot="3869400">
            <a:off x="6001920" y="5443560"/>
            <a:ext cx="425520" cy="9396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4"/>
          <p:cNvSpPr/>
          <p:nvPr/>
        </p:nvSpPr>
        <p:spPr>
          <a:xfrm>
            <a:off x="6786720" y="5000760"/>
            <a:ext cx="2143080" cy="9144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ВЕТО (запрет) КО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НЕШНЯЯ ПОЛИТИКА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500720" y="1143000"/>
            <a:ext cx="4383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ddc3"/>
                </a:solidFill>
                <a:latin typeface="Comic Sans MS"/>
              </a:rPr>
              <a:t>ПОЛИТИКА  ЕЛИЗАВЕТЫ </a:t>
            </a:r>
            <a:r>
              <a:rPr b="1" lang="en-US" sz="3200" spc="-1" strike="noStrike">
                <a:solidFill>
                  <a:srgbClr val="ebddc3"/>
                </a:solidFill>
                <a:latin typeface="Comic Sans MS"/>
              </a:rPr>
              <a:t>I</a:t>
            </a:r>
            <a:r>
              <a:rPr b="1" lang="ru-RU" sz="3200" spc="-1" strike="noStrike">
                <a:solidFill>
                  <a:srgbClr val="ebddc3"/>
                </a:solidFill>
                <a:latin typeface="Comic Sans MS"/>
              </a:rPr>
              <a:t> ТЮДОР.</a:t>
            </a:r>
            <a:endParaRPr b="0" lang="en-US" sz="3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85840" y="1357200"/>
          <a:ext cx="8643960" cy="5340600"/>
        </p:xfrm>
        <a:graphic>
          <a:graphicData uri="http://schemas.openxmlformats.org/drawingml/2006/table">
            <a:tbl>
              <a:tblPr/>
              <a:tblGrid>
                <a:gridCol w="4322520"/>
                <a:gridCol w="432144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НУТРЕННЯ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С. 139-1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НЕШНЯ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С. 141-14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ЛИГИОЗНА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ЧИНЫ КОНФЛИКТА С ИСПАНИЕЙ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КОНОМИЧЕСКА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75f55"/>
                </a:solidFill>
                <a:latin typeface="Comic Sans MS"/>
              </a:rPr>
              <a:t>Новые понятия: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Новое дворянство (джентр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Лендлор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Аграрный перевор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Огоражи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Пауп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Акт о супремат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85840" y="2743200"/>
            <a:ext cx="32860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13e1b"/>
                </a:solidFill>
                <a:latin typeface="Comic Sans MS"/>
              </a:rPr>
              <a:t>Основа экономики Англии – овцеводство и сукнодел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285840" y="71424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5a3c"/>
                </a:solidFill>
                <a:latin typeface="Comic Sans MS"/>
              </a:rPr>
              <a:t>1. Социально-экономическое развитие Англии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3429000" y="2643120"/>
            <a:ext cx="53848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3"/>
          <p:cNvSpPr/>
          <p:nvPr/>
        </p:nvSpPr>
        <p:spPr>
          <a:xfrm>
            <a:off x="2714760" y="285840"/>
            <a:ext cx="3143160" cy="571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Спрос на с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4"/>
          <p:cNvSpPr/>
          <p:nvPr/>
        </p:nvSpPr>
        <p:spPr>
          <a:xfrm>
            <a:off x="3929040" y="928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2643120" y="1500120"/>
            <a:ext cx="30718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мануфа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право 6"/>
          <p:cNvSpPr/>
          <p:nvPr/>
        </p:nvSpPr>
        <p:spPr>
          <a:xfrm rot="10800000">
            <a:off x="5929200" y="164304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7"/>
          <p:cNvSpPr/>
          <p:nvPr/>
        </p:nvSpPr>
        <p:spPr>
          <a:xfrm>
            <a:off x="6643800" y="1357200"/>
            <a:ext cx="2286000" cy="1071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alibri"/>
              </a:rPr>
              <a:t>Новое двор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низ 8"/>
          <p:cNvSpPr/>
          <p:nvPr/>
        </p:nvSpPr>
        <p:spPr>
          <a:xfrm>
            <a:off x="4071960" y="22147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9"/>
          <p:cNvSpPr/>
          <p:nvPr/>
        </p:nvSpPr>
        <p:spPr>
          <a:xfrm rot="16200000">
            <a:off x="-2250000" y="2821680"/>
            <a:ext cx="5857920" cy="785880"/>
          </a:xfrm>
          <a:prstGeom prst="rect">
            <a:avLst/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3e1b"/>
                </a:solidFill>
                <a:latin typeface="Calibri"/>
              </a:rPr>
              <a:t>Аграрный перево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ик 11"/>
          <p:cNvGrpSpPr/>
          <p:nvPr/>
        </p:nvGrpSpPr>
        <p:grpSpPr>
          <a:xfrm>
            <a:off x="2590920" y="2895480"/>
            <a:ext cx="3676680" cy="822600"/>
            <a:chOff x="2590920" y="2895480"/>
            <a:chExt cx="3676680" cy="822600"/>
          </a:xfrm>
        </p:grpSpPr>
        <p:pic>
          <p:nvPicPr>
            <p:cNvPr id="367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590920" y="2895480"/>
              <a:ext cx="36766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643120" y="292896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13e1b"/>
                  </a:solidFill>
                  <a:latin typeface="Calibri"/>
                </a:rPr>
                <a:t>Огоражи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Стрелка вниз 12"/>
          <p:cNvSpPr/>
          <p:nvPr/>
        </p:nvSpPr>
        <p:spPr>
          <a:xfrm>
            <a:off x="2857680" y="3714840"/>
            <a:ext cx="5713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3"/>
          <p:cNvSpPr/>
          <p:nvPr/>
        </p:nvSpPr>
        <p:spPr>
          <a:xfrm>
            <a:off x="5500800" y="4429080"/>
            <a:ext cx="2571480" cy="642960"/>
          </a:xfrm>
          <a:prstGeom prst="rect">
            <a:avLst/>
          </a:prstGeom>
          <a:solidFill>
            <a:srgbClr val="7ba79d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14"/>
          <p:cNvSpPr/>
          <p:nvPr/>
        </p:nvSpPr>
        <p:spPr>
          <a:xfrm rot="16200000">
            <a:off x="4464720" y="4321440"/>
            <a:ext cx="608040" cy="822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5"/>
          <p:cNvSpPr/>
          <p:nvPr/>
        </p:nvSpPr>
        <p:spPr>
          <a:xfrm>
            <a:off x="1928880" y="4429080"/>
            <a:ext cx="2071800" cy="642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302a"/>
                </a:solidFill>
                <a:latin typeface="Calibri"/>
              </a:rPr>
              <a:t>пауп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Левая фигурная скобка 16"/>
          <p:cNvSpPr/>
          <p:nvPr/>
        </p:nvSpPr>
        <p:spPr>
          <a:xfrm>
            <a:off x="1285920" y="428760"/>
            <a:ext cx="714240" cy="5143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143320"/>
              <a:gd name="textAreaBottom" fmla="*/ 5124960 h 51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4b6d2"/>
            </a:solidFill>
            <a:prstDash val="dash"/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285480" y="2499840"/>
            <a:ext cx="4714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55d7e"/>
                </a:solidFill>
                <a:latin typeface="Comic Sans MS"/>
              </a:rPr>
              <a:t>1485-1509 </a:t>
            </a:r>
            <a:r>
              <a:rPr b="0" lang="ru-RU" sz="3600" spc="-1" strike="noStrike">
                <a:solidFill>
                  <a:srgbClr val="775f55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775f55"/>
                </a:solidFill>
                <a:latin typeface="Comic Sans MS"/>
              </a:rPr>
              <a:t>правление генриха </a:t>
            </a:r>
            <a:r>
              <a:rPr b="0" lang="en-US" sz="3200" spc="-1" strike="noStrike">
                <a:solidFill>
                  <a:srgbClr val="775f55"/>
                </a:solidFill>
                <a:latin typeface="Comic Sans MS"/>
              </a:rPr>
              <a:t>VII</a:t>
            </a:r>
            <a:r>
              <a:rPr b="0" lang="ru-RU" sz="3200" spc="-1" strike="noStrike">
                <a:solidFill>
                  <a:srgbClr val="775f55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Укрепление королевской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Королевская власть и Реформация.</a:t>
            </a:r>
            <a:br>
              <a:rPr sz="3200"/>
            </a:br>
            <a:r>
              <a:rPr b="1" lang="ru-RU" sz="4000" spc="-1" strike="noStrike">
                <a:solidFill>
                  <a:srgbClr val="355d7e"/>
                </a:solidFill>
                <a:latin typeface="Comic Sans MS"/>
              </a:rPr>
              <a:t>1485 – 1603 гг. – правление династии Тюдоров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357880" y="2357280"/>
            <a:ext cx="333828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722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5a3c"/>
                </a:solidFill>
                <a:latin typeface="Calibri"/>
              </a:rPr>
              <a:t>1509 – 1547 гг. – правление Генриха </a:t>
            </a:r>
            <a:r>
              <a:rPr b="1" lang="en-US" sz="4000" spc="-1" strike="noStrike">
                <a:solidFill>
                  <a:srgbClr val="565a3c"/>
                </a:solidFill>
                <a:latin typeface="Tw Cen MT"/>
              </a:rPr>
              <a:t>VIII</a:t>
            </a:r>
            <a:r>
              <a:rPr b="1" lang="ru-RU" sz="4000" spc="-1" strike="noStrike">
                <a:solidFill>
                  <a:srgbClr val="565a3c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785880" y="1357200"/>
            <a:ext cx="3486240" cy="5213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5072040" y="1714680"/>
            <a:ext cx="351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14200" y="2571840"/>
            <a:ext cx="8715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Король – верховный глава англиканской церк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Англия отказывается признавать авторитет па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Секуляризация церковных богат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В Основе англиканского вероучения – идеи Лю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Богослужения на английском язы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17c36"/>
                </a:solidFill>
                <a:latin typeface="Comic Sans MS"/>
              </a:rPr>
              <a:t>1534 г.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– принятие Акта о супрематии (верховенстве).</a:t>
            </a:r>
            <a:br>
              <a:rPr sz="4000"/>
            </a:br>
            <a:r>
              <a:rPr b="1" lang="ru-RU" sz="4000" spc="-1" strike="noStrike">
                <a:solidFill>
                  <a:srgbClr val="565a3c"/>
                </a:solidFill>
                <a:latin typeface="Comic Sans MS"/>
              </a:rPr>
              <a:t>Начало Реформации в Англии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3"/>
          <p:cNvSpPr/>
          <p:nvPr/>
        </p:nvSpPr>
        <p:spPr>
          <a:xfrm>
            <a:off x="2714760" y="285840"/>
            <a:ext cx="3143160" cy="571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Спрос на с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4"/>
          <p:cNvSpPr/>
          <p:nvPr/>
        </p:nvSpPr>
        <p:spPr>
          <a:xfrm>
            <a:off x="3929040" y="928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2643120" y="1500120"/>
            <a:ext cx="30718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мануфа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трелка вправо 6"/>
          <p:cNvSpPr/>
          <p:nvPr/>
        </p:nvSpPr>
        <p:spPr>
          <a:xfrm rot="10800000">
            <a:off x="5929200" y="164304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6643800" y="1357200"/>
            <a:ext cx="2286000" cy="1071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alibri"/>
              </a:rPr>
              <a:t>Новое двор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низ 8"/>
          <p:cNvSpPr/>
          <p:nvPr/>
        </p:nvSpPr>
        <p:spPr>
          <a:xfrm>
            <a:off x="4071960" y="22147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9"/>
          <p:cNvSpPr/>
          <p:nvPr/>
        </p:nvSpPr>
        <p:spPr>
          <a:xfrm rot="16200000">
            <a:off x="-2250000" y="2821680"/>
            <a:ext cx="5857920" cy="785880"/>
          </a:xfrm>
          <a:prstGeom prst="rect">
            <a:avLst/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3e1b"/>
                </a:solidFill>
                <a:latin typeface="Calibri"/>
              </a:rPr>
              <a:t>Аграрный перево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Прямоугольник 11"/>
          <p:cNvGrpSpPr/>
          <p:nvPr/>
        </p:nvGrpSpPr>
        <p:grpSpPr>
          <a:xfrm>
            <a:off x="2590920" y="2895480"/>
            <a:ext cx="3676680" cy="822600"/>
            <a:chOff x="2590920" y="2895480"/>
            <a:chExt cx="3676680" cy="822600"/>
          </a:xfrm>
        </p:grpSpPr>
        <p:pic>
          <p:nvPicPr>
            <p:cNvPr id="391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590920" y="2895480"/>
              <a:ext cx="36766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643120" y="292896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13e1b"/>
                  </a:solidFill>
                  <a:latin typeface="Calibri"/>
                </a:rPr>
                <a:t>Огоражи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Стрелка вниз 12"/>
          <p:cNvSpPr/>
          <p:nvPr/>
        </p:nvSpPr>
        <p:spPr>
          <a:xfrm>
            <a:off x="2857680" y="3714840"/>
            <a:ext cx="5713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3"/>
          <p:cNvSpPr/>
          <p:nvPr/>
        </p:nvSpPr>
        <p:spPr>
          <a:xfrm>
            <a:off x="5500800" y="4429080"/>
            <a:ext cx="2571480" cy="642960"/>
          </a:xfrm>
          <a:prstGeom prst="rect">
            <a:avLst/>
          </a:prstGeom>
          <a:solidFill>
            <a:srgbClr val="7ba79d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низ 14"/>
          <p:cNvSpPr/>
          <p:nvPr/>
        </p:nvSpPr>
        <p:spPr>
          <a:xfrm rot="16200000">
            <a:off x="4464720" y="4321440"/>
            <a:ext cx="608040" cy="822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5"/>
          <p:cNvSpPr/>
          <p:nvPr/>
        </p:nvSpPr>
        <p:spPr>
          <a:xfrm>
            <a:off x="1928880" y="4429080"/>
            <a:ext cx="2071800" cy="642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302a"/>
                </a:solidFill>
                <a:latin typeface="Calibri"/>
              </a:rPr>
              <a:t>пауп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Левая фигурная скобка 16"/>
          <p:cNvSpPr/>
          <p:nvPr/>
        </p:nvSpPr>
        <p:spPr>
          <a:xfrm>
            <a:off x="1285920" y="428760"/>
            <a:ext cx="714240" cy="5143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143320"/>
              <a:gd name="textAreaBottom" fmla="*/ 5124960 h 51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4b6d2"/>
            </a:solidFill>
            <a:prstDash val="dash"/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5:07:01Z</dcterms:created>
  <dc:creator>галина</dc:creator>
  <dc:description/>
  <dc:language>en-US</dc:language>
  <cp:lastModifiedBy>Viktjuk</cp:lastModifiedBy>
  <dcterms:modified xsi:type="dcterms:W3CDTF">2011-05-04T13:45:14Z</dcterms:modified>
  <cp:revision>68</cp:revision>
  <dc:subject/>
  <dc:title>Англия при Тюдорах.</dc:title>
</cp:coreProperties>
</file>