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615-5571-4B0C-94B1-27C25BD3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7D6-A605-4625-828F-0A0052B7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73A-CB68-404F-AD89-A82A14CC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715E-2155-4EF7-B537-8763C1D6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839D-B979-4FDE-812D-21915CC6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8EC4-0FFC-437A-B535-F808E54A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CFC9-F7F6-499B-AEA8-66EB33F0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D620-55E7-4468-BFBA-EEC18BBF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7DE2-0ED7-47E8-978C-BE3B41C7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9D14-71DF-4EB6-B915-5A523D83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07BD-241B-404D-AC4A-C85F058F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46F-67E3-4947-85C5-A417CDCE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6F08-6860-49CB-9D89-B3365535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2A23-D62C-4CE9-98AB-08321601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CF78-7DD8-4953-B1B5-BEDB6EAF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5F71-18A8-49F6-B92A-9593A660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8CB3-433B-40EA-B1E4-66330FCE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923E0-D38A-4233-B09C-D625F9FC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FAF4F-F97E-4EEB-B3A8-FC03E008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7AED3-A962-436B-8F3D-D2911A81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573C1-A6BF-4531-A062-647CBF30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4998A-F54C-46D1-B428-31BD66CA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61C7-C17C-43A5-BE2B-BC46FB31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3985D-D166-4948-9503-5C46FC9E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6EEE4-BB54-42DD-8AC8-022547A0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53733-BD58-4BA9-BE7F-89C0E011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9AB31-07DF-4E3F-A7B5-FD6A5CD4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EEAAD-C2B9-4689-9FB6-C4713D55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18198-C24E-4558-8860-E639470A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8C8E9-763D-4A28-9E64-179CE3F6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417DFB-E124-4497-8753-9434985F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50D814-B132-49F1-A2A6-0E796C7E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0029C0-344E-4A08-981F-E2AC40C6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3D7-ADA7-453A-8070-211F1DBC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D127FD-E851-4EA4-A7C5-EB995CFB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CE2ABF-72CD-4D24-B9F2-E1BCD89D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567DF-BDA5-4BB4-9F31-E468D1CA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0B00C-0048-4A64-95E5-B02797B6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B9EE8-F955-4949-BCFF-FC15BD8F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331CC9-3122-47BC-B833-9332AF8B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430DAA-C8FA-4ED9-A433-CEFD3432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95D9EF-E1AA-449D-88B9-B625F1B3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357553-8552-45FA-9F9A-0A3E003E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9DE61-5500-4A65-A285-C493E437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25F-C2FB-4CC9-B1B8-F2355144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02054D-49D5-4325-88A6-41A9EFFF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9346A-6A1C-45CC-8629-2C88DD47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9F2DD-74DF-4F70-9400-437EA0AF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37FA9-CDD3-4433-B345-85B5CE75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98F3A-83FF-4AD5-A498-3D3A77E8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2A116-DAEB-48D0-9D8B-5D13AF98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69E58-E74E-44D4-B83D-14BE8567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88E49-342D-4933-ACD2-975255B4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5D77A-BC11-4513-8358-DD083C58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DF503-F964-4597-BFCC-9D070C82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7CA-81CC-4B1A-9CAB-E732EE23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AF880-8FA6-4AF9-8C87-EABE4D71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D7A32-0F98-4AB5-AB6A-54AD1001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6B1A8-67E9-438C-9EB2-1F897DD9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A4CFC-C39B-403F-98A9-80B72CD0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5A81E-D892-4B8C-9EB4-B10D908A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003F5-6136-4EA0-BA3C-AD0572CC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C3F65-2E12-4FDB-B8DC-3E24DCAB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04879-AE18-4509-9D10-4EF3E379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623AF-4090-423A-985F-F9FFF297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29BE5-A44D-4A4E-9CA7-070728E6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F7A-D5F0-4C7A-8028-DF5B6B0A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CA16D-4ECE-4F46-AA5B-75CA831B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FD589-F63E-46EA-B47F-1AA63B77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AFC1F-A59E-49F5-B284-DD64BA04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3D22B-44B0-4310-9612-6425A8BD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BCEF0-06EA-4389-A755-87FBC8C9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624B9-7148-4084-9981-1B1987C2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5C32EC-A286-4471-9BF3-C86B9EC1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03BDD-F429-4F89-B915-3EBE1D00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A7D198-4D85-4050-AE66-16AA8676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47AE6-EEB2-43F7-A842-8C7F4D1C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EB1-0C83-4F88-83C5-56721695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54FBB4-38A3-4D97-9AA9-B18D18C6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F6CB7A-B42A-4C98-B622-76C46A9C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C8B91A-10FC-441F-89F3-35450BFD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C7AECF-C08D-4996-9801-89146E0E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5B3990-F8AD-4C4E-984B-FA9E9F08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3418B-C732-44C8-B76D-35C4B83C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862A1-3010-4B6A-A767-56CBA8C7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0C77D-AEB1-43E3-AEC0-FE1245B8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A949E-AB92-46BE-9BA3-6969854A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BF919-9E75-49A9-BAA4-760856D5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093-DF68-4A40-87DB-20B84AAF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76164-0A24-4566-A869-EA3B3752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8195F-D899-48E9-A954-EA8AF50B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26521-7B33-4841-B583-A75EFEED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40968-47D9-44E4-B8AB-786735A6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16263-E9E8-431A-911D-BB9594F0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0259F-F7CB-4989-9F7D-6ECD257B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ED8C7-502A-4D59-8CB8-D4E0F2A4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EE60-70A0-4F20-8524-DC7DF31F1F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7AB0-AEAD-4264-9E1D-4D3F289550EC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B606-91E3-4EE5-B4A5-F1EC914D169B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07CA-CA39-4538-9035-A3E18FCC908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E569-91BA-42FC-98B2-5316BB17EF0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D504-73E0-4D5C-8E3E-38A5B93F72E4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AD05-8FC9-46BB-B4ED-26B484D9A48C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5EBE-0D9B-4AAB-BA15-E0CFAB39505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85920" y="100008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bddc3"/>
                </a:solidFill>
                <a:latin typeface="Comic Sans MS"/>
              </a:rPr>
              <a:t>АНГЛИЯ ПРИ ТЮДОРАХ.</a:t>
            </a:r>
            <a:endParaRPr b="0" lang="en-US" sz="66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42920" y="2785680"/>
            <a:ext cx="857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17c36"/>
                </a:solidFill>
                <a:latin typeface="Comic Sans MS"/>
              </a:rPr>
              <a:t>ПЛАН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социально-экономическое развитие англ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Аграрный переворо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Королевская власть и реформац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4200" y="380520"/>
            <a:ext cx="82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bddc3"/>
                </a:solidFill>
                <a:latin typeface="Calibri"/>
              </a:rPr>
              <a:t>БРИТАНИЯ – ВЛАДЫЧИЦА МОРЕЙ.</a:t>
            </a:r>
            <a:endParaRPr b="0" lang="en-US" sz="5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28400" y="2819160"/>
            <a:ext cx="7786440" cy="29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нутренняя политик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нешняя политик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Монархия и парламент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ЕРМИНЫ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ТЕН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ИЛ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АТУ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Т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ИК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РИТА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1553 – 1558гг. – правление Марии </a:t>
            </a:r>
            <a:r>
              <a:rPr b="0" lang="en-US" sz="38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 Тюдор (Католической,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Кровавой).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Контрреформация в Англии.</a:t>
            </a:r>
            <a:endParaRPr b="0" lang="en-US" sz="3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2857680" y="2071800"/>
            <a:ext cx="3409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558 – 1603 гг. – правление Елизаветы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Тюдор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Золотой век» Елизаветы.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tretch/>
        </p:blipFill>
        <p:spPr>
          <a:xfrm>
            <a:off x="2786040" y="1785960"/>
            <a:ext cx="37828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3984840" cy="5786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5000760" y="571680"/>
            <a:ext cx="3700440" cy="58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79280" y="2742840"/>
            <a:ext cx="867888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Прочитайте первый пункт  </a:t>
            </a: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&amp; 16</a:t>
            </a: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 и выпишите в тетрадь </a:t>
            </a:r>
            <a:r>
              <a:rPr b="1" lang="ru-RU" sz="4000" spc="-1" strike="noStrike">
                <a:solidFill>
                  <a:srgbClr val="94b6d2"/>
                </a:solidFill>
                <a:latin typeface="Calibri"/>
              </a:rPr>
              <a:t>направления внутренней политики </a:t>
            </a: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Елизаветы </a:t>
            </a: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I</a:t>
            </a: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b6d2"/>
                </a:solidFill>
                <a:latin typeface="Calibri"/>
              </a:rPr>
              <a:t>ТЕОРИЯ СМЕШАННОЙ МОНАРХИИ (ПАРЛАМЕНТСКАЯ МОНАРХИЯ):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13e1b"/>
                </a:solidFill>
                <a:latin typeface="Calibri"/>
              </a:rPr>
              <a:t>- ВЫСШАЯ ВЛАСТЬ В СТРАНЕ ПРИНАДЛЕЖИТ КОРОЛЮ В ПАРЛАМЕНТ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3e1b"/>
                </a:solidFill>
                <a:latin typeface="Comic Sans MS"/>
              </a:rPr>
              <a:t>СТРУКТУРА АНГЛИЙСКОГО ПАРЛАМЕНТА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3"/>
          <p:cNvSpPr/>
          <p:nvPr/>
        </p:nvSpPr>
        <p:spPr>
          <a:xfrm>
            <a:off x="3500280" y="1357200"/>
            <a:ext cx="228600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ПАР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трелка вниз 4"/>
          <p:cNvSpPr/>
          <p:nvPr/>
        </p:nvSpPr>
        <p:spPr>
          <a:xfrm>
            <a:off x="3357720" y="2071800"/>
            <a:ext cx="484200" cy="57132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Стрелка вниз 5"/>
          <p:cNvSpPr/>
          <p:nvPr/>
        </p:nvSpPr>
        <p:spPr>
          <a:xfrm>
            <a:off x="5429160" y="2000160"/>
            <a:ext cx="484200" cy="85752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6"/>
          <p:cNvSpPr/>
          <p:nvPr/>
        </p:nvSpPr>
        <p:spPr>
          <a:xfrm>
            <a:off x="1357200" y="2714760"/>
            <a:ext cx="2772000" cy="7142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ПАЛАТА ЛОРДОВ (ВЕРХНЯ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7"/>
          <p:cNvSpPr/>
          <p:nvPr/>
        </p:nvSpPr>
        <p:spPr>
          <a:xfrm>
            <a:off x="4572000" y="3000240"/>
            <a:ext cx="4214880" cy="9288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ПАЛАТА ОБЩИН (НИЖНЯЯ). СПИКЕР -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трелка вниз 8"/>
          <p:cNvSpPr/>
          <p:nvPr/>
        </p:nvSpPr>
        <p:spPr>
          <a:xfrm rot="3053400">
            <a:off x="5510520" y="4074480"/>
            <a:ext cx="484200" cy="8096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9"/>
          <p:cNvSpPr/>
          <p:nvPr/>
        </p:nvSpPr>
        <p:spPr>
          <a:xfrm>
            <a:off x="2500200" y="4286160"/>
            <a:ext cx="2786040" cy="7146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БИЛЛЬ – ПРОЕКТ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низ 10"/>
          <p:cNvSpPr/>
          <p:nvPr/>
        </p:nvSpPr>
        <p:spPr>
          <a:xfrm rot="19294200">
            <a:off x="2870280" y="3506400"/>
            <a:ext cx="484200" cy="6685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трелка вниз 11"/>
          <p:cNvSpPr/>
          <p:nvPr/>
        </p:nvSpPr>
        <p:spPr>
          <a:xfrm>
            <a:off x="3571920" y="514368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2"/>
          <p:cNvSpPr/>
          <p:nvPr/>
        </p:nvSpPr>
        <p:spPr>
          <a:xfrm>
            <a:off x="1571760" y="5643720"/>
            <a:ext cx="4000320" cy="9144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СТАТУТ – ЗАКОН (ПРОЕКТ, ПОДПИСАННЫЙ КОРОЛ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трелка вниз 13"/>
          <p:cNvSpPr/>
          <p:nvPr/>
        </p:nvSpPr>
        <p:spPr>
          <a:xfrm rot="3869400">
            <a:off x="6001920" y="5443560"/>
            <a:ext cx="425520" cy="93960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4"/>
          <p:cNvSpPr/>
          <p:nvPr/>
        </p:nvSpPr>
        <p:spPr>
          <a:xfrm>
            <a:off x="6786720" y="5000760"/>
            <a:ext cx="2143080" cy="9144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3e1b"/>
                </a:solidFill>
                <a:latin typeface="Comic Sans MS"/>
              </a:rPr>
              <a:t>ВЕТО (запрет) КО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ВНЕШНЯЯ ПОЛИТИКА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4500720" y="1143000"/>
            <a:ext cx="4383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ddc3"/>
                </a:solidFill>
                <a:latin typeface="Comic Sans MS"/>
              </a:rPr>
              <a:t>ПОЛИТИКА  ЕЛИЗАВЕТЫ </a:t>
            </a:r>
            <a:r>
              <a:rPr b="1" lang="en-US" sz="3200" spc="-1" strike="noStrike">
                <a:solidFill>
                  <a:srgbClr val="ebddc3"/>
                </a:solidFill>
                <a:latin typeface="Comic Sans MS"/>
              </a:rPr>
              <a:t>I</a:t>
            </a:r>
            <a:r>
              <a:rPr b="1" lang="ru-RU" sz="3200" spc="-1" strike="noStrike">
                <a:solidFill>
                  <a:srgbClr val="ebddc3"/>
                </a:solidFill>
                <a:latin typeface="Comic Sans MS"/>
              </a:rPr>
              <a:t> ТЮДОР.</a:t>
            </a:r>
            <a:endParaRPr b="0" lang="en-US" sz="32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85840" y="1357200"/>
          <a:ext cx="8643960" cy="5340600"/>
        </p:xfrm>
        <a:graphic>
          <a:graphicData uri="http://schemas.openxmlformats.org/drawingml/2006/table">
            <a:tbl>
              <a:tblPr/>
              <a:tblGrid>
                <a:gridCol w="4322520"/>
                <a:gridCol w="4321440"/>
              </a:tblGrid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НУТРЕННЯЯ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С. 139-14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ВНЕШНЯЯ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С. 141-14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ЛИГИОЗНА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ЧИНЫ КОНФЛИКТА С ИСПАНИЕЙ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ЭКОНОМИЧЕСКА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ЫТ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ТОГ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ТОГ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75f55"/>
                </a:solidFill>
                <a:latin typeface="Comic Sans MS"/>
              </a:rPr>
              <a:t>Новые понятия:</a:t>
            </a:r>
            <a:endParaRPr b="0" lang="en-US" sz="5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Новое дворянство (джентр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Лендлор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Аграрный перевор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Огоражив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Пауп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3e1b"/>
                </a:solidFill>
                <a:latin typeface="Comic Sans MS"/>
              </a:rPr>
              <a:t>Акт о супремат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285840" y="2743200"/>
            <a:ext cx="32860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13e1b"/>
                </a:solidFill>
                <a:latin typeface="Comic Sans MS"/>
              </a:rPr>
              <a:t>Основа экономики Англии – овцеводство и сукнодел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285840" y="71424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65a3c"/>
                </a:solidFill>
                <a:latin typeface="Comic Sans MS"/>
              </a:rPr>
              <a:t>1. Социально-экономическое развитие Англии.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3429000" y="2643120"/>
            <a:ext cx="53848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3"/>
          <p:cNvSpPr/>
          <p:nvPr/>
        </p:nvSpPr>
        <p:spPr>
          <a:xfrm>
            <a:off x="2714760" y="285840"/>
            <a:ext cx="3143160" cy="571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Спрос на су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низ 4"/>
          <p:cNvSpPr/>
          <p:nvPr/>
        </p:nvSpPr>
        <p:spPr>
          <a:xfrm>
            <a:off x="3929040" y="928800"/>
            <a:ext cx="484200" cy="500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5"/>
          <p:cNvSpPr/>
          <p:nvPr/>
        </p:nvSpPr>
        <p:spPr>
          <a:xfrm>
            <a:off x="2643120" y="1500120"/>
            <a:ext cx="307188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мануфа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трелка вправо 6"/>
          <p:cNvSpPr/>
          <p:nvPr/>
        </p:nvSpPr>
        <p:spPr>
          <a:xfrm rot="10800000">
            <a:off x="5929200" y="164304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7"/>
          <p:cNvSpPr/>
          <p:nvPr/>
        </p:nvSpPr>
        <p:spPr>
          <a:xfrm>
            <a:off x="6643800" y="1357200"/>
            <a:ext cx="2286000" cy="10717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3e1b"/>
                </a:solidFill>
                <a:latin typeface="Calibri"/>
              </a:rPr>
              <a:t>Новое двор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трелка вниз 8"/>
          <p:cNvSpPr/>
          <p:nvPr/>
        </p:nvSpPr>
        <p:spPr>
          <a:xfrm>
            <a:off x="4071960" y="2214720"/>
            <a:ext cx="500040" cy="6429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9"/>
          <p:cNvSpPr/>
          <p:nvPr/>
        </p:nvSpPr>
        <p:spPr>
          <a:xfrm rot="16200000">
            <a:off x="-2250000" y="2821680"/>
            <a:ext cx="5857920" cy="785880"/>
          </a:xfrm>
          <a:prstGeom prst="rect">
            <a:avLst/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13e1b"/>
                </a:solidFill>
                <a:latin typeface="Calibri"/>
              </a:rPr>
              <a:t>Аграрный перевор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ик 11"/>
          <p:cNvGrpSpPr/>
          <p:nvPr/>
        </p:nvGrpSpPr>
        <p:grpSpPr>
          <a:xfrm>
            <a:off x="2590920" y="2895480"/>
            <a:ext cx="3676680" cy="822600"/>
            <a:chOff x="2590920" y="2895480"/>
            <a:chExt cx="3676680" cy="822600"/>
          </a:xfrm>
        </p:grpSpPr>
        <p:pic>
          <p:nvPicPr>
            <p:cNvPr id="367" name="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2590920" y="2895480"/>
              <a:ext cx="36766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643120" y="2928960"/>
              <a:ext cx="35719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13e1b"/>
                  </a:solidFill>
                  <a:latin typeface="Calibri"/>
                </a:rPr>
                <a:t>Огораживан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Стрелка вниз 12"/>
          <p:cNvSpPr/>
          <p:nvPr/>
        </p:nvSpPr>
        <p:spPr>
          <a:xfrm>
            <a:off x="2857680" y="3714840"/>
            <a:ext cx="57132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3"/>
          <p:cNvSpPr/>
          <p:nvPr/>
        </p:nvSpPr>
        <p:spPr>
          <a:xfrm>
            <a:off x="5500800" y="4429080"/>
            <a:ext cx="2571480" cy="642960"/>
          </a:xfrm>
          <a:prstGeom prst="rect">
            <a:avLst/>
          </a:prstGeom>
          <a:solidFill>
            <a:srgbClr val="7ba79d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капит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низ 14"/>
          <p:cNvSpPr/>
          <p:nvPr/>
        </p:nvSpPr>
        <p:spPr>
          <a:xfrm rot="16200000">
            <a:off x="4464720" y="4321440"/>
            <a:ext cx="608040" cy="82224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5"/>
          <p:cNvSpPr/>
          <p:nvPr/>
        </p:nvSpPr>
        <p:spPr>
          <a:xfrm>
            <a:off x="1928880" y="4429080"/>
            <a:ext cx="2071800" cy="642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302a"/>
                </a:solidFill>
                <a:latin typeface="Calibri"/>
              </a:rPr>
              <a:t>пауп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Левая фигурная скобка 16"/>
          <p:cNvSpPr/>
          <p:nvPr/>
        </p:nvSpPr>
        <p:spPr>
          <a:xfrm>
            <a:off x="1285920" y="428760"/>
            <a:ext cx="714240" cy="514332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5143320"/>
              <a:gd name="textAreaBottom" fmla="*/ 5124960 h 514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10550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50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4b6d2"/>
            </a:solidFill>
            <a:prstDash val="dash"/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285480" y="2499840"/>
            <a:ext cx="471492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55d7e"/>
                </a:solidFill>
                <a:latin typeface="Comic Sans MS"/>
              </a:rPr>
              <a:t>1485-1509 </a:t>
            </a:r>
            <a:r>
              <a:rPr b="0" lang="ru-RU" sz="3600" spc="-1" strike="noStrike">
                <a:solidFill>
                  <a:srgbClr val="775f55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775f55"/>
                </a:solidFill>
                <a:latin typeface="Comic Sans MS"/>
              </a:rPr>
              <a:t>правление генриха </a:t>
            </a:r>
            <a:r>
              <a:rPr b="0" lang="en-US" sz="3200" spc="-1" strike="noStrike">
                <a:solidFill>
                  <a:srgbClr val="775f55"/>
                </a:solidFill>
                <a:latin typeface="Comic Sans MS"/>
              </a:rPr>
              <a:t>VII</a:t>
            </a:r>
            <a:r>
              <a:rPr b="0" lang="ru-RU" sz="3200" spc="-1" strike="noStrike">
                <a:solidFill>
                  <a:srgbClr val="775f55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Укрепление королевской в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3. Королевская власть и Реформация.</a:t>
            </a:r>
            <a:br>
              <a:rPr sz="3200"/>
            </a:br>
            <a:r>
              <a:rPr b="1" lang="ru-RU" sz="4000" spc="-1" strike="noStrike">
                <a:solidFill>
                  <a:srgbClr val="355d7e"/>
                </a:solidFill>
                <a:latin typeface="Comic Sans MS"/>
              </a:rPr>
              <a:t>1485 – 1603 гг. – правление династии Тюдоров.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5357880" y="2357280"/>
            <a:ext cx="3338280" cy="41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722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65a3c"/>
                </a:solidFill>
                <a:latin typeface="Calibri"/>
              </a:rPr>
              <a:t>1509 – 1547 гг. – правление Генриха </a:t>
            </a:r>
            <a:r>
              <a:rPr b="1" lang="en-US" sz="4000" spc="-1" strike="noStrike">
                <a:solidFill>
                  <a:srgbClr val="565a3c"/>
                </a:solidFill>
                <a:latin typeface="Tw Cen MT"/>
              </a:rPr>
              <a:t>VIII</a:t>
            </a:r>
            <a:r>
              <a:rPr b="1" lang="ru-RU" sz="4000" spc="-1" strike="noStrike">
                <a:solidFill>
                  <a:srgbClr val="565a3c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785880" y="1357200"/>
            <a:ext cx="3486240" cy="5213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5072040" y="1714680"/>
            <a:ext cx="3514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14200" y="2571840"/>
            <a:ext cx="8715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Король – верховный глава англиканской церк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Англия отказывается признавать авторитет пап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Секуляризация церковных богат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В Основе англиканского вероучения – идеи Лют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5f55"/>
                </a:solidFill>
                <a:latin typeface="Comic Sans MS"/>
              </a:rPr>
              <a:t>Богослужения на английском язы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17c36"/>
                </a:solidFill>
                <a:latin typeface="Comic Sans MS"/>
              </a:rPr>
              <a:t>1534 г.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– принятие Акта о супрематии (верховенстве).</a:t>
            </a:r>
            <a:br>
              <a:rPr sz="4000"/>
            </a:br>
            <a:r>
              <a:rPr b="1" lang="ru-RU" sz="4000" spc="-1" strike="noStrike">
                <a:solidFill>
                  <a:srgbClr val="565a3c"/>
                </a:solidFill>
                <a:latin typeface="Comic Sans MS"/>
              </a:rPr>
              <a:t>Начало Реформации в Англии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3"/>
          <p:cNvSpPr/>
          <p:nvPr/>
        </p:nvSpPr>
        <p:spPr>
          <a:xfrm>
            <a:off x="2714760" y="285840"/>
            <a:ext cx="3143160" cy="571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Спрос на су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Стрелка вниз 4"/>
          <p:cNvSpPr/>
          <p:nvPr/>
        </p:nvSpPr>
        <p:spPr>
          <a:xfrm>
            <a:off x="3929040" y="928800"/>
            <a:ext cx="484200" cy="500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5"/>
          <p:cNvSpPr/>
          <p:nvPr/>
        </p:nvSpPr>
        <p:spPr>
          <a:xfrm>
            <a:off x="2643120" y="1500120"/>
            <a:ext cx="307188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мануфа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трелка вправо 6"/>
          <p:cNvSpPr/>
          <p:nvPr/>
        </p:nvSpPr>
        <p:spPr>
          <a:xfrm rot="10800000">
            <a:off x="5929200" y="1643040"/>
            <a:ext cx="5716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6643800" y="1357200"/>
            <a:ext cx="2286000" cy="10717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3e1b"/>
                </a:solidFill>
                <a:latin typeface="Calibri"/>
              </a:rPr>
              <a:t>Новое двор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низ 8"/>
          <p:cNvSpPr/>
          <p:nvPr/>
        </p:nvSpPr>
        <p:spPr>
          <a:xfrm>
            <a:off x="4071960" y="2214720"/>
            <a:ext cx="500040" cy="6429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9"/>
          <p:cNvSpPr/>
          <p:nvPr/>
        </p:nvSpPr>
        <p:spPr>
          <a:xfrm rot="16200000">
            <a:off x="-2250000" y="2821680"/>
            <a:ext cx="5857920" cy="785880"/>
          </a:xfrm>
          <a:prstGeom prst="rect">
            <a:avLst/>
          </a:prstGeom>
          <a:solidFill>
            <a:srgbClr val="92d05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13e1b"/>
                </a:solidFill>
                <a:latin typeface="Calibri"/>
              </a:rPr>
              <a:t>Аграрный перевор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Прямоугольник 11"/>
          <p:cNvGrpSpPr/>
          <p:nvPr/>
        </p:nvGrpSpPr>
        <p:grpSpPr>
          <a:xfrm>
            <a:off x="2590920" y="2895480"/>
            <a:ext cx="3676680" cy="822600"/>
            <a:chOff x="2590920" y="2895480"/>
            <a:chExt cx="3676680" cy="822600"/>
          </a:xfrm>
        </p:grpSpPr>
        <p:pic>
          <p:nvPicPr>
            <p:cNvPr id="391" name="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2590920" y="2895480"/>
              <a:ext cx="36766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643120" y="2928960"/>
              <a:ext cx="35719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13e1b"/>
                  </a:solidFill>
                  <a:latin typeface="Calibri"/>
                </a:rPr>
                <a:t>Огораживан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Стрелка вниз 12"/>
          <p:cNvSpPr/>
          <p:nvPr/>
        </p:nvSpPr>
        <p:spPr>
          <a:xfrm>
            <a:off x="2857680" y="3714840"/>
            <a:ext cx="57132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3"/>
          <p:cNvSpPr/>
          <p:nvPr/>
        </p:nvSpPr>
        <p:spPr>
          <a:xfrm>
            <a:off x="5500800" y="4429080"/>
            <a:ext cx="2571480" cy="642960"/>
          </a:xfrm>
          <a:prstGeom prst="rect">
            <a:avLst/>
          </a:prstGeom>
          <a:solidFill>
            <a:srgbClr val="7ba79d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капит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трелка вниз 14"/>
          <p:cNvSpPr/>
          <p:nvPr/>
        </p:nvSpPr>
        <p:spPr>
          <a:xfrm rot="16200000">
            <a:off x="4464720" y="4321440"/>
            <a:ext cx="608040" cy="82224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5"/>
          <p:cNvSpPr/>
          <p:nvPr/>
        </p:nvSpPr>
        <p:spPr>
          <a:xfrm>
            <a:off x="1928880" y="4429080"/>
            <a:ext cx="2071800" cy="642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302a"/>
                </a:solidFill>
                <a:latin typeface="Calibri"/>
              </a:rPr>
              <a:t>пауп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Левая фигурная скобка 16"/>
          <p:cNvSpPr/>
          <p:nvPr/>
        </p:nvSpPr>
        <p:spPr>
          <a:xfrm>
            <a:off x="1285920" y="428760"/>
            <a:ext cx="714240" cy="514332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5143320"/>
              <a:gd name="textAreaBottom" fmla="*/ 5124960 h 514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10550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50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4b6d2"/>
            </a:solidFill>
            <a:prstDash val="dash"/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5:07:01Z</dcterms:created>
  <dc:creator>галина</dc:creator>
  <dc:description/>
  <dc:language>en-US</dc:language>
  <cp:lastModifiedBy>Viktjuk</cp:lastModifiedBy>
  <dcterms:modified xsi:type="dcterms:W3CDTF">2011-05-04T13:45:14Z</dcterms:modified>
  <cp:revision>68</cp:revision>
  <dc:subject/>
  <dc:title>Англия при Тюдорах.</dc:title>
</cp:coreProperties>
</file>