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F07-EDD9-4BC9-A410-ECD82F31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466-D125-42B4-AC8D-FDF632F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00-063A-40D0-82EA-8370B33A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427-6506-499B-80FB-E06F2AF9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3A2C-C0DE-4225-917E-D958EC75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8FD5-0AAE-4811-ABDC-14B6F9B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94D5-1DB8-4B3F-ADF3-8A5BFAA2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EC0A-27D8-4FD9-8A3F-EB4F701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C86C-A469-4733-8872-0BB38092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8DBE-2ABC-43C2-9A43-B8225148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39C6-52E1-498A-BAD9-75FCB1A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DF0-27F5-418F-BF84-55418E92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7D4E-945E-4F38-9BC9-CC11325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2B42-7D70-4886-8602-88158F2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5897-6BB9-4D9B-9637-776AF57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5D10-B479-4173-997C-FF3902F8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2159-90FD-4927-8AC2-EE3129E9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3FCF7-720B-4228-836E-30784193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3643-41F5-498C-B590-6F6FD77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2776D-54A6-452A-8D75-5A5E38D1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DB5B3-4AB2-4AEE-A1CD-E84DB435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9B374-9174-4A90-ADD7-7F3D6BD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E2F-3926-40EC-977E-A2CA8AD8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D37CE-B78B-4A84-8A51-439A1A5A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232FF-2838-4986-B11C-C13A12F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207CE-675F-4A7F-A807-E119F4E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03069-2B2D-4E03-9400-E9318E5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0BAB6-764F-465F-9A74-A49FF3EA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C0710-8039-4B8B-8867-5DAC055A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79B36-C1C4-4638-A126-B97061C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8791A-3CFD-4BB1-A1AA-69FBA837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A05CC-AD6C-4CA7-A345-4E39E36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BD6FA-4EE4-436F-9738-8D33CDA4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3CF-531C-4D21-80F8-885D2D4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9973F-6092-4338-AD1E-222D17C8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89463-4124-4F9C-9436-1815B4D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CD3CC-2534-412E-9923-01A4514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1A85A-9DD7-4205-8E2C-3906E5C9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9BB4C-F194-4904-95ED-AA98268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0AD29-294E-4C3C-BB61-D2E536E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D6841-346A-4B41-A382-133C030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412E2-F94D-4B4A-BCC4-F3387FBD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2AA45-9C19-4761-9CAC-A4C24439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E7555-D4CB-4689-9EBA-B532E03E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0F9-4897-420D-902D-1BD472F3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F2754-0D8E-487A-B7F4-E9B9C87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CC24D-C6F6-4BC1-A037-2FDCE1D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25EB6-F323-4945-AD12-83E46CE7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86E03-2E82-49F3-9D0A-AD74608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15B95-32F2-4F9B-84A8-C87692B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1CD35-3297-4481-935B-7406A95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DC198-1984-4BEE-887C-FA94730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5B0FD-A9DE-4492-9FA2-DEED08A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4192C-421D-4E82-B207-91430B1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B82CE-3124-40F2-9C35-35507227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A35-F358-47CA-8C0B-7D3037C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33698-3190-43E7-AF1E-AE91ACDF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4AFF-E23D-4FB5-A0D8-50E8885C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56AA-8B05-4C5D-B4DC-F9E7605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7BC0C-89B7-4A78-907B-D32986CA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A53D-86B5-4613-8285-B495F77C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AE49-CFF4-44AB-8C47-2E0BF480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673C-2EC0-40D2-8C48-65B1BF0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9909-352F-4050-BF63-D151A01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9340-4762-42A0-89B6-CE02695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FA85-949F-40DF-ADF2-E20F449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B17-EB22-4050-8A7F-F6724F0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6CD8D-69CD-4613-B514-9D613AC8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20DC-4744-479E-B6C3-98BEE373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77E0-27C5-44BF-9051-B3F1994A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C17DD-AEB3-409F-9598-DE7693B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088FC-9FC6-4A4D-84B2-D541FEF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BE8C9-EC62-48F3-A8CE-97C0F8E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FA05D-2333-414B-85F3-052010E6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E2E2C-B15C-454E-86AE-579AA501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D69DA-A799-4AF4-BDC5-4FA73C4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5C913-D167-486E-9DDD-A1E4B2F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0A3-F57B-496E-9DDC-DB0CCD72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7CFDF-55A5-43C8-8EAC-BA3DB3A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9A8DA-B872-4787-8635-E903E8C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90772-17E9-4777-BAC7-EAF3BB5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85E27-7EAD-4A5D-8497-12E8DBD4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88B62-90AB-4068-9224-2208FD38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6FEB-AD41-4E00-8046-60D3CB5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8508-568E-4BFF-9DFA-986541E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76DAB-BE6F-4EC2-91A7-5106EA16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CB20B-C841-4BF2-8365-50B6D434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18919-6D72-4A55-A636-03724B03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89C-2BFF-427A-AB10-E18192D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CB40B-F8F8-48E3-8CB5-1CE7F7EC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33952-BD3B-4596-B4C6-26188BB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53F3-A07F-431A-BE89-E406E4C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9EC2-1F10-4AF9-8DF9-1C267EB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A8F9F-64E0-4488-9E98-B020130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C756-EF92-4EC1-B8B7-77F32523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1830-0979-48A0-93F1-0D703152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FB18-A9BD-478E-80FB-67713BB9E3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8D9-E37A-438F-BE4F-AEC965F0D059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9BF-C699-4C52-B161-62DAC3D830A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2CF-A6A0-4916-9D7A-5A5B255DC8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380-3C18-4E1C-BCC1-4DE6512A91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979F-30ED-4AFE-A06C-F3221691B17F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BEB9-DEDB-45BE-B3A6-41E439B1B4E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DD51-CE6F-464F-8D72-F62FB00C04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5920" y="1000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omic Sans MS"/>
              </a:rPr>
              <a:t>АНГЛИЯ ПРИ ТЮДОРАХ.</a:t>
            </a:r>
            <a:endParaRPr b="0" lang="en-US" sz="6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2920" y="278568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17c36"/>
                </a:solidFill>
                <a:latin typeface="Comic Sans MS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циально-экономическое развитие англ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грарный переворо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олевская власть и реформац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4200" y="380520"/>
            <a:ext cx="82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ddc3"/>
                </a:solidFill>
                <a:latin typeface="Calibri"/>
              </a:rPr>
              <a:t>БРИТАНИЯ – ВЛАДЫЧИЦА МОРЕЙ.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28400" y="2819160"/>
            <a:ext cx="7786440" cy="29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утрен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еш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онархия и парламен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ЕРМИНЫ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Т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Л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ТУ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К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РИТА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1553 – 1558гг. – правление Марии </a:t>
            </a:r>
            <a:r>
              <a:rPr b="0" lang="en-US" sz="38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Тюдор (Католической,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ровавой)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онтрреформация в Англии.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857680" y="2071800"/>
            <a:ext cx="340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58 – 1603 гг. – правление Елизаветы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юдор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Золотой век» Елизаветы.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782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984840" cy="5786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700440" cy="58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7888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рочитайте первый пункт 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&amp; 16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и выпишите в тетрадь </a:t>
            </a: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направления внутренней политики 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Елизаветы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ТЕОРИЯ СМЕШАННОЙ МОНАРХИИ (ПАРЛАМЕНТСКАЯ МОНАРХИЯ)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13e1b"/>
                </a:solidFill>
                <a:latin typeface="Calibri"/>
              </a:rPr>
              <a:t>- ВЫСШАЯ ВЛАСТЬ В СТРАНЕ ПРИНАДЛЕЖИТ КОРОЛЮ В ПАРЛАМЕН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Comic Sans MS"/>
              </a:rPr>
              <a:t>СТРУКТУРА АНГЛИЙСКОГО ПАРЛАМЕНТ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3500280" y="1357200"/>
            <a:ext cx="228600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4"/>
          <p:cNvSpPr/>
          <p:nvPr/>
        </p:nvSpPr>
        <p:spPr>
          <a:xfrm>
            <a:off x="3357720" y="2071800"/>
            <a:ext cx="484200" cy="5713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трелка вниз 5"/>
          <p:cNvSpPr/>
          <p:nvPr/>
        </p:nvSpPr>
        <p:spPr>
          <a:xfrm>
            <a:off x="5429160" y="2000160"/>
            <a:ext cx="484200" cy="8575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1357200" y="2714760"/>
            <a:ext cx="2772000" cy="7142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ЛОРДОВ (ВЕРХНЯ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4572000" y="3000240"/>
            <a:ext cx="4214880" cy="928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ОБЩИН (НИЖНЯЯ). СПИКЕР -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8"/>
          <p:cNvSpPr/>
          <p:nvPr/>
        </p:nvSpPr>
        <p:spPr>
          <a:xfrm rot="3053400">
            <a:off x="5510520" y="4074480"/>
            <a:ext cx="48420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2500200" y="4286160"/>
            <a:ext cx="2786040" cy="714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БИЛЛЬ – ПРОЕКТ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0"/>
          <p:cNvSpPr/>
          <p:nvPr/>
        </p:nvSpPr>
        <p:spPr>
          <a:xfrm rot="19294200">
            <a:off x="2870280" y="3506400"/>
            <a:ext cx="484200" cy="6685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низ 11"/>
          <p:cNvSpPr/>
          <p:nvPr/>
        </p:nvSpPr>
        <p:spPr>
          <a:xfrm>
            <a:off x="3571920" y="5143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1571760" y="5643720"/>
            <a:ext cx="400032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СТАТУТ – ЗАКОН (ПРОЕКТ, ПОДПИСАННЫЙ КОРОЛ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низ 13"/>
          <p:cNvSpPr/>
          <p:nvPr/>
        </p:nvSpPr>
        <p:spPr>
          <a:xfrm rot="3869400">
            <a:off x="6001920" y="5443560"/>
            <a:ext cx="425520" cy="9396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6786720" y="5000760"/>
            <a:ext cx="214308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ВЕТО (запрет) КО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НЕШНЯЯ ПОЛИТИК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500720" y="1143000"/>
            <a:ext cx="4383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ПОЛИТИКА  ЕЛИЗАВЕТЫ </a:t>
            </a:r>
            <a:r>
              <a:rPr b="1" lang="en-US" sz="3200" spc="-1" strike="noStrike">
                <a:solidFill>
                  <a:srgbClr val="ebddc3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 ТЮДОР.</a:t>
            </a:r>
            <a:endParaRPr b="0" lang="en-US" sz="3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5840" y="1357200"/>
          <a:ext cx="8643960" cy="534060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УТРЕН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39-1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ЕШ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41-14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ЛИГИОЗН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ЧИНЫ КОНФЛИКТА С ИСПАНИЕ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omic Sans MS"/>
              </a:rPr>
              <a:t>Новые понятия: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Новое дворянство (джент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Лендлор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грарный перев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Огоражи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Пауп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кт о супремат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85840" y="2743200"/>
            <a:ext cx="3286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3e1b"/>
                </a:solidFill>
                <a:latin typeface="Comic Sans MS"/>
              </a:rPr>
              <a:t>Основа экономики Англии – овцеводство и сукнодел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85840" y="71424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5a3c"/>
                </a:solidFill>
                <a:latin typeface="Comic Sans MS"/>
              </a:rPr>
              <a:t>1. Социально-экономическое развитие Англии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3429000" y="2643120"/>
            <a:ext cx="53848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67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85480" y="2499840"/>
            <a:ext cx="4714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55d7e"/>
                </a:solidFill>
                <a:latin typeface="Comic Sans MS"/>
              </a:rPr>
              <a:t>1485-1509 </a:t>
            </a:r>
            <a:r>
              <a:rPr b="0" lang="ru-RU" sz="3600" spc="-1" strike="noStrike">
                <a:solidFill>
                  <a:srgbClr val="775f55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правление генриха </a:t>
            </a:r>
            <a:r>
              <a:rPr b="0" lang="en-US" sz="3200" spc="-1" strike="noStrike">
                <a:solidFill>
                  <a:srgbClr val="775f55"/>
                </a:solidFill>
                <a:latin typeface="Comic Sans MS"/>
              </a:rPr>
              <a:t>VII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Укрепление королевск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Королевская власть и Реформация.</a:t>
            </a:r>
            <a:br>
              <a:rPr sz="3200"/>
            </a:br>
            <a:r>
              <a:rPr b="1" lang="ru-RU" sz="4000" spc="-1" strike="noStrike">
                <a:solidFill>
                  <a:srgbClr val="355d7e"/>
                </a:solidFill>
                <a:latin typeface="Comic Sans MS"/>
              </a:rPr>
              <a:t>1485 – 1603 гг. – правление династии Тюдоров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33382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22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1509 – 1547 гг. – правление Генриха </a:t>
            </a:r>
            <a:r>
              <a:rPr b="1" lang="en-US" sz="4000" spc="-1" strike="noStrike">
                <a:solidFill>
                  <a:srgbClr val="565a3c"/>
                </a:solidFill>
                <a:latin typeface="Tw Cen MT"/>
              </a:rPr>
              <a:t>VIII</a:t>
            </a: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3486240" cy="5213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5072040" y="1714680"/>
            <a:ext cx="351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14200" y="2571840"/>
            <a:ext cx="8715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Король – верховный глава англиканской церк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Англия отказывается признавать авторитет па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Секуляризация церковных богат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В Основе англиканского вероучения – идеи Лю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Богослужения на английском я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17c36"/>
                </a:solidFill>
                <a:latin typeface="Comic Sans MS"/>
              </a:rPr>
              <a:t>1534 г.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– принятие Акта о супрематии (верховенстве).</a:t>
            </a:r>
            <a:br>
              <a:rPr sz="4000"/>
            </a:br>
            <a:r>
              <a:rPr b="1" lang="ru-RU" sz="4000" spc="-1" strike="noStrike">
                <a:solidFill>
                  <a:srgbClr val="565a3c"/>
                </a:solidFill>
                <a:latin typeface="Comic Sans MS"/>
              </a:rPr>
              <a:t>Начало Реформации в Англии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91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5:07:01Z</dcterms:created>
  <dc:creator>галина</dc:creator>
  <dc:description/>
  <dc:language>en-US</dc:language>
  <cp:lastModifiedBy>Viktjuk</cp:lastModifiedBy>
  <dcterms:modified xsi:type="dcterms:W3CDTF">2011-05-04T13:45:14Z</dcterms:modified>
  <cp:revision>68</cp:revision>
  <dc:subject/>
  <dc:title>Англия при Тюдорах.</dc:title>
</cp:coreProperties>
</file>