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906-80C4-44C6-85AE-70783DD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C07-DC72-462A-AA07-3B4D2E0C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159-E5B2-48BF-84F8-CE5D26B7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2E6-5DF4-4F35-8884-D972FAFB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A6C9-EAAE-41FF-A5DF-67BA4DE6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E888-01B4-49E1-8EC0-0AA2298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2988-0AF3-403F-9E4A-8A190D68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6E1F-CF82-4A15-AADD-C7EF62B2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DBC7-D5C9-499E-9109-DDD97814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49CA-BE98-4BBE-A97E-50828902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426E-A263-4222-A97F-B4DAA16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35C-4D65-480E-8307-B2718A42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D6C-C303-4503-ADED-43000F77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17B7-917A-461A-80CF-D80C881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FACD-266D-41FC-AF35-F8B72D7E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2303-624B-45B8-B98D-00B709E0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BF00-63CC-47BE-AB14-2499DDC4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A5B-E2F8-4E05-A091-C5CD35A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612-969D-434D-AC35-B00D1C2A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DD3-008F-487F-A855-FA348FF9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C53-BC81-418F-A173-E22FE2E0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DD7-6EAF-428B-A5C6-B7BF5FD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F57-28C5-4C60-AD05-C9472BA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077-2CF8-4D93-AA28-F810D34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A69B-6282-4EC8-ADC1-C65FD9B08F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A637-4BC5-4804-A19C-11A96C5A06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716000" y="3789360"/>
            <a:ext cx="3961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«Промедление может обернуться чем угодно, ибо время приносит с собой как зло, так и добро, как добро, так и зло».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Николо Макиавелл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7280" y="0"/>
            <a:ext cx="56390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Агрессивные дети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причины и последств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детской агрессии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67800" y="468000"/>
            <a:ext cx="6224040" cy="5992560"/>
            <a:chOff x="1567800" y="468000"/>
            <a:chExt cx="6224040" cy="5992560"/>
          </a:xfrm>
        </p:grpSpPr>
        <p:sp>
          <p:nvSpPr>
            <p:cNvPr id="143" name="_s59398"/>
            <p:cNvSpPr/>
            <p:nvPr/>
          </p:nvSpPr>
          <p:spPr>
            <a:xfrm flipV="1">
              <a:off x="3641400" y="467640"/>
              <a:ext cx="2076480" cy="1997280"/>
            </a:xfrm>
            <a:custGeom>
              <a:avLst/>
              <a:gdLst>
                <a:gd name="textAreaLeft" fmla="*/ 744840 w 2076480"/>
                <a:gd name="textAreaRight" fmla="*/ 1331640 w 2076480"/>
                <a:gd name="textAreaTop" fmla="*/ 716400 h 1997280"/>
                <a:gd name="textAreaBottom" fmla="*/ 128088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Verdana"/>
                </a:rPr>
                <a:t>Агрессия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59399"/>
            <p:cNvSpPr/>
            <p:nvPr/>
          </p:nvSpPr>
          <p:spPr>
            <a:xfrm flipV="1">
              <a:off x="2605680" y="2465280"/>
              <a:ext cx="4148280" cy="1997280"/>
            </a:xfrm>
            <a:custGeom>
              <a:avLst/>
              <a:gdLst>
                <a:gd name="textAreaLeft" fmla="*/ 912240 w 4148280"/>
                <a:gd name="textAreaRight" fmla="*/ 3236040 w 4148280"/>
                <a:gd name="textAreaTop" fmla="*/ 439200 h 1997280"/>
                <a:gd name="textAreaBottom" fmla="*/ 155808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Verdana"/>
                </a:rPr>
                <a:t>атмосфера 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Verdana"/>
                </a:rPr>
                <a:t>в семье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Verdana"/>
                </a:rPr>
                <a:t>(характер наказаний )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_s59400"/>
            <p:cNvSpPr/>
            <p:nvPr/>
          </p:nvSpPr>
          <p:spPr>
            <a:xfrm flipV="1">
              <a:off x="1567800" y="4462920"/>
              <a:ext cx="6224040" cy="1997280"/>
            </a:xfrm>
            <a:custGeom>
              <a:avLst/>
              <a:gdLst>
                <a:gd name="textAreaLeft" fmla="*/ 1080360 w 6224040"/>
                <a:gd name="textAreaRight" fmla="*/ 5143680 w 6224040"/>
                <a:gd name="textAreaTop" fmla="*/ 346680 h 1997280"/>
                <a:gd name="textAreaBottom" fmla="*/ 165060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некоторые соматически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заболевания или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заболевания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головного мозга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Нравственный облик личности зависит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в конечном счёт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от того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из каких источников черпал человек свои радости в годы детства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".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А.Сухомлинский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332000" y="907920"/>
            <a:ext cx="63356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начи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юбить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его ребёнк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907920"/>
            <a:ext cx="820872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начи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нимать ребенка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условно?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Задачи собрания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судить с родителями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причины агрессив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и её влияние на взаимодействие подростка с окружающими людь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Формировать у родителей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культуру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понимания проблемы агрессив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возможных путей её преодол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грессия - что это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3300"/>
                </a:solidFill>
                <a:latin typeface="Verdana"/>
              </a:rPr>
              <a:t>Под агрессией мы понимаем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поведение человека, приносящее физический и моральный ущерб другим людям или вызывающее у них отрицательные переживания, состояние напряжённости, страха, подавленности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57200" y="620640"/>
            <a:ext cx="8228520" cy="5508360"/>
            <a:chOff x="457200" y="620640"/>
            <a:chExt cx="8228520" cy="5508360"/>
          </a:xfrm>
        </p:grpSpPr>
        <p:cxnSp>
          <p:nvCxnSpPr>
            <p:cNvPr id="121" name="_s52236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127480" y="2266200"/>
              <a:ext cx="1102320" cy="2216160"/>
            </a:xfrm>
            <a:prstGeom prst="bentConnector3">
              <a:avLst>
                <a:gd name="adj1" fmla="val 1261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4" name="_s52234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2912040" y="2266920"/>
              <a:ext cx="1102320" cy="2215440"/>
            </a:xfrm>
            <a:prstGeom prst="bentConnector3">
              <a:avLst>
                <a:gd name="adj1" fmla="val 1261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3" name="_s52230"/>
            <p:cNvSpPr/>
            <p:nvPr/>
          </p:nvSpPr>
          <p:spPr>
            <a:xfrm>
              <a:off x="2671920" y="62064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3300"/>
                  </a:solidFill>
                  <a:latin typeface="Tahoma"/>
                </a:rPr>
                <a:t>Виды агрессии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_s52231"/>
            <p:cNvSpPr/>
            <p:nvPr/>
          </p:nvSpPr>
          <p:spPr>
            <a:xfrm>
              <a:off x="457200" y="392580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Tahoma"/>
                </a:rPr>
                <a:t>Доброкачественная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_s52233"/>
            <p:cNvSpPr/>
            <p:nvPr/>
          </p:nvSpPr>
          <p:spPr>
            <a:xfrm>
              <a:off x="4888080" y="392580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660066"/>
                  </a:solidFill>
                  <a:latin typeface="Tahoma"/>
                </a:rPr>
                <a:t>злокачественная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Природа агре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 основе агрессии лежат боль, унижение, обида, страх, которые, в свою очередь, возникают от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неудовлетворения человеческой потребности в любви и нужности другому человеку.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16000" y="1844640"/>
            <a:ext cx="604836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o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611280" y="692280"/>
            <a:ext cx="8028720" cy="5384520"/>
            <a:chOff x="611280" y="692280"/>
            <a:chExt cx="8028720" cy="5384520"/>
          </a:xfrm>
        </p:grpSpPr>
        <p:cxnSp>
          <p:nvCxnSpPr>
            <p:cNvPr id="130" name="_s57374"/>
            <p:cNvCxnSpPr/>
            <p:nvPr/>
          </p:nvCxnSpPr>
          <p:spPr>
            <a:xfrm flipV="1" rot="16200000">
              <a:off x="5185800" y="2547720"/>
              <a:ext cx="1607760" cy="283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1" name="_s57373"/>
            <p:cNvCxnSpPr>
              <a:stCxn id="132" idx="0"/>
              <a:endCxn id="133" idx="2"/>
            </p:cNvCxnSpPr>
            <p:nvPr/>
          </p:nvCxnSpPr>
          <p:spPr>
            <a:xfrm flipV="1">
              <a:off x="4536000" y="2833560"/>
              <a:ext cx="3600" cy="1071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4" name="_s57372"/>
            <p:cNvCxnSpPr/>
            <p:nvPr/>
          </p:nvCxnSpPr>
          <p:spPr>
            <a:xfrm flipV="1">
              <a:off x="1762560" y="3160440"/>
              <a:ext cx="2765160" cy="945000"/>
            </a:xfrm>
            <a:prstGeom prst="bentConnector3">
              <a:avLst>
                <a:gd name="adj1" fmla="val 4127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3" name="_s57368"/>
            <p:cNvSpPr/>
            <p:nvPr/>
          </p:nvSpPr>
          <p:spPr>
            <a:xfrm>
              <a:off x="3304440" y="692280"/>
              <a:ext cx="2462400" cy="2141640"/>
            </a:xfrm>
            <a:prstGeom prst="roundRect">
              <a:avLst>
                <a:gd name="adj" fmla="val 15912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проявления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агрессивност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_s57369"/>
            <p:cNvSpPr/>
            <p:nvPr/>
          </p:nvSpPr>
          <p:spPr>
            <a:xfrm>
              <a:off x="611280" y="393516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По отношению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окружающим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людя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_s57370"/>
            <p:cNvSpPr/>
            <p:nvPr/>
          </p:nvSpPr>
          <p:spPr>
            <a:xfrm>
              <a:off x="3304440" y="390492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По отношению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родителям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_s57371"/>
            <p:cNvSpPr/>
            <p:nvPr/>
          </p:nvSpPr>
          <p:spPr>
            <a:xfrm>
              <a:off x="6177600" y="390492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По отношению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окружающе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природ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ак выглядит агрессивный ребёнок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Агрессивный ребёнок нападает на других детей, обзывает и бьёт их, отбирает и ломает игрушки, намеренно употребляет грубые выражения. Часто такой ребёнок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щущает себя отверженным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, никому не нужным. Такие дети не могут оценить агрессивность. Они не замечают, что вселяют в окружающих страх и беспокойство. Эмоциональный мир агрессивных детей недостаточно богат, в их чувствах преобладают мрачные тона, количество реакций даже на стандартные ситуации ограничено. Чаще всего это защитные реакции. (Анализ рисунков "Несуществующее животное"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Критерии агрессивности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(схема наблюдения за ребёнком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9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Часто теряет контроль над соб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Часто спорит, ругается со взрослы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Часто отказывается выполнять правил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Часто специально раздражает люд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Часто винит других в своих ошибк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асто сердится и отказывается сделать что-т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Часто завистлив, мстителе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Чувствителен, очень быстро реагиру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04000" y="1557360"/>
            <a:ext cx="201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0:30:23Z</dcterms:created>
  <dc:creator>Home</dc:creator>
  <dc:description/>
  <dc:language>en-US</dc:language>
  <cp:lastModifiedBy>Home</cp:lastModifiedBy>
  <dcterms:modified xsi:type="dcterms:W3CDTF">2011-04-17T15:55:53Z</dcterms:modified>
  <cp:revision>7</cp:revision>
  <dc:subject/>
  <dc:title>Агрессивные дети – причины и последствия детской агрессии. </dc:title>
</cp:coreProperties>
</file>