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25C4-4992-46A0-8543-C508E12E1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9EF8-EC60-458F-8A5D-697D1818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C835-8481-4AD2-A0DA-3E0E57D95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87BF-1D8F-411D-AAC4-DAFE8B278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C7EF-E902-4C80-944C-6E8D47865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254D-BDBD-4FBE-AC5C-207B1ADE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490E-091B-4E1A-8711-A366CC81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52A3-BF08-4463-8FFB-95B1E92D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A5FC-C02C-48D5-A316-62895762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0418-ACAA-4A17-9D3A-25F5BD99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D4C7-3DE0-41A3-A327-36D5B0F1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163C-31ED-42DB-8E03-5555C0F4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8F09-865F-4FFB-A51E-396D6094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C6B0-CA55-4ECD-B855-3F7D098E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41DE-5713-4E6A-9179-C1A026FC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6D55-9D59-4119-8BB7-714C88744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5FE2-CA24-4D50-8055-D2300A6FF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E40B-1278-4EAD-9C38-5E7F81B2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11DD-9837-4CF5-9905-07C037C9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3A04-B3ED-4E64-BDDE-B9C6AD79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DB18-1FDB-4FE7-A63E-E7C5E648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8C8F-94B5-4E49-A1A5-F19D867A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6252-0DAB-49A9-B52D-164D4D5C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801C-A679-466B-B678-5A297977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2C57-3DC9-43E1-B8A5-56E023FADD9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784E-4766-477E-8CCB-EE34969E6E2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716000" y="3789360"/>
            <a:ext cx="3961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«Промедление может обернуться чем угодно, ибо время приносит с собой как зло, так и добро, как добро, так и зло».</a:t>
            </a:r>
            <a:br>
              <a:rPr sz="2400"/>
            </a:b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Николо Макиавелл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187280" y="0"/>
            <a:ext cx="563904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Harrington"/>
              </a:rPr>
              <a:t>Агрессивные дети: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fe3e02"/>
                  </a:gs>
                </a:gsLst>
                <a:lin ang="5400000"/>
              </a:gradFill>
              <a:latin typeface="Harrington"/>
              <a:ea typeface="Harringto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Harrington"/>
              </a:rPr>
              <a:t>причины и последств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fe3e02"/>
                  </a:gs>
                </a:gsLst>
                <a:lin ang="5400000"/>
              </a:gradFill>
              <a:latin typeface="Harrington"/>
              <a:ea typeface="Harringto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Harrington"/>
              </a:rPr>
              <a:t>детской агрессии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fe3e02"/>
                  </a:gs>
                </a:gsLst>
                <a:lin ang="5400000"/>
              </a:gradFill>
              <a:latin typeface="Harrington"/>
              <a:ea typeface="Harringt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1567800" y="468000"/>
            <a:ext cx="6224040" cy="5992560"/>
            <a:chOff x="1567800" y="468000"/>
            <a:chExt cx="6224040" cy="5992560"/>
          </a:xfrm>
        </p:grpSpPr>
        <p:sp>
          <p:nvSpPr>
            <p:cNvPr id="143" name="_s59398"/>
            <p:cNvSpPr/>
            <p:nvPr/>
          </p:nvSpPr>
          <p:spPr>
            <a:xfrm flipV="1">
              <a:off x="3641400" y="467640"/>
              <a:ext cx="2076480" cy="1997280"/>
            </a:xfrm>
            <a:custGeom>
              <a:avLst/>
              <a:gdLst>
                <a:gd name="textAreaLeft" fmla="*/ 744840 w 2076480"/>
                <a:gd name="textAreaRight" fmla="*/ 1331640 w 2076480"/>
                <a:gd name="textAreaTop" fmla="*/ 716400 h 1997280"/>
                <a:gd name="textAreaBottom" fmla="*/ 1280880 h 199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339966"/>
            </a:solidFill>
            <a:ln w="46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800000"/>
                  </a:solidFill>
                  <a:latin typeface="Verdana"/>
                </a:rPr>
                <a:t>Агрессия</a:t>
              </a:r>
              <a:endParaRPr b="0" lang="en-US" sz="21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4" name="_s59399"/>
            <p:cNvSpPr/>
            <p:nvPr/>
          </p:nvSpPr>
          <p:spPr>
            <a:xfrm flipV="1">
              <a:off x="2605680" y="2465280"/>
              <a:ext cx="4148280" cy="1997280"/>
            </a:xfrm>
            <a:custGeom>
              <a:avLst/>
              <a:gdLst>
                <a:gd name="textAreaLeft" fmla="*/ 912240 w 4148280"/>
                <a:gd name="textAreaRight" fmla="*/ 3236040 w 4148280"/>
                <a:gd name="textAreaTop" fmla="*/ 439200 h 1997280"/>
                <a:gd name="textAreaBottom" fmla="*/ 1558080 h 199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9966"/>
            </a:solidFill>
            <a:ln w="46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00"/>
                  </a:solidFill>
                  <a:latin typeface="Verdana"/>
                </a:rPr>
                <a:t>атмосфера </a:t>
              </a: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00"/>
                  </a:solidFill>
                  <a:latin typeface="Verdana"/>
                </a:rPr>
                <a:t>в семье</a:t>
              </a: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Verdana"/>
                </a:rPr>
                <a:t>(характер наказаний )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5" name="_s59400"/>
            <p:cNvSpPr/>
            <p:nvPr/>
          </p:nvSpPr>
          <p:spPr>
            <a:xfrm flipV="1">
              <a:off x="1567800" y="4462920"/>
              <a:ext cx="6224040" cy="1997280"/>
            </a:xfrm>
            <a:custGeom>
              <a:avLst/>
              <a:gdLst>
                <a:gd name="textAreaLeft" fmla="*/ 1080360 w 6224040"/>
                <a:gd name="textAreaRight" fmla="*/ 5143680 w 6224040"/>
                <a:gd name="textAreaTop" fmla="*/ 346680 h 1997280"/>
                <a:gd name="textAreaBottom" fmla="*/ 1650600 h 199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339966"/>
            </a:solidFill>
            <a:ln w="46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Verdana"/>
                </a:rPr>
                <a:t>некоторые соматические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Verdana"/>
                </a:rPr>
                <a:t>заболевания или 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Verdana"/>
                </a:rPr>
                <a:t>заболевания 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Verdana"/>
                </a:rPr>
                <a:t>головного мозга 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Verdan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"</a:t>
            </a: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Нравственный облик личности зависит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 в конечном счёте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 от того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 из каких источников черпал человек свои радости в годы детства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".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В.А.Сухомлинский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5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5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332000" y="907920"/>
            <a:ext cx="6335640" cy="446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то значит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юбить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воего ребёнка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11280" y="907920"/>
            <a:ext cx="8208720" cy="446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то значит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нимать ребенка,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езусловно?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Задачи собрания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бсудить с родителями </a:t>
            </a: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причины агрессивности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и её влияние на взаимодействие подростка с окружающими людьм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Формировать у родителей </a:t>
            </a: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культуру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понимания проблемы агрессивности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, возможных путей её преодоления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Агрессия - что это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Verdana"/>
              </a:rPr>
              <a:t>  </a:t>
            </a:r>
            <a:r>
              <a:rPr b="0" lang="en-US" sz="3600" spc="-1" strike="noStrike">
                <a:solidFill>
                  <a:srgbClr val="003300"/>
                </a:solidFill>
                <a:latin typeface="Verdana"/>
              </a:rPr>
              <a:t>Под агрессией мы понимаем</a:t>
            </a:r>
            <a:r>
              <a:rPr b="0" lang="en-US" sz="3600" spc="-1" strike="noStrike">
                <a:solidFill>
                  <a:srgbClr val="eec85e"/>
                </a:solidFill>
                <a:latin typeface="Verdana"/>
              </a:rPr>
              <a:t> поведение человека, приносящее физический и моральный ущерб другим людям или вызывающее у них отрицательные переживания, состояние напряжённости, страха, подавленности.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457200" y="620640"/>
            <a:ext cx="8228520" cy="5508360"/>
            <a:chOff x="457200" y="620640"/>
            <a:chExt cx="8228520" cy="5508360"/>
          </a:xfrm>
        </p:grpSpPr>
        <p:cxnSp>
          <p:nvCxnSpPr>
            <p:cNvPr id="121" name="_s52236"/>
            <p:cNvCxnSpPr>
              <a:stCxn id="122" idx="0"/>
              <a:endCxn id="123" idx="2"/>
            </p:cNvCxnSpPr>
            <p:nvPr/>
          </p:nvCxnSpPr>
          <p:spPr>
            <a:xfrm flipV="1" rot="16200000">
              <a:off x="5127480" y="2266200"/>
              <a:ext cx="1102320" cy="2216160"/>
            </a:xfrm>
            <a:prstGeom prst="bentConnector3">
              <a:avLst>
                <a:gd name="adj1" fmla="val 12610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24" name="_s52234"/>
            <p:cNvCxnSpPr>
              <a:stCxn id="125" idx="0"/>
              <a:endCxn id="123" idx="2"/>
            </p:cNvCxnSpPr>
            <p:nvPr/>
          </p:nvCxnSpPr>
          <p:spPr>
            <a:xfrm flipH="1" flipV="1" rot="5400000">
              <a:off x="2912040" y="2266920"/>
              <a:ext cx="1102320" cy="2215440"/>
            </a:xfrm>
            <a:prstGeom prst="bentConnector3">
              <a:avLst>
                <a:gd name="adj1" fmla="val 12610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123" name="_s52230"/>
            <p:cNvSpPr/>
            <p:nvPr/>
          </p:nvSpPr>
          <p:spPr>
            <a:xfrm>
              <a:off x="2671920" y="620640"/>
              <a:ext cx="3797640" cy="220320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3300"/>
                  </a:solidFill>
                  <a:latin typeface="Tahoma"/>
                </a:rPr>
                <a:t>Виды агрессии</a:t>
              </a:r>
              <a:endParaRPr b="0" lang="en-US" sz="33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5" name="_s52231"/>
            <p:cNvSpPr/>
            <p:nvPr/>
          </p:nvSpPr>
          <p:spPr>
            <a:xfrm>
              <a:off x="457200" y="3925800"/>
              <a:ext cx="3797640" cy="220320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eaeaea"/>
                  </a:solidFill>
                  <a:latin typeface="Tahoma"/>
                </a:rPr>
                <a:t>Доброкачественная</a:t>
              </a:r>
              <a:endParaRPr b="0" lang="en-US" sz="33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2" name="_s52233"/>
            <p:cNvSpPr/>
            <p:nvPr/>
          </p:nvSpPr>
          <p:spPr>
            <a:xfrm>
              <a:off x="4888080" y="3925800"/>
              <a:ext cx="3797640" cy="220320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660066"/>
                  </a:solidFill>
                  <a:latin typeface="Tahoma"/>
                </a:rPr>
                <a:t>злокачественная</a:t>
              </a:r>
              <a:endParaRPr b="0" lang="en-US" sz="33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Природа агресси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В основе агрессии лежат боль, унижение, обида, страх, которые, в свою очередь, возникают от </a:t>
            </a:r>
            <a:r>
              <a:rPr b="0" lang="en-US" sz="3600" spc="-1" strike="noStrike">
                <a:solidFill>
                  <a:srgbClr val="eec85e"/>
                </a:solidFill>
                <a:latin typeface="Verdana"/>
              </a:rPr>
              <a:t>неудовлетворения человеческой потребности в любви и нужности другому человеку.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5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5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116000" y="1844640"/>
            <a:ext cx="6048360" cy="30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sos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611280" y="692280"/>
            <a:ext cx="8028720" cy="5384520"/>
            <a:chOff x="611280" y="692280"/>
            <a:chExt cx="8028720" cy="5384520"/>
          </a:xfrm>
        </p:grpSpPr>
        <p:cxnSp>
          <p:nvCxnSpPr>
            <p:cNvPr id="130" name="_s57374"/>
            <p:cNvCxnSpPr/>
            <p:nvPr/>
          </p:nvCxnSpPr>
          <p:spPr>
            <a:xfrm flipV="1" rot="16200000">
              <a:off x="5185800" y="2547720"/>
              <a:ext cx="1607760" cy="28335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31" name="_s57373"/>
            <p:cNvCxnSpPr>
              <a:stCxn id="132" idx="0"/>
              <a:endCxn id="133" idx="2"/>
            </p:cNvCxnSpPr>
            <p:nvPr/>
          </p:nvCxnSpPr>
          <p:spPr>
            <a:xfrm flipV="1">
              <a:off x="4536000" y="2833560"/>
              <a:ext cx="3600" cy="10713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34" name="_s57372"/>
            <p:cNvCxnSpPr/>
            <p:nvPr/>
          </p:nvCxnSpPr>
          <p:spPr>
            <a:xfrm flipV="1">
              <a:off x="1762560" y="3160440"/>
              <a:ext cx="2765160" cy="945000"/>
            </a:xfrm>
            <a:prstGeom prst="bentConnector3">
              <a:avLst>
                <a:gd name="adj1" fmla="val 4127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133" name="_s57368"/>
            <p:cNvSpPr/>
            <p:nvPr/>
          </p:nvSpPr>
          <p:spPr>
            <a:xfrm>
              <a:off x="3304440" y="692280"/>
              <a:ext cx="2462400" cy="2141640"/>
            </a:xfrm>
            <a:prstGeom prst="roundRect">
              <a:avLst>
                <a:gd name="adj" fmla="val 15912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ahoma"/>
                </a:rPr>
                <a:t>Направления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ahoma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ahoma"/>
                </a:rPr>
                <a:t>проявления 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ahoma"/>
                </a:rPr>
                <a:t>агрессивности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5" name="_s57369"/>
            <p:cNvSpPr/>
            <p:nvPr/>
          </p:nvSpPr>
          <p:spPr>
            <a:xfrm>
              <a:off x="611280" y="3935160"/>
              <a:ext cx="2462400" cy="21416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Tahoma"/>
                </a:rPr>
                <a:t>По отношению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Tahoma"/>
                </a:rPr>
                <a:t> </a:t>
              </a:r>
              <a:r>
                <a:rPr b="1" lang="ru-RU" sz="2400" spc="-1" strike="noStrike">
                  <a:solidFill>
                    <a:srgbClr val="003300"/>
                  </a:solidFill>
                  <a:latin typeface="Tahoma"/>
                </a:rPr>
                <a:t>к 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Tahoma"/>
                </a:rPr>
                <a:t>окружающим 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Tahoma"/>
                </a:rPr>
                <a:t>людям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2" name="_s57370"/>
            <p:cNvSpPr/>
            <p:nvPr/>
          </p:nvSpPr>
          <p:spPr>
            <a:xfrm>
              <a:off x="3304440" y="3904920"/>
              <a:ext cx="2462400" cy="21416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ahoma"/>
                </a:rPr>
                <a:t>По отношению 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ahoma"/>
                </a:rPr>
                <a:t>к 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ahoma"/>
                </a:rPr>
                <a:t>родителям 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6" name="_s57371"/>
            <p:cNvSpPr/>
            <p:nvPr/>
          </p:nvSpPr>
          <p:spPr>
            <a:xfrm>
              <a:off x="6177600" y="3904920"/>
              <a:ext cx="2462400" cy="21416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ahoma"/>
                </a:rPr>
                <a:t>По отношению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ahoma"/>
                </a:rPr>
                <a:t> </a:t>
              </a:r>
              <a:r>
                <a:rPr b="1" lang="ru-RU" sz="2400" spc="-1" strike="noStrike">
                  <a:solidFill>
                    <a:srgbClr val="000066"/>
                  </a:solidFill>
                  <a:latin typeface="Tahoma"/>
                </a:rPr>
                <a:t>к 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ahoma"/>
                </a:rPr>
                <a:t>окружающей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ahoma"/>
                </a:rPr>
                <a:t> </a:t>
              </a:r>
              <a:r>
                <a:rPr b="1" lang="ru-RU" sz="2400" spc="-1" strike="noStrike">
                  <a:solidFill>
                    <a:srgbClr val="000066"/>
                  </a:solidFill>
                  <a:latin typeface="Tahoma"/>
                </a:rPr>
                <a:t>природе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Как выглядит агрессивный ребёнок?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Агрессивный ребёнок нападает на других детей, обзывает и бьёт их, отбирает и ломает игрушки, намеренно употребляет грубые выражения. Часто такой ребёнок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ощущает себя отверженным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, никому не нужным. Такие дети не могут оценить агрессивность. Они не замечают, что вселяют в окружающих страх и беспокойство. Эмоциональный мир агрессивных детей недостаточно богат, в их чувствах преобладают мрачные тона, количество реакций даже на стандартные ситуации ограничено. Чаще всего это защитные реакции. (Анализ рисунков "Несуществующее животное"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Arial"/>
              </a:rPr>
              <a:t>Критерии агрессивности.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(схема наблюдения за ребёнком)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6913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Часто теряет контроль над собой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Часто спорит, ругается со взрослым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Часто отказывается выполнять правил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Часто специально раздражает людей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Verdana"/>
              </a:rPr>
              <a:t>Часто винит других в своих ошибках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Часто сердится и отказывается сделать что-то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Часто завистлив, мстителен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Чувствителен, очень быстро реагирует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804000" y="1557360"/>
            <a:ext cx="20160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Д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Д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Д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Д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Д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Д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Д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Д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6T10:30:23Z</dcterms:created>
  <dc:creator>Home</dc:creator>
  <dc:description/>
  <dc:language>en-US</dc:language>
  <cp:lastModifiedBy>Home</cp:lastModifiedBy>
  <dcterms:modified xsi:type="dcterms:W3CDTF">2011-04-17T15:55:53Z</dcterms:modified>
  <cp:revision>7</cp:revision>
  <dc:subject/>
  <dc:title>Агрессивные дети – причины и последствия детской агрессии. </dc:title>
</cp:coreProperties>
</file>