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364-D885-466C-BD02-4762E714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D0E-6A37-497E-95F6-9525B3A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93F-4A0F-4128-9BFE-3BB3CB36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2F9-69C9-4E4A-AAF1-AC612D9E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E46C-C5EE-4BB7-BD20-FA5D170A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8804-E420-47C3-A5CD-869A0375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9F9-4062-4528-B54F-34948E17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2A9D-5CBA-4DED-B5BD-B51B9FED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6E2-D500-4731-B5F6-AE28A00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02A2-E99A-4AC2-923F-FE43EEB6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9846-3655-41B8-BFED-53BAFAC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EFF-EEC9-45F3-868D-C643FD6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C140-D113-4852-B6F5-41957D9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3F8-DA66-4C76-B98A-80ED45F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FD3F-C221-48E7-A474-3D1E8A6C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CCF6-A955-43D6-ACC6-59FA2EBE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9871-B16B-4CFE-B933-83E3F755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7BB-05E2-41C5-AF48-8B5EA302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1F4-50EA-45EE-BB1A-F5922CBC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C66-7443-47E8-9C58-AF04088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90C-1BD1-4866-91CB-370E02DA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767-7898-41BD-98D8-2FC9869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AA3-A87B-4422-97A6-669A7E2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09C-CD47-414C-AEB8-C459C1E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0090-F2C3-47F9-8BC7-6F5702D85C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8EA8-8C2F-440E-926A-3984DFE5D9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716000" y="3789360"/>
            <a:ext cx="396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«Промедление может обернуться чем угодно, ибо время приносит с собой как зло, так и добро, как добро, так и зло»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Николо Макиавелл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7280" y="0"/>
            <a:ext cx="56390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Агрессивные дети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причины и последств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детской агрессии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67800" y="468000"/>
            <a:ext cx="6224040" cy="5992560"/>
            <a:chOff x="1567800" y="468000"/>
            <a:chExt cx="6224040" cy="5992560"/>
          </a:xfrm>
        </p:grpSpPr>
        <p:sp>
          <p:nvSpPr>
            <p:cNvPr id="143" name="_s59398"/>
            <p:cNvSpPr/>
            <p:nvPr/>
          </p:nvSpPr>
          <p:spPr>
            <a:xfrm flipV="1">
              <a:off x="3641400" y="467640"/>
              <a:ext cx="2076480" cy="1997280"/>
            </a:xfrm>
            <a:custGeom>
              <a:avLst/>
              <a:gdLst>
                <a:gd name="textAreaLeft" fmla="*/ 744840 w 2076480"/>
                <a:gd name="textAreaRight" fmla="*/ 1331640 w 2076480"/>
                <a:gd name="textAreaTop" fmla="*/ 716400 h 1997280"/>
                <a:gd name="textAreaBottom" fmla="*/ 128088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Verdana"/>
                </a:rPr>
                <a:t>Агрессия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59399"/>
            <p:cNvSpPr/>
            <p:nvPr/>
          </p:nvSpPr>
          <p:spPr>
            <a:xfrm flipV="1">
              <a:off x="2605680" y="2465280"/>
              <a:ext cx="4148280" cy="1997280"/>
            </a:xfrm>
            <a:custGeom>
              <a:avLst/>
              <a:gdLst>
                <a:gd name="textAreaLeft" fmla="*/ 912240 w 4148280"/>
                <a:gd name="textAreaRight" fmla="*/ 3236040 w 4148280"/>
                <a:gd name="textAreaTop" fmla="*/ 439200 h 1997280"/>
                <a:gd name="textAreaBottom" fmla="*/ 155808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атмосфера 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в семье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Verdana"/>
                </a:rPr>
                <a:t>(характер наказаний )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_s59400"/>
            <p:cNvSpPr/>
            <p:nvPr/>
          </p:nvSpPr>
          <p:spPr>
            <a:xfrm flipV="1">
              <a:off x="1567800" y="4462920"/>
              <a:ext cx="6224040" cy="1997280"/>
            </a:xfrm>
            <a:custGeom>
              <a:avLst/>
              <a:gdLst>
                <a:gd name="textAreaLeft" fmla="*/ 1080360 w 6224040"/>
                <a:gd name="textAreaRight" fmla="*/ 5143680 w 6224040"/>
                <a:gd name="textAreaTop" fmla="*/ 346680 h 1997280"/>
                <a:gd name="textAreaBottom" fmla="*/ 165060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некоторые соматичес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заболевания или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заболевания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головного мозга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Нравственный облик личности зависит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в конечном счёт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от того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из каких источников черпал человек свои радости в годы детства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".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А.Сухомлинский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32000" y="907920"/>
            <a:ext cx="6335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начи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юбит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его ребёнк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907920"/>
            <a:ext cx="8208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начи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нимать ребенка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условно?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Задачи собрания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судить с родителями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причины агрессив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и её влияние на взаимодействие подростка с окружающими людь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Формировать у родителей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культуру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понимания проблемы агрессив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возможных путей её преодол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грессия - что это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3300"/>
                </a:solidFill>
                <a:latin typeface="Verdana"/>
              </a:rPr>
              <a:t>Под агрессией мы понимаем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поведение человека, приносящее физический и моральный ущерб другим людям или вызывающее у них отрицательные переживания, состояние напряжённости, страха, подавленности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57200" y="620640"/>
            <a:ext cx="8228520" cy="5508360"/>
            <a:chOff x="457200" y="620640"/>
            <a:chExt cx="8228520" cy="5508360"/>
          </a:xfrm>
        </p:grpSpPr>
        <p:cxnSp>
          <p:nvCxnSpPr>
            <p:cNvPr id="121" name="_s52236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127480" y="2266200"/>
              <a:ext cx="1102320" cy="2216160"/>
            </a:xfrm>
            <a:prstGeom prst="bentConnector3">
              <a:avLst>
                <a:gd name="adj1" fmla="val 1261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4" name="_s52234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2912040" y="2266920"/>
              <a:ext cx="1102320" cy="2215440"/>
            </a:xfrm>
            <a:prstGeom prst="bentConnector3">
              <a:avLst>
                <a:gd name="adj1" fmla="val 1261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3" name="_s52230"/>
            <p:cNvSpPr/>
            <p:nvPr/>
          </p:nvSpPr>
          <p:spPr>
            <a:xfrm>
              <a:off x="2671920" y="62064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3300"/>
                  </a:solidFill>
                  <a:latin typeface="Tahoma"/>
                </a:rPr>
                <a:t>Виды агрессии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_s52231"/>
            <p:cNvSpPr/>
            <p:nvPr/>
          </p:nvSpPr>
          <p:spPr>
            <a:xfrm>
              <a:off x="457200" y="392580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Tahoma"/>
                </a:rPr>
                <a:t>Доброкачественная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_s52233"/>
            <p:cNvSpPr/>
            <p:nvPr/>
          </p:nvSpPr>
          <p:spPr>
            <a:xfrm>
              <a:off x="4888080" y="392580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660066"/>
                  </a:solidFill>
                  <a:latin typeface="Tahoma"/>
                </a:rPr>
                <a:t>злокачественная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Природа агре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 основе агрессии лежат боль, унижение, обида, страх, которые, в свою очередь, возникают от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неудовлетворения человеческой потребности в любви и нужности другому человеку.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16000" y="1844640"/>
            <a:ext cx="604836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o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611280" y="692280"/>
            <a:ext cx="8028720" cy="5384520"/>
            <a:chOff x="611280" y="692280"/>
            <a:chExt cx="8028720" cy="5384520"/>
          </a:xfrm>
        </p:grpSpPr>
        <p:cxnSp>
          <p:nvCxnSpPr>
            <p:cNvPr id="130" name="_s57374"/>
            <p:cNvCxnSpPr/>
            <p:nvPr/>
          </p:nvCxnSpPr>
          <p:spPr>
            <a:xfrm flipV="1" rot="16200000">
              <a:off x="5185800" y="2547720"/>
              <a:ext cx="1607760" cy="283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57373"/>
            <p:cNvCxnSpPr>
              <a:stCxn id="132" idx="0"/>
              <a:endCxn id="133" idx="2"/>
            </p:cNvCxnSpPr>
            <p:nvPr/>
          </p:nvCxnSpPr>
          <p:spPr>
            <a:xfrm flipV="1">
              <a:off x="4536000" y="2833560"/>
              <a:ext cx="3600" cy="1071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4" name="_s57372"/>
            <p:cNvCxnSpPr/>
            <p:nvPr/>
          </p:nvCxnSpPr>
          <p:spPr>
            <a:xfrm flipV="1">
              <a:off x="1762560" y="3160440"/>
              <a:ext cx="2765160" cy="945000"/>
            </a:xfrm>
            <a:prstGeom prst="bentConnector3">
              <a:avLst>
                <a:gd name="adj1" fmla="val 412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3" name="_s57368"/>
            <p:cNvSpPr/>
            <p:nvPr/>
          </p:nvSpPr>
          <p:spPr>
            <a:xfrm>
              <a:off x="3304440" y="692280"/>
              <a:ext cx="2462400" cy="2141640"/>
            </a:xfrm>
            <a:prstGeom prst="roundRect">
              <a:avLst>
                <a:gd name="adj" fmla="val 15912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проявления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агрессивност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_s57369"/>
            <p:cNvSpPr/>
            <p:nvPr/>
          </p:nvSpPr>
          <p:spPr>
            <a:xfrm>
              <a:off x="611280" y="393516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По отношению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окружающим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людя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_s57370"/>
            <p:cNvSpPr/>
            <p:nvPr/>
          </p:nvSpPr>
          <p:spPr>
            <a:xfrm>
              <a:off x="3304440" y="390492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По отношению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родителям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_s57371"/>
            <p:cNvSpPr/>
            <p:nvPr/>
          </p:nvSpPr>
          <p:spPr>
            <a:xfrm>
              <a:off x="6177600" y="390492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По отношению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окружающе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природ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ак выглядит агрессивный ребёнок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Агрессивный ребёнок нападает на других детей, обзывает и бьёт их, отбирает и ломает игрушки, намеренно употребляет грубые выражения. Часто такой ребёнок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щущает себя отверженным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, никому не нужным. Такие дети не могут оценить агрессивность. Они не замечают, что вселяют в окружающих страх и беспокойство. Эмоциональный мир агрессивных детей недостаточно богат, в их чувствах преобладают мрачные тона, количество реакций даже на стандартные ситуации ограничено. Чаще всего это защитные реакции. (Анализ рисунков "Несуществующее животное"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Критерии агрессивности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(схема наблюдения за ребёнком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9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Часто теряет контроль над соб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Часто спорит, ругается со взрослы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Часто отказывается выполнять правил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Часто специально раздражает люд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Часто винит других в своих ошибк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асто сердится и отказывается сделать что-т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Часто завистлив, мстителе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Чувствителен, очень быстро реагиру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04000" y="1557360"/>
            <a:ext cx="201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0:30:23Z</dcterms:created>
  <dc:creator>Home</dc:creator>
  <dc:description/>
  <dc:language>en-US</dc:language>
  <cp:lastModifiedBy>Home</cp:lastModifiedBy>
  <dcterms:modified xsi:type="dcterms:W3CDTF">2011-04-17T15:55:53Z</dcterms:modified>
  <cp:revision>7</cp:revision>
  <dc:subject/>
  <dc:title>Агрессивные дети – причины и последствия детской агрессии. </dc:title>
</cp:coreProperties>
</file>