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7.gif" ContentType="image/gif"/>
  <Override PartName="/ppt/media/image2.jpeg" ContentType="image/jpeg"/>
  <Override PartName="/ppt/media/image16.png" ContentType="image/png"/>
  <Override PartName="/ppt/media/image14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1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A99C-A10F-412B-9FB3-B0E7FC68D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322D-A3C9-4AA9-817D-C3DB34C8C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0C42-1D39-4CAE-968D-F3899D6CC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2A13-F33F-4FF3-B816-5D1611A21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437D1-2044-4214-BC0F-25FD1ABF5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2ABFF-228B-4826-85E7-2497591FB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24ED7-8935-4B59-865A-457E7DBE9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25288-AC78-48B9-B0D5-090B87D1A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C1D22-5458-48D9-99FD-EDDD14A41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B1504-D0C2-4222-8C2F-699D4C803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C802B-4A66-42EC-B6D2-91D992230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AC2D-E2A2-40B1-8B42-E9DBC78EC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F6125-0456-45B8-BCEC-9F160354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6EB94-C513-4F2B-A824-44D7A47B9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50C09-2587-44C9-8245-ADFCB175D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8CC56-E696-44BC-A619-3BBD48EE1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4977D-71BB-494B-813B-C0271AE57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86C2-F25C-447F-AD02-57E0DECBB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0A70-13F3-4B2B-939D-41F798FC6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9A10-C0B2-47D7-B047-A665F1AE0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F881-6838-41C3-A528-51D2BDDA5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90B8-1D69-4F8C-BD67-166EB2E1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6B08-7357-4943-B2F3-99550171C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01E0-2453-4825-BFA1-CB51C97E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93B3F-2E4D-45C7-8E6A-4D2A148DE247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4F178-BA54-4909-9239-EB7E010A203C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png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ru.wikipedia.org/wiki/&#1056;&#1091;&#1089;&#1089;&#1082;&#1072;&#1103;_&#1085;&#1072;&#1088;&#1086;&#1076;&#1085;&#1072;&#1103;_&#1087;&#1077;&#1089;&#1085;&#1103;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hyperlink" Target="http://kaifovo.net/uploads/posts/2009-06/1243929003_1243835727_1.jpg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33360"/>
            <a:ext cx="9144000" cy="1434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Arial"/>
              </a:rPr>
              <a:t>Фольклор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ut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539640" y="404640"/>
            <a:ext cx="8229600" cy="22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реди множества безвестных певцов иногда появлялись талантливые народные поэты и исполнител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Текст 12" descr=""/>
          <p:cNvPicPr/>
          <p:nvPr/>
        </p:nvPicPr>
        <p:blipFill>
          <a:blip r:embed="rId2"/>
          <a:stretch/>
        </p:blipFill>
        <p:spPr>
          <a:xfrm>
            <a:off x="3132000" y="2637000"/>
            <a:ext cx="294804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 u="sng">
                <a:solidFill>
                  <a:srgbClr val="ffffff"/>
                </a:solidFill>
                <a:uFillTx/>
                <a:latin typeface="Arial"/>
              </a:rPr>
              <a:t>Собиратели</a:t>
            </a:r>
            <a:r>
              <a:rPr b="1" lang="en-US" sz="41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n-US" sz="4100" spc="-1" strike="noStrike" u="sng">
                <a:solidFill>
                  <a:srgbClr val="ffffff"/>
                </a:solidFill>
                <a:uFillTx/>
                <a:latin typeface="Arial"/>
              </a:rPr>
              <a:t>народных песен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ервые записи русских народных песен относятся еще к 17 веку. Интересно, что записаны они для английского путешественника Ричарда Джемса в 1619-1620 года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собенно активно собиранием исторических и лирических песен заинтересовались на рубеже 18-19 веков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реди собирателей – имена А.С.Пушкина, Н.В.Гогол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зучением песен занимались А.Н.Веселовский, А.Х.Востоков, В.Я.Пропп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1" descr=""/>
          <p:cNvPicPr/>
          <p:nvPr/>
        </p:nvPicPr>
        <p:blipFill>
          <a:blip r:embed="rId2"/>
          <a:stretch/>
        </p:blipFill>
        <p:spPr>
          <a:xfrm>
            <a:off x="0" y="0"/>
            <a:ext cx="8242200" cy="1197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68360" y="14839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50880" indent="-514440">
              <a:spcBef>
                <a:spcPts val="799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ыразительное чтение (пение) песн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50880" indent="-514440">
              <a:spcBef>
                <a:spcPts val="799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мысл названия песн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50880" indent="-514440">
              <a:spcBef>
                <a:spcPts val="799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то и когда мог ее исполнять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50880" indent="-514440">
              <a:spcBef>
                <a:spcPts val="799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акими чувствами проникнута песня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50880" indent="-514440">
              <a:spcBef>
                <a:spcPts val="799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Из каких частей она состоит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50880" indent="-514440">
              <a:spcBef>
                <a:spcPts val="799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акие средства художественной выразительности использованы в ней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Рисунок 3" descr="IMAGE029.gif"/>
          <p:cNvPicPr/>
          <p:nvPr/>
        </p:nvPicPr>
        <p:blipFill>
          <a:blip r:embed="rId3"/>
          <a:stretch/>
        </p:blipFill>
        <p:spPr>
          <a:xfrm>
            <a:off x="7236000" y="189000"/>
            <a:ext cx="16430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662200" y="1995480"/>
            <a:ext cx="6481800" cy="48625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4498920" cy="33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Источники: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410082"/>
                </a:solidFill>
                <a:uFillTx/>
                <a:latin typeface="Times New Roman"/>
                <a:hlinkClick r:id="rId2"/>
              </a:rPr>
              <a:t>http://ru.wikipedia.org/wiki/%D0%A0%D1%83%D1%81%D1%81%D0%BA%D0%B0%D1%8F_%D0%BD%D0%B0%D1%80%D0%BE%D0%B4%D0%BD%D0%B0%D1%8F_%D0%BF%D0%B5%D1%81%D0%BD%D1%8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http://ru.narod.ru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ff99"/>
                </a:solidFill>
                <a:latin typeface="Times New Roman"/>
              </a:rPr>
              <a:t>Работа выполне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ff99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ccff99"/>
                </a:solidFill>
                <a:latin typeface="Times New Roman"/>
              </a:rPr>
              <a:t>учителем русского языка и литератур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ff99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ccff99"/>
                </a:solidFill>
                <a:latin typeface="Times New Roman"/>
              </a:rPr>
              <a:t>МОУ СОШ №1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ff99"/>
                </a:solidFill>
                <a:latin typeface="Times New Roman"/>
              </a:rPr>
              <a:t>г. Лобня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cff99"/>
                </a:solidFill>
                <a:uFillTx/>
                <a:latin typeface="Times New Roman"/>
              </a:rPr>
              <a:t>Бычковой Наталией Михайловно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ff99"/>
                </a:solidFill>
                <a:latin typeface="Times New Roman"/>
              </a:rPr>
              <a:t>Сентябрь 2009 г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68360" y="907920"/>
            <a:ext cx="822960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собый пласт русском фольклоре составляют народные песни. В песнях отображен и внешний, и внутренний мир человека. Одни песни посвящались историческим событиям, героям, выдающимся историческим личностям, другие – переживаниям, связанным с  любовными отношениями, семейной жизнью, с солдатской доле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0" y="1773000"/>
            <a:ext cx="48592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родные песни в отличие от былин, исполнявшихся обычно сказителями, былинниками, создавались самыми разными людьми в минуты, когда душевные переживания, потрясения требовали выражения в словах и мелоди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076720" y="1052640"/>
            <a:ext cx="3714840" cy="5521320"/>
          </a:xfrm>
          <a:prstGeom prst="rect">
            <a:avLst/>
          </a:prstGeom>
          <a:ln w="0">
            <a:noFill/>
          </a:ln>
        </p:spPr>
      </p:pic>
      <p:pic>
        <p:nvPicPr>
          <p:cNvPr id="86" name="Заголовок 1" descr=""/>
          <p:cNvPicPr/>
          <p:nvPr/>
        </p:nvPicPr>
        <p:blipFill>
          <a:blip r:embed="rId3"/>
          <a:stretch/>
        </p:blipFill>
        <p:spPr>
          <a:xfrm>
            <a:off x="539640" y="0"/>
            <a:ext cx="812952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5013000"/>
            <a:ext cx="91440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33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есни передавались из уст в уста, от одного исполнителя к другому, от одного поколения к другим, при этом шлифуясь, изменялись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979640" y="189000"/>
            <a:ext cx="511812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2"/>
          <a:stretch/>
        </p:blipFill>
        <p:spPr>
          <a:xfrm>
            <a:off x="539640" y="-243000"/>
            <a:ext cx="8129520" cy="10526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1331640" y="692280"/>
            <a:ext cx="655164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lvl="3" marL="1375920" indent="-196560">
              <a:spcBef>
                <a:spcPts val="1199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Бурлацкие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5920" indent="-196560">
              <a:spcBef>
                <a:spcPts val="1199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Рекрутские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5920" indent="-196560">
              <a:spcBef>
                <a:spcPts val="1199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Разбойничьи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5920" indent="-196560">
              <a:spcBef>
                <a:spcPts val="1199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Ямщицкие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470880" indent="-3535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2050920" y="4221000"/>
            <a:ext cx="5037120" cy="23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2"/>
          <a:stretch/>
        </p:blipFill>
        <p:spPr>
          <a:xfrm>
            <a:off x="468360" y="0"/>
            <a:ext cx="8242200" cy="1158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0" y="1052280"/>
            <a:ext cx="57960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25600" indent="-394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Часто изображают не только события , но и отражают чувства, проживания героев так, как это понимает народ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-3945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Герои песен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-39456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Цари - Иван Грозный, Петр Первы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-39456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Герои-воины – Суворов, Кутуз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-39456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ародные вожди – Ермак, Разин, Пугаче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" descr="Картинка 8 из 709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867280" y="1773360"/>
            <a:ext cx="30862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2"/>
          <a:stretch/>
        </p:blipFill>
        <p:spPr>
          <a:xfrm>
            <a:off x="468360" y="0"/>
            <a:ext cx="8242200" cy="1158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68360" y="119664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Лирические песни изображают переживания, связанные с теми или иными жизненными обстоятельствами лирического героя. Этот герой безвестен, но каждый находил отклик чувствам, выраженным в песн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771640" y="3637080"/>
            <a:ext cx="3681720" cy="32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11280" y="4508280"/>
            <a:ext cx="8229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Чаще всего песни передают грустное, печальное настроение. Вся жизнь русского человека от рождения до смерти сопровождалась песне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908000" y="333360"/>
            <a:ext cx="5467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Текст 12" descr=""/>
          <p:cNvPicPr/>
          <p:nvPr/>
        </p:nvPicPr>
        <p:blipFill>
          <a:blip r:embed="rId2"/>
          <a:stretch/>
        </p:blipFill>
        <p:spPr>
          <a:xfrm>
            <a:off x="1547640" y="549360"/>
            <a:ext cx="6096240" cy="45622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050120" y="5589720"/>
            <a:ext cx="74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Исполнялись песни в одиночку и хоро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7T12:28:37Z</dcterms:created>
  <dc:creator>1</dc:creator>
  <dc:description/>
  <dc:language>en-US</dc:language>
  <cp:lastModifiedBy>Admin</cp:lastModifiedBy>
  <dcterms:modified xsi:type="dcterms:W3CDTF">2009-09-17T08:52:09Z</dcterms:modified>
  <cp:revision>35</cp:revision>
  <dc:subject/>
  <dc:title>Русские народные песни</dc:title>
</cp:coreProperties>
</file>