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gif" ContentType="image/gif"/>
  <Override PartName="/ppt/media/image2.jpeg" ContentType="image/jpeg"/>
  <Override PartName="/ppt/media/image16.png" ContentType="image/png"/>
  <Override PartName="/ppt/media/image14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1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7D1B-79AA-41A6-B3FA-57B1A7199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DB07-E70A-4C13-8029-ED1D91CC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7DC1-46D2-42E3-B286-9F150CB16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F3DE-30D4-464D-995B-C9EB9ADB1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A436-5FFF-4EBC-B673-6E00AED1D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B08B-706A-410B-B4A8-296F9AB3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BCE7-1F48-4880-BDD7-7C5CE107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E00A-9368-4DA3-9010-948211EE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2FB7-184E-4C21-99FE-5630AA9A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92A9-E61F-480A-B133-05D8B8C8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C86B-30C8-40EA-8A22-2A62C1A0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CA95-0ECF-49BF-BF9F-8777EC09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1485-72D3-47AB-ACB2-C40C0167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5C5B-309F-4191-80FB-4F7BCD57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14D0-0864-4E3F-B7BA-3F000414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1A5B-4D61-4035-9FB8-B4DDBC8BD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D016-6252-4BB2-93A5-ADA5E8F46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FCC5-2882-4B3D-8E5A-C6781E47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2D6A-20CF-4683-942A-4410A0C2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1778-66A7-4872-BB27-7DC24145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D1E4-029E-4B11-BD07-32311151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8BD7-3D68-482A-85D1-7B01377B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7C9C-4C89-4CB8-A680-4F6A0BB4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8187-8F12-479A-95B7-46ADB536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4756-A14C-4980-BE1A-EE5D739710E1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BDC4-DDEE-425E-9BE7-600EF3AC64D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ru.wikipedia.org/wiki/&#1056;&#1091;&#1089;&#1089;&#1082;&#1072;&#1103;_&#1085;&#1072;&#1088;&#1086;&#1076;&#1085;&#1072;&#1103;_&#1087;&#1077;&#1089;&#1085;&#1103;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hyperlink" Target="http://kaifovo.net/uploads/posts/2009-06/1243929003_1243835727_1.jp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33360"/>
            <a:ext cx="9144000" cy="143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Фольклор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8229600" cy="22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реди множества безвестных певцов иногда появлялись талантливые народные поэты и исполнител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Текст 12" descr=""/>
          <p:cNvPicPr/>
          <p:nvPr/>
        </p:nvPicPr>
        <p:blipFill>
          <a:blip r:embed="rId2"/>
          <a:stretch/>
        </p:blipFill>
        <p:spPr>
          <a:xfrm>
            <a:off x="3132000" y="2637000"/>
            <a:ext cx="294804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 u="sng">
                <a:solidFill>
                  <a:srgbClr val="ffffff"/>
                </a:solidFill>
                <a:uFillTx/>
                <a:latin typeface="Arial"/>
              </a:rPr>
              <a:t>Собиратели</a:t>
            </a:r>
            <a:r>
              <a:rPr b="1" lang="en-US" sz="41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4100" spc="-1" strike="noStrike" u="sng">
                <a:solidFill>
                  <a:srgbClr val="ffffff"/>
                </a:solidFill>
                <a:uFillTx/>
                <a:latin typeface="Arial"/>
              </a:rPr>
              <a:t>народных песен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рвые записи русских народных песен относятся еще к 17 веку. Интересно, что записаны они для английского путешественника Ричарда Джемса в 1619-1620 год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обенно активно собиранием исторических и лирических песен заинтересовались на рубеже 18-19 век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реди собирателей – имена А.С.Пушкина, Н.В.Гогол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учением песен занимались А.Н.Веселовский, А.Х.Востоков, В.Я.Пропп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2"/>
          <a:stretch/>
        </p:blipFill>
        <p:spPr>
          <a:xfrm>
            <a:off x="0" y="0"/>
            <a:ext cx="8242200" cy="1197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68360" y="1483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50880" indent="-514440">
              <a:spcBef>
                <a:spcPts val="7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ыразительное чтение (пение) песн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мысл названия песн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то и когда мог ее исполнять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ими чувствами проникнута песня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з каких частей она состоит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ие средства художественной выразительности использованы в ней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Рисунок 3" descr="IMAGE029.gif"/>
          <p:cNvPicPr/>
          <p:nvPr/>
        </p:nvPicPr>
        <p:blipFill>
          <a:blip r:embed="rId3"/>
          <a:stretch/>
        </p:blipFill>
        <p:spPr>
          <a:xfrm>
            <a:off x="7236000" y="189000"/>
            <a:ext cx="16430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662200" y="1995480"/>
            <a:ext cx="6481800" cy="4862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449892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Источники: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410082"/>
                </a:solidFill>
                <a:uFillTx/>
                <a:latin typeface="Times New Roman"/>
                <a:hlinkClick r:id="rId2"/>
              </a:rPr>
              <a:t>http://ru.wikipedia.org/wiki/%D0%A0%D1%83%D1%81%D1%81%D0%BA%D0%B0%D1%8F_%D0%BD%D0%B0%D1%80%D0%BE%D0%B4%D0%BD%D0%B0%D1%8F_%D0%BF%D0%B5%D1%81%D0%BD%D1%8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http://ru.narod.ru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99"/>
                </a:solidFill>
                <a:latin typeface="Times New Roman"/>
              </a:rPr>
              <a:t>Работа выполне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ccff99"/>
                </a:solidFill>
                <a:latin typeface="Times New Roman"/>
              </a:rPr>
              <a:t>учителем русского языка и литератур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ccff99"/>
                </a:solidFill>
                <a:latin typeface="Times New Roman"/>
              </a:rPr>
              <a:t>МОУ СОШ №1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99"/>
                </a:solidFill>
                <a:latin typeface="Times New Roman"/>
              </a:rPr>
              <a:t>г. Лобн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ff99"/>
                </a:solidFill>
                <a:uFillTx/>
                <a:latin typeface="Times New Roman"/>
              </a:rPr>
              <a:t>Бычковой Наталией Михайловн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99"/>
                </a:solidFill>
                <a:latin typeface="Times New Roman"/>
              </a:rPr>
              <a:t>Сентябрь 2009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68360" y="90792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собый пласт русском фольклоре составляют народные песни. В песнях отображен и внешний, и внутренний мир человека. Одни песни посвящались историческим событиям, героям, выдающимся историческим личностям, другие – переживаниям, связанным с  любовными отношениями, семейной жизнью, с солдатской дол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1773000"/>
            <a:ext cx="48592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родные песни в отличие от былин, исполнявшихся обычно сказителями, былинниками, создавались самыми разными людьми в минуты, когда душевные переживания, потрясения требовали выражения в словах и мелод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076720" y="1052640"/>
            <a:ext cx="3714840" cy="5521320"/>
          </a:xfrm>
          <a:prstGeom prst="rect">
            <a:avLst/>
          </a:prstGeom>
          <a:ln w="0">
            <a:noFill/>
          </a:ln>
        </p:spPr>
      </p:pic>
      <p:pic>
        <p:nvPicPr>
          <p:cNvPr id="86" name="Заголовок 1" descr=""/>
          <p:cNvPicPr/>
          <p:nvPr/>
        </p:nvPicPr>
        <p:blipFill>
          <a:blip r:embed="rId3"/>
          <a:stretch/>
        </p:blipFill>
        <p:spPr>
          <a:xfrm>
            <a:off x="539640" y="0"/>
            <a:ext cx="812952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501300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33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есни передавались из уст в уста, от одного исполнителя к другому, от одного поколения к другим, при этом шлифуясь, изменялись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979640" y="189000"/>
            <a:ext cx="511812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2"/>
          <a:stretch/>
        </p:blipFill>
        <p:spPr>
          <a:xfrm>
            <a:off x="539640" y="-243000"/>
            <a:ext cx="8129520" cy="1052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331640" y="692280"/>
            <a:ext cx="655164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3" marL="1375920" indent="-196560">
              <a:spcBef>
                <a:spcPts val="1199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Бурлацкие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5920" indent="-196560">
              <a:spcBef>
                <a:spcPts val="1199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Рекрутские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5920" indent="-196560">
              <a:spcBef>
                <a:spcPts val="1199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Разбойничьи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5920" indent="-196560">
              <a:spcBef>
                <a:spcPts val="1199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Ямщицкие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70880" indent="-3535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050920" y="4221000"/>
            <a:ext cx="5037120" cy="23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2"/>
          <a:stretch/>
        </p:blipFill>
        <p:spPr>
          <a:xfrm>
            <a:off x="468360" y="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0" y="1052280"/>
            <a:ext cx="57960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25600" indent="-394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асто изображают не только события , но и отражают чувства, проживания героев так, как это понимает народ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Герои песен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Цари - Иван Грозный, Петр Перв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ерои-воины – Суворов, Кутуз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родные вожди – Ермак, Разин, Пугаче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Картинка 8 из 709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1773360"/>
            <a:ext cx="3086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468360" y="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68360" y="11966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Лирические песни изображают переживания, связанные с теми или иными жизненными обстоятельствами лирического героя. Этот герой безвестен, но каждый находил отклик чувствам, выраженным в песн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771640" y="3637080"/>
            <a:ext cx="368172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11280" y="4508280"/>
            <a:ext cx="8229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Чаще всего песни передают грустное, печальное настроение. Вся жизнь русского человека от рождения до смерти сопровождалась песн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908000" y="333360"/>
            <a:ext cx="5467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Текст 12" descr=""/>
          <p:cNvPicPr/>
          <p:nvPr/>
        </p:nvPicPr>
        <p:blipFill>
          <a:blip r:embed="rId2"/>
          <a:stretch/>
        </p:blipFill>
        <p:spPr>
          <a:xfrm>
            <a:off x="1547640" y="549360"/>
            <a:ext cx="6096240" cy="4562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050120" y="5589720"/>
            <a:ext cx="74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сполнялись песни в одиночку и хор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2:28:37Z</dcterms:created>
  <dc:creator>1</dc:creator>
  <dc:description/>
  <dc:language>en-US</dc:language>
  <cp:lastModifiedBy>Admin</cp:lastModifiedBy>
  <dcterms:modified xsi:type="dcterms:W3CDTF">2009-09-17T08:52:09Z</dcterms:modified>
  <cp:revision>35</cp:revision>
  <dc:subject/>
  <dc:title>Русские народные песни</dc:title>
</cp:coreProperties>
</file>