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97F-AF0C-4660-A51D-16037013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7D4-D747-4EB3-B779-4A4A74D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169-5FC2-425E-9E39-F86E7F63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BFF-E041-4FA2-B2F0-211AE94E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3DDA-D4F8-4711-92BB-A2DAD1CC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4CF9-27A1-4620-9B5F-C16EA2E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5148-A612-41BE-8B4F-6463A232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976-0229-45D3-8AFA-DD0B3182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2BC0-24D5-4EA1-918C-ED753302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08E-5F8B-470C-94C1-A4AF1615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A16-3F54-4C5B-AABF-52C1655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D40-1441-47C7-8027-5EF600DE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D2D-C4BE-4A2B-9E8A-C91DAA1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FC07-EDE9-49F9-A70F-8FBAD55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6652-A1F4-4139-9A26-20F22A90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F293-914E-407D-A2B4-14825B44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E9C6-1F07-4506-BCE5-43EAB4BD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89F-4FBE-4563-8ECD-6683B60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BE8-BE5C-42C4-A3CB-FAC9F096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065-09DD-468E-8C86-BF8A37A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A57-74A2-4925-B040-C39C295C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952-DA65-4FA0-BA3F-C1F089E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A0B-BBDF-413D-BF8D-1368797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DCB-0359-40EE-BD18-1DCAD53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A77-9001-47ED-8ABE-B0187419136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92D-332E-4FBF-8B49-0F6789506BA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6;&#1091;&#1089;&#1089;&#1082;&#1072;&#1103;_&#1085;&#1072;&#1088;&#1086;&#1076;&#1085;&#1072;&#1103;_&#1087;&#1077;&#1089;&#1085;&#1103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http://kaifovo.net/uploads/posts/2009-06/1243929003_1243835727_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Фольклор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и множества безвестных певцов иногда появлялись талантливые народные поэты и исполнит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Текст 12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948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Собиратели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народных песен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е записи русских народных песен относятся еще к 17 веку. Интересно, что записаны они для английского путешественника Ричарда Джемса в 1619-1620 го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активно собиранием исторических и лирических песен заинтересовались на рубеже 18-19 ве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собирателей – имена А.С.Пушкина, Н.В.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м песен занимались А.Н.Веселовский, А.Х.Востоков, В.Я.Проп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242200" cy="119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зительное чтение (пение) пес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мысл названия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и когда мог ее исполня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ми чувствами проникнута пес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 каких частей она состои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средства художественной выразительности использованы в не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3" descr="IMAGE029.gif"/>
          <p:cNvPicPr/>
          <p:nvPr/>
        </p:nvPicPr>
        <p:blipFill>
          <a:blip r:embed="rId3"/>
          <a:stretch/>
        </p:blipFill>
        <p:spPr>
          <a:xfrm>
            <a:off x="7236000" y="18900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62200" y="199548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989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ru.wikipedia.org/wiki/%D0%A0%D1%83%D1%81%D1%81%D0%BA%D0%B0%D1%8F_%D0%BD%D0%B0%D1%80%D0%BE%D0%B4%D0%BD%D0%B0%D1%8F_%D0%BF%D0%B5%D1%81%D0%BD%D1%8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ru.narod.r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Работа выполн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учителем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МОУ СОШ №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г. Лоб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Times New Roman"/>
              </a:rPr>
              <a:t>Бычковой Наталией Михайлов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Сентябрь 2009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90792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обый пласт русском фольклоре составляют народные песни. В песнях отображен и внешний, и внутренний мир человека. Одни песни посвящались историческим событиям, героям, выдающимся историческим личностям, другие – переживаниям, связанным с  любовными отношениями, семейной жизнью, с солдатской до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4859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одные песни в отличие от былин, исполнявшихся обычно сказителями, былинниками, создавались самыми разными людьми в минуты, когда душевные переживания, потрясения требовали выражения в словах и мелод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714840" cy="55213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3"/>
          <a:stretch/>
        </p:blipFill>
        <p:spPr>
          <a:xfrm>
            <a:off x="539640" y="0"/>
            <a:ext cx="81295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3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ни передавались из уст в уста, от одного исполнителя к другому, от одного поколения к другим, при этом шлифуясь, изменя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1181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539640" y="-243000"/>
            <a:ext cx="812952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331640" y="692280"/>
            <a:ext cx="6551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урла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екрутс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азбойничь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Ямщи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503712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1052280"/>
            <a:ext cx="57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о изображают не только события , но и отражают чувства, проживания героев так, как это понимает наро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Герои песе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ари - Иван Грозный, Петр Перв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ерои-воины – Суворов, Кутуз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одные вожди – Ермак, Разин, Пуга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Картинка 8 из 7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77336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1196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рические песни изображают переживания, связанные с теми или иными жизненными обстоятельствами лирического героя. Этот герой безвестен, но каждый находил отклик чувствам, выраженным в пес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71640" y="3637080"/>
            <a:ext cx="3681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4508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аще всего песни передают грустное, печальное настроение. Вся жизнь русского человека от рождения до смерти сопровождалась пес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467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екст 12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096240" cy="456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0120" y="558972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лнялись песни в одиночку и хо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28:37Z</dcterms:created>
  <dc:creator>1</dc:creator>
  <dc:description/>
  <dc:language>en-US</dc:language>
  <cp:lastModifiedBy>Admin</cp:lastModifiedBy>
  <dcterms:modified xsi:type="dcterms:W3CDTF">2009-09-17T08:52:09Z</dcterms:modified>
  <cp:revision>35</cp:revision>
  <dc:subject/>
  <dc:title>Русские народные песни</dc:title>
</cp:coreProperties>
</file>