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042-B967-4B42-8446-E6E0EBA5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D21-7C5E-4487-AFC7-4F0049BC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FA2-21ED-4E90-8B30-0B56BDB8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D93-B562-4CBD-B27A-8DC4C32C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32A-3477-4526-B542-A6D74D4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D91-8F13-4C23-910C-612CA53D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C41-5DE1-4477-A9E8-66CF375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590-A295-483B-A860-E3A7FD2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949-AFCE-41DC-87E8-46392C4D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C99-410E-4AA2-9B3D-61D05C9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A32-AEAB-4F0E-A423-C21F11D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DBE-5756-48BD-A57A-ED22B5F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995-C7B5-4222-80C7-8B2D40B79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kopona.com/2090-fotoramka-po-doroge-s-oblakami.html" TargetMode="External"/><Relationship Id="rId2" Type="http://schemas.openxmlformats.org/officeDocument/2006/relationships/hyperlink" Target="http://inoe.name/50268-ramochka-dlja-fotoshopa-po-doroge-s-oblakami.html" TargetMode="External"/><Relationship Id="rId3" Type="http://schemas.openxmlformats.org/officeDocument/2006/relationships/hyperlink" Target="http://inoe.name/50268-ramochka-dlja-fotoshopa-po-doroge-s-oblakami.html" TargetMode="External"/><Relationship Id="rId4" Type="http://schemas.openxmlformats.org/officeDocument/2006/relationships/hyperlink" Target="http://www.kinderyata.ru/ramki/3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1476360" y="1052640"/>
            <a:ext cx="55148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дороге с облака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 один день из жизн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и ТЬСЯ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по дороге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0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2491920"/>
            <a:ext cx="5040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ять стре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ытывать в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ь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вствовать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27280" y="3429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403280" y="2852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26920" y="2492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тремиться ( н.ф.) –                         стремится ( 3-е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826920" y="328464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олноваться (н.ф.) –                         волнуется (3 –е лицо)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26920" y="407664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шибаться (н.ф.) –                                    ошибается (3-е 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826920" y="48690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ешиться (н.ф.) –                                 реши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900000" y="5661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доваться (н.ф.) –                          радуе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0" y="0"/>
            <a:ext cx="5256360" cy="2592360"/>
          </a:xfrm>
          <a:prstGeom prst="cloudCallout">
            <a:avLst>
              <a:gd name="adj1" fmla="val 51902"/>
              <a:gd name="adj2" fmla="val 54777"/>
            </a:avLst>
          </a:prstGeom>
          <a:gradFill rotWithShape="0">
            <a:gsLst>
              <a:gs pos="0">
                <a:srgbClr val="85dfff"/>
              </a:gs>
              <a:gs pos="50000">
                <a:srgbClr val="ffffff"/>
              </a:gs>
              <a:gs pos="100000">
                <a:srgbClr val="85d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116000" y="476280"/>
            <a:ext cx="35290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мените словосочетания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ним словом.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пишите глаголы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начальной форме и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форме 3 лица ед. ч.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1279430923_Ramka_dlya_foto_Pomoshnik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3"/>
          <p:cNvSpPr txBox="1"/>
          <p:nvPr/>
        </p:nvSpPr>
        <p:spPr>
          <a:xfrm rot="21352200">
            <a:off x="4643280" y="2276640"/>
            <a:ext cx="3457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, что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и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ния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14"/>
          <p:cNvSpPr/>
          <p:nvPr/>
        </p:nvSpPr>
        <p:spPr>
          <a:xfrm>
            <a:off x="2916360" y="1844640"/>
            <a:ext cx="367344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1187280" y="1557360"/>
            <a:ext cx="561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т труда не бо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умеет труди...    .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2050920" y="3573360"/>
            <a:ext cx="165600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2556000" y="3860640"/>
            <a:ext cx="79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2484360" y="465300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5364000" y="3429000"/>
            <a:ext cx="165744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5724360" y="3860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24"/>
          <p:cNvSpPr txBox="1"/>
          <p:nvPr/>
        </p:nvSpPr>
        <p:spPr>
          <a:xfrm>
            <a:off x="5796000" y="458136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611280" y="5273640"/>
            <a:ext cx="2449440" cy="1584360"/>
          </a:xfrm>
          <a:prstGeom prst="irregularSeal1">
            <a:avLst/>
          </a:prstGeom>
          <a:gradFill rotWithShape="0">
            <a:gsLst>
              <a:gs pos="0">
                <a:srgbClr val="5badff"/>
              </a:gs>
              <a:gs pos="50000">
                <a:srgbClr val="99ccff"/>
              </a:gs>
              <a:gs pos="100000">
                <a:srgbClr val="5ba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3851280" y="5589720"/>
            <a:ext cx="5184720" cy="720720"/>
          </a:xfrm>
          <a:prstGeom prst="wedgeRectCallout">
            <a:avLst>
              <a:gd name="adj1" fmla="val -49722"/>
              <a:gd name="adj2" fmla="val 92731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 (что делает?) не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ет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30164E-006 L 0.34271 -0.3095 E">
                                      <p:cBhvr>
                                        <p:cTn id="50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8.09623E-008 L 0.33073 -0.27782 E">
                                      <p:cBhvr>
                                        <p:cTn id="50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Oval 13"/>
          <p:cNvSpPr/>
          <p:nvPr/>
        </p:nvSpPr>
        <p:spPr>
          <a:xfrm>
            <a:off x="2700360" y="1844640"/>
            <a:ext cx="41767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1835280" y="1700280"/>
            <a:ext cx="5292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о трудит..ся,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2700360" y="3429000"/>
            <a:ext cx="1150920" cy="1366920"/>
          </a:xfrm>
          <a:prstGeom prst="wedgeEllipseCallout">
            <a:avLst>
              <a:gd name="adj1" fmla="val -70550"/>
              <a:gd name="adj2" fmla="val 52671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059280" y="3500280"/>
            <a:ext cx="358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5651640" y="3429000"/>
            <a:ext cx="934920" cy="1368360"/>
          </a:xfrm>
          <a:prstGeom prst="wedgeEllipseCallout">
            <a:avLst>
              <a:gd name="adj1" fmla="val 100763"/>
              <a:gd name="adj2" fmla="val 487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5867280" y="350028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WordArt 23"/>
          <p:cNvSpPr txBox="1"/>
          <p:nvPr/>
        </p:nvSpPr>
        <p:spPr>
          <a:xfrm>
            <a:off x="5940360" y="350028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26"/>
          <p:cNvSpPr txBox="1"/>
          <p:nvPr/>
        </p:nvSpPr>
        <p:spPr>
          <a:xfrm>
            <a:off x="2268360" y="2565360"/>
            <a:ext cx="427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793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надо ленит... с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793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8"/>
          <p:cNvSpPr txBox="1"/>
          <p:nvPr/>
        </p:nvSpPr>
        <p:spPr>
          <a:xfrm>
            <a:off x="5940360" y="414972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5867280" y="407664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3059280" y="414972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0" y="234936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2556000" y="5589720"/>
            <a:ext cx="5400720" cy="792000"/>
          </a:xfrm>
          <a:prstGeom prst="wedgeRectCallout">
            <a:avLst>
              <a:gd name="adj1" fmla="val -49236"/>
              <a:gd name="adj2" fmla="val 95490"/>
            </a:avLst>
          </a:prstGeom>
          <a:gradFill rotWithShape="0">
            <a:gsLst>
              <a:gs pos="0">
                <a:srgbClr val="b793ff"/>
              </a:gs>
              <a:gs pos="50000">
                <a:srgbClr val="ffffff"/>
              </a:gs>
              <a:gs pos="100000">
                <a:srgbClr val="b79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- 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лен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7051E-006 L 0.2875 -0.24659 E">
                                      <p:cBhvr>
                                        <p:cTn id="60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1041 L 0.27968 -0.20449 E">
                                      <p:cBhvr>
                                        <p:cTn id="60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771640" y="1773360"/>
            <a:ext cx="41054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1908000" y="1700280"/>
            <a:ext cx="50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о масте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и... 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411280" y="328464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5580000" y="3213000"/>
            <a:ext cx="1297080" cy="79236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2700360" y="342900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5940360" y="3429000"/>
            <a:ext cx="792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539640" y="5273640"/>
            <a:ext cx="223380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419640" y="5516640"/>
            <a:ext cx="5257800" cy="503280"/>
          </a:xfrm>
          <a:prstGeom prst="wedgeRectCallout">
            <a:avLst>
              <a:gd name="adj1" fmla="val -52296"/>
              <a:gd name="adj2" fmla="val 8943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 (что делает?)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509 L -0.12986 -0.13787 E">
                                      <p:cBhvr>
                                        <p:cTn id="6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89a7374027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2"/>
          <p:cNvSpPr/>
          <p:nvPr/>
        </p:nvSpPr>
        <p:spPr>
          <a:xfrm>
            <a:off x="-252360" y="292428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843280" y="5373720"/>
            <a:ext cx="6300720" cy="793800"/>
          </a:xfrm>
          <a:prstGeom prst="wedgeRectCallout">
            <a:avLst>
              <a:gd name="adj1" fmla="val -42240"/>
              <a:gd name="adj2" fmla="val 88999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ивый  (что сделает?) разом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ердный (что сделает?) вер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843280" y="1700280"/>
            <a:ext cx="4537080" cy="21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755640" y="1197000"/>
            <a:ext cx="71215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ка ленивый разомне...    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ердный с работы верне...    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5292720" y="3213000"/>
            <a:ext cx="1511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5580000" y="3357720"/>
            <a:ext cx="72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2556000" y="3213000"/>
            <a:ext cx="1728720" cy="14400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771640" y="3429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6"/>
          <p:cNvSpPr txBox="1"/>
          <p:nvPr/>
        </p:nvSpPr>
        <p:spPr>
          <a:xfrm>
            <a:off x="2916360" y="3933720"/>
            <a:ext cx="93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7"/>
          <p:cNvSpPr txBox="1"/>
          <p:nvPr/>
        </p:nvSpPr>
        <p:spPr>
          <a:xfrm>
            <a:off x="5796000" y="3860640"/>
            <a:ext cx="72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7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51978E-006 L 0.08663 -0.30048 E">
                                      <p:cBhvr>
                                        <p:cTn id="7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0164E-006 L 0.11025 -0.22554 E">
                                      <p:cBhvr>
                                        <p:cTn id="77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Oval 8"/>
          <p:cNvSpPr/>
          <p:nvPr/>
        </p:nvSpPr>
        <p:spPr>
          <a:xfrm>
            <a:off x="2556000" y="1557360"/>
            <a:ext cx="3816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5" name="Picture 10" descr="320"/>
          <p:cNvPicPr/>
          <p:nvPr/>
        </p:nvPicPr>
        <p:blipFill>
          <a:blip r:embed="rId2"/>
          <a:stretch/>
        </p:blipFill>
        <p:spPr>
          <a:xfrm rot="418200">
            <a:off x="6227640" y="2491920"/>
            <a:ext cx="2449800" cy="11844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11"/>
          <p:cNvSpPr txBox="1"/>
          <p:nvPr/>
        </p:nvSpPr>
        <p:spPr>
          <a:xfrm>
            <a:off x="900000" y="148428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челка маленькая,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та трудит ... ся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234000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507672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262728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536400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2556000" y="5300640"/>
            <a:ext cx="6192720" cy="506520"/>
          </a:xfrm>
          <a:prstGeom prst="wedgeRectCallout">
            <a:avLst>
              <a:gd name="adj1" fmla="val -51615"/>
              <a:gd name="adj2" fmla="val 163166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челка (что делает?) труд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 скл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8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61046E-007 L -0.05503 -0.12214 E">
                                      <p:cBhvr>
                                        <p:cTn id="83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238840717_po-doroge-s-oblaka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1476360" y="162864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ем весел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ыгать и скакать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26836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556000" y="3573360"/>
            <a:ext cx="936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07672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5435640" y="3645000"/>
            <a:ext cx="79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332000" y="4581360"/>
            <a:ext cx="5616360" cy="506520"/>
          </a:xfrm>
          <a:prstGeom prst="wedgeRectCallout">
            <a:avLst>
              <a:gd name="adj1" fmla="val 47824"/>
              <a:gd name="adj2" fmla="val 136833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м (что делать?) весел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8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4925E-007 L 0.33472 -0.2637 E">
                                      <p:cBhvr>
                                        <p:cTn id="8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1403280" y="0"/>
            <a:ext cx="5184720" cy="2565360"/>
          </a:xfrm>
          <a:prstGeom prst="cloudCallout">
            <a:avLst>
              <a:gd name="adj1" fmla="val 63504"/>
              <a:gd name="adj2" fmla="val 40472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979640" y="189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042920" y="33336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орфографическое                     правило мы изучали                              на сегодняшнем                                    урок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3708360" y="3573360"/>
            <a:ext cx="5113440" cy="2376720"/>
          </a:xfrm>
          <a:prstGeom prst="cloudCallout">
            <a:avLst>
              <a:gd name="adj1" fmla="val -57421"/>
              <a:gd name="adj2" fmla="val 4412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4076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пределить, когда в конце глаголов следует писать  - тся, а когда – тьс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9" descr="каникулы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3203640" y="0"/>
            <a:ext cx="4751280" cy="2492280"/>
          </a:xfrm>
          <a:prstGeom prst="cloudCallout">
            <a:avLst>
              <a:gd name="adj1" fmla="val 37504"/>
              <a:gd name="adj2" fmla="val 68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56000" y="3068640"/>
            <a:ext cx="3959280" cy="216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евица – сущ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от девушка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ивиться - глагол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удивляться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3924360" y="54936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глагол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ишется    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6372360" y="155736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А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2843280" y="234936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т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33055571[1]"/>
          <p:cNvPicPr/>
          <p:nvPr/>
        </p:nvPicPr>
        <p:blipFill>
          <a:blip r:embed="rId1"/>
          <a:stretch/>
        </p:blipFill>
        <p:spPr>
          <a:xfrm>
            <a:off x="5681520" y="3357720"/>
            <a:ext cx="3462480" cy="36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ji027"/>
          <p:cNvPicPr/>
          <p:nvPr/>
        </p:nvPicPr>
        <p:blipFill>
          <a:blip r:embed="rId2"/>
          <a:stretch/>
        </p:blipFill>
        <p:spPr>
          <a:xfrm>
            <a:off x="900000" y="2924280"/>
            <a:ext cx="3203640" cy="2463840"/>
          </a:xfrm>
          <a:prstGeom prst="rect">
            <a:avLst/>
          </a:prstGeom>
          <a:ln w="0">
            <a:noFill/>
          </a:ln>
        </p:spPr>
      </p:pic>
      <p:sp>
        <p:nvSpPr>
          <p:cNvPr id="46" name="WordArt 18"/>
          <p:cNvSpPr txBox="1"/>
          <p:nvPr/>
        </p:nvSpPr>
        <p:spPr>
          <a:xfrm>
            <a:off x="5724360" y="2060640"/>
            <a:ext cx="33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ненок любит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9"/>
          <p:cNvSpPr txBox="1"/>
          <p:nvPr/>
        </p:nvSpPr>
        <p:spPr>
          <a:xfrm>
            <a:off x="1042920" y="5661000"/>
            <a:ext cx="316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ые н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ю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Line 22"/>
          <p:cNvSpPr/>
          <p:nvPr/>
        </p:nvSpPr>
        <p:spPr>
          <a:xfrm>
            <a:off x="2987640" y="6669000"/>
            <a:ext cx="79236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7451640" y="3357720"/>
            <a:ext cx="100800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916360" y="0"/>
            <a:ext cx="4464000" cy="2133720"/>
          </a:xfrm>
          <a:prstGeom prst="cloudCallout">
            <a:avLst>
              <a:gd name="adj1" fmla="val -63370"/>
              <a:gd name="adj2" fmla="val 31921"/>
            </a:avLst>
          </a:prstGeom>
          <a:solidFill>
            <a:srgbClr val="eb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WordArt 27"/>
          <p:cNvSpPr txBox="1"/>
          <p:nvPr/>
        </p:nvSpPr>
        <p:spPr>
          <a:xfrm>
            <a:off x="4067280" y="2997360"/>
            <a:ext cx="194472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Ц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3203640" y="333360"/>
            <a:ext cx="41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Прочитайте предложения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Какие звуки произносятс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на мест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выделенных букв?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3708360" y="26028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a4"/>
                </a:solidFill>
                <a:latin typeface="Arial"/>
              </a:rPr>
              <a:t>Сформулируйте тему сегодняшнего уро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7236000" y="47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43" descr="a91[1]"/>
          <p:cNvPicPr/>
          <p:nvPr/>
        </p:nvPicPr>
        <p:blipFill>
          <a:blip r:embed="rId3"/>
          <a:stretch/>
        </p:blipFill>
        <p:spPr>
          <a:xfrm>
            <a:off x="0" y="981000"/>
            <a:ext cx="2089080" cy="204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обла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4"/>
          <p:cNvSpPr txBox="1"/>
          <p:nvPr/>
        </p:nvSpPr>
        <p:spPr>
          <a:xfrm>
            <a:off x="3635280" y="692280"/>
            <a:ext cx="43815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3924360" y="1844640"/>
            <a:ext cx="38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§ 14,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вторить правило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№ 81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исьменно),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82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выучить слова)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1332000" y="1628640"/>
            <a:ext cx="61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, ребят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по дорг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9" dur="1379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-29160" y="211680"/>
            <a:ext cx="9404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opona.com/2090-fotoramk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1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oe.name/50268-ramochk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dlja-fotoshop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слайд № 1, № 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inderyata.ru/ramki/3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- слайд №3, №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http://www.propsd.ru – слайд № 19,  № 2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http://foto-ramki.my1.ru/load/fotoramki/dlja_detej/21-7-2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айд № 13, № 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http://mp3.riall.net/mp3_download/3536.html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вуковой фай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ucha-ramok.ru/photoshop/ramki/271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amka-dlya-fotopo-doroge-s-oblakami.html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4, № 5, № 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http://www.1000designs.ru/page/14/ - слайд № 12 - 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каникулы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3"/>
          <p:cNvSpPr txBox="1"/>
          <p:nvPr/>
        </p:nvSpPr>
        <p:spPr>
          <a:xfrm rot="20876400">
            <a:off x="1116000" y="2133720"/>
            <a:ext cx="215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4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4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 rot="661800">
            <a:off x="3492000" y="213372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22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Ь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22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476360" y="3933720"/>
            <a:ext cx="316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НЦ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каникул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4427640" y="404640"/>
            <a:ext cx="31557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51280" y="1341000"/>
            <a:ext cx="489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 условия вы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писаний –тся и 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дить слово,                                                             к которому относится глагол, ст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него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 произносить                                                и писать глаголы                                                         на –тся и 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82920" y="476280"/>
            <a:ext cx="5761080" cy="3024000"/>
          </a:xfrm>
          <a:prstGeom prst="cloudCallout">
            <a:avLst>
              <a:gd name="adj1" fmla="val -53611"/>
              <a:gd name="adj2" fmla="val 54148"/>
            </a:avLst>
          </a:prstGeom>
          <a:gradFill rotWithShape="0">
            <a:gsLst>
              <a:gs pos="0">
                <a:srgbClr val="9797ff"/>
              </a:gs>
              <a:gs pos="50000">
                <a:srgbClr val="b9dcff"/>
              </a:gs>
              <a:gs pos="100000">
                <a:srgbClr val="9797ff"/>
              </a:gs>
            </a:gsLst>
            <a:lin ang="5400000"/>
          </a:gra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пределить,                                         - тся или – ться                             следует писать                             в конце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2700360" y="333360"/>
            <a:ext cx="4392720" cy="2664000"/>
          </a:xfrm>
          <a:prstGeom prst="cloudCallout">
            <a:avLst>
              <a:gd name="adj1" fmla="val -35652"/>
              <a:gd name="adj2" fmla="val 12097"/>
            </a:avLst>
          </a:prstGeom>
          <a:gradFill rotWithShape="0">
            <a:gsLst>
              <a:gs pos="0">
                <a:srgbClr val="c2bffd"/>
              </a:gs>
              <a:gs pos="50000">
                <a:srgbClr val="ffffff"/>
              </a:gs>
              <a:gs pos="100000">
                <a:srgbClr val="c2bf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Чтобы узнать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пишется на конце глагола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нужно задать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39640" y="2708280"/>
            <a:ext cx="3024360" cy="180036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1258920" y="299736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ть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ть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651640" y="2781360"/>
            <a:ext cx="3024000" cy="180000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6372360" y="306864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ет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ет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08000" y="2852640"/>
            <a:ext cx="349236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ишется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м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ть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в н.ф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4859280" y="2924280"/>
            <a:ext cx="374328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ИШЕТСЯ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ет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– 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14" descr="dfa1d067dfee[1]"/>
          <p:cNvPicPr/>
          <p:nvPr/>
        </p:nvPicPr>
        <p:blipFill>
          <a:blip r:embed="rId1"/>
          <a:stretch/>
        </p:blipFill>
        <p:spPr>
          <a:xfrm>
            <a:off x="7236000" y="404640"/>
            <a:ext cx="160632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анику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0" y="476280"/>
            <a:ext cx="6264360" cy="4249800"/>
          </a:xfrm>
          <a:prstGeom prst="wedgeRectCallout">
            <a:avLst>
              <a:gd name="adj1" fmla="val 59754"/>
              <a:gd name="adj2" fmla="val 3490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50920" y="692280"/>
            <a:ext cx="5833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жде чем глагол пис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забудь вопрос зада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ли мягкий знак в вопросе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 в глагол его внос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i027"/>
          <p:cNvPicPr/>
          <p:nvPr/>
        </p:nvPicPr>
        <p:blipFill>
          <a:blip r:embed="rId1"/>
          <a:stretch/>
        </p:blipFill>
        <p:spPr>
          <a:xfrm>
            <a:off x="250920" y="1413000"/>
            <a:ext cx="2448000" cy="1882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635280" y="1484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Животные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ют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              не купаю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( 3 лицо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7" descr="33055571[1]"/>
          <p:cNvPicPr/>
          <p:nvPr/>
        </p:nvPicPr>
        <p:blipFill>
          <a:blip r:embed="rId2"/>
          <a:stretch/>
        </p:blipFill>
        <p:spPr>
          <a:xfrm>
            <a:off x="108000" y="3735360"/>
            <a:ext cx="2944800" cy="312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635280" y="4292640"/>
            <a:ext cx="49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Слоненок   любит    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куп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   ( н. ф.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1332000" y="260280"/>
            <a:ext cx="6419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вай вопрос правиль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4716360" y="126792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716360" y="12682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796000" y="126828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4716360" y="407628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716360" y="4076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308720" y="4076640"/>
            <a:ext cx="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050920" y="260280"/>
            <a:ext cx="5043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сели слова в домик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27280" y="1989000"/>
          <a:ext cx="3898800" cy="1611360"/>
        </p:xfrm>
        <a:graphic>
          <a:graphicData uri="http://schemas.openxmlformats.org/drawingml/2006/table">
            <a:tbl>
              <a:tblPr/>
              <a:tblGrid>
                <a:gridCol w="1979640"/>
                <a:gridCol w="19191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7"/>
          <p:cNvSpPr/>
          <p:nvPr/>
        </p:nvSpPr>
        <p:spPr>
          <a:xfrm>
            <a:off x="250920" y="3645000"/>
            <a:ext cx="860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ит…ся, влит…ся, вложит…ся, влюблят…ся, возвысит…ся, веселит…ся, провозглашат…ся, воцарят…ся, вплетат…ся, вручат…ся, всколыхнут…ся, он хвалит…ся, боит…ся, нравит…ся, вернут…ся, соревнует…ся, выявляет…с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2627280" y="1413000"/>
            <a:ext cx="3889440" cy="57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765000"/>
          <a:ext cx="8569080" cy="56502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цар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ож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юбля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евну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ыс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зглаш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лет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ч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олых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3" name="WordArt 143"/>
          <p:cNvSpPr txBox="1"/>
          <p:nvPr/>
        </p:nvSpPr>
        <p:spPr>
          <a:xfrm>
            <a:off x="2124000" y="83664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44"/>
          <p:cNvSpPr txBox="1"/>
          <p:nvPr/>
        </p:nvSpPr>
        <p:spPr>
          <a:xfrm>
            <a:off x="6372360" y="836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23:11Z</dcterms:created>
  <dc:creator>Сергей</dc:creator>
  <dc:description/>
  <dc:language>en-US</dc:language>
  <cp:lastModifiedBy>COMP</cp:lastModifiedBy>
  <dcterms:modified xsi:type="dcterms:W3CDTF">2011-10-13T09:19:40Z</dcterms:modified>
  <cp:revision>18</cp:revision>
  <dc:subject/>
  <dc:title>Слайд 1</dc:title>
</cp:coreProperties>
</file>