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9B6-7F7F-45E9-BFCE-4F6DA6C7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3D3-25E7-47F9-B78F-B3DF54B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0E4-1773-4E13-8FE8-9536EBD4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D28-0D03-450A-9A5D-0BE01310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101-1465-4DC4-9786-DE0DA0EB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41F-EE4D-4864-8AEE-9B4C211F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A6C-619F-4E6F-B08B-F71CAFD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4792-B1E1-41C9-B3FE-B4D6B047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C44-AD7A-4263-B7AE-C81C9236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047-01D5-42C0-915D-E02BE92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F70-DB0E-4DD8-B858-2B77CDB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ECE-C3BA-42A2-8783-C9AFD8D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2A77-B22E-4CE1-9541-E3EE5E614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kopona.com/2090-fotoramka-po-doroge-s-oblakami.html" TargetMode="External"/><Relationship Id="rId2" Type="http://schemas.openxmlformats.org/officeDocument/2006/relationships/hyperlink" Target="http://inoe.name/50268-ramochka-dlja-fotoshopa-po-doroge-s-oblakami.html" TargetMode="External"/><Relationship Id="rId3" Type="http://schemas.openxmlformats.org/officeDocument/2006/relationships/hyperlink" Target="http://inoe.name/50268-ramochka-dlja-fotoshopa-po-doroge-s-oblakami.html" TargetMode="External"/><Relationship Id="rId4" Type="http://schemas.openxmlformats.org/officeDocument/2006/relationships/hyperlink" Target="http://www.kinderyata.ru/ramki/3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1476360" y="1052640"/>
            <a:ext cx="55148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дороге с облака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ли один день из жизн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и ТЬСЯ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по дороге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0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2491920"/>
            <a:ext cx="504036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ять стрем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ытывать в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ь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вствовать 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627280" y="3429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403280" y="2852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26920" y="2492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тремиться ( н.ф.) –                         стремится ( 3-е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826920" y="328464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олноваться (н.ф.) –                         волнуется (3 –е лицо)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26920" y="407664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шибаться (н.ф.) –                                    ошибается (3-е  лицо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826920" y="48690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ешиться (н.ф.) –                                 реши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900000" y="5661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доваться (н.ф.) –                          радуется (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0" y="0"/>
            <a:ext cx="5256360" cy="2592360"/>
          </a:xfrm>
          <a:prstGeom prst="cloudCallout">
            <a:avLst>
              <a:gd name="adj1" fmla="val 51902"/>
              <a:gd name="adj2" fmla="val 54777"/>
            </a:avLst>
          </a:prstGeom>
          <a:gradFill rotWithShape="0">
            <a:gsLst>
              <a:gs pos="0">
                <a:srgbClr val="85dfff"/>
              </a:gs>
              <a:gs pos="50000">
                <a:srgbClr val="ffffff"/>
              </a:gs>
              <a:gs pos="100000">
                <a:srgbClr val="85d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116000" y="476280"/>
            <a:ext cx="352908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мените словосочетания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дним словом.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Запишите глаголы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начальной форме и 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 форме 3 лица ед. ч.</a:t>
            </a:r>
            <a:endParaRPr b="0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1279430923_Ramka_dlya_foto_Pomoshniki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3"/>
          <p:cNvSpPr txBox="1"/>
          <p:nvPr/>
        </p:nvSpPr>
        <p:spPr>
          <a:xfrm rot="21352200">
            <a:off x="4643280" y="2276640"/>
            <a:ext cx="34578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, что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бята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им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ш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6db6ff"/>
                    </a:gs>
                    <a:gs pos="100000">
                      <a:srgbClr val="3333ff"/>
                    </a:gs>
                  </a:gsLst>
                  <a:lin ang="5646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ния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6db6ff"/>
                  </a:gs>
                  <a:gs pos="100000">
                    <a:srgbClr val="3333ff"/>
                  </a:gs>
                </a:gsLst>
                <a:lin ang="5646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Oval 14"/>
          <p:cNvSpPr/>
          <p:nvPr/>
        </p:nvSpPr>
        <p:spPr>
          <a:xfrm>
            <a:off x="2916360" y="1844640"/>
            <a:ext cx="3673440" cy="25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1187280" y="1557360"/>
            <a:ext cx="5616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т труда не бо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умеет труди...    .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Oval 21"/>
          <p:cNvSpPr/>
          <p:nvPr/>
        </p:nvSpPr>
        <p:spPr>
          <a:xfrm>
            <a:off x="2050920" y="3573360"/>
            <a:ext cx="165600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2556000" y="3860640"/>
            <a:ext cx="79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22"/>
          <p:cNvSpPr txBox="1"/>
          <p:nvPr/>
        </p:nvSpPr>
        <p:spPr>
          <a:xfrm>
            <a:off x="2484360" y="465300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Oval 23"/>
          <p:cNvSpPr/>
          <p:nvPr/>
        </p:nvSpPr>
        <p:spPr>
          <a:xfrm>
            <a:off x="5364000" y="3429000"/>
            <a:ext cx="1657440" cy="1871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WordArt 17"/>
          <p:cNvSpPr txBox="1"/>
          <p:nvPr/>
        </p:nvSpPr>
        <p:spPr>
          <a:xfrm>
            <a:off x="5724360" y="3860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24"/>
          <p:cNvSpPr txBox="1"/>
          <p:nvPr/>
        </p:nvSpPr>
        <p:spPr>
          <a:xfrm>
            <a:off x="5796000" y="458136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AutoShape 26"/>
          <p:cNvSpPr/>
          <p:nvPr/>
        </p:nvSpPr>
        <p:spPr>
          <a:xfrm>
            <a:off x="611280" y="5273640"/>
            <a:ext cx="2449440" cy="1584360"/>
          </a:xfrm>
          <a:prstGeom prst="irregularSeal1">
            <a:avLst/>
          </a:prstGeom>
          <a:gradFill rotWithShape="0">
            <a:gsLst>
              <a:gs pos="0">
                <a:srgbClr val="5badff"/>
              </a:gs>
              <a:gs pos="50000">
                <a:srgbClr val="99ccff"/>
              </a:gs>
              <a:gs pos="100000">
                <a:srgbClr val="5ba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8" name="AutoShape 27"/>
          <p:cNvSpPr/>
          <p:nvPr/>
        </p:nvSpPr>
        <p:spPr>
          <a:xfrm>
            <a:off x="3851280" y="5589720"/>
            <a:ext cx="5184720" cy="720720"/>
          </a:xfrm>
          <a:prstGeom prst="wedgeRectCallout">
            <a:avLst>
              <a:gd name="adj1" fmla="val -49722"/>
              <a:gd name="adj2" fmla="val 92731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 (что делает?) не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ет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30164E-006 L 0.34271 -0.3095 E">
                                      <p:cBhvr>
                                        <p:cTn id="50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8.09623E-008 L 0.33073 -0.27782 E">
                                      <p:cBhvr>
                                        <p:cTn id="50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Oval 13"/>
          <p:cNvSpPr/>
          <p:nvPr/>
        </p:nvSpPr>
        <p:spPr>
          <a:xfrm>
            <a:off x="2700360" y="1844640"/>
            <a:ext cx="417672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1835280" y="1700280"/>
            <a:ext cx="529272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до трудит..ся, 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66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66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2700360" y="3429000"/>
            <a:ext cx="1150920" cy="1366920"/>
          </a:xfrm>
          <a:prstGeom prst="wedgeEllipseCallout">
            <a:avLst>
              <a:gd name="adj1" fmla="val -70550"/>
              <a:gd name="adj2" fmla="val 52671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WordArt 14"/>
          <p:cNvSpPr txBox="1"/>
          <p:nvPr/>
        </p:nvSpPr>
        <p:spPr>
          <a:xfrm>
            <a:off x="3059280" y="3500280"/>
            <a:ext cx="358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5651640" y="3429000"/>
            <a:ext cx="934920" cy="1368360"/>
          </a:xfrm>
          <a:prstGeom prst="wedgeEllipseCallout">
            <a:avLst>
              <a:gd name="adj1" fmla="val 100763"/>
              <a:gd name="adj2" fmla="val 487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5867280" y="350028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WordArt 23"/>
          <p:cNvSpPr txBox="1"/>
          <p:nvPr/>
        </p:nvSpPr>
        <p:spPr>
          <a:xfrm>
            <a:off x="5940360" y="350028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26"/>
          <p:cNvSpPr txBox="1"/>
          <p:nvPr/>
        </p:nvSpPr>
        <p:spPr>
          <a:xfrm>
            <a:off x="2268360" y="2565360"/>
            <a:ext cx="427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793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надо ленит... с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793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28"/>
          <p:cNvSpPr txBox="1"/>
          <p:nvPr/>
        </p:nvSpPr>
        <p:spPr>
          <a:xfrm>
            <a:off x="5940360" y="4149720"/>
            <a:ext cx="358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5867280" y="4076640"/>
            <a:ext cx="50328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WordArt 25"/>
          <p:cNvSpPr txBox="1"/>
          <p:nvPr/>
        </p:nvSpPr>
        <p:spPr>
          <a:xfrm>
            <a:off x="3059280" y="4149720"/>
            <a:ext cx="358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0" y="234936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2" name="AutoShape 31"/>
          <p:cNvSpPr/>
          <p:nvPr/>
        </p:nvSpPr>
        <p:spPr>
          <a:xfrm>
            <a:off x="2556000" y="5589720"/>
            <a:ext cx="5400720" cy="792000"/>
          </a:xfrm>
          <a:prstGeom prst="wedgeRectCallout">
            <a:avLst>
              <a:gd name="adj1" fmla="val -49236"/>
              <a:gd name="adj2" fmla="val 95490"/>
            </a:avLst>
          </a:prstGeom>
          <a:gradFill rotWithShape="0">
            <a:gsLst>
              <a:gs pos="0">
                <a:srgbClr val="b793ff"/>
              </a:gs>
              <a:gs pos="50000">
                <a:srgbClr val="ffffff"/>
              </a:gs>
              <a:gs pos="100000">
                <a:srgbClr val="b79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труд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- 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о (что делать?) ленит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7051E-006 L 0.2875 -0.24659 E">
                                      <p:cBhvr>
                                        <p:cTn id="60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01041 L 0.27968 -0.20449 E">
                                      <p:cBhvr>
                                        <p:cTn id="60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Детская &lt;a title=&quot;рамк&quot; href=&quot;http://www.exero.ru/photoshop/&quot; target=&quot;_blank&quot;&gt;рамк&lt;/a&gt;а для фото - Веселая  африк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771640" y="1773360"/>
            <a:ext cx="41054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1908000" y="1700280"/>
            <a:ext cx="50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о масте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5bad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и... 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5bad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411280" y="328464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5580000" y="3213000"/>
            <a:ext cx="1297080" cy="79236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2700360" y="342900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5940360" y="3429000"/>
            <a:ext cx="792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539640" y="5273640"/>
            <a:ext cx="223380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419640" y="5516640"/>
            <a:ext cx="5257800" cy="503280"/>
          </a:xfrm>
          <a:prstGeom prst="wedgeRectCallout">
            <a:avLst>
              <a:gd name="adj1" fmla="val -52296"/>
              <a:gd name="adj2" fmla="val 89430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 (что делает?) бо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3 –е скл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0509 L -0.12986 -0.13787 E">
                                      <p:cBhvr>
                                        <p:cTn id="68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389a7374027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2"/>
          <p:cNvSpPr/>
          <p:nvPr/>
        </p:nvSpPr>
        <p:spPr>
          <a:xfrm>
            <a:off x="-252360" y="2924280"/>
            <a:ext cx="2233440" cy="1584360"/>
          </a:xfrm>
          <a:prstGeom prst="irregularSeal1">
            <a:avLst/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843280" y="5373720"/>
            <a:ext cx="6300720" cy="793800"/>
          </a:xfrm>
          <a:prstGeom prst="wedgeRectCallout">
            <a:avLst>
              <a:gd name="adj1" fmla="val -42240"/>
              <a:gd name="adj2" fmla="val 88999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ивый  (что сделает?) разом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ердный (что сделает?) верне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3 –е скл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2843280" y="1700280"/>
            <a:ext cx="4537080" cy="21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755640" y="1197000"/>
            <a:ext cx="71215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ка ленивый разомне...    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ea"/>
                    </a:gs>
                    <a:gs pos="50000">
                      <a:srgbClr val="57abff"/>
                    </a:gs>
                    <a:gs pos="100000">
                      <a:srgbClr val="0000e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ердный с работы верне...    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ea"/>
                  </a:gs>
                  <a:gs pos="50000">
                    <a:srgbClr val="57abff"/>
                  </a:gs>
                  <a:gs pos="100000">
                    <a:srgbClr val="0000ea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5292720" y="3213000"/>
            <a:ext cx="1511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WordArt 11"/>
          <p:cNvSpPr txBox="1"/>
          <p:nvPr/>
        </p:nvSpPr>
        <p:spPr>
          <a:xfrm>
            <a:off x="5580000" y="3357720"/>
            <a:ext cx="72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2556000" y="3213000"/>
            <a:ext cx="1728720" cy="14400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771640" y="3429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WordArt 16"/>
          <p:cNvSpPr txBox="1"/>
          <p:nvPr/>
        </p:nvSpPr>
        <p:spPr>
          <a:xfrm>
            <a:off x="2916360" y="3933720"/>
            <a:ext cx="93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WordArt 17"/>
          <p:cNvSpPr txBox="1"/>
          <p:nvPr/>
        </p:nvSpPr>
        <p:spPr>
          <a:xfrm>
            <a:off x="5796000" y="3860640"/>
            <a:ext cx="72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8fbc"/>
                                      </p:to>
                                    </p:animClr>
                                    <p:set>
                                      <p:cBhvr>
                                        <p:cTn id="7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51978E-006 L 0.08663 -0.30048 E">
                                      <p:cBhvr>
                                        <p:cTn id="7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30164E-006 L 0.11025 -0.22554 E">
                                      <p:cBhvr>
                                        <p:cTn id="77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Детская рамка для фото - Веселая  африка 2"/>
          <p:cNvPicPr/>
          <p:nvPr/>
        </p:nvPicPr>
        <p:blipFill>
          <a:blip r:embed="rId1"/>
          <a:srcRect l="0" t="0" r="0" b="48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Oval 8"/>
          <p:cNvSpPr/>
          <p:nvPr/>
        </p:nvSpPr>
        <p:spPr>
          <a:xfrm>
            <a:off x="2556000" y="1557360"/>
            <a:ext cx="3816360" cy="24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5" name="Picture 10" descr="320"/>
          <p:cNvPicPr/>
          <p:nvPr/>
        </p:nvPicPr>
        <p:blipFill>
          <a:blip r:embed="rId2"/>
          <a:stretch/>
        </p:blipFill>
        <p:spPr>
          <a:xfrm rot="418200">
            <a:off x="6227640" y="2491920"/>
            <a:ext cx="2449800" cy="11844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11"/>
          <p:cNvSpPr txBox="1"/>
          <p:nvPr/>
        </p:nvSpPr>
        <p:spPr>
          <a:xfrm>
            <a:off x="900000" y="148428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челка маленькая,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та трудит ... ся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Oval 12"/>
          <p:cNvSpPr/>
          <p:nvPr/>
        </p:nvSpPr>
        <p:spPr>
          <a:xfrm>
            <a:off x="234000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Oval 13"/>
          <p:cNvSpPr/>
          <p:nvPr/>
        </p:nvSpPr>
        <p:spPr>
          <a:xfrm>
            <a:off x="5076720" y="314172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262728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15"/>
          <p:cNvSpPr txBox="1"/>
          <p:nvPr/>
        </p:nvSpPr>
        <p:spPr>
          <a:xfrm>
            <a:off x="5364000" y="3284640"/>
            <a:ext cx="86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2556000" y="5300640"/>
            <a:ext cx="6192720" cy="506520"/>
          </a:xfrm>
          <a:prstGeom prst="wedgeRectCallout">
            <a:avLst>
              <a:gd name="adj1" fmla="val -51615"/>
              <a:gd name="adj2" fmla="val 163166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челка (что делает?) труд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 скл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8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61046E-007 L -0.05503 -0.12214 E">
                                      <p:cBhvr>
                                        <p:cTn id="83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238840717_po-doroge-s-oblaka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1476360" y="1628640"/>
            <a:ext cx="5616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дем весели...   ,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ыгать и скакать.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26836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2556000" y="3573360"/>
            <a:ext cx="936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5076720" y="3429000"/>
            <a:ext cx="1440000" cy="792000"/>
          </a:xfrm>
          <a:prstGeom prst="ellipse">
            <a:avLst/>
          </a:prstGeom>
          <a:gradFill rotWithShape="0">
            <a:gsLst>
              <a:gs pos="0">
                <a:srgbClr val="b7db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5435640" y="3645000"/>
            <a:ext cx="79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0" y="2997360"/>
            <a:ext cx="2233440" cy="1584000"/>
          </a:xfrm>
          <a:prstGeom prst="irregularSeal1">
            <a:avLst/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1332000" y="4581360"/>
            <a:ext cx="5616360" cy="506520"/>
          </a:xfrm>
          <a:prstGeom prst="wedgeRectCallout">
            <a:avLst>
              <a:gd name="adj1" fmla="val 47824"/>
              <a:gd name="adj2" fmla="val 136833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ем (что делать?) весели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н.ф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cc"/>
                                      </p:to>
                                    </p:animClr>
                                    <p:set>
                                      <p:cBhvr>
                                        <p:cTn id="8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74925E-007 L 0.33472 -0.2637 E">
                                      <p:cBhvr>
                                        <p:cTn id="89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1403280" y="0"/>
            <a:ext cx="5184720" cy="2565360"/>
          </a:xfrm>
          <a:prstGeom prst="cloudCallout">
            <a:avLst>
              <a:gd name="adj1" fmla="val 63504"/>
              <a:gd name="adj2" fmla="val 40472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979640" y="18900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042920" y="333360"/>
            <a:ext cx="59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орфографическое                     правило мы изучали                              на сегодняшнем                                    урок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3708360" y="3573360"/>
            <a:ext cx="5113440" cy="2376720"/>
          </a:xfrm>
          <a:prstGeom prst="cloudCallout">
            <a:avLst>
              <a:gd name="adj1" fmla="val -57421"/>
              <a:gd name="adj2" fmla="val 44120"/>
            </a:avLst>
          </a:prstGeom>
          <a:gradFill rotWithShape="0">
            <a:gsLst>
              <a:gs pos="0">
                <a:srgbClr val="d5eaff"/>
              </a:gs>
              <a:gs pos="50000">
                <a:srgbClr val="ffffff"/>
              </a:gs>
              <a:gs pos="100000">
                <a:srgbClr val="d5ea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407664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 определить, когда в конце глаголов следует писать  - тся, а когда – тьс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500"/>
                            </p:stCondLst>
                            <p:childTnLst>
                              <p:par>
                                <p:cTn id="9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000"/>
                            </p:stCondLst>
                            <p:childTnLst>
                              <p:par>
                                <p:cTn id="9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100000">
              <a:srgbClr val="fdd7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9" descr="каникулы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3203640" y="0"/>
            <a:ext cx="4751280" cy="2492280"/>
          </a:xfrm>
          <a:prstGeom prst="cloudCallout">
            <a:avLst>
              <a:gd name="adj1" fmla="val 37504"/>
              <a:gd name="adj2" fmla="val 6828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556000" y="3068640"/>
            <a:ext cx="3959280" cy="216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евица – сущ.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от девушка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дивиться - глагол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( удивляться)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3924360" y="54936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глагол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ишется       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6372360" y="155736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А!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2843280" y="234936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ит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33055571[1]"/>
          <p:cNvPicPr/>
          <p:nvPr/>
        </p:nvPicPr>
        <p:blipFill>
          <a:blip r:embed="rId1"/>
          <a:stretch/>
        </p:blipFill>
        <p:spPr>
          <a:xfrm>
            <a:off x="5681520" y="3357720"/>
            <a:ext cx="3462480" cy="3671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ji027"/>
          <p:cNvPicPr/>
          <p:nvPr/>
        </p:nvPicPr>
        <p:blipFill>
          <a:blip r:embed="rId2"/>
          <a:stretch/>
        </p:blipFill>
        <p:spPr>
          <a:xfrm>
            <a:off x="900000" y="2924280"/>
            <a:ext cx="3203640" cy="2463840"/>
          </a:xfrm>
          <a:prstGeom prst="rect">
            <a:avLst/>
          </a:prstGeom>
          <a:ln w="0">
            <a:noFill/>
          </a:ln>
        </p:spPr>
      </p:pic>
      <p:sp>
        <p:nvSpPr>
          <p:cNvPr id="46" name="WordArt 18"/>
          <p:cNvSpPr txBox="1"/>
          <p:nvPr/>
        </p:nvSpPr>
        <p:spPr>
          <a:xfrm>
            <a:off x="5724360" y="2060640"/>
            <a:ext cx="331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ненок любит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9"/>
          <p:cNvSpPr txBox="1"/>
          <p:nvPr/>
        </p:nvSpPr>
        <p:spPr>
          <a:xfrm>
            <a:off x="1042920" y="5661000"/>
            <a:ext cx="316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отные н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пают...ся!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Line 22"/>
          <p:cNvSpPr/>
          <p:nvPr/>
        </p:nvSpPr>
        <p:spPr>
          <a:xfrm>
            <a:off x="2987640" y="6669000"/>
            <a:ext cx="79236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Line 24"/>
          <p:cNvSpPr/>
          <p:nvPr/>
        </p:nvSpPr>
        <p:spPr>
          <a:xfrm>
            <a:off x="7451640" y="3357720"/>
            <a:ext cx="1008000" cy="0"/>
          </a:xfrm>
          <a:prstGeom prst="line">
            <a:avLst/>
          </a:prstGeom>
          <a:ln w="57240">
            <a:solidFill>
              <a:srgbClr val="f244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2916360" y="0"/>
            <a:ext cx="4464000" cy="2133720"/>
          </a:xfrm>
          <a:prstGeom prst="cloudCallout">
            <a:avLst>
              <a:gd name="adj1" fmla="val -63370"/>
              <a:gd name="adj2" fmla="val 31921"/>
            </a:avLst>
          </a:prstGeom>
          <a:solidFill>
            <a:srgbClr val="eb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WordArt 27"/>
          <p:cNvSpPr txBox="1"/>
          <p:nvPr/>
        </p:nvSpPr>
        <p:spPr>
          <a:xfrm>
            <a:off x="4067280" y="2997360"/>
            <a:ext cx="194472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Ц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Text Box 30"/>
          <p:cNvSpPr/>
          <p:nvPr/>
        </p:nvSpPr>
        <p:spPr>
          <a:xfrm>
            <a:off x="3203640" y="333360"/>
            <a:ext cx="410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Прочитайте предложения.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Какие звуки произносятс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на мест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2a4"/>
                </a:solidFill>
                <a:latin typeface="Arial"/>
              </a:rPr>
              <a:t>выделенных букв?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3708360" y="26028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a4"/>
                </a:solidFill>
                <a:latin typeface="Arial"/>
              </a:rPr>
              <a:t>Сформулируйте тему сегодняшнего уро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3"/>
          <p:cNvSpPr/>
          <p:nvPr/>
        </p:nvSpPr>
        <p:spPr>
          <a:xfrm>
            <a:off x="7236000" y="47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Picture 43" descr="a91[1]"/>
          <p:cNvPicPr/>
          <p:nvPr/>
        </p:nvPicPr>
        <p:blipFill>
          <a:blip r:embed="rId3"/>
          <a:stretch/>
        </p:blipFill>
        <p:spPr>
          <a:xfrm>
            <a:off x="0" y="981000"/>
            <a:ext cx="2089080" cy="204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обла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4"/>
          <p:cNvSpPr txBox="1"/>
          <p:nvPr/>
        </p:nvSpPr>
        <p:spPr>
          <a:xfrm>
            <a:off x="3635280" y="692280"/>
            <a:ext cx="4381560" cy="9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3924360" y="1844640"/>
            <a:ext cx="38512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§ 14,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вторить правило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№ 81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исьменно),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пражнение 82 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6666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выучить слова)</a:t>
            </a:r>
            <a:endParaRPr b="0" i="1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6666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2a9c98d470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WordArt 5"/>
          <p:cNvSpPr txBox="1"/>
          <p:nvPr/>
        </p:nvSpPr>
        <p:spPr>
          <a:xfrm>
            <a:off x="1332000" y="1628640"/>
            <a:ext cx="6121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свидания, ребят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8" name="по дорг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9" dur="13799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-29160" y="211680"/>
            <a:ext cx="9404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opona.com/2090-fotoramk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1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oe.name/50268-ramochk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-dlja-fotoshopa-po-doroge-s-oblakami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слайд № 1, № 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inderyata.ru/ramki/3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- слайд №3, №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http://www.propsd.ru – слайд № 19,  № 2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http://foto-ramki.my1.ru/load/fotoramki/dlja_detej/21-7-2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лайд № 13, № 1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http://mp3.riall.net/mp3_download/3536.html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вуковой фай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kucha-ramok.ru/photoshop/ramki/271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amka-dlya-fotopo-doroge-s-oblakami.html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айд № 4, № 5, № 7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http://www.1000designs.ru/page/14/ - слайд № 12 - 1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каникулы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13"/>
          <p:cNvSpPr txBox="1"/>
          <p:nvPr/>
        </p:nvSpPr>
        <p:spPr>
          <a:xfrm rot="20876400">
            <a:off x="1116000" y="2133720"/>
            <a:ext cx="2158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4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4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WordArt 14"/>
          <p:cNvSpPr txBox="1"/>
          <p:nvPr/>
        </p:nvSpPr>
        <p:spPr>
          <a:xfrm rot="661800">
            <a:off x="3492000" y="213372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22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ЬСЯ -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22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15"/>
          <p:cNvSpPr txBox="1"/>
          <p:nvPr/>
        </p:nvSpPr>
        <p:spPr>
          <a:xfrm>
            <a:off x="1476360" y="3933720"/>
            <a:ext cx="3166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КОНЦ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каникул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4427640" y="404640"/>
            <a:ext cx="31557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51280" y="1341000"/>
            <a:ext cx="489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 условия выб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писаний –тся и 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ходить слово,                                                             к которому относится глагол, ст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него вопр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 произносить                                                и писать глаголы                                                         на –тся и 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266400" cy="6950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82920" y="476280"/>
            <a:ext cx="5761080" cy="3024000"/>
          </a:xfrm>
          <a:prstGeom prst="cloudCallout">
            <a:avLst>
              <a:gd name="adj1" fmla="val -53611"/>
              <a:gd name="adj2" fmla="val 54148"/>
            </a:avLst>
          </a:prstGeom>
          <a:gradFill rotWithShape="0">
            <a:gsLst>
              <a:gs pos="0">
                <a:srgbClr val="9797ff"/>
              </a:gs>
              <a:gs pos="50000">
                <a:srgbClr val="b9dcff"/>
              </a:gs>
              <a:gs pos="100000">
                <a:srgbClr val="9797ff"/>
              </a:gs>
            </a:gsLst>
            <a:lin ang="5400000"/>
          </a:gra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248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пределить,                                         - тся или – ться                             следует писать                             в конце глагол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50000">
              <a:srgbClr val="ffffff"/>
            </a:gs>
            <a:gs pos="100000">
              <a:srgbClr val="6d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2700360" y="333360"/>
            <a:ext cx="4392720" cy="2664000"/>
          </a:xfrm>
          <a:prstGeom prst="cloudCallout">
            <a:avLst>
              <a:gd name="adj1" fmla="val -35652"/>
              <a:gd name="adj2" fmla="val 12097"/>
            </a:avLst>
          </a:prstGeom>
          <a:gradFill rotWithShape="0">
            <a:gsLst>
              <a:gs pos="0">
                <a:srgbClr val="c2bffd"/>
              </a:gs>
              <a:gs pos="50000">
                <a:srgbClr val="ffffff"/>
              </a:gs>
              <a:gs pos="100000">
                <a:srgbClr val="c2bff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Чтобы узнать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ЬСЯ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пишется на конце глагола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56800"/>
                </a:solidFill>
                <a:latin typeface="Arial"/>
              </a:rPr>
              <a:t>нужно задать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539640" y="2708280"/>
            <a:ext cx="3024360" cy="180036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1258920" y="299736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ть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ть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651640" y="2781360"/>
            <a:ext cx="3024000" cy="1800000"/>
          </a:xfrm>
          <a:prstGeom prst="cloudCallout">
            <a:avLst>
              <a:gd name="adj1" fmla="val -34671"/>
              <a:gd name="adj2" fmla="val 12523"/>
            </a:avLst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6372360" y="3068640"/>
            <a:ext cx="172872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лает? 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d2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ет?</a:t>
            </a:r>
            <a:endParaRPr b="1" i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d2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08000" y="2852640"/>
            <a:ext cx="349236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ишется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удем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ть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Ь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в н.ф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4859280" y="2924280"/>
            <a:ext cx="3743280" cy="3673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Ь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ПИШЕТСЯ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что делает?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СЯ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гол – 3-е лицо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3" name="Picture 14" descr="dfa1d067dfee[1]"/>
          <p:cNvPicPr/>
          <p:nvPr/>
        </p:nvPicPr>
        <p:blipFill>
          <a:blip r:embed="rId1"/>
          <a:stretch/>
        </p:blipFill>
        <p:spPr>
          <a:xfrm>
            <a:off x="7236000" y="404640"/>
            <a:ext cx="160632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6538"/>
            </a:gs>
            <a:gs pos="50000">
              <a:srgbClr val="fdd7b1"/>
            </a:gs>
            <a:gs pos="100000">
              <a:srgbClr val="f465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анику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0" y="476280"/>
            <a:ext cx="6264360" cy="4249800"/>
          </a:xfrm>
          <a:prstGeom prst="wedgeRectCallout">
            <a:avLst>
              <a:gd name="adj1" fmla="val 59754"/>
              <a:gd name="adj2" fmla="val 3490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50920" y="692280"/>
            <a:ext cx="5833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жде чем глагол писа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забудь вопрос задат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ли мягкий знак в вопросе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1"/>
                    </a:gs>
                    <a:gs pos="50000">
                      <a:srgbClr val="0000d2"/>
                    </a:gs>
                    <a:gs pos="100000">
                      <a:srgbClr val="0000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 в глагол его вноси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1"/>
                  </a:gs>
                  <a:gs pos="50000">
                    <a:srgbClr val="0000d2"/>
                  </a:gs>
                  <a:gs pos="100000">
                    <a:srgbClr val="000061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ji027"/>
          <p:cNvPicPr/>
          <p:nvPr/>
        </p:nvPicPr>
        <p:blipFill>
          <a:blip r:embed="rId1"/>
          <a:stretch/>
        </p:blipFill>
        <p:spPr>
          <a:xfrm>
            <a:off x="250920" y="1413000"/>
            <a:ext cx="2448000" cy="1882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635280" y="1484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Животные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ют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              не купаю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( 3 лицо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7" descr="33055571[1]"/>
          <p:cNvPicPr/>
          <p:nvPr/>
        </p:nvPicPr>
        <p:blipFill>
          <a:blip r:embed="rId2"/>
          <a:stretch/>
        </p:blipFill>
        <p:spPr>
          <a:xfrm>
            <a:off x="108000" y="3735360"/>
            <a:ext cx="2944800" cy="312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635280" y="4292640"/>
            <a:ext cx="49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Слоненок   любит          (что дел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?) купа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ься</a:t>
            </a:r>
            <a:r>
              <a:rPr b="1" lang="ru-RU" sz="2800" spc="-1" strike="noStrike">
                <a:solidFill>
                  <a:srgbClr val="067442"/>
                </a:solidFill>
                <a:latin typeface="Arial"/>
              </a:rPr>
              <a:t>.     ( н. ф.)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1332000" y="260280"/>
            <a:ext cx="6419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вай вопрос правиль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Line 11"/>
          <p:cNvSpPr/>
          <p:nvPr/>
        </p:nvSpPr>
        <p:spPr>
          <a:xfrm flipV="1">
            <a:off x="4716360" y="126792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4716360" y="126828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796000" y="1268280"/>
            <a:ext cx="0" cy="6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Line 14"/>
          <p:cNvSpPr/>
          <p:nvPr/>
        </p:nvSpPr>
        <p:spPr>
          <a:xfrm flipV="1">
            <a:off x="4716360" y="407628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4716360" y="407664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308720" y="4076640"/>
            <a:ext cx="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ec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050920" y="260280"/>
            <a:ext cx="5043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f072b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осели слова в домик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f072b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27280" y="1989000"/>
          <a:ext cx="3898800" cy="1611360"/>
        </p:xfrm>
        <a:graphic>
          <a:graphicData uri="http://schemas.openxmlformats.org/drawingml/2006/table">
            <a:tbl>
              <a:tblPr/>
              <a:tblGrid>
                <a:gridCol w="1979640"/>
                <a:gridCol w="19191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7"/>
          <p:cNvSpPr/>
          <p:nvPr/>
        </p:nvSpPr>
        <p:spPr>
          <a:xfrm>
            <a:off x="250920" y="3645000"/>
            <a:ext cx="860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ит…ся, влит…ся, вложит…ся, влюблят…ся, возвысит…ся, веселит…ся, провозглашат…ся, воцарят…ся, вплетат…ся, вручат…ся, всколыхнут…ся, он хвалит…ся, боит…ся, нравит…ся, вернут…ся, соревнует…ся, выявляет…ся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2627280" y="1413000"/>
            <a:ext cx="3889440" cy="57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4000" y="765000"/>
          <a:ext cx="8569080" cy="5650200"/>
        </p:xfrm>
        <a:graphic>
          <a:graphicData uri="http://schemas.openxmlformats.org/drawingml/2006/table">
            <a:tbl>
              <a:tblPr/>
              <a:tblGrid>
                <a:gridCol w="4286160"/>
                <a:gridCol w="42829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a7d00"/>
                        </a:gs>
                        <a:gs pos="50000">
                          <a:srgbClr val="ffca7d"/>
                        </a:gs>
                        <a:gs pos="100000">
                          <a:srgbClr val="fa7d00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цар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99cc00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а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ff"/>
                        </a:gs>
                        <a:gs pos="50000">
                          <a:srgbClr val="57abff"/>
                        </a:gs>
                        <a:gs pos="100000">
                          <a:srgbClr val="3333ff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ож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99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юбля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66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евну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ыси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яе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5767"/>
                        </a:gs>
                        <a:gs pos="100000">
                          <a:srgbClr val="ff00ff"/>
                        </a:gs>
                      </a:gsLst>
                      <a:lin ang="5400000"/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зглаш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плет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3399"/>
                        </a:gs>
                        <a:gs pos="50000">
                          <a:srgbClr val="ff81ff"/>
                        </a:gs>
                        <a:gs pos="100000">
                          <a:srgbClr val="cc3399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ча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d5dff"/>
                        </a:gs>
                        <a:gs pos="100000">
                          <a:srgbClr val="333399"/>
                        </a:gs>
                      </a:gsLst>
                      <a:lin ang="5400000"/>
                    </a:gra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олых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77777"/>
                        </a:gs>
                        <a:gs pos="50000">
                          <a:srgbClr val="b2b2b2"/>
                        </a:gs>
                        <a:gs pos="100000">
                          <a:srgbClr val="777777"/>
                        </a:gs>
                      </a:gsLst>
                      <a:lin ang="5400000"/>
                    </a:gra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у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66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3" name="WordArt 143"/>
          <p:cNvSpPr txBox="1"/>
          <p:nvPr/>
        </p:nvSpPr>
        <p:spPr>
          <a:xfrm>
            <a:off x="2124000" y="83664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44"/>
          <p:cNvSpPr txBox="1"/>
          <p:nvPr/>
        </p:nvSpPr>
        <p:spPr>
          <a:xfrm>
            <a:off x="6372360" y="83664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ЬСЯ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23:11Z</dcterms:created>
  <dc:creator>Сергей</dc:creator>
  <dc:description/>
  <dc:language>en-US</dc:language>
  <cp:lastModifiedBy>COMP</cp:lastModifiedBy>
  <dcterms:modified xsi:type="dcterms:W3CDTF">2011-10-13T09:19:40Z</dcterms:modified>
  <cp:revision>18</cp:revision>
  <dc:subject/>
  <dc:title>Слайд 1</dc:title>
</cp:coreProperties>
</file>