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8.gif" ContentType="image/gif"/>
  <Override PartName="/ppt/media/image26.png" ContentType="image/png"/>
  <Override PartName="/ppt/media/image33.gif" ContentType="image/gif"/>
  <Override PartName="/ppt/media/image22.gif" ContentType="image/gif"/>
  <Override PartName="/ppt/media/image21.png" ContentType="image/png"/>
  <Override PartName="/ppt/media/image19.wmf" ContentType="image/x-wmf"/>
  <Override PartName="/ppt/media/image20.wmf" ContentType="image/x-wmf"/>
  <Override PartName="/ppt/media/image24.gif" ContentType="image/gif"/>
  <Override PartName="/ppt/media/image32.jpeg" ContentType="image/jpeg"/>
  <Override PartName="/ppt/media/image23.png" ContentType="image/png"/>
  <Override PartName="/ppt/media/image30.gif" ContentType="image/gif"/>
  <Override PartName="/ppt/media/image18.gif" ContentType="image/gif"/>
  <Override PartName="/ppt/media/image17.gif" ContentType="image/gif"/>
  <Override PartName="/ppt/media/image13.png" ContentType="image/png"/>
  <Override PartName="/ppt/media/image8.wmf" ContentType="image/x-wmf"/>
  <Override PartName="/ppt/media/image40.png" ContentType="image/png"/>
  <Override PartName="/ppt/media/image25.gif" ContentType="image/gif"/>
  <Override PartName="/ppt/media/image36.gif" ContentType="image/gif"/>
  <Override PartName="/ppt/media/image38.gif" ContentType="image/gif"/>
  <Override PartName="/ppt/media/image39.png" ContentType="image/png"/>
  <Override PartName="/ppt/media/image42.wmf" ContentType="image/x-wmf"/>
  <Override PartName="/ppt/media/image41.wmf" ContentType="image/x-wmf"/>
  <Override PartName="/ppt/media/image31.wmf" ContentType="image/x-wmf"/>
  <Override PartName="/ppt/media/image6.wmf" ContentType="image/x-wmf"/>
  <Override PartName="/ppt/media/image9.jpeg" ContentType="image/jpeg"/>
  <Override PartName="/ppt/media/image11.png" ContentType="image/png"/>
  <Override PartName="/ppt/media/image43.wmf" ContentType="image/x-wmf"/>
  <Override PartName="/ppt/media/image44.gif" ContentType="image/gif"/>
  <Override PartName="/ppt/media/image7.wmf" ContentType="image/x-wmf"/>
  <Override PartName="/ppt/media/image4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4.gif" ContentType="image/gif"/>
  <Override PartName="/ppt/media/image3.wmf" ContentType="image/x-wmf"/>
  <Override PartName="/ppt/media/image37.gif" ContentType="image/gif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5.wmf" ContentType="image/x-wmf"/>
  <Override PartName="/ppt/media/image35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90F0-71D4-42AE-A85A-F7E352A3B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8ACF-407E-4309-AA6D-0458284A5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26C-1DD4-4CFA-8626-3124DDF2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54F-CC13-4729-95AB-4FD30878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CD5-B518-49A4-9ACD-04AA5245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E61-3A57-405B-BBC1-99901353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23C5-AAA9-49D2-B0B7-3B1197F2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207D-8CBA-4BFE-BC5B-22F9EFE2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7F26-B4F9-45EB-9C25-9C4FB7F0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183-CF17-4917-82B4-FC83DF6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E957-FC30-4C25-8F4B-93C8F71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D1F5-7025-440C-A7AE-6A1D0C2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B36-28F9-41A6-9A61-5314CC4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2A9-9C75-4238-916B-64AF2D25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6460-B231-4989-8871-5D9B6F9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5736-C127-4D7A-B3D5-D4A3337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3F02-B708-4ADA-BC4C-8018B18F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8D0F-F588-464A-AFD4-A4528043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2714-C552-4EEA-9967-C8983275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B909-9390-4E36-A466-3D213648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18F7-6B39-45A4-98A0-E700F3B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D969-00C5-48C7-8C01-7472608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979B-9F7B-4A7D-8445-CF7448BE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B42B-42C2-4FE9-B82E-F4D29A80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D87-4198-4A99-9B9F-0FEC55D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D084-B110-4D32-B68D-314F448E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B0E1-D3D4-46B7-AC00-29F200D9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922C-CD5F-4827-9963-8D97A51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7B0C-C7C6-4FDD-9E3D-DD2DD7C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53F9-947C-4D9E-968B-FE53EB5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A8F0-A1D0-4A96-97C9-EE22D529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247C-0A27-4FF7-A03D-4FA1C639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90153-D6C7-461C-8AE2-603D9E3B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7BBB9-B62C-4C0C-83A5-5500FF0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DCE95-9FC9-4DFF-A780-A272815B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DBF-4BE0-4389-A89E-210A2FC4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720B7-82D5-4D8B-AA92-043363D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2562F-FABE-4563-A9C0-793BB1EA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E7ED3-09E3-408C-8828-00AAA7FD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DC674-9332-414C-9D55-70406EF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BEC5A-8226-4951-B365-A4A7D5F4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9882F-D218-426C-BF56-13DE753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BC02D-C6E5-4D4A-A8CD-E7B68A3B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19B3A-AC3E-4BD2-B190-148BE5E0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20966-83F3-4437-8CAE-413A18A6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775E-6B76-4957-9728-ECC37D0E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DA9-2495-4794-A9B2-BA9AFAE6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D1A8F-B04A-45C9-8116-8E059C34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8ECB-E3F9-4C3A-BF9E-A8329937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37EE-23DC-419E-9A2F-99E81E20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9350-62AF-47B5-8275-C0801ED4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0654-3F5D-4BEB-A6AB-6B1A46D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3B87-0BC3-4910-A232-0513B08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6C2D0-09CF-4F2E-B018-050F325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FD43-F55C-40C4-8178-8FD2DD5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BC51-6506-4A99-9D8B-AD629B28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72DB-65B3-45E0-AB20-99A2AFFD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B44-D3CE-469D-A58A-50B7A5F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4B96-75E0-44B3-9DD9-24FDD033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40BE5-2A2B-4A9F-9D7D-0A886BF6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61FCB-A7A4-4119-8242-3B29BAFE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A17D-36C2-4AC1-A601-8A13DB40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6A332-836D-413A-AAFC-54714158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542A0-115E-4884-B706-678B92F7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226D-F84A-4AA9-8DBA-5839D18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6727-8FF5-4552-965A-965630D1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7565C-E3CA-4EB2-A499-5ED61325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DF6A-0FB6-40F9-8EC2-51EB447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291-DE79-4B89-B7C1-7121BE1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D6114-4BCF-4492-A968-FBBD9140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A317-B460-4929-992E-38251C5F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CC02-0056-4B15-A3E5-79471F15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C4E1-82B1-46EC-A065-5A1E350E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AB57-60BE-4F40-B3CF-BC58C504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EF720-049C-47DF-987B-27866721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C2318-B52E-4BC3-9570-361DBBE8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C7C0-A936-49CB-914D-6B208A4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AAF6-4683-4E81-8538-F793BA3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B20D8-247B-4A07-8825-E77B2D9D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9CE-18F9-4AF0-A3C0-CDA3DBA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783F-6E99-44C6-A3A7-13B4FB3D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D8D52-4B00-4B48-9C06-F9CE92D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67221-265A-4D75-8E50-C246771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BC61A-6194-4F95-831A-2BDF40DB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3BC17-5EFF-48F1-BCC5-A1F0BCF9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FE851-EE89-4196-B17C-1DF637E8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43EFF-B497-42BF-AEF0-AE040852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EF55-A1BE-437E-BE31-728ED8B5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C091D-389D-4653-BDDA-B8E28E8E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44B66-401A-40C3-90B9-86D3F0B3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4CA-BF63-4274-91AE-071190A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D9086-B9E9-42A4-8575-D95E729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6FD28-90A3-4601-856E-8599A57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C6A71-0925-4782-8482-8A27777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10C3A-5BB9-4412-9EB4-EC90F77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CD1A8-4AD2-48C0-943F-0F0DFC06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529C4-BF47-4D14-8FDB-6FC9231C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B74ED-95DD-4137-BE3D-0BD55102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8C57-6048-45E8-BFBB-38E05C9ECC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E737-3D4D-4A13-B2CA-8AAF240D03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16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17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>
                      <a:gd name="textAreaLeft" fmla="*/ 0 w 474120"/>
                      <a:gd name="textAreaRight" fmla="*/ 474480 w 474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2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29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2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135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>
                      <a:gd name="textAreaLeft" fmla="*/ 0 w 634320"/>
                      <a:gd name="textAreaRight" fmla="*/ 634680 w 6343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138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>
                      <a:gd name="textAreaLeft" fmla="*/ -360 w 881640"/>
                      <a:gd name="textAreaRight" fmla="*/ 881640 w 8816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141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>
                      <a:gd name="textAreaLeft" fmla="*/ -360 w 929880"/>
                      <a:gd name="textAreaRight" fmla="*/ 929880 w 92988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>
                      <a:gd name="textAreaLeft" fmla="*/ 360 w 498240"/>
                      <a:gd name="textAreaRight" fmla="*/ 498960 w 4982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144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14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0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3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5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5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16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6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171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>
                      <a:gd name="textAreaLeft" fmla="*/ 360 w 293760"/>
                      <a:gd name="textAreaRight" fmla="*/ 294480 w 2937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17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177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182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>
                      <a:gd name="textAreaLeft" fmla="*/ 0 w 543960"/>
                      <a:gd name="textAreaRight" fmla="*/ 544320 w 5439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8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191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194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>
                      <a:gd name="textAreaLeft" fmla="*/ 360 w 820800"/>
                      <a:gd name="textAreaRight" fmla="*/ 821520 w 82080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>
                      <a:gd name="textAreaLeft" fmla="*/ -360 w 436680"/>
                      <a:gd name="textAreaRight" fmla="*/ 436680 w 43668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9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>
                      <a:gd name="textAreaLeft" fmla="*/ 360 w 420480"/>
                      <a:gd name="textAreaRight" fmla="*/ 421200 w 42048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0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0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09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>
                      <a:gd name="textAreaLeft" fmla="*/ 0 w 753480"/>
                      <a:gd name="textAreaRight" fmla="*/ 753840 w 7534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>
                      <a:gd name="textAreaLeft" fmla="*/ 0 w 406080"/>
                      <a:gd name="textAreaRight" fmla="*/ 406440 w 4060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12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>
                      <a:gd name="textAreaLeft" fmla="*/ 0 w 738000"/>
                      <a:gd name="textAreaRight" fmla="*/ 738360 w 73800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577A-3AF1-461D-A829-509494397E5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AA0-BC50-43C3-A03D-84E82D47AF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F166-C8AE-473F-9739-A4C6481389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7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B652-9D18-4CEF-81CD-7C47C35B1B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42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42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43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43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43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437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438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44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44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4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5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453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456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5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6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6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46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7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7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7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80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483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8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8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9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95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9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50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506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>
                        <a:gd name="textAreaLeft" fmla="*/ 0 w 1424520"/>
                        <a:gd name="textAreaRight" fmla="*/ 1424880 w 142452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509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51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515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518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>
                        <a:gd name="textAreaLeft" fmla="*/ -360 w 1888200"/>
                        <a:gd name="textAreaRight" fmla="*/ 1888200 w 1888200"/>
                        <a:gd name="textAreaTop" fmla="*/ 0 h 346680"/>
                        <a:gd name="textAreaBottom" fmla="*/ 347040 h 346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52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524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7920"/>
                        <a:gd name="textAreaBottom" fmla="*/ 368280 h 367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4920"/>
                        <a:gd name="textAreaBottom" fmla="*/ 575280 h 57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527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>
                        <a:gd name="textAreaLeft" fmla="*/ 0 w 1971720"/>
                        <a:gd name="textAreaRight" fmla="*/ 1972080 w 19717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530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>
                        <a:gd name="textAreaLeft" fmla="*/ 0 w 1812600"/>
                        <a:gd name="textAreaRight" fmla="*/ 1812960 w 181260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533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>
                        <a:gd name="textAreaLeft" fmla="*/ 0 w 1773000"/>
                        <a:gd name="textAreaRight" fmla="*/ 1773360 w 1773000"/>
                        <a:gd name="textAreaTop" fmla="*/ 0 h 231120"/>
                        <a:gd name="textAreaBottom" fmla="*/ 231480 h 231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53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537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080"/>
                      <a:gd name="textAreaBottom" fmla="*/ 2935440 h 29350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2560"/>
                      <a:gd name="textAreaBottom" fmla="*/ 2842920 h 28425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200"/>
                      <a:gd name="textAreaBottom" fmla="*/ 2842560 h 28422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4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6EFD-4F40-4249-8B1D-25DB67FD05F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EBCD-0896-4DEE-9889-305B3680CD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4" descr="j0240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WordArt 5"/>
          <p:cNvSpPr txBox="1"/>
          <p:nvPr/>
        </p:nvSpPr>
        <p:spPr>
          <a:xfrm>
            <a:off x="826920" y="189000"/>
            <a:ext cx="79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ЫЕ  РУКИ  РАБОТН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TextBox 5"/>
          <p:cNvSpPr/>
          <p:nvPr/>
        </p:nvSpPr>
        <p:spPr>
          <a:xfrm>
            <a:off x="6072120" y="63579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4" descr="j0199549"/>
          <p:cNvPicPr/>
          <p:nvPr/>
        </p:nvPicPr>
        <p:blipFill>
          <a:blip r:embed="rId1"/>
          <a:stretch/>
        </p:blipFill>
        <p:spPr>
          <a:xfrm>
            <a:off x="395280" y="189000"/>
            <a:ext cx="1670040" cy="1793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6" descr="j0183328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28"/>
          <p:cNvSpPr/>
          <p:nvPr/>
        </p:nvSpPr>
        <p:spPr>
          <a:xfrm>
            <a:off x="8028000" y="6453360"/>
            <a:ext cx="792000" cy="404640"/>
          </a:xfrm>
          <a:prstGeom prst="rightArrow">
            <a:avLst>
              <a:gd name="adj1" fmla="val 50000"/>
              <a:gd name="adj2" fmla="val 4893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Organization Chart 2"/>
          <p:cNvGrpSpPr/>
          <p:nvPr/>
        </p:nvGrpSpPr>
        <p:grpSpPr>
          <a:xfrm>
            <a:off x="-2716200" y="0"/>
            <a:ext cx="14400720" cy="7029360"/>
            <a:chOff x="-2716200" y="0"/>
            <a:chExt cx="14400720" cy="7029360"/>
          </a:xfrm>
        </p:grpSpPr>
        <p:pic>
          <p:nvPicPr>
            <p:cNvPr id="704" name="Схема 9" descr=""/>
            <p:cNvPicPr/>
            <p:nvPr/>
          </p:nvPicPr>
          <p:blipFill>
            <a:blip r:embed="rId3"/>
            <a:stretch/>
          </p:blipFill>
          <p:spPr>
            <a:xfrm>
              <a:off x="-2716200" y="0"/>
              <a:ext cx="1440072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Picture 29"/>
            <p:cNvSpPr/>
            <p:nvPr/>
          </p:nvSpPr>
          <p:spPr>
            <a:xfrm>
              <a:off x="6141960" y="3797280"/>
              <a:ext cx="1689840" cy="28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6" name="Рисунок 10" descr="C:\Users\Елена\Desktop\komputer-186.gif"/>
          <p:cNvPicPr/>
          <p:nvPr/>
        </p:nvPicPr>
        <p:blipFill>
          <a:blip r:embed="rId4"/>
          <a:stretch/>
        </p:blipFill>
        <p:spPr>
          <a:xfrm>
            <a:off x="6572160" y="471492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AutoShape 10"/>
          <p:cNvSpPr/>
          <p:nvPr/>
        </p:nvSpPr>
        <p:spPr>
          <a:xfrm>
            <a:off x="1643040" y="500040"/>
            <a:ext cx="4176720" cy="36860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" descr="47r4"/>
          <p:cNvPicPr/>
          <p:nvPr/>
        </p:nvPicPr>
        <p:blipFill>
          <a:blip r:embed="rId2"/>
          <a:stretch/>
        </p:blipFill>
        <p:spPr>
          <a:xfrm>
            <a:off x="6877080" y="428760"/>
            <a:ext cx="2266920" cy="3429000"/>
          </a:xfrm>
          <a:prstGeom prst="rect">
            <a:avLst/>
          </a:prstGeom>
          <a:ln w="0">
            <a:noFill/>
          </a:ln>
        </p:spPr>
      </p:pic>
      <p:sp>
        <p:nvSpPr>
          <p:cNvPr id="709" name="WordArt 3"/>
          <p:cNvSpPr txBox="1"/>
          <p:nvPr/>
        </p:nvSpPr>
        <p:spPr>
          <a:xfrm>
            <a:off x="324000" y="5084640"/>
            <a:ext cx="83516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e855b"/>
                  </a:solidFill>
                  <a:miter/>
                </a:ln>
                <a:solidFill>
                  <a:srgbClr val="66ffff"/>
                </a:solidFill>
                <a:effectLst>
                  <a:outerShdw dist="107932" dir="81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Квалификация</a:t>
            </a:r>
            <a:endParaRPr b="0" lang="en-US" sz="1800" spc="1" strike="noStrike">
              <a:ln w="9360">
                <a:solidFill>
                  <a:srgbClr val="5e855b"/>
                </a:solidFill>
                <a:miter/>
              </a:ln>
              <a:solidFill>
                <a:srgbClr val="66ffff"/>
              </a:solidFill>
              <a:effectLst>
                <a:outerShdw dist="107932" dir="81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Oval 4"/>
          <p:cNvSpPr/>
          <p:nvPr/>
        </p:nvSpPr>
        <p:spPr>
          <a:xfrm>
            <a:off x="4857840" y="4071960"/>
            <a:ext cx="2806560" cy="857160"/>
          </a:xfrm>
          <a:prstGeom prst="ellipse">
            <a:avLst/>
          </a:prstGeom>
          <a:gradFill rotWithShape="0">
            <a:gsLst>
              <a:gs pos="0">
                <a:srgbClr val="dbfece"/>
              </a:gs>
              <a:gs pos="50000">
                <a:srgbClr val="ffffcc"/>
              </a:gs>
              <a:gs pos="100000">
                <a:srgbClr val="dbf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5"/>
          <p:cNvSpPr/>
          <p:nvPr/>
        </p:nvSpPr>
        <p:spPr>
          <a:xfrm>
            <a:off x="2571840" y="4286160"/>
            <a:ext cx="2743200" cy="857520"/>
          </a:xfrm>
          <a:prstGeom prst="ellipse">
            <a:avLst/>
          </a:prstGeom>
          <a:gradFill rotWithShape="0">
            <a:gsLst>
              <a:gs pos="0">
                <a:srgbClr val="b3fdd8"/>
              </a:gs>
              <a:gs pos="50000">
                <a:srgbClr val="ffffcc"/>
              </a:gs>
              <a:gs pos="100000">
                <a:srgbClr val="b3fdd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332748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47184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7"/>
          <p:cNvSpPr/>
          <p:nvPr/>
        </p:nvSpPr>
        <p:spPr>
          <a:xfrm>
            <a:off x="1143000" y="0"/>
            <a:ext cx="3924360" cy="1368360"/>
          </a:xfrm>
          <a:prstGeom prst="ellipse">
            <a:avLst/>
          </a:prstGeom>
          <a:gradFill rotWithShape="0">
            <a:gsLst>
              <a:gs pos="0">
                <a:srgbClr val="d8ebb3"/>
              </a:gs>
              <a:gs pos="50000">
                <a:srgbClr val="ffffcc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Самостоятельны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6"/>
          <p:cNvSpPr/>
          <p:nvPr/>
        </p:nvSpPr>
        <p:spPr>
          <a:xfrm>
            <a:off x="2571840" y="2071800"/>
            <a:ext cx="3897360" cy="1608120"/>
          </a:xfrm>
          <a:prstGeom prst="ellipse">
            <a:avLst/>
          </a:prstGeom>
          <a:gradFill rotWithShape="0">
            <a:gsLst>
              <a:gs pos="0">
                <a:srgbClr val="dbfece"/>
              </a:gs>
              <a:gs pos="50000">
                <a:srgbClr val="ffffcc"/>
              </a:gs>
              <a:gs pos="100000">
                <a:srgbClr val="dbf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Производственная пра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6"/>
          <p:cNvSpPr/>
          <p:nvPr/>
        </p:nvSpPr>
        <p:spPr>
          <a:xfrm>
            <a:off x="-428760" y="3429000"/>
            <a:ext cx="3929040" cy="1514520"/>
          </a:xfrm>
          <a:prstGeom prst="ellipse">
            <a:avLst/>
          </a:prstGeom>
          <a:gradFill rotWithShape="0">
            <a:gsLst>
              <a:gs pos="0">
                <a:srgbClr val="d8ebb3"/>
              </a:gs>
              <a:gs pos="50000">
                <a:srgbClr val="ffffcc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Профессион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0" y="4724280"/>
            <a:ext cx="9143640" cy="1658880"/>
            <a:chOff x="0" y="4724280"/>
            <a:chExt cx="9143640" cy="1658880"/>
          </a:xfrm>
        </p:grpSpPr>
        <p:sp>
          <p:nvSpPr>
            <p:cNvPr id="718" name="Pyr4"/>
            <p:cNvSpPr/>
            <p:nvPr/>
          </p:nvSpPr>
          <p:spPr>
            <a:xfrm>
              <a:off x="0" y="4724280"/>
              <a:ext cx="9143640" cy="1658880"/>
            </a:xfrm>
            <a:custGeom>
              <a:avLst/>
              <a:gdLst>
                <a:gd name="textAreaLeft" fmla="*/ 1390320 w 9143640"/>
                <a:gd name="textAreaRight" fmla="*/ 7329240 w 9143640"/>
                <a:gd name="textAreaTop" fmla="*/ 37800 h 1658880"/>
                <a:gd name="textAreaBottom" fmla="*/ 162108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4"/>
            <p:cNvSpPr/>
            <p:nvPr/>
          </p:nvSpPr>
          <p:spPr>
            <a:xfrm>
              <a:off x="2324880" y="5086080"/>
              <a:ext cx="42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Малоквалифицирова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(простой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5"/>
          <p:cNvGrpSpPr/>
          <p:nvPr/>
        </p:nvGrpSpPr>
        <p:grpSpPr>
          <a:xfrm>
            <a:off x="1258920" y="3068640"/>
            <a:ext cx="6697440" cy="1655640"/>
            <a:chOff x="1258920" y="3068640"/>
            <a:chExt cx="6697440" cy="1655640"/>
          </a:xfrm>
        </p:grpSpPr>
        <p:sp>
          <p:nvSpPr>
            <p:cNvPr id="721" name="Pyr3"/>
            <p:cNvSpPr/>
            <p:nvPr/>
          </p:nvSpPr>
          <p:spPr>
            <a:xfrm>
              <a:off x="1258920" y="3068640"/>
              <a:ext cx="6697440" cy="1655640"/>
            </a:xfrm>
            <a:custGeom>
              <a:avLst/>
              <a:gdLst>
                <a:gd name="textAreaLeft" fmla="*/ 1638720 w 6697440"/>
                <a:gd name="textAreaRight" fmla="*/ 5058720 w 6697440"/>
                <a:gd name="textAreaTop" fmla="*/ 37800 h 1655640"/>
                <a:gd name="textAreaBottom" fmla="*/ 161784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e3ea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"/>
            <p:cNvSpPr/>
            <p:nvPr/>
          </p:nvSpPr>
          <p:spPr>
            <a:xfrm>
              <a:off x="2682360" y="3352680"/>
              <a:ext cx="391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Высококвалифицир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(сложн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8"/>
          <p:cNvGrpSpPr/>
          <p:nvPr/>
        </p:nvGrpSpPr>
        <p:grpSpPr>
          <a:xfrm>
            <a:off x="2500200" y="1428840"/>
            <a:ext cx="4392360" cy="1658880"/>
            <a:chOff x="2500200" y="1428840"/>
            <a:chExt cx="4392360" cy="1658880"/>
          </a:xfrm>
        </p:grpSpPr>
        <p:sp>
          <p:nvSpPr>
            <p:cNvPr id="724" name="Pyr2"/>
            <p:cNvSpPr/>
            <p:nvPr/>
          </p:nvSpPr>
          <p:spPr>
            <a:xfrm>
              <a:off x="2500200" y="1428840"/>
              <a:ext cx="4392360" cy="1658880"/>
            </a:xfrm>
            <a:custGeom>
              <a:avLst/>
              <a:gdLst>
                <a:gd name="textAreaLeft" fmla="*/ 1177200 w 4392360"/>
                <a:gd name="textAreaRight" fmla="*/ 3215160 w 4392360"/>
                <a:gd name="textAreaTop" fmla="*/ 37800 h 1658880"/>
                <a:gd name="textAreaBottom" fmla="*/ 162108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bce5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0"/>
            <p:cNvSpPr/>
            <p:nvPr/>
          </p:nvSpPr>
          <p:spPr>
            <a:xfrm>
              <a:off x="2838600" y="1787760"/>
              <a:ext cx="3626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419256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12"/>
          <p:cNvGrpSpPr/>
          <p:nvPr/>
        </p:nvGrpSpPr>
        <p:grpSpPr>
          <a:xfrm>
            <a:off x="3429000" y="0"/>
            <a:ext cx="2303640" cy="1414440"/>
            <a:chOff x="3429000" y="0"/>
            <a:chExt cx="2303640" cy="1414440"/>
          </a:xfrm>
        </p:grpSpPr>
        <p:sp>
          <p:nvSpPr>
            <p:cNvPr id="728" name="Pyr1"/>
            <p:cNvSpPr/>
            <p:nvPr/>
          </p:nvSpPr>
          <p:spPr>
            <a:xfrm>
              <a:off x="3786120" y="0"/>
              <a:ext cx="1903680" cy="1414440"/>
            </a:xfrm>
            <a:custGeom>
              <a:avLst/>
              <a:gdLst>
                <a:gd name="textAreaLeft" fmla="*/ 476280 w 1903680"/>
                <a:gd name="textAreaRight" fmla="*/ 1427400 w 1903680"/>
                <a:gd name="textAreaTop" fmla="*/ 773280 h 1414440"/>
                <a:gd name="textAreaBottom" fmla="*/ 1349640 h 14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a4f4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4"/>
            <p:cNvSpPr/>
            <p:nvPr/>
          </p:nvSpPr>
          <p:spPr>
            <a:xfrm>
              <a:off x="3429000" y="1000080"/>
              <a:ext cx="2303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Picture 15" descr="3c6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3141720"/>
          </a:xfrm>
          <a:prstGeom prst="rect">
            <a:avLst/>
          </a:prstGeom>
          <a:ln w="0">
            <a:noFill/>
          </a:ln>
        </p:spPr>
      </p:pic>
      <p:pic>
        <p:nvPicPr>
          <p:cNvPr id="731" name="WordArt 22" descr=""/>
          <p:cNvPicPr/>
          <p:nvPr/>
        </p:nvPicPr>
        <p:blipFill>
          <a:blip r:embed="rId2"/>
          <a:stretch/>
        </p:blipFill>
        <p:spPr>
          <a:xfrm>
            <a:off x="2066760" y="566640"/>
            <a:ext cx="2554560" cy="2621160"/>
          </a:xfrm>
          <a:prstGeom prst="rect">
            <a:avLst/>
          </a:prstGeom>
          <a:ln w="0">
            <a:noFill/>
          </a:ln>
        </p:spPr>
      </p:pic>
      <p:sp>
        <p:nvSpPr>
          <p:cNvPr id="732" name="WordArt 25"/>
          <p:cNvSpPr txBox="1"/>
          <p:nvPr/>
        </p:nvSpPr>
        <p:spPr>
          <a:xfrm rot="18558000">
            <a:off x="-349200" y="4284720"/>
            <a:ext cx="30160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2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2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3" name="Прямоугольник 20" descr=""/>
          <p:cNvPicPr/>
          <p:nvPr/>
        </p:nvPicPr>
        <p:blipFill>
          <a:blip r:embed="rId3"/>
          <a:stretch/>
        </p:blipFill>
        <p:spPr>
          <a:xfrm>
            <a:off x="3413160" y="1450800"/>
            <a:ext cx="2317680" cy="18828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C:\Users\Елена\Desktop\3da-531.gif"/>
          <p:cNvPicPr/>
          <p:nvPr/>
        </p:nvPicPr>
        <p:blipFill>
          <a:blip r:embed="rId4"/>
          <a:stretch/>
        </p:blipFill>
        <p:spPr>
          <a:xfrm>
            <a:off x="0" y="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8" descr="C:\Users\Елена\Desktop\rabota-31.gif"/>
          <p:cNvPicPr/>
          <p:nvPr/>
        </p:nvPicPr>
        <p:blipFill>
          <a:blip r:embed="rId5"/>
          <a:stretch/>
        </p:blipFill>
        <p:spPr>
          <a:xfrm>
            <a:off x="6215040" y="3714840"/>
            <a:ext cx="1014480" cy="81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9" descr="C:\Users\Елена\Desktop\rabota-23.gif"/>
          <p:cNvPicPr/>
          <p:nvPr/>
        </p:nvPicPr>
        <p:blipFill>
          <a:blip r:embed="rId6"/>
          <a:stretch/>
        </p:blipFill>
        <p:spPr>
          <a:xfrm>
            <a:off x="6858000" y="5132520"/>
            <a:ext cx="928800" cy="99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j0291984"/>
          <p:cNvPicPr/>
          <p:nvPr/>
        </p:nvPicPr>
        <p:blipFill>
          <a:blip r:embed="rId1"/>
          <a:stretch/>
        </p:blipFill>
        <p:spPr>
          <a:xfrm>
            <a:off x="0" y="1428840"/>
            <a:ext cx="2286000" cy="2198520"/>
          </a:xfrm>
          <a:prstGeom prst="rect">
            <a:avLst/>
          </a:prstGeom>
          <a:ln w="0">
            <a:noFill/>
          </a:ln>
        </p:spPr>
      </p:pic>
      <p:sp>
        <p:nvSpPr>
          <p:cNvPr id="738" name="AutoShape 5"/>
          <p:cNvSpPr/>
          <p:nvPr/>
        </p:nvSpPr>
        <p:spPr>
          <a:xfrm>
            <a:off x="468360" y="4508640"/>
            <a:ext cx="4032360" cy="2160360"/>
          </a:xfrm>
          <a:prstGeom prst="wedgeEllipseCallout">
            <a:avLst>
              <a:gd name="adj1" fmla="val -10041"/>
              <a:gd name="adj2" fmla="val -9908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жене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к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6" descr="P8220065"/>
          <p:cNvPicPr/>
          <p:nvPr/>
        </p:nvPicPr>
        <p:blipFill>
          <a:blip r:embed="rId2"/>
          <a:stretch/>
        </p:blipFill>
        <p:spPr>
          <a:xfrm>
            <a:off x="4572000" y="2781360"/>
            <a:ext cx="4284720" cy="3672000"/>
          </a:xfrm>
          <a:prstGeom prst="rect">
            <a:avLst/>
          </a:prstGeom>
          <a:ln w="0">
            <a:noFill/>
          </a:ln>
        </p:spPr>
      </p:pic>
      <p:sp>
        <p:nvSpPr>
          <p:cNvPr id="740" name="AutoShape 7"/>
          <p:cNvSpPr/>
          <p:nvPr/>
        </p:nvSpPr>
        <p:spPr>
          <a:xfrm>
            <a:off x="4859280" y="260280"/>
            <a:ext cx="4032360" cy="2305080"/>
          </a:xfrm>
          <a:prstGeom prst="wedgeRoundRectCallout">
            <a:avLst>
              <a:gd name="adj1" fmla="val -13148"/>
              <a:gd name="adj2" fmla="val 72245"/>
              <a:gd name="adj3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дов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ев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к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395280" y="189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 к какому виду относится труд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9" descr="C:\Users\Елена\Desktop\rabota-70.gif"/>
          <p:cNvPicPr/>
          <p:nvPr/>
        </p:nvPicPr>
        <p:blipFill>
          <a:blip r:embed="rId3"/>
          <a:stretch/>
        </p:blipFill>
        <p:spPr>
          <a:xfrm>
            <a:off x="2214720" y="2000160"/>
            <a:ext cx="2000160" cy="2190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8235"/>
                </a:srgbClr>
              </a:gs>
              <a:gs pos="100000">
                <a:srgbClr val="000000">
                  <a:alpha val="8235"/>
                </a:srgbClr>
              </a:gs>
            </a:gsLst>
            <a:lin ang="5400000"/>
          </a:gra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455148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j0234687"/>
          <p:cNvPicPr/>
          <p:nvPr/>
        </p:nvPicPr>
        <p:blipFill>
          <a:blip r:embed="rId1"/>
          <a:stretch/>
        </p:blipFill>
        <p:spPr>
          <a:xfrm>
            <a:off x="6286680" y="4286160"/>
            <a:ext cx="2484360" cy="172872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7"/>
          <p:cNvSpPr/>
          <p:nvPr/>
        </p:nvSpPr>
        <p:spPr>
          <a:xfrm>
            <a:off x="426420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8"/>
          <p:cNvGrpSpPr/>
          <p:nvPr/>
        </p:nvGrpSpPr>
        <p:grpSpPr>
          <a:xfrm>
            <a:off x="1619280" y="3284640"/>
            <a:ext cx="4966920" cy="2304720"/>
            <a:chOff x="1619280" y="3284640"/>
            <a:chExt cx="4966920" cy="2304720"/>
          </a:xfrm>
        </p:grpSpPr>
        <p:sp>
          <p:nvSpPr>
            <p:cNvPr id="748" name="AutoShape 9"/>
            <p:cNvSpPr/>
            <p:nvPr/>
          </p:nvSpPr>
          <p:spPr>
            <a:xfrm>
              <a:off x="1619280" y="3284640"/>
              <a:ext cx="4742640" cy="2304720"/>
            </a:xfrm>
            <a:prstGeom prst="rightArrowCallout">
              <a:avLst>
                <a:gd name="adj1" fmla="val 25002"/>
                <a:gd name="adj2" fmla="val 25000"/>
                <a:gd name="adj3" fmla="val 34297"/>
                <a:gd name="adj4" fmla="val 66667"/>
              </a:avLst>
            </a:prstGeom>
            <a:gradFill rotWithShape="0">
              <a:gsLst>
                <a:gs pos="0">
                  <a:srgbClr val="bbd9f7">
                    <a:alpha val="48235"/>
                  </a:srgbClr>
                </a:gs>
                <a:gs pos="100000">
                  <a:srgbClr val="aedac4">
                    <a:alpha val="45098"/>
                  </a:srgbClr>
                </a:gs>
              </a:gsLst>
              <a:lin ang="2700000"/>
            </a:gra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10"/>
            <p:cNvSpPr/>
            <p:nvPr/>
          </p:nvSpPr>
          <p:spPr>
            <a:xfrm>
              <a:off x="1619280" y="3355920"/>
              <a:ext cx="4966920" cy="1922760"/>
            </a:xfrm>
            <a:prstGeom prst="rightArrowCallout">
              <a:avLst>
                <a:gd name="adj1" fmla="val 25002"/>
                <a:gd name="adj2" fmla="val 25000"/>
                <a:gd name="adj3" fmla="val 43054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Экономическое благополучие страны и её населения, зависит от уровня квалификации работник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Picture 18" descr="j0301076"/>
          <p:cNvPicPr/>
          <p:nvPr/>
        </p:nvPicPr>
        <p:blipFill>
          <a:blip r:embed="rId2"/>
          <a:stretch/>
        </p:blipFill>
        <p:spPr>
          <a:xfrm>
            <a:off x="1643040" y="428760"/>
            <a:ext cx="2376360" cy="25905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C:\Users\Елена\Desktop\3da-423.gif"/>
          <p:cNvPicPr/>
          <p:nvPr/>
        </p:nvPicPr>
        <p:blipFill>
          <a:blip r:embed="rId3"/>
          <a:stretch/>
        </p:blipFill>
        <p:spPr>
          <a:xfrm>
            <a:off x="285840" y="571680"/>
            <a:ext cx="1357200" cy="14284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20" descr="C:\Users\Елена\Desktop\flagis-123.gif"/>
          <p:cNvPicPr/>
          <p:nvPr/>
        </p:nvPicPr>
        <p:blipFill>
          <a:blip r:embed="rId4"/>
          <a:stretch/>
        </p:blipFill>
        <p:spPr>
          <a:xfrm>
            <a:off x="6357960" y="1143000"/>
            <a:ext cx="20718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WordArt 3"/>
          <p:cNvSpPr txBox="1"/>
          <p:nvPr/>
        </p:nvSpPr>
        <p:spPr>
          <a:xfrm>
            <a:off x="539640" y="5373720"/>
            <a:ext cx="8280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8488c4"/>
                    </a:gs>
                  </a:gsLst>
                  <a:lin ang="0"/>
                </a:gradFill>
                <a:latin typeface="Arial"/>
              </a:rPr>
              <a:t>Заработная пл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8488c4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54" name="Document"/>
          <p:cNvSpPr/>
          <p:nvPr/>
        </p:nvSpPr>
        <p:spPr>
          <a:xfrm>
            <a:off x="2843280" y="3141720"/>
            <a:ext cx="2233440" cy="23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Document"/>
          <p:cNvSpPr/>
          <p:nvPr/>
        </p:nvSpPr>
        <p:spPr>
          <a:xfrm>
            <a:off x="324000" y="3141720"/>
            <a:ext cx="2303280" cy="23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ень риска при занятии данным тр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ocument"/>
          <p:cNvSpPr/>
          <p:nvPr/>
        </p:nvSpPr>
        <p:spPr>
          <a:xfrm>
            <a:off x="5435640" y="3141720"/>
            <a:ext cx="2232000" cy="23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и качеств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Document"/>
          <p:cNvSpPr/>
          <p:nvPr/>
        </p:nvSpPr>
        <p:spPr>
          <a:xfrm>
            <a:off x="5435640" y="333360"/>
            <a:ext cx="223200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значим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Document"/>
          <p:cNvSpPr/>
          <p:nvPr/>
        </p:nvSpPr>
        <p:spPr>
          <a:xfrm>
            <a:off x="2843280" y="333360"/>
            <a:ext cx="223200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Document"/>
          <p:cNvSpPr/>
          <p:nvPr/>
        </p:nvSpPr>
        <p:spPr>
          <a:xfrm>
            <a:off x="324000" y="333360"/>
            <a:ext cx="230328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ость труда  и уровень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10"/>
          <p:cNvGrpSpPr/>
          <p:nvPr/>
        </p:nvGrpSpPr>
        <p:grpSpPr>
          <a:xfrm>
            <a:off x="8317080" y="6597720"/>
            <a:ext cx="826920" cy="260280"/>
            <a:chOff x="8317080" y="6597720"/>
            <a:chExt cx="826920" cy="260280"/>
          </a:xfrm>
        </p:grpSpPr>
        <p:sp>
          <p:nvSpPr>
            <p:cNvPr id="761" name="AutoShape 11">
              <a:hlinkClick r:id="" action="ppaction://hlinkshowjump?jump=nextslide"/>
            </p:cNvPr>
            <p:cNvSpPr/>
            <p:nvPr/>
          </p:nvSpPr>
          <p:spPr>
            <a:xfrm>
              <a:off x="8617680" y="6617160"/>
              <a:ext cx="276120" cy="240840"/>
            </a:xfrm>
            <a:custGeom>
              <a:avLst/>
              <a:gdLst>
                <a:gd name="textAreaLeft" fmla="*/ 15480 w 276120"/>
                <a:gd name="textAreaRight" fmla="*/ 260640 w 276120"/>
                <a:gd name="textAreaTop" fmla="*/ 15480 h 240840"/>
                <a:gd name="textAreaBottom" fmla="*/ 225360 h 240840"/>
              </a:gdLst>
              <a:ahLst/>
              <a:rect l="textAreaLeft" t="textAreaTop" r="textAreaRight" b="textAreaBottom"/>
              <a:pathLst>
                <a:path w="24759" h="21600">
                  <a:moveTo>
                    <a:pt x="0" y="0"/>
                  </a:moveTo>
                  <a:lnTo>
                    <a:pt x="24759" y="0"/>
                  </a:lnTo>
                  <a:lnTo>
                    <a:pt x="24759" y="21600"/>
                  </a:lnTo>
                  <a:lnTo>
                    <a:pt x="0" y="21600"/>
                  </a:lnTo>
                  <a:close/>
                </a:path>
                <a:path fill="lightenLess" w="24759" h="21600">
                  <a:moveTo>
                    <a:pt x="0" y="0"/>
                  </a:moveTo>
                  <a:lnTo>
                    <a:pt x="24759" y="0"/>
                  </a:lnTo>
                  <a:lnTo>
                    <a:pt x="23359" y="1400"/>
                  </a:lnTo>
                  <a:lnTo>
                    <a:pt x="1400" y="1400"/>
                  </a:lnTo>
                  <a:close/>
                </a:path>
                <a:path fill="darken" w="24759" h="21600">
                  <a:moveTo>
                    <a:pt x="24759" y="0"/>
                  </a:moveTo>
                  <a:lnTo>
                    <a:pt x="24759" y="21600"/>
                  </a:lnTo>
                  <a:lnTo>
                    <a:pt x="23359" y="20200"/>
                  </a:lnTo>
                  <a:lnTo>
                    <a:pt x="23359" y="1400"/>
                  </a:lnTo>
                  <a:close/>
                </a:path>
                <a:path fill="darkenLess" w="24759" h="21600">
                  <a:moveTo>
                    <a:pt x="247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359" y="20200"/>
                  </a:lnTo>
                  <a:close/>
                </a:path>
                <a:path fill="lighten" w="247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759" h="21600">
                  <a:moveTo>
                    <a:pt x="5373" y="3794"/>
                  </a:moveTo>
                  <a:lnTo>
                    <a:pt x="19386" y="10800"/>
                  </a:lnTo>
                  <a:lnTo>
                    <a:pt x="5373" y="17806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12"/>
            <p:cNvSpPr/>
            <p:nvPr/>
          </p:nvSpPr>
          <p:spPr>
            <a:xfrm>
              <a:off x="8893080" y="6597720"/>
              <a:ext cx="250920" cy="260280"/>
            </a:xfrm>
            <a:custGeom>
              <a:avLst/>
              <a:gdLst>
                <a:gd name="textAreaLeft" fmla="*/ 16200 w 250920"/>
                <a:gd name="textAreaRight" fmla="*/ 234720 w 250920"/>
                <a:gd name="textAreaTop" fmla="*/ 16200 h 260280"/>
                <a:gd name="textAreaBottom" fmla="*/ 244080 h 260280"/>
              </a:gdLst>
              <a:ahLst/>
              <a:rect l="textAreaLeft" t="textAreaTop" r="textAreaRight" b="textAreaBottom"/>
              <a:pathLst>
                <a:path w="21600" h="22405">
                  <a:moveTo>
                    <a:pt x="0" y="0"/>
                  </a:moveTo>
                  <a:lnTo>
                    <a:pt x="21600" y="0"/>
                  </a:lnTo>
                  <a:lnTo>
                    <a:pt x="21600" y="22405"/>
                  </a:lnTo>
                  <a:lnTo>
                    <a:pt x="0" y="22405"/>
                  </a:lnTo>
                  <a:close/>
                </a:path>
                <a:path fill="lightenLess" w="21600" h="2240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05">
                  <a:moveTo>
                    <a:pt x="21600" y="0"/>
                  </a:moveTo>
                  <a:lnTo>
                    <a:pt x="21600" y="22405"/>
                  </a:lnTo>
                  <a:lnTo>
                    <a:pt x="20200" y="21005"/>
                  </a:lnTo>
                  <a:lnTo>
                    <a:pt x="20200" y="1400"/>
                  </a:lnTo>
                  <a:close/>
                </a:path>
                <a:path fill="darkenLess" w="21600" h="22405">
                  <a:moveTo>
                    <a:pt x="21600" y="22405"/>
                  </a:moveTo>
                  <a:lnTo>
                    <a:pt x="0" y="22405"/>
                  </a:lnTo>
                  <a:lnTo>
                    <a:pt x="1400" y="21005"/>
                  </a:lnTo>
                  <a:lnTo>
                    <a:pt x="20200" y="21005"/>
                  </a:lnTo>
                  <a:close/>
                </a:path>
                <a:path fill="lighten" w="21600" h="22405">
                  <a:moveTo>
                    <a:pt x="0" y="2240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05"/>
                  </a:lnTo>
                  <a:close/>
                </a:path>
              </a:pathLst>
            </a:custGeom>
            <a:solidFill>
              <a:srgbClr val="99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3">
              <a:hlinkClick r:id="" action="ppaction://hlinkshowjump?jump=previousslide"/>
            </p:cNvPr>
            <p:cNvSpPr/>
            <p:nvPr/>
          </p:nvSpPr>
          <p:spPr>
            <a:xfrm>
              <a:off x="8317080" y="6617160"/>
              <a:ext cx="300600" cy="240840"/>
            </a:xfrm>
            <a:custGeom>
              <a:avLst/>
              <a:gdLst>
                <a:gd name="textAreaLeft" fmla="*/ 15480 w 300600"/>
                <a:gd name="textAreaRight" fmla="*/ 285120 w 300600"/>
                <a:gd name="textAreaTop" fmla="*/ 15480 h 240840"/>
                <a:gd name="textAreaBottom" fmla="*/ 225360 h 240840"/>
              </a:gdLst>
              <a:ahLst/>
              <a:rect l="textAreaLeft" t="textAreaTop" r="textAreaRight" b="textAreaBottom"/>
              <a:pathLst>
                <a:path w="26952" h="21600">
                  <a:moveTo>
                    <a:pt x="0" y="0"/>
                  </a:moveTo>
                  <a:lnTo>
                    <a:pt x="26952" y="0"/>
                  </a:lnTo>
                  <a:lnTo>
                    <a:pt x="26952" y="21600"/>
                  </a:lnTo>
                  <a:lnTo>
                    <a:pt x="0" y="21600"/>
                  </a:lnTo>
                  <a:close/>
                </a:path>
                <a:path fill="lightenLess" w="26952" h="21600">
                  <a:moveTo>
                    <a:pt x="0" y="0"/>
                  </a:moveTo>
                  <a:lnTo>
                    <a:pt x="26952" y="0"/>
                  </a:lnTo>
                  <a:lnTo>
                    <a:pt x="25552" y="1400"/>
                  </a:lnTo>
                  <a:lnTo>
                    <a:pt x="1400" y="1400"/>
                  </a:lnTo>
                  <a:close/>
                </a:path>
                <a:path fill="darken" w="26952" h="21600">
                  <a:moveTo>
                    <a:pt x="26952" y="0"/>
                  </a:moveTo>
                  <a:lnTo>
                    <a:pt x="26952" y="21600"/>
                  </a:lnTo>
                  <a:lnTo>
                    <a:pt x="25552" y="20200"/>
                  </a:lnTo>
                  <a:lnTo>
                    <a:pt x="25552" y="1400"/>
                  </a:lnTo>
                  <a:close/>
                </a:path>
                <a:path fill="darkenLess" w="26952" h="21600">
                  <a:moveTo>
                    <a:pt x="2695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52" y="20200"/>
                  </a:lnTo>
                  <a:close/>
                </a:path>
                <a:path fill="lighten" w="2695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52" h="21600">
                  <a:moveTo>
                    <a:pt x="6469" y="10800"/>
                  </a:moveTo>
                  <a:lnTo>
                    <a:pt x="20482" y="3794"/>
                  </a:lnTo>
                  <a:lnTo>
                    <a:pt x="20482" y="17806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Picture 29" descr="C:\Users\Елена\Desktop\dengi-38.gif"/>
          <p:cNvPicPr/>
          <p:nvPr/>
        </p:nvPicPr>
        <p:blipFill>
          <a:blip r:embed="rId1"/>
          <a:stretch/>
        </p:blipFill>
        <p:spPr>
          <a:xfrm>
            <a:off x="7626240" y="2357280"/>
            <a:ext cx="1517760" cy="237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5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AutoShape 2"/>
          <p:cNvSpPr/>
          <p:nvPr/>
        </p:nvSpPr>
        <p:spPr>
          <a:xfrm>
            <a:off x="6516720" y="260280"/>
            <a:ext cx="2303280" cy="259236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592360"/>
              <a:gd name="textAreaBottom" fmla="*/ 2480040 h 2592360"/>
            </a:gdLst>
            <a:ahLst/>
            <a:rect l="textAreaLeft" t="textAreaTop" r="textAreaRight" b="textAreaBottom"/>
            <a:pathLst>
              <a:path w="21600" h="24311">
                <a:moveTo>
                  <a:pt x="3600" y="0"/>
                </a:moveTo>
                <a:arcTo wR="3600" hR="3600" stAng="16200000" swAng="-5400000"/>
                <a:lnTo>
                  <a:pt x="0" y="20711"/>
                </a:lnTo>
                <a:arcTo wR="3600" hR="3600" stAng="10800000" swAng="-5400000"/>
                <a:lnTo>
                  <a:pt x="18000" y="243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9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90000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282420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2608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6"/>
          <p:cNvGrpSpPr/>
          <p:nvPr/>
        </p:nvGrpSpPr>
        <p:grpSpPr>
          <a:xfrm>
            <a:off x="250920" y="260280"/>
            <a:ext cx="4968360" cy="1513080"/>
            <a:chOff x="250920" y="260280"/>
            <a:chExt cx="4968360" cy="1513080"/>
          </a:xfrm>
        </p:grpSpPr>
        <p:sp>
          <p:nvSpPr>
            <p:cNvPr id="770" name="AutoShape 7"/>
            <p:cNvSpPr/>
            <p:nvPr/>
          </p:nvSpPr>
          <p:spPr>
            <a:xfrm>
              <a:off x="250920" y="260280"/>
              <a:ext cx="4789440" cy="15130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 выш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валификация работника 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м выше результат его труд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м выше его заработная пл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8"/>
            <p:cNvSpPr/>
            <p:nvPr/>
          </p:nvSpPr>
          <p:spPr>
            <a:xfrm>
              <a:off x="410760" y="316800"/>
              <a:ext cx="480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Text Box 9"/>
          <p:cNvSpPr/>
          <p:nvPr/>
        </p:nvSpPr>
        <p:spPr>
          <a:xfrm>
            <a:off x="361620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246384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1"/>
          <p:cNvGrpSpPr/>
          <p:nvPr/>
        </p:nvGrpSpPr>
        <p:grpSpPr>
          <a:xfrm>
            <a:off x="1979640" y="1989000"/>
            <a:ext cx="3889440" cy="1944720"/>
            <a:chOff x="1979640" y="1989000"/>
            <a:chExt cx="3889440" cy="1944720"/>
          </a:xfrm>
        </p:grpSpPr>
        <p:sp>
          <p:nvSpPr>
            <p:cNvPr id="775" name="AutoShape 12"/>
            <p:cNvSpPr/>
            <p:nvPr/>
          </p:nvSpPr>
          <p:spPr>
            <a:xfrm>
              <a:off x="1979640" y="1989000"/>
              <a:ext cx="3889440" cy="19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cc"/>
                  </a:solidFill>
                  <a:latin typeface="Arial"/>
                </a:rPr>
                <a:t>Квалифицир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3"/>
            <p:cNvSpPr/>
            <p:nvPr/>
          </p:nvSpPr>
          <p:spPr>
            <a:xfrm rot="21180000">
              <a:off x="2502000" y="2353680"/>
              <a:ext cx="308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Text Box 14"/>
          <p:cNvSpPr/>
          <p:nvPr/>
        </p:nvSpPr>
        <p:spPr>
          <a:xfrm>
            <a:off x="427032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5"/>
          <p:cNvGrpSpPr/>
          <p:nvPr/>
        </p:nvGrpSpPr>
        <p:grpSpPr>
          <a:xfrm>
            <a:off x="3132000" y="3068640"/>
            <a:ext cx="4111560" cy="2016000"/>
            <a:chOff x="3132000" y="3068640"/>
            <a:chExt cx="4111560" cy="2016000"/>
          </a:xfrm>
        </p:grpSpPr>
        <p:sp>
          <p:nvSpPr>
            <p:cNvPr id="779" name="AutoShape 16"/>
            <p:cNvSpPr/>
            <p:nvPr/>
          </p:nvSpPr>
          <p:spPr>
            <a:xfrm>
              <a:off x="3132000" y="3068640"/>
              <a:ext cx="4104000" cy="201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7"/>
            <p:cNvSpPr/>
            <p:nvPr/>
          </p:nvSpPr>
          <p:spPr>
            <a:xfrm rot="21171000">
              <a:off x="3593160" y="3673800"/>
              <a:ext cx="362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8000"/>
                  </a:solidFill>
                  <a:latin typeface="Arial"/>
                </a:rPr>
                <a:t>Уважаемый людьми , честный, справедлив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8"/>
          <p:cNvGrpSpPr/>
          <p:nvPr/>
        </p:nvGrpSpPr>
        <p:grpSpPr>
          <a:xfrm>
            <a:off x="4859280" y="4365720"/>
            <a:ext cx="3962520" cy="2158920"/>
            <a:chOff x="4859280" y="4365720"/>
            <a:chExt cx="3962520" cy="2158920"/>
          </a:xfrm>
        </p:grpSpPr>
        <p:sp>
          <p:nvSpPr>
            <p:cNvPr id="782" name="AutoShape 19"/>
            <p:cNvSpPr/>
            <p:nvPr/>
          </p:nvSpPr>
          <p:spPr>
            <a:xfrm>
              <a:off x="4859280" y="4365720"/>
              <a:ext cx="3962520" cy="215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0"/>
            <p:cNvSpPr/>
            <p:nvPr/>
          </p:nvSpPr>
          <p:spPr>
            <a:xfrm rot="21270000">
              <a:off x="5149800" y="479916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66"/>
                  </a:solidFill>
                  <a:latin typeface="Arial"/>
                </a:rPr>
                <a:t>Дорожащий честью своего пред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Picture 21" descr="Exp"/>
          <p:cNvPicPr/>
          <p:nvPr/>
        </p:nvPicPr>
        <p:blipFill>
          <a:blip r:embed="rId2"/>
          <a:stretch/>
        </p:blipFill>
        <p:spPr>
          <a:xfrm>
            <a:off x="539640" y="4221000"/>
            <a:ext cx="2305080" cy="1511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5" name="Text Box 26"/>
          <p:cNvSpPr/>
          <p:nvPr/>
        </p:nvSpPr>
        <p:spPr>
          <a:xfrm>
            <a:off x="755640" y="4797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7"/>
          <p:cNvSpPr/>
          <p:nvPr/>
        </p:nvSpPr>
        <p:spPr>
          <a:xfrm>
            <a:off x="755640" y="4797360"/>
            <a:ext cx="1871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WordArt 2"/>
          <p:cNvSpPr txBox="1"/>
          <p:nvPr/>
        </p:nvSpPr>
        <p:spPr>
          <a:xfrm>
            <a:off x="285840" y="785880"/>
            <a:ext cx="331308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57120" y="6210360"/>
            <a:ext cx="849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324000" y="4941720"/>
            <a:ext cx="8496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647640" y="3645000"/>
            <a:ext cx="849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1071720" y="3357720"/>
            <a:ext cx="8496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еобходимо воспитать в себе умение прилежно трудиться, быть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амостоятельным, дисциплинированным, рационально использовать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являть активность, взаимодействовать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с различн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1285920" y="1643040"/>
            <a:ext cx="813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ля достижения высокого мастерства и  профессионального успеха, недостаточно только получить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AMIDEA"/>
          <p:cNvPicPr/>
          <p:nvPr/>
        </p:nvPicPr>
        <p:blipFill>
          <a:blip r:embed="rId1"/>
          <a:stretch/>
        </p:blipFill>
        <p:spPr>
          <a:xfrm>
            <a:off x="0" y="178596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2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3"/>
          <p:cNvSpPr/>
          <p:nvPr/>
        </p:nvSpPr>
        <p:spPr>
          <a:xfrm>
            <a:off x="324000" y="587700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2627280" y="2852640"/>
            <a:ext cx="65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чень важно развить крепкое здоровье, хороший характер и высокую работо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324000" y="2565360"/>
            <a:ext cx="84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7" descr="AMORGANI"/>
          <p:cNvPicPr/>
          <p:nvPr/>
        </p:nvPicPr>
        <p:blipFill>
          <a:blip r:embed="rId1"/>
          <a:stretch/>
        </p:blipFill>
        <p:spPr>
          <a:xfrm>
            <a:off x="0" y="2708280"/>
            <a:ext cx="2349360" cy="3753000"/>
          </a:xfrm>
          <a:prstGeom prst="rect">
            <a:avLst/>
          </a:prstGeom>
          <a:ln w="0">
            <a:noFill/>
          </a:ln>
        </p:spPr>
      </p:pic>
      <p:sp>
        <p:nvSpPr>
          <p:cNvPr id="798" name="WordArt 13"/>
          <p:cNvSpPr txBox="1"/>
          <p:nvPr/>
        </p:nvSpPr>
        <p:spPr>
          <a:xfrm>
            <a:off x="2928960" y="785880"/>
            <a:ext cx="331308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4"/>
          <p:cNvSpPr/>
          <p:nvPr/>
        </p:nvSpPr>
        <p:spPr>
          <a:xfrm>
            <a:off x="2484360" y="2708280"/>
            <a:ext cx="6659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зрослого человека всегда можно научить выполнять определённую работу, но стиль взаимоотношений с окружающими и многие черты характера формируются в школьном возра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324000" y="191628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7" descr="AMVICTOR"/>
          <p:cNvPicPr/>
          <p:nvPr/>
        </p:nvPicPr>
        <p:blipFill>
          <a:blip r:embed="rId1"/>
          <a:stretch/>
        </p:blipFill>
        <p:spPr>
          <a:xfrm>
            <a:off x="324000" y="1773360"/>
            <a:ext cx="2592360" cy="3168360"/>
          </a:xfrm>
          <a:prstGeom prst="rect">
            <a:avLst/>
          </a:prstGeom>
          <a:ln w="0">
            <a:noFill/>
          </a:ln>
        </p:spPr>
      </p:pic>
      <p:sp>
        <p:nvSpPr>
          <p:cNvPr id="802" name="WordArt 12"/>
          <p:cNvSpPr txBox="1"/>
          <p:nvPr/>
        </p:nvSpPr>
        <p:spPr>
          <a:xfrm>
            <a:off x="1285920" y="428760"/>
            <a:ext cx="33130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3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5"/>
          <p:cNvSpPr/>
          <p:nvPr/>
        </p:nvSpPr>
        <p:spPr>
          <a:xfrm>
            <a:off x="1403280" y="33336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должен знать и уметь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, чтобы получить  достойную работу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332000" y="242100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условия качественного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971640" y="407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3"/>
          <p:cNvSpPr/>
          <p:nvPr/>
        </p:nvSpPr>
        <p:spPr>
          <a:xfrm>
            <a:off x="1476360" y="479736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1357200" y="35719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ждый ли может стать профессионалом в своём де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826920" y="1052640"/>
            <a:ext cx="7417080" cy="50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WordArt 3"/>
          <p:cNvSpPr txBox="1"/>
          <p:nvPr/>
        </p:nvSpPr>
        <p:spPr>
          <a:xfrm>
            <a:off x="250920" y="0"/>
            <a:ext cx="352908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а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5" name="WordArt 4"/>
          <p:cNvSpPr txBox="1"/>
          <p:nvPr/>
        </p:nvSpPr>
        <p:spPr>
          <a:xfrm rot="20882400">
            <a:off x="3995280" y="3860280"/>
            <a:ext cx="4464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пех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7885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WordArt 10"/>
          <p:cNvSpPr txBox="1"/>
          <p:nvPr/>
        </p:nvSpPr>
        <p:spPr>
          <a:xfrm rot="20541600">
            <a:off x="1330200" y="2838240"/>
            <a:ext cx="63612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рофессиональной карьер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3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j0233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8" descr="j0240719"/>
          <p:cNvPicPr/>
          <p:nvPr/>
        </p:nvPicPr>
        <p:blipFill>
          <a:blip r:embed="rId2"/>
          <a:stretch/>
        </p:blipFill>
        <p:spPr>
          <a:xfrm>
            <a:off x="250920" y="0"/>
            <a:ext cx="2376360" cy="27082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j0195384"/>
          <p:cNvPicPr/>
          <p:nvPr/>
        </p:nvPicPr>
        <p:blipFill>
          <a:blip r:embed="rId3"/>
          <a:stretch/>
        </p:blipFill>
        <p:spPr>
          <a:xfrm>
            <a:off x="6696000" y="18900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0" descr="j0090070"/>
          <p:cNvPicPr/>
          <p:nvPr/>
        </p:nvPicPr>
        <p:blipFill>
          <a:blip r:embed="rId4"/>
          <a:stretch/>
        </p:blipFill>
        <p:spPr>
          <a:xfrm>
            <a:off x="3564000" y="4005360"/>
            <a:ext cx="2014560" cy="2500200"/>
          </a:xfrm>
          <a:prstGeom prst="rect">
            <a:avLst/>
          </a:prstGeom>
          <a:ln w="0">
            <a:noFill/>
          </a:ln>
        </p:spPr>
      </p:pic>
      <p:sp>
        <p:nvSpPr>
          <p:cNvPr id="675" name="WordArt 13"/>
          <p:cNvSpPr txBox="1"/>
          <p:nvPr/>
        </p:nvSpPr>
        <p:spPr>
          <a:xfrm>
            <a:off x="2214720" y="2786040"/>
            <a:ext cx="6678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ло   мастера   боитс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pull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тча гласит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жно смотреть долго и бесконечно на то как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Горит огонь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Бежит вода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Работает мастер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6516720" y="6308640"/>
            <a:ext cx="1942920" cy="289080"/>
          </a:xfrm>
          <a:prstGeom prst="rightArrow">
            <a:avLst>
              <a:gd name="adj1" fmla="val 50000"/>
              <a:gd name="adj2" fmla="val 1680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4" descr="P721007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5"/>
          <p:cNvSpPr/>
          <p:nvPr/>
        </p:nvSpPr>
        <p:spPr>
          <a:xfrm>
            <a:off x="7451640" y="602136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P7150021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832720"/>
          </a:xfrm>
          <a:prstGeom prst="rect">
            <a:avLst/>
          </a:prstGeom>
          <a:ln w="0">
            <a:noFill/>
          </a:ln>
        </p:spPr>
      </p:pic>
      <p:sp>
        <p:nvSpPr>
          <p:cNvPr id="682" name="AutoShape 5"/>
          <p:cNvSpPr/>
          <p:nvPr/>
        </p:nvSpPr>
        <p:spPr>
          <a:xfrm>
            <a:off x="7380360" y="5877000"/>
            <a:ext cx="1152360" cy="288720"/>
          </a:xfrm>
          <a:prstGeom prst="rightArrow">
            <a:avLst>
              <a:gd name="adj1" fmla="val 50000"/>
              <a:gd name="adj2" fmla="val 9978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j0240695"/>
          <p:cNvPicPr/>
          <p:nvPr/>
        </p:nvPicPr>
        <p:blipFill>
          <a:blip r:embed="rId1"/>
          <a:stretch/>
        </p:blipFill>
        <p:spPr>
          <a:xfrm>
            <a:off x="1476360" y="765000"/>
            <a:ext cx="6192720" cy="528336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5"/>
          <p:cNvSpPr/>
          <p:nvPr/>
        </p:nvSpPr>
        <p:spPr>
          <a:xfrm>
            <a:off x="6804000" y="6237360"/>
            <a:ext cx="1871640" cy="620640"/>
          </a:xfrm>
          <a:prstGeom prst="rightArrow">
            <a:avLst>
              <a:gd name="adj1" fmla="val 50000"/>
              <a:gd name="adj2" fmla="val 7539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WordArt 4"/>
          <p:cNvSpPr txBox="1"/>
          <p:nvPr/>
        </p:nvSpPr>
        <p:spPr>
          <a:xfrm>
            <a:off x="1042920" y="189000"/>
            <a:ext cx="6913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тер - золотые ру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6" name="Picture 7" descr="P2260096"/>
          <p:cNvPicPr/>
          <p:nvPr/>
        </p:nvPicPr>
        <p:blipFill>
          <a:blip r:embed="rId3"/>
          <a:srcRect l="4034" t="41252" r="28701" b="6252"/>
          <a:stretch/>
        </p:blipFill>
        <p:spPr>
          <a:xfrm>
            <a:off x="1042920" y="1268280"/>
            <a:ext cx="7129440" cy="5589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4"/>
          <a:stretch/>
        </p:blipFill>
        <p:spPr>
          <a:xfrm rot="20626200">
            <a:off x="1042560" y="1413000"/>
            <a:ext cx="3048120" cy="2520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9" descr=""/>
          <p:cNvPicPr/>
          <p:nvPr/>
        </p:nvPicPr>
        <p:blipFill>
          <a:blip r:embed="rId5">
            <a:lum bright="18000"/>
          </a:blip>
          <a:srcRect l="0" t="42940" r="0" b="0"/>
          <a:stretch/>
        </p:blipFill>
        <p:spPr>
          <a:xfrm>
            <a:off x="5292720" y="148428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P2260095"/>
          <p:cNvPicPr/>
          <p:nvPr/>
        </p:nvPicPr>
        <p:blipFill>
          <a:blip r:embed="rId6"/>
          <a:stretch/>
        </p:blipFill>
        <p:spPr>
          <a:xfrm rot="1716600">
            <a:off x="6372000" y="436536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P2260090"/>
          <p:cNvPicPr/>
          <p:nvPr/>
        </p:nvPicPr>
        <p:blipFill>
          <a:blip r:embed="rId7"/>
          <a:srcRect l="0" t="0" r="8593" b="33756"/>
          <a:stretch/>
        </p:blipFill>
        <p:spPr>
          <a:xfrm rot="20644200">
            <a:off x="395280" y="458100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9"/>
          <p:cNvSpPr/>
          <p:nvPr/>
        </p:nvSpPr>
        <p:spPr>
          <a:xfrm>
            <a:off x="1619280" y="3213000"/>
            <a:ext cx="5905440" cy="230364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7"/>
          <p:cNvSpPr/>
          <p:nvPr/>
        </p:nvSpPr>
        <p:spPr>
          <a:xfrm rot="10800000">
            <a:off x="899640" y="4365720"/>
            <a:ext cx="7272360" cy="223200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з чего складывается мастерство работник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AutoShape 5"/>
          <p:cNvSpPr/>
          <p:nvPr/>
        </p:nvSpPr>
        <p:spPr>
          <a:xfrm>
            <a:off x="1116000" y="1484280"/>
            <a:ext cx="6551640" cy="237636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ессиональны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WordArt 6"/>
          <p:cNvSpPr txBox="1"/>
          <p:nvPr/>
        </p:nvSpPr>
        <p:spPr>
          <a:xfrm>
            <a:off x="2268360" y="3573360"/>
            <a:ext cx="49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663300"/>
                    </a:gs>
                    <a:gs pos="100000">
                      <a:srgbClr val="ff99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СТЕРСТВО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663300"/>
                  </a:gs>
                  <a:gs pos="100000">
                    <a:srgbClr val="ff99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6" name="Picture 10" descr="22r6"/>
          <p:cNvPicPr/>
          <p:nvPr/>
        </p:nvPicPr>
        <p:blipFill>
          <a:blip r:embed="rId1"/>
          <a:stretch/>
        </p:blipFill>
        <p:spPr>
          <a:xfrm>
            <a:off x="7380360" y="1844640"/>
            <a:ext cx="1514520" cy="14302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1" descr="2r1"/>
          <p:cNvPicPr/>
          <p:nvPr/>
        </p:nvPicPr>
        <p:blipFill>
          <a:blip r:embed="rId2"/>
          <a:stretch/>
        </p:blipFill>
        <p:spPr>
          <a:xfrm>
            <a:off x="324000" y="206280"/>
            <a:ext cx="1655640" cy="1640160"/>
          </a:xfrm>
          <a:prstGeom prst="rect">
            <a:avLst/>
          </a:prstGeom>
          <a:ln w="0">
            <a:noFill/>
          </a:ln>
        </p:spPr>
      </p:pic>
      <p:sp>
        <p:nvSpPr>
          <p:cNvPr id="698" name="AutoShape 13"/>
          <p:cNvSpPr/>
          <p:nvPr/>
        </p:nvSpPr>
        <p:spPr>
          <a:xfrm>
            <a:off x="8854920" y="6308640"/>
            <a:ext cx="289080" cy="289080"/>
          </a:xfrm>
          <a:custGeom>
            <a:avLst/>
            <a:gdLst>
              <a:gd name="textAreaLeft" fmla="*/ 45000 w 289080"/>
              <a:gd name="textAreaRight" fmla="*/ 253080 w 289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4"/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76320 w 611280"/>
              <a:gd name="textAreaRight" fmla="*/ 534960 w 61128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4:28:27Z</dcterms:created>
  <dc:creator>мама</dc:creator>
  <dc:description/>
  <dc:language>en-US</dc:language>
  <cp:lastModifiedBy>User</cp:lastModifiedBy>
  <dcterms:modified xsi:type="dcterms:W3CDTF">2012-11-09T15:17:04Z</dcterms:modified>
  <cp:revision>14</cp:revision>
  <dc:subject/>
  <dc:title>Слайд 1</dc:title>
</cp:coreProperties>
</file>