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3.gif" ContentType="image/gif"/>
  <Override PartName="/ppt/media/image21.jpeg" ContentType="image/jpeg"/>
  <Override PartName="/ppt/media/image20.gif" ContentType="image/gif"/>
  <Override PartName="/ppt/media/image23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5.jpeg" ContentType="image/jpeg"/>
  <Override PartName="/ppt/media/image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F7C-D1E1-488E-9BB5-D406305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F37-DAEF-45CD-AB54-3F0C952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862-AD12-4C51-934F-3A72F4DC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0EF-A595-4124-8AFE-6ABD23D2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D086-7421-42A1-B463-8CF6AE45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6A4A9-88C1-41D6-AA63-C8B5A0C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6E674-DCC6-478D-9F3F-04BDCA7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97E6C-DEA1-4D79-92F0-1A20F691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BD4C4-81E7-4CD0-AD97-A3D7523D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EDA64-86D7-4CAD-A0CB-1266EAE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FD8EE-473B-4EC4-BD66-4C73F31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7AE-EFD8-4C2B-BD13-072112A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86021-BF14-4B16-8A54-B7E848B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6F335-8BBD-4CE3-986E-BDC5DA6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073F-D7A4-4CA1-AE56-5311F4D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3807-A769-4487-84A9-A821B92E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ABC9C-AD92-47A8-B9C8-9AF10559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F75-E0C9-433D-84F1-802C38F8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617-BA9B-40B6-9584-3E11415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7EB-67E8-4E38-A78F-00D8459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4E7-718C-419D-A0DC-CF8B89B2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050-E728-4FE0-9119-742720A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B8D-6250-4F67-81B0-39E1263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B75-7DCC-4183-AF2F-22F2BC3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7908-1575-4985-B620-A8CC1DBD5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D28E-E000-4D77-AAAE-8DFC459CC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Ерёменко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716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чение воды на Земл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Много ног у осьминог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се они ему нуж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Заменяют ему ру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чень ловкие о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же воды в Мировом океан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8229600" cy="45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ишите, какая вод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зра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цве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запа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к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2743200"/>
            <a:ext cx="3200400" cy="3124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629400" y="297144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440" y="2438280"/>
            <a:ext cx="209556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сная во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1120" y="4952880"/>
            <a:ext cx="215712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леная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553080" y="2819520"/>
            <a:ext cx="666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4648320"/>
            <a:ext cx="10476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80880"/>
            <a:ext cx="82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акая вода нужна человеку,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животным, растения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617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есная или солен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да на Земле распределена неравном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А бывает ли вода тверда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де можно встретить воду в твердом состоя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3238560"/>
            <a:ext cx="327672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568200">
            <a:off x="4924080" y="2819520"/>
            <a:ext cx="4219560" cy="25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4303800"/>
            <a:ext cx="434340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7772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вода еще нужн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-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сточник пи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среда обитания животных 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ля приготовления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орога для передвижения и перевоза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8320" y="3581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Берегите воду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Perpetua Titling MT"/>
              </a:rPr>
              <a:t>Жизнь человека, животных и растений невозможна без в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2914560"/>
            <a:ext cx="70866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773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конь, а бежит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Не лес, а шуми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75248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99ff"/>
                </a:solidFill>
                <a:latin typeface="Tahoma"/>
              </a:rPr>
              <a:t>«Голубая планет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889800">
            <a:off x="5866920" y="53352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0566200">
            <a:off x="5257440" y="2209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486400" y="3867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</cp:lastModifiedBy>
  <dcterms:modified xsi:type="dcterms:W3CDTF">2010-02-17T12:46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