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4.png" ContentType="image/png"/>
  <Override PartName="/ppt/media/image3.gif" ContentType="image/gif"/>
  <Override PartName="/ppt/media/image21.jpeg" ContentType="image/jpeg"/>
  <Override PartName="/ppt/media/image20.gif" ContentType="image/gif"/>
  <Override PartName="/ppt/media/image23.png" ContentType="image/png"/>
  <Override PartName="/ppt/media/image18.jpeg" ContentType="image/jpeg"/>
  <Override PartName="/ppt/media/image19.wmf" ContentType="image/x-wmf"/>
  <Override PartName="/ppt/media/image14.jpeg" ContentType="image/jpeg"/>
  <Override PartName="/ppt/media/image2.png" ContentType="image/png"/>
  <Override PartName="/ppt/media/image17.jpeg" ContentType="image/jpeg"/>
  <Override PartName="/ppt/media/image15.jpeg" ContentType="image/jpeg"/>
  <Override PartName="/ppt/media/image4.gif" ContentType="image/gif"/>
  <Override PartName="/ppt/media/image22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AD4D-D565-47B1-93D5-5A1F1F08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8B4B-A6FB-4605-A5C8-DB069326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BB32-E26D-4C58-9DD9-741BAEA7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7FB-81CB-4742-A119-32476E16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8F68B-AA1F-484D-B280-821C74AC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D1DE7-BEA4-48C2-B782-43BE3166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EB166-3D38-4426-AA5E-A8E47B94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6E545-5C51-475B-838D-6DECDBB1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2C81C-02EA-4FEB-A0A6-07CB91DF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53C03-DD0F-46FA-AC93-25CAF78B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54781-C915-493A-BDFA-6EE1D0DE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DF3-E6B4-4333-9D97-2393968D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CF909-78D2-4F64-A045-0425C21F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87E2C-746A-43B7-A550-64B3E551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186B8-1EA2-42FE-8734-586EAEEB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2FF5A-C695-48BB-AABB-D6B7F9E5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C2E8F-8CF4-469A-ACB1-E1F11102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CD4-BA4E-4BED-9839-C757FC16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850C-6BD3-46D0-B2FD-2890865F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8F04-8086-48C0-A9CB-3581657F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D06A-A80D-4976-883E-9DCDB07B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5E37-B473-4AB2-95A1-79513429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A0F-33A7-4506-9077-A4849D21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F003-9AFC-479A-9B50-B2FB7625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B30B-0F81-4FD2-83EB-B68AF23B0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D883-C5C4-40F5-BAAE-31CE1A70E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 Ерёменко Л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1371600"/>
            <a:ext cx="78487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начение воды на Земле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изминут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Много ног у осьминог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Все они ему нуж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Заменяют ему ру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Очень ловкие он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419720" y="22096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3 0.011 0.08667 0.028 0.11333 C 0.028 0.11467 0.055 0.15067 0.055 0.14933 C 0.07 0.16933 0.079 0.19733 0.079 0.22667 C 0.079 0.28533 0.044 0.332 0 0.33333 C -0.044 0.332 -0.079 0.28533 -0.079 0.22667 C -0.079 0.19733 -0.07 0.16933 -0.055 0.14933 C -0.055 0.15067 -0.028 0.11467 -0.028 0.11333 C -0.011 0.08667 -0.001 0.04533 0 0 Z">
                                      <p:cBhvr>
                                        <p:cTn id="10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920" y="0"/>
            <a:ext cx="8458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9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колько же воды в Мировом океане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80880" y="2209680"/>
            <a:ext cx="8229600" cy="457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пишите, какая вод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4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зрач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сцвет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з запах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д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з вку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76920" y="2743200"/>
            <a:ext cx="3200400" cy="3124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7432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629400" y="2971440"/>
            <a:ext cx="60948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048440" y="2438280"/>
            <a:ext cx="2095560" cy="2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есная вод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191120" y="4952880"/>
            <a:ext cx="215712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оленая в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553080" y="2819520"/>
            <a:ext cx="6667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%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477120" y="4648320"/>
            <a:ext cx="104760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7 %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9800" y="380880"/>
            <a:ext cx="820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Какая вода нужна человеку,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животным, растения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752480"/>
            <a:ext cx="6172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Пресная или солен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Вода на Земле распределена неравномер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286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А бывает ли вода тверда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Где можно встретить воду в твердом состоя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28600" y="3238560"/>
            <a:ext cx="3276720" cy="3619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 rot="568200">
            <a:off x="4924080" y="2819520"/>
            <a:ext cx="4219560" cy="2547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276720" y="4303800"/>
            <a:ext cx="4343400" cy="255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2057400"/>
            <a:ext cx="77724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3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чем вода еще нужна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- 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876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источник пит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среда обитания животных и раст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для приготовления пищ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Дорога для передвижения и перевоза груз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486400" y="22860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248520" y="2133720"/>
            <a:ext cx="2590560" cy="1828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648320" y="35812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019920" y="4724280"/>
            <a:ext cx="2666880" cy="20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     </a:t>
            </a:r>
            <a:r>
              <a:rPr b="1" lang="en-US" sz="7200" spc="-1" strike="noStrike" u="sng">
                <a:solidFill>
                  <a:srgbClr val="ff0000"/>
                </a:solidFill>
                <a:uFillTx/>
                <a:latin typeface="Times New Roman"/>
              </a:rPr>
              <a:t>Берегите воду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1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66"/>
                </a:solidFill>
                <a:uFillTx/>
                <a:latin typeface="Perpetua Titling MT"/>
              </a:rPr>
              <a:t>Жизнь человека, животных и растений невозможна без воды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295280" y="2914560"/>
            <a:ext cx="7086600" cy="394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" dur="17734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2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2480" y="2743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Не конь, а бежит,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Не лес, а шумит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75248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ff99ff"/>
                </a:solidFill>
                <a:latin typeface="Tahoma"/>
              </a:rPr>
              <a:t>«Голубая планет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09680" y="13716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889800">
            <a:off x="5866920" y="53352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20566200">
            <a:off x="5257440" y="2209680"/>
            <a:ext cx="3429000" cy="2281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486400" y="38671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ОС</cp:lastModifiedBy>
  <dcterms:modified xsi:type="dcterms:W3CDTF">2010-02-17T12:46:0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