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E78-6D9C-48F6-82ED-343D2927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B76-BDE4-4876-B40A-BF89661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131-7B01-4933-A701-25E4DE0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ACD-D295-4CAD-B691-8C07B64D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B5A2-C9AD-4DCF-8B78-9FA28F3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3BA6-9A31-487B-AF1E-214583A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B6F5-EA9D-4586-8742-9DD727B9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190-6A3F-4F68-8106-72BF88F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278-1102-4820-A928-F6C73C6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8BD0-2BD0-41BB-BB91-70301A2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96DB-1E6B-4066-A508-9475F99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4EE-C8E8-4053-A753-9370F68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5D7-1648-48A7-8A37-0D9BFDC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0492-B0E4-4652-88F9-2FF0036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754F-4084-48F3-A855-B4BFCE9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B3B3-7990-4364-8262-EA82F812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DAF-D3B6-4E7A-97F6-0D9FB5F3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740-38F0-4E6E-96F2-E4FBAFE0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EE7-4369-4DE6-800F-F022FBA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A68-8EE0-4DD6-B759-488E161E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831-5743-4F9E-A94F-87E2D0A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742-AF35-4B3B-927A-7F57EB9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36D-2909-4610-852A-B00BCAE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5D0-660D-432A-ACF4-F45053F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10E4-14A8-4E3F-AB71-848498FB27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059-F711-41B5-B587-A23AA0859A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810/lenivova-elena.1af/0_744e6_b7de3a13_X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kusnodom.ru/photos/128195894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xinfang2011.com/UploadFiles/2011813914207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snyak.ru/post/post4/11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6407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лассный час «Здоровый образ жизни»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5 класс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ка-кола с успехом заменяет бытовую хими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   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2879640" cy="236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се еще хотите бутылочку Колы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Чтобы уменьшить вред от любой газировки, в том числе и от Pepsi, необходимо следовать простым правилам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ейте через трубочку, чтобы избегать контакта с бан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Ограничьтесь одним стаканом 1-2 раза в нед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Откажитесь от газировки, если страдаете ожирением, диабетом, гастритом, яз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Не давайте газировку детям до 3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то мы еди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усовые качества чипсов и сухариков достигаются за счет применения различных ароматизаторов (правда фирмы-производители почему-то называют их специями). Поэтому существуют всевозможные «чипсовые» и «сухариковые» разновидности, что называется, «на любител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поговорили с вами о неправильном питании, а теперь назовем продукты, которые полезно есть, чтобы оставаться здоровым: фрукты, овощи, рыбу, бобовые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алат, укроп,  петруш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55640" y="1483920"/>
            <a:ext cx="43419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Картинка 4 из 4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ельдер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1557360"/>
            <a:ext cx="43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опинамбур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орковь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2440" y="1904760"/>
            <a:ext cx="4352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Капус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2760" y="1904760"/>
            <a:ext cx="3862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тот овощ улучшает обмен холестерина и является сильным антиаллерген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22 из 114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24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- формировать у учащихся здоровый образ жи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век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аклажаны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71800" y="1904760"/>
            <a:ext cx="407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Картинка 9 из 5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Яблок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бладают общеукрепляющим действием. Хороши для почек, сердечно-сосудистой системы. Обмена вещест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Картинка 19 из 95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3724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Груш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36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ишня, череш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00520" y="1904760"/>
            <a:ext cx="414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щеукрепляющие фрукты, полезные при малокров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38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алин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0680" y="1904760"/>
            <a:ext cx="421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лучшает пищеварение при атеросклерозе и гипертонической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ерная смород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43080" y="1904760"/>
            <a:ext cx="4002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огата общеукрепляющим витамином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словицы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От хорошего сна … 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 – лучшее … Лека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Выспишься - … По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Выспался – будто вновь… Роди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аю ва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00712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Многие задают себе вопрос: «Как прожить, чтобы не стареть?» И себе отвечают: «Так не бывает». Каждый человек хоть чем-то, да болеет. Но почему один попадает в больницу два раза за всю жизнь, а другой чуть ли не каждый месяц? Уже давно установлено, что за здоровьем надо следить с детства.  Давайте проведем небольшое тестирование о своем здоровье, вам предлагается перечень утверждений, каждое из которых требует ответа «да» или «нет». Эта информация будет полезна, прежде всего, 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ест «Твое здоровье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 меня часто плохой аппе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сле нескольких часов работы у меня  начинает болеть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Я почти не занимаюсь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У меня часто кружится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В настоящее время я кур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У меня плохой сон и неприятные ощущения утром после пробу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Результаты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-2 бал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-6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-10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ак вы умудрились довести себя до такой степени? Удивительно, что вы еще в состоянии ходить и работать. Вам немедленно нуж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ять свои привы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правила здорового образа жизни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83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 мудро жизнь прож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надобно не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 главных правила запомни для нач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лучше голодай, чем, что попало е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лучше будь один, чем с кем поп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авила здорового образа жизн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Отсутствие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Правильное питание—основа здорового образа</a:t>
            </a:r>
            <a:r>
              <a:rPr b="1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 правильном питании снижается заболеваемость учащихся, улучшается психологическое состояние детей, поднимается настроение,  а самое главное — повышается работоспособность и интерес к учеб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Что мы пье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азированные напитки могут принести вред вашему здоровью! В них содержатся углеводы, белки, кофеин, ортофосфорная кисло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углекислый га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2:27:53Z</dcterms:created>
  <dc:creator>Admin</dc:creator>
  <dc:description/>
  <dc:language>en-US</dc:language>
  <cp:lastModifiedBy>Admin</cp:lastModifiedBy>
  <dcterms:modified xsi:type="dcterms:W3CDTF">2012-01-09T05:33:14Z</dcterms:modified>
  <cp:revision>47</cp:revision>
  <dc:subject/>
  <dc:title>Здоровый образ жизни</dc:title>
</cp:coreProperties>
</file>