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241-6932-411E-ADB6-26A85311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191-868C-42A0-A363-8103060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0E7-E74C-4E3C-BE4E-5CA8CF4F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AA4-CC33-41DC-8F83-A84DDEE6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792-7335-4347-9E91-8DC11E5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0D3-2241-4BAF-BE08-21263E87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881-A0ED-4EFD-A33B-790D9BCB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57C7-5900-4667-AD09-14061FF7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679-BE9B-4C86-8359-C2DB6C1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EDC9-422B-4495-B0C9-3BC1C00B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44D-EC23-4990-9F9E-685B630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265-B73E-422A-AA33-CD44B63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3755-1C06-43B5-8546-E3EB3CA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F03F-037C-4101-BAC1-5F73893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0F7-B0AF-4A2B-A061-B5C45E9C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BA7C-10F4-4C40-A55C-E6CC6FC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9FC4-57CF-48AF-BE1C-9C46EBF4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2D9-AF6F-4A03-9DA6-C8A56ED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958-62A6-4453-8E84-3139EEDA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808-4CF5-452E-9450-ADDE48C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D3D-83D4-484E-BA66-9960150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834-3E65-4746-BCC5-AA80FE59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7E3-68CC-41F9-B17D-3740922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49A-1D4D-4AE2-B791-348CDE2A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56B-CEF8-4866-A1D6-1AA5BD2233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4620-A7DE-49C2-838A-7C93262734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810/lenivova-elena.1af/0_744e6_b7de3a13_X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kusnodom.ru/photos/128195894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xinfang2011.com/UploadFiles/2011813914207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snyak.ru/post/post4/11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6407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лассный час «Здоровый образ жизни»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5 класс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ка-кола с успехом заменяет бытовую хими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   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2879640" cy="236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се еще хотите бутылочку Колы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Чтобы уменьшить вред от любой газировки, в том числе и от Pepsi, необходимо следовать простым правилам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ейте через трубочку, чтобы избегать контакта с бан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Ограничьтесь одним стаканом 1-2 раза в нед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Откажитесь от газировки, если страдаете ожирением, диабетом, гастритом, яз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Не давайте газировку детям до 3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то мы еди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усовые качества чипсов и сухариков достигаются за счет применения различных ароматизаторов (правда фирмы-производители почему-то называют их специями). Поэтому существуют всевозможные «чипсовые» и «сухариковые» разновидности, что называется, «на любител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поговорили с вами о неправильном питании, а теперь назовем продукты, которые полезно есть, чтобы оставаться здоровым: фрукты, овощи, рыбу, бобовые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алат, укроп,  петруш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55640" y="1483920"/>
            <a:ext cx="43419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Картинка 4 из 4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ельдер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1557360"/>
            <a:ext cx="43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опинамбур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орковь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2440" y="1904760"/>
            <a:ext cx="4352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Капус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2760" y="1904760"/>
            <a:ext cx="3862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тот овощ улучшает обмен холестерина и является сильным антиаллерген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22 из 114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24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- формировать у учащихся здоровый образ жи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век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аклажаны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71800" y="1904760"/>
            <a:ext cx="407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Картинка 9 из 5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Яблок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бладают общеукрепляющим действием. Хороши для почек, сердечно-сосудистой системы. Обмена вещест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Картинка 19 из 95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3724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Груш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36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ишня, череш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00520" y="1904760"/>
            <a:ext cx="414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щеукрепляющие фрукты, полезные при малокров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38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алин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0680" y="1904760"/>
            <a:ext cx="421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лучшает пищеварение при атеросклерозе и гипертонической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ерная смород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43080" y="1904760"/>
            <a:ext cx="4002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огата общеукрепляющим витамином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словицы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От хорошего сна … 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 – лучшее … Лека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Выспишься - … По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Выспался – будто вновь… Роди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аю ва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00712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Многие задают себе вопрос: «Как прожить, чтобы не стареть?» И себе отвечают: «Так не бывает». Каждый человек хоть чем-то, да болеет. Но почему один попадает в больницу два раза за всю жизнь, а другой чуть ли не каждый месяц? Уже давно установлено, что за здоровьем надо следить с детства.  Давайте проведем небольшое тестирование о своем здоровье, вам предлагается перечень утверждений, каждое из которых требует ответа «да» или «нет». Эта информация будет полезна, прежде всего, 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ест «Твое здоровье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 меня часто плохой аппе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сле нескольких часов работы у меня  начинает болеть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Я почти не занимаюсь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У меня часто кружится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В настоящее время я кур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У меня плохой сон и неприятные ощущения утром после пробу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Результаты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-2 бал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-6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-10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ак вы умудрились довести себя до такой степени? Удивительно, что вы еще в состоянии ходить и работать. Вам немедленно нуж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ять свои привы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правила здорового образа жизни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83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 мудро жизнь прож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надобно не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 главных правила запомни для нач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лучше голодай, чем, что попало е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лучше будь один, чем с кем поп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авила здорового образа жизн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Отсутствие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Правильное питание—основа здорового образа</a:t>
            </a:r>
            <a:r>
              <a:rPr b="1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 правильном питании снижается заболеваемость учащихся, улучшается психологическое состояние детей, поднимается настроение,  а самое главное — повышается работоспособность и интерес к учеб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Что мы пье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азированные напитки могут принести вред вашему здоровью! В них содержатся углеводы, белки, кофеин, ортофосфорная кисло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углекислый га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2:27:53Z</dcterms:created>
  <dc:creator>Admin</dc:creator>
  <dc:description/>
  <dc:language>en-US</dc:language>
  <cp:lastModifiedBy>Admin</cp:lastModifiedBy>
  <dcterms:modified xsi:type="dcterms:W3CDTF">2012-01-09T05:33:14Z</dcterms:modified>
  <cp:revision>47</cp:revision>
  <dc:subject/>
  <dc:title>Здоровый образ жизни</dc:title>
</cp:coreProperties>
</file>