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38B-E5BD-4C3A-A0B9-695E8319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5A1-0637-4CAE-A39C-E1293804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64F-A706-4B23-906D-93FF4F78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F38-4254-4A45-87A8-38D63382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E1A0-30F9-4CC3-B33B-A26DBA89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A533-5B99-44ED-BB12-BE85D09B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123D-3DF5-47E6-BCB4-8035BF45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033B-7F8E-47DA-BD54-376461EE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28F2-3B12-4B31-B7E5-CCFA8343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5A6E-C5C7-463B-9D49-CB68A476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18F2-7089-406E-A19B-82144A11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A70-EF17-4B3E-A4D6-6BF884D2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1054-65F2-4B04-968D-2F8F25C2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C66D-CA56-494C-A834-4BA67B3F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AE5B-0167-4A97-B9EB-174D3241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08F1-A8A4-491F-A675-B556B131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DD5E-B8AE-44AF-AF2B-5A2EFB9E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6ED-9A73-4DF3-B698-8F9FF50B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4A52-F824-489F-B0C8-BBBB6DFF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38F-BB62-4F48-AF61-37707CDC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F43-3304-4A3E-B6DA-E3D41309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3A2-2F1C-4C2D-A674-CED19112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3D4-F80D-4326-8A48-1617DEBA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D84-5950-482F-90D6-99952C13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2147-858F-4C45-8FDC-0F2EAFBB5E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F7BD-8520-4C1B-BBA3-883F236207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4810/lenivova-elena.1af/0_744e6_b7de3a13_XL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kusnodom.ru/photos/1281958946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xinfang2011.com/UploadFiles/201181391420793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isnyak.ru/post/post4/11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6407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Классный час «Здоровый образ жизни»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5 класс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836280"/>
            <a:ext cx="8007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ока-кола с успехом заменяет бытовую химию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           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2879640" cy="2365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19640" y="3933720"/>
            <a:ext cx="29527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Все еще хотите бутылочку Колы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Чтобы уменьшить вред от любой газировки, в том числе и от Pepsi, необходимо следовать простым правилам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Пейте ее холодной. Разрушение эмали зубов зависит и от температуры напитка. В Америке газировки пьют больше, чем в Европе, но ее всегда подают со льдом, и повреждений зубов у американских детей ме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Пейте через трубочку, чтобы избегать контакта с банк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Ограничьтесь одним стаканом 1-2 раза в неде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Откажитесь от газировки, если страдаете ожирением, диабетом, гастритом, язв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Не давайте газировку детям до 3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Ч</a:t>
            </a: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то мы едим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кусовые качества чипсов и сухариков достигаются за счет применения различных ароматизаторов (правда фирмы-производители почему-то называют их специями). Поэтому существуют всевозможные «чипсовые» и «сухариковые» разновидности, что называется, «на любителя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ы поговорили с вами о неправильном питании, а теперь назовем продукты, которые полезно есть, чтобы оставаться здоровым: фрукты, овощи, рыбу, бобовые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Салат, укроп,  петрушк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55640" y="1483920"/>
            <a:ext cx="434196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Зелень – хорошая профилактика инфаркта, улучшает водный баланс, благотворно влияет при малокровии, авитаминоз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Картинка 4 из 47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41360"/>
            <a:ext cx="3456000" cy="244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60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Сельдерей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1557360"/>
            <a:ext cx="4319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ревние греки и римляне не обходились без него ни в будни, ни в праздники. Высокие пищевые и целебные достоинства этого растения определяют более чем сорок вкусовых, витаминных и биологически активных веществ. Исследования американских ученых показали, что корни этого растения – идеальное средство для снижения артериального д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456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Топинамбур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 клубнях этого растения витаминов С и В вдвое, а солей железа втрое больше, чем в картофель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собенно полезно это растение для больных диабетом, страдающих малокровием, нарушениями обмена веществ и желудочными заболеван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6716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Морковь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92440" y="1904760"/>
            <a:ext cx="4352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потребление этого овоща очень полезно для зрения и для профилактики раковых заболеваний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960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Капус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82760" y="1904760"/>
            <a:ext cx="3862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Этот овощ улучшает обмен холестерина и является сильным антиаллерген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Картинка 22 из 114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42480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Цель - формировать у учащихся здоровый образ жиз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Свек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А этот овощ улучшает работу кишечника, снижает артериальное давление. Наличие йода в этом корнеплоде делает ее ценным для профилактики заболевания щитовидной железы и укрепления иммунитета. Обеспечивает организм фосфором, калием, кальцием, натрием и хло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81636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Баклажаны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71800" y="1904760"/>
            <a:ext cx="407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Этот овощ малокалориен, зато в нем много фолиевой кислоты, а это значит, что он ускоряет вывод из организма холестерина, избытка воды и поваренной соли, усиливает способность инсулина понижать уровень сахара и способствует процессу образования эритроцитов в кро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Картинка 9 из 53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916280"/>
            <a:ext cx="417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Яблок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11480" y="1904760"/>
            <a:ext cx="3933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бладают общеукрепляющим действием. Хороши для почек, сердечно-сосудистой системы. Обмена веществ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Картинка 19 из 957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700280"/>
            <a:ext cx="3724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Груш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40360" y="1557360"/>
            <a:ext cx="453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овышают прочность капиллярных сосудов, оказывают противосклеротическое действие, способствует выведению из организма воды и поваренной со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5272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Вишня, черешн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700520" y="1904760"/>
            <a:ext cx="4145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бщеукрепляющие фрукты, полезные при малокров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33829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Малин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30680" y="1904760"/>
            <a:ext cx="4214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лучшает пищеварение при атеросклерозе и гипертонической боле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2951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Черная смород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843080" y="1904760"/>
            <a:ext cx="4002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Богата общеукрепляющим витамином 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672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Со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он очень положительно влияет на организм человека. Много споров вокруг того, сколько же надо спать человеку? Раньше утверждалось, что ребенок - 10-12 часов, подросток – 9-10 часов, взрослый – 8 часов. Сейчас многие приходят к мнению, что это все индивидуально, некоторым нужно побольше, некоторым поменьше. Но главное – человек не должен чувствовать усталость после сна и быть бодрым весь ден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ословицы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. От хорошего сна … Молоде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. Сон – лучшее … Лекар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. Выспишься - … Помолоде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4. Выспался – будто вновь… Родил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Желаю ва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огда не боле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ьно питатьс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ыть бодр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шить добрые д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общем, вести здоровый образ жизн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4360" y="404280"/>
            <a:ext cx="800712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Многие задают себе вопрос: «Как прожить, чтобы не стареть?» И себе отвечают: «Так не бывает». Каждый человек хоть чем-то, да болеет. Но почему один попадает в больницу два раза за всю жизнь, а другой чуть ли не каждый месяц? Уже давно установлено, что за здоровьем надо следить с детства.  Давайте проведем небольшое тестирование о своем здоровье, вам предлагается перечень утверждений, каждое из которых требует ответа «да» или «нет». Эта информация будет полезна, прежде всего, в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Тест «Твое здоровье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946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У меня часто плохой аппе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После нескольких часов работы у меня  начинает болеть го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Часто выгляжу усталым и подавленным, иногда раздраженным и угрюм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Периодически у меня бывают серьезные заболевания, когда я вынужден несколько дней оставаться в пос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Я почти не занимаюсь спор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В последнее время я несколько прибавил в ве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У меня часто кружится го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 В настоящее время я кур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 В детстве я перенес несколько серьезных заболев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 У меня плохой сон и неприятные ощущения утром после пробужд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Результаты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484280"/>
            <a:ext cx="8007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-2 балл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есмотря на некоторые признаки ухудшения здоровья, вы в хорошей форме. Ни в коем случае не оставляйте усилий по сохранению своего самочув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-6 баллов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аше отношение к своему здоровью трудно назвать нормальным, уже чувствуется, что вы его расстроили довольно основатель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-10 баллов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ак вы умудрились довести себя до такой степени? Удивительно, что вы еще в состоянии ходить и работать. Вам немедленно нужн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ять свои привыч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сновные правила здорового образа жизни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83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б мудро жизнь прожи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ть надобно нема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а главных правила запомни для начал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ы лучше голодай, чем, что попало ес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лучше будь один, чем с кем попа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равила здорового образа жизн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. Правильное пит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. Сон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. Активная деятельность и активный отды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4. Отсутствие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b7"/>
                </a:solidFill>
                <a:uFillTx/>
                <a:latin typeface="Arial Black"/>
              </a:rPr>
              <a:t>Правильное питание—основа здорового образа</a:t>
            </a:r>
            <a:r>
              <a:rPr b="1" i="1" lang="en-US" sz="4000" spc="-1" strike="noStrike" u="sng">
                <a:solidFill>
                  <a:srgbClr val="ffffb7"/>
                </a:solidFill>
                <a:uFillTx/>
                <a:latin typeface="Arial Black"/>
              </a:rPr>
              <a:t>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 правильном питании снижается заболеваемость учащихся, улучшается психологическое состояние детей, поднимается настроение,  а самое главное — повышается работоспособность и интерес к учебной деятельно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Что мы пьем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азированные напитки могут принести вред вашему здоровью! В них содержатся углеводы, белки, кофеин, ортофосфорная кислот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углекислый га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2:27:53Z</dcterms:created>
  <dc:creator>Admin</dc:creator>
  <dc:description/>
  <dc:language>en-US</dc:language>
  <cp:lastModifiedBy>Admin</cp:lastModifiedBy>
  <dcterms:modified xsi:type="dcterms:W3CDTF">2012-01-09T05:33:14Z</dcterms:modified>
  <cp:revision>47</cp:revision>
  <dc:subject/>
  <dc:title>Здоровый образ жизни</dc:title>
</cp:coreProperties>
</file>