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BB9-C0A4-4039-8C47-036D029A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7F0-D7C9-4AF4-A33C-3311159B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8DD-82F7-4942-B87A-890F176E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3A6-58ED-4074-AAB3-4EEE7D19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B0F-B414-493A-9586-D04753AC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5E5-ADF0-4165-88D1-8B24CAED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1FB-A2B2-4979-A183-152FC95C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158-7EF6-4E42-8038-F19BB0E8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C81-B0B6-47E4-8FC6-AAD81DCD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E79-CEED-4354-A21C-D08B2367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917-C8A7-4D56-8376-18103B17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66B-899C-484D-9155-523F667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41DE-1A29-4FA6-B0B0-53266BBB8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ред мобильных телефон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73880" cy="4822920"/>
          </a:xfrm>
          <a:prstGeom prst="rect">
            <a:avLst/>
          </a:prstGeom>
          <a:ln w="17784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от что надо знать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Детям младше 16 лет, а также беременным женщинам лучше вообще не пользоваться сотовой связ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дин разговор не должен длиться больше трех минут, перерыв между звонками - не меньше 15 мину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Лучше использовать гарнитуру "хэндс фри" или писать SMS. Когда мы держим трубку рядом с ухом, голова и телефон образуют единую электромагнитную систему, воздействие на мозг очень сильное. А кора головного мозга - это орган, который особенно остро реагирует на электромагнитные поля. Если телефон в руках, на ремне или в сумочке - влияние излучения от мобильного снижается многокра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18000"/>
          </a:blip>
          <a:srcRect l="33676" t="32251" r="25186" b="29870"/>
          <a:stretch/>
        </p:blipFill>
        <p:spPr>
          <a:xfrm>
            <a:off x="412920" y="1573200"/>
            <a:ext cx="3462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ш Минздрав еще в июле 2003 года выпустил гигиенические требования, в которых рекомендуется ограничить использование сотовых телефонов лицами, не достигшими 18 ле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Это единственный юридический документ, который у нас сейчас действует. Жаль только, что проконтролировать его выполнение и уж тем более запретить детям звонить по мобильным невозможно, - комментирует Олег ГРИГОРЬЕВ, директор Центра электромагнитной безопасности, зам. председателя Российского национального комитета по защите от неионизирующих излучений. - Наш комитет предлагал писать на коробках для сотовых телефонов такое же предупреждение о возможном вреде для здоровья, как на пачках сигарет. Нас не услышали. Сейчас, кажется, проблему начинают осозна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906560" y="1339920"/>
            <a:ext cx="6696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дставить мир без мобильной связи уже невозможно. По данным Ассоциации производителей систем сотовых телекоммуникаций, число абонентов мобильной связи ежедневно увеличивается на 46 тыс. человек и к 2010 году превысит 1,25 млрд. В России число абонентов приближается к 22 миллиона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584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вышесказанного можно сделать вывод, что если не знать, как правильно пользоваться мобильным телефонам, то можно основательно испортить свое здоров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тому темой нашей работы с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«Изучение вреда мобильных телефонов на здоровье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Цель работ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азать вред мобильных телефонов на здоровье человек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ать рекомендации для безопасного применения мобильных телефонов в повседневной жизн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вред мобильных телефо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ь и проанализировать научную литературу по данной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сти эксперимент, отражающий влияние мобильных телефонов на здоровье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ть алгоритм для правильного применения мобильных телефонов в повседневной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редные новинки ХХ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слышали о том, как неблагоприятно могут сказаться на здоровье телевизоры, компьютеры и микроволновые печи. Но в последнее время к этим приборам добавилась еще одна технонови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овый телефон. Что нужно знать  человеку, чтобы жить в ногу со временем и без вреда для здоров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41720" y="1413000"/>
            <a:ext cx="4202280" cy="237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4437000"/>
            <a:ext cx="41403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пряжение иммунн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53290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льзователи сотовой связи чаще других жалуются на головные боли, сонливость, становятся раздражительными. Все эти признаки характерны для вегето-сосудистой дистонии. Кроме того, под воздействием электромагнитных полей, которые генерирует сотовый телефон, в организме возникает так называемая реакция напряжения иммунной систем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 Америке в начале 90-х годов был выигран весьма необычный процесс. Адвокатам удалось доказать, что причиной смерти женщины, страдавшей от опухоли головного мозга, было именно использование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</a:rPr>
              <a:t>мобильного телефона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66364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3.4104E-006 C -0.00017 -0.00532 -0.0026 -0.24832 -0.00312 -0.21757 C -0.00364 -0.18682 -0.00331 0.17873 -0.00312 0.18405 C -0.00295 0.18936 -0.00191 -0.15376 -0.00156 -0.1859 C -0.00121 -0.21803 0.00018 0.00532 -7.5E-006 3.4104E-006 Z">
                                      <p:cBhvr>
                                        <p:cTn id="53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Берегите голову!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5867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бильный телефон в момент работы находится в непосредственной близости от мозга и глаз. Волны радиочастотного диапазона, которые генерирует трубка, поглощаются тканями головы, в частности, тканями мозга, сетчаткой глаза, структурами зрительного, вестибулярного и слухового анализаторов, причем излучение действует как непосредственно на отдельные органы и структуры, так и опосредованно, через проводник, на нервную систему». Ученые доказали, что, проникая в ткани, электромагнитные волны, вызывают их нагревание. Со временем это неблагоприятно сказывается на функционировании всего организма, в частности, на работе нервной, сердечно-сосудистой, а также эндокринной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0760" y="1700280"/>
            <a:ext cx="2771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обильный телефон не дает выспаться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48316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же самый обыкновенный неработающий мобильный телефон, если он просто лежит рядом с вашей кроватью, может помешать вам выспаться. Дело в том, что излучение мобильного телефона даже в неактивном состоянии негативно воздействует на нервную систему, нарушая нормальное чередование фаз с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мнению специалистов, электромагнитное излучение с частотой 900 мегагерц, создаваемое современным сотовым телефоном, может интерферировать с естественным излучением, создаваемым живыми клетками (частота которого тоже находится в диапазоне 800-1,000 мегагерц). Следовательно, это излучение может вызвать определенные сбои в работе нервных центров, регулирующих функции организма — например, чередование сна и бодрствования или чередование фаз быстрого и медленного с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4293" r="0" b="10181"/>
          <a:stretch/>
        </p:blipFill>
        <p:spPr>
          <a:xfrm>
            <a:off x="6443640" y="2349360"/>
            <a:ext cx="21542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отовая связь вредна для детей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48000" y="1197000"/>
            <a:ext cx="5338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ачи  утверждают, что причина - в электромагнитном излучении малой интенсивности, которое способно проникать в менее массивный и более тонкий череп ребенка. Это излучение влияет на мозговые ритмы, может нанести вред иммунной системе ребенка, которая находится в процессе развития. Эффект электромагнитного излучения подобен помехам на радио, излучение нарушает стабильность клеток организма, нарушает работу нервной системы, вызывая головные боли, потерю памяти и расстройства сна. Уже есть исследования о влиянии разговоров по мобильному на работу мозга, развитие опухоли слухового нерва и заболеваний уха. Особенно вредно влияние сотовой связи для подрастающего организма. Чем ребенок меньше - тем выше опас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09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ми был проведен эксперимент вреда мобильных телефонов на здоровье человека. Опросив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ладельцев мобильных телефонов мы обнаружили, что люди которые используют телефон больш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-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нут в день, испытывают дискомфорт и побочные эффе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4% опроше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чувствовали нагревания кожи за ухом при разговоре с мобильным телефоном, а некоторые утверждали, что у них наблюдаются ож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проше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случались провалы в памяти, головокружение, головная боль и повышенная утомляе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ся остальная часть опрошенных людей испытывала сонливость, ухудшение зрения, вни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0:31:40Z</dcterms:created>
  <dc:creator>Валера</dc:creator>
  <dc:description/>
  <dc:language>en-US</dc:language>
  <cp:lastModifiedBy>учитель</cp:lastModifiedBy>
  <dcterms:modified xsi:type="dcterms:W3CDTF">2010-02-05T06:05:53Z</dcterms:modified>
  <cp:revision>21</cp:revision>
  <dc:subject/>
  <dc:title>Вред мобильных телефонов </dc:title>
</cp:coreProperties>
</file>