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D220-907C-46EF-A4A8-72B0327B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B0AC-9837-42B2-9843-4E9002E1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D584-0B1E-4C81-B21F-732B81E5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0FC4-11E1-433A-B29C-F66C0A9A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714-29C0-4D89-9507-2A588832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B5F4-A0E9-4196-AD89-7295FBC9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E60E-F13D-468D-8EEF-4107CFD1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E5E-D81D-4081-94DC-A0E72C7C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169E-FC46-4297-8FDD-6B906369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9FE8-25C2-487C-A2EC-6F602A00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149C-04BD-4546-9D43-D0F2524B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83A0-CE93-4913-AD18-50812C72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B6FE-0AB6-4DF4-8A6D-AB008A68B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Вред мобильных телефон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473880" cy="4822920"/>
          </a:xfrm>
          <a:prstGeom prst="rect">
            <a:avLst/>
          </a:prstGeom>
          <a:ln w="17784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Вот что надо знать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Детям младше 16 лет, а также беременным женщинам лучше вообще не пользоваться сотовой связ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Один разговор не должен длиться больше трех минут, перерыв между звонками - не меньше 15 мину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Лучше использовать гарнитуру "хэндс фри" или писать SMS. Когда мы держим трубку рядом с ухом, голова и телефон образуют единую электромагнитную систему, воздействие на мозг очень сильное. А кора головного мозга - это орган, который особенно остро реагирует на электромагнитные поля. Если телефон в руках, на ремне или в сумочке - влияние излучения от мобильного снижается многокра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lum contrast="18000"/>
          </a:blip>
          <a:srcRect l="33676" t="32251" r="25186" b="29870"/>
          <a:stretch/>
        </p:blipFill>
        <p:spPr>
          <a:xfrm>
            <a:off x="412920" y="1573200"/>
            <a:ext cx="34621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57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ш Минздрав еще в июле 2003 года выпустил гигиенические требования, в которых рекомендуется ограничить использование сотовых телефонов лицами, не достигшими 18 лет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Это единственный юридический документ, который у нас сейчас действует. Жаль только, что проконтролировать его выполнение и уж тем более запретить детям звонить по мобильным невозможно, - комментирует Олег ГРИГОРЬЕВ, директор Центра электромагнитной безопасности, зам. председателя Российского национального комитета по защите от неионизирующих излучений. - Наш комитет предлагал писать на коробках для сотовых телефонов такое же предупреждение о возможном вреде для здоровья, как на пачках сигарет. Нас не услышали. Сейчас, кажется, проблему начинают осозна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906560" y="1339920"/>
            <a:ext cx="6696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дставить мир без мобильной связи уже невозможно. По данным Ассоциации производителей систем сотовых телекоммуникаций, число абонентов мобильной связи ежедневно увеличивается на 46 тыс. человек и к 2010 году превысит 1,25 млрд. В России число абонентов приближается к 22 миллионам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15843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Вве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вышесказанного можно сделать вывод, что если не знать, как правильно пользоваться мобильным телефонам, то можно основательно испортить свое здоровь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этому темой нашей работы ст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«Изучение вреда мобильных телефонов на здоровье чело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Цель работ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казать вред мобильных телефонов на здоровье человека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дать рекомендации для безопасного применения мобильных телефонов в повседневной жизни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едмет исследования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вред мобильных телефо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учить и проанализировать научную литературу по данной те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сти эксперимент, отражающий влияние мобильных телефонов на здоровье чело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аботать алгоритм для правильного применения мобильных телефонов в повседневной жизни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редные новинки ХХI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е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280" y="981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ие слышали о том, как неблагоприятно могут сказаться на здоровье телевизоры, компьютеры и микроволновые печи. Но в последнее время к этим приборам добавилась еще одна техноновин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товый телефон. Что нужно знать  человеку, чтобы жить в ногу со временем и без вреда для здоровь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41720" y="1413000"/>
            <a:ext cx="4202280" cy="2373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03640" y="4437000"/>
            <a:ext cx="41403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Напряжение иммун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532908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Пользователи сотовой связи чаще других жалуются на головные боли, сонливость, становятся раздражительными. Все эти признаки характерны для вегето-сосудистой дистонии. Кроме того, под воздействием электромагнитных полей, которые генерирует сотовый телефон, в организме возникает так называемая реакция напряжения иммунной систем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В Америке в начале 90-х годов был выигран весьма необычный процесс. Адвокатам удалось доказать, что причиной смерти женщины, страдавшей от опухоли головного мозга, было именно использование </a:t>
            </a:r>
            <a:r>
              <a:rPr b="1" lang="ru-RU" sz="2100" spc="-1" strike="noStrike" u="sng">
                <a:solidFill>
                  <a:srgbClr val="ff0000"/>
                </a:solidFill>
                <a:uFillTx/>
                <a:latin typeface="Times New Roman"/>
              </a:rPr>
              <a:t>мобильного телефона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12000" y="1916280"/>
            <a:ext cx="266364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3.4104E-006 C -0.00017 -0.00532 -0.0026 -0.24832 -0.00312 -0.21757 C -0.00364 -0.18682 -0.00331 0.17873 -0.00312 0.18405 C -0.00295 0.18936 -0.00191 -0.15376 -0.00156 -0.1859 C -0.00121 -0.21803 0.00018 0.00532 -7.5E-006 3.4104E-006 Z">
                                      <p:cBhvr>
                                        <p:cTn id="53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Берегите голову!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5867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бильный телефон в момент работы находится в непосредственной близости от мозга и глаз. Волны радиочастотного диапазона, которые генерирует трубка, поглощаются тканями головы, в частности, тканями мозга, сетчаткой глаза, структурами зрительного, вестибулярного и слухового анализаторов, причем излучение действует как непосредственно на отдельные органы и структуры, так и опосредованно, через проводник, на нервную систему». Ученые доказали, что, проникая в ткани, электромагнитные волны, вызывают их нагревание. Со временем это неблагоприятно сказывается на функционировании всего организма, в частности, на работе нервной, сердечно-сосудистой, а также эндокринной сис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70760" y="1700280"/>
            <a:ext cx="27716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обильный телефон не дает выспаться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56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же самый обыкновенный неработающий мобильный телефон, если он просто лежит рядом с вашей кроватью, может помешать вам выспаться. Дело в том, что излучение мобильного телефона даже в неактивном состоянии негативно воздействует на нервную систему, нарушая нормальное чередование фаз с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мнению специалистов, электромагнитное излучение с частотой 900 мегагерц, создаваемое современным сотовым телефоном, может интерферировать с естественным излучением, создаваемым живыми клетками (частота которого тоже находится в диапазоне 800-1,000 мегагерц). Следовательно, это излучение может вызвать определенные сбои в работе нервных центров, регулирующих функции организма — например, чередование сна и бодрствования или чередование фаз быстрого и медленного с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4293" r="0" b="10181"/>
          <a:stretch/>
        </p:blipFill>
        <p:spPr>
          <a:xfrm>
            <a:off x="6443640" y="2349360"/>
            <a:ext cx="21542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Сотовая связь вредна для детей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48000" y="1197000"/>
            <a:ext cx="53388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ачи  утверждают, что причина - в электромагнитном излучении малой интенсивности, которое способно проникать в менее массивный и более тонкий череп ребенка. Это излучение влияет на мозговые ритмы, может нанести вред иммунной системе ребенка, которая находится в процессе развития. Эффект электромагнитного излучения подобен помехам на радио, излучение нарушает стабильность клеток организма, нарушает работу нервной системы, вызывая головные боли, потерю памяти и расстройства сна. Уже есть исследования о влиянии разговоров по мобильному на работу мозга, развитие опухоли слухового нерва и заболеваний уха. Особенно вредно влияние сотовой связи для подрастающего организма. Чем ребенок меньше - тем выше опас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2097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Экспери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35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ми был проведен эксперимент вреда мобильных телефонов на здоровье человека. Опросив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ладельцев мобильных телефонов мы обнаружили, что люди которые используют телефон больше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-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инут в день, испытывают дискомфорт и побочные эффек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4% опрошен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чувствовали нагревания кожи за ухом при разговоре с мобильным телефоном, а некоторые утверждали, что у них наблюдаются ож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опрошен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случались провалы в памяти, головокружение, головная боль и повышенная утомляе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вся остальная часть опрошенных людей испытывала сонливость, ухудшение зрения, вним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0:31:40Z</dcterms:created>
  <dc:creator>Валера</dc:creator>
  <dc:description/>
  <dc:language>en-US</dc:language>
  <cp:lastModifiedBy>учитель</cp:lastModifiedBy>
  <dcterms:modified xsi:type="dcterms:W3CDTF">2010-02-05T06:05:53Z</dcterms:modified>
  <cp:revision>21</cp:revision>
  <dc:subject/>
  <dc:title>Вред мобильных телефонов </dc:title>
</cp:coreProperties>
</file>