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51D2-5BA8-477B-8B82-610C2C637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E484-CED8-47AE-9F68-4E509AA36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C852-9DB3-47B9-87A7-746BE13F2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CD99-B60E-4B44-9363-7694E3967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01D51-C0FC-4C59-994A-3EBB096A0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C5609-F5AB-4458-8F53-B7F3C8E6E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1889A-1438-4089-B141-6663264A9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E14B0-EF1E-4DB1-A4F9-AB8C5BC7E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4340D-333A-47AB-8048-2EEF2C05D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018CB-848D-4B91-8750-B04946D33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2FFFF-863D-440E-B664-0F4114AE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44C2-EB19-468A-B926-67CF9D11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368B9-6371-4C95-B452-874A032A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3EBE5-7F15-4182-BB99-14B07795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E5685-25BC-4647-9B04-4AE43B675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56E19-AA18-4D5E-A0F1-40BFB56AE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5007A-D0EA-49AC-8341-B5991D53D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C06C-4D4E-42B5-88B8-78B970A37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326D-5D25-4246-8EE9-1DA13C5CD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5A16-E248-4AFE-AA08-CA4213E85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9B44-399F-4110-B3EA-601A98798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8C70-5113-4D3A-AE40-0A820354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E3C3-7368-4BA3-975C-B6871E1AD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E7F3-1DB7-4B41-B77F-FD9D5524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A370D-03C5-4B4A-9708-F4399065897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6B468-CBFD-4358-A499-DD326AA22AF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03280" y="191628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Возведение в степень произведения и степени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476000" y="436536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7 клас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4"/>
          <p:cNvSpPr txBox="1"/>
          <p:nvPr/>
        </p:nvSpPr>
        <p:spPr>
          <a:xfrm>
            <a:off x="609480" y="1676520"/>
            <a:ext cx="807732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9449"/>
                <a:gd name="adj2" fmla="val 7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Гимнастика для глаз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7" name="Picture 5" descr="glaz"/>
          <p:cNvPicPr/>
          <p:nvPr/>
        </p:nvPicPr>
        <p:blipFill>
          <a:blip r:embed="rId1"/>
          <a:stretch/>
        </p:blipFill>
        <p:spPr>
          <a:xfrm>
            <a:off x="6477120" y="4343400"/>
            <a:ext cx="22096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58"/>
          <p:cNvPicPr/>
          <p:nvPr/>
        </p:nvPicPr>
        <p:blipFill>
          <a:blip r:embed="rId1"/>
          <a:stretch/>
        </p:blipFill>
        <p:spPr>
          <a:xfrm>
            <a:off x="3200400" y="2666880"/>
            <a:ext cx="87624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368 0.07817 C 0.55208 -0.18663 0.36996 -0.41651 0.12621 -0.43154 C -0.1066 -0.45097 -0.32396 -0.27428 -0.33854 -0.01642 C -0.35625 0.22017 -0.204 0.44242 0.01423 0.45814 C 0.21319 0.4704 0.40243 0.32355 0.41718 0.10199 C 0.43159 -0.09967 0.30434 -0.28931 0.11961 -0.3055 C -0.05174 -0.31753 -0.21181 -0.19426 -0.2224 -0.00925 C -0.23316 0.15726 -0.1316 0.31915 0.021 0.32771 C 0.15937 0.33927 0.28993 0.24445 0.30121 0.09413 C 0.30781 -0.0407 0.23142 -0.1709 0.11163 -0.17854 C 0.00642 -0.18663 -0.09896 -0.11471 -0.1066 -0.00046 C -0.11354 0.09852 -0.05903 0.19311 0.0283 0.20097 C 0.10121 0.20907 0.17743 0.16559 0.18125 0.08673 C 0.18802 0.02313 0.15937 -0.04463 0.10503 -0.05249 C 0.06093 -0.05249 0.01701 -0.03677 0.01041 0.00671 C 0.00642 0.03539 0.01423 0.06245 0.03541 0.07447 C 0.04635 0.07817 0.05399 0.07817 0.06475 0.07447 E">
                                      <p:cBhvr>
                                        <p:cTn id="117" dur="5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42"/>
          <p:cNvPicPr/>
          <p:nvPr/>
        </p:nvPicPr>
        <p:blipFill>
          <a:blip r:embed="rId1"/>
          <a:stretch/>
        </p:blipFill>
        <p:spPr>
          <a:xfrm>
            <a:off x="228600" y="609480"/>
            <a:ext cx="131436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path" presetID="2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0.12073 C 5E-006 0.01157 0.08872 -0.07724 0.19775 -0.07724 L 0.65521 -0.07724 C 0.76424 -0.07724 0.85313 0.01157 0.85313 0.12073 L 0.85313 0.57123 C 0.85313 0.68085 0.76424 0.7729 0.65521 0.7729 L 0.19775 0.7729 C 0.08872 0.7729 5E-006 0.68085 5E-006 0.57123 Z">
                                      <p:cBhvr>
                                        <p:cTn id="123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blbird"/>
          <p:cNvPicPr/>
          <p:nvPr/>
        </p:nvPicPr>
        <p:blipFill>
          <a:blip r:embed="rId1"/>
          <a:stretch/>
        </p:blipFill>
        <p:spPr>
          <a:xfrm>
            <a:off x="0" y="1523880"/>
            <a:ext cx="104760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path" presetID="6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04 0.18756 C 0.00799 0.38252 0.02587 0.65634 0.09202 0.65172 C 0.18698 0.65172 0.19358 -0.26225 0.30677 -0.26503 C 0.40903 -0.26503 0.35452 0.53308 0.45295 0.53053 C 0.55538 0.53053 0.5 -0.04926 0.60972 -0.04926 C 0.70799 -0.04926 0.65365 0.34205 0.74115 0.34205 C 0.82518 0.34205 0.7816 0.04302 0.85834 0.04302 C 0.90209 0.04302 0.90521 0.12489 0.90938 0.18756 E">
                                      <p:cBhvr>
                                        <p:cTn id="129" dur="3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Monotype Corsiva"/>
              </a:rPr>
              <a:t>Повтори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…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Monotype Corsiva"/>
              </a:rPr>
              <a:t>Определ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ля любого числа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и произвольных натуральных чисел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7276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Comic Sans MS"/>
              </a:rPr>
              <a:t>(</a:t>
            </a:r>
            <a:r>
              <a:rPr b="0" i="1" lang="ru-RU" sz="66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i="1" lang="en-US" sz="6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i="1" lang="en-US" sz="6600" spc="-1" strike="noStrike" baseline="30000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ru-RU" sz="6600" spc="-1" strike="noStrike">
                <a:solidFill>
                  <a:srgbClr val="ff0000"/>
                </a:solidFill>
                <a:latin typeface="Comic Sans MS"/>
              </a:rPr>
              <a:t>)</a:t>
            </a:r>
            <a:r>
              <a:rPr b="0" i="1" lang="en-US" sz="6600" spc="-1" strike="noStrike" baseline="30000">
                <a:solidFill>
                  <a:srgbClr val="ff0000"/>
                </a:solidFill>
                <a:latin typeface="Comic Sans MS"/>
              </a:rPr>
              <a:t>n</a:t>
            </a:r>
            <a:r>
              <a:rPr b="0" lang="ru-RU" sz="6600" spc="-1" strike="noStrike">
                <a:solidFill>
                  <a:srgbClr val="ff0000"/>
                </a:solidFill>
                <a:latin typeface="Comic Sans MS"/>
              </a:rPr>
              <a:t> =</a:t>
            </a:r>
            <a:r>
              <a:rPr b="0" i="1" lang="ru-RU" sz="6600" spc="-1" strike="noStrike">
                <a:solidFill>
                  <a:srgbClr val="ff0000"/>
                </a:solidFill>
                <a:latin typeface="Comic Sans MS"/>
              </a:rPr>
              <a:t> a</a:t>
            </a:r>
            <a:r>
              <a:rPr b="0" i="1" lang="en-US" sz="6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i="1" lang="en-US" sz="6600" spc="-1" strike="noStrike" baseline="30000">
                <a:solidFill>
                  <a:srgbClr val="ff0000"/>
                </a:solidFill>
                <a:latin typeface="Comic Sans MS"/>
              </a:rPr>
              <a:t>mn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marL="57276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основание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оставляют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 тем же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показатели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перемножаю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727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ешение упражнений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438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I вариант – 1-ая стр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II вариант – 2-аястр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Проверь себя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№43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50920" y="1828800"/>
            <a:ext cx="8424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I вариант – 1-ая стр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II вариант – 2-ая стр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)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;                </a:t>
            </a:r>
            <a:r>
              <a:rPr b="0" lang="ru-RU" sz="3200" spc="-1" strike="noStrike">
                <a:solidFill>
                  <a:srgbClr val="3333cc"/>
                </a:solidFill>
                <a:latin typeface="Comic Sans MS"/>
              </a:rPr>
              <a:t>б)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(x</a:t>
            </a:r>
            <a:r>
              <a:rPr b="0" lang="en-US" sz="3200" spc="-1" strike="noStrike" baseline="30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)</a:t>
            </a:r>
            <a:r>
              <a:rPr b="0" lang="en-US" sz="3200" spc="-1" strike="noStrike" baseline="30000">
                <a:solidFill>
                  <a:srgbClr val="3333cc"/>
                </a:solidFill>
                <a:latin typeface="Comic Sans MS"/>
              </a:rPr>
              <a:t>3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= x</a:t>
            </a:r>
            <a:r>
              <a:rPr b="0" lang="en-US" sz="3200" spc="-1" strike="noStrike" baseline="30000">
                <a:solidFill>
                  <a:srgbClr val="3333cc"/>
                </a:solidFill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) (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;               </a:t>
            </a:r>
            <a:r>
              <a:rPr b="0" lang="ru-RU" sz="3200" spc="-1" strike="noStrike">
                <a:solidFill>
                  <a:srgbClr val="3333cc"/>
                </a:solidFill>
                <a:latin typeface="Comic Sans MS"/>
              </a:rPr>
              <a:t>г)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(a</a:t>
            </a:r>
            <a:r>
              <a:rPr b="0" lang="en-US" sz="3200" spc="-1" strike="noStrike" baseline="30000">
                <a:solidFill>
                  <a:srgbClr val="3333cc"/>
                </a:solidFill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)</a:t>
            </a:r>
            <a:r>
              <a:rPr b="0" lang="en-US" sz="3200" spc="-1" strike="noStrike" baseline="30000">
                <a:solidFill>
                  <a:srgbClr val="3333cc"/>
                </a:solidFill>
                <a:latin typeface="Comic Sans MS"/>
              </a:rPr>
              <a:t>3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= a</a:t>
            </a:r>
            <a:r>
              <a:rPr b="0" lang="en-US" sz="3200" spc="-1" strike="noStrike" baseline="30000">
                <a:solidFill>
                  <a:srgbClr val="3333cc"/>
                </a:solidFill>
                <a:latin typeface="Comic Sans MS"/>
              </a:rPr>
              <a:t>18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)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 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;               </a:t>
            </a:r>
            <a:r>
              <a:rPr b="0" lang="ru-RU" sz="3200" spc="-1" strike="noStrike">
                <a:solidFill>
                  <a:srgbClr val="3333cc"/>
                </a:solidFill>
                <a:latin typeface="Comic Sans MS"/>
              </a:rPr>
              <a:t>е) (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y</a:t>
            </a:r>
            <a:r>
              <a:rPr b="0" lang="en-US" sz="3200" spc="-1" strike="noStrike" baseline="30000">
                <a:solidFill>
                  <a:srgbClr val="3333cc"/>
                </a:solidFill>
                <a:latin typeface="Comic Sans MS"/>
              </a:rPr>
              <a:t>7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)</a:t>
            </a:r>
            <a:r>
              <a:rPr b="0" lang="en-US" sz="3200" spc="-1" strike="noStrike" baseline="30000">
                <a:solidFill>
                  <a:srgbClr val="3333cc"/>
                </a:solidFill>
                <a:latin typeface="Comic Sans MS"/>
              </a:rPr>
              <a:t>2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= y</a:t>
            </a:r>
            <a:r>
              <a:rPr b="0" lang="en-US" sz="3200" spc="-1" strike="noStrike" baseline="30000">
                <a:solidFill>
                  <a:srgbClr val="3333cc"/>
                </a:solidFill>
                <a:latin typeface="Comic Sans MS"/>
              </a:rPr>
              <a:t>14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ж) (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9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;               </a:t>
            </a:r>
            <a:r>
              <a:rPr b="0" lang="ru-RU" sz="3200" spc="-1" strike="noStrike">
                <a:solidFill>
                  <a:srgbClr val="3333cc"/>
                </a:solidFill>
                <a:latin typeface="Comic Sans MS"/>
              </a:rPr>
              <a:t>з) (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ru-RU" sz="3200" spc="-1" strike="noStrike" baseline="30000">
                <a:solidFill>
                  <a:srgbClr val="3333cc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)</a:t>
            </a:r>
            <a:r>
              <a:rPr b="0" lang="ru-RU" sz="3200" spc="-1" strike="noStrike" baseline="30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3200" spc="-1" strike="noStrike" baseline="30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= b</a:t>
            </a:r>
            <a:r>
              <a:rPr b="0" lang="ru-RU" sz="3200" spc="-1" strike="noStrike" baseline="30000">
                <a:solidFill>
                  <a:srgbClr val="3333cc"/>
                </a:solidFill>
                <a:latin typeface="Comic Sans MS"/>
              </a:rPr>
              <a:t>10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Найдите те примеры, в которых допущена ошибка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) (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ab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b 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) (-2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bc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= -4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3) (2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5)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= 10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4) (-3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= 3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5) (-3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= 3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6) (с 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= с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7) (((-a)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8) ((2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= 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Comic Sans MS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/>
          <p:nvPr/>
        </p:nvSpPr>
        <p:spPr>
          <a:xfrm>
            <a:off x="5796000" y="1773360"/>
            <a:ext cx="504720" cy="36036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796000" y="2205000"/>
            <a:ext cx="504720" cy="36036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96000" y="2637000"/>
            <a:ext cx="504720" cy="36036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796000" y="3068640"/>
            <a:ext cx="504720" cy="36036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796000" y="3500280"/>
            <a:ext cx="504720" cy="36036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96000" y="3933720"/>
            <a:ext cx="504720" cy="36036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796000" y="4365720"/>
            <a:ext cx="504720" cy="36036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6000" y="4797360"/>
            <a:ext cx="504720" cy="36036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796000" y="220500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796000" y="220464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796000" y="350028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5796000" y="349992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796000" y="3933720"/>
            <a:ext cx="50472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5796000" y="3933360"/>
            <a:ext cx="50472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411280" y="5373720"/>
            <a:ext cx="38163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спех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. 2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№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29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№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39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№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40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Цели: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Усвоение свойств степен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Формирование навыка возведения в степень произведения и степен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азвитие зрительной памяти, внимания, смысловой памяти, умений анализировать, сравнивать, обобщат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Итог Урока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Цел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Усвоение свойств степен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Формирование навыка возведения в степень произведения и степен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азвитие зрительной памяти, внимания, смысловой памяти, умений анализировать, сравнивать, обобщат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Оцените свою работу на уроке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187280" y="2421000"/>
            <a:ext cx="1047960" cy="23810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2606760" y="2104920"/>
            <a:ext cx="3930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Старался, и всё получало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Старался, но не всё получало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Не старал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971640" y="1052640"/>
            <a:ext cx="7200720" cy="43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03dff"/>
                </a:solidFill>
                <a:latin typeface="Impact"/>
              </a:rPr>
              <a:t>Спасибо за урок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703dff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1619280" y="152280"/>
          <a:ext cx="5400720" cy="5334120"/>
        </p:xfrm>
        <a:graphic>
          <a:graphicData uri="http://schemas.openxmlformats.org/drawingml/2006/table">
            <a:tbl>
              <a:tblPr/>
              <a:tblGrid>
                <a:gridCol w="1800000"/>
                <a:gridCol w="1800360"/>
                <a:gridCol w="1800360"/>
              </a:tblGrid>
              <a:tr h="177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1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2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1763640" y="189000"/>
          <a:ext cx="5616720" cy="5333760"/>
        </p:xfrm>
        <a:graphic>
          <a:graphicData uri="http://schemas.openxmlformats.org/drawingml/2006/table">
            <a:tbl>
              <a:tblPr/>
              <a:tblGrid>
                <a:gridCol w="1872000"/>
                <a:gridCol w="1872360"/>
                <a:gridCol w="1872360"/>
              </a:tblGrid>
              <a:tr h="177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1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2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Monotype Corsiva"/>
              </a:rPr>
              <a:t>Повтори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76360" y="177336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)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∙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=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)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=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3) 1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=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4)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∙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=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5)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∙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:3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=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6) (2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=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7) (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bx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=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8) (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ab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Monotype Corsiva"/>
              </a:rPr>
              <a:t>Определ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ля любых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и произвольного натурального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br>
              <a:rPr sz="2400"/>
            </a:br>
            <a:br>
              <a:rPr sz="2400"/>
            </a:br>
            <a:r>
              <a:rPr b="0" lang="ru-RU" sz="6000" spc="-1" strike="noStrike">
                <a:solidFill>
                  <a:srgbClr val="ff0000"/>
                </a:solidFill>
                <a:latin typeface="Comic Sans MS"/>
              </a:rPr>
              <a:t>(</a:t>
            </a:r>
            <a:r>
              <a:rPr b="0" i="1" lang="ru-RU" sz="6000" spc="-1" strike="noStrike">
                <a:solidFill>
                  <a:srgbClr val="ff0000"/>
                </a:solidFill>
                <a:latin typeface="Comic Sans MS"/>
              </a:rPr>
              <a:t>ab</a:t>
            </a:r>
            <a:r>
              <a:rPr b="0" lang="ru-RU" sz="6000" spc="-1" strike="noStrike">
                <a:solidFill>
                  <a:srgbClr val="ff0000"/>
                </a:solidFill>
                <a:latin typeface="Comic Sans MS"/>
              </a:rPr>
              <a:t>)</a:t>
            </a:r>
            <a:r>
              <a:rPr b="0" i="1" lang="en-US" sz="6000" spc="-1" strike="noStrike" baseline="30000">
                <a:solidFill>
                  <a:srgbClr val="ff0000"/>
                </a:solidFill>
                <a:latin typeface="Comic Sans MS"/>
              </a:rPr>
              <a:t>n</a:t>
            </a:r>
            <a:r>
              <a:rPr b="0" lang="ru-RU" sz="6000" spc="-1" strike="noStrike">
                <a:solidFill>
                  <a:srgbClr val="ff0000"/>
                </a:solidFill>
                <a:latin typeface="Comic Sans MS"/>
              </a:rPr>
              <a:t> = </a:t>
            </a:r>
            <a:r>
              <a:rPr b="0" i="1" lang="ru-RU" sz="60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i="1" lang="en-US" sz="6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i="1" lang="en-US" sz="6000" spc="-1" strike="noStrike" baseline="30000">
                <a:solidFill>
                  <a:srgbClr val="ff0000"/>
                </a:solidFill>
                <a:latin typeface="Comic Sans MS"/>
              </a:rPr>
              <a:t>n</a:t>
            </a:r>
            <a:r>
              <a:rPr b="0" i="1" lang="ru-RU" sz="6000" spc="-1" strike="noStrike">
                <a:solidFill>
                  <a:srgbClr val="ff0000"/>
                </a:solidFill>
                <a:latin typeface="Comic Sans MS"/>
              </a:rPr>
              <a:t>b</a:t>
            </a:r>
            <a:r>
              <a:rPr b="0" i="1" lang="en-US" sz="6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i="1" lang="en-US" sz="6000" spc="-1" strike="noStrike" baseline="30000">
                <a:solidFill>
                  <a:srgbClr val="ff0000"/>
                </a:solidFill>
                <a:latin typeface="Comic Sans MS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каждый множитель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возвести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 в эту степень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результаты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перемножить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ru-RU" sz="7200" spc="-1" strike="noStrike">
                <a:solidFill>
                  <a:srgbClr val="000000"/>
                </a:solidFill>
                <a:latin typeface="Comic Sans MS"/>
              </a:rPr>
              <a:t>abcd</a:t>
            </a: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72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 =… 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ешение упражнений: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428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I вариант – 1-ая стр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II вариант – 2-аястр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Проверь себя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№42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7640" y="1828440"/>
            <a:ext cx="8785080" cy="43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I вариант – 1-ая стр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II вариант – 2-ая стр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)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y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;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ru-RU" sz="2800" spc="-1" strike="noStrike">
                <a:solidFill>
                  <a:srgbClr val="3333cc"/>
                </a:solidFill>
                <a:latin typeface="Comic Sans MS"/>
              </a:rPr>
              <a:t>б) (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bc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Comic Sans MS"/>
              </a:rPr>
              <a:t>5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=a</a:t>
            </a:r>
            <a:r>
              <a:rPr b="0" lang="en-US" sz="2800" spc="-1" strike="noStrike" baseline="30000">
                <a:solidFill>
                  <a:srgbClr val="3333cc"/>
                </a:solidFill>
                <a:latin typeface="Comic Sans MS"/>
              </a:rPr>
              <a:t>5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2800" spc="-1" strike="noStrike" baseline="30000">
                <a:solidFill>
                  <a:srgbClr val="3333cc"/>
                </a:solidFill>
                <a:latin typeface="Comic Sans MS"/>
              </a:rPr>
              <a:t>5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30000">
                <a:solidFill>
                  <a:srgbClr val="3333cc"/>
                </a:solidFill>
                <a:latin typeface="Comic Sans MS"/>
              </a:rPr>
              <a:t>5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;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)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2x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8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;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ru-RU" sz="2800" spc="-1" strike="noStrike">
                <a:solidFill>
                  <a:srgbClr val="3333cc"/>
                </a:solidFill>
                <a:latin typeface="Comic Sans MS"/>
              </a:rPr>
              <a:t>г)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(3a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Comic Sans MS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=9a</a:t>
            </a:r>
            <a:r>
              <a:rPr b="0" lang="en-US" sz="2800" spc="-1" strike="noStrike" baseline="30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;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-5x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-125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;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ru-RU" sz="2800" spc="-1" strike="noStrike">
                <a:solidFill>
                  <a:srgbClr val="3333cc"/>
                </a:solidFill>
                <a:latin typeface="Comic Sans MS"/>
              </a:rPr>
              <a:t>е)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(-10ab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Comic Sans MS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=100a</a:t>
            </a:r>
            <a:r>
              <a:rPr b="0" lang="en-US" sz="2800" spc="-1" strike="noStrike" baseline="30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2800" spc="-1" strike="noStrike" baseline="30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ж)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-0,2xy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0,0016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;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3333cc"/>
                </a:solidFill>
                <a:latin typeface="Comic Sans MS"/>
              </a:rPr>
              <a:t>з) (-0,5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bd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Comic Sans MS"/>
              </a:rPr>
              <a:t>3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=-0,125b</a:t>
            </a:r>
            <a:r>
              <a:rPr b="0" lang="en-US" sz="2800" spc="-1" strike="noStrike" baseline="30000">
                <a:solidFill>
                  <a:srgbClr val="3333cc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n-US" sz="2800" spc="-1" strike="noStrike" baseline="30000">
                <a:solidFill>
                  <a:srgbClr val="3333cc"/>
                </a:solidFill>
                <a:latin typeface="Comic Sans MS"/>
              </a:rPr>
              <a:t>3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.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9T17:49:16Z</dcterms:created>
  <dc:creator>123</dc:creator>
  <dc:description/>
  <dc:language>en-US</dc:language>
  <cp:lastModifiedBy>123</cp:lastModifiedBy>
  <dcterms:modified xsi:type="dcterms:W3CDTF">2011-12-11T13:18:55Z</dcterms:modified>
  <cp:revision>6</cp:revision>
  <dc:subject/>
  <dc:title>Возведение в степень произведения и степени </dc:title>
</cp:coreProperties>
</file>