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BC5-3564-4E70-A357-B887A936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4CD-D5AB-4438-A4FA-699AB54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C30-FE67-440D-A9CD-222EF68A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900-FFB7-4D77-9C64-742CCBC9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3626-B377-4A5B-93BF-28A85C9E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95AD-CB86-4E54-90DC-94F5A3F3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B7F-1F50-445F-AA0E-6D438C0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B4E-33BF-4F06-9165-E3C635BE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379-5D71-4ABD-857A-CFAD33D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047-81E1-417E-AAD1-C2B67660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930E-BB7A-4978-87EC-EDC7A8A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FA6-41AE-4D68-AEB9-3231EBC0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BB8-A68C-447D-9E51-A04229F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EDC-496A-47C4-BE7D-030ACB2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905F-8113-4330-AEAD-8B86FC86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13C-AA79-4A8F-92A3-35E9F27D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F55-137D-4B95-83BA-992834A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25E-A83F-49F0-81B9-D77B05C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8CF-A2CF-4B23-B936-104CEF2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7CC-A1E6-4139-B8DF-53B90CF9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E12-48D2-4D5A-8374-269CF53E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517-D399-4930-8A69-C394AF2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53A-368F-45B3-8F10-00E3FB4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06C-4B24-43FB-A889-7F5F344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D3E2-BDD3-4699-89D3-CA98ACBE17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031-61D8-484E-8D4D-3827521B25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Возведение в степень произведения и степен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4365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609480" y="1676520"/>
            <a:ext cx="8077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glaz"/>
          <p:cNvPicPr/>
          <p:nvPr/>
        </p:nvPicPr>
        <p:blipFill>
          <a:blip r:embed="rId1"/>
          <a:stretch/>
        </p:blipFill>
        <p:spPr>
          <a:xfrm>
            <a:off x="64771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8"/>
          <p:cNvPicPr/>
          <p:nvPr/>
        </p:nvPicPr>
        <p:blipFill>
          <a:blip r:embed="rId1"/>
          <a:stretch/>
        </p:blipFill>
        <p:spPr>
          <a:xfrm>
            <a:off x="3200400" y="2666880"/>
            <a:ext cx="876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117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42"/>
          <p:cNvPicPr/>
          <p:nvPr/>
        </p:nvPicPr>
        <p:blipFill>
          <a:blip r:embed="rId1"/>
          <a:stretch/>
        </p:blipFill>
        <p:spPr>
          <a:xfrm>
            <a:off x="228600" y="6094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lbird"/>
          <p:cNvPicPr/>
          <p:nvPr/>
        </p:nvPicPr>
        <p:blipFill>
          <a:blip r:embed="rId1"/>
          <a:stretch/>
        </p:blipFill>
        <p:spPr>
          <a:xfrm>
            <a:off x="0" y="1523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люб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произвольных натуральных чисел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 =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снова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ставляют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тем ж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казател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б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г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е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4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з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дите те примеры, в которых допущена ошибк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(-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-4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(2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5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10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с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((-a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1773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205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0" y="2637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306864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50028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3933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4365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797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2205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6000" y="2204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350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6000" y="349992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393372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9600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537372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 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2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4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 Урок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1047960" cy="2381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06760" y="2104920"/>
            <a:ext cx="39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и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но не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Не стар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1640" y="1052640"/>
            <a:ext cx="7200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Impact"/>
              </a:rPr>
              <a:t>Спасибо за урок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19280" y="152280"/>
          <a:ext cx="5400720" cy="53341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36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63640" y="189000"/>
          <a:ext cx="5616720" cy="5333760"/>
        </p:xfrm>
        <a:graphic>
          <a:graphicData uri="http://schemas.openxmlformats.org/drawingml/2006/table">
            <a:tbl>
              <a:tblPr/>
              <a:tblGrid>
                <a:gridCol w="1872000"/>
                <a:gridCol w="1872360"/>
                <a:gridCol w="1872360"/>
              </a:tblGrid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любых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произвольного натурального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br>
              <a:rPr sz="2400"/>
            </a:br>
            <a:br>
              <a:rPr sz="2400"/>
            </a:b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множител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озвест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в эту степен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езультаты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ить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=…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640" y="1828440"/>
            <a:ext cx="8785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б)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bc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г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3a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9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5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12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е)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-10ab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100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-0,2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0,001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з) (-0,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d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-0,125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49:16Z</dcterms:created>
  <dc:creator>123</dc:creator>
  <dc:description/>
  <dc:language>en-US</dc:language>
  <cp:lastModifiedBy>123</cp:lastModifiedBy>
  <dcterms:modified xsi:type="dcterms:W3CDTF">2011-12-11T13:18:55Z</dcterms:modified>
  <cp:revision>6</cp:revision>
  <dc:subject/>
  <dc:title>Возведение в степень произведения и степени </dc:title>
</cp:coreProperties>
</file>