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2F6-7367-412F-BC55-D5A4FB29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1A1-0140-449C-9EEA-BE617E04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694-36A3-487F-87DC-3946B134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512-BA38-40AE-BEC7-19A2CD48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2907-C0AD-444C-92AC-AEA8BC06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4C04-1B8F-4F7B-9238-FF1F4223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7110-5871-4A35-80F4-2A475327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B168-CA85-46D7-9A77-9F6FD778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B264-D9C8-48DA-8D5D-F5BFFA3F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4325-FED1-4EA9-909A-73FA0EB9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41F8-8F81-4156-BC8B-4808CD81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DA1-32D5-4546-831A-E454740D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7B44-5452-4589-BDED-F5A253FE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589D-1004-4FAD-8389-D7A10BB1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9421-15CD-4798-AB91-AA46F3B1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5FC2-A0E5-4DC9-B3A0-3BEC3B2C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979B-6FCE-409D-921B-8C20A9D5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DC8-F845-491F-94F3-1E9A05C8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110-DB8C-4730-9749-BF6996A9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D44-75DA-4869-9504-89277918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D62-C036-44F2-847F-44EA1DEF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FA5-9289-45A2-8630-979A0DD2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121-57C0-4DEA-BE6B-F0EC55F3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AE0-D16D-40AA-BCE9-3CCD39BE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16ED-4BD7-43D6-B836-E441930969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279E-1866-467D-96DF-5956B0131D4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Возведение в степень произведения и степени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000" y="4365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609480" y="1676520"/>
            <a:ext cx="8077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9449"/>
                <a:gd name="adj2" fmla="val 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Гимнастика для гла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5" descr="glaz"/>
          <p:cNvPicPr/>
          <p:nvPr/>
        </p:nvPicPr>
        <p:blipFill>
          <a:blip r:embed="rId1"/>
          <a:stretch/>
        </p:blipFill>
        <p:spPr>
          <a:xfrm>
            <a:off x="6477120" y="43434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58"/>
          <p:cNvPicPr/>
          <p:nvPr/>
        </p:nvPicPr>
        <p:blipFill>
          <a:blip r:embed="rId1"/>
          <a:stretch/>
        </p:blipFill>
        <p:spPr>
          <a:xfrm>
            <a:off x="3200400" y="2666880"/>
            <a:ext cx="8762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68 0.07817 C 0.55208 -0.18663 0.36996 -0.41651 0.12621 -0.43154 C -0.1066 -0.45097 -0.32396 -0.27428 -0.33854 -0.01642 C -0.35625 0.22017 -0.204 0.44242 0.01423 0.45814 C 0.21319 0.4704 0.40243 0.32355 0.41718 0.10199 C 0.43159 -0.09967 0.30434 -0.28931 0.11961 -0.3055 C -0.05174 -0.31753 -0.21181 -0.19426 -0.2224 -0.00925 C -0.23316 0.15726 -0.1316 0.31915 0.021 0.32771 C 0.15937 0.33927 0.28993 0.24445 0.30121 0.09413 C 0.30781 -0.0407 0.23142 -0.1709 0.11163 -0.17854 C 0.00642 -0.18663 -0.09896 -0.11471 -0.1066 -0.00046 C -0.11354 0.09852 -0.05903 0.19311 0.0283 0.20097 C 0.10121 0.20907 0.17743 0.16559 0.18125 0.08673 C 0.18802 0.02313 0.15937 -0.04463 0.10503 -0.05249 C 0.06093 -0.05249 0.01701 -0.03677 0.01041 0.00671 C 0.00642 0.03539 0.01423 0.06245 0.03541 0.07447 C 0.04635 0.07817 0.05399 0.07817 0.06475 0.07447 E">
                                      <p:cBhvr>
                                        <p:cTn id="117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42"/>
          <p:cNvPicPr/>
          <p:nvPr/>
        </p:nvPicPr>
        <p:blipFill>
          <a:blip r:embed="rId1"/>
          <a:stretch/>
        </p:blipFill>
        <p:spPr>
          <a:xfrm>
            <a:off x="228600" y="609480"/>
            <a:ext cx="1314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2073 C 5E-006 0.01157 0.08872 -0.07724 0.19775 -0.07724 L 0.65521 -0.07724 C 0.76424 -0.07724 0.85313 0.01157 0.85313 0.12073 L 0.85313 0.57123 C 0.85313 0.68085 0.76424 0.7729 0.65521 0.7729 L 0.19775 0.7729 C 0.08872 0.7729 5E-006 0.68085 5E-006 0.57123 Z">
                                      <p:cBhvr>
                                        <p:cTn id="12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blbird"/>
          <p:cNvPicPr/>
          <p:nvPr/>
        </p:nvPicPr>
        <p:blipFill>
          <a:blip r:embed="rId1"/>
          <a:stretch/>
        </p:blipFill>
        <p:spPr>
          <a:xfrm>
            <a:off x="0" y="1523880"/>
            <a:ext cx="1047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8756 C 0.00799 0.38252 0.02587 0.65634 0.09202 0.65172 C 0.18698 0.65172 0.19358 -0.26225 0.30677 -0.26503 C 0.40903 -0.26503 0.35452 0.53308 0.45295 0.53053 C 0.55538 0.53053 0.5 -0.04926 0.60972 -0.04926 C 0.70799 -0.04926 0.65365 0.34205 0.74115 0.34205 C 0.82518 0.34205 0.7816 0.04302 0.85834 0.04302 C 0.90209 0.04302 0.90521 0.12489 0.90938 0.18756 E">
                                      <p:cBhvr>
                                        <p:cTn id="129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Повто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любого числ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произвольных натуральных чисел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ru-RU" sz="66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6600" spc="-1" strike="noStrike" baseline="30000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i="1" lang="en-US" sz="66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 =</a:t>
            </a:r>
            <a:r>
              <a:rPr b="0" i="1" lang="ru-RU" sz="6600" spc="-1" strike="noStrike">
                <a:solidFill>
                  <a:srgbClr val="ff0000"/>
                </a:solidFill>
                <a:latin typeface="Comic Sans MS"/>
              </a:rPr>
              <a:t> a</a:t>
            </a:r>
            <a:r>
              <a:rPr b="0" i="1" lang="en-US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6600" spc="-1" strike="noStrike" baseline="30000">
                <a:solidFill>
                  <a:srgbClr val="ff0000"/>
                </a:solidFill>
                <a:latin typeface="Comic Sans MS"/>
              </a:rPr>
              <a:t>m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основание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оставляют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тем же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оказател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еремножа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упражнени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3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I вариант – 1-ая ст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II вариант – 2-аяст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№4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I вариант – 1-ая ст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II вариант – 2-ая ст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               </a:t>
            </a: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б)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= x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              </a:t>
            </a: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г)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a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= a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18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              </a:t>
            </a: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е) 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= 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14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) 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              </a:t>
            </a: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з) 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ru-RU" sz="3200" spc="-1" strike="noStrike" baseline="30000">
                <a:solidFill>
                  <a:srgbClr val="3333cc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ru-RU" sz="32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= b</a:t>
            </a:r>
            <a:r>
              <a:rPr b="0" lang="ru-RU" sz="3200" spc="-1" strike="noStrike" baseline="30000">
                <a:solidFill>
                  <a:srgbClr val="3333cc"/>
                </a:solidFill>
                <a:latin typeface="Comic Sans MS"/>
              </a:rPr>
              <a:t>10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айдите те примеры, в которых допущена ошибк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(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(-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-4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(2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5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10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(-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(-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) (с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с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) (((-a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) ((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177336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20500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6000" y="263700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306864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350028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6000" y="393372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6000" y="436572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4797360"/>
            <a:ext cx="504720" cy="3603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6000" y="2205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96000" y="2204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6000" y="350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96000" y="349992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393372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796000" y="393336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411280" y="5373720"/>
            <a:ext cx="381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х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. 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29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39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4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своение свойств степе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ормирование навыка возведения в степень произведения и степе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витие зрительной памяти, внимания, смысловой памяти, умений анализировать, сравнивать, обобщ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тог Урока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своение свойств степе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Формирование навыка возведения в степень произведения и степе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витие зрительной памяти, внимания, смысловой памяти, умений анализировать, сравнивать, обобщ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цените свою работу на урок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1047960" cy="2381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606760" y="2104920"/>
            <a:ext cx="393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Старался, и всё получ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Старался, но не всё получ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Не стар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71640" y="1052640"/>
            <a:ext cx="720072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Impact"/>
              </a:rPr>
              <a:t>Спасибо за урок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619280" y="152280"/>
          <a:ext cx="5400720" cy="5334120"/>
        </p:xfrm>
        <a:graphic>
          <a:graphicData uri="http://schemas.openxmlformats.org/drawingml/2006/table">
            <a:tbl>
              <a:tblPr/>
              <a:tblGrid>
                <a:gridCol w="1800000"/>
                <a:gridCol w="1800360"/>
                <a:gridCol w="1800360"/>
              </a:tblGrid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63640" y="189000"/>
          <a:ext cx="5616720" cy="5333760"/>
        </p:xfrm>
        <a:graphic>
          <a:graphicData uri="http://schemas.openxmlformats.org/drawingml/2006/table">
            <a:tbl>
              <a:tblPr/>
              <a:tblGrid>
                <a:gridCol w="1872000"/>
                <a:gridCol w="1872360"/>
                <a:gridCol w="1872360"/>
              </a:tblGrid>
              <a:tr h="17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Повто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3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) (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) (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bx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) (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любых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произвольного натурального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br>
              <a:rPr sz="2400"/>
            </a:br>
            <a:br>
              <a:rPr sz="2400"/>
            </a:b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ru-RU" sz="6000" spc="-1" strike="noStrike">
                <a:solidFill>
                  <a:srgbClr val="ff0000"/>
                </a:solidFill>
                <a:latin typeface="Comic Sans MS"/>
              </a:rPr>
              <a:t>ab</a:t>
            </a: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i="1" lang="en-US" sz="60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i="1" lang="ru-RU" sz="6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60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r>
              <a:rPr b="0" i="1" lang="ru-RU" sz="60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60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аждый множител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озвести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в эту степен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езультаты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еремножить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abcd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=…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упражнений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2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I вариант – 1-ая ст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II вариант – 2-аяст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№4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7640" y="1828440"/>
            <a:ext cx="8785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I вариант – 1-ая ст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II вариант – 2-ая ст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б)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bc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5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a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5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2x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г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3a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9a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-5x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-125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е)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-10ab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100a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-0,2x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0,001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Comic Sans MS"/>
              </a:rPr>
              <a:t>з) (-0,5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d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-0,125b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7:49:16Z</dcterms:created>
  <dc:creator>123</dc:creator>
  <dc:description/>
  <dc:language>en-US</dc:language>
  <cp:lastModifiedBy>123</cp:lastModifiedBy>
  <dcterms:modified xsi:type="dcterms:W3CDTF">2011-12-11T13:18:55Z</dcterms:modified>
  <cp:revision>6</cp:revision>
  <dc:subject/>
  <dc:title>Возведение в степень произведения и степени </dc:title>
</cp:coreProperties>
</file>