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242-1C74-4344-8969-E2B749371C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285-2DBD-4DB4-972F-05D0425940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EAC-A6D5-4B32-B06C-5CA5E69D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82B-5C04-4B27-81B3-155A8991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83228-BA8B-4C07-9E01-A8277672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B7AC4-F249-43B7-BEAF-4786E82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CD01B-5AD3-4675-B63E-FDF21CB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51E9B-F27B-49B5-BB7C-64024E63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5F697-BF40-49C6-8E68-32C09C9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18C0B-BC1E-49BC-AF9E-FD351D3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C762D-796D-4743-B3F5-06657A61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8AC27-5A63-49F0-AAC0-E5410665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F19FB-0988-4298-9062-1A2B6A5C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E8EFF-C144-4230-BCED-2C6A508D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228-47DD-4548-83C4-A5B42EC8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D2437-B7CE-4D37-B253-445A782E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18623-9724-4AEC-A75B-3C400AB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6E7E6-6B87-492E-A3A2-7E96484A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91DEE-FCAA-4F32-9345-3DFADFD9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CE44E-31F6-4FB6-B173-4E54F87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392D5-FC03-403E-8E1B-21DE656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9D590-D553-4B6F-A68C-31D0EE5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053BF-057B-4796-BE6B-554EBF3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88B7-CD37-4EC3-85CC-858532DE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55251-C114-41DE-A3E5-DC02ACFB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363-3758-49C1-990F-03A518E6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73033-3C3E-4ACF-87C3-88833A9F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B09EA-1281-4EAA-A827-33E3725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A2E1-EAEA-490D-893B-7B4B576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EF542-AB56-4AAF-AB4B-6C2DA6D3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6B992-3BE3-4FC2-BD5E-13BEEFC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520FE-C8B0-46C4-9483-3DC2729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7D4E3-BF64-4DDF-8785-087F513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D69E-376C-421B-ABFA-FD747653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6EB8-8BB9-49BE-BD2D-6453313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2DCB6-386C-4029-A6A5-B26AB17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D16-5A8E-4DE6-8B3E-0C2AF734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E2C08-E4FC-4319-9C87-D715E89E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8FE9B-EEAE-4026-98A0-1FE62787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5EA69-FA52-4848-903D-49DE6040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03053-663B-4290-AEF4-CB001B79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2B896-E651-4BDA-AAE8-5EE63DD6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95DB4-02BA-40F5-A54B-EEF9EAFA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7ACD2-3F7B-495C-AF75-71477D6C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29ABC-74E8-4B75-9862-21B616C2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0D30-254E-401F-8D33-35A23B9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219E2-22FA-4480-BFD5-C31AA138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A2CC-DC22-49B2-91E6-36B69FD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96F7F-7FD6-46AC-A83F-98DC0AB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C5A43-B89A-4CE0-AD19-6020C4B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1F7F0-11E2-4D53-938E-86DF3B8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AD7A7-AE88-46C5-909B-C15655A3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D8D38-16E3-45B2-BD89-F3397E8A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FAE20-CCDC-45C2-80BC-EFE451F4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7046E-DE43-4747-8CD0-138EDB6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A815F-36A9-4E8C-9D2A-B0C5368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04F2F-1D43-4B0E-A734-EFC2F52F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53BCE-5229-4815-9B2D-C1A8AC4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8C60-71FA-4C23-B369-50941A3E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2962F-9F88-4F3F-ABE8-74972743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2DE2F-EAD0-4524-81C4-BAA29FD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16934-6B2E-43CF-B732-4907795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BB8F0-C77B-448D-91FB-ABDEFB78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91C85-EE02-475E-9348-BA0D126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7FC34-370F-4D74-84A1-C7D63425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42DBD-9A04-43F3-BBEF-5D9629A3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5A515-7199-49C4-B4C0-1203A455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C8FA7-A60D-4A24-A3DF-BB9D875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47BB7-AB73-4B01-906F-189D5A31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3FA-08D3-4374-AC30-796B613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43892-C4EA-486C-A543-D582239D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7AD56-BB98-4EF7-906D-8F48E02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8C059-F723-4BCD-8CC1-FA2E35A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E162D-06EB-4669-AB73-D56EFDD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FE598-9AB3-457C-AA46-E698982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AACA6-1D4C-4E04-9AC7-4FB679A6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5FD02-2C3E-4774-9C95-6E53FC8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2F628-CCEA-443B-B149-BD42B70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80BDC-7046-4954-A0E1-11F21F6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EAA-C772-4BDB-9F6C-034D89E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B486-F61B-484E-8BA3-B172CC10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B744-6CE6-4D12-BC00-BB853DD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76-B2CC-4C95-896E-DCF6EB0D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FC39-30AF-4F0E-A53A-0C7E776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A558-FC42-4AA7-BF79-E277191E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F8F8-48E8-4940-A4A4-579F41E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EE7A-4F89-44D1-8C1F-D09705C5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6F4D-46B2-4D5F-935E-EEEE8082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2918-CCD1-48B4-91D2-1A3546E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11B5-C169-43E9-B8A6-9D8E4A87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314C-B20C-414F-AC46-B160F595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0EFBC-444E-41D3-93AF-43A1D6A2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2D0A-6C7E-4259-8519-F57FB562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513-8E03-425E-B0DA-BD27D07C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9DC4-A31F-4CA0-8EA0-F491C7A1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8DD9-0422-4AA6-ADAA-546AA56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9650-BCF2-4F30-8746-5E4F26F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6C61-87F3-42E3-976C-84A6A53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3D9A-5433-4DDF-87C9-DFB03DB4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A0D8-9125-4923-AE75-BA5E8733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9A32-8CC5-4F96-9CC0-CD4BD5F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DB1D2-6A31-4A15-8ADA-4EE2016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38B4-26B2-4406-8B2B-7196F356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1FE4-8DBE-48A3-B90E-A9E08CA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85A-5E8B-475F-B9AF-042EB94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6A77-5047-4807-9DB9-72C7851F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8952-F627-4E1C-B105-E141E11E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CB7E-EB74-4C5B-948E-88B37F60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B16C-23FF-4E36-9EA8-2C4D092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8AB6-F864-4216-8A50-867BDCC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9702-5237-448C-BA36-C49E35E3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27A9-B299-4C4C-B835-94ABDB7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A77B6-65CF-4E3F-BFB5-5B2BD6D9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41EF-628B-459C-A2C5-786FE3E2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E2CF-D5F1-43F7-B7C6-E73ABD91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0AF-38E4-4F3B-95B0-32E3E4E2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BB598-5A42-407C-A061-DBDC76AA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8AFE6-CE8D-4E0E-AFF4-8AAC6281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B80E-B23A-41E7-94EB-E8828112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E845-96C2-4FD6-ABAC-7B42024E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BA73-4DC5-4D6C-89D8-4F9870D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D554-F0A5-4353-B86E-F479B60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2AB0-C076-4BB9-AB00-24D3207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1631-9522-4134-B0AB-85103DE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D580-0C66-4584-8407-EC2B816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BF4B-B36B-41BE-AE6A-DAAD74D1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CF3-1944-42BB-A04B-40972455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C2A1-1ACC-4A3C-859C-98C099C1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DCD9-0B5B-451E-966E-965CE592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E273-B6DA-4986-8A4F-6FA63A3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1ED3-04CB-436D-9AE3-4BBED01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E9FC-41AC-447B-8477-E7C4083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8768-5A4F-4F5F-AB0E-B2EEA33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8834-177C-4FA8-9109-2A6D1CB6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3E50-9B20-4092-A2B0-80E342B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EFDE-8D15-4045-A460-F5470B9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A8DB-83A9-4419-8CA1-2C4FC31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073-CE82-48E0-90AD-6DCE1F5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2A016-4C4D-495B-A794-D2FA6A1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1199-0917-4C82-AAC2-0378F0CA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E883-E3AD-49E7-84E4-388CA36A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92EE-4D2C-4B67-9B2C-DDDF3338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8889-64DF-47B8-A710-820A241C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E72FC-4402-4C86-B3D9-EBFFA3DB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DDFC-D27D-4156-87A3-721F263F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10FA7-DBB9-496E-BBD8-2C7A4798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858A3-C6D1-4201-9872-03B0FD5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C293-1917-48ED-BBB8-88AFF7E4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3DC-7057-49E0-9EFC-0E0FD4C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52D7-ABFB-411C-B5C1-7A390E1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46A0-D76B-4B4D-B953-E416EDF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3BED-39F8-458C-AF7D-49159A83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C84E-100A-4160-9D29-743FC96F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1E136-7097-4503-9CE6-9FEC64EC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4431-C7C4-4545-937C-FBC206B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672B-E8CA-4997-B587-0E7C4CB8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3C5A9-42FC-4EA7-96A1-53E1FDB0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D7890-17F3-4F25-A6F4-35B93A2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F372B-C159-45B9-894A-9F462D35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5E1-0B07-4631-88D8-C5B4449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9EB1-FA32-4965-B33E-A0489EF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DD01-022A-4195-AB4F-A25183C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9B7B-B1A0-4CA6-8173-0D30FCF6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6F5F1-63F5-42E2-86BE-7785D6B5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FC951-B07C-4450-88A9-9B18009C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63F1A-C927-4545-AFEE-06466D46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8D6B-66A8-4481-BFDA-1AFB1643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6E9C6-EC46-4AB1-9494-14F4710E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FDC7D-F7AE-428A-8F93-19A5CBB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FBBF5-9B41-4D45-B673-135A86D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914-C0C4-4E5E-9B14-33DD4E7F23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1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185-F1C2-4387-A3E4-DA9C267B31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797-846B-49AC-9C6D-98B239CD5F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0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CA35-1547-4EB4-816E-5F85EE2316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2DFD-ACC4-4ED8-A88B-F277739D1F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9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131-D93D-439F-BF94-B7752D5BF4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5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0D9E-CA83-4232-98F3-09369462E5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DF54-53C7-4D9E-A8DD-F4D71DDF54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4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9E79-B72C-4DFE-826C-1A7330D40D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955-D969-4D4D-9E99-65A679B2AD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3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0D09-3C26-4B04-8A87-825036480E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6BAC-CC3C-4E78-9265-4C7E835C67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2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ED73-B5A3-4B79-9154-519C4DE947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5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B6E-290B-46E6-B1F1-B2D7C78A4B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16"/>
          <p:cNvSpPr/>
          <p:nvPr/>
        </p:nvSpPr>
        <p:spPr>
          <a:xfrm>
            <a:off x="755640" y="1428840"/>
            <a:ext cx="79200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ВИЧ-инфицированные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и заболевание СПИДо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патогенезе ВИЧ-инфекции ряд авторов выделяют шесть стад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нулевая - инкубационный период или первичная латентная - серонегативная, продолжительностью до 3 месяцев и больш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1 стадия - выраженной вирусной репродукции и первичного иммунного ответа - серопозитивная, продолжительностью до 6-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2 стадия - гиперреактивности гуморального иммунитета, продолжительностью до 3-5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3 стадия - компенсированного иммунодефицита (число Т-лимфоцитов не менее 400 в 1 мкл, Т4 : Т8 не менее 0,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5) 4 стадия - выраженного угнетения клеточного иммунитета и начала декомпенсации гуморального иммунитета с угасанием 3 из 4 кожно-аллергических реа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6) 5 стадия - полного отсутствия реакций гиперчувствительности замедленного типа и развитием локальных оппортунистических инфекц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7) 6 стадия - терминальная - с глубокими нарушениями клеточного и гуморального иммунитета и генерализованными оппортунистическими инфекц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7164360" y="537372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9000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6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Первые четыре стадии патогенеза условно называют "пре-СПИД", остальные - "СПИД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выделен в культурах всех физиологических жидкостей человеческого организма и секретов его желе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ирус проникает в организм в виде свободной или связанной с клеткой частицы, захватывается макрофагами и разносится ими по всему организму, внедряясь в клетки, несущие CD4-антиген (Т-лимфоциты, моноциты крови, тканевые макрофаги, клетки тимуса, костного мозга и др.). От попадания вируса в организм до появления достаточного числа поддающихся идентификации инфицированных клеток должно пройти определенное время. Через 3-8 недель после заражения развивается болезнь, похожая на грипп или мононуклеоз, которая длится около нед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Затем все симптомы исчезают и проявления болезни отсутствуют в течение нескольких недель, месяцев и даже лет. В этот период вирус размножается и уже может быть выделен в лабораторны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0">
    <p:dissolv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сновные формы СП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. Легочная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оявляется гипоксемией, болями в груди, рассеянными легочными инфильтратами на рентгеновских снимках легких. Наиболее частая оппортунистическая инфекция - пневмоцистная пневмония. Реже поражения вызываются аспергиллами, легионеллами и цитомегаловирусами. Поражение бронхолегочного аппарата - одно из самых постоянных и частых проявлений СПИДа (более чем у 60 % больны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. Желудочно-кишечная (диспепсическая) фор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Характеризуется выраженной диареей, нарушениями всасывания и стеатореей. У всех больных выявляются гистологические изменения биоптатов тощей и прямой кишок (атрофия ворсинок, гиперплазия крипт) с очаговой регенерацией клеток в области основания крипт. Как правило, из оппортунистических инфекций выявляют кандидоз пищевода и желудка, криптоспоридиоз. Клинически отмечается чувство тяжести за грудиной, нарушение глотания. Поражения желудочно-кишечного-тракта, как и легких, являются одной из основных причин смерти при СПИ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5867280" y="5229360"/>
            <a:ext cx="50508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. Неврологическая форма (нейроСПИ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У 1/3 больных выявляются изменения ЦНС, причем различают четыре основных вариа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абсцесс токсоплазменной этиологии, прогрессирующая многоочаговая лейкоэнцефалопатия, криптококковый менингит, подострый цитомегаловирусный энцефал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опухоли (первичная или вторичная В-клеточная лимфома мозг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3) сосудистые поражения ЦНС и других систем (небактериальный тромботический эндокардит и церебральная геморраг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4) очаговые мозговые повреждения с самоограничивающимся менинги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Находящийся в нейроглии головного мозга ВИЧ может быть причиной прогрессирующей деменции у почти 1/3 больных СПИДом. Она, как правило, развивается постепенно, с появлением тремора и замедленности движений, которые прогрессируют, до развития тяжелого слабоумия, потери речи, недержания мочи и кала и паралича конечностей. Поражения нервной системы служат непосредственной причиной смерти у четверти страдающих СПИД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5508720" y="5516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8000">
    <p:dissolve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Клиническая картина: основные форм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Диссеминированная фор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У части больных отмечается нефротический синдром с почечной недостаточностью, поражения органа зрения. Поражения кожи: чаще саркома Капоши, васкулиты, ксеродермиты, опоясывающий лишай, микозы.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Monotype Corsiva"/>
              </a:rPr>
              <a:t>Оппортунистические заболевания (ОЗ) при СПИ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Оппортунистические, или СПИД-ассоциированные состояния, это группа заболеваний различной этиологии, возникающих при СПИДе вследствие тяжелой иммунодеп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Н. Р. Иванов и Д. И. Дранкин выделяют следующие (ОЗ) у больных СПИД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Злокачественные новообразования: саркома Капоши; лимфома головного мозг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Инвазии: пневмоцистная пневмония; токсоплазмоз; криптоспоридиоз (кишечная форма с длительной диареей); стронгилоидоз (пневмонии, поражения нервной системы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Микозы: кандидоз; криптококко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Бактериальные инфекции: легионеллезная пневмония; атипичный микобактериоз; сальмонелле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Вирусные инфекции: ЦМВ; прогрессирующая лейкоэнцефалопатия; герпетические 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4000"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4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5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5" dur="500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0" dur="500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5" dur="500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еречень категорий больных, подлежащих обследованию на наличие антител к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о клиническим показан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1) лица, у которых отмечаю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хорадка более 1 месяца; диарея, которая продолжается боле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увеличение лимфатических узлов 2 и более групп продолжительностью 1 месяц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немотивированная потеря массы тела 10 % и боле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овторные пневмонии (2 случая и больше) в течение последних 12 меся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е, затяжные гнойно-бактериальные, паразитарные заболевания, сепси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"волосистая" лейкоплакия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ая пиодерм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2) Лица с подозрением или подтвержденным диагнозо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актериальной инфекции у детей младше 13 лет, множественные и рецидивирующ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андидоза пищевода, трахеи, бронхов или легких, цервикального инвазивного ра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7740720" y="5300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7000">
    <p:dissolve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диссеминированного или внелегочного кокцидиомик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криптоспоридиоза с диареей 1 месяц и более; изоспороза с диареей свыше 1 месяц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Цитомегаловирусного ретинита с потерей зрения; ЦМВ поражения других орг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рпетической инфекции, вызывающей многоочаговые язвы, которые не излечиваются на протяжении 1 месяца, или бронхит, пневмонию, эзофаги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уберкулеза легочного, внелегочного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невмонии, вызванной пневмоцис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прогрессирующей многофокусной лейкоэнцефалопат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токсоплазмоза мозга у детей старше 1 месяца; инфекционного мононуклеоз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ВИЧ-энцефалопатии; саркомы Капоши; лимфомы Беркета; иммунобластной лимфом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лимфоидной интерстициальной пневмонии у детей младше 13 л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гепатита В, носительство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BsAg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болезни, передающиеся половым пут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- рецидивирующий опоясывающий лишай у лиц старше 6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6000">
    <p:dissolve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Диагностика, лечение и профилакт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ецифическая диагностика ВИЧ-инфекции осуществляется вирусологическими и серологическими метод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ирусологические методы отличаются высокой чувствитель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К ним относя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) обнаружение вирусной ДНК в культуре клет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) полимеразная цепная реакция (ПЦР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) серологические методы основанные на определении антител к ВИЧ в сыворотке крови. Они включают в себ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а) иммуноферментный анализ (ИФА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) радиоиммунный анали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в) реакцию иммунофлюоресценции (РИФ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г) метод иммуноблоттинга. Это встречная преципитация в геле антител в сыворотке крови больного с различными вирусными белками, разделенными с помощью электрофореза по молекулярной массе и нанесенными на нитроцеллюлозу. Результат считается положительным при обнаружении у больного антител к 4 и более белкам вируса. 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Метод используется для подтверждения серопозитивности результатов.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9000">
    <p:dissolve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00" fill="hold"/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н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Радикальная терапия СПИДа остается нерешенной проблемой. Выделяют 3 направления терапии больных СПИДо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1. Этиотропн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2. Патогенетическая терап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3. Лечение оппортунистических состоян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Этиотропные препараты воздействуют на возбудитель, в частности, на вирусную обратную транскриптазу. К ним относят ацикловир, рибоверин, сурамин, азидотимидин. Последний препарат имеет наибольшую эффективность. Кроме того, применяют интерферон и его аналоги в больших дозировках (реаферон, плаферон) для антивирусного воздейств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Патогенетическая терапия включает в себя иммунокоррекцию. С этой целью применяют тимомиметики - тималин, тимозин, Т-активин, тимостимулин. Самым эффективным препаратом является интерлейкин-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500" spc="-1" strike="noStrike">
                <a:solidFill>
                  <a:srgbClr val="ffffff"/>
                </a:solidFill>
                <a:latin typeface="Monotype Corsiva"/>
              </a:rPr>
              <a:t>Для терапии оппортунистических инфекций применяют массивные дозы антибиотикотерапии и иммуноглобулины. Для лечения пневмоцистной пневмонии используют в/в введения бисептола, 1-дифтормтилорнитина (ДМФО), для лечения герпеса - ацикловир, завиракс, виролекс и др. Микотические поражения лечат амфотеррицином В, саркому Капоши - винкристином и эпидодовиллотоксином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8000">
    <p:dissolv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1. Выявление и борьба с гомосексуализмом, проституцией, беспорядочными половыми связями, наркоман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2. Тщательное эпидемиологическое и иммунологическое обследование лиц, прибывающих из стран, неблагополучных в отношении СПИ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3. Применение презервативов при половых конта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4. Контроль доноров, обследование крови и ее препаратов на ВИЧ, отстранение от сдачи крови доноров с положительной реакцией на антитела к ВИЧ-1 и ВИЧ-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5. Учет и диспансеризация лиц с обнаруженными в их крови антителами к ВИЧ, предупреждение распространения этими людьми ВИЧ-инфе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6. Широкое внедрение санпросвет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Борьба с ВИЧ-инфекцией в учреждениях здравоохра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Так как кровь и прочие жидкие среды организма могут переносить ВИЧ и другие возбудители инфекционных болезней, медицинские работники всегда должны обращаться с кровью и другими жидкостями организма как, если бы они были инфицированн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4"/>
          <p:cNvSpPr/>
          <p:nvPr/>
        </p:nvSpPr>
        <p:spPr>
          <a:xfrm>
            <a:off x="6084720" y="5084640"/>
            <a:ext cx="50328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4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4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4" dur="500"/>
                                        <p:tgtEl>
                                          <p:spTgt spid="6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ffffff"/>
                </a:solidFill>
                <a:uFillTx/>
                <a:latin typeface="Monotype Corsiva"/>
              </a:rPr>
              <a:t>Содерж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5680" y="1982520"/>
            <a:ext cx="685152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Эпидемиолог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Механизм развития болезн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ассификац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Клиническая карт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Лица, подлежащие обследован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Диагностика, лечение  и профилакти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Выво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onotype Corsiva"/>
              </a:rPr>
              <a:t>Использованная литерату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филактик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Мытье рук. Руки и другие части тела, загрязненные кровью или жидкостями организма, необходимо тщательно вымыть водой с мылом. Руки также необходимо вымыть сразу после снятия защитных перчато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Перчатки и другие принадлежности. При прямом контакте с кровью и содержащимися в организме жидкостями медицинским работникам следует надевать перчатки соответствующего качества. В случае отсутствия перчаток необходимо использовать другие методы во избежание прямого контакта с кровью. Например пинцет, марлю, полотенце. Если перчатки не одноразовые, их необходимо снять, промыть, дезинфицировать или простерилизовать после каждого пациента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Во время процедур, допускающих разбрызгивание крови (хирургические операции, родовспоможение), глаза, нос и рот должны быть защищены повязкой или маской и очками; следует надевать халат или передник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Monotype Corsiva"/>
              </a:rPr>
              <a:t>- Укол иглой и другие повреждения острым предметом. С иглой или другими острыми предметами всегда следует обращаться с крайней осторожностью. После использования иглы и другие острые инструменты нужно поместить в прочные контейнеры, расположенные как можно ближе к месту использования и обращаться с ними, как с инфицированными материалом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5000">
    <p:dissolv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Picture 5" descr="Рисунок3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</p:transition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9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1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5" descr="Рисунок2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77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7" dur="770" fill="hold"/>
                                        <p:tgtEl>
                                          <p:spTgt spid="6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9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1" dur="77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9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Распространение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5" descr="Рисунок10"/>
          <p:cNvPicPr/>
          <p:nvPr/>
        </p:nvPicPr>
        <p:blipFill>
          <a:blip r:embed="rId1"/>
          <a:stretch/>
        </p:blipFill>
        <p:spPr>
          <a:xfrm>
            <a:off x="395280" y="105264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 говорят врачи: « - Лучше предотвратить болезнь, чем его лечить» - мы все должны знать меры профилактики и каждый должен внести свой вклад в эту рабопроблеме «О чуме нашего времени» во благо всему народу на земл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dissolve/>
  </p:transition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науке существует несколько версий возникновения СПИ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пускают, что вирус СПИДа человека произошёл от родственных вирусов африканских обезьян, вызывающих у них спидоподобное заболевание. Полагают, что новый мутант циркулировал среди коренного населения Центральной Африки, не получая распространения из – за относительной изоляции коренного населения , при этом  он смог приобрести дополнительные патоген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щё в 1973 г. описан странный обряд, бытовавший у жителей побережья озера Виктория: для повышения жизненной силы и половой активности кровь обезьян вводили в вену чело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Есть версия ученых, что люди заразились вирусом СПИДа именно от подвида шимпанзе – троглодиты.  Это могло происходить от укусов крови животных во время охоты на них и свежевания. Люди поголовно истребляли их не только на прокорм самих себя, но и на продажу (так называемый бушмит – «мясо из кустов»). Мясо шимпанзе стали подавать в ресторанах как деликатес. И многие гурманы расплачивались за этот «деликатес» СПИД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4932360" y="5589720"/>
            <a:ext cx="576360" cy="57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9000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стория возникновения ВИЧ/СПИД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риход цивилизации в африканскую глубинку направил СПИД во все уголки земного шара. Раньше на шимпанзе охотились и ели мясо только отдельные африканские племена, изолированное от большого мира. СПИД уже косил их, но они «варились» в нем, как в собственном соку, пока не начали мигрировать в города, пока цивилизация не пришла к ним в облике проституции… Так шимпанзе отомстили африканцам, а африканцы – Зап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уществует еще много других версий, но в науке любая версия, как бы правдоподобна она ни звучала, требует экспериментального подтверж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4000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Что такое ВИЧ/СПИД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15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рус иммунодефицита человека (ВИЧ, HIV) вызывает заболевание, которое называется ВИЧ-инфек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-инфекция - это прогрессирующее антропонозное заболевание с преимущественно перкутанным механизмом заражения, характеризующееся специфическим поражением иммунной системы с развитием иммунодефицита, который проявляется оппортунистическими инфекциями, злокачественными новообразованиями и аутоиммунными эффе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индром приобретенного иммунодефицита - СПИД - является конечной, терминальной стадией ВИЧ-инфекции (поэтому правильно говорить ВИЧ, а не вирус СПИД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324000" y="1844640"/>
            <a:ext cx="2520720" cy="11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ВИЧ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В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виру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Ч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человека</a:t>
            </a:r>
            <a:r>
              <a:rPr b="0" lang="ru-RU" sz="18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16360" y="1844640"/>
            <a:ext cx="59054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Что такое СПИД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С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синдром (комплекс симптом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П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приобретённого (не врождённого состоя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Monotype Corsiva"/>
              </a:rPr>
              <a:t>ИД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– иммунодефицита (организм теряет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пособность</a:t>
            </a: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сопротивляться различным инфекция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6000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Эпидемиолог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передаётся следующими способ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Через кровь: при попадании Инфицированной крови в кровоток человека (при использовании нестерильного инструмента, при переливании инфицированной крови или пересадке органов и ткан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т матери к ребёнку: во время беременности, родов, а также во время грудного вскармливания, что связанно с несовершенством слизистой полости рта и желудочно-кишечного тракта новорождё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Половым путём (особенно при непостоянном половом партнёре и гомосексуальных отношения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не передаё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Бытовым, воздушно-капельным путём, через укусы насеком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2000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 1993 г. в лабораториях вирусологов Люка Монтанье (Институт Пастера в Париже) и в начале 1994 г. – Роберта Галло (Национальный раковый центр, г. Бетесда, США) был выделен вирус, ответственный за передачу болезни. Он образован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вирусом иммунодефицита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(ВИЧ,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IV – human immunodeficiency virus)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по своей природе отнесен к особой групп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ретровиру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оказано существование двух видов ВИЧ – ВИЧ-1 и ВИЧ-2. Вызываемые ими болезни несколько отличаются по течению. В 1995 г. определена первичная структура материала ВИЧ – молекулы рибонуклеиновой кислоты (РНК), а также выявлена чрезвычайно высокая вариабельность её структуры (множественность мутантных форм), не имеющая аналогий среди всех известных организмов, от вирусов д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Ретровирусы животных нам известны уже давно как инъекционные агенты ряда животных , например, вирус лейкоза кошек  , который вызывает у этих животных иммунодефицит или рак  , в зависимости от вариаций в вирусном гено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AutoShape 6"/>
          <p:cNvSpPr/>
          <p:nvPr/>
        </p:nvSpPr>
        <p:spPr>
          <a:xfrm>
            <a:off x="7236000" y="4724280"/>
            <a:ext cx="502920" cy="5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7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(продолжение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Следует назвать вирус иммунодефицита обезьян, вирусы анемий лошадей и овец, саркомы и других онкогенных заболеваний кур и многие другие. Более того, за несколько лет до открытия ВИЧ выявлено, что один из лейкозов человека также вызывается ретровирусом, названным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HTLV –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ВИЧ имеет сложное строение (рис. 1). Его наследственным началом является молекула специфичной для этого вируса РНК (две копии). Вирус содержит ещё белковые молекулы: ферменты – обратную транскриптазу (также две копии), протеазу и интегразу, о функциях которых рассказано ниже. Пространственная структура РНК формируется и одновременно защищается оболочкой из белка р7/р9  (символ «р»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обозначает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protein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– белок  , а цифра – примерную молекулярную массу в тысяча дальтон), находящегося во многих копиях . Эти молекулы упакованы во внутреннюю капсиду, формируемую многими копиями белка р24. Внешняя оболочка ВИЧ образуется внутренним слоем белка р17/18 и внешним слоем, состоящим из двойного слоя липидов и трёх типов белков, содержащих остатки сахаров – гликопротеидов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41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gp120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. Происхождение липидов оболочки - клеточ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580000" y="5445000"/>
            <a:ext cx="504720" cy="50508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6000"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5364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роение вирус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582880" y="2997360"/>
            <a:ext cx="3024360" cy="23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Схема строения вируса иммунодефицита человека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1 — капсомеры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2 — геном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3 — липопротеиновая оболочка (суперкапсид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Monotype Corsiva"/>
              </a:rPr>
              <a:t>4 — гликопротеиды</a:t>
            </a:r>
            <a:r>
              <a:rPr b="0" lang="ru-RU" sz="1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9" descr="image161"/>
          <p:cNvPicPr/>
          <p:nvPr/>
        </p:nvPicPr>
        <p:blipFill>
          <a:blip r:embed="rId1"/>
          <a:stretch/>
        </p:blipFill>
        <p:spPr>
          <a:xfrm>
            <a:off x="324000" y="1197000"/>
            <a:ext cx="5040000" cy="4824360"/>
          </a:xfrm>
          <a:prstGeom prst="rect">
            <a:avLst/>
          </a:prstGeom>
          <a:ln w="0">
            <a:noFill/>
          </a:ln>
        </p:spPr>
      </p:pic>
      <p:sp>
        <p:nvSpPr>
          <p:cNvPr id="664" name="Line 20"/>
          <p:cNvSpPr/>
          <p:nvPr/>
        </p:nvSpPr>
        <p:spPr>
          <a:xfrm>
            <a:off x="468360" y="1052640"/>
            <a:ext cx="820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5364000" y="1700280"/>
            <a:ext cx="338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3"/>
          <p:cNvSpPr/>
          <p:nvPr/>
        </p:nvSpPr>
        <p:spPr>
          <a:xfrm>
            <a:off x="5364000" y="148428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Другими словами, вирус после образования, выходя из лимфоцита, открывает часть его клеточной оболочки и упаковывается в н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07:29:48Z</dcterms:created>
  <dc:creator>Zafar</dc:creator>
  <dc:description/>
  <dc:language>en-US</dc:language>
  <cp:lastModifiedBy>addvisor</cp:lastModifiedBy>
  <dcterms:modified xsi:type="dcterms:W3CDTF">2008-12-07T09:12:41Z</dcterms:modified>
  <cp:revision>47</cp:revision>
  <dc:subject/>
  <dc:title>СПИД – «Чума нашего времени»</dc:title>
</cp:coreProperties>
</file>