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71CA-CCFF-4ACE-8453-CA2EEC0C9C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C5A6-928C-48E7-94B6-96189FA7D3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42D-FC63-4EA2-9557-ED929C72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EAC-9751-4C7A-8D41-95BD6D26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3A4D5-17AB-4587-AA9F-D4A1188E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0D70B-BDEB-46D8-8BBA-7A9FF78B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86B33-53E9-4A03-B5B6-3355B15D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85088-DBE9-4BA5-B7D0-90DC4357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B6FC0-B0F4-4CB4-91BE-F3398E24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2D30-6130-43E7-BD16-99491C43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81CAC-9E8B-4372-A7E1-5FCC520C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B9348-7A33-426F-AE64-A9D202A0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915B2-3685-4B70-8FE8-C43CB963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33026-0771-4B7B-B7DA-28DB5EC0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96E-4288-467D-971C-49793C7D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C5E6E-66A6-4CE5-8D27-3A6816A9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AB1FF-9A32-4047-B5CE-2E32B3DE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4044A-7F9B-4008-BD66-E38256D6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56C81-4BD1-4FB1-99E1-31FB7BC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5B4C7-9CEF-4824-824D-A631C1EA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2D1AA-589A-4CF8-8DEE-902D7A0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41641-572F-476D-A5BA-0DED6148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F926B-47D6-4506-AC7B-5B5751F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E45F5-69E9-4BF1-A34C-24B069EF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B420D-9680-4240-9A78-0FA9AA63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76F-7834-4DD1-82FC-82BE2957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970C0-1AD4-4177-8261-63C7591D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F0644-27FB-46C3-91D0-84101EB3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8827D-20C2-407B-8A5D-CB168555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CC133-E1EF-4EC4-9DF8-9720A461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7AAD8-DD2B-42E1-A473-241B4957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08BE7-43EA-47A4-B034-3D02B6D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D1DD1-01B8-4050-BD3C-8713C62A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8415D-6CBB-4DEA-A28B-E1CAF70D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3D7DC-AE71-4E0C-9A08-ABED932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BD997-D27B-426B-8B37-2F1A69E0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069C-1EE7-4474-9B98-8EC3FD98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783C1-DDF2-4164-8B67-4024AED7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54600-B305-40C4-BE54-32620493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988CA-4813-4E64-AEF9-F285A101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947F8-AD65-418D-9327-189E9C92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5F33F-0618-4631-BD16-E21D0741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CBA71-5B00-4153-AB08-53727BAD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96256-3892-4969-A88F-5AB66E4F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21963-FDC4-4EF9-AE1C-531AA474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B209F-7B03-4827-B3E1-C32CDA5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5BAC2-4648-4F3E-BA00-F1984DD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DCD7-0FA5-4863-9F51-A4CBC925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CEA88-70D9-431D-AF3F-06E3D246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E12E9-F5F0-4B2E-BBE9-CDBD6790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E7785-12D3-4E31-A686-83977A54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D5DFE-562F-4676-BD78-910A1538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41E30-31D5-40AF-9D97-2BC75659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F956D-AF25-42CB-A08D-21318594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6CDAF-92A6-42E0-8A10-39EA0D5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65410-E220-4C54-96A5-50D485D2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C764D-E741-49C0-8B56-8538D392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BEE56-FC38-4863-91AF-DB88D0F7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1263-C867-4DBB-9CA6-77ED9050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7E9B8-B596-4DB0-ADD9-F8682B62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DEA2C-6383-4DE5-8C8D-3B76DD3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CF0BB-D92E-42FE-B579-DA63AAF2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DFD0F-A7D4-459A-8B42-A5E78B82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7288D-FE3B-483F-8BBC-4850E012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3750D-7AAC-4D05-A748-1301437F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7FEBF-6839-43DC-A230-D6A3DE44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D997C-212C-4CFE-BBF5-53E873ED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ECC1B-6A6B-41C4-9E6C-A1FF807C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4FD15-0A1A-409C-BC1E-605A0D2C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CF52-EB94-4FF5-83B0-512969D9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F2113-6999-41B8-A808-4268504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757D0-C2A6-4F82-9CB3-2EAF3F35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AF3E0-8977-4B13-88CB-3290416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98627-C57A-4EFC-AEA0-135CCEC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C964A-130A-4C81-B141-148C1FB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90E7D-47AB-4287-BCDA-C0A69EB2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64408-FDCF-436A-BA5C-9AB9DA97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561C9-A53A-46D0-BB5F-59773B21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5DA98B-7A77-4713-B518-EC94303F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8AEA-9192-4120-B171-8675941A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0394-2BDE-4A59-8B7D-E8D9AC4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778E-4D63-4494-9ED3-62F1DED4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AB3-9456-4C7D-BE92-30F29A1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A30-335B-4DB4-BC4D-C3B2277C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5B66-A2CF-44EA-A5F8-B048B8AE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167C-5CF6-474F-B491-C27ADB1B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CD87-EEE1-4E13-B9D2-1B4F9533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F279-A22C-43E2-BC53-AA77B5EA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FC52-04F8-41E4-BDDD-0276BEC6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35BE2-A109-44C7-96D6-8B2970AE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36F2-A63D-46A5-AD60-66F8B583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4695-D167-48C2-8A05-B08FEF96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503B-3571-4B47-A995-788BBC49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6BF-29B0-414E-9A1C-4EEF0AFF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E793-BDFB-4A22-B712-26B081B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57FE0-8461-4390-8AD7-8926657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EB7B-009F-4C1B-89FC-295F1EEE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DF10-A112-4C73-A5D8-E31C432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A720-6451-4DD8-A995-17A6371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7F51-8805-4098-95E3-9DF2CE36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0FAA-8D55-4989-B1B6-2870D3DE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0B43-8B17-481F-9F4F-F7B0FA0D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E989-3369-4659-A138-D43EC726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E2339-3994-4B61-B3CE-8572008C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1E5-1540-4CB3-98F5-5035F8C5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0CBF9-D64D-4CE9-A7F9-47D60CF2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E27D4-F86F-4639-B8F7-42B56706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9FB7-BCD4-4585-8736-36C90130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B13D-87B6-4590-86D1-C5CAF991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E1B53-2832-45A8-885F-EC47605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1179-AB43-4E14-BA2A-4611A061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875C-CED2-4E54-99C5-DE61DDDC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24D4-7A2A-4734-9312-49B46783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D936-7A56-46E1-9C7F-B89C2D4E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4467-0A9B-43AC-8403-418201A6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624-49B3-45D6-8789-35384D61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0E8D-B12D-41A6-AF46-D5C8A21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B1B7A-B905-47A7-849B-79D70638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EC27-A253-4FF5-9425-8B8D7454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1C029-89B9-4C9D-800E-F4EF8D78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0940-51CF-4DC9-9573-A94172A3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794D-F00B-491F-B669-1A3CBE4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89E1-0E8C-4EEA-84D9-CB64FFF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D51F0-54E1-4B83-93D8-D537127A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0CE90-DFEB-40FD-8FEC-C56489D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92FC-1875-49FB-A0D3-F2CC6CB7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5A5-494D-41D2-AEAF-5578DA7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D589-D404-4B45-A446-8A5E58A3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983C-8F7A-4B7D-BD25-2118FAD3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49247-EE53-4B09-A815-39C92CDC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C24E-D0AA-4BC5-BC67-22EFE920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E41E-ED36-4614-B102-CE732C47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64A6-5AA7-4E12-BEDC-AEC5A6E6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9FE36-1EE1-4ED8-B1AC-13015F75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394D-814A-4462-8FD7-D2D154E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7CD01-F94F-4789-BD04-8EAB094F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0766E-C04E-47BC-99CF-0AA22FE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376-FB9F-4BB8-A656-0F63265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7A7DC-90DE-4488-91D2-8C645700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2731-B61B-453C-A08E-38ED22F7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376E6-0308-4B9D-AC0E-39F4D0BE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0E8E9-4783-4CE8-BD7A-873182BE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F0F42-DB07-4E2E-93BB-43101D7A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FB14B-625B-4680-9AFD-099CF120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9536-C04F-4ED6-80EA-14323079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12FE-7D1C-4078-83D4-2FA64D6A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C7859-E4C4-4094-9D27-E6F57AE7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A9DBF-323D-47A9-A93E-9B0B287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507-21B1-45E9-A544-66FD983C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3AE61-7176-4EFC-A127-BFCE4787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EB43F-6303-4BB5-837F-2ED70E8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42125-E851-45F4-A61F-6B607EC5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1C1C3-7165-4F07-BE50-E03812CA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D6C0-C659-4513-9D9E-1BC3A36D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FF33F-C86E-4B4A-9BD5-E79E7DA1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B410-A1D7-48D9-A2EA-D69BC10D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D5BB9-B531-4D2A-BC45-6E3C437A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9DC7B-D02A-4FA2-A512-00B922D2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A14BB-A8BB-489F-9777-4FFA946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9D8-8E67-4A40-8CD4-40C29C5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5670F-C42B-4A64-B870-24477E0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24FE5-B529-476C-9611-CDE4C9A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AFBAA-ED9A-4DB6-A99B-EC69D98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F5DC9-C431-429A-8F91-FA84564D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97F2-823B-4987-AD4B-6F76E13C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5F04C-9FAC-4920-86D9-62BE3966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0BE1D-202A-4ED2-ACBA-4C550413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DCB3B-CCF3-42F2-8380-23B87BC2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F645A-51ED-40CD-ACBB-7D6D1ADE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0D324-02D7-4099-BD75-37587FE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277E-FFBA-4EF5-88B4-EC1F54A3C5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1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DC57-C729-4C5A-BC32-7C51390A5C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58F1-0FB5-4CA2-93B1-EE2045FA03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0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1B66-6329-4DCA-BF9E-CBA9376446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4A86-9E3B-4729-8576-742ABA75B8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9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F11B-C0E3-4FDB-9546-0C326FE742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5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FA55-8506-4F45-A29A-0FF58B6CFC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785B-E8E2-4F00-904B-E3788AAE4A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4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EECE-1FD8-4B7F-A8F6-7FD513BB8E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464-0050-45FC-8818-DD60E36E55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3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6CDE-E467-40B9-946E-C6E2FB772D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480F-2BCB-43BD-95BB-76FA83D0D5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2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F5E5-6944-4875-A51A-1BD9F60A95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28A6-DF9E-41CA-9075-CF32B8B310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16"/>
          <p:cNvSpPr/>
          <p:nvPr/>
        </p:nvSpPr>
        <p:spPr>
          <a:xfrm>
            <a:off x="755640" y="1428840"/>
            <a:ext cx="79200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ВИЧ-инфицированные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и заболевание СПИДо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патогенезе ВИЧ-инфекции ряд авторов выделяют шесть стад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нулевая - инкубационный период или первичная латентная - серонегативная, продолжительностью до 3 месяцев и больш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1 стадия - выраженной вирусной репродукции и первичного иммунного ответа - серопозитивная, продолжительностью до 6-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) 2 стадия - гиперреактивности гуморального иммунитета, продолжительностью до 3-5 л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4) 3 стадия - компенсированного иммунодефицита (число Т-лимфоцитов не менее 400 в 1 мкл, Т4 : Т8 не менее 0,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5) 4 стадия - выраженного угнетения клеточного иммунитета и начала декомпенсации гуморального иммунитета с угасанием 3 из 4 кожно-аллергических реак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6) 5 стадия - полного отсутствия реакций гиперчувствительности замедленного типа и развитием локальных оппортунистических инфек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7) 6 стадия - терминальная - с глубокими нарушениями клеточного и гуморального иммунитета и генерализованными оппортунистическими инфекция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7164360" y="537372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9000"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ервые четыре стадии патогенеза условно называют "пре-СПИД", остальные - "СПИД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ирус иммунодефицита человека выделен в культурах всех физиологических жидкостей человеческого организма и секретов его желе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ирус проникает в организм в виде свободной или связанной с клеткой частицы, захватывается макрофагами и разносится ими по всему организму, внедряясь в клетки, несущие CD4-антиген (Т-лимфоциты, моноциты крови, тканевые макрофаги, клетки тимуса, костного мозга и др.). От попадания вируса в организм до появления достаточного числа поддающихся идентификации инфицированных клеток должно пройти определенное время. Через 3-8 недель после заражения развивается болезнь, похожая на грипп или мононуклеоз, которая длится около нед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Затем все симптомы исчезают и проявления болезни отсутствуют в течение нескольких недель, месяцев и даже лет. В этот период вирус размножается и уже может быть выделен в лабораторны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0">
    <p:dissolv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сновные формы СП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. Легочная фор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роявляется гипоксемией, болями в груди, рассеянными легочными инфильтратами на рентгеновских снимках легких. Наиболее частая оппортунистическая инфекция - пневмоцистная пневмония. Реже поражения вызываются аспергиллами, легионеллами и цитомегаловирусами. Поражение бронхолегочного аппарата - одно из самых постоянных и частых проявлений СПИДа (более чем у 60 % больны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. Желудочно-кишечная (диспепсическая) фор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Характеризуется выраженной диареей, нарушениями всасывания и стеатореей. У всех больных выявляются гистологические изменения биоптатов тощей и прямой кишок (атрофия ворсинок, гиперплазия крипт) с очаговой регенерацией клеток в области основания крипт. Как правило, из оппортунистических инфекций выявляют кандидоз пищевода и желудка, криптоспоридиоз. Клинически отмечается чувство тяжести за грудиной, нарушение глотания. Поражения желудочно-кишечного-тракта, как и легких, являются одной из основных причин смерти при СПИ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5867280" y="5229360"/>
            <a:ext cx="50508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8000">
    <p:dissolv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. Неврологическая форма (нейроСПИ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У 1/3 больных выявляются изменения ЦНС, причем различают четыре основных вариан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абсцесс токсоплазменной этиологии, прогрессирующая многоочаговая лейкоэнцефалопатия, криптококковый менингит, подострый цитомегаловирусный энцефали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опухоли (первичная или вторичная В-клеточная лимфома мозг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) сосудистые поражения ЦНС и других систем (небактериальный тромботический эндокардит и церебральная геморраг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4) очаговые мозговые повреждения с самоограничивающимся менинги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Находящийся в нейроглии головного мозга ВИЧ может быть причиной прогрессирующей деменции у почти 1/3 больных СПИДом. Она, как правило, развивается постепенно, с появлением тремора и замедленности движений, которые прогрессируют, до развития тяжелого слабоумия, потери речи, недержания мочи и кала и паралича конечностей. Поражения нервной системы служат непосредственной причиной смерти у четверти страдающих СПИД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5508720" y="5516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8000">
    <p:dissolv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Диссеминированная фор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У части больных отмечается нефротический синдром с почечной недостаточностью, поражения органа зрения. Поражения кожи: чаще саркома Капоши, васкулиты, ксеродермиты, опоясывающий лишай, микозы.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Monotype Corsiva"/>
              </a:rPr>
              <a:t>Оппортунистические заболевания (ОЗ) при СПИ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Оппортунистические, или СПИД-ассоциированные состояния, это группа заболеваний различной этиологии, возникающих при СПИДе вследствие тяжелой иммунодепре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Н. Р. Иванов и Д. И. Дранкин выделяют следующие (ОЗ) у больных СПИД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. Злокачественные новообразования: саркома Капоши; лимфома головного мозг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. Инвазии: пневмоцистная пневмония; токсоплазмоз; криптоспоридиоз (кишечная форма с длительной диареей); стронгилоидоз (пневмонии, поражения нервной системы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. Микозы: кандидоз; криптококко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Бактериальные инфекции: легионеллезная пневмония; атипичный микобактериоз; сальмонелле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5. Вирусные инфекции: ЦМВ; прогрессирующая лейкоэнцефалопатия; герпетические инфек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4000">
    <p:dissolv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5" dur="500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5" dur="500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0" dur="500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5" dur="500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500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еречень категорий больных, подлежащих обследованию на наличие антител к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по клиническим показа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лица, у которых отмеча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лихорадка более 1 месяца; диарея, которая продолжается более 1 месяц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увеличение лимфатических узлов 2 и более групп продолжительностью 1 месяц и бол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немотивированная потеря массы тела 10 % и бол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овторные пневмонии (2 случая и больше) в течение последних 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ие, затяжные гнойно-бактериальные, паразитарные заболевания, сепси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"волосистая" лейкоплакия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ая пиодерм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Лица с подозрением или подтвержденным диагноз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бактериальной инфекции у детей младше 13 лет, множественные и рецидивирующ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кандидоза пищевода, трахеи, бронхов или легких, цервикального инвазивного ра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7740720" y="5300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7000">
    <p:dissolv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диссеминированного или внелегочного кокцидиомико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криптоспоридиоза с диареей 1 месяц и более; изоспороза с диареей свыше 1 месяц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Цитомегаловирусного ретинита с потерей зрения; ЦМВ поражения других орган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герпетической инфекции, вызывающей многоочаговые язвы, которые не излечиваются на протяжении 1 месяца, или бронхит, пневмонию, эзофаги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туберкулеза легочного, внелегочного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невмонии, вызванной пневмоцист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рогрессирующей многофокусной лейкоэнцефалопати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токсоплазмоза мозга у детей старше 1 месяца; инфекционного мононуклео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ВИЧ-энцефалопатии; саркомы Капоши; лимфомы Беркета; иммунобластной лимфо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лимфоидной интерстициальной пневмонии у детей младше 13 л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гепатита В, носительство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BsAg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болезни, передающиеся половым путе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ий опоясывающий лишай у лиц старше 6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6000">
    <p:dissolve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Диагностика, лечение и профилакт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пецифическая диагностика ВИЧ-инфекции осуществляется вирусологическими и серологическими метод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ирусологические методы отличаются высокой чувствитель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К ним относя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) обнаружение вирусной ДНК в культуре клет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) полимеразная цепная реакция (ПЦР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) серологические методы основанные на определении антител к ВИЧ в сыворотке крови. Они включают в себ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а) иммуноферментный анализ (ИФА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б) радиоиммунный анали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) реакцию иммунофлюоресценции (РИФ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г) метод иммуноблоттинга. Это встречная преципитация в геле антител в сыворотке крови больного с различными вирусными белками, разделенными с помощью электрофореза по молекулярной массе и нанесенными на нитроцеллюлозу. Результат считается положительным при обнаружении у больного антител к 4 и более белкам вируса. 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Метод используется для подтверждения серопозитивности результатов.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9000">
    <p:dissolve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9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9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900" fill="hold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900" fill="hold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900" fill="hold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еч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Радикальная терапия СПИДа остается нерешенной проблемой. Выделяют 3 направления терапии больных СПИДо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1. Этиотропная терап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2. Патогенетическая терап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3. Лечение оппортунистических состоян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Этиотропные препараты воздействуют на возбудитель, в частности, на вирусную обратную транскриптазу. К ним относят ацикловир, рибоверин, сурамин, азидотимидин. Последний препарат имеет наибольшую эффективность. Кроме того, применяют интерферон и его аналоги в больших дозировках (реаферон, плаферон) для антивирусного воздейств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Патогенетическая терапия включает в себя иммунокоррекцию. С этой целью применяют тимомиметики - тималин, тимозин, Т-активин, тимостимулин. Самым эффективным препаратом является интерлейкин-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Для терапии оппортунистических инфекций применяют массивные дозы антибиотикотерапии и иммуноглобулины. Для лечения пневмоцистной пневмонии используют в/в введения бисептола, 1-дифтормтилорнитина (ДМФО), для лечения герпеса - ацикловир, завиракс, виролекс и др. Микотические поражения лечат амфотеррицином В, саркому Капоши - винкристином и эпидодовиллотоксином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8000">
    <p:dissolve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офилакти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. Выявление и борьба с гомосексуализмом, проституцией, беспорядочными половыми связями, наркоман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. Тщательное эпидемиологическое и иммунологическое обследование лиц, прибывающих из стран, неблагополучных в отношении СПИ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. Применение презервативов при половых конта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Контроль доноров, обследование крови и ее препаратов на ВИЧ, отстранение от сдачи крови доноров с положительной реакцией на антитела к ВИЧ-1 и ВИЧ-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5. Учет и диспансеризация лиц с обнаруженными в их крови антителами к ВИЧ, предупреждение распространения этими людьми ВИЧ-инфек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6. Широкое внедрение санпросвет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Борьба с ВИЧ-инфекцией в учреждениях здравоохра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Так как кровь и прочие жидкие среды организма могут переносить ВИЧ и другие возбудители инфекционных болезней, медицинские работники всегда должны обращаться с кровью и другими жидкостями организма как, если бы они были инфицированн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4"/>
          <p:cNvSpPr/>
          <p:nvPr/>
        </p:nvSpPr>
        <p:spPr>
          <a:xfrm>
            <a:off x="6084720" y="5084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7000">
    <p:dissolve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4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9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4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4" dur="500"/>
                                        <p:tgtEl>
                                          <p:spTgt spid="6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Monotype Corsiva"/>
              </a:rPr>
              <a:t>Содержан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5680" y="1982520"/>
            <a:ext cx="685152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Что такое СПИД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Эпидемиолог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троение виру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лассификац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линическая карт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Диагностика, лечение  и профилакт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ывод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спользованная литерату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офилактика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Мытье рук. Руки и другие части тела, загрязненные кровью или жидкостями организма, необходимо тщательно вымыть водой с мылом. Руки также необходимо вымыть сразу после снятия защитных перчато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Перчатки и другие принадлежности. При прямом контакте с кровью и содержащимися в организме жидкостями медицинским работникам следует надевать перчатки соответствующего качества. В случае отсутствия перчаток необходимо использовать другие методы во избежание прямого контакта с кровью. Например пинцет, марлю, полотенце. Если перчатки не одноразовые, их необходимо снять, промыть, дезинфицировать или простерилизовать после каждого пациента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Во время процедур, допускающих разбрызгивание крови (хирургические операции, родовспоможение), глаза, нос и рот должны быть защищены повязкой или маской и очками; следует надевать халат или передни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Укол иглой и другие повреждения острым предметом. С иглой или другими острыми предметами всегда следует обращаться с крайней осторожностью. После использования иглы и другие острые инструменты нужно поместить в прочные контейнеры, расположенные как можно ближе к месту использования и обращаться с ними, как с инфицированными материалом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5000">
    <p:dissolv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5" name="Picture 5" descr="Рисунок3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ssolve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0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5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7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9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Picture 5" descr="Рисунок2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77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3" dur="770" fill="hold"/>
                                        <p:tgtEl>
                                          <p:spTgt spid="6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5" dur="77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7" dur="77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9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0" name="Picture 5" descr="Рисунок10"/>
          <p:cNvPicPr/>
          <p:nvPr/>
        </p:nvPicPr>
        <p:blipFill>
          <a:blip r:embed="rId1"/>
          <a:stretch/>
        </p:blipFill>
        <p:spPr>
          <a:xfrm>
            <a:off x="395280" y="105264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к говорят врачи: « - Лучше предотвратить болезнь, чем его лечить» - мы все должны знать меры профилактики и каждый должен внести свой вклад в эту рабопроблеме «О чуме нашего времени» во благо всему народу на земл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dissolve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науке существует несколько версий возникновения СПИ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опускают, что вирус СПИДа человека произошёл от родственных вирусов африканских обезьян, вызывающих у них спидоподобное заболевание. Полагают, что новый мутант циркулировал среди коренного населения Центральной Африки, не получая распространения из – за относительной изоляции коренного населения , при этом  он смог приобрести дополнительные патогенн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Ещё в 1973 г. описан странный обряд, бытовавший у жителей побережья озера Виктория: для повышения жизненной силы и половой активности кровь обезьян вводили в вену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Есть версия ученых, что люди заразились вирусом СПИДа именно от подвида шимпанзе – троглодиты.  Это могло происходить от укусов крови животных во время охоты на них и свежевания. Люди поголовно истребляли их не только на прокорм самих себя, но и на продажу (так называемый бушмит – «мясо из кустов»). Мясо шимпанзе стали подавать в ресторанах как деликатес. И многие гурманы расплачивались за этот «деликатес» СПИД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4932360" y="5589720"/>
            <a:ext cx="57636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9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риход цивилизации в африканскую глубинку направил СПИД во все уголки земного шара. Раньше на шимпанзе охотились и ели мясо только отдельные африканские племена, изолированное от большого мира. СПИД уже косил их, но они «варились» в нем, как в собственном соку, пока не начали мигрировать в города, пока цивилизация не пришла к ним в облике проституции… Так шимпанзе отомстили африканцам, а африканцы – Зап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уществует еще много других версий, но в науке любая версия, как бы правдоподобна она ни звучала, требует экспериментального подтвер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4000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Что такое ВИЧ/СПИД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15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рус иммунодефицита человека (ВИЧ, HIV) вызывает заболевание, которое называется ВИЧ-инфек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-инфекция - это прогрессирующее антропонозное заболевание с преимущественно перкутанным механизмом заражения, характеризующееся специфическим поражением иммунной системы с развитием иммунодефицита, который проявляется оппортунистическими инфекциями, злокачественными новообразованиями и аутоиммунными эффе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индром приобретенного иммунодефицита - СПИД - является конечной, терминальной стадией ВИЧ-инфекции (поэтому правильно говорить ВИЧ, а не вирус СПИД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324000" y="1844640"/>
            <a:ext cx="2520720" cy="11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Что такое ВИЧ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В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вир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И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иммунодефици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Ч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человека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16360" y="1844640"/>
            <a:ext cx="59054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Что такое СПИД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С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синдром (комплекс симптом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П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приобретённого (не врождённого состоя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ИД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иммунодефицита (организм теряет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пособность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опротивляться различным инфекциям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6000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Эпидемиолог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передаётся следующими способ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Через кровь: при попадании Инфицированной крови в кровоток человека (при использовании нестерильного инструмента, при переливании инфицированной крови или пересадке органов и ткан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т матери к ребёнку: во время беременности, родов, а также во время грудного вскармливания, что связанно с несовершенством слизистой полости рта и желудочно-кишечного тракта новорождё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оловым путём (особенно при непостоянном половом партнёре и гомосексуальных отношения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не передаё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Бытовым, воздушно-капельным путём, через укусы насеком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2000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1993 г. в лабораториях вирусологов Люка Монтанье (Институт Пастера в Париже) и в начале 1994 г. – Роберта Галло (Национальный раковый центр, г. Бетесда, США) был выделен вирус, ответственный за передачу болезни. Он образован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вирусом иммунодефицита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(ВИЧ,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IV – human immunodeficiency virus)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и по своей природе отнесен к особой групп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ретровиру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оказано существование двух видов ВИЧ – ВИЧ-1 и ВИЧ-2. Вызываемые ими болезни несколько отличаются по течению. В 1995 г. определена первичная структура материала ВИЧ – молекулы рибонуклеиновой кислоты (РНК), а также выявлена чрезвычайно высокая вариабельность её структуры (множественность мутантных форм), не имеющая аналогий среди всех известных организмов, от вирусов до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етровирусы животных нам известны уже давно как инъекционные агенты ряда животных , например, вирус лейкоза кошек  , который вызывает у этих животных иммунодефицит или рак  , в зависимости от вариаций в вирусном гено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7236000" y="4724280"/>
            <a:ext cx="5029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7000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ледует назвать вирус иммунодефицита обезьян, вирусы анемий лошадей и овец, саркомы и других онкогенных заболеваний кур и многие другие. Более того, за несколько лет до открытия ВИЧ выявлено, что один из лейкозов человека также вызывается ретровирусом, названным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TLV –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имеет сложное строение (рис. 1). Его наследственным началом является молекула специфичной для этого вируса РНК (две копии). Вирус содержит ещё белковые молекулы: ферменты – обратную транскриптазу (также две копии), протеазу и интегразу, о функциях которых рассказано ниже. Пространственная структура РНК формируется и одновременно защищается оболочкой из белка р7/р9  (символ «р»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бозначает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protein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– белок  , а цифра – примерную молекулярную массу в тысяча дальтон), находящегося во многих копиях . Эти молекулы упакованы во внутреннюю капсиду, формируемую многими копиями белка р24. Внешняя оболочка ВИЧ образуется внутренним слоем белка р17/18 и внешним слоем, состоящим из двойного слоя липидов и трёх типов белков, содержащих остатки сахаров – гликопротеидов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gp41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gp120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. Происхождение липидов оболочки - клеточ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580000" y="5445000"/>
            <a:ext cx="504720" cy="5050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6000"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5364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582880" y="2997360"/>
            <a:ext cx="302436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Схема строения вируса иммунодефицита человека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1 — капсомеры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2 — геном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3 — липопротеиновая оболочка (суперкапсид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4 — гликопротеиды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19" descr="image161"/>
          <p:cNvPicPr/>
          <p:nvPr/>
        </p:nvPicPr>
        <p:blipFill>
          <a:blip r:embed="rId1"/>
          <a:stretch/>
        </p:blipFill>
        <p:spPr>
          <a:xfrm>
            <a:off x="324000" y="1197000"/>
            <a:ext cx="5040000" cy="4824360"/>
          </a:xfrm>
          <a:prstGeom prst="rect">
            <a:avLst/>
          </a:prstGeom>
          <a:ln w="0">
            <a:noFill/>
          </a:ln>
        </p:spPr>
      </p:pic>
      <p:sp>
        <p:nvSpPr>
          <p:cNvPr id="664" name="Line 20"/>
          <p:cNvSpPr/>
          <p:nvPr/>
        </p:nvSpPr>
        <p:spPr>
          <a:xfrm>
            <a:off x="468360" y="1052640"/>
            <a:ext cx="820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5364000" y="1700280"/>
            <a:ext cx="338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5364000" y="148428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ругими словами, вирус после образования, выходя из лимфоцита, открывает часть его клеточной оболочки и упаковывается в неё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7:29:48Z</dcterms:created>
  <dc:creator>Zafar</dc:creator>
  <dc:description/>
  <dc:language>en-US</dc:language>
  <cp:lastModifiedBy>addvisor</cp:lastModifiedBy>
  <dcterms:modified xsi:type="dcterms:W3CDTF">2008-12-07T09:12:41Z</dcterms:modified>
  <cp:revision>47</cp:revision>
  <dc:subject/>
  <dc:title>СПИД – «Чума нашего времени»</dc:title>
</cp:coreProperties>
</file>