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BDBE-A72F-41C0-BD3B-713191F621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C740-2692-4286-97A5-C37DC1B49E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BF3-84F8-4D17-8477-E0EAF2E5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A020-D0E3-4F48-8D03-4E541CC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33F67-000C-4DA8-93F6-B9B2B470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DF335-8ED0-462D-92A2-71070A20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021EC-AD9D-446F-99E4-C47E7240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E7755-CA22-4BD6-A4F9-86303A22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9D993-F18A-494E-8DB1-EFD97B70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8AF1D-7188-4372-91A9-5103602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F5C26-BE6B-4411-8C4B-8D8C76CA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379FD-DD0B-4E02-9394-7B9CFD5D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367D6-E690-43E2-81EA-54152C5A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1F921-2E97-4EC8-95D4-0CB89DD6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641-9D58-40E7-AD49-E90DAE59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07610-7286-4AC5-AA2B-52D2B3B2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A8D9C-D229-4C3D-BE81-D9EB17E3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BD090-9BED-439A-9642-C8E51FA5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19D7F-955B-4FB7-B0FB-AC2C1F9B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5B294-D809-4626-8FE7-55F8D144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89EDF-9A73-40EC-903B-85B6D471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9446C-EE75-4356-8B53-590CE7FE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DC96B-4AAD-404B-9BE8-1F1AA05E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20DCB-E40A-48AA-9F06-4E83C45F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DDE2C-2F62-4053-9AF5-EA5C14CF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19F-F601-461D-AEA8-7A3FB548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17A07-641D-479B-A53F-46200270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07B14-A7F9-44EC-9554-A1EEF34C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307AF-5BC8-48AA-828E-5FFAE8D4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D1154-4C14-4FEE-BE00-9FCADB41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352E7-CDAE-4BC4-A001-8E419112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A72E8-F8FE-4D99-9F5C-0C79BC5B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8CAFC-A9B5-435D-9B9F-56BCB7F5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85987-5211-4721-894B-95DF708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8F042-FB6E-44FA-B4A7-174672AD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50432-BBE3-44BD-9FC4-4A8FE31F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FE29-70A6-4DC3-A755-25DEB18B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94D0C-AA72-4C85-8F81-0C58BEE8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C47AB-88AF-4B08-A03F-C1E673BF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BCE98-2D10-4687-81D2-E74417F2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66321-7060-4736-81DD-106A4E14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D9103-BCFA-46B5-B243-E66C02EF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0D599-BD81-4A4E-A27C-10E84706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E1B82-D348-4F60-8023-5EE186D8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1F970-45F3-4323-9695-A76DCB26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583B4-B4A0-4D06-8A5A-009EBDA0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555AB-3081-4492-B761-E8C224E1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068A-FC0E-4813-BB21-4D7FBF4C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D502A-AF50-4117-BDE7-83C77089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EBD1C-177D-4910-A82E-79163BAB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67DFB-1007-4EB6-BC6A-B65996DA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2B277-EF03-449C-8555-33B4CF56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0E65A-87F3-4EC4-8ED5-5B94A9A5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4054B-4692-4953-9E61-00A7522D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AFCB4-1B6B-4DB9-A788-B6BE2231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EAF62-E468-4F66-8780-E6A09582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B244C-87A3-49D5-90BE-77C7CA9D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152A0-62C1-45F4-B7D5-EB455DE8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25FF-57C5-4CE8-BBE5-B40296FE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C9D2F-DAA4-4BE0-B05C-A19559BD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FA94E-076E-46B8-BC25-546F2EF5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EB346-0124-45AA-B23E-E47066FD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71E56-9053-4605-B12B-8ABD79D6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F253A-4CBC-47B4-96B4-AF725C97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807E3-6B14-4CA7-A871-C5A36ECE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1408F-F31D-41A2-A85F-6F1862C3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DC393-D6C4-405F-B319-65057ED3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813B0-E184-4688-952D-80B59B90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6120C-6B82-4F0C-8531-E33D45DF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01DE-FA39-4C2F-B487-DD144C1E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3527A-C187-4F1B-90D0-DD42C338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8ED38-E946-41A7-915C-810B94B5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85908-97A8-4F20-93B4-80A7A1AE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805B2-8871-4EEC-B21F-62605AAE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F4E4E-1F8A-4390-91A7-1FEEF243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C558C-B16A-4104-9B25-206EC48C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489AE-4269-4CB2-BFB6-210C0449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F798A-A57E-4CEB-ACA2-8652A851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DB2D1-88A2-44EB-B3AF-8276DEBD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F315-A2E3-4EE2-A107-02315571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1B07-DEB8-40E0-A391-1BAD93AD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ED43-C559-4D0B-95B5-97991204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C78-868E-41EA-B27D-AB1C4E60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AAD4-DD5D-45C6-9411-4233C1FC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E0C4-4415-442E-B595-080A190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B45C-0BF9-4C5F-AE54-17BD44DD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B97A-2608-43C3-B2A9-0B1A5EBD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ECFC-067D-4D2B-A01D-61A22B46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570A-05E1-495B-81F4-5289AFFA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21782-2C30-44D3-B287-B34AD074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1D03-A26F-4DDD-B33B-E8F321F5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5AE1-D4E7-42C1-A63C-A61D8C4A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CDBF-5AB9-4D77-A0D4-C0E3228A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40F-0D9E-4010-B74F-2502B62A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1616-608A-4ED7-90C8-4003066B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6198B-6A9C-4453-AE6D-DFB07EC1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B7B7-B813-4987-A808-447EAFE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4B797-32A8-456C-8A7F-0FC4C3C0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468E-8EB1-45C9-B2CD-2B1A9536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9FFA8-E134-496A-AB8C-DA361573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56EC-864B-4887-87AB-74482E6B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370D-AD95-414C-8915-8E035CE4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9226-7739-4FF2-8B13-6D69A439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D6211-52F6-471F-A086-DD29FE1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2A1-8E4C-4278-B7D3-CB1C70F4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B7627-01CF-4E0D-8566-38678763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35436-2475-4148-A856-85A5F55D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65D66-1907-41A0-A46F-E5068B2B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9BD84-0EC4-423A-9D01-97D54337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9202A-F7A2-4BD5-A505-B471D8C7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97374-E231-448D-8B40-EBBA677B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E353A-E4DC-4261-9B0E-2B5B835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7F59-8322-4B3F-9C03-6182EBC3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7269-BF63-483F-B5FC-D630820A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0834B-A74C-450F-873B-BF700FB6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D52-416F-4860-8DFA-CD3385D8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0A996-770C-4984-9354-FAF450E1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88B89-517F-49CE-88CE-7502844B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F2B06-95E9-409C-9BEE-B8D7005D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86CC4-BADC-4827-89C6-BC1905FB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677B-1478-40D0-9DD4-BBC371F0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27B9-9741-4B1D-804C-20D0D13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6645-484D-462C-9A36-28403398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FD59-4812-4776-8DE6-227B5FD1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69F0F-321F-4B52-970A-F273294B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F34DF-B40B-4EF5-91A5-9E3321C8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40B-53D7-445B-BBCC-20E6BC4E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1209E-558E-4B1C-9E4E-5C423BE3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33B57-4137-40B5-AD77-8E3787F0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7ADC0-EFDA-4514-8FB2-45AD588D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0279A-F5B8-4B80-BF27-526D7146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633A9-D1A9-4768-9C95-818E0C8B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9F5B7-1A97-4813-9D30-CED09D35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BC401-C722-4E30-85B3-34A49D40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713D9-ECA8-4365-AD20-DF0DE98B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FCC06-8735-404C-B132-4B15001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3107C-9CA8-4595-8615-C835F8A5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636-8046-42EA-991B-19C2937D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7BF2F-1820-4BBE-8432-694265CD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72957-B42A-4FDE-BF55-09510FEA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BCBA0-F841-4853-B67C-E5053A5D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D3EA2-2319-4FC3-9588-AC67D07A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FFDC2-830D-485A-B8F0-39837197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C9BBB-BA93-43E0-BA7D-9822E545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DF3CD-5DE1-4BB2-AA8F-8A257200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7B519-FCE2-4565-AED6-65782DAF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3E4BD-E04A-4212-B1BD-4D273A15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626F1-9099-4041-AC1F-76B47439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299-E726-4455-A6C6-374ABED6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9FA0E-FB33-4BC7-AF44-DE757292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60A31-35E5-48BD-A4AC-16C77D9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5DC1C-44E0-4719-8AD0-7383209E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B727C-1D01-4D2E-A95A-152F0EA7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E7955-BF18-40E2-9D02-888C2D93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33BF3-D37E-4EA6-84A5-5AE3C1E6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7360C-77F7-48CE-9488-F4CB24E3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C17F8-A086-4805-B580-89034F4B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20D62-74FE-453A-9454-C23FA16B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5B1D8-A6D3-4BF2-B133-382D3116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3AB-98D3-421E-857A-A9754E3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C24E9-8D53-46B8-995C-80DDA47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561B3-B101-465E-B3B7-77B3B740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8E46E-7F8D-4FD3-8A09-27FA162E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A26EB-64E2-4BF3-8838-6E080AD5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3585C-BF46-4169-92F7-31F2EAE6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291D1-3E04-4FC4-BB15-D9ECFCAD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27CBD-DBF9-4008-B063-4DF36F23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DD599-0B53-407E-A769-01241321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A7222-8F0D-4498-AF7C-5F32F1E0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79E36-BF3C-4DE1-BC23-4ED5E19C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1FBB-189C-4364-8BDF-7555E746E0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1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547D-0425-4213-912F-12A4086A42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B58D-7C80-4039-A3C2-5EE956034D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0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E90F-5049-4ED5-A092-8176A14BBD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2A1B-191D-4B99-90B8-78014CF06E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9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C6DB-FD49-4ABA-A4A6-AF5C6979496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50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8C8F-514A-4A68-A7B1-7F440FDCFD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9B12-8D1D-4EC7-AA6B-80A66E610B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4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B218-BBA3-4026-AEF2-C31858207D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5131-63F6-44CB-B7C4-7CCC5E62D4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3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7986-3BE9-4D3A-AF9B-76844C3360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371E-327F-4ADF-9A83-53DB5DE04A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2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B8AF-6C16-4A3F-AA5D-BF1A8DEB15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8120-E4E7-4215-901D-14B6D37998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16"/>
          <p:cNvSpPr/>
          <p:nvPr/>
        </p:nvSpPr>
        <p:spPr>
          <a:xfrm>
            <a:off x="755640" y="1428840"/>
            <a:ext cx="79200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Monotype Corsiva"/>
              </a:rPr>
              <a:t>ВИЧ-инфицированные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Monotype Corsiva"/>
              </a:rPr>
              <a:t>и заболевание СПИДо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8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Механизм развития болез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патогенезе ВИЧ-инфекции ряд авторов выделяют шесть стад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) нулевая - инкубационный период или первичная латентная - серонегативная, продолжительностью до 3 месяцев и больш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) 1 стадия - выраженной вирусной репродукции и первичного иммунного ответа - серопозитивная, продолжительностью до 6-12 меся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3) 2 стадия - гиперреактивности гуморального иммунитета, продолжительностью до 3-5 л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4) 3 стадия - компенсированного иммунодефицита (число Т-лимфоцитов не менее 400 в 1 мкл, Т4 : Т8 не менее 0,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5) 4 стадия - выраженного угнетения клеточного иммунитета и начала декомпенсации гуморального иммунитета с угасанием 3 из 4 кожно-аллергических реакц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6) 5 стадия - полного отсутствия реакций гиперчувствительности замедленного типа и развитием локальных оппортунистических инфекц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7) 6 стадия - терминальная - с глубокими нарушениями клеточного и гуморального иммунитета и генерализованными оппортунистическими инфекция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4"/>
          <p:cNvSpPr/>
          <p:nvPr/>
        </p:nvSpPr>
        <p:spPr>
          <a:xfrm>
            <a:off x="7164360" y="537372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9000"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6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Механизм развития болезни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Первые четыре стадии патогенеза условно называют "пре-СПИД", остальные - "СПИД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ирус иммунодефицита человека выделен в культурах всех физиологических жидкостей человеческого организма и секретов его желе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ирус проникает в организм в виде свободной или связанной с клеткой частицы, захватывается макрофагами и разносится ими по всему организму, внедряясь в клетки, несущие CD4-антиген (Т-лимфоциты, моноциты крови, тканевые макрофаги, клетки тимуса, костного мозга и др.). От попадания вируса в организм до появления достаточного числа поддающихся идентификации инфицированных клеток должно пройти определенное время. Через 3-8 недель после заражения развивается болезнь, похожая на грипп или мононуклеоз, которая длится около нед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Затем все симптомы исчезают и проявления болезни отсутствуют в течение нескольких недель, месяцев и даже лет. В этот период вирус размножается и уже может быть выделен в лабораторны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0">
    <p:dissolv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линическая картина: основные фор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Основные формы СП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. Легочная фор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роявляется гипоксемией, болями в груди, рассеянными легочными инфильтратами на рентгеновских снимках легких. Наиболее частая оппортунистическая инфекция - пневмоцистная пневмония. Реже поражения вызываются аспергиллами, легионеллами и цитомегаловирусами. Поражение бронхолегочного аппарата - одно из самых постоянных и частых проявлений СПИДа (более чем у 60 % больны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. Желудочно-кишечная (диспепсическая) фор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Характеризуется выраженной диареей, нарушениями всасывания и стеатореей. У всех больных выявляются гистологические изменения биоптатов тощей и прямой кишок (атрофия ворсинок, гиперплазия крипт) с очаговой регенерацией клеток в области основания крипт. Как правило, из оппортунистических инфекций выявляют кандидоз пищевода и желудка, криптоспоридиоз. Клинически отмечается чувство тяжести за грудиной, нарушение глотания. Поражения желудочно-кишечного-тракта, как и легких, являются одной из основных причин смерти при СПИ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5867280" y="5229360"/>
            <a:ext cx="50508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8000">
    <p:dissolv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линическая картина: основные фор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3. Неврологическая форма (нейроСПИ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У 1/3 больных выявляются изменения ЦНС, причем различают четыре основных вариан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) абсцесс токсоплазменной этиологии, прогрессирующая многоочаговая лейкоэнцефалопатия, криптококковый менингит, подострый цитомегаловирусный энцефали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) опухоли (первичная или вторичная В-клеточная лимфома мозг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3) сосудистые поражения ЦНС и других систем (небактериальный тромботический эндокардит и церебральная геморраг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4) очаговые мозговые повреждения с самоограничивающимся менинги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Находящийся в нейроглии головного мозга ВИЧ может быть причиной прогрессирующей деменции у почти 1/3 больных СПИДом. Она, как правило, развивается постепенно, с появлением тремора и замедленности движений, которые прогрессируют, до развития тяжелого слабоумия, потери речи, недержания мочи и кала и паралича конечностей. Поражения нервной системы служат непосредственной причиной смерти у четверти страдающих СПИД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5508720" y="551664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8000">
    <p:dissolv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линическая картина: основные фор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4. Диссеминированная фор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У части больных отмечается нефротический синдром с почечной недостаточностью, поражения органа зрения. Поражения кожи: чаще саркома Капоши, васкулиты, ксеродермиты, опоясывающий лишай, микозы.</a:t>
            </a: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Monotype Corsiva"/>
              </a:rPr>
              <a:t>Оппортунистические заболевания (ОЗ) при СПИ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Оппортунистические, или СПИД-ассоциированные состояния, это группа заболеваний различной этиологии, возникающих при СПИДе вследствие тяжелой иммунодепресс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Н. Р. Иванов и Д. И. Дранкин выделяют следующие (ОЗ) у больных СПИДо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1. Злокачественные новообразования: саркома Капоши; лимфома головного мозг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. Инвазии: пневмоцистная пневмония; токсоплазмоз; криптоспоридиоз (кишечная форма с длительной диареей); стронгилоидоз (пневмонии, поражения нервной системы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3. Микозы: кандидоз; криптококко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4. Бактериальные инфекции: легионеллезная пневмония; атипичный микобактериоз; сальмонелле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5. Вирусные инфекции: ЦМВ; прогрессирующая лейкоэнцефалопатия; герпетические инфек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4000">
    <p:dissolv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7" dur="5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2" dur="50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5" dur="500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500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5" dur="500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0" dur="500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5" dur="500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0" dur="500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5" dur="500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ица, подлежащие обследовани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еречень категорий больных, подлежащих обследованию на наличие антител к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по клиническим показа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) лица, у которых отмеча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лихорадка более 1 месяца; диарея, которая продолжается более 1 месяц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увеличение лимфатических узлов 2 и более групп продолжительностью 1 месяц и бол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немотивированная потеря массы тела 10 % и бол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повторные пневмонии (2 случая и больше) в течение последних 12 меся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рецидивирующие, затяжные гнойно-бактериальные, паразитарные заболевания, сепси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"волосистая" лейкоплакия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рецидивирующая пиодерм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) Лица с подозрением или подтвержденным диагноз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бактериальной инфекции у детей младше 13 лет, множественные и рецидивирующ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кандидоза пищевода, трахеи, бронхов или легких, цервикального инвазивного ра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4"/>
          <p:cNvSpPr/>
          <p:nvPr/>
        </p:nvSpPr>
        <p:spPr>
          <a:xfrm>
            <a:off x="7740720" y="530064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7000">
    <p:dissolve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ица, подлежащие обследованию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диссеминированного или внелегочного кокцидиомикоз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криптоспоридиоза с диареей 1 месяц и более; изоспороза с диареей свыше 1 месяц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Цитомегаловирусного ретинита с потерей зрения; ЦМВ поражения других орган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герпетической инфекции, вызывающей многоочаговые язвы, которые не излечиваются на протяжении 1 месяца, или бронхит, пневмонию, эзофаги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туберкулеза легочного, внелегочного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пневмонии, вызванной пневмоцист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прогрессирующей многофокусной лейкоэнцефалопати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токсоплазмоза мозга у детей старше 1 месяца; инфекционного мононуклеоз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ВИЧ-энцефалопатии; саркомы Капоши; лимфомы Беркета; иммунобластной лимфом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лимфоидной интерстициальной пневмонии у детей младше 13 л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гепатита В, носительство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HBsAg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болезни, передающиеся половым путе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рецидивирующий опоясывающий лишай у лиц старше 60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6000">
    <p:dissolve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Диагностика, лечение и профилакт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пецифическая диагностика ВИЧ-инфекции осуществляется вирусологическими и серологическими метод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Вирусологические методы отличаются высокой чувствительн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К ним относя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1) обнаружение вирусной ДНК в культуре клет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) полимеразная цепная реакция (ПЦР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3) серологические методы основанные на определении антител к ВИЧ в сыворотке крови. Они включают в себ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а) иммуноферментный анализ (ИФА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б) радиоиммунный анализ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в) реакцию иммунофлюоресценции (РИФ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г) метод иммуноблоттинга. Это встречная преципитация в геле антител в сыворотке крови больного с различными вирусными белками, разделенными с помощью электрофореза по молекулярной массе и нанесенными на нитроцеллюлозу. Результат считается положительным при обнаружении у больного антител к 4 и более белкам вируса. 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Метод используется для подтверждения серопозитивности результатов.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9000">
    <p:dissolve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9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9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9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900" fill="hold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00" fill="hold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900" fill="hold"/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900" fill="hold"/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ечен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Радикальная терапия СПИДа остается нерешенной проблемой. Выделяют 3 направления терапии больных СПИДо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1. Этиотропная терап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2. Патогенетическая терап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3. Лечение оппортунистических состоян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Этиотропные препараты воздействуют на возбудитель, в частности, на вирусную обратную транскриптазу. К ним относят ацикловир, рибоверин, сурамин, азидотимидин. Последний препарат имеет наибольшую эффективность. Кроме того, применяют интерферон и его аналоги в больших дозировках (реаферон, плаферон) для антивирусного воздейств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Патогенетическая терапия включает в себя иммунокоррекцию. С этой целью применяют тимомиметики - тималин, тимозин, Т-активин, тимостимулин. Самым эффективным препаратом является интерлейкин-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Для терапии оппортунистических инфекций применяют массивные дозы антибиотикотерапии и иммуноглобулины. Для лечения пневмоцистной пневмонии используют в/в введения бисептола, 1-дифтормтилорнитина (ДМФО), для лечения герпеса - ацикловир, завиракс, виролекс и др. Микотические поражения лечат амфотеррицином В, саркому Капоши - винкристином и эпидодовиллотоксином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8000">
    <p:dissolve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офилакти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1. Выявление и борьба с гомосексуализмом, проституцией, беспорядочными половыми связями, наркоман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. Тщательное эпидемиологическое и иммунологическое обследование лиц, прибывающих из стран, неблагополучных в отношении СПИ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3. Применение презервативов при половых контак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4. Контроль доноров, обследование крови и ее препаратов на ВИЧ, отстранение от сдачи крови доноров с положительной реакцией на антитела к ВИЧ-1 и ВИЧ-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5. Учет и диспансеризация лиц с обнаруженными в их крови антителами к ВИЧ, предупреждение распространения этими людьми ВИЧ-инфек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6. Широкое внедрение санпросвет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Борьба с ВИЧ-инфекцией в учреждениях здравоохра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Так как кровь и прочие жидкие среды организма могут переносить ВИЧ и другие возбудители инфекционных болезней, медицинские работники всегда должны обращаться с кровью и другими жидкостями организма как, если бы они были инфицированн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4"/>
          <p:cNvSpPr/>
          <p:nvPr/>
        </p:nvSpPr>
        <p:spPr>
          <a:xfrm>
            <a:off x="6084720" y="508464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7000">
    <p:dissolve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9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4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9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4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9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4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9" dur="5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4" dur="500"/>
                                        <p:tgtEl>
                                          <p:spTgt spid="6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9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ffff"/>
                </a:solidFill>
                <a:uFillTx/>
                <a:latin typeface="Monotype Corsiva"/>
              </a:rPr>
              <a:t>Содержани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5680" y="1982520"/>
            <a:ext cx="685152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стория возникновения ВИЧ/СПИ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Что такое СПИД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Эпидемиолог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троение виру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Механизм развития болезн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Классификац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Клиническая карти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Лица, подлежащие обследован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Диагностика, лечение  и профилакт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ывод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спользованная литерату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офилактика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Мытье рук. Руки и другие части тела, загрязненные кровью или жидкостями организма, необходимо тщательно вымыть водой с мылом. Руки также необходимо вымыть сразу после снятия защитных перчаток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Перчатки и другие принадлежности. При прямом контакте с кровью и содержащимися в организме жидкостями медицинским работникам следует надевать перчатки соответствующего качества. В случае отсутствия перчаток необходимо использовать другие методы во избежание прямого контакта с кровью. Например пинцет, марлю, полотенце. Если перчатки не одноразовые, их необходимо снять, промыть, дезинфицировать или простерилизовать после каждого пациента.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Во время процедур, допускающих разбрызгивание крови (хирургические операции, родовспоможение), глаза, нос и рот должны быть защищены повязкой или маской и очками; следует надевать халат или передник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Укол иглой и другие повреждения острым предметом. С иглой или другими острыми предметами всегда следует обращаться с крайней осторожностью. После использования иглы и другие острые инструменты нужно поместить в прочные контейнеры, расположенные как можно ближе к месту использования и обращаться с ними, как с инфицированными материалом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5000">
    <p:dissolv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8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Распростран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5" name="Picture 5" descr="Рисунок3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ssolve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0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5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7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9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Распространение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Picture 5" descr="Рисунок2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77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3" dur="770" fill="hold"/>
                                        <p:tgtEl>
                                          <p:spTgt spid="6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5" dur="77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7" dur="77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9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Распространение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0" name="Picture 5" descr="Рисунок10"/>
          <p:cNvPicPr/>
          <p:nvPr/>
        </p:nvPicPr>
        <p:blipFill>
          <a:blip r:embed="rId1"/>
          <a:stretch/>
        </p:blipFill>
        <p:spPr>
          <a:xfrm>
            <a:off x="395280" y="105264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ак говорят врачи: « - Лучше предотвратить болезнь, чем его лечить» - мы все должны знать меры профилактики и каждый должен внести свой вклад в эту рабопроблеме «О чуме нашего времени» во благо всему народу на земл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dissolve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1" dur="2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стория возникновения ВИЧ/СПИ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науке существует несколько версий возникновения СПИ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опускают, что вирус СПИДа человека произошёл от родственных вирусов африканских обезьян, вызывающих у них спидоподобное заболевание. Полагают, что новый мутант циркулировал среди коренного населения Центральной Африки, не получая распространения из – за относительной изоляции коренного населения , при этом  он смог приобрести дополнительные патогенные 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Ещё в 1973 г. описан странный обряд, бытовавший у жителей побережья озера Виктория: для повышения жизненной силы и половой активности кровь обезьян вводили в вену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Есть версия ученых, что люди заразились вирусом СПИДа именно от подвида шимпанзе – троглодиты.  Это могло происходить от укусов крови животных во время охоты на них и свежевания. Люди поголовно истребляли их не только на прокорм самих себя, но и на продажу (так называемый бушмит – «мясо из кустов»). Мясо шимпанзе стали подавать в ресторанах как деликатес. И многие гурманы расплачивались за этот «деликатес» СПИД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10"/>
          <p:cNvSpPr/>
          <p:nvPr/>
        </p:nvSpPr>
        <p:spPr>
          <a:xfrm>
            <a:off x="4932360" y="5589720"/>
            <a:ext cx="57636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9000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стория возникновения ВИЧ/СПИД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риход цивилизации в африканскую глубинку направил СПИД во все уголки земного шара. Раньше на шимпанзе охотились и ели мясо только отдельные африканские племена, изолированное от большого мира. СПИД уже косил их, но они «варились» в нем, как в собственном соку, пока не начали мигрировать в города, пока цивилизация не пришла к ним в облике проституции… Так шимпанзе отомстили африканцам, а африканцы – Запа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уществует еще много других версий, но в науке любая версия, как бы правдоподобна она ни звучала, требует экспериментального подтвер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4000"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Что такое ВИЧ/СПИД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9280" y="3141360"/>
            <a:ext cx="8153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рус иммунодефицита человека (ВИЧ, HIV) вызывает заболевание, которое называется ВИЧ-инфекци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-инфекция - это прогрессирующее антропонозное заболевание с преимущественно перкутанным механизмом заражения, характеризующееся специфическим поражением иммунной системы с развитием иммунодефицита, который проявляется оппортунистическими инфекциями, злокачественными новообразованиями и аутоиммунными эффе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индром приобретенного иммунодефицита - СПИД - является конечной, терминальной стадией ВИЧ-инфекции (поэтому правильно говорить ВИЧ, а не вирус СПИД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324000" y="1844640"/>
            <a:ext cx="2520720" cy="11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Что такое ВИЧ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В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вир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И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иммунодефици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Ч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человека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16360" y="1844640"/>
            <a:ext cx="590544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Что такое СПИД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С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синдром (комплекс симптом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П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приобретённого (не врождённого состоян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ИД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иммунодефицита (организм теряет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пособность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опротивляться различным инфекциям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6000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Эпидемиолог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передаётся следующими способ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Через кровь: при попадании Инфицированной крови в кровоток человека (при использовании нестерильного инструмента, при переливании инфицированной крови или пересадке органов и ткане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От матери к ребёнку: во время беременности, родов, а также во время грудного вскармливания, что связанно с несовершенством слизистой полости рта и желудочно-кишечного тракта новорождё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оловым путём (особенно при непостоянном половом партнёре и гомосексуальных отношения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не передаё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Бытовым, воздушно-капельным путём, через укусы насеком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2000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роение виру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1993 г. в лабораториях вирусологов Люка Монтанье (Институт Пастера в Париже) и в начале 1994 г. – Роберта Галло (Национальный раковый центр, г. Бетесда, США) был выделен вирус, ответственный за передачу болезни. Он образован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вирусом иммунодефицита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(ВИЧ,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HIV – human immunodeficiency virus)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и по своей природе отнесен к особой групп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ретровиру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оказано существование двух видов ВИЧ – ВИЧ-1 и ВИЧ-2. Вызываемые ими болезни несколько отличаются по течению. В 1995 г. определена первичная структура материала ВИЧ – молекулы рибонуклеиновой кислоты (РНК), а также выявлена чрезвычайно высокая вариабельность её структуры (множественность мутантных форм), не имеющая аналогий среди всех известных организмов, от вирусов до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Ретровирусы животных нам известны уже давно как инъекционные агенты ряда животных , например, вирус лейкоза кошек  , который вызывает у этих животных иммунодефицит или рак  , в зависимости от вариаций в вирусном гено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7236000" y="4724280"/>
            <a:ext cx="50292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7000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роение вируса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ледует назвать вирус иммунодефицита обезьян, вирусы анемий лошадей и овец, саркомы и других онкогенных заболеваний кур и многие другие. Более того, за несколько лет до открытия ВИЧ выявлено, что один из лейкозов человека также вызывается ретровирусом, названным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HTLV –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имеет сложное строение (рис. 1). Его наследственным началом является молекула специфичной для этого вируса РНК (две копии). Вирус содержит ещё белковые молекулы: ферменты – обратную транскриптазу (также две копии), протеазу и интегразу, о функциях которых рассказано ниже. Пространственная структура РНК формируется и одновременно защищается оболочкой из белка р7/р9  (символ «р»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обозначает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protein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– белок  , а цифра – примерную молекулярную массу в тысяча дальтон), находящегося во многих копиях . Эти молекулы упакованы во внутреннюю капсиду, формируемую многими копиями белка р24. Внешняя оболочка ВИЧ образуется внутренним слоем белка р17/18 и внешним слоем, состоящим из двойного слоя липидов и трёх типов белков, содержащих остатки сахаров – гликопротеидов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gp41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gp120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. Происхождение липидов оболочки - клеточ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580000" y="5445000"/>
            <a:ext cx="504720" cy="5050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6000">
    <p:dissolv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15364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роение вирус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582880" y="2997360"/>
            <a:ext cx="302436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Схема строения вируса иммунодефицита человека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1 — капсомеры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2 — геном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3 — липопротеиновая оболочка (суперкапсид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4 — гликопротеиды</a:t>
            </a: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Picture 19" descr="image161"/>
          <p:cNvPicPr/>
          <p:nvPr/>
        </p:nvPicPr>
        <p:blipFill>
          <a:blip r:embed="rId1"/>
          <a:stretch/>
        </p:blipFill>
        <p:spPr>
          <a:xfrm>
            <a:off x="324000" y="1197000"/>
            <a:ext cx="5040000" cy="4824360"/>
          </a:xfrm>
          <a:prstGeom prst="rect">
            <a:avLst/>
          </a:prstGeom>
          <a:ln w="0">
            <a:noFill/>
          </a:ln>
        </p:spPr>
      </p:pic>
      <p:sp>
        <p:nvSpPr>
          <p:cNvPr id="664" name="Line 20"/>
          <p:cNvSpPr/>
          <p:nvPr/>
        </p:nvSpPr>
        <p:spPr>
          <a:xfrm>
            <a:off x="468360" y="1052640"/>
            <a:ext cx="820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21"/>
          <p:cNvSpPr/>
          <p:nvPr/>
        </p:nvSpPr>
        <p:spPr>
          <a:xfrm>
            <a:off x="5364000" y="1700280"/>
            <a:ext cx="338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23"/>
          <p:cNvSpPr/>
          <p:nvPr/>
        </p:nvSpPr>
        <p:spPr>
          <a:xfrm>
            <a:off x="5364000" y="148428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ругими словами, вирус после образования, выходя из лимфоцита, открывает часть его клеточной оболочки и упаковывается в неё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7:29:48Z</dcterms:created>
  <dc:creator>Zafar</dc:creator>
  <dc:description/>
  <dc:language>en-US</dc:language>
  <cp:lastModifiedBy>addvisor</cp:lastModifiedBy>
  <dcterms:modified xsi:type="dcterms:W3CDTF">2008-12-07T09:12:41Z</dcterms:modified>
  <cp:revision>47</cp:revision>
  <dc:subject/>
  <dc:title>СПИД – «Чума нашего времени»</dc:title>
</cp:coreProperties>
</file>