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D9E2-357B-45DC-AAE1-38F82A05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8CA6-D808-4E3A-8960-EFB2DF85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DA9-EB50-433C-96F4-A3660B6F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3F75-12BD-4B5C-A4F9-2B814B7B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880C-8B6B-4652-9D55-0A7E547B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CCD4-FD23-4610-9E8D-68A9A36C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477D-42D4-4B84-A0ED-15AA0221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B82B-0908-4B02-A761-3AF2C282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A9BC-15C9-456C-B60B-2C370A37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5D0B-4A65-465F-9ED9-0AE9CE02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EC90-1D68-40E0-AB65-2B3665F2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997C-8F26-4488-8A6B-D2397B77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C2DF-A8E1-4786-AAEE-378A41A1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D5BA-2AC9-43AA-97E5-8FFD9072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077B-CF42-4FEB-91C4-8F5797B6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203E-F35C-47D6-9434-CB13DCBB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CE6A-7C89-416E-9D76-43BD24C4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4102-14DC-4843-AA71-D7BCF54F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AE08-FF06-486F-A284-B4E6C65C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3458-BF4D-493D-BBD2-CDF1504E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27C1-5271-43FE-9D07-052E09A2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D6AC-9CD7-4667-8BFB-0262153F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FACC-A356-468D-B808-7B12A1B3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3268-6574-404A-AC36-2617C9EF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CBC6-08CC-4B50-896D-FA487C077D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F3A8-21BA-434A-B9F7-69439E151E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Объект WordArt 2"/>
          <p:cNvSpPr txBox="1"/>
          <p:nvPr/>
        </p:nvSpPr>
        <p:spPr>
          <a:xfrm>
            <a:off x="1547640" y="2060640"/>
            <a:ext cx="7056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Bookman Old Style"/>
              </a:rPr>
              <a:t>ЧТО МЕНЯ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Bookman Old Style"/>
              <a:ea typeface="Bookman Old Style"/>
            </a:endParaRPr>
          </a:p>
        </p:txBody>
      </p:sp>
      <p:sp>
        <p:nvSpPr>
          <p:cNvPr id="83" name="Объект WordArt 3"/>
          <p:cNvSpPr txBox="1"/>
          <p:nvPr/>
        </p:nvSpPr>
        <p:spPr>
          <a:xfrm>
            <a:off x="1692360" y="3213000"/>
            <a:ext cx="7056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Bookman Old Style"/>
              </a:rPr>
              <a:t>"ВЕТЕР ПЕРЕМЕН"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Bookman Old Style"/>
              <a:ea typeface="Bookman Old Style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2" descr="7-1"/>
          <p:cNvPicPr/>
          <p:nvPr/>
        </p:nvPicPr>
        <p:blipFill>
          <a:blip r:embed="rId1"/>
          <a:stretch/>
        </p:blipFill>
        <p:spPr>
          <a:xfrm>
            <a:off x="1187280" y="1525680"/>
            <a:ext cx="6805800" cy="5332320"/>
          </a:xfrm>
          <a:prstGeom prst="rect">
            <a:avLst/>
          </a:prstGeom>
          <a:ln w="0">
            <a:noFill/>
          </a:ln>
        </p:spPr>
      </p:pic>
      <p:sp>
        <p:nvSpPr>
          <p:cNvPr id="107" name="Поле 3"/>
          <p:cNvSpPr/>
          <p:nvPr/>
        </p:nvSpPr>
        <p:spPr>
          <a:xfrm>
            <a:off x="1692360" y="115920"/>
            <a:ext cx="7200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11-12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аган, скорость ветра 28,5 м/с и более. Большие разрушения на значительном пространстве. Очень плохая видим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оле 2"/>
          <p:cNvSpPr/>
          <p:nvPr/>
        </p:nvSpPr>
        <p:spPr>
          <a:xfrm>
            <a:off x="0" y="0"/>
            <a:ext cx="4249800" cy="20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м 1900 года ураган полностью стер с лица земли расположенный на берегу Мексиканского залива город Гэлвстон и вызвал самое крупное в истории США наводнение, в результате которого погибло более 6 тыс. челов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оле 2"/>
          <p:cNvSpPr/>
          <p:nvPr/>
        </p:nvSpPr>
        <p:spPr>
          <a:xfrm>
            <a:off x="2735280" y="0"/>
            <a:ext cx="6408720" cy="1557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54 году ураган «Кэрол» добрался до Нью-Йорка. Были полностью затоплены две улицы в Бруклине. Урагану, унесшему 60 жизней, была присвоена третья категория опасности из пяти возмож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оле 2"/>
          <p:cNvSpPr/>
          <p:nvPr/>
        </p:nvSpPr>
        <p:spPr>
          <a:xfrm>
            <a:off x="0" y="0"/>
            <a:ext cx="6012000" cy="1628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1 октября 1926 года на три американских штата: Флориду, Миссисипи и Алабаму – обрушился ураган, получивший имя «Грейт Майами» («Великий Майами»). Жертвами бедствия стали 243 человека. Ураган имел четвертую категорию опас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оле 2"/>
          <p:cNvSpPr/>
          <p:nvPr/>
        </p:nvSpPr>
        <p:spPr>
          <a:xfrm>
            <a:off x="0" y="0"/>
            <a:ext cx="4932360" cy="1557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им из мощнейших ураганов прошлого столетия считается ураган с женским именем «Камилла» (пятая категория). В 1969 году он вторично разрушил Гэлвстон и стал причиной гибели 256 жителей Техаса, Миссисипи и Луизиа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оле 2"/>
          <p:cNvSpPr/>
          <p:nvPr/>
        </p:nvSpPr>
        <p:spPr>
          <a:xfrm>
            <a:off x="0" y="0"/>
            <a:ext cx="5076720" cy="1125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 того как экономисты подсчитали убытки от урагана 2004 года «Иван», к его имени добавили титул «Грозный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оле 2"/>
          <p:cNvSpPr/>
          <p:nvPr/>
        </p:nvSpPr>
        <p:spPr>
          <a:xfrm>
            <a:off x="4716360" y="5445000"/>
            <a:ext cx="4427640" cy="141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5-30 августа 2005 года на юго-восточное побережье обрушился ураган «Катрина». Больше всего пострадал Новый Орлеан (более 10 тыс. погибших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2" descr="6"/>
          <p:cNvPicPr/>
          <p:nvPr/>
        </p:nvPicPr>
        <p:blipFill>
          <a:blip r:embed="rId1"/>
          <a:stretch/>
        </p:blipFill>
        <p:spPr>
          <a:xfrm>
            <a:off x="755640" y="0"/>
            <a:ext cx="68277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Поле 3"/>
          <p:cNvSpPr/>
          <p:nvPr/>
        </p:nvSpPr>
        <p:spPr>
          <a:xfrm>
            <a:off x="5651640" y="5327640"/>
            <a:ext cx="30859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ий ураган имеет высоту до 16 км и диаметр до 5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бъект WordArt 4"/>
          <p:cNvSpPr txBox="1"/>
          <p:nvPr/>
        </p:nvSpPr>
        <p:spPr>
          <a:xfrm>
            <a:off x="324000" y="260280"/>
            <a:ext cx="849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ФАКТОРЫ, ПОРОЖДАЮЩИЕ УРАГАН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p:transition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Группа 2"/>
          <p:cNvGrpSpPr/>
          <p:nvPr/>
        </p:nvGrpSpPr>
        <p:grpSpPr>
          <a:xfrm>
            <a:off x="324000" y="1650960"/>
            <a:ext cx="4392360" cy="4730760"/>
            <a:chOff x="324000" y="1650960"/>
            <a:chExt cx="4392360" cy="4730760"/>
          </a:xfrm>
        </p:grpSpPr>
        <p:pic>
          <p:nvPicPr>
            <p:cNvPr id="88" name="Рисунок 3" descr="1"/>
            <p:cNvPicPr/>
            <p:nvPr/>
          </p:nvPicPr>
          <p:blipFill>
            <a:blip r:embed="rId1"/>
            <a:stretch/>
          </p:blipFill>
          <p:spPr>
            <a:xfrm>
              <a:off x="396720" y="3740040"/>
              <a:ext cx="4033440" cy="26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Поле 4"/>
            <p:cNvSpPr/>
            <p:nvPr/>
          </p:nvSpPr>
          <p:spPr>
            <a:xfrm>
              <a:off x="324000" y="1650960"/>
              <a:ext cx="4392360" cy="21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азница в скорости ветров на разных высотах создает так называемый ветровой сдвиг, при котором мощнейшие воздушные потоки «засасывают» относительно спокойные нижни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Рисунок 5" descr="1"/>
          <p:cNvPicPr/>
          <p:nvPr/>
        </p:nvPicPr>
        <p:blipFill>
          <a:blip r:embed="rId2"/>
          <a:stretch/>
        </p:blipFill>
        <p:spPr>
          <a:xfrm>
            <a:off x="5019840" y="287280"/>
            <a:ext cx="3800160" cy="3743280"/>
          </a:xfrm>
          <a:prstGeom prst="rect">
            <a:avLst/>
          </a:prstGeom>
          <a:ln w="0">
            <a:noFill/>
          </a:ln>
        </p:spPr>
      </p:pic>
      <p:sp>
        <p:nvSpPr>
          <p:cNvPr id="91" name="Линия 6"/>
          <p:cNvSpPr/>
          <p:nvPr/>
        </p:nvSpPr>
        <p:spPr>
          <a:xfrm>
            <a:off x="7900920" y="2232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Линия 7"/>
          <p:cNvSpPr/>
          <p:nvPr/>
        </p:nvSpPr>
        <p:spPr>
          <a:xfrm flipH="1">
            <a:off x="8764560" y="2232000"/>
            <a:ext cx="1440" cy="21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оле 8"/>
          <p:cNvSpPr/>
          <p:nvPr/>
        </p:nvSpPr>
        <p:spPr>
          <a:xfrm>
            <a:off x="5030640" y="4390920"/>
            <a:ext cx="3733920" cy="148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шая часть штормов рождается у побережья Северной Африки и умирает на севере Аме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оле 9"/>
          <p:cNvSpPr/>
          <p:nvPr/>
        </p:nvSpPr>
        <p:spPr>
          <a:xfrm>
            <a:off x="250920" y="260280"/>
            <a:ext cx="446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тормы движутс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веро-западном направ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2" descr="7-1"/>
          <p:cNvPicPr/>
          <p:nvPr/>
        </p:nvPicPr>
        <p:blipFill>
          <a:blip r:embed="rId1"/>
          <a:stretch/>
        </p:blipFill>
        <p:spPr>
          <a:xfrm>
            <a:off x="0" y="836640"/>
            <a:ext cx="7632720" cy="4713120"/>
          </a:xfrm>
          <a:prstGeom prst="rect">
            <a:avLst/>
          </a:prstGeom>
          <a:ln w="0">
            <a:noFill/>
          </a:ln>
        </p:spPr>
      </p:pic>
      <p:sp>
        <p:nvSpPr>
          <p:cNvPr id="96" name="Поле 3"/>
          <p:cNvSpPr/>
          <p:nvPr/>
        </p:nvSpPr>
        <p:spPr>
          <a:xfrm>
            <a:off x="3598920" y="4724280"/>
            <a:ext cx="554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1-2 балла по шкале Боф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тер тихий, 0,3-3,3 м/с. Направление ветра заметно по относу дыма, движение ощущается кожей лица, шелестят лист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бъект WordArt 4"/>
          <p:cNvSpPr txBox="1"/>
          <p:nvPr/>
        </p:nvSpPr>
        <p:spPr>
          <a:xfrm>
            <a:off x="755640" y="260280"/>
            <a:ext cx="7632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КАКИМ БЫВАЕТ ВЕТЕР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7-1"/>
          <p:cNvPicPr/>
          <p:nvPr/>
        </p:nvPicPr>
        <p:blipFill>
          <a:blip r:embed="rId1"/>
          <a:stretch/>
        </p:blipFill>
        <p:spPr>
          <a:xfrm>
            <a:off x="826920" y="2090880"/>
            <a:ext cx="7525080" cy="4767120"/>
          </a:xfrm>
          <a:prstGeom prst="rect">
            <a:avLst/>
          </a:prstGeom>
          <a:ln w="0">
            <a:noFill/>
          </a:ln>
        </p:spPr>
      </p:pic>
      <p:sp>
        <p:nvSpPr>
          <p:cNvPr id="99" name="Поле 3"/>
          <p:cNvSpPr/>
          <p:nvPr/>
        </p:nvSpPr>
        <p:spPr>
          <a:xfrm>
            <a:off x="1763640" y="189000"/>
            <a:ext cx="7129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3-4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тер слабый или умеренный, 3,4-7,9 м/с. Листья и ветви деревьев все время колышутся, ветер развевает верхние флаги, поднимает пыль и мус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2" descr="7-1"/>
          <p:cNvPicPr/>
          <p:nvPr/>
        </p:nvPicPr>
        <p:blipFill>
          <a:blip r:embed="rId1"/>
          <a:stretch/>
        </p:blipFill>
        <p:spPr>
          <a:xfrm>
            <a:off x="971640" y="1530360"/>
            <a:ext cx="6516720" cy="5327640"/>
          </a:xfrm>
          <a:prstGeom prst="rect">
            <a:avLst/>
          </a:prstGeom>
          <a:ln w="0">
            <a:noFill/>
          </a:ln>
        </p:spPr>
      </p:pic>
      <p:sp>
        <p:nvSpPr>
          <p:cNvPr id="101" name="Поле 3"/>
          <p:cNvSpPr/>
          <p:nvPr/>
        </p:nvSpPr>
        <p:spPr>
          <a:xfrm>
            <a:off x="1763640" y="189000"/>
            <a:ext cx="7129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5-6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тер сильный, 8-13,8 м/с. Качаются тонкие стволы деревьев, гудят телеграфные пров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е 2"/>
          <p:cNvSpPr/>
          <p:nvPr/>
        </p:nvSpPr>
        <p:spPr>
          <a:xfrm>
            <a:off x="1692360" y="189000"/>
            <a:ext cx="7200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7-8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епкий ветер, 13,9-20,7 м/с. Качаются стволы деревьев, ломаются сучья, идти против ветра труд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7-1"/>
          <p:cNvPicPr/>
          <p:nvPr/>
        </p:nvPicPr>
        <p:blipFill>
          <a:blip r:embed="rId1"/>
          <a:stretch/>
        </p:blipFill>
        <p:spPr>
          <a:xfrm>
            <a:off x="324000" y="1587600"/>
            <a:ext cx="8280360" cy="5270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2" descr="7-1"/>
          <p:cNvPicPr/>
          <p:nvPr/>
        </p:nvPicPr>
        <p:blipFill>
          <a:blip r:embed="rId1"/>
          <a:stretch/>
        </p:blipFill>
        <p:spPr>
          <a:xfrm>
            <a:off x="0" y="1960560"/>
            <a:ext cx="9144000" cy="4897440"/>
          </a:xfrm>
          <a:prstGeom prst="rect">
            <a:avLst/>
          </a:prstGeom>
          <a:ln w="0">
            <a:noFill/>
          </a:ln>
        </p:spPr>
      </p:pic>
      <p:sp>
        <p:nvSpPr>
          <p:cNvPr id="105" name="Поле 3"/>
          <p:cNvSpPr/>
          <p:nvPr/>
        </p:nvSpPr>
        <p:spPr>
          <a:xfrm>
            <a:off x="1692360" y="115920"/>
            <a:ext cx="7200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9-1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торм, скорость ветра 20,8-28,4 м/с. Ветер срывает дымовые колпаки и черепицу, рушатся легкие строения, ломаются дере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9:06:3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