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3F1-BB4D-42DD-A37E-61836F0F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11B-6362-45B7-9F48-F166E998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7E6-18EF-4829-8E1F-93118DE5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50D-5750-42DD-AE8A-24A6AC8B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FEC0-5EFA-4000-8F9D-0F9CCB5F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6709-01FE-49C7-84E1-85624671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DEF5-F5B0-418C-B29B-DAF723F6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8930-D34F-477D-80D4-AF9D287F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05E8-DF60-4B37-B478-4A72D63E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F903-FF45-48EE-8448-12ECE35F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7B92-B10D-439A-9664-D09D8B1E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EF8-45EF-44DA-83C4-4B48CEF3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D734-B18F-465C-98ED-F5F74E2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0ECC-7B07-441A-9E9F-8D505C12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1612-1AC1-4F24-A3C1-7F37480A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92B1-EEE8-4C97-9452-BCBF1448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3742-7F84-48FB-BC08-2D6AEF1F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92B-372A-49A5-A392-0F1CEB09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ABB-1622-4031-AB71-86C24CF4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FA6-A62B-467E-A7A9-3BCED20A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275-02F1-4E00-BDE8-94013659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8BF-6A61-4565-86EF-71B4AF86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B97-9392-40B5-BE6D-619F1AA3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113-EAB9-461B-B899-D1A3F264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E6F5-4071-462C-B01A-9BDD3EF347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5DF6-3FFA-440F-8FD7-A40673FF4E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Объект WordArt 2"/>
          <p:cNvSpPr txBox="1"/>
          <p:nvPr/>
        </p:nvSpPr>
        <p:spPr>
          <a:xfrm>
            <a:off x="1547640" y="2060640"/>
            <a:ext cx="705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ookman Old Style"/>
              </a:rPr>
              <a:t>ЧТО МЕНЯ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ookman Old Style"/>
              <a:ea typeface="Bookman Old Style"/>
            </a:endParaRPr>
          </a:p>
        </p:txBody>
      </p:sp>
      <p:sp>
        <p:nvSpPr>
          <p:cNvPr id="83" name="Объект WordArt 3"/>
          <p:cNvSpPr txBox="1"/>
          <p:nvPr/>
        </p:nvSpPr>
        <p:spPr>
          <a:xfrm>
            <a:off x="1692360" y="3213000"/>
            <a:ext cx="7056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ookman Old Style"/>
              </a:rPr>
              <a:t>"ВЕТЕР ПЕРЕМЕН"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ookman Old Style"/>
              <a:ea typeface="Bookman Old Style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2" descr="7-1"/>
          <p:cNvPicPr/>
          <p:nvPr/>
        </p:nvPicPr>
        <p:blipFill>
          <a:blip r:embed="rId1"/>
          <a:stretch/>
        </p:blipFill>
        <p:spPr>
          <a:xfrm>
            <a:off x="1187280" y="1525680"/>
            <a:ext cx="6805800" cy="5332320"/>
          </a:xfrm>
          <a:prstGeom prst="rect">
            <a:avLst/>
          </a:prstGeom>
          <a:ln w="0">
            <a:noFill/>
          </a:ln>
        </p:spPr>
      </p:pic>
      <p:sp>
        <p:nvSpPr>
          <p:cNvPr id="107" name="Поле 3"/>
          <p:cNvSpPr/>
          <p:nvPr/>
        </p:nvSpPr>
        <p:spPr>
          <a:xfrm>
            <a:off x="1692360" y="115920"/>
            <a:ext cx="7200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11-12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аган, скорость ветра 28,5 м/с и более. Большие разрушения на значительном пространстве. Очень плохая вид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оле 2"/>
          <p:cNvSpPr/>
          <p:nvPr/>
        </p:nvSpPr>
        <p:spPr>
          <a:xfrm>
            <a:off x="0" y="0"/>
            <a:ext cx="4249800" cy="20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1900 года ураган полностью стер с лица земли расположенный на берегу Мексиканского залива город Гэлвстон и вызвал самое крупное в истории США наводнение, в результате которого погибло более 6 тыс. челов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оле 2"/>
          <p:cNvSpPr/>
          <p:nvPr/>
        </p:nvSpPr>
        <p:spPr>
          <a:xfrm>
            <a:off x="2735280" y="0"/>
            <a:ext cx="6408720" cy="1557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54 году ураган «Кэрол» добрался до Нью-Йорка. Были полностью затоплены две улицы в Бруклине. Урагану, унесшему 60 жизней, была присвоена третья категория опасности из пяти 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оле 2"/>
          <p:cNvSpPr/>
          <p:nvPr/>
        </p:nvSpPr>
        <p:spPr>
          <a:xfrm>
            <a:off x="0" y="0"/>
            <a:ext cx="6012000" cy="1628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1 октября 1926 года на три американских штата: Флориду, Миссисипи и Алабаму – обрушился ураган, получивший имя «Грейт Майами» («Великий Майами»). Жертвами бедствия стали 243 человека. Ураган имел четвертую категорию 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оле 2"/>
          <p:cNvSpPr/>
          <p:nvPr/>
        </p:nvSpPr>
        <p:spPr>
          <a:xfrm>
            <a:off x="0" y="0"/>
            <a:ext cx="4932360" cy="1557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 из мощнейших ураганов прошлого столетия считается ураган с женским именем «Камилла» (пятая категория). В 1969 году он вторично разрушил Гэлвстон и стал причиной гибели 256 жителей Техаса, Миссисипи и Луизи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оле 2"/>
          <p:cNvSpPr/>
          <p:nvPr/>
        </p:nvSpPr>
        <p:spPr>
          <a:xfrm>
            <a:off x="0" y="0"/>
            <a:ext cx="5076720" cy="1125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 того как экономисты подсчитали убытки от урагана 2004 года «Иван», к его имени добавили титул «Грозный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оле 2"/>
          <p:cNvSpPr/>
          <p:nvPr/>
        </p:nvSpPr>
        <p:spPr>
          <a:xfrm>
            <a:off x="4716360" y="5445000"/>
            <a:ext cx="4427640" cy="141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-30 августа 2005 года на юго-восточное побережье обрушился ураган «Катрина». Больше всего пострадал Новый Орлеан (более 10 тыс. погибших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2" descr="6"/>
          <p:cNvPicPr/>
          <p:nvPr/>
        </p:nvPicPr>
        <p:blipFill>
          <a:blip r:embed="rId1"/>
          <a:stretch/>
        </p:blipFill>
        <p:spPr>
          <a:xfrm>
            <a:off x="755640" y="0"/>
            <a:ext cx="68277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оле 3"/>
          <p:cNvSpPr/>
          <p:nvPr/>
        </p:nvSpPr>
        <p:spPr>
          <a:xfrm>
            <a:off x="5651640" y="5327640"/>
            <a:ext cx="30859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ураган имеет высоту до 16 км и диаметр до 5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бъект WordArt 4"/>
          <p:cNvSpPr txBox="1"/>
          <p:nvPr/>
        </p:nvSpPr>
        <p:spPr>
          <a:xfrm>
            <a:off x="324000" y="260280"/>
            <a:ext cx="84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ФАКТОРЫ, ПОРОЖДАЮЩИЕ УРАГА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Группа 2"/>
          <p:cNvGrpSpPr/>
          <p:nvPr/>
        </p:nvGrpSpPr>
        <p:grpSpPr>
          <a:xfrm>
            <a:off x="324000" y="1650960"/>
            <a:ext cx="4392360" cy="4730760"/>
            <a:chOff x="324000" y="1650960"/>
            <a:chExt cx="4392360" cy="4730760"/>
          </a:xfrm>
        </p:grpSpPr>
        <p:pic>
          <p:nvPicPr>
            <p:cNvPr id="88" name="Рисунок 3" descr="1"/>
            <p:cNvPicPr/>
            <p:nvPr/>
          </p:nvPicPr>
          <p:blipFill>
            <a:blip r:embed="rId1"/>
            <a:stretch/>
          </p:blipFill>
          <p:spPr>
            <a:xfrm>
              <a:off x="396720" y="3740040"/>
              <a:ext cx="403344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Поле 4"/>
            <p:cNvSpPr/>
            <p:nvPr/>
          </p:nvSpPr>
          <p:spPr>
            <a:xfrm>
              <a:off x="324000" y="1650960"/>
              <a:ext cx="439236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зница в скорости ветров на разных высотах создает так называемый ветровой сдвиг, при котором мощнейшие воздушные потоки «засасывают» относительно спокойные нижни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Рисунок 5" descr="1"/>
          <p:cNvPicPr/>
          <p:nvPr/>
        </p:nvPicPr>
        <p:blipFill>
          <a:blip r:embed="rId2"/>
          <a:stretch/>
        </p:blipFill>
        <p:spPr>
          <a:xfrm>
            <a:off x="5019840" y="287280"/>
            <a:ext cx="3800160" cy="3743280"/>
          </a:xfrm>
          <a:prstGeom prst="rect">
            <a:avLst/>
          </a:prstGeom>
          <a:ln w="0">
            <a:noFill/>
          </a:ln>
        </p:spPr>
      </p:pic>
      <p:sp>
        <p:nvSpPr>
          <p:cNvPr id="91" name="Линия 6"/>
          <p:cNvSpPr/>
          <p:nvPr/>
        </p:nvSpPr>
        <p:spPr>
          <a:xfrm>
            <a:off x="7900920" y="2232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Линия 7"/>
          <p:cNvSpPr/>
          <p:nvPr/>
        </p:nvSpPr>
        <p:spPr>
          <a:xfrm flipH="1">
            <a:off x="8764560" y="2232000"/>
            <a:ext cx="144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е 8"/>
          <p:cNvSpPr/>
          <p:nvPr/>
        </p:nvSpPr>
        <p:spPr>
          <a:xfrm>
            <a:off x="5030640" y="4390920"/>
            <a:ext cx="3733920" cy="148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ая часть штормов рождается у побережья Северной Африки и умирает на севере Аме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е 9"/>
          <p:cNvSpPr/>
          <p:nvPr/>
        </p:nvSpPr>
        <p:spPr>
          <a:xfrm>
            <a:off x="250920" y="260280"/>
            <a:ext cx="44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тормы движу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веро-запад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2" descr="7-1"/>
          <p:cNvPicPr/>
          <p:nvPr/>
        </p:nvPicPr>
        <p:blipFill>
          <a:blip r:embed="rId1"/>
          <a:stretch/>
        </p:blipFill>
        <p:spPr>
          <a:xfrm>
            <a:off x="0" y="836640"/>
            <a:ext cx="7632720" cy="4713120"/>
          </a:xfrm>
          <a:prstGeom prst="rect">
            <a:avLst/>
          </a:prstGeom>
          <a:ln w="0">
            <a:noFill/>
          </a:ln>
        </p:spPr>
      </p:pic>
      <p:sp>
        <p:nvSpPr>
          <p:cNvPr id="96" name="Поле 3"/>
          <p:cNvSpPr/>
          <p:nvPr/>
        </p:nvSpPr>
        <p:spPr>
          <a:xfrm>
            <a:off x="3598920" y="4724280"/>
            <a:ext cx="554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1-2 балла по шкале Б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 тихий, 0,3-3,3 м/с. Направление ветра заметно по относу дыма, движение ощущается кожей лица, шелестят ли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ъект WordArt 4"/>
          <p:cNvSpPr txBox="1"/>
          <p:nvPr/>
        </p:nvSpPr>
        <p:spPr>
          <a:xfrm>
            <a:off x="755640" y="260280"/>
            <a:ext cx="763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КАКИМ БЫВАЕТ ВЕТЕ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7-1"/>
          <p:cNvPicPr/>
          <p:nvPr/>
        </p:nvPicPr>
        <p:blipFill>
          <a:blip r:embed="rId1"/>
          <a:stretch/>
        </p:blipFill>
        <p:spPr>
          <a:xfrm>
            <a:off x="826920" y="2090880"/>
            <a:ext cx="7525080" cy="4767120"/>
          </a:xfrm>
          <a:prstGeom prst="rect">
            <a:avLst/>
          </a:prstGeom>
          <a:ln w="0">
            <a:noFill/>
          </a:ln>
        </p:spPr>
      </p:pic>
      <p:sp>
        <p:nvSpPr>
          <p:cNvPr id="99" name="Поле 3"/>
          <p:cNvSpPr/>
          <p:nvPr/>
        </p:nvSpPr>
        <p:spPr>
          <a:xfrm>
            <a:off x="1763640" y="189000"/>
            <a:ext cx="712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3-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 слабый или умеренный, 3,4-7,9 м/с. Листья и ветви деревьев все время колышутся, ветер развевает верхние флаги, поднимает пыль и мус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7-1"/>
          <p:cNvPicPr/>
          <p:nvPr/>
        </p:nvPicPr>
        <p:blipFill>
          <a:blip r:embed="rId1"/>
          <a:stretch/>
        </p:blipFill>
        <p:spPr>
          <a:xfrm>
            <a:off x="971640" y="1530360"/>
            <a:ext cx="6516720" cy="5327640"/>
          </a:xfrm>
          <a:prstGeom prst="rect">
            <a:avLst/>
          </a:prstGeom>
          <a:ln w="0">
            <a:noFill/>
          </a:ln>
        </p:spPr>
      </p:pic>
      <p:sp>
        <p:nvSpPr>
          <p:cNvPr id="101" name="Поле 3"/>
          <p:cNvSpPr/>
          <p:nvPr/>
        </p:nvSpPr>
        <p:spPr>
          <a:xfrm>
            <a:off x="1763640" y="189000"/>
            <a:ext cx="712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5-6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 сильный, 8-13,8 м/с. Качаются тонкие стволы деревьев, гудят телеграфные про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е 2"/>
          <p:cNvSpPr/>
          <p:nvPr/>
        </p:nvSpPr>
        <p:spPr>
          <a:xfrm>
            <a:off x="1692360" y="189000"/>
            <a:ext cx="7200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7-8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пкий ветер, 13,9-20,7 м/с. Качаются стволы деревьев, ломаются сучья, идти против ветра тру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7-1"/>
          <p:cNvPicPr/>
          <p:nvPr/>
        </p:nvPicPr>
        <p:blipFill>
          <a:blip r:embed="rId1"/>
          <a:stretch/>
        </p:blipFill>
        <p:spPr>
          <a:xfrm>
            <a:off x="324000" y="1587600"/>
            <a:ext cx="8280360" cy="527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7-1"/>
          <p:cNvPicPr/>
          <p:nvPr/>
        </p:nvPicPr>
        <p:blipFill>
          <a:blip r:embed="rId1"/>
          <a:stretch/>
        </p:blipFill>
        <p:spPr>
          <a:xfrm>
            <a:off x="0" y="1960560"/>
            <a:ext cx="9144000" cy="4897440"/>
          </a:xfrm>
          <a:prstGeom prst="rect">
            <a:avLst/>
          </a:prstGeom>
          <a:ln w="0">
            <a:noFill/>
          </a:ln>
        </p:spPr>
      </p:pic>
      <p:sp>
        <p:nvSpPr>
          <p:cNvPr id="105" name="Поле 3"/>
          <p:cNvSpPr/>
          <p:nvPr/>
        </p:nvSpPr>
        <p:spPr>
          <a:xfrm>
            <a:off x="1692360" y="115920"/>
            <a:ext cx="7200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9-1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торм, скорость ветра 20,8-28,4 м/с. Ветер срывает дымовые колпаки и черепицу, рушатся легкие строения, ломаются дере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9:06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