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345-0A34-49A0-89D7-76015BA0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6FF-8809-4087-8A53-AB6620EE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ACD-07E4-4543-BE96-B2E0072A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1FC-28AB-4962-AFC1-8D974F78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9EEC-34A0-431E-940F-C7ADDA83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F6B6-E7A9-418A-9C68-F96694A3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B731-3A25-45C5-B94F-0A72E42F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FB8-794A-44D4-8238-51632793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D55D-1A56-4886-8C24-76D2871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D2F0-7F4F-4685-B2D0-DA603211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25CF-9A82-4449-9757-43FB750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D37-D15C-426C-9AE0-CE507328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859-DB27-4F65-B5D4-EA21236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327C-81C4-4C2E-AFC8-CF924AC5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4267-F3F4-4D28-8AE8-295A1998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AF42-0205-4757-9D44-EB614D0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9749-53EF-47C2-A9A3-90BE230C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0E9-A8B9-48DB-81C1-D370FF04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60C-C274-41D7-86DC-FE5717F8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943-CF35-4B61-9276-0686A7C6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AC1-F6BF-4C93-AB22-592E61FB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767-BB79-491E-A7D9-D72FF25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FC2-A5EF-4A13-B283-BEEAEAC6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F79-76A3-4169-BC0C-26FE8FD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5A2B-C508-4825-8511-B13447933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06C-0956-47D6-9461-A9DE7D2718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бъект WordArt 2"/>
          <p:cNvSpPr txBox="1"/>
          <p:nvPr/>
        </p:nvSpPr>
        <p:spPr>
          <a:xfrm>
            <a:off x="1547640" y="2060640"/>
            <a:ext cx="7056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ookman Old Style"/>
              </a:rPr>
              <a:t>ЧТО МЕНЯ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ookman Old Style"/>
              <a:ea typeface="Bookman Old Style"/>
            </a:endParaRPr>
          </a:p>
        </p:txBody>
      </p:sp>
      <p:sp>
        <p:nvSpPr>
          <p:cNvPr id="83" name="Объект WordArt 3"/>
          <p:cNvSpPr txBox="1"/>
          <p:nvPr/>
        </p:nvSpPr>
        <p:spPr>
          <a:xfrm>
            <a:off x="1692360" y="321300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ookman Old Style"/>
              </a:rPr>
              <a:t>"ВЕТЕР ПЕРЕМЕН"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ookman Old Style"/>
              <a:ea typeface="Bookman Old Style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2" descr="7-1"/>
          <p:cNvPicPr/>
          <p:nvPr/>
        </p:nvPicPr>
        <p:blipFill>
          <a:blip r:embed="rId1"/>
          <a:stretch/>
        </p:blipFill>
        <p:spPr>
          <a:xfrm>
            <a:off x="1187280" y="1525680"/>
            <a:ext cx="6805800" cy="5332320"/>
          </a:xfrm>
          <a:prstGeom prst="rect">
            <a:avLst/>
          </a:prstGeom>
          <a:ln w="0">
            <a:noFill/>
          </a:ln>
        </p:spPr>
      </p:pic>
      <p:sp>
        <p:nvSpPr>
          <p:cNvPr id="107" name="Поле 3"/>
          <p:cNvSpPr/>
          <p:nvPr/>
        </p:nvSpPr>
        <p:spPr>
          <a:xfrm>
            <a:off x="1692360" y="115920"/>
            <a:ext cx="720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11-12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аган, скорость ветра 28,5 м/с и более. Большие разрушения на значительном пространстве. Очень плохая вид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ле 2"/>
          <p:cNvSpPr/>
          <p:nvPr/>
        </p:nvSpPr>
        <p:spPr>
          <a:xfrm>
            <a:off x="0" y="0"/>
            <a:ext cx="4249800" cy="201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м 1900 года ураган полностью стер с лица земли расположенный на берегу Мексиканского залива город Гэлвстон и вызвал самое крупное в истории США наводнение, в результате которого погибло более 6 тыс. челов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оле 2"/>
          <p:cNvSpPr/>
          <p:nvPr/>
        </p:nvSpPr>
        <p:spPr>
          <a:xfrm>
            <a:off x="2735280" y="0"/>
            <a:ext cx="6408720" cy="1557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4 году ураган «Кэрол» добрался до Нью-Йорка. Были полностью затоплены две улицы в Бруклине. Урагану, унесшему 60 жизней, была присвоена третья категория опасности из пяти 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оле 2"/>
          <p:cNvSpPr/>
          <p:nvPr/>
        </p:nvSpPr>
        <p:spPr>
          <a:xfrm>
            <a:off x="0" y="0"/>
            <a:ext cx="6012000" cy="1628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1 октября 1926 года на три американских штата: Флориду, Миссисипи и Алабаму – обрушился ураган, получивший имя «Грейт Майами» («Великий Майами»). Жертвами бедствия стали 243 человека. Ураган имел четвертую категорию 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оле 2"/>
          <p:cNvSpPr/>
          <p:nvPr/>
        </p:nvSpPr>
        <p:spPr>
          <a:xfrm>
            <a:off x="0" y="0"/>
            <a:ext cx="4932360" cy="1557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из мощнейших ураганов прошлого столетия считается ураган с женским именем «Камилла» (пятая категория). В 1969 году он вторично разрушил Гэлвстон и стал причиной гибели 256 жителей Техаса, Миссисипи и Луизи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оле 2"/>
          <p:cNvSpPr/>
          <p:nvPr/>
        </p:nvSpPr>
        <p:spPr>
          <a:xfrm>
            <a:off x="0" y="0"/>
            <a:ext cx="5076720" cy="1125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того как экономисты подсчитали убытки от урагана 2004 года «Иван», к его имени добавили титул «Грозны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оле 2"/>
          <p:cNvSpPr/>
          <p:nvPr/>
        </p:nvSpPr>
        <p:spPr>
          <a:xfrm>
            <a:off x="4716360" y="5445000"/>
            <a:ext cx="4427640" cy="141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-30 августа 2005 года на юго-восточное побережье обрушился ураган «Катрина». Больше всего пострадал Новый Орлеан (более 10 тыс. погибших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6"/>
          <p:cNvPicPr/>
          <p:nvPr/>
        </p:nvPicPr>
        <p:blipFill>
          <a:blip r:embed="rId1"/>
          <a:stretch/>
        </p:blipFill>
        <p:spPr>
          <a:xfrm>
            <a:off x="755640" y="0"/>
            <a:ext cx="6827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оле 3"/>
          <p:cNvSpPr/>
          <p:nvPr/>
        </p:nvSpPr>
        <p:spPr>
          <a:xfrm>
            <a:off x="5651640" y="5327640"/>
            <a:ext cx="30859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ураган имеет высоту до 16 км и диаметр до 5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бъект WordArt 4"/>
          <p:cNvSpPr txBox="1"/>
          <p:nvPr/>
        </p:nvSpPr>
        <p:spPr>
          <a:xfrm>
            <a:off x="324000" y="26028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ФАКТОРЫ, ПОРОЖДАЮЩИЕ УРАГ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2"/>
          <p:cNvGrpSpPr/>
          <p:nvPr/>
        </p:nvGrpSpPr>
        <p:grpSpPr>
          <a:xfrm>
            <a:off x="324000" y="1650960"/>
            <a:ext cx="4392360" cy="4730760"/>
            <a:chOff x="324000" y="1650960"/>
            <a:chExt cx="4392360" cy="4730760"/>
          </a:xfrm>
        </p:grpSpPr>
        <p:pic>
          <p:nvPicPr>
            <p:cNvPr id="88" name="Рисунок 3" descr="1"/>
            <p:cNvPicPr/>
            <p:nvPr/>
          </p:nvPicPr>
          <p:blipFill>
            <a:blip r:embed="rId1"/>
            <a:stretch/>
          </p:blipFill>
          <p:spPr>
            <a:xfrm>
              <a:off x="396720" y="3740040"/>
              <a:ext cx="4033440" cy="26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Поле 4"/>
            <p:cNvSpPr/>
            <p:nvPr/>
          </p:nvSpPr>
          <p:spPr>
            <a:xfrm>
              <a:off x="324000" y="1650960"/>
              <a:ext cx="4392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ница в скорости ветров на разных высотах создает так называемый ветровой сдвиг, при котором мощнейшие воздушные потоки «засасывают» относительно спокойные ниж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Рисунок 5" descr="1"/>
          <p:cNvPicPr/>
          <p:nvPr/>
        </p:nvPicPr>
        <p:blipFill>
          <a:blip r:embed="rId2"/>
          <a:stretch/>
        </p:blipFill>
        <p:spPr>
          <a:xfrm>
            <a:off x="5019840" y="287280"/>
            <a:ext cx="3800160" cy="3743280"/>
          </a:xfrm>
          <a:prstGeom prst="rect">
            <a:avLst/>
          </a:prstGeom>
          <a:ln w="0">
            <a:noFill/>
          </a:ln>
        </p:spPr>
      </p:pic>
      <p:sp>
        <p:nvSpPr>
          <p:cNvPr id="91" name="Линия 6"/>
          <p:cNvSpPr/>
          <p:nvPr/>
        </p:nvSpPr>
        <p:spPr>
          <a:xfrm>
            <a:off x="7900920" y="2232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Линия 7"/>
          <p:cNvSpPr/>
          <p:nvPr/>
        </p:nvSpPr>
        <p:spPr>
          <a:xfrm flipH="1">
            <a:off x="8764560" y="2232000"/>
            <a:ext cx="144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е 8"/>
          <p:cNvSpPr/>
          <p:nvPr/>
        </p:nvSpPr>
        <p:spPr>
          <a:xfrm>
            <a:off x="5030640" y="4390920"/>
            <a:ext cx="3733920" cy="1486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ая часть штормов рождается у побережья Северной Африки и умирает на севере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е 9"/>
          <p:cNvSpPr/>
          <p:nvPr/>
        </p:nvSpPr>
        <p:spPr>
          <a:xfrm>
            <a:off x="250920" y="260280"/>
            <a:ext cx="44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тормы движу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веро-западном направ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7-1"/>
          <p:cNvPicPr/>
          <p:nvPr/>
        </p:nvPicPr>
        <p:blipFill>
          <a:blip r:embed="rId1"/>
          <a:stretch/>
        </p:blipFill>
        <p:spPr>
          <a:xfrm>
            <a:off x="0" y="836640"/>
            <a:ext cx="7632720" cy="4713120"/>
          </a:xfrm>
          <a:prstGeom prst="rect">
            <a:avLst/>
          </a:prstGeom>
          <a:ln w="0">
            <a:noFill/>
          </a:ln>
        </p:spPr>
      </p:pic>
      <p:sp>
        <p:nvSpPr>
          <p:cNvPr id="96" name="Поле 3"/>
          <p:cNvSpPr/>
          <p:nvPr/>
        </p:nvSpPr>
        <p:spPr>
          <a:xfrm>
            <a:off x="3598920" y="4724280"/>
            <a:ext cx="554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1-2 балла по шкале Б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тихий, 0,3-3,3 м/с. Направление ветра заметно по относу дыма, движение ощущается кожей лица, шелестят лис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WordArt 4"/>
          <p:cNvSpPr txBox="1"/>
          <p:nvPr/>
        </p:nvSpPr>
        <p:spPr>
          <a:xfrm>
            <a:off x="755640" y="26028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 Antiqua"/>
              </a:rPr>
              <a:t>КАКИМ БЫВАЕТ ВЕТЕ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7-1"/>
          <p:cNvPicPr/>
          <p:nvPr/>
        </p:nvPicPr>
        <p:blipFill>
          <a:blip r:embed="rId1"/>
          <a:stretch/>
        </p:blipFill>
        <p:spPr>
          <a:xfrm>
            <a:off x="826920" y="2090880"/>
            <a:ext cx="7525080" cy="4767120"/>
          </a:xfrm>
          <a:prstGeom prst="rect">
            <a:avLst/>
          </a:prstGeom>
          <a:ln w="0">
            <a:noFill/>
          </a:ln>
        </p:spPr>
      </p:pic>
      <p:sp>
        <p:nvSpPr>
          <p:cNvPr id="99" name="Поле 3"/>
          <p:cNvSpPr/>
          <p:nvPr/>
        </p:nvSpPr>
        <p:spPr>
          <a:xfrm>
            <a:off x="1763640" y="18900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3-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слабый или умеренный, 3,4-7,9 м/с. Листья и ветви деревьев все время колышутся, ветер развевает верхние флаги, поднимает пыль и му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7-1"/>
          <p:cNvPicPr/>
          <p:nvPr/>
        </p:nvPicPr>
        <p:blipFill>
          <a:blip r:embed="rId1"/>
          <a:stretch/>
        </p:blipFill>
        <p:spPr>
          <a:xfrm>
            <a:off x="971640" y="1530360"/>
            <a:ext cx="6516720" cy="5327640"/>
          </a:xfrm>
          <a:prstGeom prst="rect">
            <a:avLst/>
          </a:prstGeom>
          <a:ln w="0">
            <a:noFill/>
          </a:ln>
        </p:spPr>
      </p:pic>
      <p:sp>
        <p:nvSpPr>
          <p:cNvPr id="101" name="Поле 3"/>
          <p:cNvSpPr/>
          <p:nvPr/>
        </p:nvSpPr>
        <p:spPr>
          <a:xfrm>
            <a:off x="1763640" y="18900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5-6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 сильный, 8-13,8 м/с. Качаются тонкие стволы деревьев, гудят телеграфные про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е 2"/>
          <p:cNvSpPr/>
          <p:nvPr/>
        </p:nvSpPr>
        <p:spPr>
          <a:xfrm>
            <a:off x="1692360" y="189000"/>
            <a:ext cx="7200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7-8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пкий ветер, 13,9-20,7 м/с. Качаются стволы деревьев, ломаются сучья, идти против ветра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7-1"/>
          <p:cNvPicPr/>
          <p:nvPr/>
        </p:nvPicPr>
        <p:blipFill>
          <a:blip r:embed="rId1"/>
          <a:stretch/>
        </p:blipFill>
        <p:spPr>
          <a:xfrm>
            <a:off x="324000" y="1587600"/>
            <a:ext cx="8280360" cy="527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7-1"/>
          <p:cNvPicPr/>
          <p:nvPr/>
        </p:nvPicPr>
        <p:blipFill>
          <a:blip r:embed="rId1"/>
          <a:stretch/>
        </p:blipFill>
        <p:spPr>
          <a:xfrm>
            <a:off x="0" y="1960560"/>
            <a:ext cx="9144000" cy="4897440"/>
          </a:xfrm>
          <a:prstGeom prst="rect">
            <a:avLst/>
          </a:prstGeom>
          <a:ln w="0">
            <a:noFill/>
          </a:ln>
        </p:spPr>
      </p:pic>
      <p:sp>
        <p:nvSpPr>
          <p:cNvPr id="105" name="Поле 3"/>
          <p:cNvSpPr/>
          <p:nvPr/>
        </p:nvSpPr>
        <p:spPr>
          <a:xfrm>
            <a:off x="1692360" y="115920"/>
            <a:ext cx="720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9-10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орм, скорость ветра 20,8-28,4 м/с. Ветер срывает дымовые колпаки и черепицу, рушатся легкие строения, ломаются дере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9:06:3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