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7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3DB7-0D88-4E73-8769-24489E58FC5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22F2-308B-46CC-AD83-AF267B66A1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9F6-B40E-4108-93BF-205E61CA6A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3A6-96EB-4594-9882-17E98D42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3F9-F43F-42FF-97D2-AD48FBB7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19E-407D-418C-9A1A-5453978E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838-168F-4B2E-B4E7-6683A302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6A3E-0F3B-411C-882D-1C722C1C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536C-A9B6-40A3-8F2B-1C19C716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4214-7287-4ED6-8791-82F4B146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4424-4FF8-4DBE-9F17-D477B0E1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6711-894B-49B1-B7BA-557E6F7C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4468-FB59-456C-9ACA-39FAAEDC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73F6-4D21-443A-AACA-99A0B325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BA3-6343-4FC8-A4E1-41E0404E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D406-4107-4732-B8F7-FA6A05E5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6D07-7737-4AD8-A1D3-AA684F59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85D0-7C91-4B22-9EB8-E321A9CC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C7FD-16BD-443F-8431-CC337DAD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2AF3-5213-49EE-8317-83029C4A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3B5-1186-44A6-8B68-6381246A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4DC-2188-4D82-8981-EA490F63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A04-4ED7-45FE-8707-1C69018D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D23-0EDA-478C-96C7-00AEC549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442-A2CF-46FE-BEEF-BAFCF43F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D0D-7998-429A-9A4B-CED18AE0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0DF-C391-4A44-8E04-BBDCDBE0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FB84-A1F5-4DAB-8E92-008D228907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96E8-E570-4B79-9BB2-003E146E25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201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1f3"/>
                </a:solidFill>
                <a:latin typeface="Times New Roman"/>
              </a:rPr>
              <a:t>МОУ «Ефремовская ООШ»</a:t>
            </a:r>
            <a:br>
              <a:rPr sz="3200"/>
            </a:br>
            <a:br>
              <a:rPr sz="4800"/>
            </a:br>
            <a:r>
              <a:rPr b="0" lang="en-US" sz="4800" spc="-1" strike="noStrike">
                <a:solidFill>
                  <a:srgbClr val="1c11f3"/>
                </a:solidFill>
                <a:latin typeface="Times New Roman"/>
              </a:rPr>
              <a:t>Урок математики. 4 класс. </a:t>
            </a:r>
            <a:br>
              <a:rPr sz="4800"/>
            </a:br>
            <a:r>
              <a:rPr b="0" lang="en-US" sz="4400" spc="-1" strike="noStrike">
                <a:solidFill>
                  <a:srgbClr val="1c11f3"/>
                </a:solidFill>
                <a:latin typeface="Times New Roman"/>
              </a:rPr>
              <a:t>ТЕМА: «Умножение многозначного числа на двузначное число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МК «Школа России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читель: Комлева Т.И. </a:t>
            </a:r>
            <a:br>
              <a:rPr sz="24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2012 г.</a:t>
            </a: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0" y="142920"/>
            <a:ext cx="92026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озовый скворец съедает 200 г саранч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0" y="5286240"/>
            <a:ext cx="914400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грамм саранчи уничтожит за 4 дня 1 скворец. А 10 скворцов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Управляющая кнопка: справка 9"/>
          <p:cNvGrpSpPr/>
          <p:nvPr/>
        </p:nvGrpSpPr>
        <p:grpSpPr>
          <a:xfrm>
            <a:off x="-73080" y="3809880"/>
            <a:ext cx="1000080" cy="1573200"/>
            <a:chOff x="-73080" y="3809880"/>
            <a:chExt cx="1000080" cy="1573200"/>
          </a:xfrm>
        </p:grpSpPr>
        <p:pic>
          <p:nvPicPr>
            <p:cNvPr id="152" name="Управляющая кнопка: справка 9" descr=""/>
            <p:cNvPicPr/>
            <p:nvPr/>
          </p:nvPicPr>
          <p:blipFill>
            <a:blip r:embed="rId2"/>
            <a:stretch/>
          </p:blipFill>
          <p:spPr>
            <a:xfrm>
              <a:off x="-73080" y="380988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57760"/>
              <a:ext cx="85716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4" name="Track No50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9036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http://rasen-rus.narod.ru/tradichia/ktomy.files/image001.jpg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5286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1476360" y="5013360"/>
            <a:ext cx="6286680" cy="1739880"/>
          </a:xfrm>
          <a:prstGeom prst="rect">
            <a:avLst/>
          </a:prstGeom>
          <a:solidFill>
            <a:srgbClr val="003366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Какую геометрическу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фигуру напоминает вам полет журавлей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Track No17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8" name="Управляющая кнопка: справка 6"/>
          <p:cNvGrpSpPr/>
          <p:nvPr/>
        </p:nvGrpSpPr>
        <p:grpSpPr>
          <a:xfrm>
            <a:off x="0" y="4786200"/>
            <a:ext cx="1066680" cy="2071800"/>
            <a:chOff x="0" y="4786200"/>
            <a:chExt cx="1066680" cy="2071800"/>
          </a:xfrm>
        </p:grpSpPr>
        <p:pic>
          <p:nvPicPr>
            <p:cNvPr id="159" name="Управляющая кнопка: справка 6" descr=""/>
            <p:cNvPicPr/>
            <p:nvPr/>
          </p:nvPicPr>
          <p:blipFill>
            <a:blip r:embed="rId3"/>
            <a:stretch/>
          </p:blipFill>
          <p:spPr>
            <a:xfrm>
              <a:off x="0" y="4786200"/>
              <a:ext cx="106668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3080" y="4832280"/>
              <a:ext cx="9288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451320" cy="487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498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286160" y="3429000"/>
            <a:ext cx="485784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263520" y="3317760"/>
            <a:ext cx="3917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Место ночлег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голубей в лес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ротягивает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шириной в 5 к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 длиной - 60 к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Найдите площад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уча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9440" cy="3276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643200" y="0"/>
            <a:ext cx="5500800" cy="320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Стая странствующих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голубей в полете могла протянуться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на 380 км, приблизительно эт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 Black"/>
              </a:rPr>
              <a:t>2 230 272 000 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птиц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2857680" y="290880"/>
            <a:ext cx="314316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Совушка- сова, большая голова,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На суку сидит, головой вертит. Крыльями хлоп-хлоп ножками топ-топ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Выноска 1 7"/>
          <p:cNvSpPr/>
          <p:nvPr/>
        </p:nvSpPr>
        <p:spPr>
          <a:xfrm rot="10800000">
            <a:off x="500040" y="4785840"/>
            <a:ext cx="4500720" cy="13575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071720" y="507492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6+х=13∙7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Управляющая кнопка: справка 9"/>
          <p:cNvGrpSpPr/>
          <p:nvPr/>
        </p:nvGrpSpPr>
        <p:grpSpPr>
          <a:xfrm>
            <a:off x="-73080" y="4737240"/>
            <a:ext cx="1000080" cy="1504800"/>
            <a:chOff x="-73080" y="4737240"/>
            <a:chExt cx="1000080" cy="1504800"/>
          </a:xfrm>
        </p:grpSpPr>
        <p:pic>
          <p:nvPicPr>
            <p:cNvPr id="172" name="Управляющая кнопка: справка 9" descr=""/>
            <p:cNvPicPr/>
            <p:nvPr/>
          </p:nvPicPr>
          <p:blipFill>
            <a:blip r:embed="rId1"/>
            <a:stretch/>
          </p:blipFill>
          <p:spPr>
            <a:xfrm>
              <a:off x="-73080" y="4737240"/>
              <a:ext cx="10000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4786200"/>
              <a:ext cx="857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" name="Управляющая кнопка: справка 10"/>
          <p:cNvGrpSpPr/>
          <p:nvPr/>
        </p:nvGrpSpPr>
        <p:grpSpPr>
          <a:xfrm>
            <a:off x="8210520" y="450720"/>
            <a:ext cx="1000080" cy="1573200"/>
            <a:chOff x="8210520" y="450720"/>
            <a:chExt cx="1000080" cy="1573200"/>
          </a:xfrm>
        </p:grpSpPr>
        <p:pic>
          <p:nvPicPr>
            <p:cNvPr id="175" name="Управляющая кнопка: справка 10" descr=""/>
            <p:cNvPicPr/>
            <p:nvPr/>
          </p:nvPicPr>
          <p:blipFill>
            <a:blip r:embed="rId2"/>
            <a:stretch/>
          </p:blipFill>
          <p:spPr>
            <a:xfrm>
              <a:off x="8210520" y="45072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286840" y="500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4125960"/>
          </a:xfrm>
          <a:prstGeom prst="rect">
            <a:avLst/>
          </a:prstGeom>
          <a:ln w="0">
            <a:noFill/>
          </a:ln>
        </p:spPr>
      </p:pic>
      <p:sp>
        <p:nvSpPr>
          <p:cNvPr id="178" name="Выноска 1 6"/>
          <p:cNvSpPr/>
          <p:nvPr/>
        </p:nvSpPr>
        <p:spPr>
          <a:xfrm>
            <a:off x="3276720" y="692280"/>
            <a:ext cx="4500360" cy="1357200"/>
          </a:xfrm>
          <a:prstGeom prst="borderCallout1">
            <a:avLst>
              <a:gd name="adj1" fmla="val 18750"/>
              <a:gd name="adj2" fmla="val -8333"/>
              <a:gd name="adj3" fmla="val 107134"/>
              <a:gd name="adj4" fmla="val -12731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419640" y="105156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∙7+270 = 3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418000" y="1989000"/>
            <a:ext cx="32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500280" cy="41432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0" y="0"/>
            <a:ext cx="65008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8100:100+4857:3-168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32∙100-1500∙2-184 = 209∙4 - 175:5 – 788 =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900:45 + 80∙200 – 16004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500 :10 - 20∙35 – 45 =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200 :36 + 17 ∙20 – 51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1800:10∙5 - 400∙2 -71=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5821200"/>
          <a:ext cx="8286840" cy="1036800"/>
        </p:xfrm>
        <a:graphic>
          <a:graphicData uri="http://schemas.openxmlformats.org/drawingml/2006/table">
            <a:tbl>
              <a:tblPr/>
              <a:tblGrid>
                <a:gridCol w="1184400"/>
                <a:gridCol w="1182600"/>
                <a:gridCol w="1184400"/>
                <a:gridCol w="1184040"/>
                <a:gridCol w="1184400"/>
                <a:gridCol w="1182600"/>
                <a:gridCol w="11844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 и медиафайл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Герасимов. Животный мир нашей Родины. Москва, 198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Труднев. Внеклассная работа по математике. Просвещение. 197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циклопедия «АВАНТА +» т.2, 1997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advancedwildlifecontrolllc.com/gray_squirrel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monitore.ru/wallpapers/big/v_podnebese_1600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www.vokrugsveta.ru/photo/imag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turewall.ru/photo/203-0-571-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pus.ru/site.xp/049051053051053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фотографии из архива автор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All Users\Документы\Мои рисунки\Образцы рисунков\Рисунок102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All Users\Документы\Мои рисунки\Образцы рисунков\1.jpg"/>
          <p:cNvPicPr/>
          <p:nvPr/>
        </p:nvPicPr>
        <p:blipFill>
          <a:blip r:embed="rId2"/>
          <a:stretch/>
        </p:blipFill>
        <p:spPr>
          <a:xfrm>
            <a:off x="5286240" y="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979800"/>
            <a:ext cx="3203640" cy="287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64000" y="4000680"/>
            <a:ext cx="3780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5715000"/>
        </p:xfrm>
        <a:graphic>
          <a:graphicData uri="http://schemas.openxmlformats.org/drawingml/2006/table">
            <a:tbl>
              <a:tblPr/>
              <a:tblGrid>
                <a:gridCol w="928800"/>
                <a:gridCol w="1071360"/>
                <a:gridCol w="1040040"/>
                <a:gridCol w="1031760"/>
                <a:gridCol w="1000080"/>
                <a:gridCol w="1019160"/>
                <a:gridCol w="1017720"/>
                <a:gridCol w="1017360"/>
                <a:gridCol w="1017720"/>
              </a:tblGrid>
              <a:tr h="84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Б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В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Г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Ё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Ж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З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Й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К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Н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Р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У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Ф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Х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Ч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Ш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Щ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3" descr="C:\Documents and Settings\All Users\Документы\Мои рисунки\Рисунок555555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14200" y="5214960"/>
          <a:ext cx="8286840" cy="103644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440"/>
                <a:gridCol w="1657080"/>
                <a:gridCol w="165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5292720" cy="368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АИСТ БЕЛЫЙ"/>
          <p:cNvPicPr/>
          <p:nvPr/>
        </p:nvPicPr>
        <p:blipFill>
          <a:blip r:embed="rId3"/>
          <a:stretch/>
        </p:blipFill>
        <p:spPr>
          <a:xfrm>
            <a:off x="0" y="2543040"/>
            <a:ext cx="2857680" cy="431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071880" y="4000680"/>
          <a:ext cx="2428920" cy="150012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03∙65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37∙24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85840" y="357120"/>
          <a:ext cx="3000240" cy="150012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85∙26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730 ∙24 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286080" y="357120"/>
          <a:ext cx="2286000" cy="78588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86080" y="1071720"/>
          <a:ext cx="2286000" cy="78552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415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500800" y="4000680"/>
          <a:ext cx="2214360" cy="71424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589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00800" y="4714920"/>
          <a:ext cx="2214360" cy="78588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00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pic>
        <p:nvPicPr>
          <p:cNvPr id="113" name="Track No04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128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/>
          <p:cNvSpPr/>
          <p:nvPr/>
        </p:nvSpPr>
        <p:spPr>
          <a:xfrm>
            <a:off x="398160" y="0"/>
            <a:ext cx="484704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Иволга живет 15 ле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500720" y="4714920"/>
            <a:ext cx="464328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Сорока – 45 л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Управляющая кнопка: справка 10"/>
          <p:cNvGrpSpPr/>
          <p:nvPr/>
        </p:nvGrpSpPr>
        <p:grpSpPr>
          <a:xfrm>
            <a:off x="-73080" y="5310360"/>
            <a:ext cx="1182600" cy="1644480"/>
            <a:chOff x="-73080" y="5310360"/>
            <a:chExt cx="1182600" cy="1644480"/>
          </a:xfrm>
        </p:grpSpPr>
        <p:pic>
          <p:nvPicPr>
            <p:cNvPr id="117" name="Управляющая кнопка: справка 10" descr=""/>
            <p:cNvPicPr/>
            <p:nvPr/>
          </p:nvPicPr>
          <p:blipFill>
            <a:blip r:embed="rId1"/>
            <a:stretch/>
          </p:blipFill>
          <p:spPr>
            <a:xfrm>
              <a:off x="-73080" y="5310360"/>
              <a:ext cx="118260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5357880"/>
              <a:ext cx="1042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TextBox 9"/>
          <p:cNvGrpSpPr/>
          <p:nvPr/>
        </p:nvGrpSpPr>
        <p:grpSpPr>
          <a:xfrm>
            <a:off x="743040" y="5181480"/>
            <a:ext cx="8645400" cy="1768680"/>
            <a:chOff x="743040" y="5181480"/>
            <a:chExt cx="8645400" cy="1768680"/>
          </a:xfrm>
        </p:grpSpPr>
        <p:pic>
          <p:nvPicPr>
            <p:cNvPr id="120" name="TextBox 9" descr=""/>
            <p:cNvPicPr/>
            <p:nvPr/>
          </p:nvPicPr>
          <p:blipFill>
            <a:blip r:embed="rId2"/>
            <a:stretch/>
          </p:blipFill>
          <p:spPr>
            <a:xfrm>
              <a:off x="743040" y="5181480"/>
              <a:ext cx="86454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71720" y="5349960"/>
              <a:ext cx="807228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Во сколько раз сорока 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живет дольше иволги?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2" name="Track No49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00720" y="476280"/>
            <a:ext cx="4643280" cy="422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620640"/>
            <a:ext cx="4753080" cy="41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811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4"/>
          <p:cNvSpPr/>
          <p:nvPr/>
        </p:nvSpPr>
        <p:spPr>
          <a:xfrm>
            <a:off x="5072040" y="0"/>
            <a:ext cx="4071960" cy="2410920"/>
          </a:xfrm>
          <a:prstGeom prst="rect">
            <a:avLst/>
          </a:prstGeom>
          <a:solidFill>
            <a:srgbClr val="73732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сколько лет скворец живет дольше ласточк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0" y="0"/>
            <a:ext cx="3857760" cy="11293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ворец живет 20 лет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199400" y="6242040"/>
            <a:ext cx="4084920" cy="61164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сточка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- 16 лет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Управляющая кнопка: справка 7"/>
          <p:cNvGrpSpPr/>
          <p:nvPr/>
        </p:nvGrpSpPr>
        <p:grpSpPr>
          <a:xfrm>
            <a:off x="3859200" y="-49320"/>
            <a:ext cx="1249200" cy="2573280"/>
            <a:chOff x="3859200" y="-49320"/>
            <a:chExt cx="1249200" cy="2573280"/>
          </a:xfrm>
        </p:grpSpPr>
        <p:pic>
          <p:nvPicPr>
            <p:cNvPr id="129" name="Управляющая кнопка: справка 7" descr=""/>
            <p:cNvPicPr/>
            <p:nvPr/>
          </p:nvPicPr>
          <p:blipFill>
            <a:blip r:embed="rId1"/>
            <a:stretch/>
          </p:blipFill>
          <p:spPr>
            <a:xfrm>
              <a:off x="3859200" y="-49320"/>
              <a:ext cx="124920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29040" y="0"/>
              <a:ext cx="111456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924360" cy="295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284720" y="2644920"/>
            <a:ext cx="4859280" cy="365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Изображение:Chaetura pelagicaEJN13CB.jpg"/>
          <p:cNvPicPr/>
          <p:nvPr/>
        </p:nvPicPr>
        <p:blipFill>
          <a:blip r:embed="rId1"/>
          <a:stretch/>
        </p:blipFill>
        <p:spPr>
          <a:xfrm>
            <a:off x="0" y="1957320"/>
            <a:ext cx="4929120" cy="4900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146160"/>
            <a:ext cx="9144000" cy="947160"/>
          </a:xfrm>
          <a:prstGeom prst="rect">
            <a:avLst/>
          </a:prstGeom>
          <a:solidFill>
            <a:srgbClr val="003366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асатка летит  со скоростью  28 км/ч, воронок навстречу со скоростью 45 км/ч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0" y="5357880"/>
            <a:ext cx="9001080" cy="15562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ни встретились через 3 час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ели обе ласто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Управляющая кнопка: справка 8"/>
          <p:cNvGrpSpPr/>
          <p:nvPr/>
        </p:nvGrpSpPr>
        <p:grpSpPr>
          <a:xfrm>
            <a:off x="-73080" y="3882960"/>
            <a:ext cx="1000080" cy="1573200"/>
            <a:chOff x="-73080" y="3882960"/>
            <a:chExt cx="1000080" cy="1573200"/>
          </a:xfrm>
        </p:grpSpPr>
        <p:pic>
          <p:nvPicPr>
            <p:cNvPr id="137" name="Управляющая кнопка: справка 8" descr=""/>
            <p:cNvPicPr/>
            <p:nvPr/>
          </p:nvPicPr>
          <p:blipFill>
            <a:blip r:embed="rId2"/>
            <a:stretch/>
          </p:blipFill>
          <p:spPr>
            <a:xfrm>
              <a:off x="-73080" y="388296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3929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9" name="Track No42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4356000" cy="41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2657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0" y="2185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рость стрижа 170 км/ч. В сутки в полёте, стриж находится до 17 ч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857160" y="5719680"/>
            <a:ext cx="8286840" cy="11293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ит стриж за 3 дня?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Управляющая кнопка: справка 5"/>
          <p:cNvGrpSpPr/>
          <p:nvPr/>
        </p:nvGrpSpPr>
        <p:grpSpPr>
          <a:xfrm>
            <a:off x="-73080" y="5383080"/>
            <a:ext cx="1000080" cy="1571760"/>
            <a:chOff x="-73080" y="5383080"/>
            <a:chExt cx="1000080" cy="1571760"/>
          </a:xfrm>
        </p:grpSpPr>
        <p:pic>
          <p:nvPicPr>
            <p:cNvPr id="145" name="Управляющая кнопка: справка 5" descr=""/>
            <p:cNvPicPr/>
            <p:nvPr/>
          </p:nvPicPr>
          <p:blipFill>
            <a:blip r:embed="rId2"/>
            <a:stretch/>
          </p:blipFill>
          <p:spPr>
            <a:xfrm>
              <a:off x="-73080" y="5383080"/>
              <a:ext cx="1000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542916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2171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27:21Z</dcterms:created>
  <dc:creator>Мама</dc:creator>
  <dc:description/>
  <dc:language>en-US</dc:language>
  <cp:lastModifiedBy>user</cp:lastModifiedBy>
  <dcterms:modified xsi:type="dcterms:W3CDTF">2012-11-25T10:32:39Z</dcterms:modified>
  <cp:revision>94</cp:revision>
  <dc:subject/>
  <dc:title>Слайд 1</dc:title>
</cp:coreProperties>
</file>