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F9A9-C78C-4AF2-96E7-306DE86F70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6099-AA29-4D03-98E6-57307F3D74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1E9-71B0-4B6B-B97B-CF5DD27743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E40-7DBD-4546-B047-9E9BECF1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246-B5EE-4EB6-AC7E-E1335BD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A2A-CB01-4793-8013-9AF8F6A9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29B-AF3A-41C0-9942-D746F305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D37E-EAC7-42A2-9EE1-12E9A085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DFB9-4FE4-44AD-85CD-DC240542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3E8-E69D-4BE1-989A-4CE4B76F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04EB-380E-45C7-90B4-7EB5E6F7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4B44-FE30-473B-BB20-880DFCD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82D-8AD8-495C-8084-2C54694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49F4-1DBE-4457-9B51-1E165EA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E61-C6D8-495F-8D8D-8BC0718A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41E8-FD18-4784-A75C-A2E2ED2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5F14-4915-4CE2-9A57-0EF1568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0131-142C-4EE4-936E-4272644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A650-3A72-4079-BBD0-CCCFC46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B65-0EC5-44C2-9DCF-B5224B92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F6A-45E2-492C-81BD-61CABC6E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870-D300-4049-BD40-75A5C1C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E07-9B78-4751-B4C0-ED9438A3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564-0D83-4B4F-BFBC-FCE0C801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1A7-4610-4FD8-8BDF-553626DF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D68-CFAD-4EF1-81F9-D3723E4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638-7FC6-4038-9158-04763581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4D8-C1FC-4315-AF84-0FAFEA60F5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3A94-3933-40A1-B029-00BF89B7A2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20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1f3"/>
                </a:solidFill>
                <a:latin typeface="Times New Roman"/>
              </a:rPr>
              <a:t>МОУ «Ефремовская ООШ»</a:t>
            </a:r>
            <a:br>
              <a:rPr sz="3200"/>
            </a:br>
            <a:br>
              <a:rPr sz="4800"/>
            </a:br>
            <a:r>
              <a:rPr b="0" lang="en-US" sz="4800" spc="-1" strike="noStrike">
                <a:solidFill>
                  <a:srgbClr val="1c11f3"/>
                </a:solidFill>
                <a:latin typeface="Times New Roman"/>
              </a:rPr>
              <a:t>Урок математики. 4 класс. </a:t>
            </a:r>
            <a:br>
              <a:rPr sz="4800"/>
            </a:br>
            <a:r>
              <a:rPr b="0" lang="en-US" sz="4400" spc="-1" strike="noStrike">
                <a:solidFill>
                  <a:srgbClr val="1c11f3"/>
                </a:solidFill>
                <a:latin typeface="Times New Roman"/>
              </a:rPr>
              <a:t>ТЕМА: «Умножение многозначного числа на двузначное число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МК «Школа России»</a:t>
            </a:r>
            <a:br>
              <a:rPr sz="40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Учитель: Комлева Т.И. </a:t>
            </a:r>
            <a:br>
              <a:rPr sz="2400"/>
            </a:br>
            <a:r>
              <a:rPr b="0" lang="en-US" sz="2400" spc="-1" strike="noStrike">
                <a:solidFill>
                  <a:srgbClr val="1c11f3"/>
                </a:solidFill>
                <a:latin typeface="Times New Roman"/>
              </a:rPr>
              <a:t>2012 г.</a:t>
            </a: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0" y="142920"/>
            <a:ext cx="92026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овый скворец съедает 200 г саранч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5286240"/>
            <a:ext cx="914400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грамм саранчи уничтожит за 4 дня 1 скворец. А 10 скворц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Управляющая кнопка: справка 9"/>
          <p:cNvGrpSpPr/>
          <p:nvPr/>
        </p:nvGrpSpPr>
        <p:grpSpPr>
          <a:xfrm>
            <a:off x="-73080" y="3809880"/>
            <a:ext cx="1000080" cy="1573200"/>
            <a:chOff x="-73080" y="3809880"/>
            <a:chExt cx="1000080" cy="1573200"/>
          </a:xfrm>
        </p:grpSpPr>
        <p:pic>
          <p:nvPicPr>
            <p:cNvPr id="152" name="Управляющая кнопка: справка 9" descr=""/>
            <p:cNvPicPr/>
            <p:nvPr/>
          </p:nvPicPr>
          <p:blipFill>
            <a:blip r:embed="rId2"/>
            <a:stretch/>
          </p:blipFill>
          <p:spPr>
            <a:xfrm>
              <a:off x="-73080" y="380988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5776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4" name="Track No5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36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http://rasen-rus.narod.ru/tradichia/ktomy.files/image001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5286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1476360" y="5013360"/>
            <a:ext cx="6286680" cy="1739880"/>
          </a:xfrm>
          <a:prstGeom prst="rect">
            <a:avLst/>
          </a:prstGeom>
          <a:solidFill>
            <a:srgbClr val="003366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Какую геометрическу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фигуру напоминает вам полет журавлей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Track No17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8" name="Управляющая кнопка: справка 6"/>
          <p:cNvGrpSpPr/>
          <p:nvPr/>
        </p:nvGrpSpPr>
        <p:grpSpPr>
          <a:xfrm>
            <a:off x="0" y="4786200"/>
            <a:ext cx="1066680" cy="2071800"/>
            <a:chOff x="0" y="4786200"/>
            <a:chExt cx="1066680" cy="2071800"/>
          </a:xfrm>
        </p:grpSpPr>
        <p:pic>
          <p:nvPicPr>
            <p:cNvPr id="159" name="Управляющая кнопка: справка 6" descr=""/>
            <p:cNvPicPr/>
            <p:nvPr/>
          </p:nvPicPr>
          <p:blipFill>
            <a:blip r:embed="rId3"/>
            <a:stretch/>
          </p:blipFill>
          <p:spPr>
            <a:xfrm>
              <a:off x="0" y="4786200"/>
              <a:ext cx="10666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3080" y="4832280"/>
              <a:ext cx="9288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513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98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286160" y="3429000"/>
            <a:ext cx="485784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63520" y="3317760"/>
            <a:ext cx="39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есто ночлег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голубей в лес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шириной в 5 к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 длиной - 60 к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Найдите площад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ча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9440" cy="327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643200" y="0"/>
            <a:ext cx="5500800" cy="32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Стая странствующих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голубей в полете могла протянутьс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на 380 км, приблизительно эт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Black"/>
              </a:rPr>
              <a:t>2 230 272 000 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птиц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2857680" y="290880"/>
            <a:ext cx="314316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Совушка- сова, большая голова,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 Black"/>
              </a:rPr>
              <a:t>На суку сидит, головой вертит. Крыльями хлоп-хлоп ножками топ-топ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Выноска 1 7"/>
          <p:cNvSpPr/>
          <p:nvPr/>
        </p:nvSpPr>
        <p:spPr>
          <a:xfrm rot="10800000">
            <a:off x="500040" y="4785840"/>
            <a:ext cx="4500720" cy="13575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71720" y="507492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+х=13∙7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Управляющая кнопка: справка 9"/>
          <p:cNvGrpSpPr/>
          <p:nvPr/>
        </p:nvGrpSpPr>
        <p:grpSpPr>
          <a:xfrm>
            <a:off x="-73080" y="4737240"/>
            <a:ext cx="1000080" cy="1504800"/>
            <a:chOff x="-73080" y="4737240"/>
            <a:chExt cx="1000080" cy="1504800"/>
          </a:xfrm>
        </p:grpSpPr>
        <p:pic>
          <p:nvPicPr>
            <p:cNvPr id="172" name="Управляющая кнопка: справка 9" descr=""/>
            <p:cNvPicPr/>
            <p:nvPr/>
          </p:nvPicPr>
          <p:blipFill>
            <a:blip r:embed="rId1"/>
            <a:stretch/>
          </p:blipFill>
          <p:spPr>
            <a:xfrm>
              <a:off x="-73080" y="4737240"/>
              <a:ext cx="10000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4786200"/>
              <a:ext cx="857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Управляющая кнопка: справка 10"/>
          <p:cNvGrpSpPr/>
          <p:nvPr/>
        </p:nvGrpSpPr>
        <p:grpSpPr>
          <a:xfrm>
            <a:off x="8210520" y="450720"/>
            <a:ext cx="1000080" cy="1573200"/>
            <a:chOff x="8210520" y="450720"/>
            <a:chExt cx="1000080" cy="1573200"/>
          </a:xfrm>
        </p:grpSpPr>
        <p:pic>
          <p:nvPicPr>
            <p:cNvPr id="175" name="Управляющая кнопка: справка 10" descr=""/>
            <p:cNvPicPr/>
            <p:nvPr/>
          </p:nvPicPr>
          <p:blipFill>
            <a:blip r:embed="rId2"/>
            <a:stretch/>
          </p:blipFill>
          <p:spPr>
            <a:xfrm>
              <a:off x="8210520" y="45072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286840" y="500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Выноска 1 6"/>
          <p:cNvSpPr/>
          <p:nvPr/>
        </p:nvSpPr>
        <p:spPr>
          <a:xfrm>
            <a:off x="3276720" y="692280"/>
            <a:ext cx="4500360" cy="1357200"/>
          </a:xfrm>
          <a:prstGeom prst="borderCallout1">
            <a:avLst>
              <a:gd name="adj1" fmla="val 18750"/>
              <a:gd name="adj2" fmla="val -8333"/>
              <a:gd name="adj3" fmla="val 107134"/>
              <a:gd name="adj4" fmla="val -12731"/>
            </a:avLst>
          </a:prstGeom>
          <a:solidFill>
            <a:srgbClr val="99cc00"/>
          </a:solidFill>
          <a:ln w="1908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419640" y="105156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∙7+270 = 3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418000" y="198900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500280" cy="4143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65008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100:100+4857:3-168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32∙100-1500∙2-184 = 209∙4 - 175:5 – 788 =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900:45 + 80∙200 – 16004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500 :10 - 20∙35 – 45 =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7200 :36 + 17 ∙20 – 516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1800:10∙5 - 400∙2 -71=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821200"/>
          <a:ext cx="8286840" cy="1036800"/>
        </p:xfrm>
        <a:graphic>
          <a:graphicData uri="http://schemas.openxmlformats.org/drawingml/2006/table">
            <a:tbl>
              <a:tblPr/>
              <a:tblGrid>
                <a:gridCol w="1184400"/>
                <a:gridCol w="1182600"/>
                <a:gridCol w="1184400"/>
                <a:gridCol w="1184040"/>
                <a:gridCol w="1184400"/>
                <a:gridCol w="1182600"/>
                <a:gridCol w="11844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a9432">
                        <a:alpha val="79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 и медиафайл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асимов. Животный мир нашей Родины. Москва, 198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Труднев. Внеклассная работа по математике. Просвещение. 197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циклопедия «АВАНТА +» т.2, 1997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www.advancedwildlifecontrolllc.com/gray_squirrel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monitore.ru/wallpapers/big/v_podnebese_1600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www.vokrugsveta.ru/photo/im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http://naturewall.ru/photo/203-0-571-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us.ru/site.xp/049051053051053.htm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фотографии из архива автор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ll Users\Документы\Мои рисунки\Образцы рисунков\Рисунок102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ll Users\Документы\Мои рисунки\Образцы рисунков\1.jpg"/>
          <p:cNvPicPr/>
          <p:nvPr/>
        </p:nvPicPr>
        <p:blipFill>
          <a:blip r:embed="rId2"/>
          <a:stretch/>
        </p:blipFill>
        <p:spPr>
          <a:xfrm>
            <a:off x="5286240" y="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79800"/>
            <a:ext cx="320364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64000" y="4000680"/>
            <a:ext cx="3780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drawingml/2006/table">
            <a:tbl>
              <a:tblPr/>
              <a:tblGrid>
                <a:gridCol w="928800"/>
                <a:gridCol w="1071360"/>
                <a:gridCol w="1040040"/>
                <a:gridCol w="1031760"/>
                <a:gridCol w="1000080"/>
                <a:gridCol w="1019160"/>
                <a:gridCol w="1017720"/>
                <a:gridCol w="1017360"/>
                <a:gridCol w="1017720"/>
              </a:tblGrid>
              <a:tr h="84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Б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В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Г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Д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Ё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Ж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З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Й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К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Л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О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Р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У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Ф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Х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Ч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Ш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Щ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  <a:tr h="787320"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9432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3" descr="C:\Documents and Settings\All Users\Документы\Мои рисунки\Рисунок555555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4200" y="5214960"/>
          <a:ext cx="8286840" cy="10364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440"/>
                <a:gridCol w="1657080"/>
                <a:gridCol w="165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1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292720" cy="368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ИСТ БЕЛЫЙ"/>
          <p:cNvPicPr/>
          <p:nvPr/>
        </p:nvPicPr>
        <p:blipFill>
          <a:blip r:embed="rId3"/>
          <a:stretch/>
        </p:blipFill>
        <p:spPr>
          <a:xfrm>
            <a:off x="0" y="2543040"/>
            <a:ext cx="2857680" cy="43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71880" y="4000680"/>
          <a:ext cx="2428920" cy="150012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03∙65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37∙24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840" y="357120"/>
          <a:ext cx="3000240" cy="15001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85∙26 =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30 ∙24 =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080" y="357120"/>
          <a:ext cx="2286000" cy="78588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1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86080" y="1071720"/>
          <a:ext cx="2286000" cy="785520"/>
        </p:xfrm>
        <a:graphic>
          <a:graphicData uri="http://schemas.openxmlformats.org/drawingml/2006/table">
            <a:tbl>
              <a:tblPr/>
              <a:tblGrid>
                <a:gridCol w="1500120"/>
                <a:gridCol w="7858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415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500800" y="4000680"/>
          <a:ext cx="2214360" cy="71424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58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00800" y="4714920"/>
          <a:ext cx="2214360" cy="785880"/>
        </p:xfrm>
        <a:graphic>
          <a:graphicData uri="http://schemas.openxmlformats.org/drawingml/2006/table">
            <a:tbl>
              <a:tblPr/>
              <a:tblGrid>
                <a:gridCol w="1643040"/>
                <a:gridCol w="5713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20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13" name="Track No04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128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398160" y="0"/>
            <a:ext cx="484704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волга живет 15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00720" y="4714920"/>
            <a:ext cx="4643280" cy="642600"/>
          </a:xfrm>
          <a:prstGeom prst="rect">
            <a:avLst/>
          </a:prstGeom>
          <a:gradFill rotWithShape="0">
            <a:gsLst>
              <a:gs pos="0">
                <a:srgbClr val="ffff29"/>
              </a:gs>
              <a:gs pos="100000">
                <a:srgbClr val="edf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Сорока – 45 л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Управляющая кнопка: справка 10"/>
          <p:cNvGrpSpPr/>
          <p:nvPr/>
        </p:nvGrpSpPr>
        <p:grpSpPr>
          <a:xfrm>
            <a:off x="-73080" y="5310360"/>
            <a:ext cx="1182600" cy="1644480"/>
            <a:chOff x="-73080" y="5310360"/>
            <a:chExt cx="1182600" cy="1644480"/>
          </a:xfrm>
        </p:grpSpPr>
        <p:pic>
          <p:nvPicPr>
            <p:cNvPr id="117" name="Управляющая кнопка: справка 10" descr=""/>
            <p:cNvPicPr/>
            <p:nvPr/>
          </p:nvPicPr>
          <p:blipFill>
            <a:blip r:embed="rId1"/>
            <a:stretch/>
          </p:blipFill>
          <p:spPr>
            <a:xfrm>
              <a:off x="-73080" y="5310360"/>
              <a:ext cx="118260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357880"/>
              <a:ext cx="10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TextBox 9"/>
          <p:cNvGrpSpPr/>
          <p:nvPr/>
        </p:nvGrpSpPr>
        <p:grpSpPr>
          <a:xfrm>
            <a:off x="743040" y="5181480"/>
            <a:ext cx="8645400" cy="1768680"/>
            <a:chOff x="743040" y="5181480"/>
            <a:chExt cx="8645400" cy="1768680"/>
          </a:xfrm>
        </p:grpSpPr>
        <p:pic>
          <p:nvPicPr>
            <p:cNvPr id="120" name="TextBox 9" descr=""/>
            <p:cNvPicPr/>
            <p:nvPr/>
          </p:nvPicPr>
          <p:blipFill>
            <a:blip r:embed="rId2"/>
            <a:stretch/>
          </p:blipFill>
          <p:spPr>
            <a:xfrm>
              <a:off x="743040" y="5181480"/>
              <a:ext cx="864540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71720" y="5349960"/>
              <a:ext cx="807228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Во сколько раз сорока 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600" spc="-1" strike="noStrike">
                  <a:solidFill>
                    <a:srgbClr val="4d6600"/>
                  </a:solidFill>
                  <a:latin typeface="Arial Black"/>
                </a:rPr>
                <a:t>живет дольше иволги?</a:t>
              </a:r>
              <a:endParaRPr b="0" lang="en-US" sz="4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2" name="Track No4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00720" y="476280"/>
            <a:ext cx="4643280" cy="422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11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5072040" y="0"/>
            <a:ext cx="4071960" cy="2410920"/>
          </a:xfrm>
          <a:prstGeom prst="rect">
            <a:avLst/>
          </a:prstGeom>
          <a:solidFill>
            <a:srgbClr val="73732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колько лет скворец живет дольше ласточк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0" y="0"/>
            <a:ext cx="3857760" cy="11293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ворец живет 20 лет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99400" y="6242040"/>
            <a:ext cx="4084920" cy="61164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асточка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- 16 лет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Управляющая кнопка: справка 7"/>
          <p:cNvGrpSpPr/>
          <p:nvPr/>
        </p:nvGrpSpPr>
        <p:grpSpPr>
          <a:xfrm>
            <a:off x="3859200" y="-49320"/>
            <a:ext cx="1249200" cy="2573280"/>
            <a:chOff x="3859200" y="-49320"/>
            <a:chExt cx="1249200" cy="2573280"/>
          </a:xfrm>
        </p:grpSpPr>
        <p:pic>
          <p:nvPicPr>
            <p:cNvPr id="129" name="Управляющая кнопка: справка 7" descr=""/>
            <p:cNvPicPr/>
            <p:nvPr/>
          </p:nvPicPr>
          <p:blipFill>
            <a:blip r:embed="rId1"/>
            <a:stretch/>
          </p:blipFill>
          <p:spPr>
            <a:xfrm>
              <a:off x="3859200" y="-49320"/>
              <a:ext cx="12492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29040" y="0"/>
              <a:ext cx="111456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924360" cy="29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2644920"/>
            <a:ext cx="4859280" cy="365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Изображение:Chaetura pelagicaEJN13CB.jpg"/>
          <p:cNvPicPr/>
          <p:nvPr/>
        </p:nvPicPr>
        <p:blipFill>
          <a:blip r:embed="rId1"/>
          <a:stretch/>
        </p:blipFill>
        <p:spPr>
          <a:xfrm>
            <a:off x="0" y="1957320"/>
            <a:ext cx="4929120" cy="4900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46160"/>
            <a:ext cx="9144000" cy="947160"/>
          </a:xfrm>
          <a:prstGeom prst="rect">
            <a:avLst/>
          </a:prstGeom>
          <a:solidFill>
            <a:srgbClr val="003366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асатка летит  со скоростью  28 км/ч, воронок навстречу со скоростью 45 км/ч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0" y="5357880"/>
            <a:ext cx="900108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ни встретились через 3 ча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ели обе ласто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Управляющая кнопка: справка 8"/>
          <p:cNvGrpSpPr/>
          <p:nvPr/>
        </p:nvGrpSpPr>
        <p:grpSpPr>
          <a:xfrm>
            <a:off x="-73080" y="3882960"/>
            <a:ext cx="1000080" cy="1573200"/>
            <a:chOff x="-73080" y="3882960"/>
            <a:chExt cx="1000080" cy="1573200"/>
          </a:xfrm>
        </p:grpSpPr>
        <p:pic>
          <p:nvPicPr>
            <p:cNvPr id="137" name="Управляющая кнопка: справка 8" descr=""/>
            <p:cNvPicPr/>
            <p:nvPr/>
          </p:nvPicPr>
          <p:blipFill>
            <a:blip r:embed="rId2"/>
            <a:stretch/>
          </p:blipFill>
          <p:spPr>
            <a:xfrm>
              <a:off x="-73080" y="3882960"/>
              <a:ext cx="10000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392904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9" name="Track No4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56000" cy="41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65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2185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рость стрижа 170 км/ч. В сутки в полёте, стриж находится до 17 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857160" y="5719680"/>
            <a:ext cx="8286840" cy="11293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колько км пролетит стриж за 3 дня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Управляющая кнопка: справка 5"/>
          <p:cNvGrpSpPr/>
          <p:nvPr/>
        </p:nvGrpSpPr>
        <p:grpSpPr>
          <a:xfrm>
            <a:off x="-73080" y="5383080"/>
            <a:ext cx="1000080" cy="1571760"/>
            <a:chOff x="-73080" y="5383080"/>
            <a:chExt cx="1000080" cy="1571760"/>
          </a:xfrm>
        </p:grpSpPr>
        <p:pic>
          <p:nvPicPr>
            <p:cNvPr id="145" name="Управляющая кнопка: справка 5" descr=""/>
            <p:cNvPicPr/>
            <p:nvPr/>
          </p:nvPicPr>
          <p:blipFill>
            <a:blip r:embed="rId2"/>
            <a:stretch/>
          </p:blipFill>
          <p:spPr>
            <a:xfrm>
              <a:off x="-73080" y="5383080"/>
              <a:ext cx="1000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5429160"/>
              <a:ext cx="857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2171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27:21Z</dcterms:created>
  <dc:creator>Мама</dc:creator>
  <dc:description/>
  <dc:language>en-US</dc:language>
  <cp:lastModifiedBy>user</cp:lastModifiedBy>
  <dcterms:modified xsi:type="dcterms:W3CDTF">2012-11-25T10:32:39Z</dcterms:modified>
  <cp:revision>94</cp:revision>
  <dc:subject/>
  <dc:title>Слайд 1</dc:title>
</cp:coreProperties>
</file>