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ADC-6E5A-4348-BF26-E76A9A1B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B826-2EF4-4DF7-8B40-945575BE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85E-B97C-4DE9-BD0D-B183612A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28B-D930-4059-9632-CFE18882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753-E0F5-4912-B7D4-53FB9A16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733-73C0-4825-B832-442DCF8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F1-3384-448F-9B2B-0299DB4F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07B-9065-4DA3-B7DE-96D01D30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336-5177-4463-A09D-9D46EEE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3A4-BCA7-4DD4-8E24-A408092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F56-445C-42B7-900D-22470F24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5F3-0896-47F3-BB16-CD23C8A0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C019-AAC5-4B91-9189-B1507E129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639800" y="-49320"/>
            <a:ext cx="4462560" cy="9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WordArt 1"/>
          <p:cNvSpPr txBox="1"/>
          <p:nvPr/>
        </p:nvSpPr>
        <p:spPr>
          <a:xfrm>
            <a:off x="785880" y="5857920"/>
            <a:ext cx="5414760" cy="24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СОБЛЮДАЙ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ЛИЧН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ГИГИЕН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C:\Documents and Settings\Пользователь\Мои документы\Downloads\img2.jpg"/>
          <p:cNvPicPr/>
          <p:nvPr/>
        </p:nvPicPr>
        <p:blipFill>
          <a:blip r:embed="rId9"/>
          <a:stretch/>
        </p:blipFill>
        <p:spPr>
          <a:xfrm>
            <a:off x="214200" y="285840"/>
            <a:ext cx="6415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6180120" cy="5651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1"/>
          <p:cNvSpPr txBox="1"/>
          <p:nvPr/>
        </p:nvSpPr>
        <p:spPr>
          <a:xfrm>
            <a:off x="928800" y="6357960"/>
            <a:ext cx="521640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БЫТЬ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ЗДОРОВ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NE_KURIT_"/>
          <p:cNvPicPr/>
          <p:nvPr/>
        </p:nvPicPr>
        <p:blipFill>
          <a:blip r:embed="rId1"/>
          <a:srcRect l="1698" t="29436" r="929" b="12070"/>
          <a:stretch/>
        </p:blipFill>
        <p:spPr>
          <a:xfrm>
            <a:off x="0" y="0"/>
            <a:ext cx="6858000" cy="5010120"/>
          </a:xfrm>
          <a:prstGeom prst="rect">
            <a:avLst/>
          </a:prstGeom>
          <a:ln w="0">
            <a:noFill/>
          </a:ln>
        </p:spPr>
      </p:pic>
      <p:sp>
        <p:nvSpPr>
          <p:cNvPr id="85" name="WordArt 1"/>
          <p:cNvSpPr txBox="1"/>
          <p:nvPr/>
        </p:nvSpPr>
        <p:spPr>
          <a:xfrm>
            <a:off x="785880" y="5214960"/>
            <a:ext cx="5478480" cy="35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НЕ ПОЗВОЛЯЙТЕ НИКОМУ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КУРИТЬ, РАСПИВАТЬ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СПИРТНЫЕ НАПИТКИ,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УПОТРЕБЛЯТЬ НАРКОТИКИ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2700000"/>
                </a:gradFill>
                <a:latin typeface="Arial Black"/>
              </a:rPr>
              <a:t>В ВАШЕМ ПРИСУТСТВИИ!</a:t>
            </a:r>
            <a:endParaRPr b="0" lang="en-US" sz="1800" spc="1" strike="noStrike">
              <a:ln w="9360">
                <a:solidFill>
                  <a:srgbClr val="c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572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3"/>
          <p:cNvPicPr/>
          <p:nvPr/>
        </p:nvPicPr>
        <p:blipFill>
          <a:blip r:embed="rId1"/>
          <a:stretch/>
        </p:blipFill>
        <p:spPr>
          <a:xfrm>
            <a:off x="428760" y="428760"/>
            <a:ext cx="6087960" cy="4502160"/>
          </a:xfrm>
          <a:prstGeom prst="rect">
            <a:avLst/>
          </a:prstGeom>
          <a:ln w="0">
            <a:noFill/>
          </a:ln>
        </p:spPr>
      </p:pic>
      <p:sp>
        <p:nvSpPr>
          <p:cNvPr id="89" name="WordArt 1"/>
          <p:cNvSpPr txBox="1"/>
          <p:nvPr/>
        </p:nvSpPr>
        <p:spPr>
          <a:xfrm>
            <a:off x="571680" y="5214960"/>
            <a:ext cx="5763960" cy="32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друж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с алкоголем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загублен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жизнь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142884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96840" y="-73080"/>
            <a:ext cx="7059600" cy="28098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974880" y="2511360"/>
            <a:ext cx="4968720" cy="1189080"/>
          </a:xfrm>
          <a:prstGeom prst="rect">
            <a:avLst/>
          </a:prstGeom>
          <a:ln w="0">
            <a:noFill/>
          </a:ln>
        </p:spPr>
      </p:pic>
      <p:sp>
        <p:nvSpPr>
          <p:cNvPr id="44" name="Штриховая стрелка вправо 3"/>
          <p:cNvSpPr/>
          <p:nvPr/>
        </p:nvSpPr>
        <p:spPr>
          <a:xfrm rot="7368000">
            <a:off x="1536120" y="38923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Штриховая стрелка вправо 5"/>
          <p:cNvSpPr/>
          <p:nvPr/>
        </p:nvSpPr>
        <p:spPr>
          <a:xfrm rot="3327600">
            <a:off x="3989160" y="3825720"/>
            <a:ext cx="1073160" cy="53640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3"/>
          <a:stretch/>
        </p:blipFill>
        <p:spPr>
          <a:xfrm>
            <a:off x="817560" y="4297320"/>
            <a:ext cx="187020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4"/>
          <a:stretch/>
        </p:blipFill>
        <p:spPr>
          <a:xfrm>
            <a:off x="3882960" y="4297320"/>
            <a:ext cx="2109960" cy="1189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4143240" y="5643720"/>
            <a:ext cx="235764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хо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28760" y="5500800"/>
            <a:ext cx="314316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ое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рошее настро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0"/>
          <p:cNvSpPr/>
          <p:nvPr/>
        </p:nvSpPr>
        <p:spPr>
          <a:xfrm>
            <a:off x="3071880" y="8001000"/>
            <a:ext cx="350028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атериа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тернет – рес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можно убр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img13"/>
          <p:cNvPicPr/>
          <p:nvPr/>
        </p:nvPicPr>
        <p:blipFill>
          <a:blip r:embed="rId1"/>
          <a:stretch/>
        </p:blipFill>
        <p:spPr>
          <a:xfrm>
            <a:off x="428760" y="1143000"/>
            <a:ext cx="3516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0480" y="-73080"/>
            <a:ext cx="7058160" cy="1146240"/>
          </a:xfrm>
          <a:prstGeom prst="rect">
            <a:avLst/>
          </a:prstGeom>
          <a:ln w="0">
            <a:noFill/>
          </a:ln>
        </p:spPr>
      </p:pic>
      <p:sp>
        <p:nvSpPr>
          <p:cNvPr id="53" name="Стрелка углом 4"/>
          <p:cNvSpPr/>
          <p:nvPr/>
        </p:nvSpPr>
        <p:spPr>
          <a:xfrm rot="7770000">
            <a:off x="3564000" y="2979360"/>
            <a:ext cx="1558800" cy="14544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843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5" descr=""/>
          <p:cNvPicPr/>
          <p:nvPr/>
        </p:nvPicPr>
        <p:blipFill>
          <a:blip r:embed="rId3"/>
          <a:stretch/>
        </p:blipFill>
        <p:spPr>
          <a:xfrm>
            <a:off x="-60480" y="4138560"/>
            <a:ext cx="689472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1714680" y="535788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moking_small_small"/>
          <p:cNvPicPr/>
          <p:nvPr/>
        </p:nvPicPr>
        <p:blipFill>
          <a:blip r:embed="rId5"/>
          <a:stretch/>
        </p:blipFill>
        <p:spPr>
          <a:xfrm>
            <a:off x="4286160" y="1143000"/>
            <a:ext cx="2208240" cy="1353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-212760" y="-122400"/>
            <a:ext cx="7113600" cy="1884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500040" y="1857240"/>
            <a:ext cx="5886360" cy="25005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нцип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огое его выполнение, недопустимость частых изме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ятельность, включённая в режим, должна быть посильной для орган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                     </a:t>
            </a:r>
            <a:r>
              <a:rPr b="0" lang="ru-RU" sz="2800" spc="-1" strike="noStrike">
                <a:solidFill>
                  <a:srgbClr val="2f06fa"/>
                </a:solidFill>
                <a:latin typeface="Tahoma"/>
              </a:rPr>
              <a:t>Отд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000803_1069_5353_vnvv"/>
          <p:cNvPicPr/>
          <p:nvPr/>
        </p:nvPicPr>
        <p:blipFill>
          <a:blip r:embed="rId2"/>
          <a:stretch/>
        </p:blipFill>
        <p:spPr>
          <a:xfrm>
            <a:off x="214200" y="5857920"/>
            <a:ext cx="2818080" cy="297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7" descr=""/>
          <p:cNvPicPr/>
          <p:nvPr/>
        </p:nvPicPr>
        <p:blipFill>
          <a:blip r:embed="rId3"/>
          <a:stretch/>
        </p:blipFill>
        <p:spPr>
          <a:xfrm>
            <a:off x="285840" y="4730760"/>
            <a:ext cx="2755800" cy="743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4"/>
          <a:stretch/>
        </p:blipFill>
        <p:spPr>
          <a:xfrm>
            <a:off x="3865680" y="4664160"/>
            <a:ext cx="2992320" cy="743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Пользователь\Мои документы\Downloads\images.jpg"/>
          <p:cNvPicPr/>
          <p:nvPr/>
        </p:nvPicPr>
        <p:blipFill>
          <a:blip r:embed="rId5"/>
          <a:stretch/>
        </p:blipFill>
        <p:spPr>
          <a:xfrm>
            <a:off x="4214880" y="5643720"/>
            <a:ext cx="2286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Пользователь\Мои документы\Downloads\1230319611_stend-pdd-1.jpg"/>
          <p:cNvPicPr/>
          <p:nvPr/>
        </p:nvPicPr>
        <p:blipFill>
          <a:blip r:embed="rId1"/>
          <a:stretch/>
        </p:blipFill>
        <p:spPr>
          <a:xfrm>
            <a:off x="142920" y="2286000"/>
            <a:ext cx="3238560" cy="64771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0"/>
            <a:ext cx="5291280" cy="1974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3357720" y="2143080"/>
            <a:ext cx="3357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мятка  по безопасности на дорог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ступила весна. Весеннее солнышко манит на воздух. Но, к сожалению, не все дети правильно ведут себя на улице. Они играют на проезжей части, перебегают дорогу в запрещенных местах. Это кончается иногда трагичес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льзя забывать, что в весенние дни движение на улицах становится интенсивнее: выезжают и те водители, которые зимой обычно не ездят. Это владельцы индивидуальных транспортных средств, мотоциклов, мотороллеров, мопедов. Кроме того, в сухую солнечную погоду водители ведут свой транспорт быстрее, чем обычно. Поэтому, прежде чем перейти дорогу, внимательно посмотрите по сторонам. И если увидите приближающийся автомобиль, пропустите его. На велосипеде катайтесь только во дворах или на специальных площадк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омните, что от несчастного случая вы убережёте себя только безукоризненным соблюдением Правил дорожного движен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помните, что знание и соблюдение Правил дорожного движения — гарантия безопасности вашей жизн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Горизонтальный свиток 2"/>
          <p:cNvSpPr/>
          <p:nvPr/>
        </p:nvSpPr>
        <p:spPr>
          <a:xfrm>
            <a:off x="571680" y="214200"/>
            <a:ext cx="4000320" cy="18576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лотые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жарной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одержимое 1"/>
          <p:cNvSpPr/>
          <p:nvPr/>
        </p:nvSpPr>
        <p:spPr>
          <a:xfrm>
            <a:off x="214200" y="2143080"/>
            <a:ext cx="628668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ички и зажигалка – не игрушка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стоятельно не зажигайте газовую плиту, если делать этого не умеете,  а в сельском доме не пытайтесь растопить печ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когда не бросайте в огонь газовые баллончики, целлофановые пакеты и рези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оставляйте без присмотра включенный утюг или чай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огонь вышел из-под контроля, залейте его водой, набросьте на пламя одеяло или засыпьте пес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опасности вызывайте пожарных. Телефонный номер –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01 (11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огда ребята ради развлечения звонят по телефону 01, хотя пожара нет.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Этого делать нельзя!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 отвлечете работников                                   пожарной охраны, а в это время                              где-то может по-настоящему        потребоваться  помощ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Светлана\Documents\Мои результаты сканирования\сканирование0046.jpg"/>
          <p:cNvPicPr/>
          <p:nvPr/>
        </p:nvPicPr>
        <p:blipFill>
          <a:blip r:embed="rId1"/>
          <a:srcRect l="8961" t="6842" r="15121" b="14613"/>
          <a:stretch/>
        </p:blipFill>
        <p:spPr>
          <a:xfrm>
            <a:off x="4786200" y="571680"/>
            <a:ext cx="2071800" cy="142848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Documents and Settings\Пользователь\Мои документы\Downloads\images (3).jpg"/>
          <p:cNvPicPr/>
          <p:nvPr/>
        </p:nvPicPr>
        <p:blipFill>
          <a:blip r:embed="rId2"/>
          <a:stretch/>
        </p:blipFill>
        <p:spPr>
          <a:xfrm>
            <a:off x="4714920" y="6429240"/>
            <a:ext cx="181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5" descr="C:\Documents and Settings\Пользователь\Мои документы\Downloads\trebPBKino12.jpg"/>
          <p:cNvPicPr/>
          <p:nvPr/>
        </p:nvPicPr>
        <p:blipFill>
          <a:blip r:embed="rId1"/>
          <a:stretch/>
        </p:blipFill>
        <p:spPr>
          <a:xfrm>
            <a:off x="642960" y="857160"/>
            <a:ext cx="5705280" cy="76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Пользователь\Мои документы\Downloads\images (4).jpg"/>
          <p:cNvPicPr/>
          <p:nvPr/>
        </p:nvPicPr>
        <p:blipFill>
          <a:blip r:embed="rId1"/>
          <a:stretch/>
        </p:blipFill>
        <p:spPr>
          <a:xfrm>
            <a:off x="3803760" y="285840"/>
            <a:ext cx="2714400" cy="8286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160200" y="285840"/>
            <a:ext cx="35006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нее 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 чревато последствиями употребление спиртных напитков в переходном возрасте  (10- 18 лет). Употребление  алкогольных  напитков 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м возрасте способно надолго задержать, а в особо тяжелых  случаях 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все остановить  формирование этических и нравственных категорий, раз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тия высших форм мышления, эстетических понятий. При неустойчивой нервной системе, еще несформировавшихся жизненных  взглядах и убеждениях  подросток под влиянием алкоголя нередко становится более восприимчив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примерам негатив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:\Documents and Settings\Пользователь\Мои документы\Downloads\images (7).jpg"/>
          <p:cNvPicPr/>
          <p:nvPr/>
        </p:nvPicPr>
        <p:blipFill>
          <a:blip r:embed="rId1"/>
          <a:stretch/>
        </p:blipFill>
        <p:spPr>
          <a:xfrm>
            <a:off x="357120" y="428760"/>
            <a:ext cx="6072120" cy="81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8-24T17:28:17Z</dcterms:modified>
  <cp:revision>22</cp:revision>
  <dc:subject/>
  <dc:title>Слайд 1</dc:title>
</cp:coreProperties>
</file>