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29B-6DE5-4F42-A4DB-CB698F32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ADB-0044-454F-8176-131DF842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416-C535-4B6C-8095-9BAEFD08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1DB-4B31-4F81-8105-E1E8D079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CE5-A196-4DDC-A68B-49925576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538-6911-466B-A726-CE02E15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B7B-7C22-4C82-9DA7-0EB98665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4D1-0B1B-4B11-8D90-9CD6EEA4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48D-165B-4C01-8E7E-17D851E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525-CB9C-4F64-BEFA-9BB5B47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12F-823D-4746-8130-7DCFD6A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6B8-B304-4531-B9E5-CC32975B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E56-250C-453D-ABAB-3CE06B854E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639800" y="-49320"/>
            <a:ext cx="4462560" cy="91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WordArt 1"/>
          <p:cNvSpPr txBox="1"/>
          <p:nvPr/>
        </p:nvSpPr>
        <p:spPr>
          <a:xfrm>
            <a:off x="785880" y="5857920"/>
            <a:ext cx="541476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СОБЛЮДАЙ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ПРАВИ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ЛИЧ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ГИГИЕН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C:\Documents and Settings\Пользователь\Мои документы\Downloads\img2.jpg"/>
          <p:cNvPicPr/>
          <p:nvPr/>
        </p:nvPicPr>
        <p:blipFill>
          <a:blip r:embed="rId9"/>
          <a:stretch/>
        </p:blipFill>
        <p:spPr>
          <a:xfrm>
            <a:off x="214200" y="285840"/>
            <a:ext cx="6415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6180120" cy="5651640"/>
          </a:xfrm>
          <a:prstGeom prst="rect">
            <a:avLst/>
          </a:prstGeom>
          <a:ln w="0">
            <a:noFill/>
          </a:ln>
        </p:spPr>
      </p:pic>
      <p:sp>
        <p:nvSpPr>
          <p:cNvPr id="81" name="WordArt 1"/>
          <p:cNvSpPr txBox="1"/>
          <p:nvPr/>
        </p:nvSpPr>
        <p:spPr>
          <a:xfrm>
            <a:off x="928800" y="6357960"/>
            <a:ext cx="521640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ЗДОРОВЫ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БЫТЬ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ЗДОРОВ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NE_KURIT_"/>
          <p:cNvPicPr/>
          <p:nvPr/>
        </p:nvPicPr>
        <p:blipFill>
          <a:blip r:embed="rId1"/>
          <a:srcRect l="1698" t="29436" r="929" b="12070"/>
          <a:stretch/>
        </p:blipFill>
        <p:spPr>
          <a:xfrm>
            <a:off x="0" y="0"/>
            <a:ext cx="6858000" cy="5010120"/>
          </a:xfrm>
          <a:prstGeom prst="rect">
            <a:avLst/>
          </a:prstGeom>
          <a:ln w="0">
            <a:noFill/>
          </a:ln>
        </p:spPr>
      </p:pic>
      <p:sp>
        <p:nvSpPr>
          <p:cNvPr id="85" name="WordArt 1"/>
          <p:cNvSpPr txBox="1"/>
          <p:nvPr/>
        </p:nvSpPr>
        <p:spPr>
          <a:xfrm>
            <a:off x="785880" y="5214960"/>
            <a:ext cx="5478480" cy="35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НЕ ПОЗВОЛЯЙТЕ НИКОМУ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КУРИТЬ, РАСПИВАТЬ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СПИРТНЫЕ НАПИТКИ,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УПОТРЕБЛЯТЬ НАРКОТИКИ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В ВАШЕМ ПРИСУТСТВИИ!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3"/>
          <p:cNvPicPr/>
          <p:nvPr/>
        </p:nvPicPr>
        <p:blipFill>
          <a:blip r:embed="rId1"/>
          <a:stretch/>
        </p:blipFill>
        <p:spPr>
          <a:xfrm>
            <a:off x="428760" y="428760"/>
            <a:ext cx="6087960" cy="4502160"/>
          </a:xfrm>
          <a:prstGeom prst="rect">
            <a:avLst/>
          </a:prstGeom>
          <a:ln w="0">
            <a:noFill/>
          </a:ln>
        </p:spPr>
      </p:pic>
      <p:sp>
        <p:nvSpPr>
          <p:cNvPr id="89" name="WordArt 1"/>
          <p:cNvSpPr txBox="1"/>
          <p:nvPr/>
        </p:nvSpPr>
        <p:spPr>
          <a:xfrm>
            <a:off x="571680" y="5214960"/>
            <a:ext cx="5763960" cy="32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друж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с алкоголем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загубле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жизнь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142884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96840" y="-73080"/>
            <a:ext cx="7059600" cy="28098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974880" y="2511360"/>
            <a:ext cx="4968720" cy="1189080"/>
          </a:xfrm>
          <a:prstGeom prst="rect">
            <a:avLst/>
          </a:prstGeom>
          <a:ln w="0">
            <a:noFill/>
          </a:ln>
        </p:spPr>
      </p:pic>
      <p:sp>
        <p:nvSpPr>
          <p:cNvPr id="44" name="Штриховая стрелка вправо 3"/>
          <p:cNvSpPr/>
          <p:nvPr/>
        </p:nvSpPr>
        <p:spPr>
          <a:xfrm rot="7368000">
            <a:off x="1536120" y="3892320"/>
            <a:ext cx="1073160" cy="53640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Штриховая стрелка вправо 5"/>
          <p:cNvSpPr/>
          <p:nvPr/>
        </p:nvSpPr>
        <p:spPr>
          <a:xfrm rot="3327600">
            <a:off x="3989160" y="3825720"/>
            <a:ext cx="1073160" cy="53640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3"/>
          <a:stretch/>
        </p:blipFill>
        <p:spPr>
          <a:xfrm>
            <a:off x="817560" y="4297320"/>
            <a:ext cx="1870200" cy="11890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4"/>
          <a:stretch/>
        </p:blipFill>
        <p:spPr>
          <a:xfrm>
            <a:off x="3882960" y="4297320"/>
            <a:ext cx="2109960" cy="1189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4143240" y="5643720"/>
            <a:ext cx="235764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хое настро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28760" y="5500800"/>
            <a:ext cx="314316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ое п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ли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ее настро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3071880" y="8001000"/>
            <a:ext cx="350028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 материал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тернет – рес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можно убра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mg13"/>
          <p:cNvPicPr/>
          <p:nvPr/>
        </p:nvPicPr>
        <p:blipFill>
          <a:blip r:embed="rId1"/>
          <a:stretch/>
        </p:blipFill>
        <p:spPr>
          <a:xfrm>
            <a:off x="428760" y="1143000"/>
            <a:ext cx="3516120" cy="30002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-60480" y="-73080"/>
            <a:ext cx="7058160" cy="1146240"/>
          </a:xfrm>
          <a:prstGeom prst="rect">
            <a:avLst/>
          </a:prstGeom>
          <a:ln w="0">
            <a:noFill/>
          </a:ln>
        </p:spPr>
      </p:pic>
      <p:sp>
        <p:nvSpPr>
          <p:cNvPr id="53" name="Стрелка углом 4"/>
          <p:cNvSpPr/>
          <p:nvPr/>
        </p:nvSpPr>
        <p:spPr>
          <a:xfrm rot="7770000">
            <a:off x="3564000" y="2979360"/>
            <a:ext cx="1558800" cy="14544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843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5" descr=""/>
          <p:cNvPicPr/>
          <p:nvPr/>
        </p:nvPicPr>
        <p:blipFill>
          <a:blip r:embed="rId3"/>
          <a:stretch/>
        </p:blipFill>
        <p:spPr>
          <a:xfrm>
            <a:off x="-60480" y="4138560"/>
            <a:ext cx="6894720" cy="114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1714680" y="5357880"/>
            <a:ext cx="3429000" cy="361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moking_small_small"/>
          <p:cNvPicPr/>
          <p:nvPr/>
        </p:nvPicPr>
        <p:blipFill>
          <a:blip r:embed="rId5"/>
          <a:stretch/>
        </p:blipFill>
        <p:spPr>
          <a:xfrm>
            <a:off x="4286160" y="1143000"/>
            <a:ext cx="2208240" cy="1353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3" descr=""/>
          <p:cNvPicPr/>
          <p:nvPr/>
        </p:nvPicPr>
        <p:blipFill>
          <a:blip r:embed="rId1"/>
          <a:stretch/>
        </p:blipFill>
        <p:spPr>
          <a:xfrm>
            <a:off x="-212760" y="-122400"/>
            <a:ext cx="7113600" cy="1884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500040" y="1857240"/>
            <a:ext cx="5886360" cy="2500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нцип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огое его выполнение, недопустимость частых изме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ятельность, включённая в режим, должна быть посильной для орган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06fa"/>
                </a:solidFill>
                <a:latin typeface="Tahom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06fa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2f06fa"/>
                </a:solidFill>
                <a:latin typeface="Tahoma"/>
              </a:rPr>
              <a:t>Отд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000803_1069_5353_vnvv"/>
          <p:cNvPicPr/>
          <p:nvPr/>
        </p:nvPicPr>
        <p:blipFill>
          <a:blip r:embed="rId2"/>
          <a:stretch/>
        </p:blipFill>
        <p:spPr>
          <a:xfrm>
            <a:off x="214200" y="5857920"/>
            <a:ext cx="2818080" cy="29732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285840" y="4730760"/>
            <a:ext cx="2755800" cy="743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8" descr=""/>
          <p:cNvPicPr/>
          <p:nvPr/>
        </p:nvPicPr>
        <p:blipFill>
          <a:blip r:embed="rId4"/>
          <a:stretch/>
        </p:blipFill>
        <p:spPr>
          <a:xfrm>
            <a:off x="3865680" y="4664160"/>
            <a:ext cx="2992320" cy="74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Пользователь\Мои документы\Downloads\images.jpg"/>
          <p:cNvPicPr/>
          <p:nvPr/>
        </p:nvPicPr>
        <p:blipFill>
          <a:blip r:embed="rId5"/>
          <a:stretch/>
        </p:blipFill>
        <p:spPr>
          <a:xfrm>
            <a:off x="4214880" y="5643720"/>
            <a:ext cx="2286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Пользователь\Мои документы\Downloads\1230319611_stend-pdd-1.jpg"/>
          <p:cNvPicPr/>
          <p:nvPr/>
        </p:nvPicPr>
        <p:blipFill>
          <a:blip r:embed="rId1"/>
          <a:stretch/>
        </p:blipFill>
        <p:spPr>
          <a:xfrm>
            <a:off x="142920" y="2286000"/>
            <a:ext cx="3238560" cy="64771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0"/>
            <a:ext cx="5291280" cy="1974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3357720" y="2143080"/>
            <a:ext cx="33573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мятка  по безопасности на дорог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ступила весна. Весеннее солнышко манит на воздух. Но, к сожалению, не все дети правильно ведут себя на улице. Они играют на проезжей части, перебегают дорогу в запрещенных местах. Это кончается иногда трагичес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льзя забывать, что в весенние дни движение на улицах становится интенсивнее: выезжают и те водители, которые зимой обычно не ездят. Это владельцы индивидуальных транспортных средств, мотоциклов, мотороллеров, мопедов. Кроме того, в сухую солнечную погоду водители ведут свой транспорт быстрее, чем обычно. Поэтому, прежде чем перейти дорогу, внимательно посмотрите по сторонам. И если увидите приближающийся автомобиль, пропустите его. На велосипеде катайтесь только во дворах или на специальных площадк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омните, что от несчастного случая вы убережёте себя только безукоризненным соблюдением Правил дорожного движени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сегда помните, что знание и соблюдение Правил дорожного движения — гарантия безопасности вашей жиз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Горизонтальный свиток 2"/>
          <p:cNvSpPr/>
          <p:nvPr/>
        </p:nvSpPr>
        <p:spPr>
          <a:xfrm>
            <a:off x="571680" y="214200"/>
            <a:ext cx="4000320" cy="18576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олотые 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жарной без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одержимое 1"/>
          <p:cNvSpPr/>
          <p:nvPr/>
        </p:nvSpPr>
        <p:spPr>
          <a:xfrm>
            <a:off x="214200" y="2143080"/>
            <a:ext cx="628668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ички и зажигалка – не игрушка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амостоятельно не зажигайте газовую плиту, если делать этого не умеете,  а в сельском доме не пытайтесь растопить печ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икогда не бросайте в огонь газовые баллончики, целлофановые пакеты и резин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оставляйте без присмотра включенный утюг или чайни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огонь вышел из-под контроля, залейте его водой, набросьте на пламя одеяло или засыпьте песк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лучае опасности вызывайте пожарных. Телефонный номер –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01 (112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огда ребята ради развлечения звонят по телефону 01, хотя пожара нет.         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Этого делать нельзя!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 отвлечете работников                                   пожарной охраны, а в это время                              где-то может по-настоящему        потребоваться  помощ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Светлана\Documents\Мои результаты сканирования\сканирование0046.jpg"/>
          <p:cNvPicPr/>
          <p:nvPr/>
        </p:nvPicPr>
        <p:blipFill>
          <a:blip r:embed="rId1"/>
          <a:srcRect l="8961" t="6842" r="15121" b="14613"/>
          <a:stretch/>
        </p:blipFill>
        <p:spPr>
          <a:xfrm>
            <a:off x="4786200" y="571680"/>
            <a:ext cx="2071800" cy="14284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Documents and Settings\Пользователь\Мои документы\Downloads\images (3).jpg"/>
          <p:cNvPicPr/>
          <p:nvPr/>
        </p:nvPicPr>
        <p:blipFill>
          <a:blip r:embed="rId2"/>
          <a:stretch/>
        </p:blipFill>
        <p:spPr>
          <a:xfrm>
            <a:off x="4714920" y="6429240"/>
            <a:ext cx="181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5" descr="C:\Documents and Settings\Пользователь\Мои документы\Downloads\trebPBKino12.jpg"/>
          <p:cNvPicPr/>
          <p:nvPr/>
        </p:nvPicPr>
        <p:blipFill>
          <a:blip r:embed="rId1"/>
          <a:stretch/>
        </p:blipFill>
        <p:spPr>
          <a:xfrm>
            <a:off x="642960" y="857160"/>
            <a:ext cx="5705280" cy="76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Пользователь\Мои документы\Downloads\images (4).jpg"/>
          <p:cNvPicPr/>
          <p:nvPr/>
        </p:nvPicPr>
        <p:blipFill>
          <a:blip r:embed="rId1"/>
          <a:stretch/>
        </p:blipFill>
        <p:spPr>
          <a:xfrm>
            <a:off x="3803760" y="285840"/>
            <a:ext cx="2714400" cy="8286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160200" y="285840"/>
            <a:ext cx="350064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ннее 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 чревато последствиями употребление спиртных напитков в переходном возрасте  (10- 18 лет). Употребление  алкогольных  напитков 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м возрасте способно надолго задержать, а в особо тяжелых  случаях 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все остановить  формирование этических и нравственных категорий, раз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тия высших форм мышления, эстетических понятий. При неустойчивой нервной системе, еще несформировавшихся жизненных  взглядах и убеждениях  подросток под влиянием алкоголя нередко становится более восприимчив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примерам негативного п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C:\Documents and Settings\Пользователь\Мои документы\Downloads\images (7).jpg"/>
          <p:cNvPicPr/>
          <p:nvPr/>
        </p:nvPicPr>
        <p:blipFill>
          <a:blip r:embed="rId1"/>
          <a:stretch/>
        </p:blipFill>
        <p:spPr>
          <a:xfrm>
            <a:off x="357120" y="428760"/>
            <a:ext cx="6072120" cy="81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8-24T17:28:17Z</dcterms:modified>
  <cp:revision>22</cp:revision>
  <dc:subject/>
  <dc:title>Слайд 1</dc:title>
</cp:coreProperties>
</file>