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9.gif" ContentType="image/gif"/>
  <Override PartName="/ppt/media/image22.wmf" ContentType="image/x-wmf"/>
  <Override PartName="/ppt/media/image10.gif" ContentType="image/gif"/>
  <Override PartName="/ppt/media/image8.wmf" ContentType="image/x-wmf"/>
  <Override PartName="/ppt/media/image7.wmf" ContentType="image/x-wmf"/>
  <Override PartName="/ppt/media/image4.png" ContentType="image/png"/>
  <Override PartName="/ppt/media/image6.wmf" ContentType="image/x-wmf"/>
  <Override PartName="/ppt/media/image3.gif" ContentType="image/gif"/>
  <Override PartName="/ppt/media/camera.wav" ContentType="audio/x-wav"/>
  <Override PartName="/ppt/media/image17.gif" ContentType="image/gif"/>
  <Override PartName="/ppt/media/image2.gif" ContentType="image/gif"/>
  <Override PartName="/ppt/media/image5.png" ContentType="image/png"/>
  <Override PartName="/ppt/media/whoosh.wav" ContentType="audio/x-wav"/>
  <Override PartName="/ppt/media/image1.jpeg" ContentType="image/jpeg"/>
  <Override PartName="/ppt/media/image25.png" ContentType="image/png"/>
  <Override PartName="/ppt/media/image24.wmf" ContentType="image/x-wmf"/>
  <Override PartName="/ppt/media/image21.gif" ContentType="image/gif"/>
  <Override PartName="/ppt/media/image23.gif" ContentType="image/gif"/>
  <Override PartName="/ppt/media/image20.wmf" ContentType="image/x-wmf"/>
  <Override PartName="/ppt/media/image18.gif" ContentType="image/gif"/>
  <Override PartName="/ppt/media/image19.wmf" ContentType="image/x-wmf"/>
  <Override PartName="/ppt/media/image16.gif" ContentType="image/gif"/>
  <Override PartName="/ppt/media/voltage.wav" ContentType="audio/x-wav"/>
  <Override PartName="/ppt/media/image15.gif" ContentType="image/gif"/>
  <Override PartName="/ppt/media/type.wav" ContentType="audio/x-wav"/>
  <Override PartName="/ppt/media/image14.gif" ContentType="image/gif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D58-218B-4A39-8714-D2E5E059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5AD-4A47-4532-887D-A1EB1B6A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81A-36D0-41FE-B3A2-BFF11253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5C2-1E64-40E4-9DC3-A2FCA1FB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C5B03-607F-45FD-8C50-CF5CBD38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63236-71CA-4CD0-B597-DC79CAD7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412CB-0293-4E60-AB8E-ECDB90F3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D82C4-6038-4AEC-9930-AAE9C999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7544D-284E-4B0E-92AF-0352F086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2AE30-E3A7-466D-B6D5-E140AEBC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87F17-64C8-4E85-BA44-AA8304D0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C49-B69D-4044-9DEB-2174E66B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5E006-7D64-47B6-B153-FAD9C41D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7D135-7CAB-4B00-8021-E543494A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41F05-8766-4AE9-853F-DF9C00B8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06B04-2C83-4B79-9B2A-66D9738F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F459C-4B00-4B65-A36A-CC1270B8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DE9-AC63-4025-89C7-AB494CB6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1E2-0052-4F27-BB9E-45FF1A0A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84C-6EF0-43E8-9798-717F168E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823-75B4-4BAB-B367-25FCE40C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627-407C-48F4-9021-802D02D7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4DC-6C89-4DCB-A673-DAA1C2DC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1D7-3F4B-4735-88B0-A41AB636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01EA-CA69-4443-A4EE-05976B1B8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F95F-7C8D-4FA5-84CF-B357DA3D5E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" Target="slide1.xml"/><Relationship Id="rId8" Type="http://schemas.openxmlformats.org/officeDocument/2006/relationships/image" Target="../media/image6.wmf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4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хника безопасност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 школе на уроке информат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760" y="2500200"/>
            <a:ext cx="7997760" cy="24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Общие прави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Правила электробезопасно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Правила 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Правила безопасности на рабочем мес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9" descr="j0356784"/>
          <p:cNvPicPr/>
          <p:nvPr/>
        </p:nvPicPr>
        <p:blipFill>
          <a:blip r:embed="rId5"/>
          <a:stretch/>
        </p:blipFill>
        <p:spPr>
          <a:xfrm>
            <a:off x="7596360" y="5157720"/>
            <a:ext cx="11728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пожарной 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лучае задымления или запаха гари в кабинете немедленно сообщить об этом учите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j0254420"/>
          <p:cNvPicPr/>
          <p:nvPr/>
        </p:nvPicPr>
        <p:blipFill>
          <a:blip r:embed="rId1"/>
          <a:stretch/>
        </p:blipFill>
        <p:spPr>
          <a:xfrm>
            <a:off x="2411280" y="3573360"/>
            <a:ext cx="3456000" cy="2119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пожарной 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вакуация из кабинета производится без паники под полным руководством учителя в соответствии с школьным план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j0346317"/>
          <p:cNvPicPr/>
          <p:nvPr/>
        </p:nvPicPr>
        <p:blipFill>
          <a:blip r:embed="rId1"/>
          <a:stretch/>
        </p:blipFill>
        <p:spPr>
          <a:xfrm>
            <a:off x="2987640" y="3933720"/>
            <a:ext cx="2305080" cy="1847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6300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bs00652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70264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8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полагайтесь за компьютером на расстоянии от 50 до 60 см от экрана монит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пина должна опираться на спинку ст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ги ставьте перпендикулярно по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j0195384"/>
          <p:cNvPicPr/>
          <p:nvPr/>
        </p:nvPicPr>
        <p:blipFill>
          <a:blip r:embed="rId1"/>
          <a:stretch/>
        </p:blipFill>
        <p:spPr>
          <a:xfrm>
            <a:off x="3492360" y="4724280"/>
            <a:ext cx="1795680" cy="1833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wb01623_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bs00652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тучите по клавишам, а спокойно нажимайте на них подушечками кончиков пальц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j0296945"/>
          <p:cNvPicPr/>
          <p:nvPr/>
        </p:nvPicPr>
        <p:blipFill>
          <a:blip r:embed="rId1"/>
          <a:stretch/>
        </p:blipFill>
        <p:spPr>
          <a:xfrm>
            <a:off x="3203640" y="3789360"/>
            <a:ext cx="2017800" cy="1587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bs00652_"/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506160"/>
            <a:ext cx="838836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3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перемещайте самостоятельно компьютерные составляющие (монитор и системный блок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 всех возникших проблемах немедленно сообщите учите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j0195786"/>
          <p:cNvPicPr/>
          <p:nvPr/>
        </p:nvPicPr>
        <p:blipFill>
          <a:blip r:embed="rId1"/>
          <a:stretch/>
        </p:blipFill>
        <p:spPr>
          <a:xfrm>
            <a:off x="3132000" y="4365720"/>
            <a:ext cx="20862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bs00652_"/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касайтесь руками экрана монит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j0283761"/>
          <p:cNvPicPr/>
          <p:nvPr/>
        </p:nvPicPr>
        <p:blipFill>
          <a:blip r:embed="rId1"/>
          <a:stretch/>
        </p:blipFill>
        <p:spPr>
          <a:xfrm>
            <a:off x="3276720" y="3213000"/>
            <a:ext cx="2280960" cy="23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bs00652_"/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 время урока не отвлекайте разговорами соседей, не обращайтесь к ним за помощ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j0292124"/>
          <p:cNvPicPr/>
          <p:nvPr/>
        </p:nvPicPr>
        <p:blipFill>
          <a:blip r:embed="rId1"/>
          <a:stretch/>
        </p:blipFill>
        <p:spPr>
          <a:xfrm>
            <a:off x="2771640" y="3357720"/>
            <a:ext cx="3097440" cy="3031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24720" y="638172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bs00652_"/>
          <p:cNvPicPr/>
          <p:nvPr/>
        </p:nvPicPr>
        <p:blipFill>
          <a:blip r:embed="rId3"/>
          <a:stretch/>
        </p:blipFill>
        <p:spPr>
          <a:xfrm>
            <a:off x="8172360" y="6308640"/>
            <a:ext cx="370080" cy="357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wb01623_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75640" y="6381720"/>
            <a:ext cx="468360" cy="3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1763640" y="1557360"/>
            <a:ext cx="56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работу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5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5" dur="123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56" dur="123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8" dur="123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Общие правил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ходить в кабинет только с разрешения уч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j0286671"/>
          <p:cNvPicPr/>
          <p:nvPr/>
        </p:nvPicPr>
        <p:blipFill>
          <a:blip r:embed="rId1"/>
          <a:stretch/>
        </p:blipFill>
        <p:spPr>
          <a:xfrm flipH="1">
            <a:off x="468360" y="486900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4508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4364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41 0.0625 C 0.12309 0.05902 0.18194 0.05578 0.24826 0.03379 C 0.31458 0.0118 0.39427 -0.02662 0.4618 -0.06898 C 0.52934 -0.11135 0.59462 -0.16644 0.65364 -0.22037 C 0.71267 -0.27431 0.77847 -0.34885 0.8158 -0.39329 C 0.85312 -0.43773 0.86545 -0.4625 0.87795 -0.48704 E">
                                      <p:cBhvr>
                                        <p:cTn id="36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Общие правил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ред входом в кабинет информатики проверьте чистоту одежды, обуви и р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j0228965"/>
          <p:cNvPicPr/>
          <p:nvPr/>
        </p:nvPicPr>
        <p:blipFill>
          <a:blip r:embed="rId1"/>
          <a:stretch/>
        </p:blipFill>
        <p:spPr>
          <a:xfrm>
            <a:off x="684360" y="3213000"/>
            <a:ext cx="1819080" cy="163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j0231589"/>
          <p:cNvPicPr/>
          <p:nvPr/>
        </p:nvPicPr>
        <p:blipFill>
          <a:blip r:embed="rId2"/>
          <a:stretch/>
        </p:blipFill>
        <p:spPr>
          <a:xfrm>
            <a:off x="6732720" y="2852640"/>
            <a:ext cx="2112840" cy="2019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283986"/>
          <p:cNvPicPr/>
          <p:nvPr/>
        </p:nvPicPr>
        <p:blipFill>
          <a:blip r:embed="rId3"/>
          <a:stretch/>
        </p:blipFill>
        <p:spPr>
          <a:xfrm>
            <a:off x="4356000" y="2708280"/>
            <a:ext cx="647640" cy="561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j0283784"/>
          <p:cNvPicPr/>
          <p:nvPr/>
        </p:nvPicPr>
        <p:blipFill>
          <a:blip r:embed="rId4"/>
          <a:stretch/>
        </p:blipFill>
        <p:spPr>
          <a:xfrm>
            <a:off x="3492360" y="4508640"/>
            <a:ext cx="2087640" cy="107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wb01621_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96360" y="6469200"/>
            <a:ext cx="468000" cy="32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wb01623_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bs00652_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Общие правил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ремещайтесь по кабинету спокой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j0186496"/>
          <p:cNvPicPr/>
          <p:nvPr/>
        </p:nvPicPr>
        <p:blipFill>
          <a:blip r:embed="rId1"/>
          <a:stretch/>
        </p:blipFill>
        <p:spPr>
          <a:xfrm>
            <a:off x="2556000" y="2141640"/>
            <a:ext cx="3962160" cy="381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96360" y="6469200"/>
            <a:ext cx="468000" cy="32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Общие правил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канчивайте занятие по звонку, оставляйте своё рабочее место в порядке, не оставляйте на столах своих вещ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j0254493"/>
          <p:cNvPicPr/>
          <p:nvPr/>
        </p:nvPicPr>
        <p:blipFill>
          <a:blip r:embed="rId1"/>
          <a:stretch/>
        </p:blipFill>
        <p:spPr>
          <a:xfrm>
            <a:off x="3059280" y="5445000"/>
            <a:ext cx="2089080" cy="102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j0300522"/>
          <p:cNvPicPr/>
          <p:nvPr/>
        </p:nvPicPr>
        <p:blipFill>
          <a:blip r:embed="rId2"/>
          <a:stretch/>
        </p:blipFill>
        <p:spPr>
          <a:xfrm>
            <a:off x="3276720" y="3500280"/>
            <a:ext cx="1592280" cy="149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wb01621_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7236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70264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электро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подключайте и не отключайте в кабинете самостоятельно электроприборы и электрический щит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j0286682"/>
          <p:cNvPicPr/>
          <p:nvPr/>
        </p:nvPicPr>
        <p:blipFill>
          <a:blip r:embed="rId1"/>
          <a:stretch/>
        </p:blipFill>
        <p:spPr>
          <a:xfrm>
            <a:off x="1116000" y="3716280"/>
            <a:ext cx="2305080" cy="163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336732"/>
          <p:cNvPicPr/>
          <p:nvPr/>
        </p:nvPicPr>
        <p:blipFill>
          <a:blip r:embed="rId2"/>
          <a:stretch/>
        </p:blipFill>
        <p:spPr>
          <a:xfrm>
            <a:off x="6012000" y="3645000"/>
            <a:ext cx="1726920" cy="1552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электро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касайтесь электрических прово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j0189199"/>
          <p:cNvPicPr/>
          <p:nvPr/>
        </p:nvPicPr>
        <p:blipFill>
          <a:blip r:embed="rId1"/>
          <a:stretch/>
        </p:blipFill>
        <p:spPr>
          <a:xfrm>
            <a:off x="3235320" y="2727360"/>
            <a:ext cx="2489040" cy="196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96360" y="6469200"/>
            <a:ext cx="468000" cy="320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электро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и возникновении проблем в кабинете, связанных с электрическим током, немедленно предупредить о них уч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j0189199"/>
          <p:cNvPicPr/>
          <p:nvPr/>
        </p:nvPicPr>
        <p:blipFill>
          <a:blip r:embed="rId1"/>
          <a:stretch/>
        </p:blipFill>
        <p:spPr>
          <a:xfrm>
            <a:off x="2771640" y="3716280"/>
            <a:ext cx="2489400" cy="196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2628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s00652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66280" y="6426360"/>
            <a:ext cx="36972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пожарной 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ичего не вставлять в электроразъё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j0336980"/>
          <p:cNvPicPr/>
          <p:nvPr/>
        </p:nvPicPr>
        <p:blipFill>
          <a:blip r:embed="rId1"/>
          <a:stretch/>
        </p:blipFill>
        <p:spPr>
          <a:xfrm>
            <a:off x="3851280" y="3500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wb01623_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bs00652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6:14:06Z</dcterms:created>
  <dc:creator>HOME</dc:creator>
  <dc:description/>
  <dc:language>en-US</dc:language>
  <cp:lastModifiedBy>Николай</cp:lastModifiedBy>
  <dcterms:modified xsi:type="dcterms:W3CDTF">2013-07-01T11:09:38Z</dcterms:modified>
  <cp:revision>14</cp:revision>
  <dc:subject/>
  <dc:title>Правила техники безопасности</dc:title>
</cp:coreProperties>
</file>