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gif" ContentType="image/gif"/>
  <Override PartName="/ppt/media/image22.wmf" ContentType="image/x-wmf"/>
  <Override PartName="/ppt/media/image10.gif" ContentType="image/gif"/>
  <Override PartName="/ppt/media/image8.wmf" ContentType="image/x-wmf"/>
  <Override PartName="/ppt/media/image7.wmf" ContentType="image/x-wmf"/>
  <Override PartName="/ppt/media/image4.png" ContentType="image/png"/>
  <Override PartName="/ppt/media/image6.wmf" ContentType="image/x-wmf"/>
  <Override PartName="/ppt/media/image3.gif" ContentType="image/gif"/>
  <Override PartName="/ppt/media/camera.wav" ContentType="audio/x-wav"/>
  <Override PartName="/ppt/media/image17.gif" ContentType="image/gif"/>
  <Override PartName="/ppt/media/image2.gif" ContentType="image/gif"/>
  <Override PartName="/ppt/media/image5.png" ContentType="image/png"/>
  <Override PartName="/ppt/media/whoosh.wav" ContentType="audio/x-wav"/>
  <Override PartName="/ppt/media/image1.jpeg" ContentType="image/jpeg"/>
  <Override PartName="/ppt/media/image25.png" ContentType="image/png"/>
  <Override PartName="/ppt/media/image24.wmf" ContentType="image/x-wmf"/>
  <Override PartName="/ppt/media/image21.gif" ContentType="image/gif"/>
  <Override PartName="/ppt/media/image23.gif" ContentType="image/gif"/>
  <Override PartName="/ppt/media/image20.wmf" ContentType="image/x-wmf"/>
  <Override PartName="/ppt/media/image18.gif" ContentType="image/gif"/>
  <Override PartName="/ppt/media/image19.wmf" ContentType="image/x-wmf"/>
  <Override PartName="/ppt/media/image16.gif" ContentType="image/gif"/>
  <Override PartName="/ppt/media/voltage.wav" ContentType="audio/x-wav"/>
  <Override PartName="/ppt/media/image15.gif" ContentType="image/gif"/>
  <Override PartName="/ppt/media/type.wav" ContentType="audio/x-wav"/>
  <Override PartName="/ppt/media/image14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6B5-0297-49D1-9F41-466BF26C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35A-A7EE-48DF-8E5A-2D5BC456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610-739F-4B6B-BAF2-9EEC6CD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7DF-A3D3-4F51-AA33-1B00FB81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CC08F-84D7-4828-969E-96654D40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1DA4-4FBE-4F5C-BA3B-978CA4E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DA19D-735B-4D63-BF86-AB2B337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18D61-24D6-4CBA-B75F-64D5FA8F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7BD97-B460-4EBB-92EA-26C62E18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81592-8A0F-4264-9E71-9C8D559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4314F-A738-4A2F-AFE0-E6F4583B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76B-E3FF-4C6D-B778-74D915DF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61D5-EAAA-4ED8-8D67-EA4FA00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C999F-959E-4543-8BC2-2A9ACDD7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415EF-E553-440E-871F-2487933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97AEA-B03F-4342-AB96-E9B5CC43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B0E6-272D-4EDB-AE30-E1A419D6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5A7-B680-432F-81D0-B0A05A4B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EA6-0DEC-4AEA-92EE-B5F727F0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9F9-0FB8-4D37-A9CE-13C446E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42A-EF45-4996-88E5-66AD044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A3E-8C3B-4EA3-95FE-FA632C51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40C-3666-4EE6-BCA5-F75E0A2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D49-DB7F-4E39-A6BE-0254342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0AF-DB81-481F-A406-9FFA010E5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F3FF-4B6B-464D-9BF0-2F681340D2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1.xml"/><Relationship Id="rId8" Type="http://schemas.openxmlformats.org/officeDocument/2006/relationships/image" Target="../media/image6.wmf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4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6.wmf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6.wm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ика безопасност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 школе на уроке информат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8760" y="2500200"/>
            <a:ext cx="7997760" cy="24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бщие прави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Правила электробезопасно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Правила безопасности на рабочем мес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9" descr="j0356784"/>
          <p:cNvPicPr/>
          <p:nvPr/>
        </p:nvPicPr>
        <p:blipFill>
          <a:blip r:embed="rId5"/>
          <a:stretch/>
        </p:blipFill>
        <p:spPr>
          <a:xfrm>
            <a:off x="7596360" y="5157720"/>
            <a:ext cx="11728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лучае задымления или запаха гари в кабинете немедленно сообщить об этом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j0254420"/>
          <p:cNvPicPr/>
          <p:nvPr/>
        </p:nvPicPr>
        <p:blipFill>
          <a:blip r:embed="rId1"/>
          <a:stretch/>
        </p:blipFill>
        <p:spPr>
          <a:xfrm>
            <a:off x="2411280" y="3573360"/>
            <a:ext cx="3456000" cy="21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вакуация из кабинета производится без паники под полным руководством учителя в соответствии с школьным пла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j0346317"/>
          <p:cNvPicPr/>
          <p:nvPr/>
        </p:nvPicPr>
        <p:blipFill>
          <a:blip r:embed="rId1"/>
          <a:stretch/>
        </p:blipFill>
        <p:spPr>
          <a:xfrm>
            <a:off x="2987640" y="3933720"/>
            <a:ext cx="2305080" cy="1847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6300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полагайтесь за компьютером на расстоянии от 50 до 60 см от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пина должна опираться на спинку ст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ги ставьте перпендикулярно по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j0195384"/>
          <p:cNvPicPr/>
          <p:nvPr/>
        </p:nvPicPr>
        <p:blipFill>
          <a:blip r:embed="rId1"/>
          <a:stretch/>
        </p:blipFill>
        <p:spPr>
          <a:xfrm>
            <a:off x="3492360" y="4724280"/>
            <a:ext cx="1795680" cy="183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тучите по клавишам, а спокойно нажимайте на них подушечками кончиков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j0296945"/>
          <p:cNvPicPr/>
          <p:nvPr/>
        </p:nvPicPr>
        <p:blipFill>
          <a:blip r:embed="rId1"/>
          <a:stretch/>
        </p:blipFill>
        <p:spPr>
          <a:xfrm>
            <a:off x="3203640" y="3789360"/>
            <a:ext cx="2017800" cy="158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506160"/>
            <a:ext cx="838836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3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еремещайте самостоятельно компьютерные составляющие (монитор и системный блок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 всех возникших проблемах немедленно сообщите учител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j0195786"/>
          <p:cNvPicPr/>
          <p:nvPr/>
        </p:nvPicPr>
        <p:blipFill>
          <a:blip r:embed="rId1"/>
          <a:stretch/>
        </p:blipFill>
        <p:spPr>
          <a:xfrm>
            <a:off x="3132000" y="4365720"/>
            <a:ext cx="20862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руками экрана мон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j0283761"/>
          <p:cNvPicPr/>
          <p:nvPr/>
        </p:nvPicPr>
        <p:blipFill>
          <a:blip r:embed="rId1"/>
          <a:stretch/>
        </p:blipFill>
        <p:spPr>
          <a:xfrm>
            <a:off x="3276720" y="3213000"/>
            <a:ext cx="228096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bs00652_"/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безопасности на рабочем месте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 время урока не отвлекайте разговорами соседей, не обращайтесь к ним за помощ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j0292124"/>
          <p:cNvPicPr/>
          <p:nvPr/>
        </p:nvPicPr>
        <p:blipFill>
          <a:blip r:embed="rId1"/>
          <a:stretch/>
        </p:blipFill>
        <p:spPr>
          <a:xfrm>
            <a:off x="2771640" y="3357720"/>
            <a:ext cx="3097440" cy="3031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24720" y="638172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s00652_"/>
          <p:cNvPicPr/>
          <p:nvPr/>
        </p:nvPicPr>
        <p:blipFill>
          <a:blip r:embed="rId3"/>
          <a:stretch/>
        </p:blipFill>
        <p:spPr>
          <a:xfrm>
            <a:off x="8172360" y="63086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wb01623_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75640" y="6381720"/>
            <a:ext cx="468360" cy="3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63640" y="1557360"/>
            <a:ext cx="56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работу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5" dur="123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6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8" dur="123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ходить в кабинет только с разрешения уч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j0286671"/>
          <p:cNvPicPr/>
          <p:nvPr/>
        </p:nvPicPr>
        <p:blipFill>
          <a:blip r:embed="rId1"/>
          <a:stretch/>
        </p:blipFill>
        <p:spPr>
          <a:xfrm flipH="1">
            <a:off x="468360" y="48690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632720" y="644508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4364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41 0.0625 C 0.12309 0.05902 0.18194 0.05578 0.24826 0.03379 C 0.31458 0.0118 0.39427 -0.02662 0.4618 -0.06898 C 0.52934 -0.11135 0.59462 -0.16644 0.65364 -0.22037 C 0.71267 -0.27431 0.77847 -0.34885 0.8158 -0.39329 C 0.85312 -0.43773 0.86545 -0.4625 0.87795 -0.48704 E">
                                      <p:cBhvr>
                                        <p:cTn id="3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д входом в кабинет информатики проверьте чистоту одежды, обуви и р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j0228965"/>
          <p:cNvPicPr/>
          <p:nvPr/>
        </p:nvPicPr>
        <p:blipFill>
          <a:blip r:embed="rId1"/>
          <a:stretch/>
        </p:blipFill>
        <p:spPr>
          <a:xfrm>
            <a:off x="684360" y="3213000"/>
            <a:ext cx="1819080" cy="163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231589"/>
          <p:cNvPicPr/>
          <p:nvPr/>
        </p:nvPicPr>
        <p:blipFill>
          <a:blip r:embed="rId2"/>
          <a:stretch/>
        </p:blipFill>
        <p:spPr>
          <a:xfrm>
            <a:off x="6732720" y="2852640"/>
            <a:ext cx="2112840" cy="201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283986"/>
          <p:cNvPicPr/>
          <p:nvPr/>
        </p:nvPicPr>
        <p:blipFill>
          <a:blip r:embed="rId3"/>
          <a:stretch/>
        </p:blipFill>
        <p:spPr>
          <a:xfrm>
            <a:off x="4356000" y="2708280"/>
            <a:ext cx="647640" cy="56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83784"/>
          <p:cNvPicPr/>
          <p:nvPr/>
        </p:nvPicPr>
        <p:blipFill>
          <a:blip r:embed="rId4"/>
          <a:stretch/>
        </p:blipFill>
        <p:spPr>
          <a:xfrm>
            <a:off x="3492360" y="4508640"/>
            <a:ext cx="208764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wb01621_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wb01623_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bs00652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ремещайтесь по кабинету спокой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j0186496"/>
          <p:cNvPicPr/>
          <p:nvPr/>
        </p:nvPicPr>
        <p:blipFill>
          <a:blip r:embed="rId1"/>
          <a:stretch/>
        </p:blipFill>
        <p:spPr>
          <a:xfrm>
            <a:off x="2556000" y="2141640"/>
            <a:ext cx="3962160" cy="381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Общие правил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канчивайте занятие по звонку, оставляйте своё рабочее место в порядке, не оставляйте на столах своих вещ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j0254493"/>
          <p:cNvPicPr/>
          <p:nvPr/>
        </p:nvPicPr>
        <p:blipFill>
          <a:blip r:embed="rId1"/>
          <a:stretch/>
        </p:blipFill>
        <p:spPr>
          <a:xfrm>
            <a:off x="3059280" y="5445000"/>
            <a:ext cx="2089080" cy="102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j0300522"/>
          <p:cNvPicPr/>
          <p:nvPr/>
        </p:nvPicPr>
        <p:blipFill>
          <a:blip r:embed="rId2"/>
          <a:stretch/>
        </p:blipFill>
        <p:spPr>
          <a:xfrm>
            <a:off x="3276720" y="3500280"/>
            <a:ext cx="1592280" cy="149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wb01621_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7236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0264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подключайте и не отключайте в кабинете самостоятельно электроприборы и электрический щито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j0286682"/>
          <p:cNvPicPr/>
          <p:nvPr/>
        </p:nvPicPr>
        <p:blipFill>
          <a:blip r:embed="rId1"/>
          <a:stretch/>
        </p:blipFill>
        <p:spPr>
          <a:xfrm>
            <a:off x="1116000" y="3716280"/>
            <a:ext cx="2305080" cy="163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336732"/>
          <p:cNvPicPr/>
          <p:nvPr/>
        </p:nvPicPr>
        <p:blipFill>
          <a:blip r:embed="rId2"/>
          <a:stretch/>
        </p:blipFill>
        <p:spPr>
          <a:xfrm>
            <a:off x="6012000" y="3645000"/>
            <a:ext cx="1726920" cy="155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касайтесь электрических пров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j0189199"/>
          <p:cNvPicPr/>
          <p:nvPr/>
        </p:nvPicPr>
        <p:blipFill>
          <a:blip r:embed="rId1"/>
          <a:stretch/>
        </p:blipFill>
        <p:spPr>
          <a:xfrm>
            <a:off x="3235320" y="2727360"/>
            <a:ext cx="2489040" cy="19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469200"/>
            <a:ext cx="468000" cy="32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wb01623_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bs0065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электро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и возникновении проблем в кабинете, связанных с электрическим током, немедленно предупредить о них уч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j0189199"/>
          <p:cNvPicPr/>
          <p:nvPr/>
        </p:nvPicPr>
        <p:blipFill>
          <a:blip r:embed="rId1"/>
          <a:stretch/>
        </p:blipFill>
        <p:spPr>
          <a:xfrm>
            <a:off x="2771640" y="3716280"/>
            <a:ext cx="2489400" cy="19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wb01621_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26280" y="6469200"/>
            <a:ext cx="468360" cy="32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66280" y="6426360"/>
            <a:ext cx="369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cc00"/>
                </a:solidFill>
                <a:latin typeface="Tahoma"/>
              </a:rPr>
              <a:t>Правила пожарной безопасности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ичего не вставлять в электроразъё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j0336980"/>
          <p:cNvPicPr/>
          <p:nvPr/>
        </p:nvPicPr>
        <p:blipFill>
          <a:blip r:embed="rId1"/>
          <a:stretch/>
        </p:blipFill>
        <p:spPr>
          <a:xfrm>
            <a:off x="3851280" y="3500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wb01623_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4360" y="6438960"/>
            <a:ext cx="468360" cy="320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bs00652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72360" y="6426360"/>
            <a:ext cx="37008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4:06Z</dcterms:created>
  <dc:creator>HOME</dc:creator>
  <dc:description/>
  <dc:language>en-US</dc:language>
  <cp:lastModifiedBy>Николай</cp:lastModifiedBy>
  <dcterms:modified xsi:type="dcterms:W3CDTF">2013-07-01T11:09:38Z</dcterms:modified>
  <cp:revision>14</cp:revision>
  <dc:subject/>
  <dc:title>Правила техники безопасности</dc:title>
</cp:coreProperties>
</file>