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6.gif" ContentType="image/gif"/>
  <Override PartName="/ppt/media/image11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867-FA44-4E3C-B6AF-2571B18B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DDD8-3CFA-42F2-9D21-6DAAC356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C37-1D35-4841-91AD-D5BCD5D9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6E1-D070-46DF-87F7-D8F22371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6B95-D2B8-4C8F-B895-C9FA12A9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B01-95E7-495C-BD16-28401D38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1C5-E58C-4367-914D-CCED9348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1D0-E101-4776-8C85-6B5148AD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261-6DCE-42B7-9302-43F8684D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986C-A659-4A00-B01B-0E15A47B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D1C-9C3C-410C-8FE9-A2CCC358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D47-8CD0-456F-8E3C-D893721F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F108-5CCA-45D8-A1A3-1E3C9C682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mayli.ru/" TargetMode="External"/><Relationship Id="rId3" Type="http://schemas.openxmlformats.org/officeDocument/2006/relationships/hyperlink" Target="http://smayli.ru/data/smiles/edaa-804.gif" TargetMode="External"/><Relationship Id="rId4" Type="http://schemas.openxmlformats.org/officeDocument/2006/relationships/hyperlink" Target="http://smayli.ru/data/smiles/edaa-804.gif" TargetMode="External"/><Relationship Id="rId5" Type="http://schemas.openxmlformats.org/officeDocument/2006/relationships/hyperlink" Target="http://smayli.ru/smile/jivotniea-3773.html" TargetMode="External"/><Relationship Id="rId6" Type="http://schemas.openxmlformats.org/officeDocument/2006/relationships/hyperlink" Target="http://smayli.ru/smile/jivotniea-3514.html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19640" y="4724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Подготовила: Латышева Татья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ОУ «Ракитянская СОШ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1268280"/>
            <a:ext cx="6480000" cy="26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gradFill rotWithShape="0">
                  <a:gsLst>
                    <a:gs pos="0">
                      <a:srgbClr val="990033"/>
                    </a:gs>
                    <a:gs pos="50000">
                      <a:srgbClr val="ffffcc"/>
                    </a:gs>
                    <a:gs pos="100000">
                      <a:srgbClr val="9900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Задачи в стихах"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gradFill rotWithShape="0">
                <a:gsLst>
                  <a:gs pos="0">
                    <a:srgbClr val="990033"/>
                  </a:gs>
                  <a:gs pos="50000">
                    <a:srgbClr val="ffffcc"/>
                  </a:gs>
                  <a:gs pos="100000">
                    <a:srgbClr val="9900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gradFill rotWithShape="0">
                  <a:gsLst>
                    <a:gs pos="0">
                      <a:srgbClr val="990033"/>
                    </a:gs>
                    <a:gs pos="50000">
                      <a:srgbClr val="ffffcc"/>
                    </a:gs>
                    <a:gs pos="100000">
                      <a:srgbClr val="9900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стный счет для 3 класса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gradFill rotWithShape="0">
                <a:gsLst>
                  <a:gs pos="0">
                    <a:srgbClr val="990033"/>
                  </a:gs>
                  <a:gs pos="50000">
                    <a:srgbClr val="ffffcc"/>
                  </a:gs>
                  <a:gs pos="100000">
                    <a:srgbClr val="9900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0920" y="4797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765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263700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620640"/>
            <a:ext cx="568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Три бельчонка маму-бел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Ждали около ду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Им на завтрак мама-б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Девять шишек прин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Разделила на тр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Сколько каждому из н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&amp;Acy;&amp;ncy;&amp;icy;&amp;mcy;&amp;acy;&amp;shcy;&amp;kcy;&amp;icy; &amp;ZHcy;&amp;icy;&amp;vcy;&amp;ocy;&amp;tcy;&amp;ncy;&amp;ycy;&amp;iecy;"/>
          <p:cNvPicPr/>
          <p:nvPr/>
        </p:nvPicPr>
        <p:blipFill>
          <a:blip r:embed="rId2"/>
          <a:stretch/>
        </p:blipFill>
        <p:spPr>
          <a:xfrm>
            <a:off x="5724360" y="2997360"/>
            <a:ext cx="31006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22520" y="1413000"/>
            <a:ext cx="560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Анимация взята с с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mayli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smayli.ru/data/smiles/edaa-804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smayli.ru/smile/jivotniea-3773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smayli.ru/smile/jivotniea-3514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907920"/>
            <a:ext cx="603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Дарит бабушка-лис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рём внучатам рукавиц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Это вам на зиму, вн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Рукавичек по две шт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Берегите, не теря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Сколько всех, пересчит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&amp;Acy;&amp;ncy;&amp;icy;&amp;mcy;&amp;acy;&amp;shcy;&amp;kcy;&amp;icy; &amp;ZHcy;&amp;icy;&amp;vcy;&amp;ocy;&amp;tcy;&amp;ncy;&amp;ycy;&amp;iecy;"/>
          <p:cNvPicPr/>
          <p:nvPr/>
        </p:nvPicPr>
        <p:blipFill>
          <a:blip r:embed="rId2"/>
          <a:stretch/>
        </p:blipFill>
        <p:spPr>
          <a:xfrm>
            <a:off x="4427640" y="1628640"/>
            <a:ext cx="4716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796000" y="2492280"/>
            <a:ext cx="2962080" cy="355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1052640"/>
            <a:ext cx="61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Раз к зайчонку на о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Прискакал дружок-сос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На пенёк зайчата с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И по пять морковок съ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Кто считать, ребята, лов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Сколько съедено морков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96000" y="1628640"/>
            <a:ext cx="2895480" cy="372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1280" y="1413000"/>
            <a:ext cx="540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Как-то раз в лесу гу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Ёж построил себе 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Пригласил лесных звер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Сосчитайте их скор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6 зайчат, 6 лис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6 весёлых медвежа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6 бельчат, 6 боб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У кого ответ го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981000"/>
            <a:ext cx="559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На пригорке возле ё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Ёжик яблоки счита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Семь под ёлкой, семь за ёл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Семь в мешке за тем пригорк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Семь в избе на третьей пол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Семь под лавкою в са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Сколько яблок, как поня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Ёж не может разобр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508720" y="3573360"/>
            <a:ext cx="32954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4000" y="836640"/>
            <a:ext cx="573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Кот с утра сидит у ре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У него большой ул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ри щурёнка, три ер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ри сома и три ле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Сколько рыбок у ко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27440" y="1557360"/>
            <a:ext cx="386568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692280"/>
            <a:ext cx="6102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Грибники-звер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На лесной опу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Стали хвастаться друг дру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Кто и что в лесу нашё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Зайчонок – два борови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Бельчонок – два мохови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Лосёнок – мухомора д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А ёжик – две волну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Сосчитайте-ка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Все грибы у тех зве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80000" y="1844640"/>
            <a:ext cx="35640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1268280"/>
            <a:ext cx="574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Подарил утятам ёж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Восемь кожаных сапож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Кто ответит из реб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Сколько было всех утя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211640" y="2421000"/>
            <a:ext cx="42480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5280" y="981000"/>
            <a:ext cx="646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Напекла лиса ватруш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Пригласила пять подруж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Вот ватрушки. Надо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Разделить на шестер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Всех ватрушек тридцать ш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Сколько каждый может съе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&amp;Acy;&amp;ncy;&amp;icy;&amp;mcy;&amp;acy;&amp;shcy;&amp;kcy;&amp;icy; &amp;IEcy;&amp;dcy;&amp;acy;"/>
          <p:cNvPicPr/>
          <p:nvPr/>
        </p:nvPicPr>
        <p:blipFill>
          <a:blip r:embed="rId2"/>
          <a:stretch/>
        </p:blipFill>
        <p:spPr>
          <a:xfrm>
            <a:off x="4427640" y="3213000"/>
            <a:ext cx="431964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31T14:36:07Z</dcterms:created>
  <dc:creator>Admin</dc:creator>
  <dc:description/>
  <dc:language>en-US</dc:language>
  <cp:lastModifiedBy>Ракитянская СОШ1</cp:lastModifiedBy>
  <dcterms:modified xsi:type="dcterms:W3CDTF">2014-06-02T06:56:21Z</dcterms:modified>
  <cp:revision>4</cp:revision>
  <dc:subject/>
  <dc:title>Слайд 1</dc:title>
</cp:coreProperties>
</file>