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jpeg" ContentType="image/jpeg"/>
  <Override PartName="/ppt/media/image8.gif" ContentType="image/gif"/>
  <Override PartName="/ppt/media/image5.png" ContentType="image/png"/>
  <Override PartName="/ppt/media/image6.gif" ContentType="image/gif"/>
  <Override PartName="/ppt/media/image11.gif" ContentType="image/gif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9A0B-11F3-4099-ACD3-32B958C81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145F-8344-4C60-B780-BDDF7122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F9DA-7FE0-4B82-A008-1662C63DC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0C1B-DDF2-46E5-9EB2-45B69DA7B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D8F5-D451-403F-8437-B5CCC2B5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5192-905E-4775-9CF2-C94FE79B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5B53-985F-4BAC-B640-410E5A15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182A-7CD5-4252-8A41-19A273CD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C688-51B7-4644-B9D8-673E8D1D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7AE7-F537-4467-A5B6-6B2E52CC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FC35-8EA8-46EA-B108-9BDE65E2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6259-ACA1-4D42-BAB8-B467FDEC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0014-78A9-4EED-B475-57D13BCCE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mayli.ru/" TargetMode="External"/><Relationship Id="rId3" Type="http://schemas.openxmlformats.org/officeDocument/2006/relationships/hyperlink" Target="http://smayli.ru/data/smiles/edaa-804.gif" TargetMode="External"/><Relationship Id="rId4" Type="http://schemas.openxmlformats.org/officeDocument/2006/relationships/hyperlink" Target="http://smayli.ru/data/smiles/edaa-804.gif" TargetMode="External"/><Relationship Id="rId5" Type="http://schemas.openxmlformats.org/officeDocument/2006/relationships/hyperlink" Target="http://smayli.ru/smile/jivotniea-3773.html" TargetMode="External"/><Relationship Id="rId6" Type="http://schemas.openxmlformats.org/officeDocument/2006/relationships/hyperlink" Target="http://smayli.ru/smile/jivotniea-3514.html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19640" y="4724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Подготовила: Латышева Татья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МОУ «Ракитянская СОШ №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32000" y="1268280"/>
            <a:ext cx="6480000" cy="268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gradFill rotWithShape="0">
                  <a:gsLst>
                    <a:gs pos="0">
                      <a:srgbClr val="990033"/>
                    </a:gs>
                    <a:gs pos="50000">
                      <a:srgbClr val="ffffcc"/>
                    </a:gs>
                    <a:gs pos="100000">
                      <a:srgbClr val="990033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"Задачи в стихах"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gradFill rotWithShape="0">
                <a:gsLst>
                  <a:gs pos="0">
                    <a:srgbClr val="990033"/>
                  </a:gs>
                  <a:gs pos="50000">
                    <a:srgbClr val="ffffcc"/>
                  </a:gs>
                  <a:gs pos="100000">
                    <a:srgbClr val="990033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gradFill rotWithShape="0">
                  <a:gsLst>
                    <a:gs pos="0">
                      <a:srgbClr val="990033"/>
                    </a:gs>
                    <a:gs pos="50000">
                      <a:srgbClr val="ffffcc"/>
                    </a:gs>
                    <a:gs pos="100000">
                      <a:srgbClr val="990033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устный счет для 3 класса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gradFill rotWithShape="0">
                <a:gsLst>
                  <a:gs pos="0">
                    <a:srgbClr val="990033"/>
                  </a:gs>
                  <a:gs pos="50000">
                    <a:srgbClr val="ffffcc"/>
                  </a:gs>
                  <a:gs pos="100000">
                    <a:srgbClr val="990033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50920" y="4797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84720" y="76500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11640" y="263700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620640"/>
            <a:ext cx="568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Три бельчонка маму-бел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Ждали около ду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Им на завтрак мама-бе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Девять шишек прине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Разделила на тр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Сколько каждому из ни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&amp;Acy;&amp;ncy;&amp;icy;&amp;mcy;&amp;acy;&amp;shcy;&amp;kcy;&amp;icy; &amp;ZHcy;&amp;icy;&amp;vcy;&amp;ocy;&amp;tcy;&amp;ncy;&amp;ycy;&amp;iecy;"/>
          <p:cNvPicPr/>
          <p:nvPr/>
        </p:nvPicPr>
        <p:blipFill>
          <a:blip r:embed="rId2"/>
          <a:stretch/>
        </p:blipFill>
        <p:spPr>
          <a:xfrm>
            <a:off x="5724360" y="2997360"/>
            <a:ext cx="31006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622520" y="1413000"/>
            <a:ext cx="560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Анимация взята с сай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mayli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://smayli.ru/data/smiles/edaa-804.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smayli.ru/smile/jivotniea-3773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smayli.ru/smile/jivotniea-3514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8360" y="907920"/>
            <a:ext cx="603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Дарит бабушка-лис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Трём внучатам рукавиц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Это вам на зиму, вну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Рукавичек по две шту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Берегите, не теря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Сколько всех, пересчита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&amp;Acy;&amp;ncy;&amp;icy;&amp;mcy;&amp;acy;&amp;shcy;&amp;kcy;&amp;icy; &amp;ZHcy;&amp;icy;&amp;vcy;&amp;ocy;&amp;tcy;&amp;ncy;&amp;ycy;&amp;iecy;"/>
          <p:cNvPicPr/>
          <p:nvPr/>
        </p:nvPicPr>
        <p:blipFill>
          <a:blip r:embed="rId2"/>
          <a:stretch/>
        </p:blipFill>
        <p:spPr>
          <a:xfrm>
            <a:off x="4427640" y="1628640"/>
            <a:ext cx="471636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5796000" y="2492280"/>
            <a:ext cx="2962080" cy="3554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9280" y="1052640"/>
            <a:ext cx="61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Раз к зайчонку на об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Прискакал дружок-сос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На пенёк зайчата с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И по пять морковок съ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Кто считать, ребята, лов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Сколько съедено морков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796000" y="1628640"/>
            <a:ext cx="2895480" cy="3721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11280" y="1413000"/>
            <a:ext cx="5400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Как-то раз в лесу гус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Ёж построил себе 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Пригласил лесных звер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Сосчитайте их скор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6 зайчат, 6 лися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6 весёлых медвежа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6 бельчат, 6 боб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У кого ответ гот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11280" y="981000"/>
            <a:ext cx="5599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На пригорке возле ё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Ёжик яблоки счита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Семь под ёлкой, семь за ёлк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Семь в мешке за тем пригорко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Семь в избе на третьей пол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Семь под лавкою в са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Сколько яблок, как поня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Ёж не может разобр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508720" y="3573360"/>
            <a:ext cx="32954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24000" y="836640"/>
            <a:ext cx="5736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Кот с утра сидит у ре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У него большой ул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Три щурёнка, три ерш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три сома и три лещ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Сколько рыбок у ко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27440" y="1557360"/>
            <a:ext cx="386568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4000" y="692280"/>
            <a:ext cx="6102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Грибники-зверу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На лесной опуш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Стали хвастаться друг друг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Кто и что в лесу нашё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Зайчонок – два борови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Бельчонок – два мохови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Лосёнок – мухомора д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А ёжик – две волну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Сосчитайте-ка ско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Все грибы у тех зве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580000" y="1844640"/>
            <a:ext cx="356400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68360" y="1268280"/>
            <a:ext cx="574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Подарил утятам ёж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Восемь кожаных сапож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Кто ответит из реб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Сколько было всех утя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211640" y="2421000"/>
            <a:ext cx="424800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95280" y="981000"/>
            <a:ext cx="646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Напекла лиса ватруш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Пригласила пять подруж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Вот ватрушки. Надо 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Разделить на шестер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Всех ватрушек тридцать ш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Сколько каждый может съе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&amp;Acy;&amp;ncy;&amp;icy;&amp;mcy;&amp;acy;&amp;shcy;&amp;kcy;&amp;icy; &amp;IEcy;&amp;dcy;&amp;acy;"/>
          <p:cNvPicPr/>
          <p:nvPr/>
        </p:nvPicPr>
        <p:blipFill>
          <a:blip r:embed="rId2"/>
          <a:stretch/>
        </p:blipFill>
        <p:spPr>
          <a:xfrm>
            <a:off x="4427640" y="3213000"/>
            <a:ext cx="431964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31T14:36:07Z</dcterms:created>
  <dc:creator>Admin</dc:creator>
  <dc:description/>
  <dc:language>en-US</dc:language>
  <cp:lastModifiedBy>Ракитянская СОШ1</cp:lastModifiedBy>
  <dcterms:modified xsi:type="dcterms:W3CDTF">2014-06-02T06:56:21Z</dcterms:modified>
  <cp:revision>4</cp:revision>
  <dc:subject/>
  <dc:title>Слайд 1</dc:title>
</cp:coreProperties>
</file>