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9.png" ContentType="image/pn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F8A-ADD8-4921-AE9F-DE7CCC4B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98F-79B5-477C-95FD-3B4328CE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613-3D5E-482C-83D7-EDE94EEC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E17-0023-472D-9E50-3B401051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ABE-0F19-4152-B89B-2A684B4F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206-CC9E-4603-91F8-BC94DD6E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987-DF21-42EF-B896-6394230E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D92-81D7-4783-B95B-C610B129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120-500D-49F7-A603-F07CA58A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880-69A9-44D7-8EF5-24DF6651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34D-889D-4B00-B930-264ECF25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96A-D157-45F4-8695-CA19E466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3F48-AD63-4428-9854-8E453E95C7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30"/>
          <p:cNvSpPr/>
          <p:nvPr/>
        </p:nvSpPr>
        <p:spPr>
          <a:xfrm>
            <a:off x="1371600" y="190476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оциальн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тратификация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сло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 стратификации, предшествующая классам. В феодальных обществах,  которые существовали в Европе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, люди разделялись на сосло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ЛОВ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циальная группа, обладающая закреплёнными обычаями или юридическим законом и передаваемыми по наследству правами и обязанност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е социальные группы людей, у которых есть или нет средств производства. Они занимают определённое место в системе общественного разделения труда, характеризуются специфическим способом получения дох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219320" y="4343400"/>
            <a:ext cx="7315200" cy="1600200"/>
          </a:xfrm>
          <a:prstGeom prst="wedgeRoundRectCallout">
            <a:avLst>
              <a:gd name="adj1" fmla="val -68032"/>
              <a:gd name="adj2" fmla="val 109523"/>
              <a:gd name="adj3" fmla="val 16667"/>
            </a:avLst>
          </a:prstGeom>
          <a:gradFill rotWithShape="0">
            <a:gsLst>
              <a:gs pos="0">
                <a:srgbClr val="d8b08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как любая социальная страта в современном обществе, которая отличается доходом, образованием, властью, престиж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ы три фигуры представителей высшего, среднего и рабочего классов и список вещей, в которые их можно одеть. Вам надо подобрать гардероб для всех тре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rcRect l="0" t="0" r="0" b="5725"/>
          <a:stretch/>
        </p:blipFill>
        <p:spPr>
          <a:xfrm>
            <a:off x="380880" y="1447920"/>
            <a:ext cx="8534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п.18, ответить на вопросы, выполнить практик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ь сущность социальной стратификации, увидеть её влияние на поведение, образ жизни, доходы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47920" y="388404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ая стратификация и её слага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класс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влияет на образ жизни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вы думае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ет ли существовать общество абсолютно равных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оответствии с какими критериями можно разделить людей в сложных обществ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Mj02363040000[1]"/>
          <p:cNvPicPr/>
          <p:nvPr/>
        </p:nvPicPr>
        <p:blipFill>
          <a:blip r:embed="rId1"/>
          <a:stretch/>
        </p:blipFill>
        <p:spPr>
          <a:xfrm>
            <a:off x="7696080" y="228600"/>
            <a:ext cx="1121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циальная стратиф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деление общества на социальные слои 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р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утем объединения различных социальных позиций с примерно одинаковым социальным статусом, отражающее сложившееся в нем представление о социальном неравенстве, выстроенное по вертикали (социальная иерархия), вдоль своей оси по одному или нескольким стратификационным критериям (показателям социального статус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010280" y="304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РАССЛ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та социаль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лат. stratum - слой, пласт) - элемент социальной структуры (социальный слой или группа), объединенный неким общим социальным признаком (имущественным, профессиональным или иным). Социальный слой людей, имеющих схожие признаки по доходам, власти, образованию, престиж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>
            <a:hlinkClick r:id="rId1" action="ppaction://hlinksldjump"/>
          </p:cNvPr>
          <p:cNvSpPr/>
          <p:nvPr/>
        </p:nvSpPr>
        <p:spPr>
          <a:xfrm>
            <a:off x="84582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d8b0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733920" y="4343400"/>
            <a:ext cx="20113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6172200" y="3886200"/>
            <a:ext cx="191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рические типы страт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353040" cy="2764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6324480" y="838080"/>
            <a:ext cx="2819520" cy="3819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2057400" y="3998880"/>
            <a:ext cx="5105520" cy="2859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4"/>
          <a:stretch/>
        </p:blipFill>
        <p:spPr>
          <a:xfrm>
            <a:off x="4495680" y="1066680"/>
            <a:ext cx="1393920" cy="2133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85800" y="838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Б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7162920" y="9144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648320" y="2895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676520" y="4191120"/>
            <a:ext cx="30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О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066680" y="3505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ажите характерные черты представленных типов стратифик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умай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 социальный статус раба в обществе, можно ли считать современное российское общество по типу стратификации рабовладельческим? Почему? Ответ поясн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едставляет собой кастовый слой Индии? Какое влияние на   образ жизни людей оказывает каста? Почему кастовый слой менее распространён, чем другие типы стратифик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проявляется характерная черта сословий? Как это отразилось на образе жизни российского дворянства? В чем выражалось переплетение достигаемого и приписываемого статусов  в сословной иерархии Рос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MMj02347520000[1]"/>
          <p:cNvPicPr/>
          <p:nvPr/>
        </p:nvPicPr>
        <p:blipFill>
          <a:blip r:embed="rId1"/>
          <a:stretch/>
        </p:blipFill>
        <p:spPr>
          <a:xfrm>
            <a:off x="7696080" y="5334120"/>
            <a:ext cx="1133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чески первая система социальной стратификации. Рабство возникло в глубокой древности в Египте, Вавилоне, Китае, Греции и Риме и сохранилось в ряде регионов практически до настоящего времени. Оно существовало в США ещё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кономическая, социальная и юридическая форма закрепощения людей, граничащая с полным бесправием и крайней степенью не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стовый ст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товый строй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 и рабство, характеризует закрытое общество и жёсткую стратификацию. Он не такой древний, как рабовладельческий строй, и менее распространённый. Если через рабство прошли практически все страны, то касты обнаружены только в Индии  и отчасти в Африке. Индия – классический пример кастового общества. Оно возникло на развалинах рабовладельческого в первые века новой э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ТОЙ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  социальную группу (страту), членством в которой человек обязан исключительно своим р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1-10-11T15:21:1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