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12.png" ContentType="image/png"/>
  <Override PartName="/ppt/media/image4.png" ContentType="image/png"/>
  <Override PartName="/ppt/media/image6.png" ContentType="image/png"/>
  <Override PartName="/ppt/media/image8.png" ContentType="image/png"/>
  <Override PartName="/ppt/media/image9.png" ContentType="image/png"/>
  <Override PartName="/ppt/media/image11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3A5B-D025-4228-93F9-97221406A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4E96-09FA-4FF9-8E61-2DB895B3E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2C70-BD7C-4F59-B9BD-CD40129C9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4D4F-15D7-41C0-92D6-0AC41AC79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1BD8-9246-4FF7-9694-0DE500AF7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087F-BCB8-4A04-8FC6-3A9F5F391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87BA-3AA8-46AB-B904-21E4C3CE0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3D66-95A4-4F62-B628-720D83224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D006-BDC6-4801-8A7C-FA79DED92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7AD7-F435-461E-A190-67740F40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51AC-30AD-4759-85A0-6128807B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1C7F-6E4F-4147-9E78-81207151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B0595-FECF-46CB-A878-56B3E14305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30"/>
          <p:cNvSpPr/>
          <p:nvPr/>
        </p:nvSpPr>
        <p:spPr>
          <a:xfrm>
            <a:off x="1371600" y="1904760"/>
            <a:ext cx="6172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Arial"/>
              </a:rPr>
              <a:t>Социальна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Arial"/>
              </a:rPr>
              <a:t>стратификация</a:t>
            </a: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ослов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а стратификации, предшествующая классам. В феодальных обществах,  которые существовали в Европе с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V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ека, люди разделялись на сослов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СЛОВИ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социальная группа, обладающая закреплёнными обычаями или юридическим законом и передаваемыми по наследству правами и обязанностя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ас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ие социальные группы людей, у которых есть или нет средств производства. Они занимают определённое место в системе общественного разделения труда, характеризуются специфическим способом получения дох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4"/>
          <p:cNvSpPr/>
          <p:nvPr/>
        </p:nvSpPr>
        <p:spPr>
          <a:xfrm>
            <a:off x="1219320" y="4343400"/>
            <a:ext cx="7315200" cy="1600200"/>
          </a:xfrm>
          <a:prstGeom prst="wedgeRoundRectCallout">
            <a:avLst>
              <a:gd name="adj1" fmla="val -68032"/>
              <a:gd name="adj2" fmla="val 109523"/>
              <a:gd name="adj3" fmla="val 16667"/>
            </a:avLst>
          </a:prstGeom>
          <a:gradFill rotWithShape="0">
            <a:gsLst>
              <a:gs pos="0">
                <a:srgbClr val="d8b088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ли как любая социальная страта в современном обществе, которая отличается доходом, образованием, властью, престиж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ны три фигуры представителей высшего, среднего и рабочего классов и список вещей, в которые их можно одеть. Вам надо подобрать гардероб для всех тре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rcRect l="0" t="0" r="0" b="5725"/>
          <a:stretch/>
        </p:blipFill>
        <p:spPr>
          <a:xfrm>
            <a:off x="380880" y="1447920"/>
            <a:ext cx="85345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ть п.18, ответить на вопросы, выполнить практику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нять сущность социальной стратификации, увидеть её влияние на поведение, образ жизни, доходы лю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лан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1447920" y="3884040"/>
            <a:ext cx="655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циальная стратификация и её слагаем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такое класс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влияет на образ жизни люд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вы думает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жет ли существовать общество абсолютно равных люд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соответствии с какими критериями можно разделить людей в сложных обществ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MMj02363040000[1]"/>
          <p:cNvPicPr/>
          <p:nvPr/>
        </p:nvPicPr>
        <p:blipFill>
          <a:blip r:embed="rId1"/>
          <a:stretch/>
        </p:blipFill>
        <p:spPr>
          <a:xfrm>
            <a:off x="7696080" y="228600"/>
            <a:ext cx="11210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циальная стратифик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784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деление общества на социальные слои (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стра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путем объединения различных социальных позиций с примерно одинаковым социальным статусом, отражающее сложившееся в нем представление о социальном неравенстве, выстроенное по вертикали (социальная иерархия), вдоль своей оси по одному или нескольким стратификационным критериям (показателям социального статус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010280" y="3049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99"/>
                </a:solidFill>
                <a:latin typeface="Arial"/>
              </a:rPr>
              <a:t>РАССЛО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рата социаль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лат. stratum - слой, пласт) - элемент социальной структуры (социальный слой или группа), объединенный неким общим социальным признаком (имущественным, профессиональным или иным). Социальный слой людей, имеющих схожие признаки по доходам, власти, образованию, престиж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4">
            <a:hlinkClick r:id="rId1" action="ppaction://hlinksldjump"/>
          </p:cNvPr>
          <p:cNvSpPr/>
          <p:nvPr/>
        </p:nvSpPr>
        <p:spPr>
          <a:xfrm>
            <a:off x="845820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d8b0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3733920" y="4343400"/>
            <a:ext cx="2011320" cy="2286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3"/>
          <a:stretch/>
        </p:blipFill>
        <p:spPr>
          <a:xfrm>
            <a:off x="762120" y="4038480"/>
            <a:ext cx="2361960" cy="2362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"/>
          <p:cNvPicPr/>
          <p:nvPr/>
        </p:nvPicPr>
        <p:blipFill>
          <a:blip r:embed="rId4"/>
          <a:stretch/>
        </p:blipFill>
        <p:spPr>
          <a:xfrm>
            <a:off x="6172200" y="3886200"/>
            <a:ext cx="19191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сторические типы стратифик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3353040" cy="2764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6324480" y="838080"/>
            <a:ext cx="2819520" cy="3819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3"/>
          <a:stretch/>
        </p:blipFill>
        <p:spPr>
          <a:xfrm>
            <a:off x="2057400" y="3998880"/>
            <a:ext cx="5105520" cy="2859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"/>
          <p:cNvPicPr/>
          <p:nvPr/>
        </p:nvPicPr>
        <p:blipFill>
          <a:blip r:embed="rId4"/>
          <a:stretch/>
        </p:blipFill>
        <p:spPr>
          <a:xfrm>
            <a:off x="4495680" y="1066680"/>
            <a:ext cx="1393920" cy="21337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8"/>
          <p:cNvSpPr/>
          <p:nvPr/>
        </p:nvSpPr>
        <p:spPr>
          <a:xfrm>
            <a:off x="685800" y="8380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РАБ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7162920" y="91440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КА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4648320" y="28954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1676520" y="4191120"/>
            <a:ext cx="304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СОСЛО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1066680" y="35053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кажите характерные черты представленных типов стратифика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думайт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в социальный статус раба в обществе, можно ли считать современное российское общество по типу стратификации рабовладельческим? Почему? Ответ поясни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представляет собой кастовый слой Индии? Какое влияние на   образ жизни людей оказывает каста? Почему кастовый слой менее распространён, чем другие типы стратифика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чём проявляется характерная черта сословий? Как это отразилось на образе жизни российского дворянства? В чем выражалось переплетение достигаемого и приписываемого статусов  в сословной иерархии Росс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MMj02347520000[1]"/>
          <p:cNvPicPr/>
          <p:nvPr/>
        </p:nvPicPr>
        <p:blipFill>
          <a:blip r:embed="rId1"/>
          <a:stretch/>
        </p:blipFill>
        <p:spPr>
          <a:xfrm>
            <a:off x="7696080" y="5334120"/>
            <a:ext cx="113364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аб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торически первая система социальной стратификации. Рабство возникло в глубокой древности в Египте, Вавилоне, Китае, Греции и Риме и сохранилось в ряде регионов практически до настоящего времени. Оно существовало в США ещё 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к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БСТВ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кономическая, социальная и юридическая форма закрепощения людей, граничащая с полным бесправием и крайней степенью неравен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стовый стр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стовый строй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ак и рабство, характеризует закрытое общество и жёсткую стратификацию. Он не такой древний, как рабовладельческий строй, и менее распространённый. Если через рабство прошли практически все страны, то касты обнаружены только в Индии  и отчасти в Африке. Индия – классический пример кастового общества. Оно возникло на развалинах рабовладельческого в первые века новой э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СТОЙ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ывают  социальную группу (страту), членством в которой человек обязан исключительно своим рожд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P</cp:lastModifiedBy>
  <dcterms:modified xsi:type="dcterms:W3CDTF">2011-10-11T15:21:11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