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7E7-F31D-4297-A287-0A3E038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0B7-7745-4F1D-BD9A-0F3C7D8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097-A542-48FC-A0E5-EB6F0FA1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94A-80C7-4F8C-B8A2-AD87F322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927-CB70-47E1-ADE1-13969A17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02A-91DD-407B-8499-3BD0DA0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868-94E7-48E6-A565-2821C03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AD8-2B8A-4DD0-AC71-869E8DF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D4F-5646-41D3-8369-68999CF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CA0-5182-4AD6-AEFC-CD5F3F9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7D8-51AF-4A9D-B66F-1050758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5C6-3FE3-4E00-AA18-F03A60E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FDE-AE99-48FB-9FC2-A972CAACD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0"/>
          <p:cNvSpPr/>
          <p:nvPr/>
        </p:nvSpPr>
        <p:spPr>
          <a:xfrm>
            <a:off x="1371600" y="190476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ратификация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стратификации, предшествующая классам. В феодальных обществах,  которые существовали в Европе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люди разделялись на сосло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ЛОВ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циальная группа, обладающая закреплёнными обычаями или юридическим законом и передаваемыми по наследству правами и обязан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социальные группы людей, у которых есть или нет средств производства. Они занимают определённое место в системе общественного разделения труда, характеризуются специфическим способом получения д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219320" y="4343400"/>
            <a:ext cx="7315200" cy="1600200"/>
          </a:xfrm>
          <a:prstGeom prst="wedgeRoundRectCallout">
            <a:avLst>
              <a:gd name="adj1" fmla="val -68032"/>
              <a:gd name="adj2" fmla="val 109523"/>
              <a:gd name="adj3" fmla="val 16667"/>
            </a:avLst>
          </a:prstGeom>
          <a:gradFill rotWithShape="0">
            <a:gsLst>
              <a:gs pos="0">
                <a:srgbClr val="d8b08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как любая социальная страта в современном обществе, которая отличается доходом, образованием, властью, прести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ы три фигуры представителей высшего, среднего и рабочего классов и список вещей, в которые их можно одеть. Вам надо подобрать гардероб для всех тре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0" r="0" b="5725"/>
          <a:stretch/>
        </p:blipFill>
        <p:spPr>
          <a:xfrm>
            <a:off x="380880" y="1447920"/>
            <a:ext cx="8534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п.18, ответить на вопросы, выполнить практик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сущность социальной стратификации, увидеть её влияние на поведение, образ жизни, доходы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47920" y="388404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 стратификация и её слаг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класс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лияет на образ жизни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ы дум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ли существовать общество абсолютно равны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ответствии с какими критериями можно разделить людей в сложных обществ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Mj02363040000[1]"/>
          <p:cNvPicPr/>
          <p:nvPr/>
        </p:nvPicPr>
        <p:blipFill>
          <a:blip r:embed="rId1"/>
          <a:stretch/>
        </p:blipFill>
        <p:spPr>
          <a:xfrm>
            <a:off x="7696080" y="228600"/>
            <a:ext cx="112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ая страт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еление общества на социальные слои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утем объединения различных социальных позиций с примерно одинаковым социальным статусом, отражающее сложившееся в нем представление о социальном неравенстве, выстроенное по вертикали (социальная иерархия), вдоль своей оси по одному или нескольким стратификационным критериям (показателям социального стату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010280" y="30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РАССЛ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та социа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ат. stratum - слой, пласт) - элемент социальной структуры (социальный слой или группа), объединенный неким общим социальным признаком (имущественным, профессиональным или иным). Социальный слой людей, имеющих схожие признаки по доходам, власти, образованию, прести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>
            <a:hlinkClick r:id="rId1" action="ppaction://hlinksldjump"/>
          </p:cNvPr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8b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33920" y="4343400"/>
            <a:ext cx="20113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6172200" y="388620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ческие типы страт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353040" cy="276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6324480" y="838080"/>
            <a:ext cx="2819520" cy="381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2057400" y="3998880"/>
            <a:ext cx="5105520" cy="285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4495680" y="1066680"/>
            <a:ext cx="139392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858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162920" y="914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483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676520" y="4191120"/>
            <a:ext cx="3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066680" y="3505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жите характерные черты представленных типов страт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социальный статус раба в обществе, можно ли считать современное российское общество по типу стратификации рабовладельческим? Почему?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едставляет собой кастовый слой Индии? Какое влияние на   образ жизни людей оказывает каста? Почему кастовый слой менее распространён, чем другие типы стратифик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проявляется характерная черта сословий? Как это отразилось на образе жизни российского дворянства? В чем выражалось переплетение достигаемого и приписываемого статусов  в сословной иерархи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Mj02347520000[1]"/>
          <p:cNvPicPr/>
          <p:nvPr/>
        </p:nvPicPr>
        <p:blipFill>
          <a:blip r:embed="rId1"/>
          <a:stretch/>
        </p:blipFill>
        <p:spPr>
          <a:xfrm>
            <a:off x="7696080" y="5334120"/>
            <a:ext cx="1133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чески первая система социальной стратификации. Рабство возникло в глубокой древности в Египте, Вавилоне, Китае, Греции и Риме и сохранилось в ряде регионов практически до настоящего времени. Оно существовало в США ещё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ая, социальная и юридическая форма закрепощения людей, граничащая с полным бесправием и крайней степенью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стовый 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вый стро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и рабство, характеризует закрытое общество и жёсткую стратификацию. Он не такой древний, как рабовладельческий строй, и менее распространённый. Если через рабство прошли практически все страны, то касты обнаружены только в Индии  и отчасти в Африке. Индия – классический пример кастового общества. Оно возникло на развалинах рабовладельческого в первые века новой э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Т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 социальную группу (страту), членством в которой человек обязан исключительно своим р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1T15:21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