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08A-85A0-46CA-931F-3718EE8E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32C-80A9-4020-AE51-F579BE81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4C4-1705-4559-A395-056DCE9A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5A1-F74B-43EE-A64D-B641CDD1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7F3-43B0-45B1-9081-7435AF3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800-B1C3-40E1-A203-1C650E68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000-38D5-49A1-A0A1-7E24C57E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C85-5311-49DC-8BE0-D40537E0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EB7-38F8-43C1-8692-2936D557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FD0-F9F5-49EF-A0F6-B25C6F1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78C-56B9-4380-8302-BCA5729E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297-09E2-4589-BBD6-2F1ECAD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AD85-0898-4153-AAA1-99E2BAE50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0-tub-ru.yandex.net/i?id=206677074-56-72&amp;n=21" TargetMode="External"/><Relationship Id="rId3" Type="http://schemas.openxmlformats.org/officeDocument/2006/relationships/hyperlink" Target="http://im4-tub-ru.yandex.net/i?id=352673544-39-72&amp;n=21" TargetMode="External"/><Relationship Id="rId4" Type="http://schemas.openxmlformats.org/officeDocument/2006/relationships/hyperlink" Target="http://go4.imgsmail.ru/imgpreview?key=http%3A//karapundel.com/file/8831.jpg&amp;mb=imgdb_preview_124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830920" y="2421000"/>
            <a:ext cx="331308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а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950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Автор презентации Клюквина В.А. воспитатель ГПД БГОУ №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rcRect l="0" t="19680" r="-30" b="0"/>
          <a:stretch/>
        </p:blipFill>
        <p:spPr>
          <a:xfrm>
            <a:off x="250920" y="981000"/>
            <a:ext cx="54734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92360" y="260280"/>
            <a:ext cx="44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86720" y="134136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0-tub-ru.yandex.net/i?id=206677074-56-72&amp;n=21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280" y="20808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емые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4680" y="134136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изображение «Школа разведч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73360"/>
            <a:ext cx="32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изображение «Следопы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26360" y="177336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4-tub-ru.yandex.net/i?id=352673544-39-72&amp;n=21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640" y="2492280"/>
            <a:ext cx="84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go4.imgsmail.ru/imgpreview?key=http%3A//karapundel.com/file/8831.jpg&amp;mb=imgdb_preview_124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960" y="21844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изображение « Матреш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38760" y="2852640"/>
            <a:ext cx="59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utribuff.com/wp-content/uploads/2011/06/winter_walking.g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2880" y="2852640"/>
            <a:ext cx="316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изображение «Грустный пингви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2200" y="3284640"/>
            <a:ext cx="46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.beeset.ru/userfiles/games/224/224493/tmjfllan.g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840" y="3335400"/>
            <a:ext cx="38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изображение « Разгневанный поросен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30960" y="371628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0-tub-ru.yandex.net/i?id=183728962-08-72&amp;n=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2520" y="3716280"/>
            <a:ext cx="26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изображение «Разведчи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1840" y="4076640"/>
            <a:ext cx="43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mschool1.ucoz.ru/news1/osen/SAM_0529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5400" y="4076640"/>
            <a:ext cx="24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изображение «эстафе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700360" y="404640"/>
            <a:ext cx="6049800" cy="20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едопыты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31417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в классе, спрятанные фиг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4292640"/>
            <a:ext cx="2376360" cy="216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4221000"/>
            <a:ext cx="3024360" cy="223236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973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63640" y="-922320"/>
            <a:ext cx="55436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ка внимания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03280" y="1125360"/>
          <a:ext cx="6216840" cy="4768560"/>
        </p:xfrm>
        <a:graphic>
          <a:graphicData uri="http://schemas.openxmlformats.org/drawingml/2006/table">
            <a:tbl>
              <a:tblPr/>
              <a:tblGrid>
                <a:gridCol w="2121120"/>
                <a:gridCol w="2047680"/>
                <a:gridCol w="204804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050920" y="616572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омните расположение бук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50920" y="404640"/>
            <a:ext cx="398952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 +ТЫ + МЫ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-2520" y="4724280"/>
            <a:ext cx="861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иться по: Ро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вету вол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алфавиту первых букв и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4003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189000"/>
            <a:ext cx="46515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площение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9810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едчик должен уметь перевоплощ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700280"/>
            <a:ext cx="70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группа жестами и мимикой изображ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" y="42400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группа изображ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26920" y="2133720"/>
            <a:ext cx="2962440" cy="212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69800" y="2995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Грустного пингв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rcRect l="-3051" t="25674" r="0" b="20635"/>
          <a:stretch/>
        </p:blipFill>
        <p:spPr>
          <a:xfrm>
            <a:off x="5076720" y="4076640"/>
            <a:ext cx="3187800" cy="220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7600" y="515772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Разгневанного порос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700360" y="549360"/>
            <a:ext cx="3462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фров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2160" y="1700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слово в 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4760" y="240840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УТАРИРАЗВЕДКАМ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400" y="3200400"/>
            <a:ext cx="684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ИШПИОНСЕВО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4200" y="3933720"/>
            <a:ext cx="67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АШИФРОВКАВИН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280" y="4797360"/>
            <a:ext cx="68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РОСЕНДОНЕСЕНИ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1800" y="350028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000" y="2793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76560" y="279360"/>
            <a:ext cx="60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ть высказывания по стрел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125360"/>
          <a:ext cx="3768480" cy="215892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788000" y="1125360"/>
          <a:ext cx="3768480" cy="215892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24000" y="4292640"/>
          <a:ext cx="3768480" cy="215856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24000" y="1125360"/>
          <a:ext cx="3768480" cy="215892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859280" y="4292640"/>
          <a:ext cx="3672000" cy="2160720"/>
        </p:xfrm>
        <a:graphic>
          <a:graphicData uri="http://schemas.openxmlformats.org/drawingml/2006/table">
            <a:tbl>
              <a:tblPr/>
              <a:tblGrid>
                <a:gridCol w="649440"/>
                <a:gridCol w="792000"/>
                <a:gridCol w="719280"/>
                <a:gridCol w="792000"/>
                <a:gridCol w="719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003640" y="1341360"/>
            <a:ext cx="360360" cy="1152720"/>
          </a:xfrm>
          <a:prstGeom prst="downArrow">
            <a:avLst>
              <a:gd name="adj1" fmla="val 50000"/>
              <a:gd name="adj2" fmla="val 79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270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485640" cy="1584360"/>
          </a:xfrm>
          <a:prstGeom prst="upArrow">
            <a:avLst>
              <a:gd name="adj1" fmla="val 50000"/>
              <a:gd name="adj2" fmla="val 81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1268280"/>
            <a:ext cx="1079640" cy="486000"/>
          </a:xfrm>
          <a:prstGeom prst="rightArrow">
            <a:avLst>
              <a:gd name="adj1" fmla="val 50000"/>
              <a:gd name="adj2" fmla="val 55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56720" y="1557360"/>
            <a:ext cx="485640" cy="934920"/>
          </a:xfrm>
          <a:prstGeom prst="downArrow">
            <a:avLst>
              <a:gd name="adj1" fmla="val 50000"/>
              <a:gd name="adj2" fmla="val 481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4437000"/>
            <a:ext cx="1511280" cy="486000"/>
          </a:xfrm>
          <a:prstGeom prst="rightArrow">
            <a:avLst>
              <a:gd name="adj1" fmla="val 50000"/>
              <a:gd name="adj2" fmla="val 7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877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6000" y="4581360"/>
            <a:ext cx="485640" cy="1336680"/>
          </a:xfrm>
          <a:prstGeom prst="upArrow">
            <a:avLst>
              <a:gd name="adj1" fmla="val 50000"/>
              <a:gd name="adj2" fmla="val 68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4365720"/>
            <a:ext cx="720720" cy="485640"/>
          </a:xfrm>
          <a:prstGeom prst="rightArrow">
            <a:avLst>
              <a:gd name="adj1" fmla="val 50000"/>
              <a:gd name="adj2" fmla="val 371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4797360"/>
            <a:ext cx="485640" cy="1511280"/>
          </a:xfrm>
          <a:prstGeom prst="downArrow">
            <a:avLst>
              <a:gd name="adj1" fmla="val 50000"/>
              <a:gd name="adj2" fmla="val 777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87280" y="189000"/>
            <a:ext cx="572328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ерепр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3508200" cy="362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68320" y="1484280"/>
            <a:ext cx="27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Эстаф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2708280"/>
            <a:ext cx="560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то быстр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ставит донесение в шта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971640" y="3933720"/>
            <a:ext cx="19429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116000" y="0"/>
            <a:ext cx="705816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95640" y="2784600"/>
            <a:ext cx="5040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6:11:20Z</dcterms:created>
  <dc:creator>1</dc:creator>
  <dc:description/>
  <dc:language>en-US</dc:language>
  <cp:lastModifiedBy>Мама</cp:lastModifiedBy>
  <dcterms:modified xsi:type="dcterms:W3CDTF">2013-02-14T09:29:54Z</dcterms:modified>
  <cp:revision>15</cp:revision>
  <dc:subject/>
  <dc:title>Слайд 1</dc:title>
</cp:coreProperties>
</file>