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E5D-E504-49DE-A462-E11A8BE7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8BC-9FF4-4E58-ACE1-AE5AAF61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382-FDEA-4428-97CD-FF6D4EDD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1AEB-5ED6-4881-81E2-70D5538A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4B6E-1B4F-4BA1-AEA6-54F51795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7BB-7194-4FA3-A5D9-47155A73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7E43-8C8B-46B1-942E-8466DFA2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F67-901D-4416-9BF1-C8A80A7D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FEA-8EEE-426F-BB11-5D4E63DF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3EB-D735-4135-8AE8-53CF8576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724-E698-4EC4-8FAA-66875691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309-C9E5-4865-B4A2-63CB9F64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EAB7-3AE9-4BFA-A768-AD7C1652F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0-tub-ru.yandex.net/i?id=206677074-56-72&amp;n=21" TargetMode="External"/><Relationship Id="rId3" Type="http://schemas.openxmlformats.org/officeDocument/2006/relationships/hyperlink" Target="http://im4-tub-ru.yandex.net/i?id=352673544-39-72&amp;n=21" TargetMode="External"/><Relationship Id="rId4" Type="http://schemas.openxmlformats.org/officeDocument/2006/relationships/hyperlink" Target="http://go4.imgsmail.ru/imgpreview?key=http%3A//karapundel.com/file/8831.jpg&amp;mb=imgdb_preview_124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830920" y="2421000"/>
            <a:ext cx="3313080" cy="22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а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59500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Автор презентации Клюквина В.А. воспитатель ГПД БГОУ №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rcRect l="0" t="19680" r="-30" b="0"/>
          <a:stretch/>
        </p:blipFill>
        <p:spPr>
          <a:xfrm>
            <a:off x="250920" y="981000"/>
            <a:ext cx="547344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492360" y="260280"/>
            <a:ext cx="447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86720" y="1341360"/>
            <a:ext cx="47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0-tub-ru.yandex.net/i?id=206677074-56-72&amp;n=21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7280" y="208080"/>
            <a:ext cx="32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уемые из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4680" y="1341360"/>
            <a:ext cx="33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изображение «Школа разведчик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773360"/>
            <a:ext cx="32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изображение «Следопы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26360" y="1773360"/>
            <a:ext cx="47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4-tub-ru.yandex.net/i?id=352673544-39-72&amp;n=21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640" y="2492280"/>
            <a:ext cx="84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go4.imgsmail.ru/imgpreview?key=http%3A//karapundel.com/file/8831.jpg&amp;mb=imgdb_preview_124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3960" y="218448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изображение « Матрешк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38760" y="2852640"/>
            <a:ext cx="59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utribuff.com/wp-content/uploads/2011/06/winter_walking.g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2880" y="2852640"/>
            <a:ext cx="316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изображение «Грустный пингви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2200" y="3284640"/>
            <a:ext cx="466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i.beeset.ru/userfiles/games/224/224493/tmjfllan.g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840" y="3335400"/>
            <a:ext cx="38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изображение « Разгневанный поросен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30960" y="3716280"/>
            <a:ext cx="47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im0-tub-ru.yandex.net/i?id=183728962-08-72&amp;n=2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2520" y="3716280"/>
            <a:ext cx="26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изображение «Разведчик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61840" y="4076640"/>
            <a:ext cx="43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mschool1.ucoz.ru/news1/osen/SAM_0529.jp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5400" y="4076640"/>
            <a:ext cx="24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 изображение «эстафет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700360" y="404640"/>
            <a:ext cx="6049800" cy="206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ледопыты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3120" y="3141720"/>
            <a:ext cx="82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дите в классе, спрятанные фиг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4292640"/>
            <a:ext cx="2376360" cy="216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64000" y="4221000"/>
            <a:ext cx="3024360" cy="2232360"/>
          </a:xfrm>
          <a:prstGeom prst="triangle">
            <a:avLst>
              <a:gd name="adj" fmla="val 50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1973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63640" y="-922320"/>
            <a:ext cx="554364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ка внимания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403280" y="1125360"/>
          <a:ext cx="6216840" cy="4768560"/>
        </p:xfrm>
        <a:graphic>
          <a:graphicData uri="http://schemas.openxmlformats.org/drawingml/2006/table">
            <a:tbl>
              <a:tblPr/>
              <a:tblGrid>
                <a:gridCol w="2121120"/>
                <a:gridCol w="2047680"/>
                <a:gridCol w="2048040"/>
              </a:tblGrid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050920" y="616572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омните расположение бук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50920" y="404640"/>
            <a:ext cx="398952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 +ТЫ + МЫ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-2520" y="4724280"/>
            <a:ext cx="861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роиться по: Ро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вету вол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алфавиту первых букв и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050920" y="1844640"/>
            <a:ext cx="40039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189000"/>
            <a:ext cx="465156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евоплощение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9810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едчик должен уметь перевоплоща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700280"/>
            <a:ext cx="70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группа жестами и мимикой изображ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360" y="42400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группа изображ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826920" y="2133720"/>
            <a:ext cx="2962440" cy="212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69800" y="2995560"/>
            <a:ext cx="35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Грустного пингв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rcRect l="-3051" t="25674" r="0" b="20635"/>
          <a:stretch/>
        </p:blipFill>
        <p:spPr>
          <a:xfrm>
            <a:off x="5076720" y="4076640"/>
            <a:ext cx="3187800" cy="2205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7600" y="515772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Разгневанного поросе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700360" y="549360"/>
            <a:ext cx="3462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фровк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916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2160" y="1700280"/>
            <a:ext cx="37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ите слово в сл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4760" y="2408400"/>
            <a:ext cx="67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УТАРИРАЗВЕДКАМ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4400" y="3200400"/>
            <a:ext cx="684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ИШПИОНСЕВО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4200" y="3933720"/>
            <a:ext cx="677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АШИФРОВКАВИН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280" y="4797360"/>
            <a:ext cx="68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РОСЕНДОНЕСЕНИ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41800" y="350028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6000" y="27936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76560" y="279360"/>
            <a:ext cx="60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тать высказывания по стрел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1125360"/>
          <a:ext cx="3768480" cy="2158920"/>
        </p:xfrm>
        <a:graphic>
          <a:graphicData uri="http://schemas.openxmlformats.org/drawingml/2006/table">
            <a:tbl>
              <a:tblPr/>
              <a:tblGrid>
                <a:gridCol w="753840"/>
                <a:gridCol w="753840"/>
                <a:gridCol w="752400"/>
                <a:gridCol w="754200"/>
                <a:gridCol w="7542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788000" y="1125360"/>
          <a:ext cx="3768480" cy="2158920"/>
        </p:xfrm>
        <a:graphic>
          <a:graphicData uri="http://schemas.openxmlformats.org/drawingml/2006/table">
            <a:tbl>
              <a:tblPr/>
              <a:tblGrid>
                <a:gridCol w="753840"/>
                <a:gridCol w="753840"/>
                <a:gridCol w="752400"/>
                <a:gridCol w="754200"/>
                <a:gridCol w="7542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24000" y="4292640"/>
          <a:ext cx="3768480" cy="2158560"/>
        </p:xfrm>
        <a:graphic>
          <a:graphicData uri="http://schemas.openxmlformats.org/drawingml/2006/table">
            <a:tbl>
              <a:tblPr/>
              <a:tblGrid>
                <a:gridCol w="753840"/>
                <a:gridCol w="753840"/>
                <a:gridCol w="752400"/>
                <a:gridCol w="754200"/>
                <a:gridCol w="7542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24000" y="1125360"/>
          <a:ext cx="3768480" cy="2158920"/>
        </p:xfrm>
        <a:graphic>
          <a:graphicData uri="http://schemas.openxmlformats.org/drawingml/2006/table">
            <a:tbl>
              <a:tblPr/>
              <a:tblGrid>
                <a:gridCol w="753840"/>
                <a:gridCol w="753840"/>
                <a:gridCol w="752400"/>
                <a:gridCol w="754200"/>
                <a:gridCol w="7542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859280" y="4292640"/>
          <a:ext cx="3672000" cy="2160720"/>
        </p:xfrm>
        <a:graphic>
          <a:graphicData uri="http://schemas.openxmlformats.org/drawingml/2006/table">
            <a:tbl>
              <a:tblPr/>
              <a:tblGrid>
                <a:gridCol w="649440"/>
                <a:gridCol w="792000"/>
                <a:gridCol w="719280"/>
                <a:gridCol w="792000"/>
                <a:gridCol w="7192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003640" y="1341360"/>
            <a:ext cx="360360" cy="1152720"/>
          </a:xfrm>
          <a:prstGeom prst="downArrow">
            <a:avLst>
              <a:gd name="adj1" fmla="val 50000"/>
              <a:gd name="adj2" fmla="val 799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51640" y="2708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16720" y="1413000"/>
            <a:ext cx="485640" cy="1584360"/>
          </a:xfrm>
          <a:prstGeom prst="upArrow">
            <a:avLst>
              <a:gd name="adj1" fmla="val 50000"/>
              <a:gd name="adj2" fmla="val 81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48360" y="1268280"/>
            <a:ext cx="1079640" cy="486000"/>
          </a:xfrm>
          <a:prstGeom prst="rightArrow">
            <a:avLst>
              <a:gd name="adj1" fmla="val 50000"/>
              <a:gd name="adj2" fmla="val 55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56720" y="1557360"/>
            <a:ext cx="485640" cy="934920"/>
          </a:xfrm>
          <a:prstGeom prst="downArrow">
            <a:avLst>
              <a:gd name="adj1" fmla="val 50000"/>
              <a:gd name="adj2" fmla="val 481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4437000"/>
            <a:ext cx="1511280" cy="486000"/>
          </a:xfrm>
          <a:prstGeom prst="rightArrow">
            <a:avLst>
              <a:gd name="adj1" fmla="val 50000"/>
              <a:gd name="adj2" fmla="val 777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877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36000" y="4581360"/>
            <a:ext cx="485640" cy="1336680"/>
          </a:xfrm>
          <a:prstGeom prst="upArrow">
            <a:avLst>
              <a:gd name="adj1" fmla="val 50000"/>
              <a:gd name="adj2" fmla="val 688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96360" y="4365720"/>
            <a:ext cx="720720" cy="485640"/>
          </a:xfrm>
          <a:prstGeom prst="rightArrow">
            <a:avLst>
              <a:gd name="adj1" fmla="val 50000"/>
              <a:gd name="adj2" fmla="val 371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4797360"/>
            <a:ext cx="485640" cy="1511280"/>
          </a:xfrm>
          <a:prstGeom prst="downArrow">
            <a:avLst>
              <a:gd name="adj1" fmla="val 50000"/>
              <a:gd name="adj2" fmla="val 777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187280" y="189000"/>
            <a:ext cx="5723280" cy="18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ерепра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148360" y="2924280"/>
            <a:ext cx="3508200" cy="3627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68320" y="1484280"/>
            <a:ext cx="275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Эстафе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" y="2708280"/>
            <a:ext cx="560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то быстр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оставит донесение в шта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971640" y="3933720"/>
            <a:ext cx="194292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116000" y="0"/>
            <a:ext cx="7058160" cy="24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195640" y="2784600"/>
            <a:ext cx="50403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6:11:20Z</dcterms:created>
  <dc:creator>1</dc:creator>
  <dc:description/>
  <dc:language>en-US</dc:language>
  <cp:lastModifiedBy>Мама</cp:lastModifiedBy>
  <dcterms:modified xsi:type="dcterms:W3CDTF">2013-02-14T09:29:54Z</dcterms:modified>
  <cp:revision>15</cp:revision>
  <dc:subject/>
  <dc:title>Слайд 1</dc:title>
</cp:coreProperties>
</file>