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391-434B-42EC-A9D4-FA686A82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B10-B0CC-4AC5-871B-793DF922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5DC-DF04-4589-A067-8BE4991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5DF-F5C8-4A77-9065-B3EE3488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6CF-8FC2-424A-9823-E36F93FA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C02-4D07-4714-9BFF-9F3D014F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407-611D-4488-9E1B-0EED142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F60-0E36-4094-9773-F7E42C3B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509-503F-4289-BC01-151A5306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A6-DBE1-4225-BE96-AEC5311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06D-49FC-4E39-930B-35E0DAF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F36-612D-4987-A908-D194AF1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D993-6E08-4313-AEDF-63AE9F61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0-tub-ru.yandex.net/i?id=206677074-56-72&amp;n=21" TargetMode="External"/><Relationship Id="rId3" Type="http://schemas.openxmlformats.org/officeDocument/2006/relationships/hyperlink" Target="http://im4-tub-ru.yandex.net/i?id=352673544-39-72&amp;n=21" TargetMode="External"/><Relationship Id="rId4" Type="http://schemas.openxmlformats.org/officeDocument/2006/relationships/hyperlink" Target="http://go4.imgsmail.ru/imgpreview?key=http%3A//karapundel.com/file/8831.jpg&amp;mb=imgdb_preview_124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830920" y="2421000"/>
            <a:ext cx="331308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а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втор презентации Клюквина В.А. воспитатель ГПД БГОУ №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rcRect l="0" t="19680" r="-30" b="0"/>
          <a:stretch/>
        </p:blipFill>
        <p:spPr>
          <a:xfrm>
            <a:off x="250920" y="981000"/>
            <a:ext cx="54734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360" y="260280"/>
            <a:ext cx="44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6720" y="1341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0-tub-ru.yandex.net/i?id=206677074-56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280" y="2080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ы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4680" y="134136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изображение «Школа разведчик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7336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изображение «Следопы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26360" y="177336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4-tub-ru.yandex.net/i?id=352673544-39-72&amp;n=21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640" y="2492280"/>
            <a:ext cx="84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o4.imgsmail.ru/imgpreview?key=http%3A//karapundel.com/file/8831.jpg&amp;mb=imgdb_preview_12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960" y="21844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изображение « Матреш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38760" y="2852640"/>
            <a:ext cx="59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utribuff.com/wp-content/uploads/2011/06/winter_walking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880" y="2852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изображение «Грустный пингви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3284640"/>
            <a:ext cx="46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.beeset.ru/userfiles/games/224/224493/tmjfllan.g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40" y="3335400"/>
            <a:ext cx="38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изображение « Разгневанный поросен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30960" y="371628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0-tub-ru.yandex.net/i?id=183728962-08-72&amp;n=2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520" y="3716280"/>
            <a:ext cx="26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изображение «Разведч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1840" y="4076640"/>
            <a:ext cx="43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mschool1.ucoz.ru/news1/osen/SAM_0529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400" y="4076640"/>
            <a:ext cx="24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изображение «эстаф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00360" y="404640"/>
            <a:ext cx="6049800" cy="20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едопыты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31417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в классе, спрятанные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292640"/>
            <a:ext cx="2376360" cy="216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221000"/>
            <a:ext cx="3024360" cy="223236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973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63640" y="-922320"/>
            <a:ext cx="55436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 внимани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03280" y="1125360"/>
          <a:ext cx="6216840" cy="4768560"/>
        </p:xfrm>
        <a:graphic>
          <a:graphicData uri="http://schemas.openxmlformats.org/drawingml/2006/table">
            <a:tbl>
              <a:tblPr/>
              <a:tblGrid>
                <a:gridCol w="2121120"/>
                <a:gridCol w="2047680"/>
                <a:gridCol w="204804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050920" y="61657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мните расположение бук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0920" y="404640"/>
            <a:ext cx="398952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 +ТЫ + М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-2520" y="4724280"/>
            <a:ext cx="86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иться по: Ро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вету вол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алфавиту первых букв и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4003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46515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площение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дчик должен уметь перевопло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70028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группа жестами и мимикой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" y="42400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группа изображ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26920" y="2133720"/>
            <a:ext cx="2962440" cy="212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69800" y="2995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Грустного пингв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rcRect l="-3051" t="25674" r="0" b="20635"/>
          <a:stretch/>
        </p:blipFill>
        <p:spPr>
          <a:xfrm>
            <a:off x="5076720" y="4076640"/>
            <a:ext cx="318780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600" y="51577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Разгневанного порос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00360" y="549360"/>
            <a:ext cx="34624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фров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2160" y="1700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слово в 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760" y="240840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ТАРИРАЗВЕДКАМ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400" y="3200400"/>
            <a:ext cx="684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ИШПИОНСЕВО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200" y="3933720"/>
            <a:ext cx="67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АШИФРОВКАВИН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280" y="4797360"/>
            <a:ext cx="68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ОСЕНДОНЕСЕНИ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1800" y="350028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000" y="2793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6560" y="279360"/>
            <a:ext cx="60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ть высказывания по стрел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788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4000" y="4292640"/>
          <a:ext cx="3768480" cy="215856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24000" y="1125360"/>
          <a:ext cx="3768480" cy="2158920"/>
        </p:xfrm>
        <a:graphic>
          <a:graphicData uri="http://schemas.openxmlformats.org/drawingml/2006/table">
            <a:tbl>
              <a:tblPr/>
              <a:tblGrid>
                <a:gridCol w="753840"/>
                <a:gridCol w="753840"/>
                <a:gridCol w="752400"/>
                <a:gridCol w="754200"/>
                <a:gridCol w="754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859280" y="4292640"/>
          <a:ext cx="3672000" cy="2160720"/>
        </p:xfrm>
        <a:graphic>
          <a:graphicData uri="http://schemas.openxmlformats.org/drawingml/2006/table">
            <a:tbl>
              <a:tblPr/>
              <a:tblGrid>
                <a:gridCol w="649440"/>
                <a:gridCol w="792000"/>
                <a:gridCol w="719280"/>
                <a:gridCol w="792000"/>
                <a:gridCol w="719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03640" y="1341360"/>
            <a:ext cx="360360" cy="1152720"/>
          </a:xfrm>
          <a:prstGeom prst="downArrow">
            <a:avLst>
              <a:gd name="adj1" fmla="val 50000"/>
              <a:gd name="adj2" fmla="val 79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485640" cy="1584360"/>
          </a:xfrm>
          <a:prstGeom prst="upArrow">
            <a:avLst>
              <a:gd name="adj1" fmla="val 50000"/>
              <a:gd name="adj2" fmla="val 8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1268280"/>
            <a:ext cx="1079640" cy="486000"/>
          </a:xfrm>
          <a:prstGeom prst="rightArrow">
            <a:avLst>
              <a:gd name="adj1" fmla="val 50000"/>
              <a:gd name="adj2" fmla="val 55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56720" y="1557360"/>
            <a:ext cx="485640" cy="934920"/>
          </a:xfrm>
          <a:prstGeom prst="downArrow">
            <a:avLst>
              <a:gd name="adj1" fmla="val 50000"/>
              <a:gd name="adj2" fmla="val 481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4437000"/>
            <a:ext cx="1511280" cy="486000"/>
          </a:xfrm>
          <a:prstGeom prst="rightArrow">
            <a:avLst>
              <a:gd name="adj1" fmla="val 50000"/>
              <a:gd name="adj2" fmla="val 777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87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4581360"/>
            <a:ext cx="485640" cy="1336680"/>
          </a:xfrm>
          <a:prstGeom prst="upArrow">
            <a:avLst>
              <a:gd name="adj1" fmla="val 50000"/>
              <a:gd name="adj2" fmla="val 68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36572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4797360"/>
            <a:ext cx="485640" cy="1511280"/>
          </a:xfrm>
          <a:prstGeom prst="downArrow">
            <a:avLst>
              <a:gd name="adj1" fmla="val 50000"/>
              <a:gd name="adj2" fmla="val 777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189000"/>
            <a:ext cx="572328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епр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3508200" cy="36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68320" y="1484280"/>
            <a:ext cx="27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Эстаф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2708280"/>
            <a:ext cx="560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то быстр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ставит донесение в шта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971640" y="3933720"/>
            <a:ext cx="1942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0"/>
            <a:ext cx="705816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95640" y="27846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6:11:20Z</dcterms:created>
  <dc:creator>1</dc:creator>
  <dc:description/>
  <dc:language>en-US</dc:language>
  <cp:lastModifiedBy>Мама</cp:lastModifiedBy>
  <dcterms:modified xsi:type="dcterms:W3CDTF">2013-02-14T09:29:54Z</dcterms:modified>
  <cp:revision>15</cp:revision>
  <dc:subject/>
  <dc:title>Слайд 1</dc:title>
</cp:coreProperties>
</file>