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E9FB-6DBA-4FBD-B535-89618B5F5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13AF-7D9D-4D40-8843-42ECB817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DC56-F292-482A-80CD-5E12FA344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801E-FABF-4A79-824C-B5827D8D6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627C-86EC-424D-AD33-DB2622038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F00A-1CEC-487A-8DBD-C60D3C3C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5407-78BA-4AD2-BD84-75408337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3398-08B6-4EC3-89B4-60F5CF6F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79E7-5C02-4754-A429-01CFEF16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B0B0-14B8-4CB5-BB1F-F312BBD6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1DED-166B-4A3D-9717-1AFB6DA8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C63B-1E90-41EB-9DAE-250916C1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04BD-5F39-4354-8E11-A2C44EE6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CC05-F1F2-4EBA-8AFC-C1FA7C8C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A950-C805-4E3B-B5A5-73EED0B5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3BDB6-B64F-4A66-977E-DC98D2695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B054-C29C-49CC-8B01-CF3B8C47B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CEDA-8344-4159-BB49-A9D7BF5C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8CC7-F70B-4F6C-BF93-F36F6643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0115-D5A6-4AD0-A66A-8DAD9CCB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5B3A-F09B-4F21-894E-AE18D1A1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E9CD-331F-441B-9848-0BC1DFEB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5069-1A02-4491-A989-66BA221D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B543-BAC7-4421-9D8B-091F361F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A7BF-8F23-4F1A-95AC-2A6D9B8607F2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2A94-DCD6-434E-B23A-3F315E3E416A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9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Вопросы для повторения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Формы культур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Элитарная культур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родная культур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ассовая культур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убкультура и контркульту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921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82400"/>
                </a:solidFill>
                <a:latin typeface="Garamond"/>
              </a:rPr>
              <a:t>2. Ранние формы религии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971640" y="2276640"/>
            <a:ext cx="7921440" cy="40971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71640" y="907920"/>
            <a:ext cx="7848360" cy="12970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ажное место среди архаических верований принадлежит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маги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её основе лежит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комплекс обрядов, имеющих цель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воздействовать на сверхъестественные силы для получ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определенных результат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82400"/>
                </a:solidFill>
                <a:latin typeface="Garamond"/>
              </a:rPr>
              <a:t>2. Ранние формы религии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971640" y="981000"/>
            <a:ext cx="7921440" cy="3672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971640" y="4724280"/>
            <a:ext cx="7848360" cy="1584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Шамани́з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- устоявшееся в науке название комплек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едставлений людей о способах осознанного и целенаправлен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заимодействия с трансцендентальным («потусторонним») мир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первую очередь - с духами, которое осуществляет шам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82400"/>
                </a:solidFill>
                <a:latin typeface="Garamond"/>
              </a:rPr>
              <a:t>3. Национальные религии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981000"/>
            <a:ext cx="7848360" cy="9352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Национальные религи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 религии, распространенные в предел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дного государства или имеющие последовател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еимущественно среди представителей одной н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71640" y="2060640"/>
            <a:ext cx="4464000" cy="12970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удаи́з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религия еврей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рода, одна из древнейш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нотеистических религ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еловечеств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508720" y="206064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7093080" y="2133720"/>
            <a:ext cx="1439640" cy="1077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971640" y="3500280"/>
            <a:ext cx="4464000" cy="936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Индуиз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 религия, возникшая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уществующая на Индийск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убконтинент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443640" y="342900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971640" y="4581360"/>
            <a:ext cx="4464000" cy="1368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интои́зм, син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яп. 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神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инто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«путь богов»)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радиционная религия Япон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6372360" y="4653000"/>
            <a:ext cx="136836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82400"/>
                </a:solidFill>
                <a:latin typeface="Garamond"/>
              </a:rPr>
              <a:t>4. Мировые религии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42920" y="981000"/>
            <a:ext cx="7777080" cy="7192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Мировая религи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 - религия, распространившаяся среди народ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зличных стран и континен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42920" y="1844640"/>
            <a:ext cx="2376720" cy="576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удд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43640" y="1844640"/>
            <a:ext cx="2376360" cy="576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сл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80000" y="1844640"/>
            <a:ext cx="2376360" cy="576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Христиа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3933720"/>
            <a:ext cx="7777080" cy="5032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изнаки мировых рели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42920" y="4581360"/>
            <a:ext cx="3529080" cy="720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громное числ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следователей во всем мир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19640" y="4581360"/>
            <a:ext cx="3529080" cy="720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галитарность (проповеду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венство всех людей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42920" y="5445000"/>
            <a:ext cx="3529080" cy="720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опагандистск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ктив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19640" y="5445000"/>
            <a:ext cx="3529080" cy="720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смополитичностъ (нося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днациональный характер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68360" y="2421000"/>
            <a:ext cx="0" cy="360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2421000"/>
            <a:ext cx="0" cy="360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67640" y="2421000"/>
            <a:ext cx="0" cy="360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16000" y="2781360"/>
            <a:ext cx="2232000" cy="9349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ахая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Хиная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516720" y="2781360"/>
            <a:ext cx="2232000" cy="9349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унн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Ши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51280" y="2781360"/>
            <a:ext cx="2232000" cy="9349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толиц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авосла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отестант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82400"/>
                </a:solidFill>
                <a:latin typeface="Garamond"/>
              </a:rPr>
              <a:t>4. Мировые религии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42920" y="1052640"/>
            <a:ext cx="2376720" cy="576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Будд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3640" y="1052640"/>
            <a:ext cx="2376360" cy="576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Исл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80000" y="1052640"/>
            <a:ext cx="2376360" cy="576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Христиа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116000" y="2060640"/>
            <a:ext cx="2232000" cy="22096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042920" y="4221000"/>
            <a:ext cx="2305080" cy="208764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хармачак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санск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колесо дхармы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колесо закона»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3851280" y="1700280"/>
            <a:ext cx="2230560" cy="33130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851280" y="5157720"/>
            <a:ext cx="2160720" cy="107964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Крест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– о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чит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христи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6443640" y="1700280"/>
            <a:ext cx="2347920" cy="24494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443640" y="4149720"/>
            <a:ext cx="2305080" cy="208764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олумеся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со звездо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 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лужит симво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сла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82400"/>
                </a:solidFill>
                <a:latin typeface="Garamond"/>
              </a:rPr>
              <a:t>4. Мировые религии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042920" y="1413000"/>
            <a:ext cx="7807320" cy="48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82400"/>
                </a:solidFill>
                <a:latin typeface="Garamond"/>
              </a:rPr>
              <a:t>4. Мировые религии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900000" y="981000"/>
            <a:ext cx="799308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82400"/>
                </a:solidFill>
                <a:latin typeface="Garamond"/>
              </a:rPr>
              <a:t>4. Мировые религии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971640" y="981000"/>
            <a:ext cx="79214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82400"/>
                </a:solidFill>
                <a:latin typeface="Garamond"/>
              </a:rPr>
              <a:t>4. Мировые религии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971640" y="1341360"/>
            <a:ext cx="784836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Религия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рок 2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482400"/>
                </a:solidFill>
                <a:latin typeface="Times New Roman"/>
              </a:rPr>
              <a:t>Домашнее задание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16000" y="1125360"/>
            <a:ext cx="7632720" cy="5112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§20 чит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веть на вопросы и зад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ешить проблему, выполнить практику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овые слова выуч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бочая тетрадь, задания к §2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82400"/>
                </a:solidFill>
                <a:latin typeface="Times New Roman"/>
              </a:rPr>
              <a:t>План</a:t>
            </a:r>
            <a:endParaRPr b="0" i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42920" y="1197000"/>
            <a:ext cx="7777080" cy="511164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елиг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2. Ранние формы религ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3. Национальные религ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4. Мировые религии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82400"/>
                </a:solidFill>
                <a:latin typeface="Garamond"/>
              </a:rPr>
              <a:t>1. Религия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42920" y="907920"/>
            <a:ext cx="7777080" cy="10810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Религ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(от лат.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religare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— связывать,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reeligere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— воссоединя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religio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— счастливость, благочестие, набожность, предмет культа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это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2133720"/>
            <a:ext cx="7777080" cy="43164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ера в сверхъестественное (в Бог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76720" y="2708280"/>
            <a:ext cx="3745080" cy="15825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дна из свойственных культур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орм приспособления челове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 окружающему мир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довлетворения его духов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требносте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2708280"/>
            <a:ext cx="3745080" cy="15825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вокупность взглядов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едставлений, систе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ерований и обряд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ъединяющая признающ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х людей в единую общ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4437000"/>
            <a:ext cx="7777080" cy="187164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Религи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- особая форма осознания мира, обусловл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ерой в сверхъестественное, включающая в себя с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ральных норм и типов поведения, обряд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ультовых действий и объединение людей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рганизаци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82400"/>
                </a:solidFill>
                <a:latin typeface="Garamond"/>
              </a:rPr>
              <a:t>1. Религия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71640" y="1989000"/>
            <a:ext cx="7848360" cy="4332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71640" y="1052640"/>
            <a:ext cx="7848360" cy="720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 точки зрения на происхождение рели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82400"/>
                </a:solidFill>
                <a:latin typeface="Garamond"/>
              </a:rPr>
              <a:t>1. Религия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981000"/>
            <a:ext cx="2951280" cy="576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ризнаки рели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42920" y="1700280"/>
            <a:ext cx="3745080" cy="792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ера в сверхъестественно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76720" y="1700280"/>
            <a:ext cx="3745080" cy="792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рганизованное поклон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сшим сила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42920" y="2637000"/>
            <a:ext cx="7777080" cy="792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тремление согласовать жизнь с требованиями безуслов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ч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42920" y="3573360"/>
            <a:ext cx="7777080" cy="7192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Вер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является центральной мировоззренческой позици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 одновременно психологической установкой всех религи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32360" y="4292640"/>
            <a:ext cx="0" cy="360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42920" y="4653000"/>
            <a:ext cx="7777080" cy="1512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Вер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выражает специфическое отношение к действи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ли воображаемым объектам, явлениям, когда их достовер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 истинность принимаются без доказатель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82400"/>
                </a:solidFill>
                <a:latin typeface="Garamond"/>
              </a:rPr>
              <a:t>1. Религия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92360" y="981000"/>
            <a:ext cx="2951280" cy="576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Формы рели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42920" y="1700280"/>
            <a:ext cx="3745080" cy="792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олите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многобожие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076720" y="1700280"/>
            <a:ext cx="3745080" cy="792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Моноте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единобож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2920" y="2637000"/>
            <a:ext cx="3745080" cy="2592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олитеи́з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(от греч. </a:t>
            </a:r>
            <a:r>
              <a:rPr b="1" lang="el-GR" sz="2000" spc="-1" strike="noStrike">
                <a:solidFill>
                  <a:srgbClr val="0000ff"/>
                </a:solidFill>
                <a:latin typeface="Times New Roman"/>
              </a:rPr>
              <a:t>πολύς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«многочисленный, мног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+ греч. </a:t>
            </a:r>
            <a:r>
              <a:rPr b="1" lang="el-GR" sz="2000" spc="-1" strike="noStrike">
                <a:solidFill>
                  <a:srgbClr val="0000ff"/>
                </a:solidFill>
                <a:latin typeface="Times New Roman"/>
              </a:rPr>
              <a:t>θεός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, «Бог, божество»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- «многобожие»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 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лигиозное мировоззре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вокупность верова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анная на вере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скольких бог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6720" y="2637000"/>
            <a:ext cx="3745080" cy="2592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Монотеи́з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(букв. «единобожие»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- от греч. μονος - оди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θεος — Бог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 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лигиозное представ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учение об едином Бог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в противополож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литеизму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42920" y="5300640"/>
            <a:ext cx="3745080" cy="1008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Язы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удд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инто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76720" y="5300640"/>
            <a:ext cx="3745080" cy="1008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уда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Христиан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сл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82400"/>
                </a:solidFill>
                <a:latin typeface="Garamond"/>
              </a:rPr>
              <a:t>1. Религия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92360" y="836640"/>
            <a:ext cx="2951280" cy="504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Функции рели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921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4T09:35:37Z</dcterms:created>
  <dc:creator>User</dc:creator>
  <dc:description/>
  <dc:language>en-US</dc:language>
  <cp:lastModifiedBy>User</cp:lastModifiedBy>
  <dcterms:modified xsi:type="dcterms:W3CDTF">2011-04-27T13:15:39Z</dcterms:modified>
  <cp:revision>40</cp:revision>
  <dc:subject/>
  <dc:title>Слайд 1</dc:title>
</cp:coreProperties>
</file>