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D70-7D61-4C41-B2CF-B1B7C659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0C4-AF7D-4EC5-B37B-7EBED8B0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BE6-5AB5-424D-AF64-EF0629DE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0BA-3B9A-494A-AE76-700F2993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1BA1-A676-4EEF-A027-E413EB2C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EAA4-D6EF-4938-82C9-7CEE049F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6E24-6482-408A-BB44-8A348EB5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F6C-CB32-4CF5-A706-E451EDDA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D50-2304-4670-BF5A-8E268C12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D606-C174-47EB-898F-04BB984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73B4-5491-4338-9952-1E88BF8D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DA7-5674-4979-A82A-59099C5F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E25D-3D0C-43DB-8BAB-E5CEA5DA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D3F6-83DB-4617-8C3D-803F6CFC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A73F-9EA9-4E93-B944-633E0C66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7896-40DA-4291-9C1E-89AE2573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5480-B6A4-411C-A4F3-58123A5D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0AB-A355-4438-80FB-6364A76D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3EE-7B6C-4B5A-B646-6EB0C749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ECA-B799-4104-8CFE-D9CF5A4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41A-4CB5-4739-9899-7DBA1A2D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844-BA67-4400-80FF-BA32EF61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553-939E-4ED0-B464-7733DDBF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A1D-A4B7-48FF-8310-BE3A965E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6743-A9E5-43B4-908A-ADF30D2F178F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A03C-517E-426E-8E01-9975BAC1FA24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Вопросы для повторе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ы культур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литарная куль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родная куль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ассовая куль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убкультура и контркуль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2. Ранние формы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7921440" cy="4097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71640" y="907920"/>
            <a:ext cx="784836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жное место среди архаических верований принадлежи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маги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её основе лежи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омплекс обрядов, имеющих ц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оздействовать на сверхъестественные силы для пол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пределенных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2. Ранние формы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921440" cy="36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1640" y="4724280"/>
            <a:ext cx="7848360" cy="1584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Шаман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устоявшееся в науке название комплек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тавлений людей о способах осознанного и целенаправл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 трансцендентальным («потусторонним») ми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рвую очередь - с духами, которое осуществляет ша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3. Национальн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981000"/>
            <a:ext cx="7848360" cy="935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ациональные религи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религии, распространенные в преде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ного государства или имеющие последова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имущественно среди представителей одной н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2060640"/>
            <a:ext cx="446400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уда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религия еврей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ода, одна из древнейш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теистических рели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ловече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093080" y="2133720"/>
            <a:ext cx="1439640" cy="107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3500280"/>
            <a:ext cx="446400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ндуиз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религия, возникш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ществующая на Индий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бконтинент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43640" y="34290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71640" y="4581360"/>
            <a:ext cx="4464000" cy="1368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интои́зм, син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яп.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神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инто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«путь богов»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адиционная религия Япо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372360" y="4653000"/>
            <a:ext cx="136836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981000"/>
            <a:ext cx="7777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ировая религ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- религия, распространившаяся среди нар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личных стран и контин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844640"/>
            <a:ext cx="237672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удд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1844640"/>
            <a:ext cx="237636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1844640"/>
            <a:ext cx="237636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933720"/>
            <a:ext cx="7777080" cy="503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знаки мировых рели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458136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гром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ователей во всем ми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458136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галитарность (проповед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венство всех людей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544500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пагандист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тив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5445000"/>
            <a:ext cx="352908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смополитичностъ (нос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национальный характер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242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242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242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2781360"/>
            <a:ext cx="2232000" cy="93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хая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иная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2781360"/>
            <a:ext cx="2232000" cy="93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н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Ши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1280" y="2781360"/>
            <a:ext cx="2232000" cy="93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толиц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тестан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052640"/>
            <a:ext cx="2376720" cy="57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Будд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1052640"/>
            <a:ext cx="2376360" cy="57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1052640"/>
            <a:ext cx="2376360" cy="57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Христи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2232000" cy="220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2920" y="4221000"/>
            <a:ext cx="2305080" cy="208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хармачак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анск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лесо дхармы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лесо закона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851280" y="1700280"/>
            <a:ext cx="2230560" cy="3313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51280" y="5157720"/>
            <a:ext cx="2160720" cy="1079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рес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ч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443640" y="1700280"/>
            <a:ext cx="2347920" cy="2449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43640" y="4149720"/>
            <a:ext cx="2305080" cy="2087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лумеся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о звезд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лужит симво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ла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80732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9930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921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4. Мировые религ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8483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Религ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1125360"/>
            <a:ext cx="7632720" cy="511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20 чи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веть на вопросы и 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шить проблему, выполнить практику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вые слова вы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чая тетрадь, задания к §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82400"/>
                </a:solidFill>
                <a:latin typeface="Times New Roman"/>
              </a:rPr>
              <a:t>План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197000"/>
            <a:ext cx="7777080" cy="511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ли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 Ранние формы рели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 Национальные рели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. Мировые религи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907920"/>
            <a:ext cx="777708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лиг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от лат.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ligare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— связывать,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eligere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— воссоеди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ligio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— счастливость, благочестие, набожность, предмет культа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эт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133720"/>
            <a:ext cx="7777080" cy="43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а в сверхъестественное (в Б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2708280"/>
            <a:ext cx="3745080" cy="15825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на из свойственных куль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 приспособления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окружающему мир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довлетворения его духо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требност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708280"/>
            <a:ext cx="3745080" cy="15825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вокупность взгляд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тавлений, 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ований и обряд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ъединяющая призна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людей в единую общ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4437000"/>
            <a:ext cx="7777080" cy="187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лиг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- особая форма осознания мира, обуслов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рой в сверхъестественное, включающая в себя с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альных норм и типов поведения, обряд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льтовых действий и объединение люде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848360" cy="4332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1640" y="1052640"/>
            <a:ext cx="784836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 точки зрения на происхождение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981000"/>
            <a:ext cx="295128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знаки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а в сверхъестественно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ованное покло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сшим сила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637000"/>
            <a:ext cx="7777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емление согласовать жизнь с требованиями безуслов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3573360"/>
            <a:ext cx="7777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ер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является центральной мировоззренческой позици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одновременно психологической установкой всех религ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429264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653000"/>
            <a:ext cx="7777080" cy="1512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ер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выражает специфическое отношение к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ли воображаемым объектам, явлениям, когда их достовер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истинность принимаются без доказ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981000"/>
            <a:ext cx="2951280" cy="57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ы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ли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многобожие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1700280"/>
            <a:ext cx="374508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оно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единобож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637000"/>
            <a:ext cx="3745080" cy="25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лите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от греч. </a:t>
            </a:r>
            <a:r>
              <a:rPr b="1" lang="el-GR" sz="2000" spc="-1" strike="noStrike">
                <a:solidFill>
                  <a:srgbClr val="0000ff"/>
                </a:solidFill>
                <a:latin typeface="Times New Roman"/>
              </a:rPr>
              <a:t>πολύς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«многочисленный, мн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+ греч. </a:t>
            </a:r>
            <a:r>
              <a:rPr b="1" lang="el-GR" sz="2000" spc="-1" strike="noStrike">
                <a:solidFill>
                  <a:srgbClr val="0000ff"/>
                </a:solidFill>
                <a:latin typeface="Times New Roman"/>
              </a:rPr>
              <a:t>θεός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«Бог, божество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«многобожие»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ое мировоззр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веров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анная на вер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скольких б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2637000"/>
            <a:ext cx="3745080" cy="25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нотеи́з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букв. «единобожие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от греч. μονος - од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θεος — Бог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ое предст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учение об едином Бо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 противопо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теизм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300640"/>
            <a:ext cx="374508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зы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д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нто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300640"/>
            <a:ext cx="374508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уда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Garamond"/>
              </a:rPr>
              <a:t>1. Религия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836640"/>
            <a:ext cx="2951280" cy="504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Функции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921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9:35:37Z</dcterms:created>
  <dc:creator>User</dc:creator>
  <dc:description/>
  <dc:language>en-US</dc:language>
  <cp:lastModifiedBy>User</cp:lastModifiedBy>
  <dcterms:modified xsi:type="dcterms:W3CDTF">2011-04-27T13:15:39Z</dcterms:modified>
  <cp:revision>40</cp:revision>
  <dc:subject/>
  <dc:title>Слайд 1</dc:title>
</cp:coreProperties>
</file>