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BBA8-8F9F-4D9F-B89E-E5AA3324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DC55-C75F-4736-AD16-408A2FEA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9A15-BC53-4EA8-9032-919D3D34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4CDB5-E602-4F7E-8949-C45C0770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D072-A075-46E7-9E3B-C951F213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7427-4727-4A17-B498-5CE70314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545D-B5B7-4020-ACF2-8CE19806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44FE-9A80-426E-AAD0-E7A6FB41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B750-EA47-4632-B8A1-6B8759D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3CF1-9FB4-4053-B541-968CFFF0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5DF7-286A-4374-9353-0F70F3BA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3ED1-3F76-449C-B0CF-99460029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124E-5512-493E-A31B-5116E75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99E4-FDCE-41B1-9C0A-8E4C39EC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83EA-0150-4D2A-8E19-B77E2D19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B572-4393-493C-B7E2-B646CD89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4EFD-FDEE-4C86-8004-93C164C5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D00F-FB91-49E3-B179-8D7A7876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74EB-4042-4616-8B35-C2859B21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3E9AF-09D5-4B16-A3E3-E59F3A77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4C47-7653-47D8-AB62-C04EE695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F2AA-5C09-47F3-B438-5E6A794F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AA18-C0B0-46D7-97A0-8E928269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2BF9-548B-4BD9-9029-EAE622CE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E4EB-13D6-4194-BD10-126B5AAC8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A68C-15F6-4843-B73B-EB9D5F17C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heremuha.ucoz.ru/load/1-1-0-5" TargetMode="External"/><Relationship Id="rId2" Type="http://schemas.openxmlformats.org/officeDocument/2006/relationships/hyperlink" Target="http://reyki.org.ru/forum/42-334-66" TargetMode="External"/><Relationship Id="rId3" Type="http://schemas.openxmlformats.org/officeDocument/2006/relationships/hyperlink" Target="http://reyki.org.ru/forum/42-334-66" TargetMode="External"/><Relationship Id="rId4" Type="http://schemas.openxmlformats.org/officeDocument/2006/relationships/hyperlink" Target="http://reyki.org.ru/forum/42-334-66" TargetMode="External"/><Relationship Id="rId5" Type="http://schemas.openxmlformats.org/officeDocument/2006/relationships/hyperlink" Target="http://reyki.org.ru/forum/42-334-66" TargetMode="External"/><Relationship Id="rId6" Type="http://schemas.openxmlformats.org/officeDocument/2006/relationships/hyperlink" Target="http://reyki.org.ru/forum/42-334-66" TargetMode="External"/><Relationship Id="rId7" Type="http://schemas.openxmlformats.org/officeDocument/2006/relationships/hyperlink" Target="http://tolstun.ru/?p=5245" TargetMode="External"/><Relationship Id="rId8" Type="http://schemas.openxmlformats.org/officeDocument/2006/relationships/hyperlink" Target="http://www.klassorti.ru/podarki/075_trapetsiya_zhest.html" TargetMode="External"/><Relationship Id="rId9" Type="http://schemas.openxmlformats.org/officeDocument/2006/relationships/hyperlink" Target="http://www.klassorti.ru/podarki/075_trapetsiya_zhest.html" TargetMode="External"/><Relationship Id="rId10" Type="http://schemas.openxmlformats.org/officeDocument/2006/relationships/hyperlink" Target="http://www.klassorti.ru/podarki/075_trapetsiya_zhest.html" TargetMode="External"/><Relationship Id="rId11" Type="http://schemas.openxmlformats.org/officeDocument/2006/relationships/hyperlink" Target="http://www.klassorti.ru/podarki/075_trapetsiya_zhest.html" TargetMode="External"/><Relationship Id="rId12" Type="http://schemas.openxmlformats.org/officeDocument/2006/relationships/hyperlink" Target="http://www.klassorti.ru/podarki/075_trapetsiya_zhest.html" TargetMode="External"/><Relationship Id="rId13" Type="http://schemas.openxmlformats.org/officeDocument/2006/relationships/hyperlink" Target="http://www.meditec.ru/flibrary/info/4146" TargetMode="External"/><Relationship Id="rId14" Type="http://schemas.openxmlformats.org/officeDocument/2006/relationships/hyperlink" Target="http://www.meditec.ru/flibrary/info/4146" TargetMode="External"/><Relationship Id="rId15" Type="http://schemas.openxmlformats.org/officeDocument/2006/relationships/hyperlink" Target="http://www.meditec.ru/flibrary/info/4146" TargetMode="External"/><Relationship Id="rId16" Type="http://schemas.openxmlformats.org/officeDocument/2006/relationships/hyperlink" Target="http://www.meditec.ru/flibrary/info/4146" TargetMode="External"/><Relationship Id="rId17" Type="http://schemas.openxmlformats.org/officeDocument/2006/relationships/hyperlink" Target="http://www.meditec.ru/flibrary/info/4146" TargetMode="External"/><Relationship Id="rId18" Type="http://schemas.openxmlformats.org/officeDocument/2006/relationships/hyperlink" Target="http://www.meditec.ru/flibrary/info/4146" TargetMode="External"/><Relationship Id="rId19" Type="http://schemas.openxmlformats.org/officeDocument/2006/relationships/hyperlink" Target="http://www.meditec.ru/flibrary/info/4146" TargetMode="External"/><Relationship Id="rId20" Type="http://schemas.openxmlformats.org/officeDocument/2006/relationships/hyperlink" Target="http://www.be-in.ru/network/463-jil_sander-things?thing=25443" TargetMode="External"/><Relationship Id="rId21" Type="http://schemas.openxmlformats.org/officeDocument/2006/relationships/hyperlink" Target="http://www.be-in.ru/network/463-jil_sander-things?thing=25443" TargetMode="External"/><Relationship Id="rId22" Type="http://schemas.openxmlformats.org/officeDocument/2006/relationships/hyperlink" Target="http://www.be-in.ru/network/463-jil_sander-things?thing=25443" TargetMode="External"/><Relationship Id="rId23" Type="http://schemas.openxmlformats.org/officeDocument/2006/relationships/hyperlink" Target="http://www.be-in.ru/network/463-jil_sander-things?thing=25443" TargetMode="External"/><Relationship Id="rId24" Type="http://schemas.openxmlformats.org/officeDocument/2006/relationships/hyperlink" Target="http://www.be-in.ru/network/463-jil_sander-things?thing=25443" TargetMode="External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0800000">
            <a:off x="468360" y="1125000"/>
            <a:ext cx="7848720" cy="2880000"/>
          </a:xfrm>
          <a:custGeom>
            <a:avLst/>
            <a:gdLst>
              <a:gd name="textAreaLeft" fmla="*/ 1725840 w 7848720"/>
              <a:gd name="textAreaRight" fmla="*/ 6122880 w 7848720"/>
              <a:gd name="textAreaTop" fmla="*/ 633240 h 2880000"/>
              <a:gd name="textAreaBottom" fmla="*/ 2246760 h 28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640" y="1341360"/>
            <a:ext cx="5329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adley Hand ITC"/>
              </a:rPr>
              <a:t>Равнобедренная трапец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76360" y="4221000"/>
            <a:ext cx="381636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Брынских Виктор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ученицы 8 А класс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МОУ СОШ №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Г. Михайловск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Применение формы трапеции в повседневной жизн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273040" cy="2268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76720" y="3573360"/>
            <a:ext cx="2674800" cy="2676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4076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рочная упаковка, где за основу взята фигура трапе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263700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2000" y="2708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 в виде трап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940360" y="1628640"/>
            <a:ext cx="2981520" cy="3057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516720" y="4724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мка в форме трапе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Задачи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684360" y="155736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872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57440" y="2779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4356000" y="155736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6000" y="126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944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539640" y="429264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4003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4003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3080" y="537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4498920" y="443556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414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38920" y="414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2920" y="5586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5514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5080" y="10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19875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5080" y="292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19700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3141720"/>
            <a:ext cx="1079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ABC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08360" y="1414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22068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191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990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0360" y="3213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F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редняя линия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F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558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5950080"/>
            <a:ext cx="23036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B=CD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ABCD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=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BC=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40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573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2720" y="4292640"/>
            <a:ext cx="1655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ABCD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=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B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D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Ответ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2) 11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3) 4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4) 8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4слайд: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Garamond"/>
                <a:hlinkClick r:id="rId1"/>
              </a:rPr>
              <a:t>http://cheremuha.ucoz.ru/load/1-1-0-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слайд: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3"/>
              </a:rPr>
              <a:t>reyki.org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4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5"/>
              </a:rPr>
              <a:t>forum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6"/>
              </a:rPr>
              <a:t>/42-334-66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7"/>
              </a:rPr>
              <a:t>http://tolstun.ru/?p=5245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10 слайд: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8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9"/>
              </a:rPr>
              <a:t>www.klassorti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0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1"/>
              </a:rPr>
              <a:t>podarki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2"/>
              </a:rPr>
              <a:t>/075_trapetsiya_zhest.html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3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4"/>
              </a:rPr>
              <a:t>www.meditec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5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6"/>
              </a:rPr>
              <a:t>flibrary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7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8"/>
              </a:rPr>
              <a:t>info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19"/>
              </a:rPr>
              <a:t>/4146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0"/>
              </a:rPr>
              <a:t>http:/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1"/>
              </a:rPr>
              <a:t>www.be-in.ru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3"/>
              </a:rPr>
              <a:t>network</a:t>
            </a:r>
            <a:r>
              <a:rPr b="0" lang="ru-RU" sz="3200" spc="-1" strike="noStrike" u="sng">
                <a:solidFill>
                  <a:srgbClr val="6600ff"/>
                </a:solidFill>
                <a:uFillTx/>
                <a:latin typeface="Garamond"/>
                <a:hlinkClick r:id="rId24"/>
              </a:rPr>
              <a:t>/463-jil_sander-things?thing=25443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Определени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Трапеция – это четырёхугольник, где две стороны параллельны, а две другие  не параллельн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Равнобедренная трапеция – это трапеция, где боковые стороны равн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3058920" y="4581360"/>
            <a:ext cx="2881080" cy="1368720"/>
          </a:xfrm>
          <a:custGeom>
            <a:avLst/>
            <a:gdLst>
              <a:gd name="textAreaLeft" fmla="*/ 633600 w 2881080"/>
              <a:gd name="textAreaRight" fmla="*/ 2247480 w 2881080"/>
              <a:gd name="textAreaTop" fmla="*/ 300960 h 1368720"/>
              <a:gd name="textAreaBottom" fmla="*/ 106776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084640"/>
            <a:ext cx="215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364000" y="501336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35640" y="508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Происхождение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«Трапеция» - слово греческое, означавшее в древности «столик» (по гречески «трапедзион» означает столик, обеденный стол.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674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Элементы трапеци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1042920" y="2133720"/>
            <a:ext cx="1944720" cy="1224000"/>
          </a:xfrm>
          <a:custGeom>
            <a:avLst/>
            <a:gdLst>
              <a:gd name="textAreaLeft" fmla="*/ 427680 w 1944720"/>
              <a:gd name="textAreaRight" fmla="*/ 1517040 w 1944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292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844640"/>
            <a:ext cx="5256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ижнее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верхнее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D     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B, C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оковые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C, B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диагон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редняя ли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M    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M    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=(BC+AD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E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F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– высоты трап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2708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6728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2708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7640" y="2133720"/>
            <a:ext cx="1440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42920" y="2133720"/>
            <a:ext cx="1441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1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13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133720"/>
            <a:ext cx="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21300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321300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234936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92428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626920" y="234936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771280" y="2852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Свойства равнобедренной трапеци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) Углы при основаниях трапеции равн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) Диагонали равнобедренной трапеции равн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4653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4724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928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58920" y="4724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87640" y="4653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5219640" y="3500280"/>
            <a:ext cx="2232000" cy="1368720"/>
          </a:xfrm>
          <a:custGeom>
            <a:avLst/>
            <a:gdLst>
              <a:gd name="textAreaLeft" fmla="*/ 490680 w 2232000"/>
              <a:gd name="textAreaRight" fmla="*/ 1741320 w 2232000"/>
              <a:gd name="textAreaTop" fmla="*/ 300960 h 1368720"/>
              <a:gd name="textAreaBottom" fmla="*/ 106776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3500280"/>
            <a:ext cx="16556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219640" y="3500280"/>
            <a:ext cx="16574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1186920" y="3573000"/>
            <a:ext cx="2087640" cy="1295640"/>
          </a:xfrm>
          <a:custGeom>
            <a:avLst/>
            <a:gdLst>
              <a:gd name="textAreaLeft" fmla="*/ 459000 w 2087640"/>
              <a:gd name="textAreaRight" fmla="*/ 1628640 w 208764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284640"/>
            <a:ext cx="458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4724280"/>
            <a:ext cx="458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49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522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=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Признаки равнобедренной трапеции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) Если в трапеции углы при основании равны, то это равнобедренная трапе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551664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58792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547640" y="443700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43700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987280" y="558792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916000" y="5516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1115640" y="4436640"/>
            <a:ext cx="2087640" cy="1295640"/>
          </a:xfrm>
          <a:custGeom>
            <a:avLst/>
            <a:gdLst>
              <a:gd name="textAreaLeft" fmla="*/ 459000 w 2087640"/>
              <a:gd name="textAreaRight" fmla="*/ 1628640 w 208764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4148280"/>
            <a:ext cx="459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42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558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5148360" y="4149360"/>
            <a:ext cx="2232000" cy="1368360"/>
          </a:xfrm>
          <a:custGeom>
            <a:avLst/>
            <a:gdLst>
              <a:gd name="textAreaLeft" fmla="*/ 490680 w 2232000"/>
              <a:gd name="textAreaRight" fmla="*/ 1741320 w 2232000"/>
              <a:gd name="textAreaTop" fmla="*/ 300960 h 1368360"/>
              <a:gd name="textAreaBottom" fmla="*/ 10674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4149720"/>
            <a:ext cx="1656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148000" y="4149720"/>
            <a:ext cx="165708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53440" y="5518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5440" y="3790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3790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1080" y="55911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4222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)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Если диагонали трапеции равны, то это равнобедренная трапе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7451640" y="386064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1640" y="3933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= 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Формула нахождения площади равнобедренной трапе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S =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Garamond"/>
              </a:rPr>
              <a:t>·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ramond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692360" y="1413000"/>
                <a:ext cx="1414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84360" y="2924280"/>
            <a:ext cx="5832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лощ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верхнее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 –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ижнее 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16000" y="216000"/>
          <a:ext cx="9143280" cy="6857640"/>
        </p:xfrm>
        <a:graphic>
          <a:graphicData uri="http://schemas.openxmlformats.org/drawingml/2006/table">
            <a:tbl>
              <a:tblPr/>
              <a:tblGrid>
                <a:gridCol w="2286000"/>
                <a:gridCol w="2285640"/>
                <a:gridCol w="2286360"/>
                <a:gridCol w="2285280"/>
              </a:tblGrid>
              <a:tr h="117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6560" y="404640"/>
                <a:ext cx="1656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203640" y="322200"/>
                <a:ext cx="12970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75280" y="404640"/>
                <a:ext cx="15825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80360" y="404640"/>
                <a:ext cx="1655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6000" y="549360"/>
                <a:ext cx="631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Интересные факты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 счёт трёхмерной оптической иллюзии в комнате Эймса (придумал в 1946 году) ребёнок в ближнем углу кажется великаном по сравнению с тем, что стоит в дальнем. На самом деле форма комнаты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– трапеция.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Эффект усиливается из-за искажённой шахматной клетки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3384720" cy="259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0" y="1341360"/>
            <a:ext cx="4032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Созвездие Орион (звезды образуют  трапец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2424240" cy="2394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651640" y="4653000"/>
            <a:ext cx="20397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6:05:33Z</dcterms:created>
  <dc:creator>пользователь</dc:creator>
  <dc:description/>
  <dc:language>en-US</dc:language>
  <cp:lastModifiedBy>HOME</cp:lastModifiedBy>
  <dcterms:modified xsi:type="dcterms:W3CDTF">2011-02-11T17:10:29Z</dcterms:modified>
  <cp:revision>10</cp:revision>
  <dc:subject/>
  <dc:title>РАВНОБЕДРЕННАЯ ТРАПЕЦИЯ.</dc:title>
</cp:coreProperties>
</file>