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5FD8-D96A-4B26-A072-26A4709D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0EC3-170B-49CC-A1D2-93825567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BD9A-9A78-4253-BEE0-AB630EEF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25D2-5F5E-4BC6-A9FE-C3ED3FEE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A9F2-2CE1-43B7-9426-B6A2AE2D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72E6-9421-454E-A686-22F3DBCC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2915-11C4-4B5D-86BF-76B25402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0163-91AC-430B-BFBB-A55020A4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E47C-A4AF-44D2-8D42-0C3EE063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3A40-0B2F-43FE-8226-04D5F6B4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8362-70E5-4608-9775-4D3AC82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7ABF-26E0-42EC-8AC0-6ABE3F4E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12AC-6B05-4B00-8BB9-7E604A7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1D7C-B5AE-47C4-885E-05D6F81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C29C-04B3-4C33-A3C9-61102901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D0B5-9BCD-41FB-9347-0FD2EC8D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AE98-D9D7-4805-90E5-4DE472D0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756A-1AE0-4F71-9ED9-904C17B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7CA6-1E2A-47A4-96CA-7B3E5AD1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1A70-8968-49F9-82B4-34EFEA8A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E1AC-BAAA-4926-84E5-05DA661C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A5F5-B35B-4535-B215-FCB74FFA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6338-3BBD-4E4E-9D70-09AD774A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CEB5-E5AA-4CC5-8AF4-6351F33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E2B-F8A3-4EBA-A65E-9092D451C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5878-6C76-4288-AC89-F5BE37200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heremuha.ucoz.ru/load/1-1-0-5" TargetMode="External"/><Relationship Id="rId2" Type="http://schemas.openxmlformats.org/officeDocument/2006/relationships/hyperlink" Target="http://reyki.org.ru/forum/42-334-66" TargetMode="External"/><Relationship Id="rId3" Type="http://schemas.openxmlformats.org/officeDocument/2006/relationships/hyperlink" Target="http://reyki.org.ru/forum/42-334-66" TargetMode="External"/><Relationship Id="rId4" Type="http://schemas.openxmlformats.org/officeDocument/2006/relationships/hyperlink" Target="http://reyki.org.ru/forum/42-334-66" TargetMode="External"/><Relationship Id="rId5" Type="http://schemas.openxmlformats.org/officeDocument/2006/relationships/hyperlink" Target="http://reyki.org.ru/forum/42-334-66" TargetMode="External"/><Relationship Id="rId6" Type="http://schemas.openxmlformats.org/officeDocument/2006/relationships/hyperlink" Target="http://reyki.org.ru/forum/42-334-66" TargetMode="External"/><Relationship Id="rId7" Type="http://schemas.openxmlformats.org/officeDocument/2006/relationships/hyperlink" Target="http://tolstun.ru/?p=5245" TargetMode="External"/><Relationship Id="rId8" Type="http://schemas.openxmlformats.org/officeDocument/2006/relationships/hyperlink" Target="http://www.klassorti.ru/podarki/075_trapetsiya_zhest.html" TargetMode="External"/><Relationship Id="rId9" Type="http://schemas.openxmlformats.org/officeDocument/2006/relationships/hyperlink" Target="http://www.klassorti.ru/podarki/075_trapetsiya_zhest.html" TargetMode="External"/><Relationship Id="rId10" Type="http://schemas.openxmlformats.org/officeDocument/2006/relationships/hyperlink" Target="http://www.klassorti.ru/podarki/075_trapetsiya_zhest.html" TargetMode="External"/><Relationship Id="rId11" Type="http://schemas.openxmlformats.org/officeDocument/2006/relationships/hyperlink" Target="http://www.klassorti.ru/podarki/075_trapetsiya_zhest.html" TargetMode="External"/><Relationship Id="rId12" Type="http://schemas.openxmlformats.org/officeDocument/2006/relationships/hyperlink" Target="http://www.klassorti.ru/podarki/075_trapetsiya_zhest.html" TargetMode="External"/><Relationship Id="rId13" Type="http://schemas.openxmlformats.org/officeDocument/2006/relationships/hyperlink" Target="http://www.meditec.ru/flibrary/info/4146" TargetMode="External"/><Relationship Id="rId14" Type="http://schemas.openxmlformats.org/officeDocument/2006/relationships/hyperlink" Target="http://www.meditec.ru/flibrary/info/4146" TargetMode="External"/><Relationship Id="rId15" Type="http://schemas.openxmlformats.org/officeDocument/2006/relationships/hyperlink" Target="http://www.meditec.ru/flibrary/info/4146" TargetMode="External"/><Relationship Id="rId16" Type="http://schemas.openxmlformats.org/officeDocument/2006/relationships/hyperlink" Target="http://www.meditec.ru/flibrary/info/4146" TargetMode="External"/><Relationship Id="rId17" Type="http://schemas.openxmlformats.org/officeDocument/2006/relationships/hyperlink" Target="http://www.meditec.ru/flibrary/info/4146" TargetMode="External"/><Relationship Id="rId18" Type="http://schemas.openxmlformats.org/officeDocument/2006/relationships/hyperlink" Target="http://www.meditec.ru/flibrary/info/4146" TargetMode="External"/><Relationship Id="rId19" Type="http://schemas.openxmlformats.org/officeDocument/2006/relationships/hyperlink" Target="http://www.meditec.ru/flibrary/info/4146" TargetMode="External"/><Relationship Id="rId20" Type="http://schemas.openxmlformats.org/officeDocument/2006/relationships/hyperlink" Target="http://www.be-in.ru/network/463-jil_sander-things?thing=25443" TargetMode="External"/><Relationship Id="rId21" Type="http://schemas.openxmlformats.org/officeDocument/2006/relationships/hyperlink" Target="http://www.be-in.ru/network/463-jil_sander-things?thing=25443" TargetMode="External"/><Relationship Id="rId22" Type="http://schemas.openxmlformats.org/officeDocument/2006/relationships/hyperlink" Target="http://www.be-in.ru/network/463-jil_sander-things?thing=25443" TargetMode="External"/><Relationship Id="rId23" Type="http://schemas.openxmlformats.org/officeDocument/2006/relationships/hyperlink" Target="http://www.be-in.ru/network/463-jil_sander-things?thing=25443" TargetMode="External"/><Relationship Id="rId24" Type="http://schemas.openxmlformats.org/officeDocument/2006/relationships/hyperlink" Target="http://www.be-in.ru/network/463-jil_sander-things?thing=25443" TargetMode="External"/><Relationship Id="rId2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0800000">
            <a:off x="468360" y="1125000"/>
            <a:ext cx="7848720" cy="2880000"/>
          </a:xfrm>
          <a:custGeom>
            <a:avLst/>
            <a:gdLst>
              <a:gd name="textAreaLeft" fmla="*/ 1725840 w 7848720"/>
              <a:gd name="textAreaRight" fmla="*/ 6122880 w 7848720"/>
              <a:gd name="textAreaTop" fmla="*/ 633240 h 2880000"/>
              <a:gd name="textAreaBottom" fmla="*/ 2246760 h 28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640" y="1341360"/>
            <a:ext cx="5329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"/>
              </a:rPr>
              <a:t>Равнобедренная трапеция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76360" y="4221000"/>
            <a:ext cx="381636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Брынских Виктор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ученицы 8 А класс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ОУ СОШ №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Г. Михайловск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Применение формы трапеции в повседневной жизн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273040" cy="2268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76720" y="3573360"/>
            <a:ext cx="2674800" cy="2676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4076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рочная упаковка, где за основу взята фигура трапе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263700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2000" y="2708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 в виде трап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940360" y="1628640"/>
            <a:ext cx="2981520" cy="3057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516720" y="47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мка в форме трап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Задачи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684360" y="155736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872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57440" y="2779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4356000" y="155736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944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539640" y="429264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4003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4003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3080" y="537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4498920" y="443556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4146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38920" y="4146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2920" y="5586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5514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5080" y="10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19875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5080" y="292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19700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3141720"/>
            <a:ext cx="1079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ABC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08360" y="1414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22068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191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1990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27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3213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F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редняя линия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F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7280" y="5589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5950080"/>
            <a:ext cx="230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B=CD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ABCD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=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BC=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40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573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2720" y="4292640"/>
            <a:ext cx="1655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ABC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=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B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D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Ответ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2) 11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3) 4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4) 8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4слайд: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Garamond"/>
                <a:hlinkClick r:id="rId1"/>
              </a:rPr>
              <a:t>http://cheremuha.ucoz.ru/load/1-1-0-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слайд: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3"/>
              </a:rPr>
              <a:t>reyki.org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5"/>
              </a:rPr>
              <a:t>forum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6"/>
              </a:rPr>
              <a:t>/42-334-66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7"/>
              </a:rPr>
              <a:t>http://tolstun.ru/?p=524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10 слайд: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8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9"/>
              </a:rPr>
              <a:t>www.klassorti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0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1"/>
              </a:rPr>
              <a:t>podarki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2"/>
              </a:rPr>
              <a:t>/075_trapetsiya_zhest.html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3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4"/>
              </a:rPr>
              <a:t>www.meditec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5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6"/>
              </a:rPr>
              <a:t>flibrary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7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8"/>
              </a:rPr>
              <a:t>info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9"/>
              </a:rPr>
              <a:t>/414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0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1"/>
              </a:rPr>
              <a:t>www.be-in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2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3"/>
              </a:rPr>
              <a:t>network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4"/>
              </a:rPr>
              <a:t>/463-jil_sander-things?thing=25443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Определени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Трапеция – это четырёхугольник, где две стороны параллельны, а две другие  не параллельн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Равнобедренная трапеция – это трапеция, где боковые стороны равн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3058920" y="4581360"/>
            <a:ext cx="2881080" cy="1368720"/>
          </a:xfrm>
          <a:custGeom>
            <a:avLst/>
            <a:gdLst>
              <a:gd name="textAreaLeft" fmla="*/ 633600 w 2881080"/>
              <a:gd name="textAreaRight" fmla="*/ 2247480 w 2881080"/>
              <a:gd name="textAreaTop" fmla="*/ 300960 h 1368720"/>
              <a:gd name="textAreaBottom" fmla="*/ 106776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08464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364000" y="501336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35640" y="508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роисхождени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«Трапеция» - слово греческое, означавшее в древности «столик» (по гречески «трапедзион» означает столик, обеденный стол.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674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Элементы трапеци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1042920" y="213372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292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844640"/>
            <a:ext cx="5256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ижнее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верхнее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D     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B, C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оковые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C, B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диагон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редняя ли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M    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M    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N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=(BC+AD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E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F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– высоты трап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2708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2133720"/>
            <a:ext cx="1440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42920" y="2133720"/>
            <a:ext cx="1441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1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133720"/>
            <a:ext cx="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3213000"/>
            <a:ext cx="1443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3213000"/>
            <a:ext cx="1443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234936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92428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626920" y="234936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771280" y="2852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Свойства равнобедренной трапеци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) Углы при основаниях трапеции равн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) Диагонали равнобедренной трапеции равн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4653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4724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928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58920" y="4724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87640" y="4653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5219640" y="3500280"/>
            <a:ext cx="2232000" cy="1368720"/>
          </a:xfrm>
          <a:custGeom>
            <a:avLst/>
            <a:gdLst>
              <a:gd name="textAreaLeft" fmla="*/ 490680 w 2232000"/>
              <a:gd name="textAreaRight" fmla="*/ 1741320 w 2232000"/>
              <a:gd name="textAreaTop" fmla="*/ 300960 h 1368720"/>
              <a:gd name="textAreaBottom" fmla="*/ 106776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3500280"/>
            <a:ext cx="1655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219640" y="3500280"/>
            <a:ext cx="16574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1186920" y="3573000"/>
            <a:ext cx="2087640" cy="1295640"/>
          </a:xfrm>
          <a:custGeom>
            <a:avLst/>
            <a:gdLst>
              <a:gd name="textAreaLeft" fmla="*/ 459000 w 2087640"/>
              <a:gd name="textAreaRight" fmla="*/ 1628640 w 208764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284640"/>
            <a:ext cx="458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4724280"/>
            <a:ext cx="458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49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522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=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Признаки равнобедренной трапеци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) Если в трапеции углы при основании равны, то это равнобедренная трапе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551664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47640" y="4437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43700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987280" y="558792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916000" y="5516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1115640" y="4436640"/>
            <a:ext cx="2087640" cy="1295640"/>
          </a:xfrm>
          <a:custGeom>
            <a:avLst/>
            <a:gdLst>
              <a:gd name="textAreaLeft" fmla="*/ 459000 w 2087640"/>
              <a:gd name="textAreaRight" fmla="*/ 1628640 w 208764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4148280"/>
            <a:ext cx="459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42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8720" y="5587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5148360" y="4149360"/>
            <a:ext cx="2232000" cy="1368360"/>
          </a:xfrm>
          <a:custGeom>
            <a:avLst/>
            <a:gdLst>
              <a:gd name="textAreaLeft" fmla="*/ 490680 w 2232000"/>
              <a:gd name="textAreaRight" fmla="*/ 1741320 w 2232000"/>
              <a:gd name="textAreaTop" fmla="*/ 300960 h 1368360"/>
              <a:gd name="textAreaBottom" fmla="*/ 10674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4149720"/>
            <a:ext cx="1656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148000" y="4149720"/>
            <a:ext cx="1657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53440" y="5518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5440" y="3790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3790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1080" y="55911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84720" y="4222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Если диагонали трапеции равны, то это равнобедренная трапе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7451640" y="386064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1640" y="3933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=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Формула нахождения площади равнобедренной трапе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S =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·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692360" y="1413000"/>
                <a:ext cx="1414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684360" y="2924280"/>
            <a:ext cx="5832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лощ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ерхнее 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ижнее 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16000" y="216000"/>
          <a:ext cx="9143280" cy="6857640"/>
        </p:xfrm>
        <a:graphic>
          <a:graphicData uri="http://schemas.openxmlformats.org/drawingml/2006/table">
            <a:tbl>
              <a:tblPr/>
              <a:tblGrid>
                <a:gridCol w="2286000"/>
                <a:gridCol w="2285640"/>
                <a:gridCol w="2286360"/>
                <a:gridCol w="2285280"/>
              </a:tblGrid>
              <a:tr h="11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6560" y="404640"/>
                <a:ext cx="1656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203640" y="322200"/>
                <a:ext cx="12970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75280" y="404640"/>
                <a:ext cx="15825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380360" y="404640"/>
                <a:ext cx="1655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6000" y="549360"/>
                <a:ext cx="631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Интересные факт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 счёт трёхмерной оптической иллюзии в комнате Эймса (придумал в 1946 году) ребёнок в ближнем углу кажется великаном по сравнению с тем, что стоит в дальнем. На самом деле форма комнаты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– трапеция.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Эффект усиливается из-за искажённой шахматной клетки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3384720" cy="259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0" y="1341360"/>
            <a:ext cx="4032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Созвездие Орион (звезды образуют  трапец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2424240" cy="2394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651640" y="4653000"/>
            <a:ext cx="20397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6:05:33Z</dcterms:created>
  <dc:creator>пользователь</dc:creator>
  <dc:description/>
  <dc:language>en-US</dc:language>
  <cp:lastModifiedBy>HOME</cp:lastModifiedBy>
  <dcterms:modified xsi:type="dcterms:W3CDTF">2011-02-11T17:10:29Z</dcterms:modified>
  <cp:revision>10</cp:revision>
  <dc:subject/>
  <dc:title>РАВНОБЕДРЕННАЯ ТРАПЕЦИЯ.</dc:title>
</cp:coreProperties>
</file>