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1F29-2274-4835-800D-9B7F6539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39FD0-8B8C-437A-9694-C009346B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DE800-C323-4591-A11A-57E82D84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BAB07-C88A-4357-AACC-80C225E3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3F06-A4D9-4B94-9447-94348213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7384-379E-4F37-8319-2208D4F4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5D1C-82E9-4070-8916-281A3EA3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E479-6A8E-4E03-BBA7-2584D3BE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0C24-EC0B-4DFE-8A49-B14AEDD6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D29A-F428-4AE2-8932-1FDF3BE6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C528-929E-4006-928B-249FD0BA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54FA6-18A3-4CAF-A507-CB53F73E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D3CD-14AB-4AE4-8C9B-A8E8CC28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C27F-6D7D-46AD-ABE0-66DB10EA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310E-AD32-408C-BE0C-74D243F5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CB04-4095-44F2-9F33-26066C53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1BF5-E0C9-4836-BB05-F17D9C75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67E58-8B4E-470D-A1B3-D71BEBBB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9350F-AB3B-4B72-A91B-BC87833A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4BED7-A8AA-40BB-8EF4-4C99BA6C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27D46-2953-4AA7-8EC8-C9274ED8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C6815-F42E-40D9-84ED-D478F0A2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DF08F-1E8D-468A-AB07-58704945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4CBA7-B55D-4181-88DF-6C583207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357C-5291-4F0A-8D47-A25354D1E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487D-92FA-42FD-BF03-1E0CAE9B2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heremuha.ucoz.ru/load/1-1-0-5" TargetMode="External"/><Relationship Id="rId2" Type="http://schemas.openxmlformats.org/officeDocument/2006/relationships/hyperlink" Target="http://reyki.org.ru/forum/42-334-66" TargetMode="External"/><Relationship Id="rId3" Type="http://schemas.openxmlformats.org/officeDocument/2006/relationships/hyperlink" Target="http://reyki.org.ru/forum/42-334-66" TargetMode="External"/><Relationship Id="rId4" Type="http://schemas.openxmlformats.org/officeDocument/2006/relationships/hyperlink" Target="http://reyki.org.ru/forum/42-334-66" TargetMode="External"/><Relationship Id="rId5" Type="http://schemas.openxmlformats.org/officeDocument/2006/relationships/hyperlink" Target="http://reyki.org.ru/forum/42-334-66" TargetMode="External"/><Relationship Id="rId6" Type="http://schemas.openxmlformats.org/officeDocument/2006/relationships/hyperlink" Target="http://reyki.org.ru/forum/42-334-66" TargetMode="External"/><Relationship Id="rId7" Type="http://schemas.openxmlformats.org/officeDocument/2006/relationships/hyperlink" Target="http://tolstun.ru/?p=5245" TargetMode="External"/><Relationship Id="rId8" Type="http://schemas.openxmlformats.org/officeDocument/2006/relationships/hyperlink" Target="http://www.klassorti.ru/podarki/075_trapetsiya_zhest.html" TargetMode="External"/><Relationship Id="rId9" Type="http://schemas.openxmlformats.org/officeDocument/2006/relationships/hyperlink" Target="http://www.klassorti.ru/podarki/075_trapetsiya_zhest.html" TargetMode="External"/><Relationship Id="rId10" Type="http://schemas.openxmlformats.org/officeDocument/2006/relationships/hyperlink" Target="http://www.klassorti.ru/podarki/075_trapetsiya_zhest.html" TargetMode="External"/><Relationship Id="rId11" Type="http://schemas.openxmlformats.org/officeDocument/2006/relationships/hyperlink" Target="http://www.klassorti.ru/podarki/075_trapetsiya_zhest.html" TargetMode="External"/><Relationship Id="rId12" Type="http://schemas.openxmlformats.org/officeDocument/2006/relationships/hyperlink" Target="http://www.klassorti.ru/podarki/075_trapetsiya_zhest.html" TargetMode="External"/><Relationship Id="rId13" Type="http://schemas.openxmlformats.org/officeDocument/2006/relationships/hyperlink" Target="http://www.meditec.ru/flibrary/info/4146" TargetMode="External"/><Relationship Id="rId14" Type="http://schemas.openxmlformats.org/officeDocument/2006/relationships/hyperlink" Target="http://www.meditec.ru/flibrary/info/4146" TargetMode="External"/><Relationship Id="rId15" Type="http://schemas.openxmlformats.org/officeDocument/2006/relationships/hyperlink" Target="http://www.meditec.ru/flibrary/info/4146" TargetMode="External"/><Relationship Id="rId16" Type="http://schemas.openxmlformats.org/officeDocument/2006/relationships/hyperlink" Target="http://www.meditec.ru/flibrary/info/4146" TargetMode="External"/><Relationship Id="rId17" Type="http://schemas.openxmlformats.org/officeDocument/2006/relationships/hyperlink" Target="http://www.meditec.ru/flibrary/info/4146" TargetMode="External"/><Relationship Id="rId18" Type="http://schemas.openxmlformats.org/officeDocument/2006/relationships/hyperlink" Target="http://www.meditec.ru/flibrary/info/4146" TargetMode="External"/><Relationship Id="rId19" Type="http://schemas.openxmlformats.org/officeDocument/2006/relationships/hyperlink" Target="http://www.meditec.ru/flibrary/info/4146" TargetMode="External"/><Relationship Id="rId20" Type="http://schemas.openxmlformats.org/officeDocument/2006/relationships/hyperlink" Target="http://www.be-in.ru/network/463-jil_sander-things?thing=25443" TargetMode="External"/><Relationship Id="rId21" Type="http://schemas.openxmlformats.org/officeDocument/2006/relationships/hyperlink" Target="http://www.be-in.ru/network/463-jil_sander-things?thing=25443" TargetMode="External"/><Relationship Id="rId22" Type="http://schemas.openxmlformats.org/officeDocument/2006/relationships/hyperlink" Target="http://www.be-in.ru/network/463-jil_sander-things?thing=25443" TargetMode="External"/><Relationship Id="rId23" Type="http://schemas.openxmlformats.org/officeDocument/2006/relationships/hyperlink" Target="http://www.be-in.ru/network/463-jil_sander-things?thing=25443" TargetMode="External"/><Relationship Id="rId24" Type="http://schemas.openxmlformats.org/officeDocument/2006/relationships/hyperlink" Target="http://www.be-in.ru/network/463-jil_sander-things?thing=25443" TargetMode="External"/><Relationship Id="rId2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10800000">
            <a:off x="468360" y="1125000"/>
            <a:ext cx="7848720" cy="2880000"/>
          </a:xfrm>
          <a:custGeom>
            <a:avLst/>
            <a:gdLst>
              <a:gd name="textAreaLeft" fmla="*/ 1725840 w 7848720"/>
              <a:gd name="textAreaRight" fmla="*/ 6122880 w 7848720"/>
              <a:gd name="textAreaTop" fmla="*/ 633240 h 2880000"/>
              <a:gd name="textAreaBottom" fmla="*/ 2246760 h 28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63640" y="1341360"/>
            <a:ext cx="53294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adley Hand ITC"/>
              </a:rPr>
              <a:t>Равнобедренная трапеция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076360" y="4221000"/>
            <a:ext cx="3816360" cy="18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Брынских Виктори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ученицы 8 А класса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МОУ СОШ №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Г. Михайловск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вердловской обла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Применение формы трапеции в повседневной жизни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2273040" cy="2268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276720" y="3573360"/>
            <a:ext cx="2674800" cy="2676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95280" y="4076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арочная упаковка, где за основу взята фигура трапе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3640" y="263700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32000" y="2708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л в виде трапе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940360" y="1628640"/>
            <a:ext cx="2981520" cy="3057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516720" y="4724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мка в форме трапе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Задачи 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"/>
          <p:cNvSpPr/>
          <p:nvPr/>
        </p:nvSpPr>
        <p:spPr>
          <a:xfrm rot="10800000">
            <a:off x="684360" y="1557360"/>
            <a:ext cx="1944720" cy="1224000"/>
          </a:xfrm>
          <a:custGeom>
            <a:avLst/>
            <a:gdLst>
              <a:gd name="textAreaLeft" fmla="*/ 427680 w 1944720"/>
              <a:gd name="textAreaRight" fmla="*/ 1517040 w 1944720"/>
              <a:gd name="textAreaTop" fmla="*/ 268920 h 1224000"/>
              <a:gd name="textAreaBottom" fmla="*/ 9550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8720" y="126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126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57440" y="2779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4356000" y="1557360"/>
            <a:ext cx="1944720" cy="1224000"/>
          </a:xfrm>
          <a:custGeom>
            <a:avLst/>
            <a:gdLst>
              <a:gd name="textAreaLeft" fmla="*/ 427680 w 1944720"/>
              <a:gd name="textAreaRight" fmla="*/ 1517040 w 1944720"/>
              <a:gd name="textAreaTop" fmla="*/ 268920 h 1224000"/>
              <a:gd name="textAreaBottom" fmla="*/ 9550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126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6000" y="126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4036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944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539640" y="4292640"/>
            <a:ext cx="1944720" cy="1224000"/>
          </a:xfrm>
          <a:custGeom>
            <a:avLst/>
            <a:gdLst>
              <a:gd name="textAreaLeft" fmla="*/ 427680 w 1944720"/>
              <a:gd name="textAreaRight" fmla="*/ 1517040 w 1944720"/>
              <a:gd name="textAreaTop" fmla="*/ 268920 h 1224000"/>
              <a:gd name="textAreaBottom" fmla="*/ 9550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4003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79640" y="4003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528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13080" y="537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0800000">
            <a:off x="4498920" y="4435560"/>
            <a:ext cx="1944720" cy="1224000"/>
          </a:xfrm>
          <a:custGeom>
            <a:avLst/>
            <a:gdLst>
              <a:gd name="textAreaLeft" fmla="*/ 427680 w 1944720"/>
              <a:gd name="textAreaRight" fmla="*/ 1517040 w 1944720"/>
              <a:gd name="textAreaTop" fmla="*/ 268920 h 1224000"/>
              <a:gd name="textAreaBottom" fmla="*/ 9550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41464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38920" y="41464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82920" y="55864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72360" y="5514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05080" y="10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84360" y="19875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05080" y="2925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19700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3141720"/>
            <a:ext cx="1079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B=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ABC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=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08360" y="1414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22068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7280" y="1917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27640" y="1990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4836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2781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40360" y="3213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F –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редняя линия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F=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7280" y="5589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40" y="5950080"/>
            <a:ext cx="23036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B=CD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Garamond"/>
              </a:rPr>
              <a:t>ABCD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=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BC=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48360" y="400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5734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32720" y="4292640"/>
            <a:ext cx="1655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B=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Garamond"/>
              </a:rPr>
              <a:t>ABC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=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B=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D=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Ответы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2) 11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3) 4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4) 8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Ссылки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4слайд: </a:t>
            </a:r>
            <a:r>
              <a:rPr b="0" lang="en-US" sz="3200" spc="-1" strike="noStrike" u="sng">
                <a:solidFill>
                  <a:srgbClr val="6600ff"/>
                </a:solidFill>
                <a:uFillTx/>
                <a:latin typeface="Garamond"/>
                <a:hlinkClick r:id="rId1"/>
              </a:rPr>
              <a:t>http://cheremuha.ucoz.ru/load/1-1-0-5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слайд: 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2"/>
              </a:rPr>
              <a:t>http:/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3"/>
              </a:rPr>
              <a:t>reyki.org.ru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4"/>
              </a:rPr>
              <a:t>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5"/>
              </a:rPr>
              <a:t>forum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6"/>
              </a:rPr>
              <a:t>/42-334-66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                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7"/>
              </a:rPr>
              <a:t>http://tolstun.ru/?p=5245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10 слайд: 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8"/>
              </a:rPr>
              <a:t>http:/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9"/>
              </a:rPr>
              <a:t>www.klassorti.ru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0"/>
              </a:rPr>
              <a:t>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1"/>
              </a:rPr>
              <a:t>podarki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2"/>
              </a:rPr>
              <a:t>/075_trapetsiya_zhest.html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3"/>
              </a:rPr>
              <a:t>http:/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4"/>
              </a:rPr>
              <a:t>www.meditec.ru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5"/>
              </a:rPr>
              <a:t>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6"/>
              </a:rPr>
              <a:t>flibrary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7"/>
              </a:rPr>
              <a:t>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8"/>
              </a:rPr>
              <a:t>info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9"/>
              </a:rPr>
              <a:t>/4146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20"/>
              </a:rPr>
              <a:t>http:/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21"/>
              </a:rPr>
              <a:t>www.be-in.ru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22"/>
              </a:rPr>
              <a:t>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23"/>
              </a:rPr>
              <a:t>network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24"/>
              </a:rPr>
              <a:t>/463-jil_sander-things?thing=25443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Определение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Трапеция – это четырёхугольник, где две стороны параллельны, а две другие  не параллельны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Равнобедренная трапеция – это трапеция, где боковые стороны равны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3058920" y="4581360"/>
            <a:ext cx="2881080" cy="1368720"/>
          </a:xfrm>
          <a:custGeom>
            <a:avLst/>
            <a:gdLst>
              <a:gd name="textAreaLeft" fmla="*/ 633600 w 2881080"/>
              <a:gd name="textAreaRight" fmla="*/ 2247480 w 2881080"/>
              <a:gd name="textAreaTop" fmla="*/ 300960 h 1368720"/>
              <a:gd name="textAreaBottom" fmla="*/ 106776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084640"/>
            <a:ext cx="21564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364000" y="5013360"/>
            <a:ext cx="28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435640" y="5084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Происхождение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«Трапеция» - слово греческое, означавшее в древности «столик» (по гречески «трапедзион» означает столик, обеденный стол.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76720" y="3573360"/>
            <a:ext cx="26748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Элементы трапеции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1042920" y="2133720"/>
            <a:ext cx="1944720" cy="1224000"/>
          </a:xfrm>
          <a:custGeom>
            <a:avLst/>
            <a:gdLst>
              <a:gd name="textAreaLeft" fmla="*/ 427680 w 1944720"/>
              <a:gd name="textAreaRight" fmla="*/ 1517040 w 1944720"/>
              <a:gd name="textAreaTop" fmla="*/ 268920 h 1224000"/>
              <a:gd name="textAreaBottom" fmla="*/ 9550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184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2920" y="184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1844640"/>
            <a:ext cx="52563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ижнее 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C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верхнее 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D     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B, C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боковые ст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C, B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диагон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NM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редняя лин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NM    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NM    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N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=(BC+AD)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E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и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F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– высоты трапе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7280" y="2708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2708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67280" y="443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443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2708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1636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47640" y="2133720"/>
            <a:ext cx="1440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042920" y="2133720"/>
            <a:ext cx="14414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21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21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2133720"/>
            <a:ext cx="71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0328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3280" y="3213000"/>
            <a:ext cx="14436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6000" y="3213000"/>
            <a:ext cx="14436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234936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292428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626920" y="234936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771280" y="285264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Свойства равнобедренной трапеции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) Углы при основаниях трапеции равн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2) Диагонали равнобедренной трапеции равн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4653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920" y="472428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619280" y="3573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3573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058920" y="4724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987640" y="465300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5219640" y="3500280"/>
            <a:ext cx="2232000" cy="1368720"/>
          </a:xfrm>
          <a:custGeom>
            <a:avLst/>
            <a:gdLst>
              <a:gd name="textAreaLeft" fmla="*/ 490680 w 2232000"/>
              <a:gd name="textAreaRight" fmla="*/ 1741320 w 2232000"/>
              <a:gd name="textAreaTop" fmla="*/ 300960 h 1368720"/>
              <a:gd name="textAreaBottom" fmla="*/ 106776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96000" y="3500280"/>
            <a:ext cx="165564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219640" y="3500280"/>
            <a:ext cx="165744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1186920" y="3573000"/>
            <a:ext cx="2087640" cy="1295640"/>
          </a:xfrm>
          <a:custGeom>
            <a:avLst/>
            <a:gdLst>
              <a:gd name="textAreaLeft" fmla="*/ 459000 w 2087640"/>
              <a:gd name="textAreaRight" fmla="*/ 1628640 w 2087640"/>
              <a:gd name="textAreaTop" fmla="*/ 284760 h 1295640"/>
              <a:gd name="textAreaBottom" fmla="*/ 1010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284640"/>
            <a:ext cx="458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80000" y="4724280"/>
            <a:ext cx="458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33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465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2472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64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32360" y="494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56360" y="35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5229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=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Признаки равнобедренной трапеции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) Если в трапеции углы при основании равны, то это равнобедренная трапеци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551664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558792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547640" y="4437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443700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987280" y="558792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916000" y="551664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1115640" y="4436640"/>
            <a:ext cx="2087640" cy="1295640"/>
          </a:xfrm>
          <a:custGeom>
            <a:avLst/>
            <a:gdLst>
              <a:gd name="textAreaLeft" fmla="*/ 459000 w 2087640"/>
              <a:gd name="textAreaRight" fmla="*/ 1628640 w 2087640"/>
              <a:gd name="textAreaTop" fmla="*/ 284760 h 1295640"/>
              <a:gd name="textAreaBottom" fmla="*/ 1010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4720" y="4148280"/>
            <a:ext cx="459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0360" y="42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8720" y="5587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5148360" y="4149360"/>
            <a:ext cx="2232000" cy="1368360"/>
          </a:xfrm>
          <a:custGeom>
            <a:avLst/>
            <a:gdLst>
              <a:gd name="textAreaLeft" fmla="*/ 490680 w 2232000"/>
              <a:gd name="textAreaRight" fmla="*/ 1741320 w 2232000"/>
              <a:gd name="textAreaTop" fmla="*/ 300960 h 1368360"/>
              <a:gd name="textAreaBottom" fmla="*/ 10674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24360" y="4149720"/>
            <a:ext cx="1656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148000" y="4149720"/>
            <a:ext cx="165708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53440" y="5518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05440" y="3790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720" y="3790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61080" y="55911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84720" y="4222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2)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Если диагонали трапеции равны, то это равнобедренная трапеци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"/>
          <p:cNvSpPr/>
          <p:nvPr/>
        </p:nvSpPr>
        <p:spPr>
          <a:xfrm>
            <a:off x="7451640" y="386064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51640" y="3933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 = 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Формула нахождения площади равнобедренной трапе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S =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Garamond"/>
              </a:rPr>
              <a:t>·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692360" y="1413000"/>
                <a:ext cx="14144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684360" y="2924280"/>
            <a:ext cx="5832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 –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лощ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 –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с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 –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ерхнее ос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b –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ижнее ос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16000" y="216000"/>
          <a:ext cx="9143280" cy="6857640"/>
        </p:xfrm>
        <a:graphic>
          <a:graphicData uri="http://schemas.openxmlformats.org/drawingml/2006/table">
            <a:tbl>
              <a:tblPr/>
              <a:tblGrid>
                <a:gridCol w="2286000"/>
                <a:gridCol w="2285640"/>
                <a:gridCol w="2286360"/>
                <a:gridCol w="2285280"/>
              </a:tblGrid>
              <a:tr h="117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66560" y="404640"/>
                <a:ext cx="1656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203640" y="322200"/>
                <a:ext cx="12970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75280" y="404640"/>
                <a:ext cx="15825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380360" y="404640"/>
                <a:ext cx="1655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56000" y="549360"/>
                <a:ext cx="6318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Интересные факты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453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 счёт трёхмерной оптической иллюзии в комнате Эймса (придумал в 1946 году) ребёнок в ближнем углу кажется великаном по сравнению с тем, что стоит в дальнем. На самом деле форма комнаты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– трапеция.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Эффект усиливается из-за искажённой шахматной клетки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900000" y="3789360"/>
            <a:ext cx="3384720" cy="2593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0" y="1341360"/>
            <a:ext cx="4032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Созвездие Орион (звезды образуют  трапеци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435640" y="2205000"/>
            <a:ext cx="2424240" cy="2394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651640" y="4653000"/>
            <a:ext cx="20397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16:05:33Z</dcterms:created>
  <dc:creator>пользователь</dc:creator>
  <dc:description/>
  <dc:language>en-US</dc:language>
  <cp:lastModifiedBy>HOME</cp:lastModifiedBy>
  <dcterms:modified xsi:type="dcterms:W3CDTF">2011-02-11T17:10:29Z</dcterms:modified>
  <cp:revision>10</cp:revision>
  <dc:subject/>
  <dc:title>РАВНОБЕДРЕННАЯ ТРАПЕЦИЯ.</dc:title>
</cp:coreProperties>
</file>