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13.png" ContentType="image/png"/>
  <Override PartName="/ppt/media/image9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A657-C9B0-4085-ADC4-C321D024A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2E94-B64A-45DB-B14F-C92B86E1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E3A9-30D9-4BA6-92DB-CD319876B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543A-CC43-43AD-9F78-CBDD1044A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C585-C876-44AE-819F-7CD4C9CE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9D64-216E-4892-9158-33EBC355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DF5A-FBB0-4B9F-AC77-2573FACF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9F56-C51F-46E9-A347-D63D7EA3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5C96-E6F4-4CB4-9605-F28F2CCB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BDD0-98C2-439E-9F0D-E083E43B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F57C-68FD-4F39-8BEB-A7FB72C2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3E57-9949-45A8-B3BA-5AE23E15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A1F4-5179-4757-8707-9D4826F3CE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762120" y="60156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755640" y="1397160"/>
            <a:ext cx="7753320" cy="13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сположение точек 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тносительно осей  координат 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2484360" y="3032280"/>
            <a:ext cx="3843360" cy="24685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179280" y="5667480"/>
            <a:ext cx="86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Monotype Corsiva"/>
              </a:rPr>
              <a:t>Проект выполнили:  Смирнов Сергей и  Королева Наталья, ученики         6 «А» класса МОУ СОШ №8 г. Костро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684360" y="1872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99"/>
                </a:solidFill>
                <a:latin typeface="Monotype Corsiva"/>
              </a:rPr>
              <a:t>В математике нет символов для неясных мыслей.                   Жюль Анри Пуанка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028"/>
          <p:cNvSpPr/>
          <p:nvPr/>
        </p:nvSpPr>
        <p:spPr>
          <a:xfrm>
            <a:off x="971640" y="692280"/>
            <a:ext cx="7272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33cc"/>
                </a:solidFill>
                <a:uFillTx/>
                <a:latin typeface="Monotype Corsiva"/>
              </a:rPr>
              <a:t>Симметрия точки относительно оси абсцисс (Ох)</a:t>
            </a:r>
            <a:r>
              <a:rPr b="1" lang="ru-RU" sz="2500" spc="-1" strike="noStrike">
                <a:solidFill>
                  <a:srgbClr val="0033cc"/>
                </a:solidFill>
                <a:latin typeface="Monotype Corsiv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029"/>
          <p:cNvSpPr/>
          <p:nvPr/>
        </p:nvSpPr>
        <p:spPr>
          <a:xfrm>
            <a:off x="395280" y="1628640"/>
            <a:ext cx="302436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Точка В(3;6) симметрична точке    В ( 3; - 6), расположенной ниже оси абсцисс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30"/>
          <p:cNvSpPr/>
          <p:nvPr/>
        </p:nvSpPr>
        <p:spPr>
          <a:xfrm>
            <a:off x="3780000" y="1700280"/>
            <a:ext cx="4464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570" descr=""/>
          <p:cNvPicPr/>
          <p:nvPr/>
        </p:nvPicPr>
        <p:blipFill>
          <a:blip r:embed="rId2"/>
          <a:stretch/>
        </p:blipFill>
        <p:spPr>
          <a:xfrm>
            <a:off x="4768920" y="1752480"/>
            <a:ext cx="2973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ff0000"/>
                </a:solidFill>
                <a:uFillTx/>
                <a:latin typeface="Monotype Corsiva"/>
              </a:rPr>
              <a:t>Вывод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31640" y="1483920"/>
            <a:ext cx="69850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Monotype Corsi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33cc"/>
                </a:solidFill>
                <a:latin typeface="Monotype Corsiva"/>
              </a:rPr>
              <a:t>Точки с координатами, у которых  абсциссы одинаковы, а ординаты отличаются только знаком, будут симметричны относительно оси абсци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228600" y="304920"/>
            <a:ext cx="8915400" cy="22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000099"/>
                </a:solidFill>
                <a:uFillTx/>
                <a:latin typeface="Monotype Corsiva"/>
              </a:rPr>
              <a:t>Дидактические цели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188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500" spc="-1" strike="noStrike">
                <a:solidFill>
                  <a:srgbClr val="000000"/>
                </a:solidFill>
                <a:latin typeface="Monotype Corsiva"/>
              </a:rPr>
              <a:t>Формирование аналитического мышления учащихся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188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500" spc="-1" strike="noStrike">
                <a:solidFill>
                  <a:srgbClr val="000000"/>
                </a:solidFill>
                <a:latin typeface="Monotype Corsiva"/>
              </a:rPr>
              <a:t>Формирование навыков самостоятельной работы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52280" y="2895480"/>
            <a:ext cx="8596440" cy="30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000066"/>
                </a:solidFill>
                <a:uFillTx/>
                <a:latin typeface="Monotype Corsiva"/>
              </a:rPr>
              <a:t>Методические задачи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188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500" spc="-1" strike="noStrike">
                <a:solidFill>
                  <a:srgbClr val="000000"/>
                </a:solidFill>
                <a:latin typeface="Monotype Corsiva"/>
              </a:rPr>
              <a:t>Познакомиться с понятием «осевая симметрия»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188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500" spc="-1" strike="noStrike">
                <a:solidFill>
                  <a:srgbClr val="000000"/>
                </a:solidFill>
                <a:latin typeface="Monotype Corsiva"/>
              </a:rPr>
              <a:t>Научиться записывать координаты  точек, симметричных  относительно осей координат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cc"/>
                </a:solidFill>
                <a:uFillTx/>
                <a:latin typeface="Monotype Corsiva"/>
              </a:rPr>
              <a:t>Понятие симметрии</a:t>
            </a:r>
            <a:r>
              <a:rPr b="0" lang="ru-RU" sz="4000" spc="-1" strike="noStrike">
                <a:solidFill>
                  <a:srgbClr val="0033cc"/>
                </a:solidFill>
                <a:latin typeface="Monotype Corsiva"/>
              </a:rPr>
              <a:t> </a:t>
            </a:r>
            <a:br>
              <a:rPr sz="4000"/>
            </a:b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(</a:t>
            </a:r>
            <a:r>
              <a:rPr b="0" i="1" lang="ru-RU" sz="2400" spc="-1" strike="noStrike">
                <a:solidFill>
                  <a:srgbClr val="0033cc"/>
                </a:solidFill>
                <a:latin typeface="Monotype Corsiva"/>
              </a:rPr>
              <a:t>Что и когда мы узнали о симметрии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5280" y="1844640"/>
            <a:ext cx="762804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знакомились с понятием симметр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з справочника по математи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знакомились с симметрией в природе и в жизни из книг и учебни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шли фотограф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116000" y="692280"/>
            <a:ext cx="6769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 u="sng">
                <a:solidFill>
                  <a:srgbClr val="0033cc"/>
                </a:solidFill>
                <a:uFillTx/>
                <a:latin typeface="Monotype Corsiva"/>
              </a:rPr>
              <a:t>Симметрия в природе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39640" y="1484280"/>
            <a:ext cx="799308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Monotype Corsiva"/>
              </a:rPr>
              <a:t>Во всем многообразии растительного мира  все высшие растения имеют двустороннюю, т.е.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Monotype Corsiva"/>
              </a:rPr>
              <a:t>осевую симметрию</a:t>
            </a:r>
            <a:r>
              <a:rPr b="1" lang="ru-RU" sz="25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Monotype Corsiva"/>
              </a:rPr>
              <a:t>Листья  растений, кустарников и деревьев могут быть перистыми и непарно перистыми, но все они имеют двустороннюю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Monotype Corsiva"/>
              </a:rPr>
              <a:t>симметрию</a:t>
            </a:r>
            <a:r>
              <a:rPr b="1" lang="ru-RU" sz="2500" spc="-1" strike="noStrike">
                <a:solidFill>
                  <a:srgbClr val="000000"/>
                </a:solidFill>
                <a:latin typeface="Monotype Corsiva"/>
              </a:rPr>
              <a:t>. Например, все разновидности рябины, шиповник, листья клевер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316240" cy="2590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3"/>
          <a:stretch/>
        </p:blipFill>
        <p:spPr>
          <a:xfrm>
            <a:off x="3505320" y="4038480"/>
            <a:ext cx="2361960" cy="2590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4"/>
          <a:stretch/>
        </p:blipFill>
        <p:spPr>
          <a:xfrm>
            <a:off x="6477120" y="4038480"/>
            <a:ext cx="21333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611280" y="476280"/>
            <a:ext cx="777708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6600cc"/>
                </a:solidFill>
                <a:uFillTx/>
                <a:latin typeface="Monotype Corsiva"/>
              </a:rPr>
              <a:t>Признак однодольных растений</a:t>
            </a:r>
            <a:r>
              <a:rPr b="0" lang="ru-RU" sz="2500" spc="-1" strike="noStrike" u="sng">
                <a:solidFill>
                  <a:srgbClr val="6600cc"/>
                </a:solidFill>
                <a:uFillTx/>
                <a:latin typeface="Monotype Corsiva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У однодольных растений всегда число лепестков (листочков околоцветника)  делится на три и мы можем наблюдать наличие осевой симметри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Примером однодольных растений являются нарцисс, тюльпан, ландыш, и все цветы семейства лилейны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09480" y="3276720"/>
            <a:ext cx="79200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Семиричник – редкое растение, но семь лепестков цветка имеют двустороннюю симметрию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2"/>
          <a:stretch/>
        </p:blipFill>
        <p:spPr>
          <a:xfrm>
            <a:off x="5181480" y="4038480"/>
            <a:ext cx="3627720" cy="2590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"/>
          <p:cNvPicPr/>
          <p:nvPr/>
        </p:nvPicPr>
        <p:blipFill>
          <a:blip r:embed="rId3"/>
          <a:stretch/>
        </p:blipFill>
        <p:spPr>
          <a:xfrm>
            <a:off x="1143000" y="4038480"/>
            <a:ext cx="24382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3635280" y="1413000"/>
            <a:ext cx="3529080" cy="223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3">
            <a:lum contrast="42000"/>
          </a:blip>
          <a:stretch/>
        </p:blipFill>
        <p:spPr>
          <a:xfrm>
            <a:off x="3635280" y="4076640"/>
            <a:ext cx="4969080" cy="2376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539640" y="549360"/>
            <a:ext cx="8064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 u="sng">
                <a:solidFill>
                  <a:srgbClr val="3333cc"/>
                </a:solidFill>
                <a:uFillTx/>
                <a:latin typeface="Monotype Corsiva"/>
              </a:rPr>
              <a:t>Симметрия среди животных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7"/>
          <p:cNvSpPr/>
          <p:nvPr/>
        </p:nvSpPr>
        <p:spPr>
          <a:xfrm>
            <a:off x="3419640" y="2421000"/>
            <a:ext cx="4032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9"/>
          <p:cNvSpPr/>
          <p:nvPr/>
        </p:nvSpPr>
        <p:spPr>
          <a:xfrm>
            <a:off x="3419640" y="5084640"/>
            <a:ext cx="540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68360" y="1341360"/>
            <a:ext cx="2951280" cy="70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 природе строение тел животных так же подчиняется законам симметр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апример, яйцо птицы симметрично относительно прямой, проведенной  через его середин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ело ящерицы  симметрично относительно прям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1042920" y="620640"/>
            <a:ext cx="712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826920" y="692280"/>
            <a:ext cx="712980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500" spc="-1" strike="noStrike" u="sng">
                <a:solidFill>
                  <a:srgbClr val="0033cc"/>
                </a:solidFill>
                <a:uFillTx/>
                <a:latin typeface="Monotype Corsiva"/>
              </a:rPr>
              <a:t>Тело человека имеет ось симметрии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2"/>
          <a:stretch/>
        </p:blipFill>
        <p:spPr>
          <a:xfrm>
            <a:off x="5867280" y="1484280"/>
            <a:ext cx="2592360" cy="4969080"/>
          </a:xfrm>
          <a:prstGeom prst="rect">
            <a:avLst/>
          </a:prstGeom>
          <a:ln w="0">
            <a:noFill/>
          </a:ln>
        </p:spPr>
      </p:pic>
      <p:sp>
        <p:nvSpPr>
          <p:cNvPr id="68" name="Line 10"/>
          <p:cNvSpPr/>
          <p:nvPr/>
        </p:nvSpPr>
        <p:spPr>
          <a:xfrm flipH="1">
            <a:off x="7020000" y="1268280"/>
            <a:ext cx="71280" cy="540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684360" y="1700280"/>
            <a:ext cx="4248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ам человек является частью природы и в строении тела человека мы можем наблюдать присутствие осевой симметр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Если провести прямую, пересекающую тело человека от середины лба перпендикулярно плоскости пола, то мы увидим, что тело человека симметрично относительно этой прям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5"/>
          <p:cNvSpPr/>
          <p:nvPr/>
        </p:nvSpPr>
        <p:spPr>
          <a:xfrm>
            <a:off x="971640" y="54936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Monotype Corsiva"/>
              </a:rPr>
              <a:t>Симметрия точки относительно оси ординат (Оу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395280" y="1125360"/>
            <a:ext cx="3529080" cy="69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Точка А (2;3) симметрична точке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А ( -2;3 ), расположенной слева от оси ординат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Точка А(3:-4) симметрична точке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А(-3;-4), расположенной слева от оси ординат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Object 2"/>
          <p:cNvGraphicFramePr/>
          <p:nvPr/>
        </p:nvGraphicFramePr>
        <p:xfrm>
          <a:off x="4952880" y="1255680"/>
          <a:ext cx="3581640" cy="2638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1255680"/>
                    <a:ext cx="358164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3"/>
          <p:cNvGraphicFramePr/>
          <p:nvPr/>
        </p:nvGraphicFramePr>
        <p:xfrm>
          <a:off x="4952880" y="4191120"/>
          <a:ext cx="3581640" cy="25002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75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52880" y="4191120"/>
                    <a:ext cx="358164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ff0000"/>
                </a:solidFill>
                <a:uFillTx/>
                <a:latin typeface="Monotype Corsiva"/>
              </a:rPr>
              <a:t>Вывод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63640" y="1628280"/>
            <a:ext cx="669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Monotype Corsiva"/>
              </a:rPr>
              <a:t>Точки с координатами, у которых ординаты одинаковы, а абсциссы отличаются только знаком, будут симметричны относительно оси ордина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2T14:00:29Z</dcterms:created>
  <dc:creator>U2</dc:creator>
  <dc:description/>
  <dc:language>en-US</dc:language>
  <cp:lastModifiedBy>Коля</cp:lastModifiedBy>
  <dcterms:modified xsi:type="dcterms:W3CDTF">2013-03-26T17:12:03Z</dcterms:modified>
  <cp:revision>25</cp:revision>
  <dc:subject/>
  <dc:title>Презентация PowerPoint</dc:title>
</cp:coreProperties>
</file>