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22A-443F-41A9-8334-EA2FD4E6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795-38CF-43B9-86D9-E5ADC23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B76-1AEC-4EDA-8E1C-E96F12D4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E5B-E363-4ECE-A521-33BDF724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AF0-3ABB-4D0B-8980-9AEA0DE6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890-FB8D-4748-AFC0-26765D2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96C-79FF-4AD8-A156-09255C9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A1A-11BF-46B9-A81A-B16299A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059-26A9-4313-9F80-E97A21BE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B93-888F-459C-A4E7-72A06B1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49B-E856-40DD-89ED-8265460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4D8-A16A-458F-B1DE-BAE32EA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BECA-4A2B-434E-912C-B5B0664614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0156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397160"/>
            <a:ext cx="775332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положение точек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носительно осей  координат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84360" y="3032280"/>
            <a:ext cx="3843360" cy="2468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Проект выполнили:  Смирнов Сергей и  Королева Наталья, ученики         6 «А» класса МОУ СОШ №8 г. Костр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84360" y="18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Monotype Corsiva"/>
              </a:rPr>
              <a:t>В математике нет символов для неясных мыслей.                   Жюль Анри Пуанка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28"/>
          <p:cNvSpPr/>
          <p:nvPr/>
        </p:nvSpPr>
        <p:spPr>
          <a:xfrm>
            <a:off x="971640" y="69228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абсцисс (Ох)</a:t>
            </a:r>
            <a:r>
              <a:rPr b="1" lang="ru-RU" sz="2500" spc="-1" strike="noStrike">
                <a:solidFill>
                  <a:srgbClr val="0033cc"/>
                </a:solidFill>
                <a:latin typeface="Monotype Corsiv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9"/>
          <p:cNvSpPr/>
          <p:nvPr/>
        </p:nvSpPr>
        <p:spPr>
          <a:xfrm>
            <a:off x="395280" y="1628640"/>
            <a:ext cx="3024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В(3;6) симметрична точке    В ( 3; - 6), расположенной ниже оси абсцисс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0"/>
          <p:cNvSpPr/>
          <p:nvPr/>
        </p:nvSpPr>
        <p:spPr>
          <a:xfrm>
            <a:off x="3780000" y="1700280"/>
            <a:ext cx="446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570" descr=""/>
          <p:cNvPicPr/>
          <p:nvPr/>
        </p:nvPicPr>
        <p:blipFill>
          <a:blip r:embed="rId2"/>
          <a:stretch/>
        </p:blipFill>
        <p:spPr>
          <a:xfrm>
            <a:off x="4768920" y="1752480"/>
            <a:ext cx="297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 абсциссы одинаковы, а ординаты отличаются только знаком, будут симметричны относительно оси абсци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304920"/>
            <a:ext cx="89154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99"/>
                </a:solidFill>
                <a:uFillTx/>
                <a:latin typeface="Monotype Corsiva"/>
              </a:rPr>
              <a:t>Дидактические цел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аналитического мышления учащихся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навыков самостоятельной работы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280" y="2895480"/>
            <a:ext cx="8596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Monotype Corsiva"/>
              </a:rPr>
              <a:t>Методические задач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Познакомиться с понятием «осевая симметрия»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Научиться записывать координаты  точек, симметричных  относительно осей координат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Monotype Corsiva"/>
              </a:rPr>
              <a:t>Понятие симметрии</a:t>
            </a: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</a:t>
            </a:r>
            <a:r>
              <a:rPr b="0" i="1" lang="ru-RU" sz="2400" spc="-1" strike="noStrike">
                <a:solidFill>
                  <a:srgbClr val="0033cc"/>
                </a:solidFill>
                <a:latin typeface="Monotype Corsiva"/>
              </a:rPr>
              <a:t>Что и когда мы узнали о симметрии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280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понятием сим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справочника по матема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симметрией в природе и в жизни из книг и учеб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шли фотограф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16000" y="692280"/>
            <a:ext cx="676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в природе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484280"/>
            <a:ext cx="799308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о всем многообразии растительного мира  все высшие растения имеют двустороннюю, т.е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осевую 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Листья  растений, кустарников и деревьев могут быть перистыми и непарно перистыми, но все они имеют двустороннюю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Например, все разновидности рябины, шиповник, листья клевер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162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3619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477120" y="4038480"/>
            <a:ext cx="213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476280"/>
            <a:ext cx="7777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Признак однодольных растений</a:t>
            </a:r>
            <a:r>
              <a:rPr b="0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У однодольных растений всегда число лепестков (листочков околоцветника)  делится на три и мы можем наблюдать наличие осевой симметри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Примером однодольных растений являются нарцисс, тюльпан, ландыш, и все цветы семейства лилейн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3276720"/>
            <a:ext cx="792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емиричник – редкое растение, но семь лепестков цветка имеют двустороннюю симметрию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2772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3635280" y="4076640"/>
            <a:ext cx="4969080" cy="23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39640" y="549360"/>
            <a:ext cx="806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3333cc"/>
                </a:solidFill>
                <a:uFillTx/>
                <a:latin typeface="Monotype Corsiva"/>
              </a:rPr>
              <a:t>Симметрия среди животных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19640" y="2421000"/>
            <a:ext cx="40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5084640"/>
            <a:ext cx="54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8360" y="1341360"/>
            <a:ext cx="29512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 природе строение тел животных так же подчиняется законам симмет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пример, яйцо птицы симметрично относительно прямой, проведенной  через его серед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ящерицы  симметрично относительно прям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042920" y="62064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6920" y="692280"/>
            <a:ext cx="7129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Тело человека имеет ось симметри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 flipH="1">
            <a:off x="7020000" y="1268280"/>
            <a:ext cx="71280" cy="540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84360" y="1700280"/>
            <a:ext cx="4248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ам человек является частью природы и в строении тела человека мы можем наблюдать присутствие осевой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ли провести прямую, пересекающую тело человека от середины лба перпендикулярно плоскости пола, то мы увидим, что тело человека симметрично относительно эт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971640" y="549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ординат (О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1125360"/>
            <a:ext cx="3529080" cy="69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 (2;3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 ( -2;3 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(3:-4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(-3;-4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4952880" y="1255680"/>
          <a:ext cx="3581640" cy="26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255680"/>
                    <a:ext cx="358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4952880" y="4191120"/>
          <a:ext cx="3581640" cy="2500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191120"/>
                    <a:ext cx="35816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628280"/>
            <a:ext cx="669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ординаты одинаковы, а абсциссы отличаются только знаком, будут симметричны относительно оси 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14:00:29Z</dcterms:created>
  <dc:creator>U2</dc:creator>
  <dc:description/>
  <dc:language>en-US</dc:language>
  <cp:lastModifiedBy>Коля</cp:lastModifiedBy>
  <dcterms:modified xsi:type="dcterms:W3CDTF">2013-03-26T17:12:03Z</dcterms:modified>
  <cp:revision>25</cp:revision>
  <dc:subject/>
  <dc:title>Презентация PowerPoint</dc:title>
</cp:coreProperties>
</file>