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7AD-CE5B-4C0D-ABE8-FD36D716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DD9-2EC7-403F-9945-81220633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4C2-AB63-4AFD-9A0B-9C4F3BB7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70A-648E-4F5F-8D56-3770A99A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12F-75CC-41CC-B71C-C26EC9EC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41F-6556-42C0-9483-B3E527F4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2F7-FF77-405B-9BA9-F13AA7F6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454-7FD6-4790-A4E6-245AA8B8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F3C-9560-403A-8E95-AF2454C9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6AD-D52B-4783-AD08-CAB78DE0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12A-47BA-4B3B-A868-3EF4E5D2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D6A-C29E-4404-A89A-A151C445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80D9-EC5A-4DD6-9F58-1F717DEE40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62120" y="60156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397160"/>
            <a:ext cx="775332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положение точек 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носительно осей  координат 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484360" y="3032280"/>
            <a:ext cx="3843360" cy="2468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17928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Проект выполнили:  Смирнов Сергей и  Королева Наталья, ученики         6 «А» класса МОУ СОШ №8 г. Костр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84360" y="187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Monotype Corsiva"/>
              </a:rPr>
              <a:t>В математике нет символов для неясных мыслей.                   Жюль Анри Пуанка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28"/>
          <p:cNvSpPr/>
          <p:nvPr/>
        </p:nvSpPr>
        <p:spPr>
          <a:xfrm>
            <a:off x="971640" y="692280"/>
            <a:ext cx="727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33cc"/>
                </a:solidFill>
                <a:uFillTx/>
                <a:latin typeface="Monotype Corsiva"/>
              </a:rPr>
              <a:t>Симметрия точки относительно оси абсцисс (Ох)</a:t>
            </a:r>
            <a:r>
              <a:rPr b="1" lang="ru-RU" sz="2500" spc="-1" strike="noStrike">
                <a:solidFill>
                  <a:srgbClr val="0033cc"/>
                </a:solidFill>
                <a:latin typeface="Monotype Corsiv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29"/>
          <p:cNvSpPr/>
          <p:nvPr/>
        </p:nvSpPr>
        <p:spPr>
          <a:xfrm>
            <a:off x="395280" y="1628640"/>
            <a:ext cx="3024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Точка В(3;6) симметрична точке    В ( 3; - 6), расположенной ниже оси абсцисс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30"/>
          <p:cNvSpPr/>
          <p:nvPr/>
        </p:nvSpPr>
        <p:spPr>
          <a:xfrm>
            <a:off x="3780000" y="1700280"/>
            <a:ext cx="446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570" descr=""/>
          <p:cNvPicPr/>
          <p:nvPr/>
        </p:nvPicPr>
        <p:blipFill>
          <a:blip r:embed="rId2"/>
          <a:stretch/>
        </p:blipFill>
        <p:spPr>
          <a:xfrm>
            <a:off x="4768920" y="1752480"/>
            <a:ext cx="2973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ff0000"/>
                </a:solidFill>
                <a:uFillTx/>
                <a:latin typeface="Monotype Corsiva"/>
              </a:rPr>
              <a:t>Выво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31640" y="1483920"/>
            <a:ext cx="698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очки с координатами, у которых  абсциссы одинаковы, а ординаты отличаются только знаком, будут симметричны относительно оси абсци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28600" y="304920"/>
            <a:ext cx="89154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0099"/>
                </a:solidFill>
                <a:uFillTx/>
                <a:latin typeface="Monotype Corsiva"/>
              </a:rPr>
              <a:t>Дидактические цели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Формирование аналитического мышления учащихся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Формирование навыков самостоятельной работы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52280" y="2895480"/>
            <a:ext cx="859644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0066"/>
                </a:solidFill>
                <a:uFillTx/>
                <a:latin typeface="Monotype Corsiva"/>
              </a:rPr>
              <a:t>Методические задачи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Познакомиться с понятием «осевая симметрия»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Monotype Corsiva"/>
              </a:rPr>
              <a:t>Научиться записывать координаты  точек, симметричных  относительно осей координат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cc"/>
                </a:solidFill>
                <a:uFillTx/>
                <a:latin typeface="Monotype Corsiva"/>
              </a:rPr>
              <a:t>Понятие симметрии</a:t>
            </a:r>
            <a:r>
              <a:rPr b="0" lang="ru-RU" sz="4000" spc="-1" strike="noStrike">
                <a:solidFill>
                  <a:srgbClr val="0033cc"/>
                </a:solidFill>
                <a:latin typeface="Monotype Corsiva"/>
              </a:rPr>
              <a:t> </a:t>
            </a:r>
            <a:br>
              <a:rPr sz="4000"/>
            </a:br>
            <a:r>
              <a:rPr b="0" lang="ru-RU" sz="2400" spc="-1" strike="noStrike">
                <a:solidFill>
                  <a:srgbClr val="0033cc"/>
                </a:solidFill>
                <a:latin typeface="Monotype Corsiva"/>
              </a:rPr>
              <a:t>(</a:t>
            </a:r>
            <a:r>
              <a:rPr b="0" i="1" lang="ru-RU" sz="2400" spc="-1" strike="noStrike">
                <a:solidFill>
                  <a:srgbClr val="0033cc"/>
                </a:solidFill>
                <a:latin typeface="Monotype Corsiva"/>
              </a:rPr>
              <a:t>Что и когда мы узнали о симметрии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6280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знакомились с понятием симмет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 справочника по математ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знакомились с симметрией в природе и в жизни из книг и учеб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шли фотограф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116000" y="692280"/>
            <a:ext cx="676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33cc"/>
                </a:solidFill>
                <a:uFillTx/>
                <a:latin typeface="Monotype Corsiva"/>
              </a:rPr>
              <a:t>Симметрия в природе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9640" y="1484280"/>
            <a:ext cx="799308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Во всем многообразии растительного мира  все высшие растения имеют двустороннюю, т.е.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осевую симметрию</a:t>
            </a: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Листья  растений, кустарников и деревьев могут быть перистыми и непарно перистыми, но все они имеют двустороннюю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симметрию</a:t>
            </a: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. Например, все разновидности рябины, шиповник, листья клевер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31624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3505320" y="4038480"/>
            <a:ext cx="236196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477120" y="4038480"/>
            <a:ext cx="213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11280" y="476280"/>
            <a:ext cx="77770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600cc"/>
                </a:solidFill>
                <a:uFillTx/>
                <a:latin typeface="Monotype Corsiva"/>
              </a:rPr>
              <a:t>Признак однодольных растений</a:t>
            </a:r>
            <a:r>
              <a:rPr b="0" lang="ru-RU" sz="2500" spc="-1" strike="noStrike" u="sng">
                <a:solidFill>
                  <a:srgbClr val="6600cc"/>
                </a:solidFill>
                <a:uFillTx/>
                <a:latin typeface="Monotype Corsiv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У однодольных растений всегда число лепестков (листочков околоцветника)  делится на три и мы можем наблюдать наличие осевой симметри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Примером однодольных растений являются нарцисс, тюльпан, ландыш, и все цветы семейства лилейн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9480" y="3276720"/>
            <a:ext cx="7920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Семиричник – редкое растение, но семь лепестков цветка имеют двустороннюю симметрию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27720" cy="259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352908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3635280" y="4076640"/>
            <a:ext cx="4969080" cy="23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39640" y="549360"/>
            <a:ext cx="806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3333cc"/>
                </a:solidFill>
                <a:uFillTx/>
                <a:latin typeface="Monotype Corsiva"/>
              </a:rPr>
              <a:t>Симметрия среди животных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3419640" y="2421000"/>
            <a:ext cx="40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3419640" y="5084640"/>
            <a:ext cx="54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68360" y="1341360"/>
            <a:ext cx="295128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 природе строение тел животных так же подчиняется законам симметр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пример, яйцо птицы симметрично относительно прямой, проведенной  через его середи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ело ящерицы  симметрично относительно прям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042920" y="62064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826920" y="692280"/>
            <a:ext cx="7129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500" spc="-1" strike="noStrike" u="sng">
                <a:solidFill>
                  <a:srgbClr val="0033cc"/>
                </a:solidFill>
                <a:uFillTx/>
                <a:latin typeface="Monotype Corsiva"/>
              </a:rPr>
              <a:t>Тело человека имеет ось симметри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 flipH="1">
            <a:off x="7020000" y="1268280"/>
            <a:ext cx="71280" cy="540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684360" y="1700280"/>
            <a:ext cx="4248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ам человек является частью природы и в строении тела человека мы можем наблюдать присутствие осевой сим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сли провести прямую, пересекающую тело человека от середины лба перпендикулярно плоскости пола, то мы увидим, что тело человека симметрично относительно этой пря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971640" y="549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Monotype Corsiva"/>
              </a:rPr>
              <a:t>Симметрия точки относительно оси ординат (О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1125360"/>
            <a:ext cx="3529080" cy="69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Точка А (2;3) симметрична точк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А ( -2;3 ), расположенной слева от оси ордина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Точка А(3:-4) симметрична точк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А(-3;-4), расположенной слева от оси ордина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"/>
          <p:cNvGraphicFramePr/>
          <p:nvPr/>
        </p:nvGraphicFramePr>
        <p:xfrm>
          <a:off x="4952880" y="1255680"/>
          <a:ext cx="3581640" cy="2638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255680"/>
                    <a:ext cx="358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3"/>
          <p:cNvGraphicFramePr/>
          <p:nvPr/>
        </p:nvGraphicFramePr>
        <p:xfrm>
          <a:off x="4952880" y="4191120"/>
          <a:ext cx="3581640" cy="2500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191120"/>
                    <a:ext cx="358164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ff0000"/>
                </a:solidFill>
                <a:uFillTx/>
                <a:latin typeface="Monotype Corsiva"/>
              </a:rPr>
              <a:t>Вывод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63640" y="1628280"/>
            <a:ext cx="669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очки с координатами, у которых ординаты одинаковы, а абсциссы отличаются только знаком, будут симметричны относительно оси ордин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14:00:29Z</dcterms:created>
  <dc:creator>U2</dc:creator>
  <dc:description/>
  <dc:language>en-US</dc:language>
  <cp:lastModifiedBy>Коля</cp:lastModifiedBy>
  <dcterms:modified xsi:type="dcterms:W3CDTF">2013-03-26T17:12:03Z</dcterms:modified>
  <cp:revision>25</cp:revision>
  <dc:subject/>
  <dc:title>Презентация PowerPoint</dc:title>
</cp:coreProperties>
</file>