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11.wmf" ContentType="image/x-wmf"/>
  <Override PartName="/ppt/media/image17.jpeg" ContentType="image/jpeg"/>
  <Override PartName="/ppt/media/image7.png" ContentType="image/pn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2C0-99AC-4B17-A640-BB581CF0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287B-19B0-468B-85A3-6FA79DDD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B9C-B903-4D81-B942-165A1F26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C5D-50F9-4F39-8AFC-BC8F353C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810A-D892-42C3-9790-DA1D8014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410D-0104-44D1-9361-7706E7E0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FAAB-0C06-48D7-A504-239D79D4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D0C9-91B0-41D2-909B-CFA35FAE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8021-248B-475B-9B5F-639FC076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8532-C510-4B8E-9D22-7F7EA30A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B5F2-7AD5-4CCD-9469-0BCCE38B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506-A1CC-4D31-97D8-7C7FCEC3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A218-A01C-4B8A-A9DE-DCCB8D3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8F81-DE06-4341-A60D-ECB33DB2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0824-CB42-4768-B737-C7BC6BD0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B9FC-9C65-4184-BDFF-056A39C4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15B8-8668-46A5-AD9A-D0285F0C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4BB-E0D4-4CB8-A043-80FC1302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99E-59BB-40AA-BF4E-0E68B107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6B8-9106-4C60-BD11-FA4589FE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DD0-3593-4770-8A02-268356A6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CCC-AC6A-436C-8992-B689F7BA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379-E06B-40A2-8AAA-3E1BA03F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7A7-2C7A-486E-9F79-22492FEB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7ECF-361F-4B3C-9695-8A4B9F3CF0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E682-A6E3-43B2-B2E7-475EE2FC523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ИКА, СОЗНАНИЕ, 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1989000"/>
            <a:ext cx="79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ЗВИТИЕ ПСИХИКИ ЖИВЫХ СУЩЕСТ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ОИСХОЖДЕНИЕ И РАЗВИТИЕ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ХОЛОГИЧЕСКИЕ ХАРАКТЕРИСТИКИ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ЕССОЗНАТЕЛЬНО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РИ КЛАССА НЕОСОЗНАВАЕМЫХ ПСИХИЧЕСКИХ ЯВЛЕН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езьяны и др. высшие позвоночные (собаки, дельфины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исследовательских форм поведения с использованием ранее приобретенных знания и умен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е (выделение причинно-следственных связе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4" descr="dog"/>
          <p:cNvPicPr/>
          <p:nvPr/>
        </p:nvPicPr>
        <p:blipFill>
          <a:blip r:embed="rId1"/>
          <a:stretch/>
        </p:blipFill>
        <p:spPr>
          <a:xfrm>
            <a:off x="5508720" y="4121280"/>
            <a:ext cx="327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28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альнейшее развитие психики идет за счет совершенствования высших психических функц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4799160" cy="29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ознание можно определить как единство высших психических функций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Его возникновению и развитию способствовала совместная    орудийная деятельность людей опосредованная речью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4" descr="mis114"/>
          <p:cNvPicPr/>
          <p:nvPr/>
        </p:nvPicPr>
        <p:blipFill>
          <a:blip r:embed="rId1"/>
          <a:stretch/>
        </p:blipFill>
        <p:spPr>
          <a:xfrm>
            <a:off x="0" y="1916280"/>
            <a:ext cx="3141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рудия труд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Трудовая деятельность и общ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CAKUKNJ6"/>
          <p:cNvPicPr/>
          <p:nvPr/>
        </p:nvPicPr>
        <p:blipFill>
          <a:blip r:embed="rId1"/>
          <a:stretch/>
        </p:blipFill>
        <p:spPr>
          <a:xfrm>
            <a:off x="250920" y="19890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iCA8O4ZB6"/>
          <p:cNvPicPr/>
          <p:nvPr/>
        </p:nvPicPr>
        <p:blipFill>
          <a:blip r:embed="rId2"/>
          <a:stretch/>
        </p:blipFill>
        <p:spPr>
          <a:xfrm>
            <a:off x="324000" y="442440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CAMUYAL8"/>
          <p:cNvPicPr/>
          <p:nvPr/>
        </p:nvPicPr>
        <p:blipFill>
          <a:blip r:embed="rId3"/>
          <a:stretch/>
        </p:blipFill>
        <p:spPr>
          <a:xfrm>
            <a:off x="4140360" y="4076640"/>
            <a:ext cx="43923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204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амосознание – ощущение себя познающим субъекто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сленное представление существующей и воображаемой действительност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онтролировать свои поведенческие и психические состоя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аличие интеллектуальных сх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 коммуникации при помощи знаковых сист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6" descr="iCACIUWCC"/>
          <p:cNvPicPr/>
          <p:nvPr/>
        </p:nvPicPr>
        <p:blipFill>
          <a:blip r:embed="rId1"/>
          <a:stretch/>
        </p:blipFill>
        <p:spPr>
          <a:xfrm>
            <a:off x="7164360" y="3284640"/>
            <a:ext cx="168768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iCA9A937K"/>
          <p:cNvPicPr/>
          <p:nvPr/>
        </p:nvPicPr>
        <p:blipFill>
          <a:blip r:embed="rId2"/>
          <a:stretch/>
        </p:blipFill>
        <p:spPr>
          <a:xfrm>
            <a:off x="250920" y="4437000"/>
            <a:ext cx="3240000" cy="194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Books2"/>
          <p:cNvPicPr/>
          <p:nvPr/>
        </p:nvPicPr>
        <p:blipFill>
          <a:blip r:embed="rId3"/>
          <a:stretch/>
        </p:blipFill>
        <p:spPr>
          <a:xfrm>
            <a:off x="3924360" y="4221000"/>
            <a:ext cx="287172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24560" y="1267920"/>
            <a:ext cx="434016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к – материальный объек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чение – то, на что указывает зна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мысл – индивидуальный оттенок значения, связанный с личным опыт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468000" y="2492280"/>
            <a:ext cx="1871640" cy="2592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468360" y="5084640"/>
            <a:ext cx="3456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 flipH="1" flipV="1">
            <a:off x="2340000" y="2420640"/>
            <a:ext cx="1511280" cy="2663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766520" y="1916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 rot="744000">
            <a:off x="182880" y="52290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ЧЕН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 rot="20637000">
            <a:off x="3350160" y="508464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МЫС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Язык формирует два пласта сознания – пласт значений и пласт смыслов, которые составляют коллективное и индивидуальное созна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3276720" y="3716280"/>
            <a:ext cx="5688000" cy="2881440"/>
          </a:xfrm>
          <a:prstGeom prst="flowChartAlternateProcess">
            <a:avLst/>
          </a:prstGeom>
          <a:solidFill>
            <a:srgbClr val="cc6600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276720" y="5157720"/>
            <a:ext cx="56880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3419640" y="5661000"/>
            <a:ext cx="536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ДИВИДУАЛЬ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3419640" y="4221000"/>
            <a:ext cx="532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ЛЛЕКТИВ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Picture 18" descr="arr024"/>
          <p:cNvPicPr/>
          <p:nvPr/>
        </p:nvPicPr>
        <p:blipFill>
          <a:blip r:embed="rId2"/>
          <a:stretch/>
        </p:blipFill>
        <p:spPr>
          <a:xfrm rot="19602600">
            <a:off x="1763640" y="3789000"/>
            <a:ext cx="132552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arr024"/>
          <p:cNvPicPr/>
          <p:nvPr/>
        </p:nvPicPr>
        <p:blipFill>
          <a:blip r:embed="rId3"/>
          <a:stretch/>
        </p:blipFill>
        <p:spPr>
          <a:xfrm rot="19602600">
            <a:off x="1763640" y="5013000"/>
            <a:ext cx="1325520" cy="1368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 rot="19701600">
            <a:off x="-119880" y="39636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ЗНАЧЕНИ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22"/>
          <p:cNvSpPr/>
          <p:nvPr/>
        </p:nvSpPr>
        <p:spPr>
          <a:xfrm rot="19317600">
            <a:off x="46440" y="53557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СМЫС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правление развития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щее направление развития сознания – расширение сферы осознаваемого в себе и мир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нутри этого общего направления выделяют три частных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-34920"/>
            <a:ext cx="7086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764640"/>
            <a:ext cx="7772400" cy="525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Рефлексивное  -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мещение фокуса рефлексии с окружающего мира на самое себ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Историческ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изменением форм коллективного созна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Понятийн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языком. Расширение языка и проникновение в суть вещей взаимосвяза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исхождение психи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де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и материя – два начала,    связанных, но несводимых друг к друг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атери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есть свойство высокоорганизованной материи, возникшее в результате эволю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687840" y="5899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24000" y="5734080"/>
            <a:ext cx="228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АТЕР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3635280" y="5661000"/>
            <a:ext cx="1666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ИЗН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6372360" y="5661000"/>
            <a:ext cx="2200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СИХИ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2771640" y="5734080"/>
            <a:ext cx="792360" cy="431640"/>
          </a:xfrm>
          <a:custGeom>
            <a:avLst/>
            <a:gdLst>
              <a:gd name="textAreaLeft" fmla="*/ 123840 w 792360"/>
              <a:gd name="textAreaRight" fmla="*/ 693360 w 79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5435640" y="5734080"/>
            <a:ext cx="863640" cy="431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Бессознательное наряду с сознанием представлено во всех психических процессах и состояниях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щуще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Эмоци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Picture 4" descr="bus045"/>
          <p:cNvPicPr/>
          <p:nvPr/>
        </p:nvPicPr>
        <p:blipFill>
          <a:blip r:embed="rId1"/>
          <a:stretch/>
        </p:blipFill>
        <p:spPr>
          <a:xfrm>
            <a:off x="6012000" y="3500280"/>
            <a:ext cx="2728800" cy="2179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bus046"/>
          <p:cNvPicPr/>
          <p:nvPr/>
        </p:nvPicPr>
        <p:blipFill>
          <a:blip r:embed="rId2"/>
          <a:stretch/>
        </p:blipFill>
        <p:spPr>
          <a:xfrm>
            <a:off x="4788000" y="4149720"/>
            <a:ext cx="2279520" cy="2473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mis113"/>
          <p:cNvPicPr/>
          <p:nvPr/>
        </p:nvPicPr>
        <p:blipFill>
          <a:blip r:embed="rId3"/>
          <a:stretch/>
        </p:blipFill>
        <p:spPr>
          <a:xfrm>
            <a:off x="2484360" y="5373720"/>
            <a:ext cx="30243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автоматизм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ые механизмы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ая установ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ое сопровождение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побудители сознательных действи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адсознательные процесс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 живых существ усложняется с развитием нервной систе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нервной системы связано с усложнением ее стро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324000" y="4437000"/>
            <a:ext cx="8569080" cy="1944720"/>
            <a:chOff x="324000" y="4437000"/>
            <a:chExt cx="8569080" cy="1944720"/>
          </a:xfrm>
        </p:grpSpPr>
        <p:sp>
          <p:nvSpPr>
            <p:cNvPr id="115" name="AutoShape 4"/>
            <p:cNvSpPr/>
            <p:nvPr/>
          </p:nvSpPr>
          <p:spPr>
            <a:xfrm>
              <a:off x="324000" y="4437000"/>
              <a:ext cx="36716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Раздражимость,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самосохран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5219640" y="4437000"/>
              <a:ext cx="36734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Чувствительность,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Готовность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к научению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17" name="Picture 6" descr="arr030"/>
            <p:cNvPicPr/>
            <p:nvPr/>
          </p:nvPicPr>
          <p:blipFill>
            <a:blip r:embed="rId1"/>
            <a:stretch/>
          </p:blipFill>
          <p:spPr>
            <a:xfrm rot="5400000">
              <a:off x="4257720" y="4751280"/>
              <a:ext cx="628560" cy="115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9" descr="nervy"/>
          <p:cNvPicPr/>
          <p:nvPr/>
        </p:nvPicPr>
        <p:blipFill>
          <a:blip r:embed="rId1"/>
          <a:stretch/>
        </p:blipFill>
        <p:spPr>
          <a:xfrm>
            <a:off x="1403280" y="1844640"/>
            <a:ext cx="2565360" cy="4432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iCAE4TDYG"/>
          <p:cNvPicPr/>
          <p:nvPr/>
        </p:nvPicPr>
        <p:blipFill>
          <a:blip r:embed="rId2"/>
          <a:stretch/>
        </p:blipFill>
        <p:spPr>
          <a:xfrm>
            <a:off x="4859280" y="3645000"/>
            <a:ext cx="3529080" cy="2633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5437080" y="285264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рвная клет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8" descr="glia"/>
          <p:cNvPicPr/>
          <p:nvPr/>
        </p:nvPicPr>
        <p:blipFill>
          <a:blip r:embed="rId1"/>
          <a:stretch/>
        </p:blipFill>
        <p:spPr>
          <a:xfrm>
            <a:off x="250920" y="1700280"/>
            <a:ext cx="6696000" cy="45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untitled"/>
          <p:cNvPicPr/>
          <p:nvPr/>
        </p:nvPicPr>
        <p:blipFill>
          <a:blip r:embed="rId2"/>
          <a:stretch/>
        </p:blipFill>
        <p:spPr>
          <a:xfrm>
            <a:off x="6286680" y="4638600"/>
            <a:ext cx="2857320" cy="221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093080" y="3068640"/>
            <a:ext cx="163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РЕДАЧ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РВНОГ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МПУЛЬС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444080" cy="24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стейшие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изшие многоклеточные организмы, живущие в водной сред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акция на биологически значимые свойства сре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т реакции на нейтраль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здражител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Элементарные форм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вижений, слабые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целенаправленны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Picture 4" descr="42154"/>
          <p:cNvPicPr/>
          <p:nvPr/>
        </p:nvPicPr>
        <p:blipFill>
          <a:blip r:embed="rId1"/>
          <a:stretch/>
        </p:blipFill>
        <p:spPr>
          <a:xfrm>
            <a:off x="5435640" y="342900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льчатые черви, брюх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еткие реакции на нейтральные раздражите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ая двигательная актив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ельных раздражителе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Жесткие врожденны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грам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4" descr="ani036"/>
          <p:cNvPicPr/>
          <p:nvPr/>
        </p:nvPicPr>
        <p:blipFill>
          <a:blip r:embed="rId1"/>
          <a:stretch/>
        </p:blipFill>
        <p:spPr>
          <a:xfrm>
            <a:off x="5580000" y="3284640"/>
            <a:ext cx="31766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ыбы, насекомые, голов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ложное разнообразное движ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тельных раздражителей, избегание негативны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еобладание генетически запрограммированных компонент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ое защитн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4" descr="ani054"/>
          <p:cNvPicPr/>
          <p:nvPr/>
        </p:nvPicPr>
        <p:blipFill>
          <a:blip r:embed="rId1"/>
          <a:stretch/>
        </p:blipFill>
        <p:spPr>
          <a:xfrm>
            <a:off x="4716360" y="4653000"/>
            <a:ext cx="37720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3640" y="228600"/>
            <a:ext cx="7201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ысшие позвоночные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тицы, некоторые млекопитающи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ысокоразвитые инстинктивные формы повед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пособность к научени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лементарные фор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i045"/>
          <p:cNvPicPr/>
          <p:nvPr/>
        </p:nvPicPr>
        <p:blipFill>
          <a:blip r:embed="rId1"/>
          <a:stretch/>
        </p:blipFill>
        <p:spPr>
          <a:xfrm>
            <a:off x="5364000" y="3573360"/>
            <a:ext cx="36529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1:12Z</dcterms:created>
  <dc:creator>Admin</dc:creator>
  <dc:description/>
  <dc:language>en-US</dc:language>
  <cp:lastModifiedBy>Коля</cp:lastModifiedBy>
  <dcterms:modified xsi:type="dcterms:W3CDTF">2013-03-24T10:57:14Z</dcterms:modified>
  <cp:revision>6</cp:revision>
  <dc:subject/>
  <dc:title>ПСИХИКА, СОЗНАНИЕ, БЕССОЗН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