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7.jpeg" ContentType="image/jpeg"/>
  <Override PartName="/ppt/media/image7.png" ContentType="image/pn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DC8-63B6-4788-B8DB-842FD9D5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472-A1EB-49D2-8AB8-D61133D3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AB2-6144-4F4B-BD14-81C0B06D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2A7-5931-42FD-9E85-8BD2BEF6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2CCD-2825-46E4-9274-0F43D933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6382-79AC-4CFA-8937-E267722E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4C6E-E951-4895-AAC9-CC1E5EFC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D2D5-D6A6-4355-9F5B-D06F7DB7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F86E-2BA6-44FE-A7CB-1D76A6AB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E93F-DECE-4F1C-967D-03613296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7D8C-F9D5-413D-8E7C-0FB56C93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A28-0288-4314-8EA2-3D5960D9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DFC7-9FB9-4217-88C9-F07DCD1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DB31-8DB7-4F2A-B47C-51192D8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815-D92C-426F-8D6A-E443D452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15F0-4521-47BC-B490-FC1E47AE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E81B-9F21-4C51-B564-543CCFE2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3C3-EBD5-446C-BDCB-B1D0EFEF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E86-3B3A-4291-A876-EB882D87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980-E387-4FC6-A667-EF98C2DF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A20-0FCD-40F9-B635-4D83A461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DF9-6CB0-4C56-A525-DDC52F5F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FAB-FEEA-4B9A-B685-2A78DEF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E96-683C-4FB4-8E55-CCFE671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422A-76EB-4CFD-8976-97E8542A65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AE04-EABF-4C95-B440-A125D66BB15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ИКА, СОЗНАНИЕ, 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1989000"/>
            <a:ext cx="79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ЗВИТИЕ ПСИХИКИ ЖИВЫХ СУЩЕСТ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ИСХОЖДЕНИЕ И РАЗВИТИЕ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ХОЛОГИЧЕСКИЕ ХАРАКТЕРИСТИКИ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ЕССОЗНАТЕЛЬНО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РИ КЛАССА НЕОСОЗНАВАЕМЫХ ПСИХИЧЕСКИХ ЯВЛЕ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езьяны и др. высшие позвоночные (собаки, дельфины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исследовательских форм поведения с использованием ранее приобретенных знания и умен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е (выделение причинно-следственных связе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4" descr="dog"/>
          <p:cNvPicPr/>
          <p:nvPr/>
        </p:nvPicPr>
        <p:blipFill>
          <a:blip r:embed="rId1"/>
          <a:stretch/>
        </p:blipFill>
        <p:spPr>
          <a:xfrm>
            <a:off x="5508720" y="4121280"/>
            <a:ext cx="327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28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альнейшее развитие психики идет за счет совершенствования высших психических функц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4799160" cy="29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ознание можно определить как единство высших психических функций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го возникновению и развитию способствовала совместная    орудийная деятельность людей опосредованная речь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4" descr="mis114"/>
          <p:cNvPicPr/>
          <p:nvPr/>
        </p:nvPicPr>
        <p:blipFill>
          <a:blip r:embed="rId1"/>
          <a:stretch/>
        </p:blipFill>
        <p:spPr>
          <a:xfrm>
            <a:off x="0" y="1916280"/>
            <a:ext cx="3141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рудия труд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Трудовая деятельность и общ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CAKUKNJ6"/>
          <p:cNvPicPr/>
          <p:nvPr/>
        </p:nvPicPr>
        <p:blipFill>
          <a:blip r:embed="rId1"/>
          <a:stretch/>
        </p:blipFill>
        <p:spPr>
          <a:xfrm>
            <a:off x="250920" y="19890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iCA8O4ZB6"/>
          <p:cNvPicPr/>
          <p:nvPr/>
        </p:nvPicPr>
        <p:blipFill>
          <a:blip r:embed="rId2"/>
          <a:stretch/>
        </p:blipFill>
        <p:spPr>
          <a:xfrm>
            <a:off x="324000" y="442440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CAMUYAL8"/>
          <p:cNvPicPr/>
          <p:nvPr/>
        </p:nvPicPr>
        <p:blipFill>
          <a:blip r:embed="rId3"/>
          <a:stretch/>
        </p:blipFill>
        <p:spPr>
          <a:xfrm>
            <a:off x="4140360" y="4076640"/>
            <a:ext cx="4392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204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амосознание – ощущение себя познающим субъекто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сленное представление существующей и воображаемой действительност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онтролировать свои поведенческие и психические состоя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аличие интеллектуальных сх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 коммуникации при помощи знаковых сист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6" descr="iCACIUWCC"/>
          <p:cNvPicPr/>
          <p:nvPr/>
        </p:nvPicPr>
        <p:blipFill>
          <a:blip r:embed="rId1"/>
          <a:stretch/>
        </p:blipFill>
        <p:spPr>
          <a:xfrm>
            <a:off x="7164360" y="3284640"/>
            <a:ext cx="168768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CA9A937K"/>
          <p:cNvPicPr/>
          <p:nvPr/>
        </p:nvPicPr>
        <p:blipFill>
          <a:blip r:embed="rId2"/>
          <a:stretch/>
        </p:blipFill>
        <p:spPr>
          <a:xfrm>
            <a:off x="250920" y="4437000"/>
            <a:ext cx="3240000" cy="194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Books2"/>
          <p:cNvPicPr/>
          <p:nvPr/>
        </p:nvPicPr>
        <p:blipFill>
          <a:blip r:embed="rId3"/>
          <a:stretch/>
        </p:blipFill>
        <p:spPr>
          <a:xfrm>
            <a:off x="3924360" y="4221000"/>
            <a:ext cx="287172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24560" y="1267920"/>
            <a:ext cx="434016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к – материальный объек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чение – то, на что указывает зна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мысл – индивидуальный оттенок значения, связанный с личным опыт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468000" y="2492280"/>
            <a:ext cx="1871640" cy="25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468360" y="5084640"/>
            <a:ext cx="3456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2340000" y="2420640"/>
            <a:ext cx="1511280" cy="2663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766520" y="1916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 rot="744000">
            <a:off x="182880" y="5229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ЧЕН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 rot="20637000">
            <a:off x="3350160" y="508464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МЫС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Язык формирует два пласта сознания – пласт значений и пласт смыслов, которые составляют коллективное и индивидуальное созна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3276720" y="3716280"/>
            <a:ext cx="5688000" cy="2881440"/>
          </a:xfrm>
          <a:prstGeom prst="flowChartAlternateProcess">
            <a:avLst/>
          </a:prstGeom>
          <a:solidFill>
            <a:srgbClr val="cc6600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276720" y="5157720"/>
            <a:ext cx="56880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3419640" y="5661000"/>
            <a:ext cx="536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ДИВИДУАЛЬ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3419640" y="4221000"/>
            <a:ext cx="53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ЛЕКТИВ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18" descr="arr024"/>
          <p:cNvPicPr/>
          <p:nvPr/>
        </p:nvPicPr>
        <p:blipFill>
          <a:blip r:embed="rId2"/>
          <a:stretch/>
        </p:blipFill>
        <p:spPr>
          <a:xfrm rot="19602600">
            <a:off x="1763640" y="3789000"/>
            <a:ext cx="132552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arr024"/>
          <p:cNvPicPr/>
          <p:nvPr/>
        </p:nvPicPr>
        <p:blipFill>
          <a:blip r:embed="rId3"/>
          <a:stretch/>
        </p:blipFill>
        <p:spPr>
          <a:xfrm rot="19602600">
            <a:off x="1763640" y="5013000"/>
            <a:ext cx="13255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 rot="19701600">
            <a:off x="-119880" y="39636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ЗНАЧЕНИ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2"/>
          <p:cNvSpPr/>
          <p:nvPr/>
        </p:nvSpPr>
        <p:spPr>
          <a:xfrm rot="19317600">
            <a:off x="46440" y="53557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МЫС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правление развития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щее направление развития сознания – расширение сферы осознаваемого в себе и мир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нутри этого общего направления выделяют три частных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-34920"/>
            <a:ext cx="7086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764640"/>
            <a:ext cx="7772400" cy="525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Рефлексивное  -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мещение фокуса рефлексии с окружающего мира на самое себ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сторическ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изменением форм коллективного созн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Понятийн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языком. Расширение языка и проникновение в суть вещей взаимосвяза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исхождение психи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де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и материя – два начала,    связанных, но несводимых друг к друг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атери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есть свойство высокоорганизованной материи, возникшее в результате эволю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687840" y="5899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24000" y="5734080"/>
            <a:ext cx="228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АТЕР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3635280" y="5661000"/>
            <a:ext cx="1666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ИЗ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372360" y="566100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СИХИ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771640" y="5734080"/>
            <a:ext cx="792360" cy="431640"/>
          </a:xfrm>
          <a:custGeom>
            <a:avLst/>
            <a:gdLst>
              <a:gd name="textAreaLeft" fmla="*/ 12384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5435640" y="5734080"/>
            <a:ext cx="863640" cy="431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Бессознательное наряду с сознанием представлено во всех психических процессах и состояниях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щуще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Эмоци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Picture 4" descr="bus045"/>
          <p:cNvPicPr/>
          <p:nvPr/>
        </p:nvPicPr>
        <p:blipFill>
          <a:blip r:embed="rId1"/>
          <a:stretch/>
        </p:blipFill>
        <p:spPr>
          <a:xfrm>
            <a:off x="6012000" y="3500280"/>
            <a:ext cx="2728800" cy="2179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bus046"/>
          <p:cNvPicPr/>
          <p:nvPr/>
        </p:nvPicPr>
        <p:blipFill>
          <a:blip r:embed="rId2"/>
          <a:stretch/>
        </p:blipFill>
        <p:spPr>
          <a:xfrm>
            <a:off x="4788000" y="4149720"/>
            <a:ext cx="2279520" cy="2473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mis113"/>
          <p:cNvPicPr/>
          <p:nvPr/>
        </p:nvPicPr>
        <p:blipFill>
          <a:blip r:embed="rId3"/>
          <a:stretch/>
        </p:blipFill>
        <p:spPr>
          <a:xfrm>
            <a:off x="2484360" y="5373720"/>
            <a:ext cx="30243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автоматизм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ые механизмы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ая установ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ое сопровождение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побудители сознательных действи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адсознательные процесс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 живых существ усложняется с развитием нервной систе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нервной системы связано с усложнением ее стро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324000" y="4437000"/>
            <a:ext cx="8569080" cy="1944720"/>
            <a:chOff x="324000" y="4437000"/>
            <a:chExt cx="8569080" cy="1944720"/>
          </a:xfrm>
        </p:grpSpPr>
        <p:sp>
          <p:nvSpPr>
            <p:cNvPr id="115" name="AutoShape 4"/>
            <p:cNvSpPr/>
            <p:nvPr/>
          </p:nvSpPr>
          <p:spPr>
            <a:xfrm>
              <a:off x="324000" y="4437000"/>
              <a:ext cx="36716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аздражимость,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амосохран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5219640" y="4437000"/>
              <a:ext cx="36734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Чувствительность,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Готовност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к научению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7" name="Picture 6" descr="arr030"/>
            <p:cNvPicPr/>
            <p:nvPr/>
          </p:nvPicPr>
          <p:blipFill>
            <a:blip r:embed="rId1"/>
            <a:stretch/>
          </p:blipFill>
          <p:spPr>
            <a:xfrm rot="5400000">
              <a:off x="4257720" y="4751280"/>
              <a:ext cx="628560" cy="11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9" descr="nervy"/>
          <p:cNvPicPr/>
          <p:nvPr/>
        </p:nvPicPr>
        <p:blipFill>
          <a:blip r:embed="rId1"/>
          <a:stretch/>
        </p:blipFill>
        <p:spPr>
          <a:xfrm>
            <a:off x="1403280" y="1844640"/>
            <a:ext cx="2565360" cy="4432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CAE4TDYG"/>
          <p:cNvPicPr/>
          <p:nvPr/>
        </p:nvPicPr>
        <p:blipFill>
          <a:blip r:embed="rId2"/>
          <a:stretch/>
        </p:blipFill>
        <p:spPr>
          <a:xfrm>
            <a:off x="4859280" y="3645000"/>
            <a:ext cx="3529080" cy="2633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5437080" y="285264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рвная клет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8" descr="glia"/>
          <p:cNvPicPr/>
          <p:nvPr/>
        </p:nvPicPr>
        <p:blipFill>
          <a:blip r:embed="rId1"/>
          <a:stretch/>
        </p:blipFill>
        <p:spPr>
          <a:xfrm>
            <a:off x="250920" y="1700280"/>
            <a:ext cx="6696000" cy="45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ntitled"/>
          <p:cNvPicPr/>
          <p:nvPr/>
        </p:nvPicPr>
        <p:blipFill>
          <a:blip r:embed="rId2"/>
          <a:stretch/>
        </p:blipFill>
        <p:spPr>
          <a:xfrm>
            <a:off x="6286680" y="4638600"/>
            <a:ext cx="2857320" cy="221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093080" y="3068640"/>
            <a:ext cx="163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РЕДАЧ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ВНОГ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МПУЛЬ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44408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стейшие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изшие многоклеточные организмы, живущие в водной сред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акция на биологически значимые свойства сре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т реакции на нейтра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дражител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Элементарные форм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вижений, слабые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целенаправленны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4" descr="42154"/>
          <p:cNvPicPr/>
          <p:nvPr/>
        </p:nvPicPr>
        <p:blipFill>
          <a:blip r:embed="rId1"/>
          <a:stretch/>
        </p:blipFill>
        <p:spPr>
          <a:xfrm>
            <a:off x="5435640" y="34290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льчатые черви, брюх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еткие реакции на нейтральные раздражите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ая двигательная актив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ельных раздражителе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Жесткие врожденны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грам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4" descr="ani036"/>
          <p:cNvPicPr/>
          <p:nvPr/>
        </p:nvPicPr>
        <p:blipFill>
          <a:blip r:embed="rId1"/>
          <a:stretch/>
        </p:blipFill>
        <p:spPr>
          <a:xfrm>
            <a:off x="5580000" y="3284640"/>
            <a:ext cx="31766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ыбы, насекомые, голов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ложное разнообразное движ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тельных раздражителей, избегание негативны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еобладание генетически запрограммированных компонент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ое защит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ani054"/>
          <p:cNvPicPr/>
          <p:nvPr/>
        </p:nvPicPr>
        <p:blipFill>
          <a:blip r:embed="rId1"/>
          <a:stretch/>
        </p:blipFill>
        <p:spPr>
          <a:xfrm>
            <a:off x="4716360" y="4653000"/>
            <a:ext cx="37720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28600"/>
            <a:ext cx="7201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ысшие позвоночны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тицы, некоторые млекопитающи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ысокоразвитые инстинктивные формы повед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особность к научени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лементарные фор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i045"/>
          <p:cNvPicPr/>
          <p:nvPr/>
        </p:nvPicPr>
        <p:blipFill>
          <a:blip r:embed="rId1"/>
          <a:stretch/>
        </p:blipFill>
        <p:spPr>
          <a:xfrm>
            <a:off x="5364000" y="3573360"/>
            <a:ext cx="3652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1:12Z</dcterms:created>
  <dc:creator>Admin</dc:creator>
  <dc:description/>
  <dc:language>en-US</dc:language>
  <cp:lastModifiedBy>Коля</cp:lastModifiedBy>
  <dcterms:modified xsi:type="dcterms:W3CDTF">2013-03-24T10:57:14Z</dcterms:modified>
  <cp:revision>6</cp:revision>
  <dc:subject/>
  <dc:title>ПСИХИКА, СОЗНАНИЕ, БЕССОЗН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