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F7B-B555-4B3D-A367-642037D2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872-96B0-48F4-BAFD-631FEF1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0EB-A682-464E-8F1B-B00C408E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C7B-3D5D-4A3E-8236-AC7150F1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0B7-9BD7-4B82-80FB-1F6B60D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64A-6857-43D3-AECB-A319272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E66-9341-41EA-BC4B-D827950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A5D-D28A-45DA-9A08-1D220CB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F92-4B12-484C-A4E8-EE0249A2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89E-6BD7-4A36-8CCC-D413D857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964-E862-4DBA-9471-A8E76AA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117-779D-4167-9AA1-C9351396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3080" y="61920"/>
          <a:ext cx="90169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61920"/>
                    <a:ext cx="9016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2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2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a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2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240" y="52560"/>
          <a:ext cx="8980560" cy="48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52560"/>
                    <a:ext cx="898056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549360"/>
            <a:ext cx="4319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59" name="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2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a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2a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2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84036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e7"/>
                </a:solidFill>
                <a:latin typeface="Arial"/>
              </a:rPr>
              <a:t>«Прямая пропорциональность»</a:t>
            </a:r>
            <a:endParaRPr b="1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8769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 математики в 7 класс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втор: Еремеева Марина Леонидо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математики МОУ «Гимназия№4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лабужского муниципального райо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Так как прямая пропорциональность является частным случаем линейной функции, то графиком является прямая. Для построения прямой нужно знать координаты двух точек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843280" y="1628640"/>
            <a:ext cx="3744720" cy="3984120"/>
            <a:chOff x="2843280" y="1628640"/>
            <a:chExt cx="3744720" cy="3984120"/>
          </a:xfrm>
        </p:grpSpPr>
        <p:grpSp>
          <p:nvGrpSpPr>
            <p:cNvPr id="148" name=""/>
            <p:cNvGrpSpPr/>
            <p:nvPr/>
          </p:nvGrpSpPr>
          <p:grpSpPr>
            <a:xfrm>
              <a:off x="2843280" y="1628640"/>
              <a:ext cx="3744720" cy="3984120"/>
              <a:chOff x="2843280" y="1628640"/>
              <a:chExt cx="3744720" cy="3984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843280" y="1628640"/>
                <a:ext cx="3597840" cy="3984120"/>
                <a:chOff x="2843280" y="1628640"/>
                <a:chExt cx="3597840" cy="39841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2843280" y="1628640"/>
                  <a:ext cx="3597480" cy="3984120"/>
                  <a:chOff x="2843280" y="1628640"/>
                  <a:chExt cx="3597480" cy="39841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405600" y="4154760"/>
                    <a:ext cx="1427040" cy="14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2a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2843280" y="1628640"/>
                    <a:ext cx="3597480" cy="919440"/>
                    <a:chOff x="2843280" y="1628640"/>
                    <a:chExt cx="3597480" cy="919440"/>
                  </a:xfrm>
                </p:grpSpPr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2843280" y="1628640"/>
                      <a:ext cx="3597480" cy="228600"/>
                      <a:chOff x="2843280" y="1628640"/>
                      <a:chExt cx="3597480" cy="228600"/>
                    </a:xfrm>
                  </p:grpSpPr>
                  <p:grpSp>
                    <p:nvGrpSpPr>
                      <p:cNvPr id="154" name=""/>
                      <p:cNvGrpSpPr/>
                      <p:nvPr/>
                    </p:nvGrpSpPr>
                    <p:grpSpPr>
                      <a:xfrm>
                        <a:off x="2843280" y="1628640"/>
                        <a:ext cx="1799640" cy="228600"/>
                        <a:chOff x="2843280" y="1628640"/>
                        <a:chExt cx="1799640" cy="228600"/>
                      </a:xfrm>
                    </p:grpSpPr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2843280" y="1628640"/>
                          <a:ext cx="900000" cy="228600"/>
                          <a:chOff x="2843280" y="1628640"/>
                          <a:chExt cx="900000" cy="228600"/>
                        </a:xfrm>
                      </p:grpSpPr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2843280" y="1628640"/>
                            <a:ext cx="449280" cy="228600"/>
                            <a:chOff x="2843280" y="1628640"/>
                            <a:chExt cx="449280" cy="22860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284328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30679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" name=""/>
                          <p:cNvGrpSpPr/>
                          <p:nvPr/>
                        </p:nvGrpSpPr>
                        <p:grpSpPr>
                          <a:xfrm>
                            <a:off x="3293280" y="1628640"/>
                            <a:ext cx="450000" cy="228600"/>
                            <a:chOff x="3293280" y="1628640"/>
                            <a:chExt cx="450000" cy="228600"/>
                          </a:xfrm>
                        </p:grpSpPr>
                        <p:sp>
                          <p:nvSpPr>
                            <p:cNvPr id="160" name=""/>
                            <p:cNvSpPr/>
                            <p:nvPr/>
                          </p:nvSpPr>
                          <p:spPr>
                            <a:xfrm>
                              <a:off x="3293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>
                              <a:off x="35182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3741840" y="1628640"/>
                          <a:ext cx="901080" cy="228600"/>
                          <a:chOff x="3741840" y="1628640"/>
                          <a:chExt cx="901080" cy="228600"/>
                        </a:xfrm>
                      </p:grpSpPr>
                      <p:grpSp>
                        <p:nvGrpSpPr>
                          <p:cNvPr id="163" name=""/>
                          <p:cNvGrpSpPr/>
                          <p:nvPr/>
                        </p:nvGrpSpPr>
                        <p:grpSpPr>
                          <a:xfrm>
                            <a:off x="3741840" y="1628640"/>
                            <a:ext cx="450000" cy="228600"/>
                            <a:chOff x="3741840" y="1628640"/>
                            <a:chExt cx="450000" cy="228600"/>
                          </a:xfrm>
                        </p:grpSpPr>
                        <p:sp>
                          <p:nvSpPr>
                            <p:cNvPr id="164" name=""/>
                            <p:cNvSpPr/>
                            <p:nvPr/>
                          </p:nvSpPr>
                          <p:spPr>
                            <a:xfrm>
                              <a:off x="3741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" name=""/>
                            <p:cNvSpPr/>
                            <p:nvPr/>
                          </p:nvSpPr>
                          <p:spPr>
                            <a:xfrm>
                              <a:off x="396684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4192200" y="1628640"/>
                            <a:ext cx="450720" cy="228600"/>
                            <a:chOff x="4192200" y="1628640"/>
                            <a:chExt cx="450720" cy="22860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>
                              <a:off x="41922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>
                              <a:off x="441756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4641120" y="1628640"/>
                        <a:ext cx="1799640" cy="228600"/>
                        <a:chOff x="4641120" y="1628640"/>
                        <a:chExt cx="1799640" cy="228600"/>
                      </a:xfrm>
                    </p:grpSpPr>
                    <p:grpSp>
                      <p:nvGrpSpPr>
                        <p:cNvPr id="170" name=""/>
                        <p:cNvGrpSpPr/>
                        <p:nvPr/>
                      </p:nvGrpSpPr>
                      <p:grpSpPr>
                        <a:xfrm>
                          <a:off x="4641120" y="1628640"/>
                          <a:ext cx="900000" cy="228600"/>
                          <a:chOff x="4641120" y="1628640"/>
                          <a:chExt cx="900000" cy="228600"/>
                        </a:xfrm>
                      </p:grpSpPr>
                      <p:grpSp>
                        <p:nvGrpSpPr>
                          <p:cNvPr id="171" name=""/>
                          <p:cNvGrpSpPr/>
                          <p:nvPr/>
                        </p:nvGrpSpPr>
                        <p:grpSpPr>
                          <a:xfrm>
                            <a:off x="4641120" y="1628640"/>
                            <a:ext cx="449280" cy="228600"/>
                            <a:chOff x="4641120" y="1628640"/>
                            <a:chExt cx="449280" cy="228600"/>
                          </a:xfrm>
                        </p:grpSpPr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464112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" name=""/>
                            <p:cNvSpPr/>
                            <p:nvPr/>
                          </p:nvSpPr>
                          <p:spPr>
                            <a:xfrm>
                              <a:off x="4865760" y="1628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" name=""/>
                          <p:cNvGrpSpPr/>
                          <p:nvPr/>
                        </p:nvGrpSpPr>
                        <p:grpSpPr>
                          <a:xfrm>
                            <a:off x="5091120" y="1628640"/>
                            <a:ext cx="450000" cy="228600"/>
                            <a:chOff x="5091120" y="1628640"/>
                            <a:chExt cx="450000" cy="228600"/>
                          </a:xfrm>
                        </p:grpSpPr>
                        <p:sp>
                          <p:nvSpPr>
                            <p:cNvPr id="175" name=""/>
                            <p:cNvSpPr/>
                            <p:nvPr/>
                          </p:nvSpPr>
                          <p:spPr>
                            <a:xfrm>
                              <a:off x="5091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" name=""/>
                            <p:cNvSpPr/>
                            <p:nvPr/>
                          </p:nvSpPr>
                          <p:spPr>
                            <a:xfrm>
                              <a:off x="531612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7" name=""/>
                        <p:cNvGrpSpPr/>
                        <p:nvPr/>
                      </p:nvGrpSpPr>
                      <p:grpSpPr>
                        <a:xfrm>
                          <a:off x="5539680" y="1628640"/>
                          <a:ext cx="901080" cy="228600"/>
                          <a:chOff x="5539680" y="1628640"/>
                          <a:chExt cx="901080" cy="228600"/>
                        </a:xfrm>
                      </p:grpSpPr>
                      <p:grpSp>
                        <p:nvGrpSpPr>
                          <p:cNvPr id="178" name=""/>
                          <p:cNvGrpSpPr/>
                          <p:nvPr/>
                        </p:nvGrpSpPr>
                        <p:grpSpPr>
                          <a:xfrm>
                            <a:off x="5539680" y="1628640"/>
                            <a:ext cx="450000" cy="228600"/>
                            <a:chOff x="5539680" y="1628640"/>
                            <a:chExt cx="450000" cy="228600"/>
                          </a:xfrm>
                        </p:grpSpPr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>
                              <a:off x="5539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5764680" y="1628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" name=""/>
                          <p:cNvGrpSpPr/>
                          <p:nvPr/>
                        </p:nvGrpSpPr>
                        <p:grpSpPr>
                          <a:xfrm>
                            <a:off x="5990040" y="1628640"/>
                            <a:ext cx="450720" cy="228600"/>
                            <a:chOff x="5990040" y="1628640"/>
                            <a:chExt cx="450720" cy="228600"/>
                          </a:xfrm>
                        </p:grpSpPr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99004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6215400" y="1628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843280" y="2089440"/>
                      <a:ext cx="3597480" cy="228600"/>
                      <a:chOff x="2843280" y="2089440"/>
                      <a:chExt cx="3597480" cy="228600"/>
                    </a:xfrm>
                  </p:grpSpPr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2843280" y="2089440"/>
                        <a:ext cx="1799640" cy="228600"/>
                        <a:chOff x="2843280" y="2089440"/>
                        <a:chExt cx="1799640" cy="228600"/>
                      </a:xfrm>
                    </p:grpSpPr>
                    <p:grpSp>
                      <p:nvGrpSpPr>
                        <p:cNvPr id="186" name=""/>
                        <p:cNvGrpSpPr/>
                        <p:nvPr/>
                      </p:nvGrpSpPr>
                      <p:grpSpPr>
                        <a:xfrm>
                          <a:off x="2843280" y="2089440"/>
                          <a:ext cx="900000" cy="228600"/>
                          <a:chOff x="2843280" y="2089440"/>
                          <a:chExt cx="900000" cy="228600"/>
                        </a:xfrm>
                      </p:grpSpPr>
                      <p:grpSp>
                        <p:nvGrpSpPr>
                          <p:cNvPr id="187" name=""/>
                          <p:cNvGrpSpPr/>
                          <p:nvPr/>
                        </p:nvGrpSpPr>
                        <p:grpSpPr>
                          <a:xfrm>
                            <a:off x="2843280" y="2089440"/>
                            <a:ext cx="449280" cy="228600"/>
                            <a:chOff x="2843280" y="2089440"/>
                            <a:chExt cx="449280" cy="228600"/>
                          </a:xfrm>
                        </p:grpSpPr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284328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30679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" name=""/>
                          <p:cNvGrpSpPr/>
                          <p:nvPr/>
                        </p:nvGrpSpPr>
                        <p:grpSpPr>
                          <a:xfrm>
                            <a:off x="3293280" y="2089440"/>
                            <a:ext cx="450000" cy="228600"/>
                            <a:chOff x="3293280" y="2089440"/>
                            <a:chExt cx="450000" cy="228600"/>
                          </a:xfrm>
                        </p:grpSpPr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3293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35182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3" name=""/>
                        <p:cNvGrpSpPr/>
                        <p:nvPr/>
                      </p:nvGrpSpPr>
                      <p:grpSpPr>
                        <a:xfrm>
                          <a:off x="3741840" y="2089440"/>
                          <a:ext cx="901080" cy="228600"/>
                          <a:chOff x="3741840" y="2089440"/>
                          <a:chExt cx="901080" cy="228600"/>
                        </a:xfrm>
                      </p:grpSpPr>
                      <p:grpSp>
                        <p:nvGrpSpPr>
                          <p:cNvPr id="194" name=""/>
                          <p:cNvGrpSpPr/>
                          <p:nvPr/>
                        </p:nvGrpSpPr>
                        <p:grpSpPr>
                          <a:xfrm>
                            <a:off x="3741840" y="2089440"/>
                            <a:ext cx="450000" cy="228600"/>
                            <a:chOff x="3741840" y="2089440"/>
                            <a:chExt cx="450000" cy="228600"/>
                          </a:xfrm>
                        </p:grpSpPr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3741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396684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" name=""/>
                          <p:cNvGrpSpPr/>
                          <p:nvPr/>
                        </p:nvGrpSpPr>
                        <p:grpSpPr>
                          <a:xfrm>
                            <a:off x="4192200" y="2089440"/>
                            <a:ext cx="450720" cy="228600"/>
                            <a:chOff x="4192200" y="2089440"/>
                            <a:chExt cx="450720" cy="228600"/>
                          </a:xfrm>
                        </p:grpSpPr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1922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441756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0" name=""/>
                      <p:cNvGrpSpPr/>
                      <p:nvPr/>
                    </p:nvGrpSpPr>
                    <p:grpSpPr>
                      <a:xfrm>
                        <a:off x="4641120" y="2089440"/>
                        <a:ext cx="1799640" cy="228600"/>
                        <a:chOff x="4641120" y="2089440"/>
                        <a:chExt cx="1799640" cy="228600"/>
                      </a:xfrm>
                    </p:grpSpPr>
                    <p:grpSp>
                      <p:nvGrpSpPr>
                        <p:cNvPr id="201" name=""/>
                        <p:cNvGrpSpPr/>
                        <p:nvPr/>
                      </p:nvGrpSpPr>
                      <p:grpSpPr>
                        <a:xfrm>
                          <a:off x="4641120" y="2089440"/>
                          <a:ext cx="900000" cy="228600"/>
                          <a:chOff x="4641120" y="2089440"/>
                          <a:chExt cx="900000" cy="228600"/>
                        </a:xfrm>
                      </p:grpSpPr>
                      <p:grpSp>
                        <p:nvGrpSpPr>
                          <p:cNvPr id="202" name=""/>
                          <p:cNvGrpSpPr/>
                          <p:nvPr/>
                        </p:nvGrpSpPr>
                        <p:grpSpPr>
                          <a:xfrm>
                            <a:off x="4641120" y="2089440"/>
                            <a:ext cx="449280" cy="228600"/>
                            <a:chOff x="4641120" y="2089440"/>
                            <a:chExt cx="449280" cy="228600"/>
                          </a:xfrm>
                        </p:grpSpPr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464112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4865760" y="20894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" name=""/>
                          <p:cNvGrpSpPr/>
                          <p:nvPr/>
                        </p:nvGrpSpPr>
                        <p:grpSpPr>
                          <a:xfrm>
                            <a:off x="5091120" y="2089440"/>
                            <a:ext cx="450000" cy="228600"/>
                            <a:chOff x="5091120" y="2089440"/>
                            <a:chExt cx="450000" cy="228600"/>
                          </a:xfrm>
                        </p:grpSpPr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5091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531612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8" name=""/>
                        <p:cNvGrpSpPr/>
                        <p:nvPr/>
                      </p:nvGrpSpPr>
                      <p:grpSpPr>
                        <a:xfrm>
                          <a:off x="5539680" y="2089440"/>
                          <a:ext cx="901080" cy="228600"/>
                          <a:chOff x="5539680" y="2089440"/>
                          <a:chExt cx="901080" cy="228600"/>
                        </a:xfrm>
                      </p:grpSpPr>
                      <p:grpSp>
                        <p:nvGrpSpPr>
                          <p:cNvPr id="209" name=""/>
                          <p:cNvGrpSpPr/>
                          <p:nvPr/>
                        </p:nvGrpSpPr>
                        <p:grpSpPr>
                          <a:xfrm>
                            <a:off x="5539680" y="2089440"/>
                            <a:ext cx="450000" cy="228600"/>
                            <a:chOff x="5539680" y="2089440"/>
                            <a:chExt cx="450000" cy="228600"/>
                          </a:xfrm>
                        </p:grpSpPr>
                        <p:sp>
                          <p:nvSpPr>
                            <p:cNvPr id="210" name=""/>
                            <p:cNvSpPr/>
                            <p:nvPr/>
                          </p:nvSpPr>
                          <p:spPr>
                            <a:xfrm>
                              <a:off x="5539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" name=""/>
                            <p:cNvSpPr/>
                            <p:nvPr/>
                          </p:nvSpPr>
                          <p:spPr>
                            <a:xfrm>
                              <a:off x="5764680" y="20894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2" name=""/>
                          <p:cNvGrpSpPr/>
                          <p:nvPr/>
                        </p:nvGrpSpPr>
                        <p:grpSpPr>
                          <a:xfrm>
                            <a:off x="5990040" y="2089440"/>
                            <a:ext cx="450720" cy="228600"/>
                            <a:chOff x="5990040" y="2089440"/>
                            <a:chExt cx="450720" cy="228600"/>
                          </a:xfrm>
                        </p:grpSpPr>
                        <p:sp>
                          <p:nvSpPr>
                            <p:cNvPr id="213" name=""/>
                            <p:cNvSpPr/>
                            <p:nvPr/>
                          </p:nvSpPr>
                          <p:spPr>
                            <a:xfrm>
                              <a:off x="599004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>
                              <a:off x="6215400" y="20894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2843280" y="1858680"/>
                      <a:ext cx="3597480" cy="228960"/>
                      <a:chOff x="2843280" y="1858680"/>
                      <a:chExt cx="3597480" cy="228960"/>
                    </a:xfrm>
                  </p:grpSpPr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2843280" y="1858680"/>
                        <a:ext cx="1799640" cy="228960"/>
                        <a:chOff x="2843280" y="1858680"/>
                        <a:chExt cx="1799640" cy="228960"/>
                      </a:xfrm>
                    </p:grpSpPr>
                    <p:grpSp>
                      <p:nvGrpSpPr>
                        <p:cNvPr id="217" name=""/>
                        <p:cNvGrpSpPr/>
                        <p:nvPr/>
                      </p:nvGrpSpPr>
                      <p:grpSpPr>
                        <a:xfrm>
                          <a:off x="2843280" y="1858680"/>
                          <a:ext cx="900000" cy="228960"/>
                          <a:chOff x="2843280" y="1858680"/>
                          <a:chExt cx="900000" cy="228960"/>
                        </a:xfrm>
                      </p:grpSpPr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2843280" y="1858680"/>
                            <a:ext cx="449280" cy="228960"/>
                            <a:chOff x="2843280" y="1858680"/>
                            <a:chExt cx="449280" cy="228960"/>
                          </a:xfrm>
                        </p:grpSpPr>
                        <p:sp>
                          <p:nvSpPr>
                            <p:cNvPr id="219" name=""/>
                            <p:cNvSpPr/>
                            <p:nvPr/>
                          </p:nvSpPr>
                          <p:spPr>
                            <a:xfrm>
                              <a:off x="284328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30679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" name=""/>
                          <p:cNvGrpSpPr/>
                          <p:nvPr/>
                        </p:nvGrpSpPr>
                        <p:grpSpPr>
                          <a:xfrm>
                            <a:off x="3293280" y="1858680"/>
                            <a:ext cx="450000" cy="228960"/>
                            <a:chOff x="3293280" y="1858680"/>
                            <a:chExt cx="450000" cy="228960"/>
                          </a:xfrm>
                        </p:grpSpPr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3293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" name=""/>
                            <p:cNvSpPr/>
                            <p:nvPr/>
                          </p:nvSpPr>
                          <p:spPr>
                            <a:xfrm>
                              <a:off x="35182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4" name=""/>
                        <p:cNvGrpSpPr/>
                        <p:nvPr/>
                      </p:nvGrpSpPr>
                      <p:grpSpPr>
                        <a:xfrm>
                          <a:off x="3741840" y="1858680"/>
                          <a:ext cx="901080" cy="228960"/>
                          <a:chOff x="3741840" y="1858680"/>
                          <a:chExt cx="901080" cy="228960"/>
                        </a:xfrm>
                      </p:grpSpPr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3741840" y="1858680"/>
                            <a:ext cx="450000" cy="228960"/>
                            <a:chOff x="3741840" y="1858680"/>
                            <a:chExt cx="450000" cy="228960"/>
                          </a:xfrm>
                        </p:grpSpPr>
                        <p:sp>
                          <p:nvSpPr>
                            <p:cNvPr id="226" name=""/>
                            <p:cNvSpPr/>
                            <p:nvPr/>
                          </p:nvSpPr>
                          <p:spPr>
                            <a:xfrm>
                              <a:off x="3741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396684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" name=""/>
                          <p:cNvGrpSpPr/>
                          <p:nvPr/>
                        </p:nvGrpSpPr>
                        <p:grpSpPr>
                          <a:xfrm>
                            <a:off x="4192200" y="1858680"/>
                            <a:ext cx="450720" cy="228960"/>
                            <a:chOff x="4192200" y="1858680"/>
                            <a:chExt cx="450720" cy="228960"/>
                          </a:xfrm>
                        </p:grpSpPr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41922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41756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4641120" y="1858680"/>
                        <a:ext cx="1799640" cy="228960"/>
                        <a:chOff x="4641120" y="1858680"/>
                        <a:chExt cx="1799640" cy="22896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4641120" y="1858680"/>
                          <a:ext cx="900000" cy="228960"/>
                          <a:chOff x="4641120" y="1858680"/>
                          <a:chExt cx="900000" cy="22896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4641120" y="1858680"/>
                            <a:ext cx="449280" cy="228960"/>
                            <a:chOff x="4641120" y="1858680"/>
                            <a:chExt cx="449280" cy="22896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464112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>
                              <a:off x="4865760" y="185868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" name=""/>
                          <p:cNvGrpSpPr/>
                          <p:nvPr/>
                        </p:nvGrpSpPr>
                        <p:grpSpPr>
                          <a:xfrm>
                            <a:off x="5091120" y="1858680"/>
                            <a:ext cx="450000" cy="228960"/>
                            <a:chOff x="5091120" y="1858680"/>
                            <a:chExt cx="450000" cy="228960"/>
                          </a:xfrm>
                        </p:grpSpPr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5091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531612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9" name=""/>
                        <p:cNvGrpSpPr/>
                        <p:nvPr/>
                      </p:nvGrpSpPr>
                      <p:grpSpPr>
                        <a:xfrm>
                          <a:off x="5539680" y="1858680"/>
                          <a:ext cx="901080" cy="228960"/>
                          <a:chOff x="5539680" y="1858680"/>
                          <a:chExt cx="901080" cy="228960"/>
                        </a:xfrm>
                      </p:grpSpPr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5539680" y="1858680"/>
                            <a:ext cx="450000" cy="228960"/>
                            <a:chOff x="5539680" y="1858680"/>
                            <a:chExt cx="450000" cy="228960"/>
                          </a:xfrm>
                        </p:grpSpPr>
                        <p:sp>
                          <p:nvSpPr>
                            <p:cNvPr id="241" name=""/>
                            <p:cNvSpPr/>
                            <p:nvPr/>
                          </p:nvSpPr>
                          <p:spPr>
                            <a:xfrm>
                              <a:off x="5539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"/>
                            <p:cNvSpPr/>
                            <p:nvPr/>
                          </p:nvSpPr>
                          <p:spPr>
                            <a:xfrm>
                              <a:off x="5764680" y="185868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3" name=""/>
                          <p:cNvGrpSpPr/>
                          <p:nvPr/>
                        </p:nvGrpSpPr>
                        <p:grpSpPr>
                          <a:xfrm>
                            <a:off x="5990040" y="1858680"/>
                            <a:ext cx="450720" cy="228960"/>
                            <a:chOff x="5990040" y="1858680"/>
                            <a:chExt cx="450720" cy="228960"/>
                          </a:xfrm>
                        </p:grpSpPr>
                        <p:sp>
                          <p:nvSpPr>
                            <p:cNvPr id="244" name=""/>
                            <p:cNvSpPr/>
                            <p:nvPr/>
                          </p:nvSpPr>
                          <p:spPr>
                            <a:xfrm>
                              <a:off x="599004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6215400" y="185868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2843280" y="2319480"/>
                      <a:ext cx="3597480" cy="228600"/>
                      <a:chOff x="2843280" y="2319480"/>
                      <a:chExt cx="3597480" cy="228600"/>
                    </a:xfrm>
                  </p:grpSpPr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2843280" y="2319480"/>
                        <a:ext cx="1799640" cy="228600"/>
                        <a:chOff x="2843280" y="2319480"/>
                        <a:chExt cx="1799640" cy="228600"/>
                      </a:xfrm>
                    </p:grpSpPr>
                    <p:grpSp>
                      <p:nvGrpSpPr>
                        <p:cNvPr id="248" name=""/>
                        <p:cNvGrpSpPr/>
                        <p:nvPr/>
                      </p:nvGrpSpPr>
                      <p:grpSpPr>
                        <a:xfrm>
                          <a:off x="2843280" y="2319480"/>
                          <a:ext cx="900000" cy="228600"/>
                          <a:chOff x="2843280" y="2319480"/>
                          <a:chExt cx="900000" cy="228600"/>
                        </a:xfrm>
                      </p:grpSpPr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2843280" y="2319480"/>
                            <a:ext cx="449280" cy="228600"/>
                            <a:chOff x="2843280" y="2319480"/>
                            <a:chExt cx="449280" cy="228600"/>
                          </a:xfrm>
                        </p:grpSpPr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284328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30679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" name=""/>
                          <p:cNvGrpSpPr/>
                          <p:nvPr/>
                        </p:nvGrpSpPr>
                        <p:grpSpPr>
                          <a:xfrm>
                            <a:off x="3293280" y="2319480"/>
                            <a:ext cx="450000" cy="228600"/>
                            <a:chOff x="3293280" y="2319480"/>
                            <a:chExt cx="450000" cy="228600"/>
                          </a:xfrm>
                        </p:grpSpPr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3293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5182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5" name=""/>
                        <p:cNvGrpSpPr/>
                        <p:nvPr/>
                      </p:nvGrpSpPr>
                      <p:grpSpPr>
                        <a:xfrm>
                          <a:off x="3741840" y="2319480"/>
                          <a:ext cx="901080" cy="228600"/>
                          <a:chOff x="3741840" y="2319480"/>
                          <a:chExt cx="901080" cy="228600"/>
                        </a:xfrm>
                      </p:grpSpPr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3741840" y="2319480"/>
                            <a:ext cx="450000" cy="228600"/>
                            <a:chOff x="3741840" y="2319480"/>
                            <a:chExt cx="450000" cy="228600"/>
                          </a:xfrm>
                        </p:grpSpPr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>
                              <a:off x="3741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>
                              <a:off x="396684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4192200" y="2319480"/>
                            <a:ext cx="450720" cy="228600"/>
                            <a:chOff x="4192200" y="2319480"/>
                            <a:chExt cx="450720" cy="22860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41922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441756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4641120" y="2319480"/>
                        <a:ext cx="1799640" cy="228600"/>
                        <a:chOff x="4641120" y="2319480"/>
                        <a:chExt cx="1799640" cy="22860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4641120" y="2319480"/>
                          <a:ext cx="900000" cy="228600"/>
                          <a:chOff x="4641120" y="2319480"/>
                          <a:chExt cx="900000" cy="22860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4641120" y="2319480"/>
                            <a:ext cx="449280" cy="228600"/>
                            <a:chOff x="4641120" y="2319480"/>
                            <a:chExt cx="449280" cy="22860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464112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>
                              <a:off x="4865760" y="231948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7" name=""/>
                          <p:cNvGrpSpPr/>
                          <p:nvPr/>
                        </p:nvGrpSpPr>
                        <p:grpSpPr>
                          <a:xfrm>
                            <a:off x="5091120" y="2319480"/>
                            <a:ext cx="450000" cy="228600"/>
                            <a:chOff x="5091120" y="2319480"/>
                            <a:chExt cx="450000" cy="228600"/>
                          </a:xfrm>
                        </p:grpSpPr>
                        <p:sp>
                          <p:nvSpPr>
                            <p:cNvPr id="268" name=""/>
                            <p:cNvSpPr/>
                            <p:nvPr/>
                          </p:nvSpPr>
                          <p:spPr>
                            <a:xfrm>
                              <a:off x="5091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>
                              <a:off x="531612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0" name=""/>
                        <p:cNvGrpSpPr/>
                        <p:nvPr/>
                      </p:nvGrpSpPr>
                      <p:grpSpPr>
                        <a:xfrm>
                          <a:off x="5539680" y="2319480"/>
                          <a:ext cx="901080" cy="228600"/>
                          <a:chOff x="5539680" y="2319480"/>
                          <a:chExt cx="901080" cy="228600"/>
                        </a:xfrm>
                      </p:grpSpPr>
                      <p:grpSp>
                        <p:nvGrpSpPr>
                          <p:cNvPr id="271" name=""/>
                          <p:cNvGrpSpPr/>
                          <p:nvPr/>
                        </p:nvGrpSpPr>
                        <p:grpSpPr>
                          <a:xfrm>
                            <a:off x="5539680" y="2319480"/>
                            <a:ext cx="450000" cy="228600"/>
                            <a:chOff x="5539680" y="2319480"/>
                            <a:chExt cx="450000" cy="228600"/>
                          </a:xfrm>
                        </p:grpSpPr>
                        <p:sp>
                          <p:nvSpPr>
                            <p:cNvPr id="272" name=""/>
                            <p:cNvSpPr/>
                            <p:nvPr/>
                          </p:nvSpPr>
                          <p:spPr>
                            <a:xfrm>
                              <a:off x="5539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/>
                            <p:nvPr/>
                          </p:nvSpPr>
                          <p:spPr>
                            <a:xfrm>
                              <a:off x="5764680" y="231948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4" name=""/>
                          <p:cNvGrpSpPr/>
                          <p:nvPr/>
                        </p:nvGrpSpPr>
                        <p:grpSpPr>
                          <a:xfrm>
                            <a:off x="5990040" y="2319480"/>
                            <a:ext cx="450720" cy="228600"/>
                            <a:chOff x="5990040" y="2319480"/>
                            <a:chExt cx="450720" cy="228600"/>
                          </a:xfrm>
                        </p:grpSpPr>
                        <p:sp>
                          <p:nvSpPr>
                            <p:cNvPr id="275" name=""/>
                            <p:cNvSpPr/>
                            <p:nvPr/>
                          </p:nvSpPr>
                          <p:spPr>
                            <a:xfrm>
                              <a:off x="599004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6" name=""/>
                            <p:cNvSpPr/>
                            <p:nvPr/>
                          </p:nvSpPr>
                          <p:spPr>
                            <a:xfrm>
                              <a:off x="6215400" y="231948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2843280" y="2547360"/>
                    <a:ext cx="3597480" cy="919440"/>
                    <a:chOff x="2843280" y="2547360"/>
                    <a:chExt cx="3597480" cy="919440"/>
                  </a:xfrm>
                </p:grpSpPr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2843280" y="2547360"/>
                      <a:ext cx="3597480" cy="228600"/>
                      <a:chOff x="2843280" y="2547360"/>
                      <a:chExt cx="3597480" cy="228600"/>
                    </a:xfrm>
                  </p:grpSpPr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2843280" y="2547360"/>
                        <a:ext cx="1799640" cy="228600"/>
                        <a:chOff x="2843280" y="2547360"/>
                        <a:chExt cx="1799640" cy="22860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2843280" y="2547360"/>
                          <a:ext cx="900000" cy="228600"/>
                          <a:chOff x="2843280" y="2547360"/>
                          <a:chExt cx="900000" cy="228600"/>
                        </a:xfrm>
                      </p:grpSpPr>
                      <p:grpSp>
                        <p:nvGrpSpPr>
                          <p:cNvPr id="281" name=""/>
                          <p:cNvGrpSpPr/>
                          <p:nvPr/>
                        </p:nvGrpSpPr>
                        <p:grpSpPr>
                          <a:xfrm>
                            <a:off x="2843280" y="2547360"/>
                            <a:ext cx="449280" cy="228600"/>
                            <a:chOff x="2843280" y="2547360"/>
                            <a:chExt cx="449280" cy="228600"/>
                          </a:xfrm>
                        </p:grpSpPr>
                        <p:sp>
                          <p:nvSpPr>
                            <p:cNvPr id="282" name=""/>
                            <p:cNvSpPr/>
                            <p:nvPr/>
                          </p:nvSpPr>
                          <p:spPr>
                            <a:xfrm>
                              <a:off x="284328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3" name=""/>
                            <p:cNvSpPr/>
                            <p:nvPr/>
                          </p:nvSpPr>
                          <p:spPr>
                            <a:xfrm>
                              <a:off x="30679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4" name=""/>
                          <p:cNvGrpSpPr/>
                          <p:nvPr/>
                        </p:nvGrpSpPr>
                        <p:grpSpPr>
                          <a:xfrm>
                            <a:off x="3293280" y="2547360"/>
                            <a:ext cx="450000" cy="228600"/>
                            <a:chOff x="3293280" y="2547360"/>
                            <a:chExt cx="450000" cy="228600"/>
                          </a:xfrm>
                        </p:grpSpPr>
                        <p:sp>
                          <p:nvSpPr>
                            <p:cNvPr id="285" name=""/>
                            <p:cNvSpPr/>
                            <p:nvPr/>
                          </p:nvSpPr>
                          <p:spPr>
                            <a:xfrm>
                              <a:off x="3293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35182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741840" y="2547360"/>
                          <a:ext cx="901080" cy="228600"/>
                          <a:chOff x="3741840" y="2547360"/>
                          <a:chExt cx="901080" cy="22860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741840" y="2547360"/>
                            <a:ext cx="450000" cy="228600"/>
                            <a:chOff x="3741840" y="2547360"/>
                            <a:chExt cx="450000" cy="228600"/>
                          </a:xfrm>
                        </p:grpSpPr>
                        <p:sp>
                          <p:nvSpPr>
                            <p:cNvPr id="289" name=""/>
                            <p:cNvSpPr/>
                            <p:nvPr/>
                          </p:nvSpPr>
                          <p:spPr>
                            <a:xfrm>
                              <a:off x="3741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0" name=""/>
                            <p:cNvSpPr/>
                            <p:nvPr/>
                          </p:nvSpPr>
                          <p:spPr>
                            <a:xfrm>
                              <a:off x="396684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1" name=""/>
                          <p:cNvGrpSpPr/>
                          <p:nvPr/>
                        </p:nvGrpSpPr>
                        <p:grpSpPr>
                          <a:xfrm>
                            <a:off x="4192200" y="2547360"/>
                            <a:ext cx="450720" cy="228600"/>
                            <a:chOff x="4192200" y="2547360"/>
                            <a:chExt cx="450720" cy="228600"/>
                          </a:xfrm>
                        </p:grpSpPr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>
                              <a:off x="41922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441756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4641120" y="2547360"/>
                        <a:ext cx="1799640" cy="228600"/>
                        <a:chOff x="4641120" y="2547360"/>
                        <a:chExt cx="1799640" cy="228600"/>
                      </a:xfrm>
                    </p:grpSpPr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4641120" y="2547360"/>
                          <a:ext cx="900000" cy="228600"/>
                          <a:chOff x="4641120" y="2547360"/>
                          <a:chExt cx="900000" cy="228600"/>
                        </a:xfrm>
                      </p:grpSpPr>
                      <p:grpSp>
                        <p:nvGrpSpPr>
                          <p:cNvPr id="296" name=""/>
                          <p:cNvGrpSpPr/>
                          <p:nvPr/>
                        </p:nvGrpSpPr>
                        <p:grpSpPr>
                          <a:xfrm>
                            <a:off x="4641120" y="2547360"/>
                            <a:ext cx="449280" cy="228600"/>
                            <a:chOff x="4641120" y="2547360"/>
                            <a:chExt cx="449280" cy="228600"/>
                          </a:xfrm>
                        </p:grpSpPr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464112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4865760" y="25473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5091120" y="2547360"/>
                            <a:ext cx="450000" cy="228600"/>
                            <a:chOff x="5091120" y="2547360"/>
                            <a:chExt cx="450000" cy="228600"/>
                          </a:xfrm>
                        </p:grpSpPr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5091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531612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" name=""/>
                        <p:cNvGrpSpPr/>
                        <p:nvPr/>
                      </p:nvGrpSpPr>
                      <p:grpSpPr>
                        <a:xfrm>
                          <a:off x="5539680" y="2547360"/>
                          <a:ext cx="901080" cy="228600"/>
                          <a:chOff x="5539680" y="2547360"/>
                          <a:chExt cx="901080" cy="228600"/>
                        </a:xfrm>
                      </p:grpSpPr>
                      <p:grpSp>
                        <p:nvGrpSpPr>
                          <p:cNvPr id="303" name=""/>
                          <p:cNvGrpSpPr/>
                          <p:nvPr/>
                        </p:nvGrpSpPr>
                        <p:grpSpPr>
                          <a:xfrm>
                            <a:off x="5539680" y="2547360"/>
                            <a:ext cx="450000" cy="228600"/>
                            <a:chOff x="5539680" y="2547360"/>
                            <a:chExt cx="450000" cy="228600"/>
                          </a:xfrm>
                        </p:grpSpPr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5539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5" name=""/>
                            <p:cNvSpPr/>
                            <p:nvPr/>
                          </p:nvSpPr>
                          <p:spPr>
                            <a:xfrm>
                              <a:off x="5764680" y="25473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6" name=""/>
                          <p:cNvGrpSpPr/>
                          <p:nvPr/>
                        </p:nvGrpSpPr>
                        <p:grpSpPr>
                          <a:xfrm>
                            <a:off x="5990040" y="2547360"/>
                            <a:ext cx="450720" cy="228600"/>
                            <a:chOff x="5990040" y="2547360"/>
                            <a:chExt cx="450720" cy="228600"/>
                          </a:xfrm>
                        </p:grpSpPr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599004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6215400" y="25473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2843280" y="3008160"/>
                      <a:ext cx="3597480" cy="228600"/>
                      <a:chOff x="2843280" y="3008160"/>
                      <a:chExt cx="3597480" cy="22860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2843280" y="3008160"/>
                        <a:ext cx="1799640" cy="228600"/>
                        <a:chOff x="2843280" y="3008160"/>
                        <a:chExt cx="1799640" cy="228600"/>
                      </a:xfrm>
                    </p:grpSpPr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2843280" y="3008160"/>
                          <a:ext cx="900000" cy="228600"/>
                          <a:chOff x="2843280" y="3008160"/>
                          <a:chExt cx="900000" cy="228600"/>
                        </a:xfrm>
                      </p:grpSpPr>
                      <p:grpSp>
                        <p:nvGrpSpPr>
                          <p:cNvPr id="312" name=""/>
                          <p:cNvGrpSpPr/>
                          <p:nvPr/>
                        </p:nvGrpSpPr>
                        <p:grpSpPr>
                          <a:xfrm>
                            <a:off x="2843280" y="3008160"/>
                            <a:ext cx="449280" cy="228600"/>
                            <a:chOff x="2843280" y="3008160"/>
                            <a:chExt cx="449280" cy="228600"/>
                          </a:xfrm>
                        </p:grpSpPr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284328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>
                              <a:off x="30679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3293280" y="3008160"/>
                            <a:ext cx="450000" cy="228600"/>
                            <a:chOff x="3293280" y="3008160"/>
                            <a:chExt cx="450000" cy="228600"/>
                          </a:xfrm>
                        </p:grpSpPr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>
                              <a:off x="3293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>
                              <a:off x="35182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8" name=""/>
                        <p:cNvGrpSpPr/>
                        <p:nvPr/>
                      </p:nvGrpSpPr>
                      <p:grpSpPr>
                        <a:xfrm>
                          <a:off x="3741840" y="3008160"/>
                          <a:ext cx="901080" cy="228600"/>
                          <a:chOff x="3741840" y="3008160"/>
                          <a:chExt cx="901080" cy="228600"/>
                        </a:xfrm>
                      </p:grpSpPr>
                      <p:grpSp>
                        <p:nvGrpSpPr>
                          <p:cNvPr id="319" name=""/>
                          <p:cNvGrpSpPr/>
                          <p:nvPr/>
                        </p:nvGrpSpPr>
                        <p:grpSpPr>
                          <a:xfrm>
                            <a:off x="3741840" y="3008160"/>
                            <a:ext cx="450000" cy="228600"/>
                            <a:chOff x="3741840" y="3008160"/>
                            <a:chExt cx="450000" cy="228600"/>
                          </a:xfrm>
                        </p:grpSpPr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>
                              <a:off x="3741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396684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2" name=""/>
                          <p:cNvGrpSpPr/>
                          <p:nvPr/>
                        </p:nvGrpSpPr>
                        <p:grpSpPr>
                          <a:xfrm>
                            <a:off x="4192200" y="3008160"/>
                            <a:ext cx="450720" cy="228600"/>
                            <a:chOff x="4192200" y="3008160"/>
                            <a:chExt cx="450720" cy="228600"/>
                          </a:xfrm>
                        </p:grpSpPr>
                        <p:sp>
                          <p:nvSpPr>
                            <p:cNvPr id="323" name=""/>
                            <p:cNvSpPr/>
                            <p:nvPr/>
                          </p:nvSpPr>
                          <p:spPr>
                            <a:xfrm>
                              <a:off x="41922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>
                              <a:off x="441756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5" name=""/>
                      <p:cNvGrpSpPr/>
                      <p:nvPr/>
                    </p:nvGrpSpPr>
                    <p:grpSpPr>
                      <a:xfrm>
                        <a:off x="4641120" y="3008160"/>
                        <a:ext cx="1799640" cy="228600"/>
                        <a:chOff x="4641120" y="3008160"/>
                        <a:chExt cx="1799640" cy="228600"/>
                      </a:xfrm>
                    </p:grpSpPr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4641120" y="3008160"/>
                          <a:ext cx="900000" cy="228600"/>
                          <a:chOff x="4641120" y="3008160"/>
                          <a:chExt cx="900000" cy="228600"/>
                        </a:xfrm>
                      </p:grpSpPr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4641120" y="3008160"/>
                            <a:ext cx="449280" cy="228600"/>
                            <a:chOff x="4641120" y="3008160"/>
                            <a:chExt cx="449280" cy="22860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464112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>
                              <a:off x="4865760" y="30081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0" name=""/>
                          <p:cNvGrpSpPr/>
                          <p:nvPr/>
                        </p:nvGrpSpPr>
                        <p:grpSpPr>
                          <a:xfrm>
                            <a:off x="5091120" y="3008160"/>
                            <a:ext cx="450000" cy="228600"/>
                            <a:chOff x="5091120" y="3008160"/>
                            <a:chExt cx="450000" cy="228600"/>
                          </a:xfrm>
                        </p:grpSpPr>
                        <p:sp>
                          <p:nvSpPr>
                            <p:cNvPr id="331" name=""/>
                            <p:cNvSpPr/>
                            <p:nvPr/>
                          </p:nvSpPr>
                          <p:spPr>
                            <a:xfrm>
                              <a:off x="5091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>
                              <a:off x="531612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3" name=""/>
                        <p:cNvGrpSpPr/>
                        <p:nvPr/>
                      </p:nvGrpSpPr>
                      <p:grpSpPr>
                        <a:xfrm>
                          <a:off x="5539680" y="3008160"/>
                          <a:ext cx="901080" cy="228600"/>
                          <a:chOff x="5539680" y="3008160"/>
                          <a:chExt cx="901080" cy="228600"/>
                        </a:xfrm>
                      </p:grpSpPr>
                      <p:grpSp>
                        <p:nvGrpSpPr>
                          <p:cNvPr id="334" name=""/>
                          <p:cNvGrpSpPr/>
                          <p:nvPr/>
                        </p:nvGrpSpPr>
                        <p:grpSpPr>
                          <a:xfrm>
                            <a:off x="5539680" y="3008160"/>
                            <a:ext cx="450000" cy="228600"/>
                            <a:chOff x="5539680" y="3008160"/>
                            <a:chExt cx="450000" cy="228600"/>
                          </a:xfrm>
                        </p:grpSpPr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5539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>
                              <a:off x="5764680" y="30081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5990040" y="3008160"/>
                            <a:ext cx="450720" cy="228600"/>
                            <a:chOff x="5990040" y="3008160"/>
                            <a:chExt cx="450720" cy="228600"/>
                          </a:xfrm>
                        </p:grpSpPr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599004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6215400" y="30081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843280" y="2777400"/>
                      <a:ext cx="3597480" cy="228960"/>
                      <a:chOff x="2843280" y="2777400"/>
                      <a:chExt cx="3597480" cy="228960"/>
                    </a:xfrm>
                  </p:grpSpPr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2843280" y="2777400"/>
                        <a:ext cx="1799640" cy="228960"/>
                        <a:chOff x="2843280" y="2777400"/>
                        <a:chExt cx="1799640" cy="228960"/>
                      </a:xfrm>
                    </p:grpSpPr>
                    <p:grpSp>
                      <p:nvGrpSpPr>
                        <p:cNvPr id="342" name=""/>
                        <p:cNvGrpSpPr/>
                        <p:nvPr/>
                      </p:nvGrpSpPr>
                      <p:grpSpPr>
                        <a:xfrm>
                          <a:off x="2843280" y="2777400"/>
                          <a:ext cx="900000" cy="228960"/>
                          <a:chOff x="2843280" y="2777400"/>
                          <a:chExt cx="900000" cy="228960"/>
                        </a:xfrm>
                      </p:grpSpPr>
                      <p:grpSp>
                        <p:nvGrpSpPr>
                          <p:cNvPr id="343" name=""/>
                          <p:cNvGrpSpPr/>
                          <p:nvPr/>
                        </p:nvGrpSpPr>
                        <p:grpSpPr>
                          <a:xfrm>
                            <a:off x="2843280" y="2777400"/>
                            <a:ext cx="449280" cy="228960"/>
                            <a:chOff x="2843280" y="2777400"/>
                            <a:chExt cx="449280" cy="228960"/>
                          </a:xfrm>
                        </p:grpSpPr>
                        <p:sp>
                          <p:nvSpPr>
                            <p:cNvPr id="344" name=""/>
                            <p:cNvSpPr/>
                            <p:nvPr/>
                          </p:nvSpPr>
                          <p:spPr>
                            <a:xfrm>
                              <a:off x="284328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30679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6" name=""/>
                          <p:cNvGrpSpPr/>
                          <p:nvPr/>
                        </p:nvGrpSpPr>
                        <p:grpSpPr>
                          <a:xfrm>
                            <a:off x="3293280" y="2777400"/>
                            <a:ext cx="450000" cy="228960"/>
                            <a:chOff x="3293280" y="2777400"/>
                            <a:chExt cx="450000" cy="228960"/>
                          </a:xfrm>
                        </p:grpSpPr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3293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8" name=""/>
                            <p:cNvSpPr/>
                            <p:nvPr/>
                          </p:nvSpPr>
                          <p:spPr>
                            <a:xfrm>
                              <a:off x="35182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" name=""/>
                        <p:cNvGrpSpPr/>
                        <p:nvPr/>
                      </p:nvGrpSpPr>
                      <p:grpSpPr>
                        <a:xfrm>
                          <a:off x="3741840" y="2777400"/>
                          <a:ext cx="901080" cy="228960"/>
                          <a:chOff x="3741840" y="2777400"/>
                          <a:chExt cx="901080" cy="228960"/>
                        </a:xfrm>
                      </p:grpSpPr>
                      <p:grpSp>
                        <p:nvGrpSpPr>
                          <p:cNvPr id="350" name=""/>
                          <p:cNvGrpSpPr/>
                          <p:nvPr/>
                        </p:nvGrpSpPr>
                        <p:grpSpPr>
                          <a:xfrm>
                            <a:off x="3741840" y="2777400"/>
                            <a:ext cx="450000" cy="228960"/>
                            <a:chOff x="3741840" y="2777400"/>
                            <a:chExt cx="450000" cy="228960"/>
                          </a:xfrm>
                        </p:grpSpPr>
                        <p:sp>
                          <p:nvSpPr>
                            <p:cNvPr id="351" name=""/>
                            <p:cNvSpPr/>
                            <p:nvPr/>
                          </p:nvSpPr>
                          <p:spPr>
                            <a:xfrm>
                              <a:off x="3741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2" name=""/>
                            <p:cNvSpPr/>
                            <p:nvPr/>
                          </p:nvSpPr>
                          <p:spPr>
                            <a:xfrm>
                              <a:off x="396684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3" name=""/>
                          <p:cNvGrpSpPr/>
                          <p:nvPr/>
                        </p:nvGrpSpPr>
                        <p:grpSpPr>
                          <a:xfrm>
                            <a:off x="4192200" y="2777400"/>
                            <a:ext cx="450720" cy="228960"/>
                            <a:chOff x="4192200" y="2777400"/>
                            <a:chExt cx="450720" cy="228960"/>
                          </a:xfrm>
                        </p:grpSpPr>
                        <p:sp>
                          <p:nvSpPr>
                            <p:cNvPr id="354" name=""/>
                            <p:cNvSpPr/>
                            <p:nvPr/>
                          </p:nvSpPr>
                          <p:spPr>
                            <a:xfrm>
                              <a:off x="41922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5" name=""/>
                            <p:cNvSpPr/>
                            <p:nvPr/>
                          </p:nvSpPr>
                          <p:spPr>
                            <a:xfrm>
                              <a:off x="441756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4641120" y="2777400"/>
                        <a:ext cx="1799640" cy="228960"/>
                        <a:chOff x="4641120" y="2777400"/>
                        <a:chExt cx="1799640" cy="228960"/>
                      </a:xfrm>
                    </p:grpSpPr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641120" y="2777400"/>
                          <a:ext cx="900000" cy="228960"/>
                          <a:chOff x="4641120" y="2777400"/>
                          <a:chExt cx="900000" cy="228960"/>
                        </a:xfrm>
                      </p:grpSpPr>
                      <p:grpSp>
                        <p:nvGrpSpPr>
                          <p:cNvPr id="358" name=""/>
                          <p:cNvGrpSpPr/>
                          <p:nvPr/>
                        </p:nvGrpSpPr>
                        <p:grpSpPr>
                          <a:xfrm>
                            <a:off x="4641120" y="2777400"/>
                            <a:ext cx="449280" cy="228960"/>
                            <a:chOff x="4641120" y="2777400"/>
                            <a:chExt cx="449280" cy="228960"/>
                          </a:xfrm>
                        </p:grpSpPr>
                        <p:sp>
                          <p:nvSpPr>
                            <p:cNvPr id="359" name=""/>
                            <p:cNvSpPr/>
                            <p:nvPr/>
                          </p:nvSpPr>
                          <p:spPr>
                            <a:xfrm>
                              <a:off x="464112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0" name=""/>
                            <p:cNvSpPr/>
                            <p:nvPr/>
                          </p:nvSpPr>
                          <p:spPr>
                            <a:xfrm>
                              <a:off x="4865760" y="277740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1" name=""/>
                          <p:cNvGrpSpPr/>
                          <p:nvPr/>
                        </p:nvGrpSpPr>
                        <p:grpSpPr>
                          <a:xfrm>
                            <a:off x="5091120" y="2777400"/>
                            <a:ext cx="450000" cy="228960"/>
                            <a:chOff x="5091120" y="2777400"/>
                            <a:chExt cx="450000" cy="228960"/>
                          </a:xfrm>
                        </p:grpSpPr>
                        <p:sp>
                          <p:nvSpPr>
                            <p:cNvPr id="362" name=""/>
                            <p:cNvSpPr/>
                            <p:nvPr/>
                          </p:nvSpPr>
                          <p:spPr>
                            <a:xfrm>
                              <a:off x="5091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531612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4" name=""/>
                        <p:cNvGrpSpPr/>
                        <p:nvPr/>
                      </p:nvGrpSpPr>
                      <p:grpSpPr>
                        <a:xfrm>
                          <a:off x="5539680" y="2777400"/>
                          <a:ext cx="901080" cy="228960"/>
                          <a:chOff x="5539680" y="2777400"/>
                          <a:chExt cx="901080" cy="228960"/>
                        </a:xfrm>
                      </p:grpSpPr>
                      <p:grpSp>
                        <p:nvGrpSpPr>
                          <p:cNvPr id="365" name=""/>
                          <p:cNvGrpSpPr/>
                          <p:nvPr/>
                        </p:nvGrpSpPr>
                        <p:grpSpPr>
                          <a:xfrm>
                            <a:off x="5539680" y="2777400"/>
                            <a:ext cx="450000" cy="228960"/>
                            <a:chOff x="5539680" y="2777400"/>
                            <a:chExt cx="450000" cy="228960"/>
                          </a:xfrm>
                        </p:grpSpPr>
                        <p:sp>
                          <p:nvSpPr>
                            <p:cNvPr id="366" name=""/>
                            <p:cNvSpPr/>
                            <p:nvPr/>
                          </p:nvSpPr>
                          <p:spPr>
                            <a:xfrm>
                              <a:off x="5539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7" name=""/>
                            <p:cNvSpPr/>
                            <p:nvPr/>
                          </p:nvSpPr>
                          <p:spPr>
                            <a:xfrm>
                              <a:off x="5764680" y="277740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"/>
                          <p:cNvGrpSpPr/>
                          <p:nvPr/>
                        </p:nvGrpSpPr>
                        <p:grpSpPr>
                          <a:xfrm>
                            <a:off x="5990040" y="2777400"/>
                            <a:ext cx="450720" cy="228960"/>
                            <a:chOff x="5990040" y="2777400"/>
                            <a:chExt cx="450720" cy="228960"/>
                          </a:xfrm>
                        </p:grpSpPr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599004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6215400" y="277740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2843280" y="3238200"/>
                      <a:ext cx="3597480" cy="228600"/>
                      <a:chOff x="2843280" y="3238200"/>
                      <a:chExt cx="3597480" cy="228600"/>
                    </a:xfrm>
                  </p:grpSpPr>
                  <p:grpSp>
                    <p:nvGrpSpPr>
                      <p:cNvPr id="372" name=""/>
                      <p:cNvGrpSpPr/>
                      <p:nvPr/>
                    </p:nvGrpSpPr>
                    <p:grpSpPr>
                      <a:xfrm>
                        <a:off x="2843280" y="3238200"/>
                        <a:ext cx="1799640" cy="228600"/>
                        <a:chOff x="2843280" y="3238200"/>
                        <a:chExt cx="1799640" cy="228600"/>
                      </a:xfrm>
                    </p:grpSpPr>
                    <p:grpSp>
                      <p:nvGrpSpPr>
                        <p:cNvPr id="373" name=""/>
                        <p:cNvGrpSpPr/>
                        <p:nvPr/>
                      </p:nvGrpSpPr>
                      <p:grpSpPr>
                        <a:xfrm>
                          <a:off x="2843280" y="3238200"/>
                          <a:ext cx="900000" cy="228600"/>
                          <a:chOff x="2843280" y="3238200"/>
                          <a:chExt cx="900000" cy="228600"/>
                        </a:xfrm>
                      </p:grpSpPr>
                      <p:grpSp>
                        <p:nvGrpSpPr>
                          <p:cNvPr id="374" name=""/>
                          <p:cNvGrpSpPr/>
                          <p:nvPr/>
                        </p:nvGrpSpPr>
                        <p:grpSpPr>
                          <a:xfrm>
                            <a:off x="2843280" y="3238200"/>
                            <a:ext cx="449280" cy="228600"/>
                            <a:chOff x="2843280" y="3238200"/>
                            <a:chExt cx="449280" cy="228600"/>
                          </a:xfrm>
                        </p:grpSpPr>
                        <p:sp>
                          <p:nvSpPr>
                            <p:cNvPr id="375" name=""/>
                            <p:cNvSpPr/>
                            <p:nvPr/>
                          </p:nvSpPr>
                          <p:spPr>
                            <a:xfrm>
                              <a:off x="284328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6" name=""/>
                            <p:cNvSpPr/>
                            <p:nvPr/>
                          </p:nvSpPr>
                          <p:spPr>
                            <a:xfrm>
                              <a:off x="30679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7" name=""/>
                          <p:cNvGrpSpPr/>
                          <p:nvPr/>
                        </p:nvGrpSpPr>
                        <p:grpSpPr>
                          <a:xfrm>
                            <a:off x="3293280" y="3238200"/>
                            <a:ext cx="450000" cy="228600"/>
                            <a:chOff x="3293280" y="3238200"/>
                            <a:chExt cx="450000" cy="228600"/>
                          </a:xfrm>
                        </p:grpSpPr>
                        <p:sp>
                          <p:nvSpPr>
                            <p:cNvPr id="378" name=""/>
                            <p:cNvSpPr/>
                            <p:nvPr/>
                          </p:nvSpPr>
                          <p:spPr>
                            <a:xfrm>
                              <a:off x="3293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9" name=""/>
                            <p:cNvSpPr/>
                            <p:nvPr/>
                          </p:nvSpPr>
                          <p:spPr>
                            <a:xfrm>
                              <a:off x="35182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80" name=""/>
                        <p:cNvGrpSpPr/>
                        <p:nvPr/>
                      </p:nvGrpSpPr>
                      <p:grpSpPr>
                        <a:xfrm>
                          <a:off x="3741840" y="3238200"/>
                          <a:ext cx="901080" cy="228600"/>
                          <a:chOff x="3741840" y="3238200"/>
                          <a:chExt cx="901080" cy="228600"/>
                        </a:xfrm>
                      </p:grpSpPr>
                      <p:grpSp>
                        <p:nvGrpSpPr>
                          <p:cNvPr id="381" name=""/>
                          <p:cNvGrpSpPr/>
                          <p:nvPr/>
                        </p:nvGrpSpPr>
                        <p:grpSpPr>
                          <a:xfrm>
                            <a:off x="3741840" y="3238200"/>
                            <a:ext cx="450000" cy="228600"/>
                            <a:chOff x="3741840" y="3238200"/>
                            <a:chExt cx="450000" cy="228600"/>
                          </a:xfrm>
                        </p:grpSpPr>
                        <p:sp>
                          <p:nvSpPr>
                            <p:cNvPr id="382" name=""/>
                            <p:cNvSpPr/>
                            <p:nvPr/>
                          </p:nvSpPr>
                          <p:spPr>
                            <a:xfrm>
                              <a:off x="3741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3" name=""/>
                            <p:cNvSpPr/>
                            <p:nvPr/>
                          </p:nvSpPr>
                          <p:spPr>
                            <a:xfrm>
                              <a:off x="396684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4" name=""/>
                          <p:cNvGrpSpPr/>
                          <p:nvPr/>
                        </p:nvGrpSpPr>
                        <p:grpSpPr>
                          <a:xfrm>
                            <a:off x="4192200" y="3238200"/>
                            <a:ext cx="450720" cy="228600"/>
                            <a:chOff x="4192200" y="3238200"/>
                            <a:chExt cx="450720" cy="228600"/>
                          </a:xfrm>
                        </p:grpSpPr>
                        <p:sp>
                          <p:nvSpPr>
                            <p:cNvPr id="385" name=""/>
                            <p:cNvSpPr/>
                            <p:nvPr/>
                          </p:nvSpPr>
                          <p:spPr>
                            <a:xfrm>
                              <a:off x="41922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6" name=""/>
                            <p:cNvSpPr/>
                            <p:nvPr/>
                          </p:nvSpPr>
                          <p:spPr>
                            <a:xfrm>
                              <a:off x="441756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4641120" y="3238200"/>
                        <a:ext cx="1799640" cy="228600"/>
                        <a:chOff x="4641120" y="3238200"/>
                        <a:chExt cx="1799640" cy="228600"/>
                      </a:xfrm>
                    </p:grpSpPr>
                    <p:grpSp>
                      <p:nvGrpSpPr>
                        <p:cNvPr id="388" name=""/>
                        <p:cNvGrpSpPr/>
                        <p:nvPr/>
                      </p:nvGrpSpPr>
                      <p:grpSpPr>
                        <a:xfrm>
                          <a:off x="4641120" y="3238200"/>
                          <a:ext cx="900000" cy="228600"/>
                          <a:chOff x="4641120" y="3238200"/>
                          <a:chExt cx="900000" cy="228600"/>
                        </a:xfrm>
                      </p:grpSpPr>
                      <p:grpSp>
                        <p:nvGrpSpPr>
                          <p:cNvPr id="389" name=""/>
                          <p:cNvGrpSpPr/>
                          <p:nvPr/>
                        </p:nvGrpSpPr>
                        <p:grpSpPr>
                          <a:xfrm>
                            <a:off x="4641120" y="3238200"/>
                            <a:ext cx="449280" cy="228600"/>
                            <a:chOff x="4641120" y="3238200"/>
                            <a:chExt cx="449280" cy="228600"/>
                          </a:xfrm>
                        </p:grpSpPr>
                        <p:sp>
                          <p:nvSpPr>
                            <p:cNvPr id="390" name=""/>
                            <p:cNvSpPr/>
                            <p:nvPr/>
                          </p:nvSpPr>
                          <p:spPr>
                            <a:xfrm>
                              <a:off x="464112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1" name=""/>
                            <p:cNvSpPr/>
                            <p:nvPr/>
                          </p:nvSpPr>
                          <p:spPr>
                            <a:xfrm>
                              <a:off x="4865760" y="32382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2" name=""/>
                          <p:cNvGrpSpPr/>
                          <p:nvPr/>
                        </p:nvGrpSpPr>
                        <p:grpSpPr>
                          <a:xfrm>
                            <a:off x="5091120" y="3238200"/>
                            <a:ext cx="450000" cy="228600"/>
                            <a:chOff x="5091120" y="3238200"/>
                            <a:chExt cx="450000" cy="228600"/>
                          </a:xfrm>
                        </p:grpSpPr>
                        <p:sp>
                          <p:nvSpPr>
                            <p:cNvPr id="393" name=""/>
                            <p:cNvSpPr/>
                            <p:nvPr/>
                          </p:nvSpPr>
                          <p:spPr>
                            <a:xfrm>
                              <a:off x="5091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>
                              <a:off x="531612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5" name=""/>
                        <p:cNvGrpSpPr/>
                        <p:nvPr/>
                      </p:nvGrpSpPr>
                      <p:grpSpPr>
                        <a:xfrm>
                          <a:off x="5539680" y="3238200"/>
                          <a:ext cx="901080" cy="228600"/>
                          <a:chOff x="5539680" y="3238200"/>
                          <a:chExt cx="901080" cy="228600"/>
                        </a:xfrm>
                      </p:grpSpPr>
                      <p:grpSp>
                        <p:nvGrpSpPr>
                          <p:cNvPr id="396" name=""/>
                          <p:cNvGrpSpPr/>
                          <p:nvPr/>
                        </p:nvGrpSpPr>
                        <p:grpSpPr>
                          <a:xfrm>
                            <a:off x="5539680" y="3238200"/>
                            <a:ext cx="450000" cy="228600"/>
                            <a:chOff x="5539680" y="3238200"/>
                            <a:chExt cx="450000" cy="228600"/>
                          </a:xfrm>
                        </p:grpSpPr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5539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5764680" y="32382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5990040" y="3238200"/>
                            <a:ext cx="450720" cy="228600"/>
                            <a:chOff x="5990040" y="3238200"/>
                            <a:chExt cx="450720" cy="2286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599004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6215400" y="32382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843280" y="3465720"/>
                    <a:ext cx="3597480" cy="919440"/>
                    <a:chOff x="2843280" y="3465720"/>
                    <a:chExt cx="3597480" cy="919440"/>
                  </a:xfrm>
                </p:grpSpPr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2843280" y="3465720"/>
                      <a:ext cx="3597480" cy="228600"/>
                      <a:chOff x="2843280" y="3465720"/>
                      <a:chExt cx="3597480" cy="22860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2843280" y="3465720"/>
                        <a:ext cx="1799640" cy="228600"/>
                        <a:chOff x="2843280" y="3465720"/>
                        <a:chExt cx="1799640" cy="228600"/>
                      </a:xfrm>
                    </p:grpSpPr>
                    <p:grpSp>
                      <p:nvGrpSpPr>
                        <p:cNvPr id="405" name=""/>
                        <p:cNvGrpSpPr/>
                        <p:nvPr/>
                      </p:nvGrpSpPr>
                      <p:grpSpPr>
                        <a:xfrm>
                          <a:off x="2843280" y="3465720"/>
                          <a:ext cx="900000" cy="228600"/>
                          <a:chOff x="2843280" y="3465720"/>
                          <a:chExt cx="900000" cy="228600"/>
                        </a:xfrm>
                      </p:grpSpPr>
                      <p:grpSp>
                        <p:nvGrpSpPr>
                          <p:cNvPr id="406" name=""/>
                          <p:cNvGrpSpPr/>
                          <p:nvPr/>
                        </p:nvGrpSpPr>
                        <p:grpSpPr>
                          <a:xfrm>
                            <a:off x="2843280" y="3465720"/>
                            <a:ext cx="449280" cy="228600"/>
                            <a:chOff x="2843280" y="3465720"/>
                            <a:chExt cx="449280" cy="228600"/>
                          </a:xfrm>
                        </p:grpSpPr>
                        <p:sp>
                          <p:nvSpPr>
                            <p:cNvPr id="407" name=""/>
                            <p:cNvSpPr/>
                            <p:nvPr/>
                          </p:nvSpPr>
                          <p:spPr>
                            <a:xfrm>
                              <a:off x="284328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8" name=""/>
                            <p:cNvSpPr/>
                            <p:nvPr/>
                          </p:nvSpPr>
                          <p:spPr>
                            <a:xfrm>
                              <a:off x="30679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9" name=""/>
                          <p:cNvGrpSpPr/>
                          <p:nvPr/>
                        </p:nvGrpSpPr>
                        <p:grpSpPr>
                          <a:xfrm>
                            <a:off x="3293280" y="3465720"/>
                            <a:ext cx="450000" cy="228600"/>
                            <a:chOff x="3293280" y="3465720"/>
                            <a:chExt cx="450000" cy="228600"/>
                          </a:xfrm>
                        </p:grpSpPr>
                        <p:sp>
                          <p:nvSpPr>
                            <p:cNvPr id="410" name=""/>
                            <p:cNvSpPr/>
                            <p:nvPr/>
                          </p:nvSpPr>
                          <p:spPr>
                            <a:xfrm>
                              <a:off x="3293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1" name=""/>
                            <p:cNvSpPr/>
                            <p:nvPr/>
                          </p:nvSpPr>
                          <p:spPr>
                            <a:xfrm>
                              <a:off x="35182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2" name=""/>
                        <p:cNvGrpSpPr/>
                        <p:nvPr/>
                      </p:nvGrpSpPr>
                      <p:grpSpPr>
                        <a:xfrm>
                          <a:off x="3741840" y="3465720"/>
                          <a:ext cx="901080" cy="228600"/>
                          <a:chOff x="3741840" y="3465720"/>
                          <a:chExt cx="901080" cy="228600"/>
                        </a:xfrm>
                      </p:grpSpPr>
                      <p:grpSp>
                        <p:nvGrpSpPr>
                          <p:cNvPr id="413" name=""/>
                          <p:cNvGrpSpPr/>
                          <p:nvPr/>
                        </p:nvGrpSpPr>
                        <p:grpSpPr>
                          <a:xfrm>
                            <a:off x="3741840" y="3465720"/>
                            <a:ext cx="450000" cy="228600"/>
                            <a:chOff x="3741840" y="3465720"/>
                            <a:chExt cx="450000" cy="228600"/>
                          </a:xfrm>
                        </p:grpSpPr>
                        <p:sp>
                          <p:nvSpPr>
                            <p:cNvPr id="414" name=""/>
                            <p:cNvSpPr/>
                            <p:nvPr/>
                          </p:nvSpPr>
                          <p:spPr>
                            <a:xfrm>
                              <a:off x="3741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5" name=""/>
                            <p:cNvSpPr/>
                            <p:nvPr/>
                          </p:nvSpPr>
                          <p:spPr>
                            <a:xfrm>
                              <a:off x="396684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6" name=""/>
                          <p:cNvGrpSpPr/>
                          <p:nvPr/>
                        </p:nvGrpSpPr>
                        <p:grpSpPr>
                          <a:xfrm>
                            <a:off x="4192200" y="3465720"/>
                            <a:ext cx="450720" cy="228600"/>
                            <a:chOff x="4192200" y="3465720"/>
                            <a:chExt cx="450720" cy="228600"/>
                          </a:xfrm>
                        </p:grpSpPr>
                        <p:sp>
                          <p:nvSpPr>
                            <p:cNvPr id="417" name=""/>
                            <p:cNvSpPr/>
                            <p:nvPr/>
                          </p:nvSpPr>
                          <p:spPr>
                            <a:xfrm>
                              <a:off x="41922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8" name=""/>
                            <p:cNvSpPr/>
                            <p:nvPr/>
                          </p:nvSpPr>
                          <p:spPr>
                            <a:xfrm>
                              <a:off x="441756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4641120" y="3465720"/>
                        <a:ext cx="1799640" cy="228600"/>
                        <a:chOff x="4641120" y="3465720"/>
                        <a:chExt cx="1799640" cy="228600"/>
                      </a:xfrm>
                    </p:grpSpPr>
                    <p:grpSp>
                      <p:nvGrpSpPr>
                        <p:cNvPr id="420" name=""/>
                        <p:cNvGrpSpPr/>
                        <p:nvPr/>
                      </p:nvGrpSpPr>
                      <p:grpSpPr>
                        <a:xfrm>
                          <a:off x="4641120" y="3465720"/>
                          <a:ext cx="900000" cy="228600"/>
                          <a:chOff x="4641120" y="3465720"/>
                          <a:chExt cx="900000" cy="228600"/>
                        </a:xfrm>
                      </p:grpSpPr>
                      <p:grpSp>
                        <p:nvGrpSpPr>
                          <p:cNvPr id="421" name=""/>
                          <p:cNvGrpSpPr/>
                          <p:nvPr/>
                        </p:nvGrpSpPr>
                        <p:grpSpPr>
                          <a:xfrm>
                            <a:off x="4641120" y="3465720"/>
                            <a:ext cx="449280" cy="228600"/>
                            <a:chOff x="4641120" y="3465720"/>
                            <a:chExt cx="449280" cy="228600"/>
                          </a:xfrm>
                        </p:grpSpPr>
                        <p:sp>
                          <p:nvSpPr>
                            <p:cNvPr id="422" name=""/>
                            <p:cNvSpPr/>
                            <p:nvPr/>
                          </p:nvSpPr>
                          <p:spPr>
                            <a:xfrm>
                              <a:off x="464112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3" name=""/>
                            <p:cNvSpPr/>
                            <p:nvPr/>
                          </p:nvSpPr>
                          <p:spPr>
                            <a:xfrm>
                              <a:off x="4865760" y="34657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" name=""/>
                          <p:cNvGrpSpPr/>
                          <p:nvPr/>
                        </p:nvGrpSpPr>
                        <p:grpSpPr>
                          <a:xfrm>
                            <a:off x="5091120" y="3465720"/>
                            <a:ext cx="450000" cy="228600"/>
                            <a:chOff x="5091120" y="3465720"/>
                            <a:chExt cx="450000" cy="228600"/>
                          </a:xfrm>
                        </p:grpSpPr>
                        <p:sp>
                          <p:nvSpPr>
                            <p:cNvPr id="425" name=""/>
                            <p:cNvSpPr/>
                            <p:nvPr/>
                          </p:nvSpPr>
                          <p:spPr>
                            <a:xfrm>
                              <a:off x="5091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"/>
                            <p:cNvSpPr/>
                            <p:nvPr/>
                          </p:nvSpPr>
                          <p:spPr>
                            <a:xfrm>
                              <a:off x="531612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5539680" y="3465720"/>
                          <a:ext cx="901080" cy="228600"/>
                          <a:chOff x="5539680" y="3465720"/>
                          <a:chExt cx="901080" cy="228600"/>
                        </a:xfrm>
                      </p:grpSpPr>
                      <p:grpSp>
                        <p:nvGrpSpPr>
                          <p:cNvPr id="428" name=""/>
                          <p:cNvGrpSpPr/>
                          <p:nvPr/>
                        </p:nvGrpSpPr>
                        <p:grpSpPr>
                          <a:xfrm>
                            <a:off x="5539680" y="3465720"/>
                            <a:ext cx="450000" cy="228600"/>
                            <a:chOff x="5539680" y="3465720"/>
                            <a:chExt cx="450000" cy="228600"/>
                          </a:xfrm>
                        </p:grpSpPr>
                        <p:sp>
                          <p:nvSpPr>
                            <p:cNvPr id="429" name=""/>
                            <p:cNvSpPr/>
                            <p:nvPr/>
                          </p:nvSpPr>
                          <p:spPr>
                            <a:xfrm>
                              <a:off x="5539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5764680" y="34657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1" name=""/>
                          <p:cNvGrpSpPr/>
                          <p:nvPr/>
                        </p:nvGrpSpPr>
                        <p:grpSpPr>
                          <a:xfrm>
                            <a:off x="5990040" y="3465720"/>
                            <a:ext cx="450720" cy="228600"/>
                            <a:chOff x="5990040" y="3465720"/>
                            <a:chExt cx="450720" cy="228600"/>
                          </a:xfrm>
                        </p:grpSpPr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599004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6215400" y="34657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2843280" y="3926520"/>
                      <a:ext cx="3597480" cy="228600"/>
                      <a:chOff x="2843280" y="3926520"/>
                      <a:chExt cx="3597480" cy="228600"/>
                    </a:xfrm>
                  </p:grpSpPr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2843280" y="3926520"/>
                        <a:ext cx="1799640" cy="228600"/>
                        <a:chOff x="2843280" y="3926520"/>
                        <a:chExt cx="1799640" cy="228600"/>
                      </a:xfrm>
                    </p:grpSpPr>
                    <p:grpSp>
                      <p:nvGrpSpPr>
                        <p:cNvPr id="436" name=""/>
                        <p:cNvGrpSpPr/>
                        <p:nvPr/>
                      </p:nvGrpSpPr>
                      <p:grpSpPr>
                        <a:xfrm>
                          <a:off x="2843280" y="3926520"/>
                          <a:ext cx="900000" cy="228600"/>
                          <a:chOff x="2843280" y="3926520"/>
                          <a:chExt cx="900000" cy="228600"/>
                        </a:xfrm>
                      </p:grpSpPr>
                      <p:grpSp>
                        <p:nvGrpSpPr>
                          <p:cNvPr id="437" name=""/>
                          <p:cNvGrpSpPr/>
                          <p:nvPr/>
                        </p:nvGrpSpPr>
                        <p:grpSpPr>
                          <a:xfrm>
                            <a:off x="2843280" y="3926520"/>
                            <a:ext cx="449280" cy="228600"/>
                            <a:chOff x="2843280" y="3926520"/>
                            <a:chExt cx="449280" cy="228600"/>
                          </a:xfrm>
                        </p:grpSpPr>
                        <p:sp>
                          <p:nvSpPr>
                            <p:cNvPr id="438" name=""/>
                            <p:cNvSpPr/>
                            <p:nvPr/>
                          </p:nvSpPr>
                          <p:spPr>
                            <a:xfrm>
                              <a:off x="284328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39" name=""/>
                            <p:cNvSpPr/>
                            <p:nvPr/>
                          </p:nvSpPr>
                          <p:spPr>
                            <a:xfrm>
                              <a:off x="30679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0" name=""/>
                          <p:cNvGrpSpPr/>
                          <p:nvPr/>
                        </p:nvGrpSpPr>
                        <p:grpSpPr>
                          <a:xfrm>
                            <a:off x="3293280" y="3926520"/>
                            <a:ext cx="450000" cy="228600"/>
                            <a:chOff x="3293280" y="3926520"/>
                            <a:chExt cx="450000" cy="228600"/>
                          </a:xfrm>
                        </p:grpSpPr>
                        <p:sp>
                          <p:nvSpPr>
                            <p:cNvPr id="441" name=""/>
                            <p:cNvSpPr/>
                            <p:nvPr/>
                          </p:nvSpPr>
                          <p:spPr>
                            <a:xfrm>
                              <a:off x="3293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2" name=""/>
                            <p:cNvSpPr/>
                            <p:nvPr/>
                          </p:nvSpPr>
                          <p:spPr>
                            <a:xfrm>
                              <a:off x="35182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3741840" y="3926520"/>
                          <a:ext cx="901080" cy="228600"/>
                          <a:chOff x="3741840" y="3926520"/>
                          <a:chExt cx="901080" cy="228600"/>
                        </a:xfrm>
                      </p:grpSpPr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3741840" y="3926520"/>
                            <a:ext cx="450000" cy="228600"/>
                            <a:chOff x="3741840" y="3926520"/>
                            <a:chExt cx="450000" cy="228600"/>
                          </a:xfrm>
                        </p:grpSpPr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3741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396684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" name=""/>
                          <p:cNvGrpSpPr/>
                          <p:nvPr/>
                        </p:nvGrpSpPr>
                        <p:grpSpPr>
                          <a:xfrm>
                            <a:off x="4192200" y="3926520"/>
                            <a:ext cx="450720" cy="228600"/>
                            <a:chOff x="4192200" y="3926520"/>
                            <a:chExt cx="450720" cy="228600"/>
                          </a:xfrm>
                        </p:grpSpPr>
                        <p:sp>
                          <p:nvSpPr>
                            <p:cNvPr id="448" name=""/>
                            <p:cNvSpPr/>
                            <p:nvPr/>
                          </p:nvSpPr>
                          <p:spPr>
                            <a:xfrm>
                              <a:off x="41922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49" name=""/>
                            <p:cNvSpPr/>
                            <p:nvPr/>
                          </p:nvSpPr>
                          <p:spPr>
                            <a:xfrm>
                              <a:off x="441756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50" name=""/>
                      <p:cNvGrpSpPr/>
                      <p:nvPr/>
                    </p:nvGrpSpPr>
                    <p:grpSpPr>
                      <a:xfrm>
                        <a:off x="4641120" y="3926520"/>
                        <a:ext cx="1799640" cy="228600"/>
                        <a:chOff x="4641120" y="3926520"/>
                        <a:chExt cx="1799640" cy="228600"/>
                      </a:xfrm>
                    </p:grpSpPr>
                    <p:grpSp>
                      <p:nvGrpSpPr>
                        <p:cNvPr id="451" name=""/>
                        <p:cNvGrpSpPr/>
                        <p:nvPr/>
                      </p:nvGrpSpPr>
                      <p:grpSpPr>
                        <a:xfrm>
                          <a:off x="4641120" y="3926520"/>
                          <a:ext cx="900000" cy="228600"/>
                          <a:chOff x="4641120" y="3926520"/>
                          <a:chExt cx="900000" cy="228600"/>
                        </a:xfrm>
                      </p:grpSpPr>
                      <p:grpSp>
                        <p:nvGrpSpPr>
                          <p:cNvPr id="452" name=""/>
                          <p:cNvGrpSpPr/>
                          <p:nvPr/>
                        </p:nvGrpSpPr>
                        <p:grpSpPr>
                          <a:xfrm>
                            <a:off x="4641120" y="3926520"/>
                            <a:ext cx="449280" cy="228600"/>
                            <a:chOff x="4641120" y="3926520"/>
                            <a:chExt cx="449280" cy="228600"/>
                          </a:xfrm>
                        </p:grpSpPr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464112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865760" y="392652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55" name=""/>
                          <p:cNvGrpSpPr/>
                          <p:nvPr/>
                        </p:nvGrpSpPr>
                        <p:grpSpPr>
                          <a:xfrm>
                            <a:off x="5091120" y="3926520"/>
                            <a:ext cx="450000" cy="228600"/>
                            <a:chOff x="5091120" y="3926520"/>
                            <a:chExt cx="450000" cy="228600"/>
                          </a:xfrm>
                        </p:grpSpPr>
                        <p:sp>
                          <p:nvSpPr>
                            <p:cNvPr id="456" name=""/>
                            <p:cNvSpPr/>
                            <p:nvPr/>
                          </p:nvSpPr>
                          <p:spPr>
                            <a:xfrm>
                              <a:off x="5091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7" name=""/>
                            <p:cNvSpPr/>
                            <p:nvPr/>
                          </p:nvSpPr>
                          <p:spPr>
                            <a:xfrm>
                              <a:off x="531612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58" name=""/>
                        <p:cNvGrpSpPr/>
                        <p:nvPr/>
                      </p:nvGrpSpPr>
                      <p:grpSpPr>
                        <a:xfrm>
                          <a:off x="5539680" y="3926520"/>
                          <a:ext cx="901080" cy="228600"/>
                          <a:chOff x="5539680" y="3926520"/>
                          <a:chExt cx="901080" cy="228600"/>
                        </a:xfrm>
                      </p:grpSpPr>
                      <p:grpSp>
                        <p:nvGrpSpPr>
                          <p:cNvPr id="459" name=""/>
                          <p:cNvGrpSpPr/>
                          <p:nvPr/>
                        </p:nvGrpSpPr>
                        <p:grpSpPr>
                          <a:xfrm>
                            <a:off x="5539680" y="3926520"/>
                            <a:ext cx="450000" cy="228600"/>
                            <a:chOff x="5539680" y="3926520"/>
                            <a:chExt cx="450000" cy="228600"/>
                          </a:xfrm>
                        </p:grpSpPr>
                        <p:sp>
                          <p:nvSpPr>
                            <p:cNvPr id="460" name=""/>
                            <p:cNvSpPr/>
                            <p:nvPr/>
                          </p:nvSpPr>
                          <p:spPr>
                            <a:xfrm>
                              <a:off x="5539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5764680" y="392652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62" name=""/>
                          <p:cNvGrpSpPr/>
                          <p:nvPr/>
                        </p:nvGrpSpPr>
                        <p:grpSpPr>
                          <a:xfrm>
                            <a:off x="5990040" y="3926520"/>
                            <a:ext cx="450720" cy="228600"/>
                            <a:chOff x="5990040" y="3926520"/>
                            <a:chExt cx="450720" cy="228600"/>
                          </a:xfrm>
                        </p:grpSpPr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599004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64" name=""/>
                            <p:cNvSpPr/>
                            <p:nvPr/>
                          </p:nvSpPr>
                          <p:spPr>
                            <a:xfrm>
                              <a:off x="6215400" y="392652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65" name=""/>
                    <p:cNvGrpSpPr/>
                    <p:nvPr/>
                  </p:nvGrpSpPr>
                  <p:grpSpPr>
                    <a:xfrm>
                      <a:off x="2843280" y="3695760"/>
                      <a:ext cx="3597480" cy="229320"/>
                      <a:chOff x="2843280" y="3695760"/>
                      <a:chExt cx="3597480" cy="229320"/>
                    </a:xfrm>
                  </p:grpSpPr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2843280" y="3695760"/>
                        <a:ext cx="1799640" cy="229320"/>
                        <a:chOff x="2843280" y="3695760"/>
                        <a:chExt cx="1799640" cy="229320"/>
                      </a:xfrm>
                    </p:grpSpPr>
                    <p:grpSp>
                      <p:nvGrpSpPr>
                        <p:cNvPr id="467" name=""/>
                        <p:cNvGrpSpPr/>
                        <p:nvPr/>
                      </p:nvGrpSpPr>
                      <p:grpSpPr>
                        <a:xfrm>
                          <a:off x="2843280" y="3695760"/>
                          <a:ext cx="900000" cy="229320"/>
                          <a:chOff x="2843280" y="3695760"/>
                          <a:chExt cx="900000" cy="229320"/>
                        </a:xfrm>
                      </p:grpSpPr>
                      <p:grpSp>
                        <p:nvGrpSpPr>
                          <p:cNvPr id="468" name=""/>
                          <p:cNvGrpSpPr/>
                          <p:nvPr/>
                        </p:nvGrpSpPr>
                        <p:grpSpPr>
                          <a:xfrm>
                            <a:off x="2843280" y="3695760"/>
                            <a:ext cx="449280" cy="229320"/>
                            <a:chOff x="2843280" y="3695760"/>
                            <a:chExt cx="449280" cy="229320"/>
                          </a:xfrm>
                        </p:grpSpPr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284328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30679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1" name=""/>
                          <p:cNvGrpSpPr/>
                          <p:nvPr/>
                        </p:nvGrpSpPr>
                        <p:grpSpPr>
                          <a:xfrm>
                            <a:off x="3293280" y="3695760"/>
                            <a:ext cx="450000" cy="229320"/>
                            <a:chOff x="3293280" y="3695760"/>
                            <a:chExt cx="450000" cy="229320"/>
                          </a:xfrm>
                        </p:grpSpPr>
                        <p:sp>
                          <p:nvSpPr>
                            <p:cNvPr id="472" name=""/>
                            <p:cNvSpPr/>
                            <p:nvPr/>
                          </p:nvSpPr>
                          <p:spPr>
                            <a:xfrm>
                              <a:off x="3293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3" name=""/>
                            <p:cNvSpPr/>
                            <p:nvPr/>
                          </p:nvSpPr>
                          <p:spPr>
                            <a:xfrm>
                              <a:off x="35182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4" name=""/>
                        <p:cNvGrpSpPr/>
                        <p:nvPr/>
                      </p:nvGrpSpPr>
                      <p:grpSpPr>
                        <a:xfrm>
                          <a:off x="3741840" y="3695760"/>
                          <a:ext cx="901080" cy="229320"/>
                          <a:chOff x="3741840" y="3695760"/>
                          <a:chExt cx="901080" cy="229320"/>
                        </a:xfrm>
                      </p:grpSpPr>
                      <p:grpSp>
                        <p:nvGrpSpPr>
                          <p:cNvPr id="475" name=""/>
                          <p:cNvGrpSpPr/>
                          <p:nvPr/>
                        </p:nvGrpSpPr>
                        <p:grpSpPr>
                          <a:xfrm>
                            <a:off x="3741840" y="3695760"/>
                            <a:ext cx="450000" cy="229320"/>
                            <a:chOff x="3741840" y="3695760"/>
                            <a:chExt cx="450000" cy="229320"/>
                          </a:xfrm>
                        </p:grpSpPr>
                        <p:sp>
                          <p:nvSpPr>
                            <p:cNvPr id="476" name=""/>
                            <p:cNvSpPr/>
                            <p:nvPr/>
                          </p:nvSpPr>
                          <p:spPr>
                            <a:xfrm>
                              <a:off x="3741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396684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8" name=""/>
                          <p:cNvGrpSpPr/>
                          <p:nvPr/>
                        </p:nvGrpSpPr>
                        <p:grpSpPr>
                          <a:xfrm>
                            <a:off x="4192200" y="3695760"/>
                            <a:ext cx="450720" cy="229320"/>
                            <a:chOff x="4192200" y="3695760"/>
                            <a:chExt cx="450720" cy="229320"/>
                          </a:xfrm>
                        </p:grpSpPr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41922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/>
                            <p:nvPr/>
                          </p:nvSpPr>
                          <p:spPr>
                            <a:xfrm>
                              <a:off x="441756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1" name=""/>
                      <p:cNvGrpSpPr/>
                      <p:nvPr/>
                    </p:nvGrpSpPr>
                    <p:grpSpPr>
                      <a:xfrm>
                        <a:off x="4641120" y="3695760"/>
                        <a:ext cx="1799640" cy="229320"/>
                        <a:chOff x="4641120" y="3695760"/>
                        <a:chExt cx="1799640" cy="229320"/>
                      </a:xfrm>
                    </p:grpSpPr>
                    <p:grpSp>
                      <p:nvGrpSpPr>
                        <p:cNvPr id="482" name=""/>
                        <p:cNvGrpSpPr/>
                        <p:nvPr/>
                      </p:nvGrpSpPr>
                      <p:grpSpPr>
                        <a:xfrm>
                          <a:off x="4641120" y="3695760"/>
                          <a:ext cx="900000" cy="229320"/>
                          <a:chOff x="4641120" y="3695760"/>
                          <a:chExt cx="900000" cy="229320"/>
                        </a:xfrm>
                      </p:grpSpPr>
                      <p:grpSp>
                        <p:nvGrpSpPr>
                          <p:cNvPr id="483" name=""/>
                          <p:cNvGrpSpPr/>
                          <p:nvPr/>
                        </p:nvGrpSpPr>
                        <p:grpSpPr>
                          <a:xfrm>
                            <a:off x="4641120" y="3695760"/>
                            <a:ext cx="449280" cy="229320"/>
                            <a:chOff x="4641120" y="3695760"/>
                            <a:chExt cx="449280" cy="229320"/>
                          </a:xfrm>
                        </p:grpSpPr>
                        <p:sp>
                          <p:nvSpPr>
                            <p:cNvPr id="484" name=""/>
                            <p:cNvSpPr/>
                            <p:nvPr/>
                          </p:nvSpPr>
                          <p:spPr>
                            <a:xfrm>
                              <a:off x="464112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4865760" y="3695760"/>
                              <a:ext cx="22464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6" name=""/>
                          <p:cNvGrpSpPr/>
                          <p:nvPr/>
                        </p:nvGrpSpPr>
                        <p:grpSpPr>
                          <a:xfrm>
                            <a:off x="5091120" y="3695760"/>
                            <a:ext cx="450000" cy="229320"/>
                            <a:chOff x="5091120" y="3695760"/>
                            <a:chExt cx="450000" cy="229320"/>
                          </a:xfrm>
                        </p:grpSpPr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5091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8" name=""/>
                            <p:cNvSpPr/>
                            <p:nvPr/>
                          </p:nvSpPr>
                          <p:spPr>
                            <a:xfrm>
                              <a:off x="531612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5539680" y="3695760"/>
                          <a:ext cx="901080" cy="229320"/>
                          <a:chOff x="5539680" y="3695760"/>
                          <a:chExt cx="901080" cy="22932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5539680" y="3695760"/>
                            <a:ext cx="450000" cy="229320"/>
                            <a:chOff x="5539680" y="3695760"/>
                            <a:chExt cx="450000" cy="22932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5539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/>
                            <p:nvPr/>
                          </p:nvSpPr>
                          <p:spPr>
                            <a:xfrm>
                              <a:off x="5764680" y="3695760"/>
                              <a:ext cx="22500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3" name=""/>
                          <p:cNvGrpSpPr/>
                          <p:nvPr/>
                        </p:nvGrpSpPr>
                        <p:grpSpPr>
                          <a:xfrm>
                            <a:off x="5990040" y="3695760"/>
                            <a:ext cx="450720" cy="229320"/>
                            <a:chOff x="5990040" y="3695760"/>
                            <a:chExt cx="450720" cy="229320"/>
                          </a:xfrm>
                        </p:grpSpPr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599004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6215400" y="3695760"/>
                              <a:ext cx="225360" cy="2293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2843280" y="4156560"/>
                      <a:ext cx="3597480" cy="228600"/>
                      <a:chOff x="2843280" y="4156560"/>
                      <a:chExt cx="3597480" cy="228600"/>
                    </a:xfrm>
                  </p:grpSpPr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2843280" y="4156560"/>
                        <a:ext cx="1799640" cy="228600"/>
                        <a:chOff x="2843280" y="4156560"/>
                        <a:chExt cx="1799640" cy="2286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2843280" y="4156560"/>
                          <a:ext cx="900000" cy="228600"/>
                          <a:chOff x="2843280" y="4156560"/>
                          <a:chExt cx="900000" cy="2286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2843280" y="4156560"/>
                            <a:ext cx="449280" cy="228600"/>
                            <a:chOff x="2843280" y="4156560"/>
                            <a:chExt cx="449280" cy="228600"/>
                          </a:xfrm>
                        </p:grpSpPr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284328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30679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2" name=""/>
                          <p:cNvGrpSpPr/>
                          <p:nvPr/>
                        </p:nvGrpSpPr>
                        <p:grpSpPr>
                          <a:xfrm>
                            <a:off x="3293280" y="4156560"/>
                            <a:ext cx="450000" cy="228600"/>
                            <a:chOff x="3293280" y="4156560"/>
                            <a:chExt cx="450000" cy="228600"/>
                          </a:xfrm>
                        </p:grpSpPr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3293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35182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05" name=""/>
                        <p:cNvGrpSpPr/>
                        <p:nvPr/>
                      </p:nvGrpSpPr>
                      <p:grpSpPr>
                        <a:xfrm>
                          <a:off x="3741840" y="4156560"/>
                          <a:ext cx="901080" cy="228600"/>
                          <a:chOff x="3741840" y="4156560"/>
                          <a:chExt cx="901080" cy="228600"/>
                        </a:xfrm>
                      </p:grpSpPr>
                      <p:grpSp>
                        <p:nvGrpSpPr>
                          <p:cNvPr id="506" name=""/>
                          <p:cNvGrpSpPr/>
                          <p:nvPr/>
                        </p:nvGrpSpPr>
                        <p:grpSpPr>
                          <a:xfrm>
                            <a:off x="3741840" y="4156560"/>
                            <a:ext cx="450000" cy="228600"/>
                            <a:chOff x="3741840" y="4156560"/>
                            <a:chExt cx="450000" cy="228600"/>
                          </a:xfrm>
                        </p:grpSpPr>
                        <p:sp>
                          <p:nvSpPr>
                            <p:cNvPr id="507" name=""/>
                            <p:cNvSpPr/>
                            <p:nvPr/>
                          </p:nvSpPr>
                          <p:spPr>
                            <a:xfrm>
                              <a:off x="3741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/>
                            <p:nvPr/>
                          </p:nvSpPr>
                          <p:spPr>
                            <a:xfrm>
                              <a:off x="396684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9" name=""/>
                          <p:cNvGrpSpPr/>
                          <p:nvPr/>
                        </p:nvGrpSpPr>
                        <p:grpSpPr>
                          <a:xfrm>
                            <a:off x="4192200" y="4156560"/>
                            <a:ext cx="450720" cy="228600"/>
                            <a:chOff x="4192200" y="4156560"/>
                            <a:chExt cx="450720" cy="228600"/>
                          </a:xfrm>
                        </p:grpSpPr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41922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441756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12" name=""/>
                      <p:cNvGrpSpPr/>
                      <p:nvPr/>
                    </p:nvGrpSpPr>
                    <p:grpSpPr>
                      <a:xfrm>
                        <a:off x="4641120" y="4156560"/>
                        <a:ext cx="1799640" cy="228600"/>
                        <a:chOff x="4641120" y="4156560"/>
                        <a:chExt cx="1799640" cy="228600"/>
                      </a:xfrm>
                    </p:grpSpPr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641120" y="4156560"/>
                          <a:ext cx="900000" cy="228600"/>
                          <a:chOff x="4641120" y="4156560"/>
                          <a:chExt cx="900000" cy="228600"/>
                        </a:xfrm>
                      </p:grpSpPr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4641120" y="4156560"/>
                            <a:ext cx="449280" cy="228600"/>
                            <a:chOff x="4641120" y="4156560"/>
                            <a:chExt cx="449280" cy="228600"/>
                          </a:xfrm>
                        </p:grpSpPr>
                        <p:sp>
                          <p:nvSpPr>
                            <p:cNvPr id="515" name=""/>
                            <p:cNvSpPr/>
                            <p:nvPr/>
                          </p:nvSpPr>
                          <p:spPr>
                            <a:xfrm>
                              <a:off x="464112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6" name=""/>
                            <p:cNvSpPr/>
                            <p:nvPr/>
                          </p:nvSpPr>
                          <p:spPr>
                            <a:xfrm>
                              <a:off x="4865760" y="415656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7" name=""/>
                          <p:cNvGrpSpPr/>
                          <p:nvPr/>
                        </p:nvGrpSpPr>
                        <p:grpSpPr>
                          <a:xfrm>
                            <a:off x="5091120" y="4156560"/>
                            <a:ext cx="450000" cy="228600"/>
                            <a:chOff x="5091120" y="4156560"/>
                            <a:chExt cx="450000" cy="228600"/>
                          </a:xfrm>
                        </p:grpSpPr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5091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531612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0" name=""/>
                        <p:cNvGrpSpPr/>
                        <p:nvPr/>
                      </p:nvGrpSpPr>
                      <p:grpSpPr>
                        <a:xfrm>
                          <a:off x="5539680" y="4156560"/>
                          <a:ext cx="901080" cy="228600"/>
                          <a:chOff x="5539680" y="4156560"/>
                          <a:chExt cx="901080" cy="228600"/>
                        </a:xfrm>
                      </p:grpSpPr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5539680" y="4156560"/>
                            <a:ext cx="450000" cy="228600"/>
                            <a:chOff x="5539680" y="4156560"/>
                            <a:chExt cx="450000" cy="228600"/>
                          </a:xfrm>
                        </p:grpSpPr>
                        <p:sp>
                          <p:nvSpPr>
                            <p:cNvPr id="522" name=""/>
                            <p:cNvSpPr/>
                            <p:nvPr/>
                          </p:nvSpPr>
                          <p:spPr>
                            <a:xfrm>
                              <a:off x="5539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/>
                            <p:nvPr/>
                          </p:nvSpPr>
                          <p:spPr>
                            <a:xfrm>
                              <a:off x="5764680" y="415656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4" name=""/>
                          <p:cNvGrpSpPr/>
                          <p:nvPr/>
                        </p:nvGrpSpPr>
                        <p:grpSpPr>
                          <a:xfrm>
                            <a:off x="5990040" y="4156560"/>
                            <a:ext cx="450720" cy="228600"/>
                            <a:chOff x="5990040" y="4156560"/>
                            <a:chExt cx="450720" cy="228600"/>
                          </a:xfrm>
                        </p:grpSpPr>
                        <p:sp>
                          <p:nvSpPr>
                            <p:cNvPr id="525" name=""/>
                            <p:cNvSpPr/>
                            <p:nvPr/>
                          </p:nvSpPr>
                          <p:spPr>
                            <a:xfrm>
                              <a:off x="599004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6215400" y="415656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843280" y="4384800"/>
                    <a:ext cx="3597480" cy="919440"/>
                    <a:chOff x="2843280" y="4384800"/>
                    <a:chExt cx="3597480" cy="919440"/>
                  </a:xfrm>
                </p:grpSpPr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843280" y="4384800"/>
                      <a:ext cx="3597480" cy="228600"/>
                      <a:chOff x="2843280" y="4384800"/>
                      <a:chExt cx="3597480" cy="228600"/>
                    </a:xfrm>
                  </p:grpSpPr>
                  <p:grpSp>
                    <p:nvGrpSpPr>
                      <p:cNvPr id="529" name=""/>
                      <p:cNvGrpSpPr/>
                      <p:nvPr/>
                    </p:nvGrpSpPr>
                    <p:grpSpPr>
                      <a:xfrm>
                        <a:off x="2843280" y="4384800"/>
                        <a:ext cx="1799640" cy="228600"/>
                        <a:chOff x="2843280" y="4384800"/>
                        <a:chExt cx="1799640" cy="228600"/>
                      </a:xfrm>
                    </p:grpSpPr>
                    <p:grpSp>
                      <p:nvGrpSpPr>
                        <p:cNvPr id="530" name=""/>
                        <p:cNvGrpSpPr/>
                        <p:nvPr/>
                      </p:nvGrpSpPr>
                      <p:grpSpPr>
                        <a:xfrm>
                          <a:off x="2843280" y="4384800"/>
                          <a:ext cx="900000" cy="228600"/>
                          <a:chOff x="2843280" y="4384800"/>
                          <a:chExt cx="900000" cy="228600"/>
                        </a:xfrm>
                      </p:grpSpPr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2843280" y="4384800"/>
                            <a:ext cx="449280" cy="228600"/>
                            <a:chOff x="2843280" y="4384800"/>
                            <a:chExt cx="449280" cy="228600"/>
                          </a:xfrm>
                        </p:grpSpPr>
                        <p:sp>
                          <p:nvSpPr>
                            <p:cNvPr id="532" name=""/>
                            <p:cNvSpPr/>
                            <p:nvPr/>
                          </p:nvSpPr>
                          <p:spPr>
                            <a:xfrm>
                              <a:off x="284328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/>
                            <p:nvPr/>
                          </p:nvSpPr>
                          <p:spPr>
                            <a:xfrm>
                              <a:off x="30679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4" name=""/>
                          <p:cNvGrpSpPr/>
                          <p:nvPr/>
                        </p:nvGrpSpPr>
                        <p:grpSpPr>
                          <a:xfrm>
                            <a:off x="3293280" y="4384800"/>
                            <a:ext cx="450000" cy="228600"/>
                            <a:chOff x="3293280" y="4384800"/>
                            <a:chExt cx="450000" cy="228600"/>
                          </a:xfrm>
                        </p:grpSpPr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3293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35182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37" name=""/>
                        <p:cNvGrpSpPr/>
                        <p:nvPr/>
                      </p:nvGrpSpPr>
                      <p:grpSpPr>
                        <a:xfrm>
                          <a:off x="3741840" y="4384800"/>
                          <a:ext cx="901080" cy="228600"/>
                          <a:chOff x="3741840" y="4384800"/>
                          <a:chExt cx="901080" cy="228600"/>
                        </a:xfrm>
                      </p:grpSpPr>
                      <p:grpSp>
                        <p:nvGrpSpPr>
                          <p:cNvPr id="538" name=""/>
                          <p:cNvGrpSpPr/>
                          <p:nvPr/>
                        </p:nvGrpSpPr>
                        <p:grpSpPr>
                          <a:xfrm>
                            <a:off x="3741840" y="4384800"/>
                            <a:ext cx="450000" cy="228600"/>
                            <a:chOff x="3741840" y="4384800"/>
                            <a:chExt cx="450000" cy="228600"/>
                          </a:xfrm>
                        </p:grpSpPr>
                        <p:sp>
                          <p:nvSpPr>
                            <p:cNvPr id="539" name=""/>
                            <p:cNvSpPr/>
                            <p:nvPr/>
                          </p:nvSpPr>
                          <p:spPr>
                            <a:xfrm>
                              <a:off x="3741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0" name=""/>
                            <p:cNvSpPr/>
                            <p:nvPr/>
                          </p:nvSpPr>
                          <p:spPr>
                            <a:xfrm>
                              <a:off x="396684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1" name=""/>
                          <p:cNvGrpSpPr/>
                          <p:nvPr/>
                        </p:nvGrpSpPr>
                        <p:grpSpPr>
                          <a:xfrm>
                            <a:off x="4192200" y="4384800"/>
                            <a:ext cx="450720" cy="228600"/>
                            <a:chOff x="4192200" y="4384800"/>
                            <a:chExt cx="450720" cy="228600"/>
                          </a:xfrm>
                        </p:grpSpPr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41922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441756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4" name=""/>
                      <p:cNvGrpSpPr/>
                      <p:nvPr/>
                    </p:nvGrpSpPr>
                    <p:grpSpPr>
                      <a:xfrm>
                        <a:off x="4641120" y="4384800"/>
                        <a:ext cx="1799640" cy="228600"/>
                        <a:chOff x="4641120" y="4384800"/>
                        <a:chExt cx="1799640" cy="228600"/>
                      </a:xfrm>
                    </p:grpSpPr>
                    <p:grpSp>
                      <p:nvGrpSpPr>
                        <p:cNvPr id="545" name=""/>
                        <p:cNvGrpSpPr/>
                        <p:nvPr/>
                      </p:nvGrpSpPr>
                      <p:grpSpPr>
                        <a:xfrm>
                          <a:off x="4641120" y="4384800"/>
                          <a:ext cx="900000" cy="228600"/>
                          <a:chOff x="4641120" y="4384800"/>
                          <a:chExt cx="900000" cy="228600"/>
                        </a:xfrm>
                      </p:grpSpPr>
                      <p:grpSp>
                        <p:nvGrpSpPr>
                          <p:cNvPr id="546" name=""/>
                          <p:cNvGrpSpPr/>
                          <p:nvPr/>
                        </p:nvGrpSpPr>
                        <p:grpSpPr>
                          <a:xfrm>
                            <a:off x="4641120" y="4384800"/>
                            <a:ext cx="449280" cy="228600"/>
                            <a:chOff x="4641120" y="4384800"/>
                            <a:chExt cx="449280" cy="228600"/>
                          </a:xfrm>
                        </p:grpSpPr>
                        <p:sp>
                          <p:nvSpPr>
                            <p:cNvPr id="547" name=""/>
                            <p:cNvSpPr/>
                            <p:nvPr/>
                          </p:nvSpPr>
                          <p:spPr>
                            <a:xfrm>
                              <a:off x="464112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8" name=""/>
                            <p:cNvSpPr/>
                            <p:nvPr/>
                          </p:nvSpPr>
                          <p:spPr>
                            <a:xfrm>
                              <a:off x="4865760" y="43848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9" name=""/>
                          <p:cNvGrpSpPr/>
                          <p:nvPr/>
                        </p:nvGrpSpPr>
                        <p:grpSpPr>
                          <a:xfrm>
                            <a:off x="5091120" y="4384800"/>
                            <a:ext cx="450000" cy="228600"/>
                            <a:chOff x="5091120" y="4384800"/>
                            <a:chExt cx="450000" cy="228600"/>
                          </a:xfrm>
                        </p:grpSpPr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5091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531612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2" name=""/>
                        <p:cNvGrpSpPr/>
                        <p:nvPr/>
                      </p:nvGrpSpPr>
                      <p:grpSpPr>
                        <a:xfrm>
                          <a:off x="5539680" y="4384800"/>
                          <a:ext cx="901080" cy="228600"/>
                          <a:chOff x="5539680" y="4384800"/>
                          <a:chExt cx="901080" cy="228600"/>
                        </a:xfrm>
                      </p:grpSpPr>
                      <p:grpSp>
                        <p:nvGrpSpPr>
                          <p:cNvPr id="553" name=""/>
                          <p:cNvGrpSpPr/>
                          <p:nvPr/>
                        </p:nvGrpSpPr>
                        <p:grpSpPr>
                          <a:xfrm>
                            <a:off x="5539680" y="4384800"/>
                            <a:ext cx="450000" cy="228600"/>
                            <a:chOff x="5539680" y="4384800"/>
                            <a:chExt cx="450000" cy="228600"/>
                          </a:xfrm>
                        </p:grpSpPr>
                        <p:sp>
                          <p:nvSpPr>
                            <p:cNvPr id="554" name=""/>
                            <p:cNvSpPr/>
                            <p:nvPr/>
                          </p:nvSpPr>
                          <p:spPr>
                            <a:xfrm>
                              <a:off x="5539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5764680" y="43848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6" name=""/>
                          <p:cNvGrpSpPr/>
                          <p:nvPr/>
                        </p:nvGrpSpPr>
                        <p:grpSpPr>
                          <a:xfrm>
                            <a:off x="5990040" y="4384800"/>
                            <a:ext cx="450720" cy="228600"/>
                            <a:chOff x="5990040" y="4384800"/>
                            <a:chExt cx="450720" cy="228600"/>
                          </a:xfrm>
                        </p:grpSpPr>
                        <p:sp>
                          <p:nvSpPr>
                            <p:cNvPr id="557" name=""/>
                            <p:cNvSpPr/>
                            <p:nvPr/>
                          </p:nvSpPr>
                          <p:spPr>
                            <a:xfrm>
                              <a:off x="599004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6215400" y="43848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2843280" y="4845600"/>
                      <a:ext cx="3597480" cy="228600"/>
                      <a:chOff x="2843280" y="4845600"/>
                      <a:chExt cx="3597480" cy="228600"/>
                    </a:xfrm>
                  </p:grpSpPr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2843280" y="4845600"/>
                        <a:ext cx="1799640" cy="228600"/>
                        <a:chOff x="2843280" y="4845600"/>
                        <a:chExt cx="1799640" cy="228600"/>
                      </a:xfrm>
                    </p:grpSpPr>
                    <p:grpSp>
                      <p:nvGrpSpPr>
                        <p:cNvPr id="561" name=""/>
                        <p:cNvGrpSpPr/>
                        <p:nvPr/>
                      </p:nvGrpSpPr>
                      <p:grpSpPr>
                        <a:xfrm>
                          <a:off x="2843280" y="4845600"/>
                          <a:ext cx="900000" cy="228600"/>
                          <a:chOff x="2843280" y="4845600"/>
                          <a:chExt cx="900000" cy="228600"/>
                        </a:xfrm>
                      </p:grpSpPr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2843280" y="4845600"/>
                            <a:ext cx="449280" cy="228600"/>
                            <a:chOff x="2843280" y="4845600"/>
                            <a:chExt cx="449280" cy="228600"/>
                          </a:xfrm>
                        </p:grpSpPr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84328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/>
                            <p:nvPr/>
                          </p:nvSpPr>
                          <p:spPr>
                            <a:xfrm>
                              <a:off x="30679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5" name=""/>
                          <p:cNvGrpSpPr/>
                          <p:nvPr/>
                        </p:nvGrpSpPr>
                        <p:grpSpPr>
                          <a:xfrm>
                            <a:off x="3293280" y="4845600"/>
                            <a:ext cx="450000" cy="228600"/>
                            <a:chOff x="3293280" y="4845600"/>
                            <a:chExt cx="450000" cy="228600"/>
                          </a:xfrm>
                        </p:grpSpPr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3293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35182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3741840" y="4845600"/>
                          <a:ext cx="901080" cy="228600"/>
                          <a:chOff x="3741840" y="4845600"/>
                          <a:chExt cx="901080" cy="228600"/>
                        </a:xfrm>
                      </p:grpSpPr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3741840" y="4845600"/>
                            <a:ext cx="450000" cy="228600"/>
                            <a:chOff x="3741840" y="4845600"/>
                            <a:chExt cx="450000" cy="22860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3741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396684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" name=""/>
                          <p:cNvGrpSpPr/>
                          <p:nvPr/>
                        </p:nvGrpSpPr>
                        <p:grpSpPr>
                          <a:xfrm>
                            <a:off x="4192200" y="4845600"/>
                            <a:ext cx="450720" cy="228600"/>
                            <a:chOff x="4192200" y="4845600"/>
                            <a:chExt cx="450720" cy="228600"/>
                          </a:xfrm>
                        </p:grpSpPr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41922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441756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5" name=""/>
                      <p:cNvGrpSpPr/>
                      <p:nvPr/>
                    </p:nvGrpSpPr>
                    <p:grpSpPr>
                      <a:xfrm>
                        <a:off x="4641120" y="4845600"/>
                        <a:ext cx="1799640" cy="228600"/>
                        <a:chOff x="4641120" y="4845600"/>
                        <a:chExt cx="1799640" cy="228600"/>
                      </a:xfrm>
                    </p:grpSpPr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4641120" y="4845600"/>
                          <a:ext cx="900000" cy="228600"/>
                          <a:chOff x="4641120" y="4845600"/>
                          <a:chExt cx="900000" cy="228600"/>
                        </a:xfrm>
                      </p:grpSpPr>
                      <p:grpSp>
                        <p:nvGrpSpPr>
                          <p:cNvPr id="577" name=""/>
                          <p:cNvGrpSpPr/>
                          <p:nvPr/>
                        </p:nvGrpSpPr>
                        <p:grpSpPr>
                          <a:xfrm>
                            <a:off x="4641120" y="4845600"/>
                            <a:ext cx="449280" cy="228600"/>
                            <a:chOff x="4641120" y="4845600"/>
                            <a:chExt cx="449280" cy="228600"/>
                          </a:xfrm>
                        </p:grpSpPr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464112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"/>
                            <p:cNvSpPr/>
                            <p:nvPr/>
                          </p:nvSpPr>
                          <p:spPr>
                            <a:xfrm>
                              <a:off x="4865760" y="484560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0" name=""/>
                          <p:cNvGrpSpPr/>
                          <p:nvPr/>
                        </p:nvGrpSpPr>
                        <p:grpSpPr>
                          <a:xfrm>
                            <a:off x="5091120" y="4845600"/>
                            <a:ext cx="450000" cy="228600"/>
                            <a:chOff x="5091120" y="4845600"/>
                            <a:chExt cx="450000" cy="228600"/>
                          </a:xfrm>
                        </p:grpSpPr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5091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531612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83" name=""/>
                        <p:cNvGrpSpPr/>
                        <p:nvPr/>
                      </p:nvGrpSpPr>
                      <p:grpSpPr>
                        <a:xfrm>
                          <a:off x="5539680" y="4845600"/>
                          <a:ext cx="901080" cy="228600"/>
                          <a:chOff x="5539680" y="4845600"/>
                          <a:chExt cx="901080" cy="228600"/>
                        </a:xfrm>
                      </p:grpSpPr>
                      <p:grpSp>
                        <p:nvGrpSpPr>
                          <p:cNvPr id="584" name=""/>
                          <p:cNvGrpSpPr/>
                          <p:nvPr/>
                        </p:nvGrpSpPr>
                        <p:grpSpPr>
                          <a:xfrm>
                            <a:off x="5539680" y="4845600"/>
                            <a:ext cx="450000" cy="228600"/>
                            <a:chOff x="5539680" y="4845600"/>
                            <a:chExt cx="450000" cy="228600"/>
                          </a:xfrm>
                        </p:grpSpPr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5539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5764680" y="484560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7" name=""/>
                          <p:cNvGrpSpPr/>
                          <p:nvPr/>
                        </p:nvGrpSpPr>
                        <p:grpSpPr>
                          <a:xfrm>
                            <a:off x="5990040" y="4845600"/>
                            <a:ext cx="450720" cy="228600"/>
                            <a:chOff x="5990040" y="4845600"/>
                            <a:chExt cx="450720" cy="228600"/>
                          </a:xfrm>
                        </p:grpSpPr>
                        <p:sp>
                          <p:nvSpPr>
                            <p:cNvPr id="588" name=""/>
                            <p:cNvSpPr/>
                            <p:nvPr/>
                          </p:nvSpPr>
                          <p:spPr>
                            <a:xfrm>
                              <a:off x="599004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6215400" y="484560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2843280" y="4614840"/>
                      <a:ext cx="3597480" cy="228960"/>
                      <a:chOff x="2843280" y="4614840"/>
                      <a:chExt cx="3597480" cy="228960"/>
                    </a:xfrm>
                  </p:grpSpPr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2843280" y="4614840"/>
                        <a:ext cx="1799640" cy="228960"/>
                        <a:chOff x="2843280" y="4614840"/>
                        <a:chExt cx="1799640" cy="228960"/>
                      </a:xfrm>
                    </p:grpSpPr>
                    <p:grpSp>
                      <p:nvGrpSpPr>
                        <p:cNvPr id="592" name=""/>
                        <p:cNvGrpSpPr/>
                        <p:nvPr/>
                      </p:nvGrpSpPr>
                      <p:grpSpPr>
                        <a:xfrm>
                          <a:off x="2843280" y="4614840"/>
                          <a:ext cx="900000" cy="228960"/>
                          <a:chOff x="2843280" y="4614840"/>
                          <a:chExt cx="900000" cy="228960"/>
                        </a:xfrm>
                      </p:grpSpPr>
                      <p:grpSp>
                        <p:nvGrpSpPr>
                          <p:cNvPr id="593" name=""/>
                          <p:cNvGrpSpPr/>
                          <p:nvPr/>
                        </p:nvGrpSpPr>
                        <p:grpSpPr>
                          <a:xfrm>
                            <a:off x="2843280" y="4614840"/>
                            <a:ext cx="449280" cy="228960"/>
                            <a:chOff x="2843280" y="4614840"/>
                            <a:chExt cx="449280" cy="228960"/>
                          </a:xfrm>
                        </p:grpSpPr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284328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30679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3293280" y="4614840"/>
                            <a:ext cx="450000" cy="228960"/>
                            <a:chOff x="3293280" y="4614840"/>
                            <a:chExt cx="450000" cy="228960"/>
                          </a:xfrm>
                        </p:grpSpPr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3293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35182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9" name=""/>
                        <p:cNvGrpSpPr/>
                        <p:nvPr/>
                      </p:nvGrpSpPr>
                      <p:grpSpPr>
                        <a:xfrm>
                          <a:off x="3741840" y="4614840"/>
                          <a:ext cx="901080" cy="228960"/>
                          <a:chOff x="3741840" y="4614840"/>
                          <a:chExt cx="901080" cy="228960"/>
                        </a:xfrm>
                      </p:grpSpPr>
                      <p:grpSp>
                        <p:nvGrpSpPr>
                          <p:cNvPr id="600" name=""/>
                          <p:cNvGrpSpPr/>
                          <p:nvPr/>
                        </p:nvGrpSpPr>
                        <p:grpSpPr>
                          <a:xfrm>
                            <a:off x="3741840" y="4614840"/>
                            <a:ext cx="450000" cy="228960"/>
                            <a:chOff x="3741840" y="4614840"/>
                            <a:chExt cx="450000" cy="228960"/>
                          </a:xfrm>
                        </p:grpSpPr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3741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396684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3" name=""/>
                          <p:cNvGrpSpPr/>
                          <p:nvPr/>
                        </p:nvGrpSpPr>
                        <p:grpSpPr>
                          <a:xfrm>
                            <a:off x="4192200" y="4614840"/>
                            <a:ext cx="450720" cy="228960"/>
                            <a:chOff x="4192200" y="4614840"/>
                            <a:chExt cx="450720" cy="228960"/>
                          </a:xfrm>
                        </p:grpSpPr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>
                              <a:off x="41922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"/>
                            <p:cNvSpPr/>
                            <p:nvPr/>
                          </p:nvSpPr>
                          <p:spPr>
                            <a:xfrm>
                              <a:off x="441756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4641120" y="4614840"/>
                        <a:ext cx="1799640" cy="228960"/>
                        <a:chOff x="4641120" y="4614840"/>
                        <a:chExt cx="1799640" cy="228960"/>
                      </a:xfrm>
                    </p:grpSpPr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4641120" y="4614840"/>
                          <a:ext cx="900000" cy="228960"/>
                          <a:chOff x="4641120" y="4614840"/>
                          <a:chExt cx="900000" cy="228960"/>
                        </a:xfrm>
                      </p:grpSpPr>
                      <p:grpSp>
                        <p:nvGrpSpPr>
                          <p:cNvPr id="608" name=""/>
                          <p:cNvGrpSpPr/>
                          <p:nvPr/>
                        </p:nvGrpSpPr>
                        <p:grpSpPr>
                          <a:xfrm>
                            <a:off x="4641120" y="4614840"/>
                            <a:ext cx="449280" cy="228960"/>
                            <a:chOff x="4641120" y="4614840"/>
                            <a:chExt cx="449280" cy="228960"/>
                          </a:xfrm>
                        </p:grpSpPr>
                        <p:sp>
                          <p:nvSpPr>
                            <p:cNvPr id="609" name=""/>
                            <p:cNvSpPr/>
                            <p:nvPr/>
                          </p:nvSpPr>
                          <p:spPr>
                            <a:xfrm>
                              <a:off x="464112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865760" y="4614840"/>
                              <a:ext cx="22464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1" name=""/>
                          <p:cNvGrpSpPr/>
                          <p:nvPr/>
                        </p:nvGrpSpPr>
                        <p:grpSpPr>
                          <a:xfrm>
                            <a:off x="5091120" y="4614840"/>
                            <a:ext cx="450000" cy="228960"/>
                            <a:chOff x="5091120" y="4614840"/>
                            <a:chExt cx="450000" cy="228960"/>
                          </a:xfrm>
                        </p:grpSpPr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5091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>
                              <a:off x="531612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4" name=""/>
                        <p:cNvGrpSpPr/>
                        <p:nvPr/>
                      </p:nvGrpSpPr>
                      <p:grpSpPr>
                        <a:xfrm>
                          <a:off x="5539680" y="4614840"/>
                          <a:ext cx="901080" cy="228960"/>
                          <a:chOff x="5539680" y="4614840"/>
                          <a:chExt cx="901080" cy="228960"/>
                        </a:xfrm>
                      </p:grpSpPr>
                      <p:grpSp>
                        <p:nvGrpSpPr>
                          <p:cNvPr id="615" name=""/>
                          <p:cNvGrpSpPr/>
                          <p:nvPr/>
                        </p:nvGrpSpPr>
                        <p:grpSpPr>
                          <a:xfrm>
                            <a:off x="5539680" y="4614840"/>
                            <a:ext cx="450000" cy="228960"/>
                            <a:chOff x="5539680" y="4614840"/>
                            <a:chExt cx="450000" cy="228960"/>
                          </a:xfrm>
                        </p:grpSpPr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>
                              <a:off x="5539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"/>
                            <p:cNvSpPr/>
                            <p:nvPr/>
                          </p:nvSpPr>
                          <p:spPr>
                            <a:xfrm>
                              <a:off x="5764680" y="4614840"/>
                              <a:ext cx="22500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990040" y="4614840"/>
                            <a:ext cx="450720" cy="228960"/>
                            <a:chOff x="5990040" y="4614840"/>
                            <a:chExt cx="450720" cy="22896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>
                              <a:off x="599004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6215400" y="4614840"/>
                              <a:ext cx="225360" cy="22896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843280" y="5075640"/>
                      <a:ext cx="3597480" cy="228600"/>
                      <a:chOff x="2843280" y="5075640"/>
                      <a:chExt cx="3597480" cy="228600"/>
                    </a:xfrm>
                  </p:grpSpPr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2843280" y="5075640"/>
                        <a:ext cx="1799640" cy="228600"/>
                        <a:chOff x="2843280" y="5075640"/>
                        <a:chExt cx="1799640" cy="228600"/>
                      </a:xfrm>
                    </p:grpSpPr>
                    <p:grpSp>
                      <p:nvGrpSpPr>
                        <p:cNvPr id="623" name=""/>
                        <p:cNvGrpSpPr/>
                        <p:nvPr/>
                      </p:nvGrpSpPr>
                      <p:grpSpPr>
                        <a:xfrm>
                          <a:off x="2843280" y="5075640"/>
                          <a:ext cx="900000" cy="228600"/>
                          <a:chOff x="2843280" y="5075640"/>
                          <a:chExt cx="900000" cy="228600"/>
                        </a:xfrm>
                      </p:grpSpPr>
                      <p:grpSp>
                        <p:nvGrpSpPr>
                          <p:cNvPr id="624" name=""/>
                          <p:cNvGrpSpPr/>
                          <p:nvPr/>
                        </p:nvGrpSpPr>
                        <p:grpSpPr>
                          <a:xfrm>
                            <a:off x="2843280" y="5075640"/>
                            <a:ext cx="449280" cy="228600"/>
                            <a:chOff x="2843280" y="5075640"/>
                            <a:chExt cx="449280" cy="228600"/>
                          </a:xfrm>
                        </p:grpSpPr>
                        <p:sp>
                          <p:nvSpPr>
                            <p:cNvPr id="625" name=""/>
                            <p:cNvSpPr/>
                            <p:nvPr/>
                          </p:nvSpPr>
                          <p:spPr>
                            <a:xfrm>
                              <a:off x="284328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6" name=""/>
                            <p:cNvSpPr/>
                            <p:nvPr/>
                          </p:nvSpPr>
                          <p:spPr>
                            <a:xfrm>
                              <a:off x="30679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7" name=""/>
                          <p:cNvGrpSpPr/>
                          <p:nvPr/>
                        </p:nvGrpSpPr>
                        <p:grpSpPr>
                          <a:xfrm>
                            <a:off x="3293280" y="5075640"/>
                            <a:ext cx="450000" cy="228600"/>
                            <a:chOff x="3293280" y="5075640"/>
                            <a:chExt cx="450000" cy="228600"/>
                          </a:xfrm>
                        </p:grpSpPr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3293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35182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3741840" y="5075640"/>
                          <a:ext cx="901080" cy="228600"/>
                          <a:chOff x="3741840" y="5075640"/>
                          <a:chExt cx="901080" cy="228600"/>
                        </a:xfrm>
                      </p:grpSpPr>
                      <p:grpSp>
                        <p:nvGrpSpPr>
                          <p:cNvPr id="631" name=""/>
                          <p:cNvGrpSpPr/>
                          <p:nvPr/>
                        </p:nvGrpSpPr>
                        <p:grpSpPr>
                          <a:xfrm>
                            <a:off x="3741840" y="5075640"/>
                            <a:ext cx="450000" cy="228600"/>
                            <a:chOff x="3741840" y="5075640"/>
                            <a:chExt cx="450000" cy="228600"/>
                          </a:xfrm>
                        </p:grpSpPr>
                        <p:sp>
                          <p:nvSpPr>
                            <p:cNvPr id="632" name=""/>
                            <p:cNvSpPr/>
                            <p:nvPr/>
                          </p:nvSpPr>
                          <p:spPr>
                            <a:xfrm>
                              <a:off x="3741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3" name=""/>
                            <p:cNvSpPr/>
                            <p:nvPr/>
                          </p:nvSpPr>
                          <p:spPr>
                            <a:xfrm>
                              <a:off x="396684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4" name=""/>
                          <p:cNvGrpSpPr/>
                          <p:nvPr/>
                        </p:nvGrpSpPr>
                        <p:grpSpPr>
                          <a:xfrm>
                            <a:off x="4192200" y="5075640"/>
                            <a:ext cx="450720" cy="228600"/>
                            <a:chOff x="4192200" y="5075640"/>
                            <a:chExt cx="450720" cy="228600"/>
                          </a:xfrm>
                        </p:grpSpPr>
                        <p:sp>
                          <p:nvSpPr>
                            <p:cNvPr id="635" name=""/>
                            <p:cNvSpPr/>
                            <p:nvPr/>
                          </p:nvSpPr>
                          <p:spPr>
                            <a:xfrm>
                              <a:off x="41922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>
                              <a:off x="441756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4641120" y="5075640"/>
                        <a:ext cx="1799640" cy="228600"/>
                        <a:chOff x="4641120" y="5075640"/>
                        <a:chExt cx="1799640" cy="228600"/>
                      </a:xfrm>
                    </p:grpSpPr>
                    <p:grpSp>
                      <p:nvGrpSpPr>
                        <p:cNvPr id="638" name=""/>
                        <p:cNvGrpSpPr/>
                        <p:nvPr/>
                      </p:nvGrpSpPr>
                      <p:grpSpPr>
                        <a:xfrm>
                          <a:off x="4641120" y="5075640"/>
                          <a:ext cx="900000" cy="228600"/>
                          <a:chOff x="4641120" y="5075640"/>
                          <a:chExt cx="900000" cy="228600"/>
                        </a:xfrm>
                      </p:grpSpPr>
                      <p:grpSp>
                        <p:nvGrpSpPr>
                          <p:cNvPr id="639" name=""/>
                          <p:cNvGrpSpPr/>
                          <p:nvPr/>
                        </p:nvGrpSpPr>
                        <p:grpSpPr>
                          <a:xfrm>
                            <a:off x="4641120" y="5075640"/>
                            <a:ext cx="449280" cy="228600"/>
                            <a:chOff x="4641120" y="5075640"/>
                            <a:chExt cx="449280" cy="228600"/>
                          </a:xfrm>
                        </p:grpSpPr>
                        <p:sp>
                          <p:nvSpPr>
                            <p:cNvPr id="640" name=""/>
                            <p:cNvSpPr/>
                            <p:nvPr/>
                          </p:nvSpPr>
                          <p:spPr>
                            <a:xfrm>
                              <a:off x="464112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1" name=""/>
                            <p:cNvSpPr/>
                            <p:nvPr/>
                          </p:nvSpPr>
                          <p:spPr>
                            <a:xfrm>
                              <a:off x="4865760" y="5075640"/>
                              <a:ext cx="22464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2" name=""/>
                          <p:cNvGrpSpPr/>
                          <p:nvPr/>
                        </p:nvGrpSpPr>
                        <p:grpSpPr>
                          <a:xfrm>
                            <a:off x="5091120" y="5075640"/>
                            <a:ext cx="450000" cy="228600"/>
                            <a:chOff x="5091120" y="5075640"/>
                            <a:chExt cx="450000" cy="228600"/>
                          </a:xfrm>
                        </p:grpSpPr>
                        <p:sp>
                          <p:nvSpPr>
                            <p:cNvPr id="643" name=""/>
                            <p:cNvSpPr/>
                            <p:nvPr/>
                          </p:nvSpPr>
                          <p:spPr>
                            <a:xfrm>
                              <a:off x="5091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4" name=""/>
                            <p:cNvSpPr/>
                            <p:nvPr/>
                          </p:nvSpPr>
                          <p:spPr>
                            <a:xfrm>
                              <a:off x="531612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" name=""/>
                        <p:cNvGrpSpPr/>
                        <p:nvPr/>
                      </p:nvGrpSpPr>
                      <p:grpSpPr>
                        <a:xfrm>
                          <a:off x="5539680" y="5075640"/>
                          <a:ext cx="901080" cy="228600"/>
                          <a:chOff x="5539680" y="5075640"/>
                          <a:chExt cx="901080" cy="228600"/>
                        </a:xfrm>
                      </p:grpSpPr>
                      <p:grpSp>
                        <p:nvGrpSpPr>
                          <p:cNvPr id="646" name=""/>
                          <p:cNvGrpSpPr/>
                          <p:nvPr/>
                        </p:nvGrpSpPr>
                        <p:grpSpPr>
                          <a:xfrm>
                            <a:off x="5539680" y="5075640"/>
                            <a:ext cx="450000" cy="228600"/>
                            <a:chOff x="5539680" y="5075640"/>
                            <a:chExt cx="450000" cy="228600"/>
                          </a:xfrm>
                        </p:grpSpPr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5539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8" name=""/>
                            <p:cNvSpPr/>
                            <p:nvPr/>
                          </p:nvSpPr>
                          <p:spPr>
                            <a:xfrm>
                              <a:off x="5764680" y="5075640"/>
                              <a:ext cx="22500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9" name=""/>
                          <p:cNvGrpSpPr/>
                          <p:nvPr/>
                        </p:nvGrpSpPr>
                        <p:grpSpPr>
                          <a:xfrm>
                            <a:off x="5990040" y="5075640"/>
                            <a:ext cx="450720" cy="228600"/>
                            <a:chOff x="5990040" y="5075640"/>
                            <a:chExt cx="450720" cy="228600"/>
                          </a:xfrm>
                        </p:grpSpPr>
                        <p:sp>
                          <p:nvSpPr>
                            <p:cNvPr id="650" name=""/>
                            <p:cNvSpPr/>
                            <p:nvPr/>
                          </p:nvSpPr>
                          <p:spPr>
                            <a:xfrm>
                              <a:off x="599004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51" name=""/>
                            <p:cNvSpPr/>
                            <p:nvPr/>
                          </p:nvSpPr>
                          <p:spPr>
                            <a:xfrm>
                              <a:off x="6215400" y="5075640"/>
                              <a:ext cx="225360" cy="2286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2a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2a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  <p:sp>
              <p:nvSpPr>
                <p:cNvPr id="652" name=""/>
                <p:cNvSpPr/>
                <p:nvPr/>
              </p:nvSpPr>
              <p:spPr>
                <a:xfrm>
                  <a:off x="2843280" y="3466080"/>
                  <a:ext cx="3597840" cy="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4641840" y="1628640"/>
                  <a:ext cx="0" cy="3675600"/>
                </a:xfrm>
                <a:prstGeom prst="line">
                  <a:avLst/>
                </a:prstGeom>
                <a:ln w="38160">
                  <a:solidFill>
                    <a:srgbClr val="002a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284720" y="1628640"/>
                <a:ext cx="2303280" cy="2208960"/>
                <a:chOff x="4284720" y="1628640"/>
                <a:chExt cx="2303280" cy="2208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156360" y="3500280"/>
                  <a:ext cx="43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х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356000" y="350028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84720" y="162864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2a00"/>
                      </a:solidFill>
                      <a:latin typeface="Arial"/>
                    </a:rPr>
                    <a:t>у</a:t>
                  </a:r>
                  <a:endParaRPr b="0" lang="en-US" sz="16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"/>
            <p:cNvSpPr/>
            <p:nvPr/>
          </p:nvSpPr>
          <p:spPr>
            <a:xfrm flipV="1">
              <a:off x="2843280" y="1628640"/>
              <a:ext cx="3600360" cy="367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211640" y="1628640"/>
              <a:ext cx="865080" cy="367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43280" y="3429000"/>
              <a:ext cx="57636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67280" y="1628640"/>
              <a:ext cx="576000" cy="1871640"/>
            </a:xfrm>
            <a:prstGeom prst="line">
              <a:avLst/>
            </a:prstGeom>
            <a:ln w="2844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724360" y="2205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=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=4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3280" y="170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у=-3х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8360" y="5373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Что общего у этих графиков?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Графиком функции y=kx является прямая, проходящая через начало координат (0; 0)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771640" y="3789360"/>
          <a:ext cx="3524400" cy="1440000"/>
        </p:xfrm>
        <a:graphic>
          <a:graphicData uri="http://schemas.openxmlformats.org/drawingml/2006/table">
            <a:tbl>
              <a:tblPr/>
              <a:tblGrid>
                <a:gridCol w="1174680"/>
                <a:gridCol w="1174680"/>
                <a:gridCol w="117504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х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1368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a00"/>
                          </a:solidFill>
                          <a:latin typeface="Verdana"/>
                        </a:rPr>
                        <a:t>0</a:t>
                      </a:r>
                      <a:endParaRPr b="0" lang="en-US" sz="32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a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a00"/>
                      </a:solidFill>
                    </a:lnL>
                    <a:lnR w="1368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13680">
                      <a:solidFill>
                        <a:srgbClr val="002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и каких функций изображены на рисунке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5640" y="1700280"/>
            <a:ext cx="3619800" cy="4056480"/>
            <a:chOff x="2555640" y="1700280"/>
            <a:chExt cx="3619800" cy="4056480"/>
          </a:xfrm>
        </p:grpSpPr>
        <p:grpSp>
          <p:nvGrpSpPr>
            <p:cNvPr id="671" name=""/>
            <p:cNvGrpSpPr/>
            <p:nvPr/>
          </p:nvGrpSpPr>
          <p:grpSpPr>
            <a:xfrm>
              <a:off x="2555640" y="1700280"/>
              <a:ext cx="3619800" cy="3744720"/>
              <a:chOff x="2555640" y="1700280"/>
              <a:chExt cx="3619800" cy="3744720"/>
            </a:xfrm>
          </p:grpSpPr>
          <p:sp>
            <p:nvSpPr>
              <p:cNvPr id="672" name=""/>
              <p:cNvSpPr/>
              <p:nvPr/>
            </p:nvSpPr>
            <p:spPr>
              <a:xfrm>
                <a:off x="4572000" y="3573360"/>
                <a:ext cx="43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68720" y="357336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555640" y="3139920"/>
                <a:ext cx="3600360" cy="936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4356360" y="1773360"/>
                <a:ext cx="647640" cy="180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79640" y="3573360"/>
                <a:ext cx="576360" cy="1871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56000" y="1773360"/>
                <a:ext cx="3600360" cy="3671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3708000" y="1773000"/>
                <a:ext cx="1295640" cy="3671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7640" y="3645000"/>
                <a:ext cx="3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х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56360" y="170028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у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68720" y="29973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a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556000" y="1773000"/>
              <a:ext cx="3597840" cy="3983760"/>
              <a:chOff x="2556000" y="1773000"/>
              <a:chExt cx="3597840" cy="398376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2556000" y="1773360"/>
                <a:ext cx="3597480" cy="3983400"/>
                <a:chOff x="2556000" y="1773360"/>
                <a:chExt cx="3597480" cy="39834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118320" y="4299120"/>
                  <a:ext cx="1427040" cy="145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2a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2556000" y="1773360"/>
                  <a:ext cx="3597480" cy="918720"/>
                  <a:chOff x="2556000" y="1773360"/>
                  <a:chExt cx="3597480" cy="918720"/>
                </a:xfrm>
              </p:grpSpPr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556000" y="1773360"/>
                    <a:ext cx="3597480" cy="228240"/>
                    <a:chOff x="2556000" y="1773360"/>
                    <a:chExt cx="3597480" cy="228240"/>
                  </a:xfrm>
                </p:grpSpPr>
                <p:grpSp>
                  <p:nvGrpSpPr>
                    <p:cNvPr id="687" name=""/>
                    <p:cNvGrpSpPr/>
                    <p:nvPr/>
                  </p:nvGrpSpPr>
                  <p:grpSpPr>
                    <a:xfrm>
                      <a:off x="2556000" y="1773360"/>
                      <a:ext cx="1799640" cy="228240"/>
                      <a:chOff x="2556000" y="1773360"/>
                      <a:chExt cx="1799640" cy="228240"/>
                    </a:xfrm>
                  </p:grpSpPr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2556000" y="1773360"/>
                        <a:ext cx="900000" cy="228240"/>
                        <a:chOff x="2556000" y="1773360"/>
                        <a:chExt cx="900000" cy="228240"/>
                      </a:xfrm>
                    </p:grpSpPr>
                    <p:grpSp>
                      <p:nvGrpSpPr>
                        <p:cNvPr id="689" name=""/>
                        <p:cNvGrpSpPr/>
                        <p:nvPr/>
                      </p:nvGrpSpPr>
                      <p:grpSpPr>
                        <a:xfrm>
                          <a:off x="2556000" y="1773360"/>
                          <a:ext cx="449280" cy="228240"/>
                          <a:chOff x="2556000" y="1773360"/>
                          <a:chExt cx="449280" cy="228240"/>
                        </a:xfrm>
                      </p:grpSpPr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255600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27806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2" name=""/>
                        <p:cNvGrpSpPr/>
                        <p:nvPr/>
                      </p:nvGrpSpPr>
                      <p:grpSpPr>
                        <a:xfrm>
                          <a:off x="3006000" y="1773360"/>
                          <a:ext cx="450000" cy="228240"/>
                          <a:chOff x="3006000" y="1773360"/>
                          <a:chExt cx="450000" cy="228240"/>
                        </a:xfrm>
                      </p:grpSpPr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>
                            <a:off x="3006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32310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95" name=""/>
                      <p:cNvGrpSpPr/>
                      <p:nvPr/>
                    </p:nvGrpSpPr>
                    <p:grpSpPr>
                      <a:xfrm>
                        <a:off x="3454560" y="1773360"/>
                        <a:ext cx="901080" cy="228240"/>
                        <a:chOff x="3454560" y="1773360"/>
                        <a:chExt cx="901080" cy="228240"/>
                      </a:xfrm>
                    </p:grpSpPr>
                    <p:grpSp>
                      <p:nvGrpSpPr>
                        <p:cNvPr id="696" name=""/>
                        <p:cNvGrpSpPr/>
                        <p:nvPr/>
                      </p:nvGrpSpPr>
                      <p:grpSpPr>
                        <a:xfrm>
                          <a:off x="3454560" y="1773360"/>
                          <a:ext cx="450000" cy="228240"/>
                          <a:chOff x="3454560" y="1773360"/>
                          <a:chExt cx="450000" cy="228240"/>
                        </a:xfrm>
                      </p:grpSpPr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>
                            <a:off x="3454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67956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3904920" y="1773360"/>
                          <a:ext cx="450720" cy="228240"/>
                          <a:chOff x="3904920" y="1773360"/>
                          <a:chExt cx="450720" cy="228240"/>
                        </a:xfrm>
                      </p:grpSpPr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9049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413028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4353840" y="1773360"/>
                      <a:ext cx="1799640" cy="228240"/>
                      <a:chOff x="4353840" y="1773360"/>
                      <a:chExt cx="1799640" cy="228240"/>
                    </a:xfrm>
                  </p:grpSpPr>
                  <p:grpSp>
                    <p:nvGrpSpPr>
                      <p:cNvPr id="703" name=""/>
                      <p:cNvGrpSpPr/>
                      <p:nvPr/>
                    </p:nvGrpSpPr>
                    <p:grpSpPr>
                      <a:xfrm>
                        <a:off x="4353840" y="1773360"/>
                        <a:ext cx="900000" cy="228240"/>
                        <a:chOff x="4353840" y="1773360"/>
                        <a:chExt cx="900000" cy="228240"/>
                      </a:xfrm>
                    </p:grpSpPr>
                    <p:grpSp>
                      <p:nvGrpSpPr>
                        <p:cNvPr id="704" name=""/>
                        <p:cNvGrpSpPr/>
                        <p:nvPr/>
                      </p:nvGrpSpPr>
                      <p:grpSpPr>
                        <a:xfrm>
                          <a:off x="4353840" y="1773360"/>
                          <a:ext cx="449280" cy="228240"/>
                          <a:chOff x="4353840" y="1773360"/>
                          <a:chExt cx="449280" cy="228240"/>
                        </a:xfrm>
                      </p:grpSpPr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435384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4578480" y="17733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7" name=""/>
                        <p:cNvGrpSpPr/>
                        <p:nvPr/>
                      </p:nvGrpSpPr>
                      <p:grpSpPr>
                        <a:xfrm>
                          <a:off x="4803840" y="1773360"/>
                          <a:ext cx="450000" cy="228240"/>
                          <a:chOff x="4803840" y="1773360"/>
                          <a:chExt cx="450000" cy="228240"/>
                        </a:xfrm>
                      </p:grpSpPr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4803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502884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0" name=""/>
                      <p:cNvGrpSpPr/>
                      <p:nvPr/>
                    </p:nvGrpSpPr>
                    <p:grpSpPr>
                      <a:xfrm>
                        <a:off x="5252400" y="1773360"/>
                        <a:ext cx="901080" cy="228240"/>
                        <a:chOff x="5252400" y="1773360"/>
                        <a:chExt cx="901080" cy="228240"/>
                      </a:xfrm>
                    </p:grpSpPr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5252400" y="1773360"/>
                          <a:ext cx="450000" cy="228240"/>
                          <a:chOff x="5252400" y="1773360"/>
                          <a:chExt cx="450000" cy="22824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5252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5477400" y="17733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5702760" y="1773360"/>
                          <a:ext cx="450720" cy="228240"/>
                          <a:chOff x="5702760" y="1773360"/>
                          <a:chExt cx="450720" cy="228240"/>
                        </a:xfrm>
                      </p:grpSpPr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>
                            <a:off x="570276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>
                            <a:off x="5928120" y="17733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556000" y="2233800"/>
                    <a:ext cx="3597480" cy="228240"/>
                    <a:chOff x="2556000" y="2233800"/>
                    <a:chExt cx="3597480" cy="22824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556000" y="2233800"/>
                      <a:ext cx="1799640" cy="228240"/>
                      <a:chOff x="2556000" y="2233800"/>
                      <a:chExt cx="1799640" cy="228240"/>
                    </a:xfrm>
                  </p:grpSpPr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2556000" y="2233800"/>
                        <a:ext cx="900000" cy="228240"/>
                        <a:chOff x="2556000" y="2233800"/>
                        <a:chExt cx="900000" cy="228240"/>
                      </a:xfrm>
                    </p:grpSpPr>
                    <p:grpSp>
                      <p:nvGrpSpPr>
                        <p:cNvPr id="720" name=""/>
                        <p:cNvGrpSpPr/>
                        <p:nvPr/>
                      </p:nvGrpSpPr>
                      <p:grpSpPr>
                        <a:xfrm>
                          <a:off x="2556000" y="2233800"/>
                          <a:ext cx="449280" cy="228240"/>
                          <a:chOff x="2556000" y="2233800"/>
                          <a:chExt cx="449280" cy="228240"/>
                        </a:xfrm>
                      </p:grpSpPr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255600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27806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3" name=""/>
                        <p:cNvGrpSpPr/>
                        <p:nvPr/>
                      </p:nvGrpSpPr>
                      <p:grpSpPr>
                        <a:xfrm>
                          <a:off x="3006000" y="2233800"/>
                          <a:ext cx="450000" cy="228240"/>
                          <a:chOff x="3006000" y="2233800"/>
                          <a:chExt cx="450000" cy="228240"/>
                        </a:xfrm>
                      </p:grpSpPr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3006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32310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3454560" y="2233800"/>
                        <a:ext cx="901080" cy="228240"/>
                        <a:chOff x="3454560" y="2233800"/>
                        <a:chExt cx="901080" cy="228240"/>
                      </a:xfrm>
                    </p:grpSpPr>
                    <p:grpSp>
                      <p:nvGrpSpPr>
                        <p:cNvPr id="727" name=""/>
                        <p:cNvGrpSpPr/>
                        <p:nvPr/>
                      </p:nvGrpSpPr>
                      <p:grpSpPr>
                        <a:xfrm>
                          <a:off x="3454560" y="2233800"/>
                          <a:ext cx="450000" cy="228240"/>
                          <a:chOff x="3454560" y="2233800"/>
                          <a:chExt cx="450000" cy="228240"/>
                        </a:xfrm>
                      </p:grpSpPr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>
                            <a:off x="3454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>
                            <a:off x="367956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3904920" y="2233800"/>
                          <a:ext cx="450720" cy="228240"/>
                          <a:chOff x="3904920" y="2233800"/>
                          <a:chExt cx="450720" cy="22824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>
                            <a:off x="39049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>
                            <a:off x="413028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4353840" y="2233800"/>
                      <a:ext cx="1799640" cy="228240"/>
                      <a:chOff x="4353840" y="2233800"/>
                      <a:chExt cx="1799640" cy="228240"/>
                    </a:xfrm>
                  </p:grpSpPr>
                  <p:grpSp>
                    <p:nvGrpSpPr>
                      <p:cNvPr id="734" name=""/>
                      <p:cNvGrpSpPr/>
                      <p:nvPr/>
                    </p:nvGrpSpPr>
                    <p:grpSpPr>
                      <a:xfrm>
                        <a:off x="4353840" y="2233800"/>
                        <a:ext cx="900000" cy="228240"/>
                        <a:chOff x="4353840" y="2233800"/>
                        <a:chExt cx="900000" cy="228240"/>
                      </a:xfrm>
                    </p:grpSpPr>
                    <p:grpSp>
                      <p:nvGrpSpPr>
                        <p:cNvPr id="735" name=""/>
                        <p:cNvGrpSpPr/>
                        <p:nvPr/>
                      </p:nvGrpSpPr>
                      <p:grpSpPr>
                        <a:xfrm>
                          <a:off x="4353840" y="2233800"/>
                          <a:ext cx="449280" cy="228240"/>
                          <a:chOff x="4353840" y="2233800"/>
                          <a:chExt cx="449280" cy="228240"/>
                        </a:xfrm>
                      </p:grpSpPr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435384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>
                            <a:off x="4578480" y="22338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8" name=""/>
                        <p:cNvGrpSpPr/>
                        <p:nvPr/>
                      </p:nvGrpSpPr>
                      <p:grpSpPr>
                        <a:xfrm>
                          <a:off x="4803840" y="2233800"/>
                          <a:ext cx="450000" cy="228240"/>
                          <a:chOff x="4803840" y="2233800"/>
                          <a:chExt cx="450000" cy="228240"/>
                        </a:xfrm>
                      </p:grpSpPr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>
                            <a:off x="4803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>
                            <a:off x="502884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1" name=""/>
                      <p:cNvGrpSpPr/>
                      <p:nvPr/>
                    </p:nvGrpSpPr>
                    <p:grpSpPr>
                      <a:xfrm>
                        <a:off x="5252400" y="2233800"/>
                        <a:ext cx="901080" cy="228240"/>
                        <a:chOff x="5252400" y="2233800"/>
                        <a:chExt cx="901080" cy="228240"/>
                      </a:xfrm>
                    </p:grpSpPr>
                    <p:grpSp>
                      <p:nvGrpSpPr>
                        <p:cNvPr id="742" name=""/>
                        <p:cNvGrpSpPr/>
                        <p:nvPr/>
                      </p:nvGrpSpPr>
                      <p:grpSpPr>
                        <a:xfrm>
                          <a:off x="5252400" y="2233800"/>
                          <a:ext cx="450000" cy="228240"/>
                          <a:chOff x="5252400" y="2233800"/>
                          <a:chExt cx="450000" cy="228240"/>
                        </a:xfrm>
                      </p:grpSpPr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>
                            <a:off x="5252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>
                            <a:off x="5477400" y="22338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5702760" y="2233800"/>
                          <a:ext cx="450720" cy="228240"/>
                          <a:chOff x="5702760" y="2233800"/>
                          <a:chExt cx="450720" cy="228240"/>
                        </a:xfrm>
                      </p:grpSpPr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>
                            <a:off x="570276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>
                            <a:off x="5928120" y="22338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556000" y="2003040"/>
                    <a:ext cx="3597480" cy="228960"/>
                    <a:chOff x="2556000" y="2003040"/>
                    <a:chExt cx="3597480" cy="228960"/>
                  </a:xfrm>
                </p:grpSpPr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2556000" y="2003040"/>
                      <a:ext cx="1799640" cy="228960"/>
                      <a:chOff x="2556000" y="2003040"/>
                      <a:chExt cx="1799640" cy="228960"/>
                    </a:xfrm>
                  </p:grpSpPr>
                  <p:grpSp>
                    <p:nvGrpSpPr>
                      <p:cNvPr id="750" name=""/>
                      <p:cNvGrpSpPr/>
                      <p:nvPr/>
                    </p:nvGrpSpPr>
                    <p:grpSpPr>
                      <a:xfrm>
                        <a:off x="2556000" y="2003040"/>
                        <a:ext cx="900000" cy="228960"/>
                        <a:chOff x="2556000" y="2003040"/>
                        <a:chExt cx="900000" cy="228960"/>
                      </a:xfrm>
                    </p:grpSpPr>
                    <p:grpSp>
                      <p:nvGrpSpPr>
                        <p:cNvPr id="751" name=""/>
                        <p:cNvGrpSpPr/>
                        <p:nvPr/>
                      </p:nvGrpSpPr>
                      <p:grpSpPr>
                        <a:xfrm>
                          <a:off x="2556000" y="2003040"/>
                          <a:ext cx="449280" cy="228960"/>
                          <a:chOff x="2556000" y="2003040"/>
                          <a:chExt cx="449280" cy="228960"/>
                        </a:xfrm>
                      </p:grpSpPr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>
                            <a:off x="255600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>
                            <a:off x="27806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4" name=""/>
                        <p:cNvGrpSpPr/>
                        <p:nvPr/>
                      </p:nvGrpSpPr>
                      <p:grpSpPr>
                        <a:xfrm>
                          <a:off x="3006000" y="2003040"/>
                          <a:ext cx="450000" cy="228960"/>
                          <a:chOff x="3006000" y="2003040"/>
                          <a:chExt cx="450000" cy="228960"/>
                        </a:xfrm>
                      </p:grpSpPr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>
                            <a:off x="3006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"/>
                          <p:cNvSpPr/>
                          <p:nvPr/>
                        </p:nvSpPr>
                        <p:spPr>
                          <a:xfrm>
                            <a:off x="32310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7" name=""/>
                      <p:cNvGrpSpPr/>
                      <p:nvPr/>
                    </p:nvGrpSpPr>
                    <p:grpSpPr>
                      <a:xfrm>
                        <a:off x="3454560" y="2003040"/>
                        <a:ext cx="901080" cy="228960"/>
                        <a:chOff x="3454560" y="2003040"/>
                        <a:chExt cx="901080" cy="228960"/>
                      </a:xfrm>
                    </p:grpSpPr>
                    <p:grpSp>
                      <p:nvGrpSpPr>
                        <p:cNvPr id="758" name=""/>
                        <p:cNvGrpSpPr/>
                        <p:nvPr/>
                      </p:nvGrpSpPr>
                      <p:grpSpPr>
                        <a:xfrm>
                          <a:off x="3454560" y="2003040"/>
                          <a:ext cx="450000" cy="228960"/>
                          <a:chOff x="3454560" y="2003040"/>
                          <a:chExt cx="450000" cy="228960"/>
                        </a:xfrm>
                      </p:grpSpPr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>
                            <a:off x="3454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"/>
                          <p:cNvSpPr/>
                          <p:nvPr/>
                        </p:nvSpPr>
                        <p:spPr>
                          <a:xfrm>
                            <a:off x="367956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1" name=""/>
                        <p:cNvGrpSpPr/>
                        <p:nvPr/>
                      </p:nvGrpSpPr>
                      <p:grpSpPr>
                        <a:xfrm>
                          <a:off x="3904920" y="2003040"/>
                          <a:ext cx="450720" cy="228960"/>
                          <a:chOff x="3904920" y="2003040"/>
                          <a:chExt cx="450720" cy="228960"/>
                        </a:xfrm>
                      </p:grpSpPr>
                      <p:sp>
                        <p:nvSpPr>
                          <p:cNvPr id="762" name=""/>
                          <p:cNvSpPr/>
                          <p:nvPr/>
                        </p:nvSpPr>
                        <p:spPr>
                          <a:xfrm>
                            <a:off x="39049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3" name=""/>
                          <p:cNvSpPr/>
                          <p:nvPr/>
                        </p:nvSpPr>
                        <p:spPr>
                          <a:xfrm>
                            <a:off x="413028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64" name=""/>
                    <p:cNvGrpSpPr/>
                    <p:nvPr/>
                  </p:nvGrpSpPr>
                  <p:grpSpPr>
                    <a:xfrm>
                      <a:off x="4353840" y="2003040"/>
                      <a:ext cx="1799640" cy="228960"/>
                      <a:chOff x="4353840" y="2003040"/>
                      <a:chExt cx="1799640" cy="228960"/>
                    </a:xfrm>
                  </p:grpSpPr>
                  <p:grpSp>
                    <p:nvGrpSpPr>
                      <p:cNvPr id="765" name=""/>
                      <p:cNvGrpSpPr/>
                      <p:nvPr/>
                    </p:nvGrpSpPr>
                    <p:grpSpPr>
                      <a:xfrm>
                        <a:off x="4353840" y="2003040"/>
                        <a:ext cx="900000" cy="228960"/>
                        <a:chOff x="4353840" y="2003040"/>
                        <a:chExt cx="900000" cy="228960"/>
                      </a:xfrm>
                    </p:grpSpPr>
                    <p:grpSp>
                      <p:nvGrpSpPr>
                        <p:cNvPr id="766" name=""/>
                        <p:cNvGrpSpPr/>
                        <p:nvPr/>
                      </p:nvGrpSpPr>
                      <p:grpSpPr>
                        <a:xfrm>
                          <a:off x="4353840" y="2003040"/>
                          <a:ext cx="449280" cy="228960"/>
                          <a:chOff x="4353840" y="2003040"/>
                          <a:chExt cx="449280" cy="228960"/>
                        </a:xfrm>
                      </p:grpSpPr>
                      <p:sp>
                        <p:nvSpPr>
                          <p:cNvPr id="767" name=""/>
                          <p:cNvSpPr/>
                          <p:nvPr/>
                        </p:nvSpPr>
                        <p:spPr>
                          <a:xfrm>
                            <a:off x="435384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>
                            <a:off x="4578480" y="200304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9" name=""/>
                        <p:cNvGrpSpPr/>
                        <p:nvPr/>
                      </p:nvGrpSpPr>
                      <p:grpSpPr>
                        <a:xfrm>
                          <a:off x="4803840" y="2003040"/>
                          <a:ext cx="450000" cy="228960"/>
                          <a:chOff x="4803840" y="2003040"/>
                          <a:chExt cx="450000" cy="228960"/>
                        </a:xfrm>
                      </p:grpSpPr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>
                            <a:off x="4803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>
                            <a:off x="502884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2" name=""/>
                      <p:cNvGrpSpPr/>
                      <p:nvPr/>
                    </p:nvGrpSpPr>
                    <p:grpSpPr>
                      <a:xfrm>
                        <a:off x="5252400" y="2003040"/>
                        <a:ext cx="901080" cy="228960"/>
                        <a:chOff x="5252400" y="2003040"/>
                        <a:chExt cx="901080" cy="228960"/>
                      </a:xfrm>
                    </p:grpSpPr>
                    <p:grpSp>
                      <p:nvGrpSpPr>
                        <p:cNvPr id="773" name=""/>
                        <p:cNvGrpSpPr/>
                        <p:nvPr/>
                      </p:nvGrpSpPr>
                      <p:grpSpPr>
                        <a:xfrm>
                          <a:off x="5252400" y="2003040"/>
                          <a:ext cx="450000" cy="228960"/>
                          <a:chOff x="5252400" y="2003040"/>
                          <a:chExt cx="450000" cy="228960"/>
                        </a:xfrm>
                      </p:grpSpPr>
                      <p:sp>
                        <p:nvSpPr>
                          <p:cNvPr id="774" name=""/>
                          <p:cNvSpPr/>
                          <p:nvPr/>
                        </p:nvSpPr>
                        <p:spPr>
                          <a:xfrm>
                            <a:off x="5252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"/>
                          <p:cNvSpPr/>
                          <p:nvPr/>
                        </p:nvSpPr>
                        <p:spPr>
                          <a:xfrm>
                            <a:off x="5477400" y="200304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6" name=""/>
                        <p:cNvGrpSpPr/>
                        <p:nvPr/>
                      </p:nvGrpSpPr>
                      <p:grpSpPr>
                        <a:xfrm>
                          <a:off x="5702760" y="2003040"/>
                          <a:ext cx="450720" cy="228960"/>
                          <a:chOff x="5702760" y="2003040"/>
                          <a:chExt cx="450720" cy="228960"/>
                        </a:xfrm>
                      </p:grpSpPr>
                      <p:sp>
                        <p:nvSpPr>
                          <p:cNvPr id="777" name=""/>
                          <p:cNvSpPr/>
                          <p:nvPr/>
                        </p:nvSpPr>
                        <p:spPr>
                          <a:xfrm>
                            <a:off x="570276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8" name=""/>
                          <p:cNvSpPr/>
                          <p:nvPr/>
                        </p:nvSpPr>
                        <p:spPr>
                          <a:xfrm>
                            <a:off x="5928120" y="200304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2556000" y="2463840"/>
                    <a:ext cx="3597480" cy="228240"/>
                    <a:chOff x="2556000" y="2463840"/>
                    <a:chExt cx="3597480" cy="228240"/>
                  </a:xfrm>
                </p:grpSpPr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2556000" y="2463840"/>
                      <a:ext cx="1799640" cy="228240"/>
                      <a:chOff x="2556000" y="2463840"/>
                      <a:chExt cx="1799640" cy="228240"/>
                    </a:xfrm>
                  </p:grpSpPr>
                  <p:grpSp>
                    <p:nvGrpSpPr>
                      <p:cNvPr id="781" name=""/>
                      <p:cNvGrpSpPr/>
                      <p:nvPr/>
                    </p:nvGrpSpPr>
                    <p:grpSpPr>
                      <a:xfrm>
                        <a:off x="2556000" y="2463840"/>
                        <a:ext cx="900000" cy="228240"/>
                        <a:chOff x="2556000" y="2463840"/>
                        <a:chExt cx="900000" cy="228240"/>
                      </a:xfrm>
                    </p:grpSpPr>
                    <p:grpSp>
                      <p:nvGrpSpPr>
                        <p:cNvPr id="782" name=""/>
                        <p:cNvGrpSpPr/>
                        <p:nvPr/>
                      </p:nvGrpSpPr>
                      <p:grpSpPr>
                        <a:xfrm>
                          <a:off x="2556000" y="2463840"/>
                          <a:ext cx="449280" cy="228240"/>
                          <a:chOff x="2556000" y="2463840"/>
                          <a:chExt cx="449280" cy="228240"/>
                        </a:xfrm>
                      </p:grpSpPr>
                      <p:sp>
                        <p:nvSpPr>
                          <p:cNvPr id="783" name=""/>
                          <p:cNvSpPr/>
                          <p:nvPr/>
                        </p:nvSpPr>
                        <p:spPr>
                          <a:xfrm>
                            <a:off x="255600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4" name=""/>
                          <p:cNvSpPr/>
                          <p:nvPr/>
                        </p:nvSpPr>
                        <p:spPr>
                          <a:xfrm>
                            <a:off x="27806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5" name=""/>
                        <p:cNvGrpSpPr/>
                        <p:nvPr/>
                      </p:nvGrpSpPr>
                      <p:grpSpPr>
                        <a:xfrm>
                          <a:off x="3006000" y="2463840"/>
                          <a:ext cx="450000" cy="228240"/>
                          <a:chOff x="3006000" y="2463840"/>
                          <a:chExt cx="450000" cy="228240"/>
                        </a:xfrm>
                      </p:grpSpPr>
                      <p:sp>
                        <p:nvSpPr>
                          <p:cNvPr id="786" name=""/>
                          <p:cNvSpPr/>
                          <p:nvPr/>
                        </p:nvSpPr>
                        <p:spPr>
                          <a:xfrm>
                            <a:off x="3006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7" name=""/>
                          <p:cNvSpPr/>
                          <p:nvPr/>
                        </p:nvSpPr>
                        <p:spPr>
                          <a:xfrm>
                            <a:off x="32310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3454560" y="2463840"/>
                        <a:ext cx="901080" cy="228240"/>
                        <a:chOff x="3454560" y="2463840"/>
                        <a:chExt cx="901080" cy="228240"/>
                      </a:xfrm>
                    </p:grpSpPr>
                    <p:grpSp>
                      <p:nvGrpSpPr>
                        <p:cNvPr id="789" name=""/>
                        <p:cNvGrpSpPr/>
                        <p:nvPr/>
                      </p:nvGrpSpPr>
                      <p:grpSpPr>
                        <a:xfrm>
                          <a:off x="3454560" y="2463840"/>
                          <a:ext cx="450000" cy="228240"/>
                          <a:chOff x="3454560" y="2463840"/>
                          <a:chExt cx="450000" cy="228240"/>
                        </a:xfrm>
                      </p:grpSpPr>
                      <p:sp>
                        <p:nvSpPr>
                          <p:cNvPr id="790" name=""/>
                          <p:cNvSpPr/>
                          <p:nvPr/>
                        </p:nvSpPr>
                        <p:spPr>
                          <a:xfrm>
                            <a:off x="3454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1" name=""/>
                          <p:cNvSpPr/>
                          <p:nvPr/>
                        </p:nvSpPr>
                        <p:spPr>
                          <a:xfrm>
                            <a:off x="367956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3904920" y="2463840"/>
                          <a:ext cx="450720" cy="228240"/>
                          <a:chOff x="3904920" y="2463840"/>
                          <a:chExt cx="450720" cy="22824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>
                            <a:off x="39049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>
                            <a:off x="413028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95" name=""/>
                    <p:cNvGrpSpPr/>
                    <p:nvPr/>
                  </p:nvGrpSpPr>
                  <p:grpSpPr>
                    <a:xfrm>
                      <a:off x="4353840" y="2463840"/>
                      <a:ext cx="1799640" cy="228240"/>
                      <a:chOff x="4353840" y="2463840"/>
                      <a:chExt cx="1799640" cy="228240"/>
                    </a:xfrm>
                  </p:grpSpPr>
                  <p:grpSp>
                    <p:nvGrpSpPr>
                      <p:cNvPr id="796" name=""/>
                      <p:cNvGrpSpPr/>
                      <p:nvPr/>
                    </p:nvGrpSpPr>
                    <p:grpSpPr>
                      <a:xfrm>
                        <a:off x="4353840" y="2463840"/>
                        <a:ext cx="900000" cy="228240"/>
                        <a:chOff x="4353840" y="2463840"/>
                        <a:chExt cx="900000" cy="228240"/>
                      </a:xfrm>
                    </p:grpSpPr>
                    <p:grpSp>
                      <p:nvGrpSpPr>
                        <p:cNvPr id="797" name=""/>
                        <p:cNvGrpSpPr/>
                        <p:nvPr/>
                      </p:nvGrpSpPr>
                      <p:grpSpPr>
                        <a:xfrm>
                          <a:off x="4353840" y="2463840"/>
                          <a:ext cx="449280" cy="228240"/>
                          <a:chOff x="4353840" y="2463840"/>
                          <a:chExt cx="449280" cy="228240"/>
                        </a:xfrm>
                      </p:grpSpPr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>
                            <a:off x="435384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>
                            <a:off x="4578480" y="246384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0" name=""/>
                        <p:cNvGrpSpPr/>
                        <p:nvPr/>
                      </p:nvGrpSpPr>
                      <p:grpSpPr>
                        <a:xfrm>
                          <a:off x="4803840" y="2463840"/>
                          <a:ext cx="450000" cy="228240"/>
                          <a:chOff x="4803840" y="2463840"/>
                          <a:chExt cx="450000" cy="228240"/>
                        </a:xfrm>
                      </p:grpSpPr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>
                            <a:off x="4803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>
                            <a:off x="502884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03" name=""/>
                      <p:cNvGrpSpPr/>
                      <p:nvPr/>
                    </p:nvGrpSpPr>
                    <p:grpSpPr>
                      <a:xfrm>
                        <a:off x="5252400" y="2463840"/>
                        <a:ext cx="901080" cy="228240"/>
                        <a:chOff x="5252400" y="2463840"/>
                        <a:chExt cx="901080" cy="228240"/>
                      </a:xfrm>
                    </p:grpSpPr>
                    <p:grpSp>
                      <p:nvGrpSpPr>
                        <p:cNvPr id="804" name=""/>
                        <p:cNvGrpSpPr/>
                        <p:nvPr/>
                      </p:nvGrpSpPr>
                      <p:grpSpPr>
                        <a:xfrm>
                          <a:off x="5252400" y="2463840"/>
                          <a:ext cx="450000" cy="228240"/>
                          <a:chOff x="5252400" y="2463840"/>
                          <a:chExt cx="450000" cy="228240"/>
                        </a:xfrm>
                      </p:grpSpPr>
                      <p:sp>
                        <p:nvSpPr>
                          <p:cNvPr id="805" name=""/>
                          <p:cNvSpPr/>
                          <p:nvPr/>
                        </p:nvSpPr>
                        <p:spPr>
                          <a:xfrm>
                            <a:off x="5252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5477400" y="246384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7" name=""/>
                        <p:cNvGrpSpPr/>
                        <p:nvPr/>
                      </p:nvGrpSpPr>
                      <p:grpSpPr>
                        <a:xfrm>
                          <a:off x="5702760" y="2463840"/>
                          <a:ext cx="450720" cy="228240"/>
                          <a:chOff x="5702760" y="2463840"/>
                          <a:chExt cx="450720" cy="228240"/>
                        </a:xfrm>
                      </p:grpSpPr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>
                            <a:off x="570276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5928120" y="246384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556000" y="2692080"/>
                  <a:ext cx="3597480" cy="918720"/>
                  <a:chOff x="2556000" y="2692080"/>
                  <a:chExt cx="3597480" cy="91872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556000" y="2692080"/>
                    <a:ext cx="3597480" cy="228240"/>
                    <a:chOff x="2556000" y="2692080"/>
                    <a:chExt cx="3597480" cy="228240"/>
                  </a:xfrm>
                </p:grpSpPr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2556000" y="2692080"/>
                      <a:ext cx="1799640" cy="228240"/>
                      <a:chOff x="2556000" y="2692080"/>
                      <a:chExt cx="1799640" cy="228240"/>
                    </a:xfrm>
                  </p:grpSpPr>
                  <p:grpSp>
                    <p:nvGrpSpPr>
                      <p:cNvPr id="813" name=""/>
                      <p:cNvGrpSpPr/>
                      <p:nvPr/>
                    </p:nvGrpSpPr>
                    <p:grpSpPr>
                      <a:xfrm>
                        <a:off x="2556000" y="2692080"/>
                        <a:ext cx="900000" cy="228240"/>
                        <a:chOff x="2556000" y="2692080"/>
                        <a:chExt cx="900000" cy="228240"/>
                      </a:xfrm>
                    </p:grpSpPr>
                    <p:grpSp>
                      <p:nvGrpSpPr>
                        <p:cNvPr id="814" name=""/>
                        <p:cNvGrpSpPr/>
                        <p:nvPr/>
                      </p:nvGrpSpPr>
                      <p:grpSpPr>
                        <a:xfrm>
                          <a:off x="2556000" y="2692080"/>
                          <a:ext cx="449280" cy="228240"/>
                          <a:chOff x="2556000" y="2692080"/>
                          <a:chExt cx="449280" cy="228240"/>
                        </a:xfrm>
                      </p:grpSpPr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>
                            <a:off x="255600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>
                            <a:off x="27806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"/>
                        <p:cNvGrpSpPr/>
                        <p:nvPr/>
                      </p:nvGrpSpPr>
                      <p:grpSpPr>
                        <a:xfrm>
                          <a:off x="3006000" y="2692080"/>
                          <a:ext cx="450000" cy="228240"/>
                          <a:chOff x="3006000" y="2692080"/>
                          <a:chExt cx="450000" cy="228240"/>
                        </a:xfrm>
                      </p:grpSpPr>
                      <p:sp>
                        <p:nvSpPr>
                          <p:cNvPr id="818" name=""/>
                          <p:cNvSpPr/>
                          <p:nvPr/>
                        </p:nvSpPr>
                        <p:spPr>
                          <a:xfrm>
                            <a:off x="3006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"/>
                          <p:cNvSpPr/>
                          <p:nvPr/>
                        </p:nvSpPr>
                        <p:spPr>
                          <a:xfrm>
                            <a:off x="32310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3454560" y="2692080"/>
                        <a:ext cx="901080" cy="228240"/>
                        <a:chOff x="3454560" y="2692080"/>
                        <a:chExt cx="901080" cy="228240"/>
                      </a:xfrm>
                    </p:grpSpPr>
                    <p:grpSp>
                      <p:nvGrpSpPr>
                        <p:cNvPr id="821" name=""/>
                        <p:cNvGrpSpPr/>
                        <p:nvPr/>
                      </p:nvGrpSpPr>
                      <p:grpSpPr>
                        <a:xfrm>
                          <a:off x="3454560" y="2692080"/>
                          <a:ext cx="450000" cy="228240"/>
                          <a:chOff x="3454560" y="2692080"/>
                          <a:chExt cx="450000" cy="228240"/>
                        </a:xfrm>
                      </p:grpSpPr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>
                            <a:off x="3454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>
                            <a:off x="367956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4" name=""/>
                        <p:cNvGrpSpPr/>
                        <p:nvPr/>
                      </p:nvGrpSpPr>
                      <p:grpSpPr>
                        <a:xfrm>
                          <a:off x="3904920" y="2692080"/>
                          <a:ext cx="450720" cy="228240"/>
                          <a:chOff x="3904920" y="2692080"/>
                          <a:chExt cx="450720" cy="228240"/>
                        </a:xfrm>
                      </p:grpSpPr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>
                            <a:off x="39049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6" name=""/>
                          <p:cNvSpPr/>
                          <p:nvPr/>
                        </p:nvSpPr>
                        <p:spPr>
                          <a:xfrm>
                            <a:off x="413028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4353840" y="2692080"/>
                      <a:ext cx="1799640" cy="228240"/>
                      <a:chOff x="4353840" y="2692080"/>
                      <a:chExt cx="1799640" cy="228240"/>
                    </a:xfrm>
                  </p:grpSpPr>
                  <p:grpSp>
                    <p:nvGrpSpPr>
                      <p:cNvPr id="828" name=""/>
                      <p:cNvGrpSpPr/>
                      <p:nvPr/>
                    </p:nvGrpSpPr>
                    <p:grpSpPr>
                      <a:xfrm>
                        <a:off x="4353840" y="2692080"/>
                        <a:ext cx="900000" cy="228240"/>
                        <a:chOff x="4353840" y="2692080"/>
                        <a:chExt cx="900000" cy="228240"/>
                      </a:xfrm>
                    </p:grpSpPr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4353840" y="2692080"/>
                          <a:ext cx="449280" cy="228240"/>
                          <a:chOff x="4353840" y="2692080"/>
                          <a:chExt cx="449280" cy="228240"/>
                        </a:xfrm>
                      </p:grpSpPr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>
                            <a:off x="435384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4578480" y="269208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2" name=""/>
                        <p:cNvGrpSpPr/>
                        <p:nvPr/>
                      </p:nvGrpSpPr>
                      <p:grpSpPr>
                        <a:xfrm>
                          <a:off x="4803840" y="2692080"/>
                          <a:ext cx="450000" cy="228240"/>
                          <a:chOff x="4803840" y="2692080"/>
                          <a:chExt cx="450000" cy="228240"/>
                        </a:xfrm>
                      </p:grpSpPr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>
                            <a:off x="4803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>
                            <a:off x="502884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5" name=""/>
                      <p:cNvGrpSpPr/>
                      <p:nvPr/>
                    </p:nvGrpSpPr>
                    <p:grpSpPr>
                      <a:xfrm>
                        <a:off x="5252400" y="2692080"/>
                        <a:ext cx="901080" cy="228240"/>
                        <a:chOff x="5252400" y="2692080"/>
                        <a:chExt cx="901080" cy="228240"/>
                      </a:xfrm>
                    </p:grpSpPr>
                    <p:grpSp>
                      <p:nvGrpSpPr>
                        <p:cNvPr id="836" name=""/>
                        <p:cNvGrpSpPr/>
                        <p:nvPr/>
                      </p:nvGrpSpPr>
                      <p:grpSpPr>
                        <a:xfrm>
                          <a:off x="5252400" y="2692080"/>
                          <a:ext cx="450000" cy="228240"/>
                          <a:chOff x="5252400" y="2692080"/>
                          <a:chExt cx="450000" cy="228240"/>
                        </a:xfrm>
                      </p:grpSpPr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>
                            <a:off x="5252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>
                            <a:off x="5477400" y="269208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"/>
                        <p:cNvGrpSpPr/>
                        <p:nvPr/>
                      </p:nvGrpSpPr>
                      <p:grpSpPr>
                        <a:xfrm>
                          <a:off x="5702760" y="2692080"/>
                          <a:ext cx="450720" cy="228240"/>
                          <a:chOff x="5702760" y="2692080"/>
                          <a:chExt cx="450720" cy="228240"/>
                        </a:xfrm>
                      </p:grpSpPr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570276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5928120" y="269208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2556000" y="3152520"/>
                    <a:ext cx="3597480" cy="228240"/>
                    <a:chOff x="2556000" y="3152520"/>
                    <a:chExt cx="3597480" cy="228240"/>
                  </a:xfrm>
                </p:grpSpPr>
                <p:grpSp>
                  <p:nvGrpSpPr>
                    <p:cNvPr id="843" name=""/>
                    <p:cNvGrpSpPr/>
                    <p:nvPr/>
                  </p:nvGrpSpPr>
                  <p:grpSpPr>
                    <a:xfrm>
                      <a:off x="2556000" y="3152520"/>
                      <a:ext cx="1799640" cy="228240"/>
                      <a:chOff x="2556000" y="3152520"/>
                      <a:chExt cx="1799640" cy="228240"/>
                    </a:xfrm>
                  </p:grpSpPr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2556000" y="3152520"/>
                        <a:ext cx="900000" cy="228240"/>
                        <a:chOff x="2556000" y="3152520"/>
                        <a:chExt cx="900000" cy="228240"/>
                      </a:xfrm>
                    </p:grpSpPr>
                    <p:grpSp>
                      <p:nvGrpSpPr>
                        <p:cNvPr id="845" name=""/>
                        <p:cNvGrpSpPr/>
                        <p:nvPr/>
                      </p:nvGrpSpPr>
                      <p:grpSpPr>
                        <a:xfrm>
                          <a:off x="2556000" y="3152520"/>
                          <a:ext cx="449280" cy="228240"/>
                          <a:chOff x="2556000" y="3152520"/>
                          <a:chExt cx="449280" cy="228240"/>
                        </a:xfrm>
                      </p:grpSpPr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>
                            <a:off x="255600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7" name=""/>
                          <p:cNvSpPr/>
                          <p:nvPr/>
                        </p:nvSpPr>
                        <p:spPr>
                          <a:xfrm>
                            <a:off x="27806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8" name=""/>
                        <p:cNvGrpSpPr/>
                        <p:nvPr/>
                      </p:nvGrpSpPr>
                      <p:grpSpPr>
                        <a:xfrm>
                          <a:off x="3006000" y="3152520"/>
                          <a:ext cx="450000" cy="228240"/>
                          <a:chOff x="3006000" y="3152520"/>
                          <a:chExt cx="450000" cy="228240"/>
                        </a:xfrm>
                      </p:grpSpPr>
                      <p:sp>
                        <p:nvSpPr>
                          <p:cNvPr id="849" name=""/>
                          <p:cNvSpPr/>
                          <p:nvPr/>
                        </p:nvSpPr>
                        <p:spPr>
                          <a:xfrm>
                            <a:off x="3006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0" name=""/>
                          <p:cNvSpPr/>
                          <p:nvPr/>
                        </p:nvSpPr>
                        <p:spPr>
                          <a:xfrm>
                            <a:off x="32310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1" name=""/>
                      <p:cNvGrpSpPr/>
                      <p:nvPr/>
                    </p:nvGrpSpPr>
                    <p:grpSpPr>
                      <a:xfrm>
                        <a:off x="3454560" y="3152520"/>
                        <a:ext cx="901080" cy="228240"/>
                        <a:chOff x="3454560" y="3152520"/>
                        <a:chExt cx="901080" cy="228240"/>
                      </a:xfrm>
                    </p:grpSpPr>
                    <p:grpSp>
                      <p:nvGrpSpPr>
                        <p:cNvPr id="852" name=""/>
                        <p:cNvGrpSpPr/>
                        <p:nvPr/>
                      </p:nvGrpSpPr>
                      <p:grpSpPr>
                        <a:xfrm>
                          <a:off x="3454560" y="3152520"/>
                          <a:ext cx="450000" cy="228240"/>
                          <a:chOff x="3454560" y="3152520"/>
                          <a:chExt cx="450000" cy="228240"/>
                        </a:xfrm>
                      </p:grpSpPr>
                      <p:sp>
                        <p:nvSpPr>
                          <p:cNvPr id="853" name=""/>
                          <p:cNvSpPr/>
                          <p:nvPr/>
                        </p:nvSpPr>
                        <p:spPr>
                          <a:xfrm>
                            <a:off x="3454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367956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3904920" y="3152520"/>
                          <a:ext cx="450720" cy="228240"/>
                          <a:chOff x="3904920" y="3152520"/>
                          <a:chExt cx="450720" cy="228240"/>
                        </a:xfrm>
                      </p:grpSpPr>
                      <p:sp>
                        <p:nvSpPr>
                          <p:cNvPr id="856" name=""/>
                          <p:cNvSpPr/>
                          <p:nvPr/>
                        </p:nvSpPr>
                        <p:spPr>
                          <a:xfrm>
                            <a:off x="39049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>
                            <a:off x="413028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4353840" y="3152520"/>
                      <a:ext cx="1799640" cy="228240"/>
                      <a:chOff x="4353840" y="3152520"/>
                      <a:chExt cx="1799640" cy="228240"/>
                    </a:xfrm>
                  </p:grpSpPr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4353840" y="3152520"/>
                        <a:ext cx="900000" cy="228240"/>
                        <a:chOff x="4353840" y="3152520"/>
                        <a:chExt cx="900000" cy="228240"/>
                      </a:xfrm>
                    </p:grpSpPr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4353840" y="3152520"/>
                          <a:ext cx="449280" cy="228240"/>
                          <a:chOff x="4353840" y="3152520"/>
                          <a:chExt cx="449280" cy="22824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>
                            <a:off x="435384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>
                            <a:off x="4578480" y="3152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3" name=""/>
                        <p:cNvGrpSpPr/>
                        <p:nvPr/>
                      </p:nvGrpSpPr>
                      <p:grpSpPr>
                        <a:xfrm>
                          <a:off x="4803840" y="3152520"/>
                          <a:ext cx="450000" cy="228240"/>
                          <a:chOff x="4803840" y="3152520"/>
                          <a:chExt cx="450000" cy="228240"/>
                        </a:xfrm>
                      </p:grpSpPr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>
                            <a:off x="4803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>
                            <a:off x="502884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66" name=""/>
                      <p:cNvGrpSpPr/>
                      <p:nvPr/>
                    </p:nvGrpSpPr>
                    <p:grpSpPr>
                      <a:xfrm>
                        <a:off x="5252400" y="3152520"/>
                        <a:ext cx="901080" cy="228240"/>
                        <a:chOff x="5252400" y="3152520"/>
                        <a:chExt cx="901080" cy="228240"/>
                      </a:xfrm>
                    </p:grpSpPr>
                    <p:grpSp>
                      <p:nvGrpSpPr>
                        <p:cNvPr id="867" name=""/>
                        <p:cNvGrpSpPr/>
                        <p:nvPr/>
                      </p:nvGrpSpPr>
                      <p:grpSpPr>
                        <a:xfrm>
                          <a:off x="5252400" y="3152520"/>
                          <a:ext cx="450000" cy="228240"/>
                          <a:chOff x="5252400" y="3152520"/>
                          <a:chExt cx="450000" cy="228240"/>
                        </a:xfrm>
                      </p:grpSpPr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>
                            <a:off x="5252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"/>
                          <p:cNvSpPr/>
                          <p:nvPr/>
                        </p:nvSpPr>
                        <p:spPr>
                          <a:xfrm>
                            <a:off x="5477400" y="3152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0" name=""/>
                        <p:cNvGrpSpPr/>
                        <p:nvPr/>
                      </p:nvGrpSpPr>
                      <p:grpSpPr>
                        <a:xfrm>
                          <a:off x="5702760" y="3152520"/>
                          <a:ext cx="450720" cy="228240"/>
                          <a:chOff x="5702760" y="3152520"/>
                          <a:chExt cx="450720" cy="228240"/>
                        </a:xfrm>
                      </p:grpSpPr>
                      <p:sp>
                        <p:nvSpPr>
                          <p:cNvPr id="871" name=""/>
                          <p:cNvSpPr/>
                          <p:nvPr/>
                        </p:nvSpPr>
                        <p:spPr>
                          <a:xfrm>
                            <a:off x="570276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2" name=""/>
                          <p:cNvSpPr/>
                          <p:nvPr/>
                        </p:nvSpPr>
                        <p:spPr>
                          <a:xfrm>
                            <a:off x="5928120" y="3152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2556000" y="2921760"/>
                    <a:ext cx="3597480" cy="228960"/>
                    <a:chOff x="2556000" y="2921760"/>
                    <a:chExt cx="3597480" cy="228960"/>
                  </a:xfrm>
                </p:grpSpPr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2556000" y="2921760"/>
                      <a:ext cx="1799640" cy="228960"/>
                      <a:chOff x="2556000" y="2921760"/>
                      <a:chExt cx="1799640" cy="228960"/>
                    </a:xfrm>
                  </p:grpSpPr>
                  <p:grpSp>
                    <p:nvGrpSpPr>
                      <p:cNvPr id="875" name=""/>
                      <p:cNvGrpSpPr/>
                      <p:nvPr/>
                    </p:nvGrpSpPr>
                    <p:grpSpPr>
                      <a:xfrm>
                        <a:off x="2556000" y="2921760"/>
                        <a:ext cx="900000" cy="228960"/>
                        <a:chOff x="2556000" y="2921760"/>
                        <a:chExt cx="900000" cy="228960"/>
                      </a:xfrm>
                    </p:grpSpPr>
                    <p:grpSp>
                      <p:nvGrpSpPr>
                        <p:cNvPr id="876" name=""/>
                        <p:cNvGrpSpPr/>
                        <p:nvPr/>
                      </p:nvGrpSpPr>
                      <p:grpSpPr>
                        <a:xfrm>
                          <a:off x="2556000" y="2921760"/>
                          <a:ext cx="449280" cy="228960"/>
                          <a:chOff x="2556000" y="2921760"/>
                          <a:chExt cx="449280" cy="228960"/>
                        </a:xfrm>
                      </p:grpSpPr>
                      <p:sp>
                        <p:nvSpPr>
                          <p:cNvPr id="877" name=""/>
                          <p:cNvSpPr/>
                          <p:nvPr/>
                        </p:nvSpPr>
                        <p:spPr>
                          <a:xfrm>
                            <a:off x="255600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8" name=""/>
                          <p:cNvSpPr/>
                          <p:nvPr/>
                        </p:nvSpPr>
                        <p:spPr>
                          <a:xfrm>
                            <a:off x="27806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9" name=""/>
                        <p:cNvGrpSpPr/>
                        <p:nvPr/>
                      </p:nvGrpSpPr>
                      <p:grpSpPr>
                        <a:xfrm>
                          <a:off x="3006000" y="2921760"/>
                          <a:ext cx="450000" cy="228960"/>
                          <a:chOff x="3006000" y="2921760"/>
                          <a:chExt cx="450000" cy="228960"/>
                        </a:xfrm>
                      </p:grpSpPr>
                      <p:sp>
                        <p:nvSpPr>
                          <p:cNvPr id="880" name=""/>
                          <p:cNvSpPr/>
                          <p:nvPr/>
                        </p:nvSpPr>
                        <p:spPr>
                          <a:xfrm>
                            <a:off x="3006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"/>
                          <p:cNvSpPr/>
                          <p:nvPr/>
                        </p:nvSpPr>
                        <p:spPr>
                          <a:xfrm>
                            <a:off x="32310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3454560" y="2921760"/>
                        <a:ext cx="901080" cy="228960"/>
                        <a:chOff x="3454560" y="2921760"/>
                        <a:chExt cx="901080" cy="228960"/>
                      </a:xfrm>
                    </p:grpSpPr>
                    <p:grpSp>
                      <p:nvGrpSpPr>
                        <p:cNvPr id="883" name=""/>
                        <p:cNvGrpSpPr/>
                        <p:nvPr/>
                      </p:nvGrpSpPr>
                      <p:grpSpPr>
                        <a:xfrm>
                          <a:off x="3454560" y="2921760"/>
                          <a:ext cx="450000" cy="228960"/>
                          <a:chOff x="3454560" y="2921760"/>
                          <a:chExt cx="450000" cy="228960"/>
                        </a:xfrm>
                      </p:grpSpPr>
                      <p:sp>
                        <p:nvSpPr>
                          <p:cNvPr id="884" name=""/>
                          <p:cNvSpPr/>
                          <p:nvPr/>
                        </p:nvSpPr>
                        <p:spPr>
                          <a:xfrm>
                            <a:off x="3454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>
                            <a:off x="367956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6" name=""/>
                        <p:cNvGrpSpPr/>
                        <p:nvPr/>
                      </p:nvGrpSpPr>
                      <p:grpSpPr>
                        <a:xfrm>
                          <a:off x="3904920" y="2921760"/>
                          <a:ext cx="450720" cy="228960"/>
                          <a:chOff x="3904920" y="2921760"/>
                          <a:chExt cx="450720" cy="228960"/>
                        </a:xfrm>
                      </p:grpSpPr>
                      <p:sp>
                        <p:nvSpPr>
                          <p:cNvPr id="887" name=""/>
                          <p:cNvSpPr/>
                          <p:nvPr/>
                        </p:nvSpPr>
                        <p:spPr>
                          <a:xfrm>
                            <a:off x="39049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"/>
                          <p:cNvSpPr/>
                          <p:nvPr/>
                        </p:nvSpPr>
                        <p:spPr>
                          <a:xfrm>
                            <a:off x="413028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4353840" y="2921760"/>
                      <a:ext cx="1799640" cy="228960"/>
                      <a:chOff x="4353840" y="2921760"/>
                      <a:chExt cx="1799640" cy="228960"/>
                    </a:xfrm>
                  </p:grpSpPr>
                  <p:grpSp>
                    <p:nvGrpSpPr>
                      <p:cNvPr id="890" name=""/>
                      <p:cNvGrpSpPr/>
                      <p:nvPr/>
                    </p:nvGrpSpPr>
                    <p:grpSpPr>
                      <a:xfrm>
                        <a:off x="4353840" y="2921760"/>
                        <a:ext cx="900000" cy="228960"/>
                        <a:chOff x="4353840" y="2921760"/>
                        <a:chExt cx="900000" cy="228960"/>
                      </a:xfrm>
                    </p:grpSpPr>
                    <p:grpSp>
                      <p:nvGrpSpPr>
                        <p:cNvPr id="891" name=""/>
                        <p:cNvGrpSpPr/>
                        <p:nvPr/>
                      </p:nvGrpSpPr>
                      <p:grpSpPr>
                        <a:xfrm>
                          <a:off x="4353840" y="2921760"/>
                          <a:ext cx="449280" cy="228960"/>
                          <a:chOff x="4353840" y="2921760"/>
                          <a:chExt cx="449280" cy="228960"/>
                        </a:xfrm>
                      </p:grpSpPr>
                      <p:sp>
                        <p:nvSpPr>
                          <p:cNvPr id="892" name=""/>
                          <p:cNvSpPr/>
                          <p:nvPr/>
                        </p:nvSpPr>
                        <p:spPr>
                          <a:xfrm>
                            <a:off x="435384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4578480" y="292176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4803840" y="2921760"/>
                          <a:ext cx="450000" cy="228960"/>
                          <a:chOff x="4803840" y="2921760"/>
                          <a:chExt cx="450000" cy="228960"/>
                        </a:xfrm>
                      </p:grpSpPr>
                      <p:sp>
                        <p:nvSpPr>
                          <p:cNvPr id="895" name=""/>
                          <p:cNvSpPr/>
                          <p:nvPr/>
                        </p:nvSpPr>
                        <p:spPr>
                          <a:xfrm>
                            <a:off x="4803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6" name=""/>
                          <p:cNvSpPr/>
                          <p:nvPr/>
                        </p:nvSpPr>
                        <p:spPr>
                          <a:xfrm>
                            <a:off x="502884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7" name=""/>
                      <p:cNvGrpSpPr/>
                      <p:nvPr/>
                    </p:nvGrpSpPr>
                    <p:grpSpPr>
                      <a:xfrm>
                        <a:off x="5252400" y="2921760"/>
                        <a:ext cx="901080" cy="228960"/>
                        <a:chOff x="5252400" y="2921760"/>
                        <a:chExt cx="901080" cy="228960"/>
                      </a:xfrm>
                    </p:grpSpPr>
                    <p:grpSp>
                      <p:nvGrpSpPr>
                        <p:cNvPr id="898" name=""/>
                        <p:cNvGrpSpPr/>
                        <p:nvPr/>
                      </p:nvGrpSpPr>
                      <p:grpSpPr>
                        <a:xfrm>
                          <a:off x="5252400" y="2921760"/>
                          <a:ext cx="450000" cy="228960"/>
                          <a:chOff x="5252400" y="2921760"/>
                          <a:chExt cx="450000" cy="228960"/>
                        </a:xfrm>
                      </p:grpSpPr>
                      <p:sp>
                        <p:nvSpPr>
                          <p:cNvPr id="899" name=""/>
                          <p:cNvSpPr/>
                          <p:nvPr/>
                        </p:nvSpPr>
                        <p:spPr>
                          <a:xfrm>
                            <a:off x="5252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0" name=""/>
                          <p:cNvSpPr/>
                          <p:nvPr/>
                        </p:nvSpPr>
                        <p:spPr>
                          <a:xfrm>
                            <a:off x="5477400" y="292176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1" name=""/>
                        <p:cNvGrpSpPr/>
                        <p:nvPr/>
                      </p:nvGrpSpPr>
                      <p:grpSpPr>
                        <a:xfrm>
                          <a:off x="5702760" y="2921760"/>
                          <a:ext cx="450720" cy="228960"/>
                          <a:chOff x="5702760" y="2921760"/>
                          <a:chExt cx="450720" cy="228960"/>
                        </a:xfrm>
                      </p:grpSpPr>
                      <p:sp>
                        <p:nvSpPr>
                          <p:cNvPr id="902" name=""/>
                          <p:cNvSpPr/>
                          <p:nvPr/>
                        </p:nvSpPr>
                        <p:spPr>
                          <a:xfrm>
                            <a:off x="570276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3" name=""/>
                          <p:cNvSpPr/>
                          <p:nvPr/>
                        </p:nvSpPr>
                        <p:spPr>
                          <a:xfrm>
                            <a:off x="5928120" y="292176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2556000" y="3382560"/>
                    <a:ext cx="3597480" cy="228240"/>
                    <a:chOff x="2556000" y="3382560"/>
                    <a:chExt cx="3597480" cy="228240"/>
                  </a:xfrm>
                </p:grpSpPr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2556000" y="3382560"/>
                      <a:ext cx="1799640" cy="228240"/>
                      <a:chOff x="2556000" y="3382560"/>
                      <a:chExt cx="1799640" cy="228240"/>
                    </a:xfrm>
                  </p:grpSpPr>
                  <p:grpSp>
                    <p:nvGrpSpPr>
                      <p:cNvPr id="906" name=""/>
                      <p:cNvGrpSpPr/>
                      <p:nvPr/>
                    </p:nvGrpSpPr>
                    <p:grpSpPr>
                      <a:xfrm>
                        <a:off x="2556000" y="3382560"/>
                        <a:ext cx="900000" cy="228240"/>
                        <a:chOff x="2556000" y="3382560"/>
                        <a:chExt cx="900000" cy="228240"/>
                      </a:xfrm>
                    </p:grpSpPr>
                    <p:grpSp>
                      <p:nvGrpSpPr>
                        <p:cNvPr id="907" name=""/>
                        <p:cNvGrpSpPr/>
                        <p:nvPr/>
                      </p:nvGrpSpPr>
                      <p:grpSpPr>
                        <a:xfrm>
                          <a:off x="2556000" y="3382560"/>
                          <a:ext cx="449280" cy="228240"/>
                          <a:chOff x="2556000" y="3382560"/>
                          <a:chExt cx="449280" cy="228240"/>
                        </a:xfrm>
                      </p:grpSpPr>
                      <p:sp>
                        <p:nvSpPr>
                          <p:cNvPr id="908" name=""/>
                          <p:cNvSpPr/>
                          <p:nvPr/>
                        </p:nvSpPr>
                        <p:spPr>
                          <a:xfrm>
                            <a:off x="255600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9" name=""/>
                          <p:cNvSpPr/>
                          <p:nvPr/>
                        </p:nvSpPr>
                        <p:spPr>
                          <a:xfrm>
                            <a:off x="27806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0" name=""/>
                        <p:cNvGrpSpPr/>
                        <p:nvPr/>
                      </p:nvGrpSpPr>
                      <p:grpSpPr>
                        <a:xfrm>
                          <a:off x="3006000" y="3382560"/>
                          <a:ext cx="450000" cy="228240"/>
                          <a:chOff x="3006000" y="3382560"/>
                          <a:chExt cx="450000" cy="228240"/>
                        </a:xfrm>
                      </p:grpSpPr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3006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"/>
                          <p:cNvSpPr/>
                          <p:nvPr/>
                        </p:nvSpPr>
                        <p:spPr>
                          <a:xfrm>
                            <a:off x="32310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3" name=""/>
                      <p:cNvGrpSpPr/>
                      <p:nvPr/>
                    </p:nvGrpSpPr>
                    <p:grpSpPr>
                      <a:xfrm>
                        <a:off x="3454560" y="3382560"/>
                        <a:ext cx="901080" cy="228240"/>
                        <a:chOff x="3454560" y="3382560"/>
                        <a:chExt cx="901080" cy="228240"/>
                      </a:xfrm>
                    </p:grpSpPr>
                    <p:grpSp>
                      <p:nvGrpSpPr>
                        <p:cNvPr id="914" name=""/>
                        <p:cNvGrpSpPr/>
                        <p:nvPr/>
                      </p:nvGrpSpPr>
                      <p:grpSpPr>
                        <a:xfrm>
                          <a:off x="3454560" y="3382560"/>
                          <a:ext cx="450000" cy="228240"/>
                          <a:chOff x="3454560" y="3382560"/>
                          <a:chExt cx="450000" cy="228240"/>
                        </a:xfrm>
                      </p:grpSpPr>
                      <p:sp>
                        <p:nvSpPr>
                          <p:cNvPr id="915" name=""/>
                          <p:cNvSpPr/>
                          <p:nvPr/>
                        </p:nvSpPr>
                        <p:spPr>
                          <a:xfrm>
                            <a:off x="3454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6" name=""/>
                          <p:cNvSpPr/>
                          <p:nvPr/>
                        </p:nvSpPr>
                        <p:spPr>
                          <a:xfrm>
                            <a:off x="367956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7" name=""/>
                        <p:cNvGrpSpPr/>
                        <p:nvPr/>
                      </p:nvGrpSpPr>
                      <p:grpSpPr>
                        <a:xfrm>
                          <a:off x="3904920" y="3382560"/>
                          <a:ext cx="450720" cy="228240"/>
                          <a:chOff x="3904920" y="3382560"/>
                          <a:chExt cx="450720" cy="228240"/>
                        </a:xfrm>
                      </p:grpSpPr>
                      <p:sp>
                        <p:nvSpPr>
                          <p:cNvPr id="918" name=""/>
                          <p:cNvSpPr/>
                          <p:nvPr/>
                        </p:nvSpPr>
                        <p:spPr>
                          <a:xfrm>
                            <a:off x="39049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"/>
                          <p:cNvSpPr/>
                          <p:nvPr/>
                        </p:nvSpPr>
                        <p:spPr>
                          <a:xfrm>
                            <a:off x="413028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4353840" y="3382560"/>
                      <a:ext cx="1799640" cy="228240"/>
                      <a:chOff x="4353840" y="3382560"/>
                      <a:chExt cx="1799640" cy="22824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4353840" y="3382560"/>
                        <a:ext cx="900000" cy="228240"/>
                        <a:chOff x="4353840" y="3382560"/>
                        <a:chExt cx="900000" cy="228240"/>
                      </a:xfrm>
                    </p:grpSpPr>
                    <p:grpSp>
                      <p:nvGrpSpPr>
                        <p:cNvPr id="922" name=""/>
                        <p:cNvGrpSpPr/>
                        <p:nvPr/>
                      </p:nvGrpSpPr>
                      <p:grpSpPr>
                        <a:xfrm>
                          <a:off x="4353840" y="3382560"/>
                          <a:ext cx="449280" cy="228240"/>
                          <a:chOff x="4353840" y="3382560"/>
                          <a:chExt cx="449280" cy="228240"/>
                        </a:xfrm>
                      </p:grpSpPr>
                      <p:sp>
                        <p:nvSpPr>
                          <p:cNvPr id="923" name=""/>
                          <p:cNvSpPr/>
                          <p:nvPr/>
                        </p:nvSpPr>
                        <p:spPr>
                          <a:xfrm>
                            <a:off x="435384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4" name=""/>
                          <p:cNvSpPr/>
                          <p:nvPr/>
                        </p:nvSpPr>
                        <p:spPr>
                          <a:xfrm>
                            <a:off x="4578480" y="33825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5" name=""/>
                        <p:cNvGrpSpPr/>
                        <p:nvPr/>
                      </p:nvGrpSpPr>
                      <p:grpSpPr>
                        <a:xfrm>
                          <a:off x="4803840" y="3382560"/>
                          <a:ext cx="450000" cy="228240"/>
                          <a:chOff x="4803840" y="3382560"/>
                          <a:chExt cx="450000" cy="228240"/>
                        </a:xfrm>
                      </p:grpSpPr>
                      <p:sp>
                        <p:nvSpPr>
                          <p:cNvPr id="926" name=""/>
                          <p:cNvSpPr/>
                          <p:nvPr/>
                        </p:nvSpPr>
                        <p:spPr>
                          <a:xfrm>
                            <a:off x="4803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7" name=""/>
                          <p:cNvSpPr/>
                          <p:nvPr/>
                        </p:nvSpPr>
                        <p:spPr>
                          <a:xfrm>
                            <a:off x="502884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5252400" y="3382560"/>
                        <a:ext cx="901080" cy="228240"/>
                        <a:chOff x="5252400" y="3382560"/>
                        <a:chExt cx="901080" cy="228240"/>
                      </a:xfrm>
                    </p:grpSpPr>
                    <p:grpSp>
                      <p:nvGrpSpPr>
                        <p:cNvPr id="929" name=""/>
                        <p:cNvGrpSpPr/>
                        <p:nvPr/>
                      </p:nvGrpSpPr>
                      <p:grpSpPr>
                        <a:xfrm>
                          <a:off x="5252400" y="3382560"/>
                          <a:ext cx="450000" cy="228240"/>
                          <a:chOff x="5252400" y="3382560"/>
                          <a:chExt cx="450000" cy="228240"/>
                        </a:xfrm>
                      </p:grpSpPr>
                      <p:sp>
                        <p:nvSpPr>
                          <p:cNvPr id="930" name=""/>
                          <p:cNvSpPr/>
                          <p:nvPr/>
                        </p:nvSpPr>
                        <p:spPr>
                          <a:xfrm>
                            <a:off x="5252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1" name=""/>
                          <p:cNvSpPr/>
                          <p:nvPr/>
                        </p:nvSpPr>
                        <p:spPr>
                          <a:xfrm>
                            <a:off x="5477400" y="33825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2" name=""/>
                        <p:cNvGrpSpPr/>
                        <p:nvPr/>
                      </p:nvGrpSpPr>
                      <p:grpSpPr>
                        <a:xfrm>
                          <a:off x="5702760" y="3382560"/>
                          <a:ext cx="450720" cy="228240"/>
                          <a:chOff x="5702760" y="3382560"/>
                          <a:chExt cx="450720" cy="228240"/>
                        </a:xfrm>
                      </p:grpSpPr>
                      <p:sp>
                        <p:nvSpPr>
                          <p:cNvPr id="933" name=""/>
                          <p:cNvSpPr/>
                          <p:nvPr/>
                        </p:nvSpPr>
                        <p:spPr>
                          <a:xfrm>
                            <a:off x="570276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4" name=""/>
                          <p:cNvSpPr/>
                          <p:nvPr/>
                        </p:nvSpPr>
                        <p:spPr>
                          <a:xfrm>
                            <a:off x="5928120" y="33825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2556000" y="3610440"/>
                  <a:ext cx="3597480" cy="919440"/>
                  <a:chOff x="2556000" y="3610440"/>
                  <a:chExt cx="3597480" cy="91944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2556000" y="3610440"/>
                    <a:ext cx="3597480" cy="228600"/>
                    <a:chOff x="2556000" y="3610440"/>
                    <a:chExt cx="3597480" cy="228600"/>
                  </a:xfrm>
                </p:grpSpPr>
                <p:grpSp>
                  <p:nvGrpSpPr>
                    <p:cNvPr id="937" name=""/>
                    <p:cNvGrpSpPr/>
                    <p:nvPr/>
                  </p:nvGrpSpPr>
                  <p:grpSpPr>
                    <a:xfrm>
                      <a:off x="2556000" y="3610440"/>
                      <a:ext cx="1799640" cy="228600"/>
                      <a:chOff x="2556000" y="3610440"/>
                      <a:chExt cx="1799640" cy="228600"/>
                    </a:xfrm>
                  </p:grpSpPr>
                  <p:grpSp>
                    <p:nvGrpSpPr>
                      <p:cNvPr id="938" name=""/>
                      <p:cNvGrpSpPr/>
                      <p:nvPr/>
                    </p:nvGrpSpPr>
                    <p:grpSpPr>
                      <a:xfrm>
                        <a:off x="2556000" y="3610440"/>
                        <a:ext cx="900000" cy="228600"/>
                        <a:chOff x="2556000" y="3610440"/>
                        <a:chExt cx="900000" cy="228600"/>
                      </a:xfrm>
                    </p:grpSpPr>
                    <p:grpSp>
                      <p:nvGrpSpPr>
                        <p:cNvPr id="939" name=""/>
                        <p:cNvGrpSpPr/>
                        <p:nvPr/>
                      </p:nvGrpSpPr>
                      <p:grpSpPr>
                        <a:xfrm>
                          <a:off x="2556000" y="3610440"/>
                          <a:ext cx="449280" cy="228600"/>
                          <a:chOff x="2556000" y="3610440"/>
                          <a:chExt cx="449280" cy="228600"/>
                        </a:xfrm>
                      </p:grpSpPr>
                      <p:sp>
                        <p:nvSpPr>
                          <p:cNvPr id="940" name=""/>
                          <p:cNvSpPr/>
                          <p:nvPr/>
                        </p:nvSpPr>
                        <p:spPr>
                          <a:xfrm>
                            <a:off x="255600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1" name=""/>
                          <p:cNvSpPr/>
                          <p:nvPr/>
                        </p:nvSpPr>
                        <p:spPr>
                          <a:xfrm>
                            <a:off x="27806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2" name=""/>
                        <p:cNvGrpSpPr/>
                        <p:nvPr/>
                      </p:nvGrpSpPr>
                      <p:grpSpPr>
                        <a:xfrm>
                          <a:off x="3006000" y="3610440"/>
                          <a:ext cx="450000" cy="228600"/>
                          <a:chOff x="3006000" y="3610440"/>
                          <a:chExt cx="450000" cy="228600"/>
                        </a:xfrm>
                      </p:grpSpPr>
                      <p:sp>
                        <p:nvSpPr>
                          <p:cNvPr id="943" name=""/>
                          <p:cNvSpPr/>
                          <p:nvPr/>
                        </p:nvSpPr>
                        <p:spPr>
                          <a:xfrm>
                            <a:off x="3006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4" name=""/>
                          <p:cNvSpPr/>
                          <p:nvPr/>
                        </p:nvSpPr>
                        <p:spPr>
                          <a:xfrm>
                            <a:off x="32310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3454560" y="3610440"/>
                        <a:ext cx="901080" cy="228600"/>
                        <a:chOff x="3454560" y="3610440"/>
                        <a:chExt cx="901080" cy="228600"/>
                      </a:xfrm>
                    </p:grpSpPr>
                    <p:grpSp>
                      <p:nvGrpSpPr>
                        <p:cNvPr id="946" name=""/>
                        <p:cNvGrpSpPr/>
                        <p:nvPr/>
                      </p:nvGrpSpPr>
                      <p:grpSpPr>
                        <a:xfrm>
                          <a:off x="3454560" y="3610440"/>
                          <a:ext cx="450000" cy="228600"/>
                          <a:chOff x="3454560" y="3610440"/>
                          <a:chExt cx="450000" cy="228600"/>
                        </a:xfrm>
                      </p:grpSpPr>
                      <p:sp>
                        <p:nvSpPr>
                          <p:cNvPr id="947" name=""/>
                          <p:cNvSpPr/>
                          <p:nvPr/>
                        </p:nvSpPr>
                        <p:spPr>
                          <a:xfrm>
                            <a:off x="3454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8" name=""/>
                          <p:cNvSpPr/>
                          <p:nvPr/>
                        </p:nvSpPr>
                        <p:spPr>
                          <a:xfrm>
                            <a:off x="367956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9" name=""/>
                        <p:cNvGrpSpPr/>
                        <p:nvPr/>
                      </p:nvGrpSpPr>
                      <p:grpSpPr>
                        <a:xfrm>
                          <a:off x="3904920" y="3610440"/>
                          <a:ext cx="450720" cy="228600"/>
                          <a:chOff x="3904920" y="3610440"/>
                          <a:chExt cx="450720" cy="228600"/>
                        </a:xfrm>
                      </p:grpSpPr>
                      <p:sp>
                        <p:nvSpPr>
                          <p:cNvPr id="950" name=""/>
                          <p:cNvSpPr/>
                          <p:nvPr/>
                        </p:nvSpPr>
                        <p:spPr>
                          <a:xfrm>
                            <a:off x="39049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"/>
                          <p:cNvSpPr/>
                          <p:nvPr/>
                        </p:nvSpPr>
                        <p:spPr>
                          <a:xfrm>
                            <a:off x="413028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4353840" y="3610440"/>
                      <a:ext cx="1799640" cy="228600"/>
                      <a:chOff x="4353840" y="3610440"/>
                      <a:chExt cx="1799640" cy="22860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4353840" y="3610440"/>
                        <a:ext cx="900000" cy="228600"/>
                        <a:chOff x="4353840" y="3610440"/>
                        <a:chExt cx="900000" cy="22860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4353840" y="3610440"/>
                          <a:ext cx="449280" cy="228600"/>
                          <a:chOff x="4353840" y="3610440"/>
                          <a:chExt cx="449280" cy="22860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435384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4578480" y="36104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7" name=""/>
                        <p:cNvGrpSpPr/>
                        <p:nvPr/>
                      </p:nvGrpSpPr>
                      <p:grpSpPr>
                        <a:xfrm>
                          <a:off x="4803840" y="3610440"/>
                          <a:ext cx="450000" cy="228600"/>
                          <a:chOff x="4803840" y="3610440"/>
                          <a:chExt cx="450000" cy="228600"/>
                        </a:xfrm>
                      </p:grpSpPr>
                      <p:sp>
                        <p:nvSpPr>
                          <p:cNvPr id="958" name=""/>
                          <p:cNvSpPr/>
                          <p:nvPr/>
                        </p:nvSpPr>
                        <p:spPr>
                          <a:xfrm>
                            <a:off x="4803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9" name=""/>
                          <p:cNvSpPr/>
                          <p:nvPr/>
                        </p:nvSpPr>
                        <p:spPr>
                          <a:xfrm>
                            <a:off x="502884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0" name=""/>
                      <p:cNvGrpSpPr/>
                      <p:nvPr/>
                    </p:nvGrpSpPr>
                    <p:grpSpPr>
                      <a:xfrm>
                        <a:off x="5252400" y="3610440"/>
                        <a:ext cx="901080" cy="228600"/>
                        <a:chOff x="5252400" y="3610440"/>
                        <a:chExt cx="901080" cy="228600"/>
                      </a:xfrm>
                    </p:grpSpPr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252400" y="3610440"/>
                          <a:ext cx="450000" cy="228600"/>
                          <a:chOff x="5252400" y="3610440"/>
                          <a:chExt cx="450000" cy="22860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252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77400" y="36104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4" name=""/>
                        <p:cNvGrpSpPr/>
                        <p:nvPr/>
                      </p:nvGrpSpPr>
                      <p:grpSpPr>
                        <a:xfrm>
                          <a:off x="5702760" y="3610440"/>
                          <a:ext cx="450720" cy="228600"/>
                          <a:chOff x="5702760" y="3610440"/>
                          <a:chExt cx="450720" cy="228600"/>
                        </a:xfrm>
                      </p:grpSpPr>
                      <p:sp>
                        <p:nvSpPr>
                          <p:cNvPr id="965" name=""/>
                          <p:cNvSpPr/>
                          <p:nvPr/>
                        </p:nvSpPr>
                        <p:spPr>
                          <a:xfrm>
                            <a:off x="570276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5928120" y="36104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2556000" y="4071240"/>
                    <a:ext cx="3597480" cy="228600"/>
                    <a:chOff x="2556000" y="4071240"/>
                    <a:chExt cx="3597480" cy="228600"/>
                  </a:xfrm>
                </p:grpSpPr>
                <p:grpSp>
                  <p:nvGrpSpPr>
                    <p:cNvPr id="968" name=""/>
                    <p:cNvGrpSpPr/>
                    <p:nvPr/>
                  </p:nvGrpSpPr>
                  <p:grpSpPr>
                    <a:xfrm>
                      <a:off x="2556000" y="4071240"/>
                      <a:ext cx="1799640" cy="228600"/>
                      <a:chOff x="2556000" y="4071240"/>
                      <a:chExt cx="1799640" cy="228600"/>
                    </a:xfrm>
                  </p:grpSpPr>
                  <p:grpSp>
                    <p:nvGrpSpPr>
                      <p:cNvPr id="969" name=""/>
                      <p:cNvGrpSpPr/>
                      <p:nvPr/>
                    </p:nvGrpSpPr>
                    <p:grpSpPr>
                      <a:xfrm>
                        <a:off x="2556000" y="4071240"/>
                        <a:ext cx="900000" cy="228600"/>
                        <a:chOff x="2556000" y="4071240"/>
                        <a:chExt cx="900000" cy="228600"/>
                      </a:xfrm>
                    </p:grpSpPr>
                    <p:grpSp>
                      <p:nvGrpSpPr>
                        <p:cNvPr id="970" name=""/>
                        <p:cNvGrpSpPr/>
                        <p:nvPr/>
                      </p:nvGrpSpPr>
                      <p:grpSpPr>
                        <a:xfrm>
                          <a:off x="2556000" y="4071240"/>
                          <a:ext cx="449280" cy="228600"/>
                          <a:chOff x="2556000" y="4071240"/>
                          <a:chExt cx="449280" cy="228600"/>
                        </a:xfrm>
                      </p:grpSpPr>
                      <p:sp>
                        <p:nvSpPr>
                          <p:cNvPr id="971" name=""/>
                          <p:cNvSpPr/>
                          <p:nvPr/>
                        </p:nvSpPr>
                        <p:spPr>
                          <a:xfrm>
                            <a:off x="255600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>
                            <a:off x="27806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"/>
                        <p:cNvGrpSpPr/>
                        <p:nvPr/>
                      </p:nvGrpSpPr>
                      <p:grpSpPr>
                        <a:xfrm>
                          <a:off x="3006000" y="4071240"/>
                          <a:ext cx="450000" cy="228600"/>
                          <a:chOff x="3006000" y="4071240"/>
                          <a:chExt cx="450000" cy="228600"/>
                        </a:xfrm>
                      </p:grpSpPr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>
                            <a:off x="3006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>
                            <a:off x="32310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6" name=""/>
                      <p:cNvGrpSpPr/>
                      <p:nvPr/>
                    </p:nvGrpSpPr>
                    <p:grpSpPr>
                      <a:xfrm>
                        <a:off x="3454560" y="4071240"/>
                        <a:ext cx="901080" cy="228600"/>
                        <a:chOff x="3454560" y="4071240"/>
                        <a:chExt cx="901080" cy="228600"/>
                      </a:xfrm>
                    </p:grpSpPr>
                    <p:grpSp>
                      <p:nvGrpSpPr>
                        <p:cNvPr id="977" name=""/>
                        <p:cNvGrpSpPr/>
                        <p:nvPr/>
                      </p:nvGrpSpPr>
                      <p:grpSpPr>
                        <a:xfrm>
                          <a:off x="3454560" y="4071240"/>
                          <a:ext cx="450000" cy="228600"/>
                          <a:chOff x="3454560" y="4071240"/>
                          <a:chExt cx="450000" cy="228600"/>
                        </a:xfrm>
                      </p:grpSpPr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>
                            <a:off x="3454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367956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0" name=""/>
                        <p:cNvGrpSpPr/>
                        <p:nvPr/>
                      </p:nvGrpSpPr>
                      <p:grpSpPr>
                        <a:xfrm>
                          <a:off x="3904920" y="4071240"/>
                          <a:ext cx="450720" cy="228600"/>
                          <a:chOff x="3904920" y="4071240"/>
                          <a:chExt cx="450720" cy="228600"/>
                        </a:xfrm>
                      </p:grpSpPr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39049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>
                            <a:off x="413028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4353840" y="4071240"/>
                      <a:ext cx="1799640" cy="228600"/>
                      <a:chOff x="4353840" y="4071240"/>
                      <a:chExt cx="1799640" cy="228600"/>
                    </a:xfrm>
                  </p:grpSpPr>
                  <p:grpSp>
                    <p:nvGrpSpPr>
                      <p:cNvPr id="984" name=""/>
                      <p:cNvGrpSpPr/>
                      <p:nvPr/>
                    </p:nvGrpSpPr>
                    <p:grpSpPr>
                      <a:xfrm>
                        <a:off x="4353840" y="4071240"/>
                        <a:ext cx="900000" cy="228600"/>
                        <a:chOff x="4353840" y="4071240"/>
                        <a:chExt cx="900000" cy="228600"/>
                      </a:xfrm>
                    </p:grpSpPr>
                    <p:grpSp>
                      <p:nvGrpSpPr>
                        <p:cNvPr id="985" name=""/>
                        <p:cNvGrpSpPr/>
                        <p:nvPr/>
                      </p:nvGrpSpPr>
                      <p:grpSpPr>
                        <a:xfrm>
                          <a:off x="4353840" y="4071240"/>
                          <a:ext cx="449280" cy="228600"/>
                          <a:chOff x="4353840" y="4071240"/>
                          <a:chExt cx="449280" cy="228600"/>
                        </a:xfrm>
                      </p:grpSpPr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>
                            <a:off x="435384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>
                            <a:off x="4578480" y="407124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8" name=""/>
                        <p:cNvGrpSpPr/>
                        <p:nvPr/>
                      </p:nvGrpSpPr>
                      <p:grpSpPr>
                        <a:xfrm>
                          <a:off x="4803840" y="4071240"/>
                          <a:ext cx="450000" cy="228600"/>
                          <a:chOff x="4803840" y="4071240"/>
                          <a:chExt cx="450000" cy="228600"/>
                        </a:xfrm>
                      </p:grpSpPr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4803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0" name=""/>
                          <p:cNvSpPr/>
                          <p:nvPr/>
                        </p:nvSpPr>
                        <p:spPr>
                          <a:xfrm>
                            <a:off x="502884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5252400" y="4071240"/>
                        <a:ext cx="901080" cy="228600"/>
                        <a:chOff x="5252400" y="4071240"/>
                        <a:chExt cx="901080" cy="228600"/>
                      </a:xfrm>
                    </p:grpSpPr>
                    <p:grpSp>
                      <p:nvGrpSpPr>
                        <p:cNvPr id="992" name=""/>
                        <p:cNvGrpSpPr/>
                        <p:nvPr/>
                      </p:nvGrpSpPr>
                      <p:grpSpPr>
                        <a:xfrm>
                          <a:off x="5252400" y="4071240"/>
                          <a:ext cx="450000" cy="228600"/>
                          <a:chOff x="5252400" y="4071240"/>
                          <a:chExt cx="450000" cy="228600"/>
                        </a:xfrm>
                      </p:grpSpPr>
                      <p:sp>
                        <p:nvSpPr>
                          <p:cNvPr id="993" name=""/>
                          <p:cNvSpPr/>
                          <p:nvPr/>
                        </p:nvSpPr>
                        <p:spPr>
                          <a:xfrm>
                            <a:off x="5252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4" name=""/>
                          <p:cNvSpPr/>
                          <p:nvPr/>
                        </p:nvSpPr>
                        <p:spPr>
                          <a:xfrm>
                            <a:off x="5477400" y="407124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5" name=""/>
                        <p:cNvGrpSpPr/>
                        <p:nvPr/>
                      </p:nvGrpSpPr>
                      <p:grpSpPr>
                        <a:xfrm>
                          <a:off x="5702760" y="4071240"/>
                          <a:ext cx="450720" cy="228600"/>
                          <a:chOff x="5702760" y="4071240"/>
                          <a:chExt cx="450720" cy="228600"/>
                        </a:xfrm>
                      </p:grpSpPr>
                      <p:sp>
                        <p:nvSpPr>
                          <p:cNvPr id="996" name=""/>
                          <p:cNvSpPr/>
                          <p:nvPr/>
                        </p:nvSpPr>
                        <p:spPr>
                          <a:xfrm>
                            <a:off x="570276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7" name=""/>
                          <p:cNvSpPr/>
                          <p:nvPr/>
                        </p:nvSpPr>
                        <p:spPr>
                          <a:xfrm>
                            <a:off x="5928120" y="407124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2556000" y="3840480"/>
                    <a:ext cx="3597480" cy="229320"/>
                    <a:chOff x="2556000" y="3840480"/>
                    <a:chExt cx="3597480" cy="22932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2556000" y="3840480"/>
                      <a:ext cx="1799640" cy="229320"/>
                      <a:chOff x="2556000" y="3840480"/>
                      <a:chExt cx="1799640" cy="22932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2556000" y="3840480"/>
                        <a:ext cx="900000" cy="229320"/>
                        <a:chOff x="2556000" y="3840480"/>
                        <a:chExt cx="900000" cy="22932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2556000" y="3840480"/>
                          <a:ext cx="449280" cy="229320"/>
                          <a:chOff x="2556000" y="3840480"/>
                          <a:chExt cx="449280" cy="2293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255600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27806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4" name=""/>
                        <p:cNvGrpSpPr/>
                        <p:nvPr/>
                      </p:nvGrpSpPr>
                      <p:grpSpPr>
                        <a:xfrm>
                          <a:off x="3006000" y="3840480"/>
                          <a:ext cx="450000" cy="229320"/>
                          <a:chOff x="3006000" y="3840480"/>
                          <a:chExt cx="450000" cy="229320"/>
                        </a:xfrm>
                      </p:grpSpPr>
                      <p:sp>
                        <p:nvSpPr>
                          <p:cNvPr id="1005" name=""/>
                          <p:cNvSpPr/>
                          <p:nvPr/>
                        </p:nvSpPr>
                        <p:spPr>
                          <a:xfrm>
                            <a:off x="3006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32310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7" name=""/>
                      <p:cNvGrpSpPr/>
                      <p:nvPr/>
                    </p:nvGrpSpPr>
                    <p:grpSpPr>
                      <a:xfrm>
                        <a:off x="3454560" y="3840480"/>
                        <a:ext cx="901080" cy="229320"/>
                        <a:chOff x="3454560" y="3840480"/>
                        <a:chExt cx="901080" cy="229320"/>
                      </a:xfrm>
                    </p:grpSpPr>
                    <p:grpSp>
                      <p:nvGrpSpPr>
                        <p:cNvPr id="1008" name=""/>
                        <p:cNvGrpSpPr/>
                        <p:nvPr/>
                      </p:nvGrpSpPr>
                      <p:grpSpPr>
                        <a:xfrm>
                          <a:off x="3454560" y="3840480"/>
                          <a:ext cx="450000" cy="229320"/>
                          <a:chOff x="3454560" y="3840480"/>
                          <a:chExt cx="450000" cy="229320"/>
                        </a:xfrm>
                      </p:grpSpPr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3454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67956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1" name=""/>
                        <p:cNvGrpSpPr/>
                        <p:nvPr/>
                      </p:nvGrpSpPr>
                      <p:grpSpPr>
                        <a:xfrm>
                          <a:off x="3904920" y="3840480"/>
                          <a:ext cx="450720" cy="229320"/>
                          <a:chOff x="3904920" y="3840480"/>
                          <a:chExt cx="450720" cy="229320"/>
                        </a:xfrm>
                      </p:grpSpPr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39049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413028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4353840" y="3840480"/>
                      <a:ext cx="1799640" cy="229320"/>
                      <a:chOff x="4353840" y="3840480"/>
                      <a:chExt cx="1799640" cy="229320"/>
                    </a:xfrm>
                  </p:grpSpPr>
                  <p:grpSp>
                    <p:nvGrpSpPr>
                      <p:cNvPr id="1015" name=""/>
                      <p:cNvGrpSpPr/>
                      <p:nvPr/>
                    </p:nvGrpSpPr>
                    <p:grpSpPr>
                      <a:xfrm>
                        <a:off x="4353840" y="3840480"/>
                        <a:ext cx="900000" cy="229320"/>
                        <a:chOff x="4353840" y="3840480"/>
                        <a:chExt cx="900000" cy="229320"/>
                      </a:xfrm>
                    </p:grpSpPr>
                    <p:grpSp>
                      <p:nvGrpSpPr>
                        <p:cNvPr id="1016" name=""/>
                        <p:cNvGrpSpPr/>
                        <p:nvPr/>
                      </p:nvGrpSpPr>
                      <p:grpSpPr>
                        <a:xfrm>
                          <a:off x="4353840" y="3840480"/>
                          <a:ext cx="449280" cy="229320"/>
                          <a:chOff x="4353840" y="3840480"/>
                          <a:chExt cx="449280" cy="229320"/>
                        </a:xfrm>
                      </p:grpSpPr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435384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4578480" y="3840480"/>
                            <a:ext cx="22464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9" name=""/>
                        <p:cNvGrpSpPr/>
                        <p:nvPr/>
                      </p:nvGrpSpPr>
                      <p:grpSpPr>
                        <a:xfrm>
                          <a:off x="4803840" y="3840480"/>
                          <a:ext cx="450000" cy="229320"/>
                          <a:chOff x="4803840" y="3840480"/>
                          <a:chExt cx="450000" cy="229320"/>
                        </a:xfrm>
                      </p:grpSpPr>
                      <p:sp>
                        <p:nvSpPr>
                          <p:cNvPr id="1020" name=""/>
                          <p:cNvSpPr/>
                          <p:nvPr/>
                        </p:nvSpPr>
                        <p:spPr>
                          <a:xfrm>
                            <a:off x="4803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1" name=""/>
                          <p:cNvSpPr/>
                          <p:nvPr/>
                        </p:nvSpPr>
                        <p:spPr>
                          <a:xfrm>
                            <a:off x="502884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5252400" y="3840480"/>
                        <a:ext cx="901080" cy="229320"/>
                        <a:chOff x="5252400" y="3840480"/>
                        <a:chExt cx="901080" cy="229320"/>
                      </a:xfrm>
                    </p:grpSpPr>
                    <p:grpSp>
                      <p:nvGrpSpPr>
                        <p:cNvPr id="1023" name=""/>
                        <p:cNvGrpSpPr/>
                        <p:nvPr/>
                      </p:nvGrpSpPr>
                      <p:grpSpPr>
                        <a:xfrm>
                          <a:off x="5252400" y="3840480"/>
                          <a:ext cx="450000" cy="229320"/>
                          <a:chOff x="5252400" y="3840480"/>
                          <a:chExt cx="450000" cy="229320"/>
                        </a:xfrm>
                      </p:grpSpPr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>
                            <a:off x="5252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>
                            <a:off x="5477400" y="3840480"/>
                            <a:ext cx="22500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6" name=""/>
                        <p:cNvGrpSpPr/>
                        <p:nvPr/>
                      </p:nvGrpSpPr>
                      <p:grpSpPr>
                        <a:xfrm>
                          <a:off x="5702760" y="3840480"/>
                          <a:ext cx="450720" cy="229320"/>
                          <a:chOff x="5702760" y="3840480"/>
                          <a:chExt cx="450720" cy="229320"/>
                        </a:xfrm>
                      </p:grpSpPr>
                      <p:sp>
                        <p:nvSpPr>
                          <p:cNvPr id="1027" name=""/>
                          <p:cNvSpPr/>
                          <p:nvPr/>
                        </p:nvSpPr>
                        <p:spPr>
                          <a:xfrm>
                            <a:off x="570276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>
                            <a:off x="5928120" y="3840480"/>
                            <a:ext cx="225360" cy="22932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2556000" y="4301280"/>
                    <a:ext cx="3597480" cy="228600"/>
                    <a:chOff x="2556000" y="4301280"/>
                    <a:chExt cx="3597480" cy="228600"/>
                  </a:xfrm>
                </p:grpSpPr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2556000" y="4301280"/>
                      <a:ext cx="1799640" cy="228600"/>
                      <a:chOff x="2556000" y="4301280"/>
                      <a:chExt cx="1799640" cy="22860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2556000" y="4301280"/>
                        <a:ext cx="900000" cy="228600"/>
                        <a:chOff x="2556000" y="4301280"/>
                        <a:chExt cx="900000" cy="22860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2556000" y="4301280"/>
                          <a:ext cx="449280" cy="228600"/>
                          <a:chOff x="2556000" y="4301280"/>
                          <a:chExt cx="449280" cy="228600"/>
                        </a:xfrm>
                      </p:grpSpPr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>
                            <a:off x="255600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>
                            <a:off x="27806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5" name=""/>
                        <p:cNvGrpSpPr/>
                        <p:nvPr/>
                      </p:nvGrpSpPr>
                      <p:grpSpPr>
                        <a:xfrm>
                          <a:off x="3006000" y="4301280"/>
                          <a:ext cx="450000" cy="228600"/>
                          <a:chOff x="3006000" y="4301280"/>
                          <a:chExt cx="450000" cy="228600"/>
                        </a:xfrm>
                      </p:grpSpPr>
                      <p:sp>
                        <p:nvSpPr>
                          <p:cNvPr id="1036" name=""/>
                          <p:cNvSpPr/>
                          <p:nvPr/>
                        </p:nvSpPr>
                        <p:spPr>
                          <a:xfrm>
                            <a:off x="3006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7" name=""/>
                          <p:cNvSpPr/>
                          <p:nvPr/>
                        </p:nvSpPr>
                        <p:spPr>
                          <a:xfrm>
                            <a:off x="32310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3454560" y="4301280"/>
                        <a:ext cx="901080" cy="228600"/>
                        <a:chOff x="3454560" y="4301280"/>
                        <a:chExt cx="901080" cy="228600"/>
                      </a:xfrm>
                    </p:grpSpPr>
                    <p:grpSp>
                      <p:nvGrpSpPr>
                        <p:cNvPr id="1039" name=""/>
                        <p:cNvGrpSpPr/>
                        <p:nvPr/>
                      </p:nvGrpSpPr>
                      <p:grpSpPr>
                        <a:xfrm>
                          <a:off x="3454560" y="4301280"/>
                          <a:ext cx="450000" cy="228600"/>
                          <a:chOff x="3454560" y="4301280"/>
                          <a:chExt cx="450000" cy="228600"/>
                        </a:xfrm>
                      </p:grpSpPr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454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1" name=""/>
                          <p:cNvSpPr/>
                          <p:nvPr/>
                        </p:nvSpPr>
                        <p:spPr>
                          <a:xfrm>
                            <a:off x="367956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2" name=""/>
                        <p:cNvGrpSpPr/>
                        <p:nvPr/>
                      </p:nvGrpSpPr>
                      <p:grpSpPr>
                        <a:xfrm>
                          <a:off x="3904920" y="4301280"/>
                          <a:ext cx="450720" cy="228600"/>
                          <a:chOff x="3904920" y="4301280"/>
                          <a:chExt cx="450720" cy="228600"/>
                        </a:xfrm>
                      </p:grpSpPr>
                      <p:sp>
                        <p:nvSpPr>
                          <p:cNvPr id="1043" name=""/>
                          <p:cNvSpPr/>
                          <p:nvPr/>
                        </p:nvSpPr>
                        <p:spPr>
                          <a:xfrm>
                            <a:off x="39049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4" name=""/>
                          <p:cNvSpPr/>
                          <p:nvPr/>
                        </p:nvSpPr>
                        <p:spPr>
                          <a:xfrm>
                            <a:off x="413028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4353840" y="4301280"/>
                      <a:ext cx="1799640" cy="228600"/>
                      <a:chOff x="4353840" y="4301280"/>
                      <a:chExt cx="1799640" cy="228600"/>
                    </a:xfrm>
                  </p:grpSpPr>
                  <p:grpSp>
                    <p:nvGrpSpPr>
                      <p:cNvPr id="1046" name=""/>
                      <p:cNvGrpSpPr/>
                      <p:nvPr/>
                    </p:nvGrpSpPr>
                    <p:grpSpPr>
                      <a:xfrm>
                        <a:off x="4353840" y="4301280"/>
                        <a:ext cx="900000" cy="228600"/>
                        <a:chOff x="4353840" y="4301280"/>
                        <a:chExt cx="900000" cy="228600"/>
                      </a:xfrm>
                    </p:grpSpPr>
                    <p:grpSp>
                      <p:nvGrpSpPr>
                        <p:cNvPr id="1047" name=""/>
                        <p:cNvGrpSpPr/>
                        <p:nvPr/>
                      </p:nvGrpSpPr>
                      <p:grpSpPr>
                        <a:xfrm>
                          <a:off x="4353840" y="4301280"/>
                          <a:ext cx="449280" cy="228600"/>
                          <a:chOff x="4353840" y="4301280"/>
                          <a:chExt cx="449280" cy="228600"/>
                        </a:xfrm>
                      </p:grpSpPr>
                      <p:sp>
                        <p:nvSpPr>
                          <p:cNvPr id="1048" name=""/>
                          <p:cNvSpPr/>
                          <p:nvPr/>
                        </p:nvSpPr>
                        <p:spPr>
                          <a:xfrm>
                            <a:off x="435384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9" name=""/>
                          <p:cNvSpPr/>
                          <p:nvPr/>
                        </p:nvSpPr>
                        <p:spPr>
                          <a:xfrm>
                            <a:off x="4578480" y="4301280"/>
                            <a:ext cx="22464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0" name=""/>
                        <p:cNvGrpSpPr/>
                        <p:nvPr/>
                      </p:nvGrpSpPr>
                      <p:grpSpPr>
                        <a:xfrm>
                          <a:off x="4803840" y="4301280"/>
                          <a:ext cx="450000" cy="228600"/>
                          <a:chOff x="4803840" y="4301280"/>
                          <a:chExt cx="450000" cy="228600"/>
                        </a:xfrm>
                      </p:grpSpPr>
                      <p:sp>
                        <p:nvSpPr>
                          <p:cNvPr id="1051" name=""/>
                          <p:cNvSpPr/>
                          <p:nvPr/>
                        </p:nvSpPr>
                        <p:spPr>
                          <a:xfrm>
                            <a:off x="4803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2" name=""/>
                          <p:cNvSpPr/>
                          <p:nvPr/>
                        </p:nvSpPr>
                        <p:spPr>
                          <a:xfrm>
                            <a:off x="502884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53" name=""/>
                      <p:cNvGrpSpPr/>
                      <p:nvPr/>
                    </p:nvGrpSpPr>
                    <p:grpSpPr>
                      <a:xfrm>
                        <a:off x="5252400" y="4301280"/>
                        <a:ext cx="901080" cy="228600"/>
                        <a:chOff x="5252400" y="4301280"/>
                        <a:chExt cx="901080" cy="228600"/>
                      </a:xfrm>
                    </p:grpSpPr>
                    <p:grpSp>
                      <p:nvGrpSpPr>
                        <p:cNvPr id="1054" name=""/>
                        <p:cNvGrpSpPr/>
                        <p:nvPr/>
                      </p:nvGrpSpPr>
                      <p:grpSpPr>
                        <a:xfrm>
                          <a:off x="5252400" y="4301280"/>
                          <a:ext cx="450000" cy="228600"/>
                          <a:chOff x="5252400" y="4301280"/>
                          <a:chExt cx="450000" cy="228600"/>
                        </a:xfrm>
                      </p:grpSpPr>
                      <p:sp>
                        <p:nvSpPr>
                          <p:cNvPr id="1055" name=""/>
                          <p:cNvSpPr/>
                          <p:nvPr/>
                        </p:nvSpPr>
                        <p:spPr>
                          <a:xfrm>
                            <a:off x="5252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"/>
                          <p:cNvSpPr/>
                          <p:nvPr/>
                        </p:nvSpPr>
                        <p:spPr>
                          <a:xfrm>
                            <a:off x="5477400" y="4301280"/>
                            <a:ext cx="22500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7" name=""/>
                        <p:cNvGrpSpPr/>
                        <p:nvPr/>
                      </p:nvGrpSpPr>
                      <p:grpSpPr>
                        <a:xfrm>
                          <a:off x="5702760" y="4301280"/>
                          <a:ext cx="450720" cy="228600"/>
                          <a:chOff x="5702760" y="4301280"/>
                          <a:chExt cx="450720" cy="228600"/>
                        </a:xfrm>
                      </p:grpSpPr>
                      <p:sp>
                        <p:nvSpPr>
                          <p:cNvPr id="1058" name=""/>
                          <p:cNvSpPr/>
                          <p:nvPr/>
                        </p:nvSpPr>
                        <p:spPr>
                          <a:xfrm>
                            <a:off x="570276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5928120" y="4301280"/>
                            <a:ext cx="225360" cy="2286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2556000" y="4529520"/>
                  <a:ext cx="3597480" cy="918720"/>
                  <a:chOff x="2556000" y="4529520"/>
                  <a:chExt cx="3597480" cy="91872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2556000" y="4529520"/>
                    <a:ext cx="3597480" cy="228240"/>
                    <a:chOff x="2556000" y="4529520"/>
                    <a:chExt cx="3597480" cy="228240"/>
                  </a:xfrm>
                </p:grpSpPr>
                <p:grpSp>
                  <p:nvGrpSpPr>
                    <p:cNvPr id="1062" name=""/>
                    <p:cNvGrpSpPr/>
                    <p:nvPr/>
                  </p:nvGrpSpPr>
                  <p:grpSpPr>
                    <a:xfrm>
                      <a:off x="2556000" y="4529520"/>
                      <a:ext cx="1799640" cy="228240"/>
                      <a:chOff x="2556000" y="4529520"/>
                      <a:chExt cx="1799640" cy="228240"/>
                    </a:xfrm>
                  </p:grpSpPr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2556000" y="4529520"/>
                        <a:ext cx="900000" cy="228240"/>
                        <a:chOff x="2556000" y="4529520"/>
                        <a:chExt cx="900000" cy="228240"/>
                      </a:xfrm>
                    </p:grpSpPr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2556000" y="4529520"/>
                          <a:ext cx="449280" cy="228240"/>
                          <a:chOff x="2556000" y="4529520"/>
                          <a:chExt cx="449280" cy="22824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255600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27806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7" name=""/>
                        <p:cNvGrpSpPr/>
                        <p:nvPr/>
                      </p:nvGrpSpPr>
                      <p:grpSpPr>
                        <a:xfrm>
                          <a:off x="3006000" y="4529520"/>
                          <a:ext cx="450000" cy="228240"/>
                          <a:chOff x="3006000" y="4529520"/>
                          <a:chExt cx="450000" cy="228240"/>
                        </a:xfrm>
                      </p:grpSpPr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3006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32310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3454560" y="4529520"/>
                        <a:ext cx="901080" cy="228240"/>
                        <a:chOff x="3454560" y="4529520"/>
                        <a:chExt cx="901080" cy="22824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3454560" y="4529520"/>
                          <a:ext cx="450000" cy="228240"/>
                          <a:chOff x="3454560" y="4529520"/>
                          <a:chExt cx="450000" cy="22824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3454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367956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4" name=""/>
                        <p:cNvGrpSpPr/>
                        <p:nvPr/>
                      </p:nvGrpSpPr>
                      <p:grpSpPr>
                        <a:xfrm>
                          <a:off x="3904920" y="4529520"/>
                          <a:ext cx="450720" cy="228240"/>
                          <a:chOff x="3904920" y="4529520"/>
                          <a:chExt cx="450720" cy="228240"/>
                        </a:xfrm>
                      </p:grpSpPr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39049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>
                            <a:off x="413028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77" name=""/>
                    <p:cNvGrpSpPr/>
                    <p:nvPr/>
                  </p:nvGrpSpPr>
                  <p:grpSpPr>
                    <a:xfrm>
                      <a:off x="4353840" y="4529520"/>
                      <a:ext cx="1799640" cy="228240"/>
                      <a:chOff x="4353840" y="4529520"/>
                      <a:chExt cx="1799640" cy="228240"/>
                    </a:xfrm>
                  </p:grpSpPr>
                  <p:grpSp>
                    <p:nvGrpSpPr>
                      <p:cNvPr id="1078" name=""/>
                      <p:cNvGrpSpPr/>
                      <p:nvPr/>
                    </p:nvGrpSpPr>
                    <p:grpSpPr>
                      <a:xfrm>
                        <a:off x="4353840" y="4529520"/>
                        <a:ext cx="900000" cy="228240"/>
                        <a:chOff x="4353840" y="4529520"/>
                        <a:chExt cx="900000" cy="228240"/>
                      </a:xfrm>
                    </p:grpSpPr>
                    <p:grpSp>
                      <p:nvGrpSpPr>
                        <p:cNvPr id="1079" name=""/>
                        <p:cNvGrpSpPr/>
                        <p:nvPr/>
                      </p:nvGrpSpPr>
                      <p:grpSpPr>
                        <a:xfrm>
                          <a:off x="4353840" y="4529520"/>
                          <a:ext cx="449280" cy="228240"/>
                          <a:chOff x="4353840" y="4529520"/>
                          <a:chExt cx="449280" cy="228240"/>
                        </a:xfrm>
                      </p:grpSpPr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435384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>
                            <a:off x="4578480" y="452952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2" name=""/>
                        <p:cNvGrpSpPr/>
                        <p:nvPr/>
                      </p:nvGrpSpPr>
                      <p:grpSpPr>
                        <a:xfrm>
                          <a:off x="4803840" y="4529520"/>
                          <a:ext cx="450000" cy="228240"/>
                          <a:chOff x="4803840" y="4529520"/>
                          <a:chExt cx="450000" cy="228240"/>
                        </a:xfrm>
                      </p:grpSpPr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4803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4" name=""/>
                          <p:cNvSpPr/>
                          <p:nvPr/>
                        </p:nvSpPr>
                        <p:spPr>
                          <a:xfrm>
                            <a:off x="502884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5" name=""/>
                      <p:cNvGrpSpPr/>
                      <p:nvPr/>
                    </p:nvGrpSpPr>
                    <p:grpSpPr>
                      <a:xfrm>
                        <a:off x="5252400" y="4529520"/>
                        <a:ext cx="901080" cy="228240"/>
                        <a:chOff x="5252400" y="4529520"/>
                        <a:chExt cx="901080" cy="228240"/>
                      </a:xfrm>
                    </p:grpSpPr>
                    <p:grpSp>
                      <p:nvGrpSpPr>
                        <p:cNvPr id="1086" name=""/>
                        <p:cNvGrpSpPr/>
                        <p:nvPr/>
                      </p:nvGrpSpPr>
                      <p:grpSpPr>
                        <a:xfrm>
                          <a:off x="5252400" y="4529520"/>
                          <a:ext cx="450000" cy="228240"/>
                          <a:chOff x="5252400" y="4529520"/>
                          <a:chExt cx="450000" cy="228240"/>
                        </a:xfrm>
                      </p:grpSpPr>
                      <p:sp>
                        <p:nvSpPr>
                          <p:cNvPr id="1087" name=""/>
                          <p:cNvSpPr/>
                          <p:nvPr/>
                        </p:nvSpPr>
                        <p:spPr>
                          <a:xfrm>
                            <a:off x="5252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8" name=""/>
                          <p:cNvSpPr/>
                          <p:nvPr/>
                        </p:nvSpPr>
                        <p:spPr>
                          <a:xfrm>
                            <a:off x="5477400" y="452952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9" name=""/>
                        <p:cNvGrpSpPr/>
                        <p:nvPr/>
                      </p:nvGrpSpPr>
                      <p:grpSpPr>
                        <a:xfrm>
                          <a:off x="5702760" y="4529520"/>
                          <a:ext cx="450720" cy="228240"/>
                          <a:chOff x="5702760" y="4529520"/>
                          <a:chExt cx="450720" cy="228240"/>
                        </a:xfrm>
                      </p:grpSpPr>
                      <p:sp>
                        <p:nvSpPr>
                          <p:cNvPr id="1090" name=""/>
                          <p:cNvSpPr/>
                          <p:nvPr/>
                        </p:nvSpPr>
                        <p:spPr>
                          <a:xfrm>
                            <a:off x="570276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1" name=""/>
                          <p:cNvSpPr/>
                          <p:nvPr/>
                        </p:nvSpPr>
                        <p:spPr>
                          <a:xfrm>
                            <a:off x="5928120" y="452952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556000" y="4989960"/>
                    <a:ext cx="3597480" cy="228240"/>
                    <a:chOff x="2556000" y="4989960"/>
                    <a:chExt cx="3597480" cy="228240"/>
                  </a:xfrm>
                </p:grpSpPr>
                <p:grpSp>
                  <p:nvGrpSpPr>
                    <p:cNvPr id="1093" name=""/>
                    <p:cNvGrpSpPr/>
                    <p:nvPr/>
                  </p:nvGrpSpPr>
                  <p:grpSpPr>
                    <a:xfrm>
                      <a:off x="2556000" y="4989960"/>
                      <a:ext cx="1799640" cy="228240"/>
                      <a:chOff x="2556000" y="4989960"/>
                      <a:chExt cx="1799640" cy="228240"/>
                    </a:xfrm>
                  </p:grpSpPr>
                  <p:grpSp>
                    <p:nvGrpSpPr>
                      <p:cNvPr id="1094" name=""/>
                      <p:cNvGrpSpPr/>
                      <p:nvPr/>
                    </p:nvGrpSpPr>
                    <p:grpSpPr>
                      <a:xfrm>
                        <a:off x="2556000" y="4989960"/>
                        <a:ext cx="900000" cy="228240"/>
                        <a:chOff x="2556000" y="4989960"/>
                        <a:chExt cx="900000" cy="228240"/>
                      </a:xfrm>
                    </p:grpSpPr>
                    <p:grpSp>
                      <p:nvGrpSpPr>
                        <p:cNvPr id="1095" name=""/>
                        <p:cNvGrpSpPr/>
                        <p:nvPr/>
                      </p:nvGrpSpPr>
                      <p:grpSpPr>
                        <a:xfrm>
                          <a:off x="2556000" y="4989960"/>
                          <a:ext cx="449280" cy="228240"/>
                          <a:chOff x="2556000" y="4989960"/>
                          <a:chExt cx="449280" cy="228240"/>
                        </a:xfrm>
                      </p:grpSpPr>
                      <p:sp>
                        <p:nvSpPr>
                          <p:cNvPr id="1096" name=""/>
                          <p:cNvSpPr/>
                          <p:nvPr/>
                        </p:nvSpPr>
                        <p:spPr>
                          <a:xfrm>
                            <a:off x="255600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7" name=""/>
                          <p:cNvSpPr/>
                          <p:nvPr/>
                        </p:nvSpPr>
                        <p:spPr>
                          <a:xfrm>
                            <a:off x="27806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8" name=""/>
                        <p:cNvGrpSpPr/>
                        <p:nvPr/>
                      </p:nvGrpSpPr>
                      <p:grpSpPr>
                        <a:xfrm>
                          <a:off x="3006000" y="4989960"/>
                          <a:ext cx="450000" cy="228240"/>
                          <a:chOff x="3006000" y="4989960"/>
                          <a:chExt cx="450000" cy="228240"/>
                        </a:xfrm>
                      </p:grpSpPr>
                      <p:sp>
                        <p:nvSpPr>
                          <p:cNvPr id="1099" name=""/>
                          <p:cNvSpPr/>
                          <p:nvPr/>
                        </p:nvSpPr>
                        <p:spPr>
                          <a:xfrm>
                            <a:off x="3006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0" name=""/>
                          <p:cNvSpPr/>
                          <p:nvPr/>
                        </p:nvSpPr>
                        <p:spPr>
                          <a:xfrm>
                            <a:off x="32310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3454560" y="4989960"/>
                        <a:ext cx="901080" cy="228240"/>
                        <a:chOff x="3454560" y="4989960"/>
                        <a:chExt cx="901080" cy="228240"/>
                      </a:xfrm>
                    </p:grpSpPr>
                    <p:grpSp>
                      <p:nvGrpSpPr>
                        <p:cNvPr id="1102" name=""/>
                        <p:cNvGrpSpPr/>
                        <p:nvPr/>
                      </p:nvGrpSpPr>
                      <p:grpSpPr>
                        <a:xfrm>
                          <a:off x="3454560" y="4989960"/>
                          <a:ext cx="450000" cy="228240"/>
                          <a:chOff x="3454560" y="4989960"/>
                          <a:chExt cx="450000" cy="228240"/>
                        </a:xfrm>
                      </p:grpSpPr>
                      <p:sp>
                        <p:nvSpPr>
                          <p:cNvPr id="1103" name=""/>
                          <p:cNvSpPr/>
                          <p:nvPr/>
                        </p:nvSpPr>
                        <p:spPr>
                          <a:xfrm>
                            <a:off x="3454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"/>
                          <p:cNvSpPr/>
                          <p:nvPr/>
                        </p:nvSpPr>
                        <p:spPr>
                          <a:xfrm>
                            <a:off x="367956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5" name=""/>
                        <p:cNvGrpSpPr/>
                        <p:nvPr/>
                      </p:nvGrpSpPr>
                      <p:grpSpPr>
                        <a:xfrm>
                          <a:off x="3904920" y="4989960"/>
                          <a:ext cx="450720" cy="228240"/>
                          <a:chOff x="3904920" y="4989960"/>
                          <a:chExt cx="450720" cy="228240"/>
                        </a:xfrm>
                      </p:grpSpPr>
                      <p:sp>
                        <p:nvSpPr>
                          <p:cNvPr id="1106" name=""/>
                          <p:cNvSpPr/>
                          <p:nvPr/>
                        </p:nvSpPr>
                        <p:spPr>
                          <a:xfrm>
                            <a:off x="39049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7" name=""/>
                          <p:cNvSpPr/>
                          <p:nvPr/>
                        </p:nvSpPr>
                        <p:spPr>
                          <a:xfrm>
                            <a:off x="413028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4353840" y="4989960"/>
                      <a:ext cx="1799640" cy="228240"/>
                      <a:chOff x="4353840" y="4989960"/>
                      <a:chExt cx="1799640" cy="22824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4353840" y="4989960"/>
                        <a:ext cx="900000" cy="228240"/>
                        <a:chOff x="4353840" y="4989960"/>
                        <a:chExt cx="900000" cy="228240"/>
                      </a:xfrm>
                    </p:grpSpPr>
                    <p:grpSp>
                      <p:nvGrpSpPr>
                        <p:cNvPr id="1110" name=""/>
                        <p:cNvGrpSpPr/>
                        <p:nvPr/>
                      </p:nvGrpSpPr>
                      <p:grpSpPr>
                        <a:xfrm>
                          <a:off x="4353840" y="4989960"/>
                          <a:ext cx="449280" cy="228240"/>
                          <a:chOff x="4353840" y="4989960"/>
                          <a:chExt cx="449280" cy="228240"/>
                        </a:xfrm>
                      </p:grpSpPr>
                      <p:sp>
                        <p:nvSpPr>
                          <p:cNvPr id="1111" name=""/>
                          <p:cNvSpPr/>
                          <p:nvPr/>
                        </p:nvSpPr>
                        <p:spPr>
                          <a:xfrm>
                            <a:off x="435384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4578480" y="498996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3" name=""/>
                        <p:cNvGrpSpPr/>
                        <p:nvPr/>
                      </p:nvGrpSpPr>
                      <p:grpSpPr>
                        <a:xfrm>
                          <a:off x="4803840" y="4989960"/>
                          <a:ext cx="450000" cy="228240"/>
                          <a:chOff x="4803840" y="4989960"/>
                          <a:chExt cx="450000" cy="228240"/>
                        </a:xfrm>
                      </p:grpSpPr>
                      <p:sp>
                        <p:nvSpPr>
                          <p:cNvPr id="1114" name=""/>
                          <p:cNvSpPr/>
                          <p:nvPr/>
                        </p:nvSpPr>
                        <p:spPr>
                          <a:xfrm>
                            <a:off x="4803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502884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16" name=""/>
                      <p:cNvGrpSpPr/>
                      <p:nvPr/>
                    </p:nvGrpSpPr>
                    <p:grpSpPr>
                      <a:xfrm>
                        <a:off x="5252400" y="4989960"/>
                        <a:ext cx="901080" cy="228240"/>
                        <a:chOff x="5252400" y="4989960"/>
                        <a:chExt cx="901080" cy="228240"/>
                      </a:xfrm>
                    </p:grpSpPr>
                    <p:grpSp>
                      <p:nvGrpSpPr>
                        <p:cNvPr id="1117" name=""/>
                        <p:cNvGrpSpPr/>
                        <p:nvPr/>
                      </p:nvGrpSpPr>
                      <p:grpSpPr>
                        <a:xfrm>
                          <a:off x="5252400" y="4989960"/>
                          <a:ext cx="450000" cy="228240"/>
                          <a:chOff x="5252400" y="4989960"/>
                          <a:chExt cx="450000" cy="228240"/>
                        </a:xfrm>
                      </p:grpSpPr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5252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5477400" y="498996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"/>
                        <p:cNvGrpSpPr/>
                        <p:nvPr/>
                      </p:nvGrpSpPr>
                      <p:grpSpPr>
                        <a:xfrm>
                          <a:off x="5702760" y="4989960"/>
                          <a:ext cx="450720" cy="228240"/>
                          <a:chOff x="5702760" y="4989960"/>
                          <a:chExt cx="450720" cy="228240"/>
                        </a:xfrm>
                      </p:grpSpPr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570276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5928120" y="498996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2556000" y="4759200"/>
                    <a:ext cx="3597480" cy="228960"/>
                    <a:chOff x="2556000" y="4759200"/>
                    <a:chExt cx="3597480" cy="228960"/>
                  </a:xfrm>
                </p:grpSpPr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2556000" y="4759200"/>
                      <a:ext cx="1799640" cy="228960"/>
                      <a:chOff x="2556000" y="4759200"/>
                      <a:chExt cx="1799640" cy="228960"/>
                    </a:xfrm>
                  </p:grpSpPr>
                  <p:grpSp>
                    <p:nvGrpSpPr>
                      <p:cNvPr id="1125" name=""/>
                      <p:cNvGrpSpPr/>
                      <p:nvPr/>
                    </p:nvGrpSpPr>
                    <p:grpSpPr>
                      <a:xfrm>
                        <a:off x="2556000" y="4759200"/>
                        <a:ext cx="900000" cy="228960"/>
                        <a:chOff x="2556000" y="4759200"/>
                        <a:chExt cx="900000" cy="228960"/>
                      </a:xfrm>
                    </p:grpSpPr>
                    <p:grpSp>
                      <p:nvGrpSpPr>
                        <p:cNvPr id="1126" name=""/>
                        <p:cNvGrpSpPr/>
                        <p:nvPr/>
                      </p:nvGrpSpPr>
                      <p:grpSpPr>
                        <a:xfrm>
                          <a:off x="2556000" y="4759200"/>
                          <a:ext cx="449280" cy="228960"/>
                          <a:chOff x="2556000" y="4759200"/>
                          <a:chExt cx="449280" cy="228960"/>
                        </a:xfrm>
                      </p:grpSpPr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255600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>
                            <a:off x="27806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9" name=""/>
                        <p:cNvGrpSpPr/>
                        <p:nvPr/>
                      </p:nvGrpSpPr>
                      <p:grpSpPr>
                        <a:xfrm>
                          <a:off x="3006000" y="4759200"/>
                          <a:ext cx="450000" cy="228960"/>
                          <a:chOff x="3006000" y="4759200"/>
                          <a:chExt cx="450000" cy="228960"/>
                        </a:xfrm>
                      </p:grpSpPr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>
                            <a:off x="3006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>
                            <a:off x="32310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32" name=""/>
                      <p:cNvGrpSpPr/>
                      <p:nvPr/>
                    </p:nvGrpSpPr>
                    <p:grpSpPr>
                      <a:xfrm>
                        <a:off x="3454560" y="4759200"/>
                        <a:ext cx="901080" cy="228960"/>
                        <a:chOff x="3454560" y="4759200"/>
                        <a:chExt cx="901080" cy="228960"/>
                      </a:xfrm>
                    </p:grpSpPr>
                    <p:grpSp>
                      <p:nvGrpSpPr>
                        <p:cNvPr id="1133" name=""/>
                        <p:cNvGrpSpPr/>
                        <p:nvPr/>
                      </p:nvGrpSpPr>
                      <p:grpSpPr>
                        <a:xfrm>
                          <a:off x="3454560" y="4759200"/>
                          <a:ext cx="450000" cy="228960"/>
                          <a:chOff x="3454560" y="4759200"/>
                          <a:chExt cx="450000" cy="228960"/>
                        </a:xfrm>
                      </p:grpSpPr>
                      <p:sp>
                        <p:nvSpPr>
                          <p:cNvPr id="1134" name=""/>
                          <p:cNvSpPr/>
                          <p:nvPr/>
                        </p:nvSpPr>
                        <p:spPr>
                          <a:xfrm>
                            <a:off x="3454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"/>
                          <p:cNvSpPr/>
                          <p:nvPr/>
                        </p:nvSpPr>
                        <p:spPr>
                          <a:xfrm>
                            <a:off x="367956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6" name=""/>
                        <p:cNvGrpSpPr/>
                        <p:nvPr/>
                      </p:nvGrpSpPr>
                      <p:grpSpPr>
                        <a:xfrm>
                          <a:off x="3904920" y="4759200"/>
                          <a:ext cx="450720" cy="228960"/>
                          <a:chOff x="3904920" y="4759200"/>
                          <a:chExt cx="450720" cy="228960"/>
                        </a:xfrm>
                      </p:grpSpPr>
                      <p:sp>
                        <p:nvSpPr>
                          <p:cNvPr id="1137" name=""/>
                          <p:cNvSpPr/>
                          <p:nvPr/>
                        </p:nvSpPr>
                        <p:spPr>
                          <a:xfrm>
                            <a:off x="39049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413028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39" name=""/>
                    <p:cNvGrpSpPr/>
                    <p:nvPr/>
                  </p:nvGrpSpPr>
                  <p:grpSpPr>
                    <a:xfrm>
                      <a:off x="4353840" y="4759200"/>
                      <a:ext cx="1799640" cy="228960"/>
                      <a:chOff x="4353840" y="4759200"/>
                      <a:chExt cx="1799640" cy="228960"/>
                    </a:xfrm>
                  </p:grpSpPr>
                  <p:grpSp>
                    <p:nvGrpSpPr>
                      <p:cNvPr id="1140" name=""/>
                      <p:cNvGrpSpPr/>
                      <p:nvPr/>
                    </p:nvGrpSpPr>
                    <p:grpSpPr>
                      <a:xfrm>
                        <a:off x="4353840" y="4759200"/>
                        <a:ext cx="900000" cy="228960"/>
                        <a:chOff x="4353840" y="4759200"/>
                        <a:chExt cx="900000" cy="228960"/>
                      </a:xfrm>
                    </p:grpSpPr>
                    <p:grpSp>
                      <p:nvGrpSpPr>
                        <p:cNvPr id="1141" name=""/>
                        <p:cNvGrpSpPr/>
                        <p:nvPr/>
                      </p:nvGrpSpPr>
                      <p:grpSpPr>
                        <a:xfrm>
                          <a:off x="4353840" y="4759200"/>
                          <a:ext cx="449280" cy="228960"/>
                          <a:chOff x="4353840" y="4759200"/>
                          <a:chExt cx="449280" cy="228960"/>
                        </a:xfrm>
                      </p:grpSpPr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>
                            <a:off x="435384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>
                            <a:off x="4578480" y="4759200"/>
                            <a:ext cx="22464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4" name=""/>
                        <p:cNvGrpSpPr/>
                        <p:nvPr/>
                      </p:nvGrpSpPr>
                      <p:grpSpPr>
                        <a:xfrm>
                          <a:off x="4803840" y="4759200"/>
                          <a:ext cx="450000" cy="228960"/>
                          <a:chOff x="4803840" y="4759200"/>
                          <a:chExt cx="450000" cy="228960"/>
                        </a:xfrm>
                      </p:grpSpPr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>
                            <a:off x="4803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>
                            <a:off x="502884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7" name=""/>
                      <p:cNvGrpSpPr/>
                      <p:nvPr/>
                    </p:nvGrpSpPr>
                    <p:grpSpPr>
                      <a:xfrm>
                        <a:off x="5252400" y="4759200"/>
                        <a:ext cx="901080" cy="228960"/>
                        <a:chOff x="5252400" y="4759200"/>
                        <a:chExt cx="901080" cy="228960"/>
                      </a:xfrm>
                    </p:grpSpPr>
                    <p:grpSp>
                      <p:nvGrpSpPr>
                        <p:cNvPr id="1148" name=""/>
                        <p:cNvGrpSpPr/>
                        <p:nvPr/>
                      </p:nvGrpSpPr>
                      <p:grpSpPr>
                        <a:xfrm>
                          <a:off x="5252400" y="4759200"/>
                          <a:ext cx="450000" cy="228960"/>
                          <a:chOff x="5252400" y="4759200"/>
                          <a:chExt cx="450000" cy="228960"/>
                        </a:xfrm>
                      </p:grpSpPr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5252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>
                            <a:off x="5477400" y="4759200"/>
                            <a:ext cx="22500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1" name=""/>
                        <p:cNvGrpSpPr/>
                        <p:nvPr/>
                      </p:nvGrpSpPr>
                      <p:grpSpPr>
                        <a:xfrm>
                          <a:off x="5702760" y="4759200"/>
                          <a:ext cx="450720" cy="228960"/>
                          <a:chOff x="5702760" y="4759200"/>
                          <a:chExt cx="450720" cy="228960"/>
                        </a:xfrm>
                      </p:grpSpPr>
                      <p:sp>
                        <p:nvSpPr>
                          <p:cNvPr id="1152" name=""/>
                          <p:cNvSpPr/>
                          <p:nvPr/>
                        </p:nvSpPr>
                        <p:spPr>
                          <a:xfrm>
                            <a:off x="570276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"/>
                          <p:cNvSpPr/>
                          <p:nvPr/>
                        </p:nvSpPr>
                        <p:spPr>
                          <a:xfrm>
                            <a:off x="5928120" y="4759200"/>
                            <a:ext cx="225360" cy="2289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2556000" y="5220000"/>
                    <a:ext cx="3597480" cy="228240"/>
                    <a:chOff x="2556000" y="5220000"/>
                    <a:chExt cx="3597480" cy="228240"/>
                  </a:xfrm>
                </p:grpSpPr>
                <p:grpSp>
                  <p:nvGrpSpPr>
                    <p:cNvPr id="1155" name=""/>
                    <p:cNvGrpSpPr/>
                    <p:nvPr/>
                  </p:nvGrpSpPr>
                  <p:grpSpPr>
                    <a:xfrm>
                      <a:off x="2556000" y="5220000"/>
                      <a:ext cx="1799640" cy="228240"/>
                      <a:chOff x="2556000" y="5220000"/>
                      <a:chExt cx="1799640" cy="228240"/>
                    </a:xfrm>
                  </p:grpSpPr>
                  <p:grpSp>
                    <p:nvGrpSpPr>
                      <p:cNvPr id="1156" name=""/>
                      <p:cNvGrpSpPr/>
                      <p:nvPr/>
                    </p:nvGrpSpPr>
                    <p:grpSpPr>
                      <a:xfrm>
                        <a:off x="2556000" y="5220000"/>
                        <a:ext cx="900000" cy="228240"/>
                        <a:chOff x="2556000" y="5220000"/>
                        <a:chExt cx="900000" cy="228240"/>
                      </a:xfrm>
                    </p:grpSpPr>
                    <p:grpSp>
                      <p:nvGrpSpPr>
                        <p:cNvPr id="1157" name=""/>
                        <p:cNvGrpSpPr/>
                        <p:nvPr/>
                      </p:nvGrpSpPr>
                      <p:grpSpPr>
                        <a:xfrm>
                          <a:off x="2556000" y="5220000"/>
                          <a:ext cx="449280" cy="228240"/>
                          <a:chOff x="2556000" y="5220000"/>
                          <a:chExt cx="449280" cy="228240"/>
                        </a:xfrm>
                      </p:grpSpPr>
                      <p:sp>
                        <p:nvSpPr>
                          <p:cNvPr id="1158" name=""/>
                          <p:cNvSpPr/>
                          <p:nvPr/>
                        </p:nvSpPr>
                        <p:spPr>
                          <a:xfrm>
                            <a:off x="255600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9" name=""/>
                          <p:cNvSpPr/>
                          <p:nvPr/>
                        </p:nvSpPr>
                        <p:spPr>
                          <a:xfrm>
                            <a:off x="27806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0" name=""/>
                        <p:cNvGrpSpPr/>
                        <p:nvPr/>
                      </p:nvGrpSpPr>
                      <p:grpSpPr>
                        <a:xfrm>
                          <a:off x="3006000" y="5220000"/>
                          <a:ext cx="450000" cy="228240"/>
                          <a:chOff x="3006000" y="5220000"/>
                          <a:chExt cx="450000" cy="228240"/>
                        </a:xfrm>
                      </p:grpSpPr>
                      <p:sp>
                        <p:nvSpPr>
                          <p:cNvPr id="1161" name=""/>
                          <p:cNvSpPr/>
                          <p:nvPr/>
                        </p:nvSpPr>
                        <p:spPr>
                          <a:xfrm>
                            <a:off x="3006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2" name=""/>
                          <p:cNvSpPr/>
                          <p:nvPr/>
                        </p:nvSpPr>
                        <p:spPr>
                          <a:xfrm>
                            <a:off x="32310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3454560" y="5220000"/>
                        <a:ext cx="901080" cy="228240"/>
                        <a:chOff x="3454560" y="5220000"/>
                        <a:chExt cx="901080" cy="228240"/>
                      </a:xfrm>
                    </p:grpSpPr>
                    <p:grpSp>
                      <p:nvGrpSpPr>
                        <p:cNvPr id="1164" name=""/>
                        <p:cNvGrpSpPr/>
                        <p:nvPr/>
                      </p:nvGrpSpPr>
                      <p:grpSpPr>
                        <a:xfrm>
                          <a:off x="3454560" y="5220000"/>
                          <a:ext cx="450000" cy="228240"/>
                          <a:chOff x="3454560" y="5220000"/>
                          <a:chExt cx="450000" cy="228240"/>
                        </a:xfrm>
                      </p:grpSpPr>
                      <p:sp>
                        <p:nvSpPr>
                          <p:cNvPr id="1165" name=""/>
                          <p:cNvSpPr/>
                          <p:nvPr/>
                        </p:nvSpPr>
                        <p:spPr>
                          <a:xfrm>
                            <a:off x="3454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6" name=""/>
                          <p:cNvSpPr/>
                          <p:nvPr/>
                        </p:nvSpPr>
                        <p:spPr>
                          <a:xfrm>
                            <a:off x="367956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7" name=""/>
                        <p:cNvGrpSpPr/>
                        <p:nvPr/>
                      </p:nvGrpSpPr>
                      <p:grpSpPr>
                        <a:xfrm>
                          <a:off x="3904920" y="5220000"/>
                          <a:ext cx="450720" cy="228240"/>
                          <a:chOff x="3904920" y="5220000"/>
                          <a:chExt cx="450720" cy="228240"/>
                        </a:xfrm>
                      </p:grpSpPr>
                      <p:sp>
                        <p:nvSpPr>
                          <p:cNvPr id="1168" name=""/>
                          <p:cNvSpPr/>
                          <p:nvPr/>
                        </p:nvSpPr>
                        <p:spPr>
                          <a:xfrm>
                            <a:off x="39049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9" name=""/>
                          <p:cNvSpPr/>
                          <p:nvPr/>
                        </p:nvSpPr>
                        <p:spPr>
                          <a:xfrm>
                            <a:off x="413028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70" name=""/>
                    <p:cNvGrpSpPr/>
                    <p:nvPr/>
                  </p:nvGrpSpPr>
                  <p:grpSpPr>
                    <a:xfrm>
                      <a:off x="4353840" y="5220000"/>
                      <a:ext cx="1799640" cy="228240"/>
                      <a:chOff x="4353840" y="5220000"/>
                      <a:chExt cx="1799640" cy="228240"/>
                    </a:xfrm>
                  </p:grpSpPr>
                  <p:grpSp>
                    <p:nvGrpSpPr>
                      <p:cNvPr id="1171" name=""/>
                      <p:cNvGrpSpPr/>
                      <p:nvPr/>
                    </p:nvGrpSpPr>
                    <p:grpSpPr>
                      <a:xfrm>
                        <a:off x="4353840" y="5220000"/>
                        <a:ext cx="900000" cy="228240"/>
                        <a:chOff x="4353840" y="5220000"/>
                        <a:chExt cx="900000" cy="228240"/>
                      </a:xfrm>
                    </p:grpSpPr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4353840" y="5220000"/>
                          <a:ext cx="449280" cy="228240"/>
                          <a:chOff x="4353840" y="5220000"/>
                          <a:chExt cx="449280" cy="22824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435384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4578480" y="5220000"/>
                            <a:ext cx="22464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5" name=""/>
                        <p:cNvGrpSpPr/>
                        <p:nvPr/>
                      </p:nvGrpSpPr>
                      <p:grpSpPr>
                        <a:xfrm>
                          <a:off x="4803840" y="5220000"/>
                          <a:ext cx="450000" cy="228240"/>
                          <a:chOff x="4803840" y="5220000"/>
                          <a:chExt cx="450000" cy="228240"/>
                        </a:xfrm>
                      </p:grpSpPr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4803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502884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8" name=""/>
                      <p:cNvGrpSpPr/>
                      <p:nvPr/>
                    </p:nvGrpSpPr>
                    <p:grpSpPr>
                      <a:xfrm>
                        <a:off x="5252400" y="5220000"/>
                        <a:ext cx="901080" cy="228240"/>
                        <a:chOff x="5252400" y="5220000"/>
                        <a:chExt cx="901080" cy="228240"/>
                      </a:xfrm>
                    </p:grpSpPr>
                    <p:grpSp>
                      <p:nvGrpSpPr>
                        <p:cNvPr id="1179" name=""/>
                        <p:cNvGrpSpPr/>
                        <p:nvPr/>
                      </p:nvGrpSpPr>
                      <p:grpSpPr>
                        <a:xfrm>
                          <a:off x="5252400" y="5220000"/>
                          <a:ext cx="450000" cy="228240"/>
                          <a:chOff x="5252400" y="5220000"/>
                          <a:chExt cx="450000" cy="228240"/>
                        </a:xfrm>
                      </p:grpSpPr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5252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5477400" y="5220000"/>
                            <a:ext cx="22500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2" name=""/>
                        <p:cNvGrpSpPr/>
                        <p:nvPr/>
                      </p:nvGrpSpPr>
                      <p:grpSpPr>
                        <a:xfrm>
                          <a:off x="5702760" y="5220000"/>
                          <a:ext cx="450720" cy="228240"/>
                          <a:chOff x="5702760" y="5220000"/>
                          <a:chExt cx="450720" cy="228240"/>
                        </a:xfrm>
                      </p:grpSpPr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570276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5928120" y="5220000"/>
                            <a:ext cx="225360" cy="2282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2a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2a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sp>
            <p:nvSpPr>
              <p:cNvPr id="1185" name=""/>
              <p:cNvSpPr/>
              <p:nvPr/>
            </p:nvSpPr>
            <p:spPr>
              <a:xfrm>
                <a:off x="2556000" y="3610440"/>
                <a:ext cx="3597840" cy="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4354560" y="1773000"/>
                <a:ext cx="0" cy="3675240"/>
              </a:xfrm>
              <a:prstGeom prst="line">
                <a:avLst/>
              </a:prstGeom>
              <a:ln w="3816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395280" y="551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Напишите формулы для каждого графика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95280" y="4869000"/>
            <a:ext cx="1873080" cy="503280"/>
            <a:chOff x="395280" y="4869000"/>
            <a:chExt cx="1873080" cy="503280"/>
          </a:xfrm>
        </p:grpSpPr>
        <p:sp>
          <p:nvSpPr>
            <p:cNvPr id="1189" name="">
              <a:hlinkClick r:id="" action="ppaction://hlinkshowjump?jump=nextslide"/>
            </p:cNvPr>
            <p:cNvSpPr/>
            <p:nvPr/>
          </p:nvSpPr>
          <p:spPr>
            <a:xfrm>
              <a:off x="395280" y="4940640"/>
              <a:ext cx="1873080" cy="431640"/>
            </a:xfrm>
            <a:custGeom>
              <a:avLst/>
              <a:gdLst>
                <a:gd name="textAreaLeft" fmla="*/ 27720 w 1873080"/>
                <a:gd name="textAreaRight" fmla="*/ 1845360 w 18730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93672" h="21600">
                  <a:moveTo>
                    <a:pt x="0" y="0"/>
                  </a:moveTo>
                  <a:lnTo>
                    <a:pt x="93672" y="0"/>
                  </a:lnTo>
                  <a:lnTo>
                    <a:pt x="93672" y="21600"/>
                  </a:lnTo>
                  <a:lnTo>
                    <a:pt x="0" y="21600"/>
                  </a:lnTo>
                  <a:close/>
                </a:path>
                <a:path fill="lightenLess" w="93672" h="21600">
                  <a:moveTo>
                    <a:pt x="0" y="0"/>
                  </a:moveTo>
                  <a:lnTo>
                    <a:pt x="93672" y="0"/>
                  </a:lnTo>
                  <a:lnTo>
                    <a:pt x="92272" y="1400"/>
                  </a:lnTo>
                  <a:lnTo>
                    <a:pt x="1400" y="1400"/>
                  </a:lnTo>
                  <a:close/>
                </a:path>
                <a:path fill="darken" w="93672" h="21600">
                  <a:moveTo>
                    <a:pt x="93672" y="0"/>
                  </a:moveTo>
                  <a:lnTo>
                    <a:pt x="93672" y="21600"/>
                  </a:lnTo>
                  <a:lnTo>
                    <a:pt x="92272" y="20200"/>
                  </a:lnTo>
                  <a:lnTo>
                    <a:pt x="92272" y="1400"/>
                  </a:lnTo>
                  <a:close/>
                </a:path>
                <a:path fill="darkenLess" w="93672" h="21600">
                  <a:moveTo>
                    <a:pt x="936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272" y="20200"/>
                  </a:lnTo>
                  <a:close/>
                </a:path>
                <a:path fill="lighten" w="936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5280" y="486900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516720" y="4869000"/>
            <a:ext cx="1871640" cy="520560"/>
            <a:chOff x="6516720" y="4869000"/>
            <a:chExt cx="1871640" cy="520560"/>
          </a:xfrm>
        </p:grpSpPr>
        <p:sp>
          <p:nvSpPr>
            <p:cNvPr id="1192" name="">
              <a:hlinkClick r:id="rId1" action="ppaction://hlinksldjump"/>
            </p:cNvPr>
            <p:cNvSpPr/>
            <p:nvPr/>
          </p:nvSpPr>
          <p:spPr>
            <a:xfrm>
              <a:off x="6516720" y="4941720"/>
              <a:ext cx="1871640" cy="432000"/>
            </a:xfrm>
            <a:custGeom>
              <a:avLst/>
              <a:gdLst>
                <a:gd name="textAreaLeft" fmla="*/ 27720 w 1871640"/>
                <a:gd name="textAreaRight" fmla="*/ 1843920 w 187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93522" h="21600">
                  <a:moveTo>
                    <a:pt x="0" y="0"/>
                  </a:moveTo>
                  <a:lnTo>
                    <a:pt x="93522" y="0"/>
                  </a:lnTo>
                  <a:lnTo>
                    <a:pt x="93522" y="21600"/>
                  </a:lnTo>
                  <a:lnTo>
                    <a:pt x="0" y="21600"/>
                  </a:lnTo>
                  <a:close/>
                </a:path>
                <a:path fill="lightenLess" w="93522" h="21600">
                  <a:moveTo>
                    <a:pt x="0" y="0"/>
                  </a:moveTo>
                  <a:lnTo>
                    <a:pt x="93522" y="0"/>
                  </a:lnTo>
                  <a:lnTo>
                    <a:pt x="92122" y="1400"/>
                  </a:lnTo>
                  <a:lnTo>
                    <a:pt x="1400" y="1400"/>
                  </a:lnTo>
                  <a:close/>
                </a:path>
                <a:path fill="darken" w="93522" h="21600">
                  <a:moveTo>
                    <a:pt x="93522" y="0"/>
                  </a:moveTo>
                  <a:lnTo>
                    <a:pt x="93522" y="21600"/>
                  </a:lnTo>
                  <a:lnTo>
                    <a:pt x="92122" y="20200"/>
                  </a:lnTo>
                  <a:lnTo>
                    <a:pt x="92122" y="1400"/>
                  </a:lnTo>
                  <a:close/>
                </a:path>
                <a:path fill="darkenLess" w="93522" h="21600">
                  <a:moveTo>
                    <a:pt x="935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2122" y="20200"/>
                  </a:lnTo>
                  <a:close/>
                </a:path>
                <a:path fill="lighten" w="935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193" name="">
              <a:hlinkClick r:id="rId2" action="ppaction://hlinksldjump"/>
            </p:cNvPr>
            <p:cNvSpPr/>
            <p:nvPr/>
          </p:nvSpPr>
          <p:spPr>
            <a:xfrm>
              <a:off x="6516720" y="4869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ак как прямые проходят через начало координат, то функция -  прямая пропорциональность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Точка А (1;3) принадлежит прямой, значит ее координаты удовлетворяют формуле у=к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олучаем уравнение 3=к</a:t>
            </a: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1, т.е. к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Функция задается формулой у=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х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826920" y="537372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10800"/>
                </a:moveTo>
                <a:lnTo>
                  <a:pt x="25381" y="3794"/>
                </a:lnTo>
                <a:lnTo>
                  <a:pt x="25381" y="17806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1700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У=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=1/4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у=–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у=–3х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3708360" y="2060280"/>
            <a:ext cx="3597840" cy="3983760"/>
            <a:chOff x="3708360" y="2060280"/>
            <a:chExt cx="3597840" cy="3983760"/>
          </a:xfrm>
        </p:grpSpPr>
        <p:grpSp>
          <p:nvGrpSpPr>
            <p:cNvPr id="1200" name=""/>
            <p:cNvGrpSpPr/>
            <p:nvPr/>
          </p:nvGrpSpPr>
          <p:grpSpPr>
            <a:xfrm>
              <a:off x="3708360" y="2060640"/>
              <a:ext cx="3597480" cy="3983400"/>
              <a:chOff x="3708360" y="2060640"/>
              <a:chExt cx="3597480" cy="39834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270680" y="4586400"/>
                <a:ext cx="142704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grpSp>
            <p:nvGrpSpPr>
              <p:cNvPr id="1202" name=""/>
              <p:cNvGrpSpPr/>
              <p:nvPr/>
            </p:nvGrpSpPr>
            <p:grpSpPr>
              <a:xfrm>
                <a:off x="3708360" y="2060640"/>
                <a:ext cx="3597480" cy="918720"/>
                <a:chOff x="3708360" y="2060640"/>
                <a:chExt cx="3597480" cy="91872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3708360" y="2060640"/>
                  <a:ext cx="3597480" cy="228240"/>
                  <a:chOff x="3708360" y="2060640"/>
                  <a:chExt cx="3597480" cy="228240"/>
                </a:xfrm>
              </p:grpSpPr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3708360" y="2060640"/>
                    <a:ext cx="1799640" cy="228240"/>
                    <a:chOff x="3708360" y="2060640"/>
                    <a:chExt cx="1799640" cy="228240"/>
                  </a:xfrm>
                </p:grpSpPr>
                <p:grpSp>
                  <p:nvGrpSpPr>
                    <p:cNvPr id="1205" name=""/>
                    <p:cNvGrpSpPr/>
                    <p:nvPr/>
                  </p:nvGrpSpPr>
                  <p:grpSpPr>
                    <a:xfrm>
                      <a:off x="3708360" y="2060640"/>
                      <a:ext cx="900000" cy="228240"/>
                      <a:chOff x="3708360" y="2060640"/>
                      <a:chExt cx="900000" cy="228240"/>
                    </a:xfrm>
                  </p:grpSpPr>
                  <p:grpSp>
                    <p:nvGrpSpPr>
                      <p:cNvPr id="1206" name=""/>
                      <p:cNvGrpSpPr/>
                      <p:nvPr/>
                    </p:nvGrpSpPr>
                    <p:grpSpPr>
                      <a:xfrm>
                        <a:off x="3708360" y="2060640"/>
                        <a:ext cx="449280" cy="228240"/>
                        <a:chOff x="3708360" y="2060640"/>
                        <a:chExt cx="449280" cy="228240"/>
                      </a:xfrm>
                    </p:grpSpPr>
                    <p:sp>
                      <p:nvSpPr>
                        <p:cNvPr id="1207" name=""/>
                        <p:cNvSpPr/>
                        <p:nvPr/>
                      </p:nvSpPr>
                      <p:spPr>
                        <a:xfrm>
                          <a:off x="370836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8" name=""/>
                        <p:cNvSpPr/>
                        <p:nvPr/>
                      </p:nvSpPr>
                      <p:spPr>
                        <a:xfrm>
                          <a:off x="39330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09" name=""/>
                      <p:cNvGrpSpPr/>
                      <p:nvPr/>
                    </p:nvGrpSpPr>
                    <p:grpSpPr>
                      <a:xfrm>
                        <a:off x="4158360" y="2060640"/>
                        <a:ext cx="450000" cy="228240"/>
                        <a:chOff x="4158360" y="2060640"/>
                        <a:chExt cx="450000" cy="228240"/>
                      </a:xfrm>
                    </p:grpSpPr>
                    <p:sp>
                      <p:nvSpPr>
                        <p:cNvPr id="1210" name=""/>
                        <p:cNvSpPr/>
                        <p:nvPr/>
                      </p:nvSpPr>
                      <p:spPr>
                        <a:xfrm>
                          <a:off x="4158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>
                          <a:off x="43833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12" name=""/>
                    <p:cNvGrpSpPr/>
                    <p:nvPr/>
                  </p:nvGrpSpPr>
                  <p:grpSpPr>
                    <a:xfrm>
                      <a:off x="4606920" y="2060640"/>
                      <a:ext cx="901080" cy="228240"/>
                      <a:chOff x="4606920" y="2060640"/>
                      <a:chExt cx="901080" cy="228240"/>
                    </a:xfrm>
                  </p:grpSpPr>
                  <p:grpSp>
                    <p:nvGrpSpPr>
                      <p:cNvPr id="1213" name=""/>
                      <p:cNvGrpSpPr/>
                      <p:nvPr/>
                    </p:nvGrpSpPr>
                    <p:grpSpPr>
                      <a:xfrm>
                        <a:off x="4606920" y="2060640"/>
                        <a:ext cx="450000" cy="228240"/>
                        <a:chOff x="4606920" y="2060640"/>
                        <a:chExt cx="450000" cy="228240"/>
                      </a:xfrm>
                    </p:grpSpPr>
                    <p:sp>
                      <p:nvSpPr>
                        <p:cNvPr id="1214" name=""/>
                        <p:cNvSpPr/>
                        <p:nvPr/>
                      </p:nvSpPr>
                      <p:spPr>
                        <a:xfrm>
                          <a:off x="4606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"/>
                        <p:cNvSpPr/>
                        <p:nvPr/>
                      </p:nvSpPr>
                      <p:spPr>
                        <a:xfrm>
                          <a:off x="483192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16" name=""/>
                      <p:cNvGrpSpPr/>
                      <p:nvPr/>
                    </p:nvGrpSpPr>
                    <p:grpSpPr>
                      <a:xfrm>
                        <a:off x="5057280" y="2060640"/>
                        <a:ext cx="450720" cy="228240"/>
                        <a:chOff x="5057280" y="2060640"/>
                        <a:chExt cx="450720" cy="228240"/>
                      </a:xfrm>
                    </p:grpSpPr>
                    <p:sp>
                      <p:nvSpPr>
                        <p:cNvPr id="1217" name=""/>
                        <p:cNvSpPr/>
                        <p:nvPr/>
                      </p:nvSpPr>
                      <p:spPr>
                        <a:xfrm>
                          <a:off x="50572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"/>
                        <p:cNvSpPr/>
                        <p:nvPr/>
                      </p:nvSpPr>
                      <p:spPr>
                        <a:xfrm>
                          <a:off x="528264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506200" y="2060640"/>
                    <a:ext cx="1799640" cy="228240"/>
                    <a:chOff x="5506200" y="2060640"/>
                    <a:chExt cx="1799640" cy="228240"/>
                  </a:xfrm>
                </p:grpSpPr>
                <p:grpSp>
                  <p:nvGrpSpPr>
                    <p:cNvPr id="1220" name=""/>
                    <p:cNvGrpSpPr/>
                    <p:nvPr/>
                  </p:nvGrpSpPr>
                  <p:grpSpPr>
                    <a:xfrm>
                      <a:off x="5506200" y="2060640"/>
                      <a:ext cx="900000" cy="228240"/>
                      <a:chOff x="5506200" y="2060640"/>
                      <a:chExt cx="900000" cy="228240"/>
                    </a:xfrm>
                  </p:grpSpPr>
                  <p:grpSp>
                    <p:nvGrpSpPr>
                      <p:cNvPr id="1221" name=""/>
                      <p:cNvGrpSpPr/>
                      <p:nvPr/>
                    </p:nvGrpSpPr>
                    <p:grpSpPr>
                      <a:xfrm>
                        <a:off x="5506200" y="2060640"/>
                        <a:ext cx="449280" cy="228240"/>
                        <a:chOff x="5506200" y="2060640"/>
                        <a:chExt cx="449280" cy="228240"/>
                      </a:xfrm>
                    </p:grpSpPr>
                    <p:sp>
                      <p:nvSpPr>
                        <p:cNvPr id="1222" name=""/>
                        <p:cNvSpPr/>
                        <p:nvPr/>
                      </p:nvSpPr>
                      <p:spPr>
                        <a:xfrm>
                          <a:off x="550620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"/>
                        <p:cNvSpPr/>
                        <p:nvPr/>
                      </p:nvSpPr>
                      <p:spPr>
                        <a:xfrm>
                          <a:off x="5730840" y="20606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24" name=""/>
                      <p:cNvGrpSpPr/>
                      <p:nvPr/>
                    </p:nvGrpSpPr>
                    <p:grpSpPr>
                      <a:xfrm>
                        <a:off x="5956200" y="2060640"/>
                        <a:ext cx="450000" cy="228240"/>
                        <a:chOff x="5956200" y="2060640"/>
                        <a:chExt cx="450000" cy="228240"/>
                      </a:xfrm>
                    </p:grpSpPr>
                    <p:sp>
                      <p:nvSpPr>
                        <p:cNvPr id="1225" name=""/>
                        <p:cNvSpPr/>
                        <p:nvPr/>
                      </p:nvSpPr>
                      <p:spPr>
                        <a:xfrm>
                          <a:off x="5956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"/>
                        <p:cNvSpPr/>
                        <p:nvPr/>
                      </p:nvSpPr>
                      <p:spPr>
                        <a:xfrm>
                          <a:off x="618120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7" name=""/>
                    <p:cNvGrpSpPr/>
                    <p:nvPr/>
                  </p:nvGrpSpPr>
                  <p:grpSpPr>
                    <a:xfrm>
                      <a:off x="6404760" y="2060640"/>
                      <a:ext cx="901080" cy="228240"/>
                      <a:chOff x="6404760" y="2060640"/>
                      <a:chExt cx="901080" cy="228240"/>
                    </a:xfrm>
                  </p:grpSpPr>
                  <p:grpSp>
                    <p:nvGrpSpPr>
                      <p:cNvPr id="1228" name=""/>
                      <p:cNvGrpSpPr/>
                      <p:nvPr/>
                    </p:nvGrpSpPr>
                    <p:grpSpPr>
                      <a:xfrm>
                        <a:off x="6404760" y="2060640"/>
                        <a:ext cx="450000" cy="228240"/>
                        <a:chOff x="6404760" y="2060640"/>
                        <a:chExt cx="450000" cy="228240"/>
                      </a:xfrm>
                    </p:grpSpPr>
                    <p:sp>
                      <p:nvSpPr>
                        <p:cNvPr id="1229" name=""/>
                        <p:cNvSpPr/>
                        <p:nvPr/>
                      </p:nvSpPr>
                      <p:spPr>
                        <a:xfrm>
                          <a:off x="6404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"/>
                        <p:cNvSpPr/>
                        <p:nvPr/>
                      </p:nvSpPr>
                      <p:spPr>
                        <a:xfrm>
                          <a:off x="6629760" y="20606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31" name=""/>
                      <p:cNvGrpSpPr/>
                      <p:nvPr/>
                    </p:nvGrpSpPr>
                    <p:grpSpPr>
                      <a:xfrm>
                        <a:off x="6855120" y="2060640"/>
                        <a:ext cx="450720" cy="228240"/>
                        <a:chOff x="6855120" y="2060640"/>
                        <a:chExt cx="450720" cy="228240"/>
                      </a:xfrm>
                    </p:grpSpPr>
                    <p:sp>
                      <p:nvSpPr>
                        <p:cNvPr id="1232" name=""/>
                        <p:cNvSpPr/>
                        <p:nvPr/>
                      </p:nvSpPr>
                      <p:spPr>
                        <a:xfrm>
                          <a:off x="685512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"/>
                        <p:cNvSpPr/>
                        <p:nvPr/>
                      </p:nvSpPr>
                      <p:spPr>
                        <a:xfrm>
                          <a:off x="7080480" y="20606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3708360" y="2521080"/>
                  <a:ext cx="3597480" cy="228240"/>
                  <a:chOff x="3708360" y="2521080"/>
                  <a:chExt cx="3597480" cy="22824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3708360" y="2521080"/>
                    <a:ext cx="1799640" cy="228240"/>
                    <a:chOff x="3708360" y="2521080"/>
                    <a:chExt cx="1799640" cy="228240"/>
                  </a:xfrm>
                </p:grpSpPr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3708360" y="2521080"/>
                      <a:ext cx="900000" cy="228240"/>
                      <a:chOff x="3708360" y="2521080"/>
                      <a:chExt cx="900000" cy="228240"/>
                    </a:xfrm>
                  </p:grpSpPr>
                  <p:grpSp>
                    <p:nvGrpSpPr>
                      <p:cNvPr id="1237" name=""/>
                      <p:cNvGrpSpPr/>
                      <p:nvPr/>
                    </p:nvGrpSpPr>
                    <p:grpSpPr>
                      <a:xfrm>
                        <a:off x="3708360" y="2521080"/>
                        <a:ext cx="449280" cy="228240"/>
                        <a:chOff x="3708360" y="2521080"/>
                        <a:chExt cx="449280" cy="228240"/>
                      </a:xfrm>
                    </p:grpSpPr>
                    <p:sp>
                      <p:nvSpPr>
                        <p:cNvPr id="1238" name=""/>
                        <p:cNvSpPr/>
                        <p:nvPr/>
                      </p:nvSpPr>
                      <p:spPr>
                        <a:xfrm>
                          <a:off x="370836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"/>
                        <p:cNvSpPr/>
                        <p:nvPr/>
                      </p:nvSpPr>
                      <p:spPr>
                        <a:xfrm>
                          <a:off x="39330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0" name=""/>
                      <p:cNvGrpSpPr/>
                      <p:nvPr/>
                    </p:nvGrpSpPr>
                    <p:grpSpPr>
                      <a:xfrm>
                        <a:off x="4158360" y="2521080"/>
                        <a:ext cx="450000" cy="228240"/>
                        <a:chOff x="4158360" y="2521080"/>
                        <a:chExt cx="450000" cy="228240"/>
                      </a:xfrm>
                    </p:grpSpPr>
                    <p:sp>
                      <p:nvSpPr>
                        <p:cNvPr id="1241" name=""/>
                        <p:cNvSpPr/>
                        <p:nvPr/>
                      </p:nvSpPr>
                      <p:spPr>
                        <a:xfrm>
                          <a:off x="4158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43833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4606920" y="2521080"/>
                      <a:ext cx="901080" cy="228240"/>
                      <a:chOff x="4606920" y="2521080"/>
                      <a:chExt cx="901080" cy="228240"/>
                    </a:xfrm>
                  </p:grpSpPr>
                  <p:grpSp>
                    <p:nvGrpSpPr>
                      <p:cNvPr id="1244" name=""/>
                      <p:cNvGrpSpPr/>
                      <p:nvPr/>
                    </p:nvGrpSpPr>
                    <p:grpSpPr>
                      <a:xfrm>
                        <a:off x="4606920" y="2521080"/>
                        <a:ext cx="450000" cy="228240"/>
                        <a:chOff x="4606920" y="2521080"/>
                        <a:chExt cx="450000" cy="228240"/>
                      </a:xfrm>
                    </p:grpSpPr>
                    <p:sp>
                      <p:nvSpPr>
                        <p:cNvPr id="1245" name=""/>
                        <p:cNvSpPr/>
                        <p:nvPr/>
                      </p:nvSpPr>
                      <p:spPr>
                        <a:xfrm>
                          <a:off x="4606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"/>
                        <p:cNvSpPr/>
                        <p:nvPr/>
                      </p:nvSpPr>
                      <p:spPr>
                        <a:xfrm>
                          <a:off x="483192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7" name=""/>
                      <p:cNvGrpSpPr/>
                      <p:nvPr/>
                    </p:nvGrpSpPr>
                    <p:grpSpPr>
                      <a:xfrm>
                        <a:off x="5057280" y="2521080"/>
                        <a:ext cx="450720" cy="228240"/>
                        <a:chOff x="5057280" y="2521080"/>
                        <a:chExt cx="450720" cy="228240"/>
                      </a:xfrm>
                    </p:grpSpPr>
                    <p:sp>
                      <p:nvSpPr>
                        <p:cNvPr id="1248" name=""/>
                        <p:cNvSpPr/>
                        <p:nvPr/>
                      </p:nvSpPr>
                      <p:spPr>
                        <a:xfrm>
                          <a:off x="50572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9" name=""/>
                        <p:cNvSpPr/>
                        <p:nvPr/>
                      </p:nvSpPr>
                      <p:spPr>
                        <a:xfrm>
                          <a:off x="528264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506200" y="2521080"/>
                    <a:ext cx="1799640" cy="228240"/>
                    <a:chOff x="5506200" y="2521080"/>
                    <a:chExt cx="1799640" cy="228240"/>
                  </a:xfrm>
                </p:grpSpPr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5506200" y="2521080"/>
                      <a:ext cx="900000" cy="228240"/>
                      <a:chOff x="5506200" y="2521080"/>
                      <a:chExt cx="900000" cy="228240"/>
                    </a:xfrm>
                  </p:grpSpPr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5506200" y="2521080"/>
                        <a:ext cx="449280" cy="228240"/>
                        <a:chOff x="5506200" y="2521080"/>
                        <a:chExt cx="449280" cy="22824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550620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5730840" y="25210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5956200" y="2521080"/>
                        <a:ext cx="450000" cy="228240"/>
                        <a:chOff x="5956200" y="2521080"/>
                        <a:chExt cx="450000" cy="22824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5956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>
                          <a:off x="618120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58" name=""/>
                    <p:cNvGrpSpPr/>
                    <p:nvPr/>
                  </p:nvGrpSpPr>
                  <p:grpSpPr>
                    <a:xfrm>
                      <a:off x="6404760" y="2521080"/>
                      <a:ext cx="901080" cy="228240"/>
                      <a:chOff x="6404760" y="2521080"/>
                      <a:chExt cx="901080" cy="228240"/>
                    </a:xfrm>
                  </p:grpSpPr>
                  <p:grpSp>
                    <p:nvGrpSpPr>
                      <p:cNvPr id="1259" name=""/>
                      <p:cNvGrpSpPr/>
                      <p:nvPr/>
                    </p:nvGrpSpPr>
                    <p:grpSpPr>
                      <a:xfrm>
                        <a:off x="6404760" y="2521080"/>
                        <a:ext cx="450000" cy="228240"/>
                        <a:chOff x="6404760" y="2521080"/>
                        <a:chExt cx="450000" cy="228240"/>
                      </a:xfrm>
                    </p:grpSpPr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6404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"/>
                        <p:cNvSpPr/>
                        <p:nvPr/>
                      </p:nvSpPr>
                      <p:spPr>
                        <a:xfrm>
                          <a:off x="6629760" y="25210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2" name=""/>
                      <p:cNvGrpSpPr/>
                      <p:nvPr/>
                    </p:nvGrpSpPr>
                    <p:grpSpPr>
                      <a:xfrm>
                        <a:off x="6855120" y="2521080"/>
                        <a:ext cx="450720" cy="228240"/>
                        <a:chOff x="6855120" y="2521080"/>
                        <a:chExt cx="450720" cy="228240"/>
                      </a:xfrm>
                    </p:grpSpPr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685512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"/>
                        <p:cNvSpPr/>
                        <p:nvPr/>
                      </p:nvSpPr>
                      <p:spPr>
                        <a:xfrm>
                          <a:off x="7080480" y="25210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3708360" y="2290320"/>
                  <a:ext cx="3597480" cy="228960"/>
                  <a:chOff x="3708360" y="2290320"/>
                  <a:chExt cx="3597480" cy="228960"/>
                </a:xfrm>
              </p:grpSpPr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708360" y="2290320"/>
                    <a:ext cx="1799640" cy="228960"/>
                    <a:chOff x="3708360" y="2290320"/>
                    <a:chExt cx="1799640" cy="228960"/>
                  </a:xfrm>
                </p:grpSpPr>
                <p:grpSp>
                  <p:nvGrpSpPr>
                    <p:cNvPr id="1267" name=""/>
                    <p:cNvGrpSpPr/>
                    <p:nvPr/>
                  </p:nvGrpSpPr>
                  <p:grpSpPr>
                    <a:xfrm>
                      <a:off x="3708360" y="2290320"/>
                      <a:ext cx="900000" cy="228960"/>
                      <a:chOff x="3708360" y="2290320"/>
                      <a:chExt cx="900000" cy="228960"/>
                    </a:xfrm>
                  </p:grpSpPr>
                  <p:grpSp>
                    <p:nvGrpSpPr>
                      <p:cNvPr id="1268" name=""/>
                      <p:cNvGrpSpPr/>
                      <p:nvPr/>
                    </p:nvGrpSpPr>
                    <p:grpSpPr>
                      <a:xfrm>
                        <a:off x="3708360" y="2290320"/>
                        <a:ext cx="449280" cy="228960"/>
                        <a:chOff x="3708360" y="2290320"/>
                        <a:chExt cx="449280" cy="228960"/>
                      </a:xfrm>
                    </p:grpSpPr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70836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9330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1" name=""/>
                      <p:cNvGrpSpPr/>
                      <p:nvPr/>
                    </p:nvGrpSpPr>
                    <p:grpSpPr>
                      <a:xfrm>
                        <a:off x="4158360" y="2290320"/>
                        <a:ext cx="450000" cy="228960"/>
                        <a:chOff x="4158360" y="2290320"/>
                        <a:chExt cx="450000" cy="228960"/>
                      </a:xfrm>
                    </p:grpSpPr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>
                          <a:off x="4158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>
                          <a:off x="43833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4606920" y="2290320"/>
                      <a:ext cx="901080" cy="228960"/>
                      <a:chOff x="4606920" y="2290320"/>
                      <a:chExt cx="901080" cy="228960"/>
                    </a:xfrm>
                  </p:grpSpPr>
                  <p:grpSp>
                    <p:nvGrpSpPr>
                      <p:cNvPr id="1275" name=""/>
                      <p:cNvGrpSpPr/>
                      <p:nvPr/>
                    </p:nvGrpSpPr>
                    <p:grpSpPr>
                      <a:xfrm>
                        <a:off x="4606920" y="2290320"/>
                        <a:ext cx="450000" cy="228960"/>
                        <a:chOff x="4606920" y="2290320"/>
                        <a:chExt cx="450000" cy="228960"/>
                      </a:xfrm>
                    </p:grpSpPr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4606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>
                          <a:off x="483192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5057280" y="2290320"/>
                        <a:ext cx="450720" cy="228960"/>
                        <a:chOff x="5057280" y="2290320"/>
                        <a:chExt cx="450720" cy="22896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50572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528264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506200" y="2290320"/>
                    <a:ext cx="1799640" cy="228960"/>
                    <a:chOff x="5506200" y="2290320"/>
                    <a:chExt cx="1799640" cy="228960"/>
                  </a:xfrm>
                </p:grpSpPr>
                <p:grpSp>
                  <p:nvGrpSpPr>
                    <p:cNvPr id="1282" name=""/>
                    <p:cNvGrpSpPr/>
                    <p:nvPr/>
                  </p:nvGrpSpPr>
                  <p:grpSpPr>
                    <a:xfrm>
                      <a:off x="5506200" y="2290320"/>
                      <a:ext cx="900000" cy="228960"/>
                      <a:chOff x="5506200" y="2290320"/>
                      <a:chExt cx="900000" cy="228960"/>
                    </a:xfrm>
                  </p:grpSpPr>
                  <p:grpSp>
                    <p:nvGrpSpPr>
                      <p:cNvPr id="1283" name=""/>
                      <p:cNvGrpSpPr/>
                      <p:nvPr/>
                    </p:nvGrpSpPr>
                    <p:grpSpPr>
                      <a:xfrm>
                        <a:off x="5506200" y="2290320"/>
                        <a:ext cx="449280" cy="228960"/>
                        <a:chOff x="5506200" y="2290320"/>
                        <a:chExt cx="449280" cy="228960"/>
                      </a:xfrm>
                    </p:grpSpPr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550620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5730840" y="229032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86" name=""/>
                      <p:cNvGrpSpPr/>
                      <p:nvPr/>
                    </p:nvGrpSpPr>
                    <p:grpSpPr>
                      <a:xfrm>
                        <a:off x="5956200" y="2290320"/>
                        <a:ext cx="450000" cy="228960"/>
                        <a:chOff x="5956200" y="2290320"/>
                        <a:chExt cx="450000" cy="228960"/>
                      </a:xfrm>
                    </p:grpSpPr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5956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618120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9" name=""/>
                    <p:cNvGrpSpPr/>
                    <p:nvPr/>
                  </p:nvGrpSpPr>
                  <p:grpSpPr>
                    <a:xfrm>
                      <a:off x="6404760" y="2290320"/>
                      <a:ext cx="901080" cy="228960"/>
                      <a:chOff x="6404760" y="2290320"/>
                      <a:chExt cx="901080" cy="228960"/>
                    </a:xfrm>
                  </p:grpSpPr>
                  <p:grpSp>
                    <p:nvGrpSpPr>
                      <p:cNvPr id="1290" name=""/>
                      <p:cNvGrpSpPr/>
                      <p:nvPr/>
                    </p:nvGrpSpPr>
                    <p:grpSpPr>
                      <a:xfrm>
                        <a:off x="6404760" y="2290320"/>
                        <a:ext cx="450000" cy="228960"/>
                        <a:chOff x="6404760" y="2290320"/>
                        <a:chExt cx="450000" cy="228960"/>
                      </a:xfrm>
                    </p:grpSpPr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6404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6629760" y="229032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93" name=""/>
                      <p:cNvGrpSpPr/>
                      <p:nvPr/>
                    </p:nvGrpSpPr>
                    <p:grpSpPr>
                      <a:xfrm>
                        <a:off x="6855120" y="2290320"/>
                        <a:ext cx="450720" cy="228960"/>
                        <a:chOff x="6855120" y="2290320"/>
                        <a:chExt cx="450720" cy="228960"/>
                      </a:xfrm>
                    </p:grpSpPr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685512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7080480" y="229032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3708360" y="2751120"/>
                  <a:ext cx="3597480" cy="228240"/>
                  <a:chOff x="3708360" y="2751120"/>
                  <a:chExt cx="3597480" cy="228240"/>
                </a:xfrm>
              </p:grpSpPr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3708360" y="2751120"/>
                    <a:ext cx="1799640" cy="228240"/>
                    <a:chOff x="3708360" y="2751120"/>
                    <a:chExt cx="1799640" cy="228240"/>
                  </a:xfrm>
                </p:grpSpPr>
                <p:grpSp>
                  <p:nvGrpSpPr>
                    <p:cNvPr id="1298" name=""/>
                    <p:cNvGrpSpPr/>
                    <p:nvPr/>
                  </p:nvGrpSpPr>
                  <p:grpSpPr>
                    <a:xfrm>
                      <a:off x="3708360" y="2751120"/>
                      <a:ext cx="900000" cy="228240"/>
                      <a:chOff x="3708360" y="2751120"/>
                      <a:chExt cx="900000" cy="228240"/>
                    </a:xfrm>
                  </p:grpSpPr>
                  <p:grpSp>
                    <p:nvGrpSpPr>
                      <p:cNvPr id="1299" name=""/>
                      <p:cNvGrpSpPr/>
                      <p:nvPr/>
                    </p:nvGrpSpPr>
                    <p:grpSpPr>
                      <a:xfrm>
                        <a:off x="3708360" y="2751120"/>
                        <a:ext cx="449280" cy="228240"/>
                        <a:chOff x="3708360" y="2751120"/>
                        <a:chExt cx="449280" cy="228240"/>
                      </a:xfrm>
                    </p:grpSpPr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>
                          <a:off x="370836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1" name=""/>
                        <p:cNvSpPr/>
                        <p:nvPr/>
                      </p:nvSpPr>
                      <p:spPr>
                        <a:xfrm>
                          <a:off x="39330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2" name=""/>
                      <p:cNvGrpSpPr/>
                      <p:nvPr/>
                    </p:nvGrpSpPr>
                    <p:grpSpPr>
                      <a:xfrm>
                        <a:off x="4158360" y="2751120"/>
                        <a:ext cx="450000" cy="228240"/>
                        <a:chOff x="4158360" y="2751120"/>
                        <a:chExt cx="450000" cy="228240"/>
                      </a:xfrm>
                    </p:grpSpPr>
                    <p:sp>
                      <p:nvSpPr>
                        <p:cNvPr id="1303" name=""/>
                        <p:cNvSpPr/>
                        <p:nvPr/>
                      </p:nvSpPr>
                      <p:spPr>
                        <a:xfrm>
                          <a:off x="4158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4" name=""/>
                        <p:cNvSpPr/>
                        <p:nvPr/>
                      </p:nvSpPr>
                      <p:spPr>
                        <a:xfrm>
                          <a:off x="43833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4606920" y="2751120"/>
                      <a:ext cx="901080" cy="228240"/>
                      <a:chOff x="4606920" y="2751120"/>
                      <a:chExt cx="901080" cy="228240"/>
                    </a:xfrm>
                  </p:grpSpPr>
                  <p:grpSp>
                    <p:nvGrpSpPr>
                      <p:cNvPr id="1306" name=""/>
                      <p:cNvGrpSpPr/>
                      <p:nvPr/>
                    </p:nvGrpSpPr>
                    <p:grpSpPr>
                      <a:xfrm>
                        <a:off x="4606920" y="2751120"/>
                        <a:ext cx="450000" cy="228240"/>
                        <a:chOff x="4606920" y="2751120"/>
                        <a:chExt cx="450000" cy="228240"/>
                      </a:xfrm>
                    </p:grpSpPr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>
                          <a:off x="4606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483192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09" name=""/>
                      <p:cNvGrpSpPr/>
                      <p:nvPr/>
                    </p:nvGrpSpPr>
                    <p:grpSpPr>
                      <a:xfrm>
                        <a:off x="5057280" y="2751120"/>
                        <a:ext cx="450720" cy="228240"/>
                        <a:chOff x="5057280" y="2751120"/>
                        <a:chExt cx="450720" cy="228240"/>
                      </a:xfrm>
                    </p:grpSpPr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50572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528264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5506200" y="2751120"/>
                    <a:ext cx="1799640" cy="228240"/>
                    <a:chOff x="5506200" y="2751120"/>
                    <a:chExt cx="1799640" cy="228240"/>
                  </a:xfrm>
                </p:grpSpPr>
                <p:grpSp>
                  <p:nvGrpSpPr>
                    <p:cNvPr id="1313" name=""/>
                    <p:cNvGrpSpPr/>
                    <p:nvPr/>
                  </p:nvGrpSpPr>
                  <p:grpSpPr>
                    <a:xfrm>
                      <a:off x="5506200" y="2751120"/>
                      <a:ext cx="900000" cy="228240"/>
                      <a:chOff x="5506200" y="2751120"/>
                      <a:chExt cx="900000" cy="228240"/>
                    </a:xfrm>
                  </p:grpSpPr>
                  <p:grpSp>
                    <p:nvGrpSpPr>
                      <p:cNvPr id="1314" name=""/>
                      <p:cNvGrpSpPr/>
                      <p:nvPr/>
                    </p:nvGrpSpPr>
                    <p:grpSpPr>
                      <a:xfrm>
                        <a:off x="5506200" y="2751120"/>
                        <a:ext cx="449280" cy="228240"/>
                        <a:chOff x="5506200" y="2751120"/>
                        <a:chExt cx="449280" cy="228240"/>
                      </a:xfrm>
                    </p:grpSpPr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>
                          <a:off x="550620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5730840" y="275112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7" name=""/>
                      <p:cNvGrpSpPr/>
                      <p:nvPr/>
                    </p:nvGrpSpPr>
                    <p:grpSpPr>
                      <a:xfrm>
                        <a:off x="5956200" y="2751120"/>
                        <a:ext cx="450000" cy="228240"/>
                        <a:chOff x="5956200" y="2751120"/>
                        <a:chExt cx="450000" cy="228240"/>
                      </a:xfrm>
                    </p:grpSpPr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>
                          <a:off x="5956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>
                          <a:off x="618120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20" name=""/>
                    <p:cNvGrpSpPr/>
                    <p:nvPr/>
                  </p:nvGrpSpPr>
                  <p:grpSpPr>
                    <a:xfrm>
                      <a:off x="6404760" y="2751120"/>
                      <a:ext cx="901080" cy="228240"/>
                      <a:chOff x="6404760" y="2751120"/>
                      <a:chExt cx="901080" cy="228240"/>
                    </a:xfrm>
                  </p:grpSpPr>
                  <p:grpSp>
                    <p:nvGrpSpPr>
                      <p:cNvPr id="1321" name=""/>
                      <p:cNvGrpSpPr/>
                      <p:nvPr/>
                    </p:nvGrpSpPr>
                    <p:grpSpPr>
                      <a:xfrm>
                        <a:off x="6404760" y="2751120"/>
                        <a:ext cx="450000" cy="228240"/>
                        <a:chOff x="6404760" y="2751120"/>
                        <a:chExt cx="450000" cy="228240"/>
                      </a:xfrm>
                    </p:grpSpPr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>
                          <a:off x="6404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6629760" y="275112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24" name=""/>
                      <p:cNvGrpSpPr/>
                      <p:nvPr/>
                    </p:nvGrpSpPr>
                    <p:grpSpPr>
                      <a:xfrm>
                        <a:off x="6855120" y="2751120"/>
                        <a:ext cx="450720" cy="228240"/>
                        <a:chOff x="6855120" y="2751120"/>
                        <a:chExt cx="450720" cy="228240"/>
                      </a:xfrm>
                    </p:grpSpPr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685512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7080480" y="275112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27" name=""/>
              <p:cNvGrpSpPr/>
              <p:nvPr/>
            </p:nvGrpSpPr>
            <p:grpSpPr>
              <a:xfrm>
                <a:off x="3708360" y="2979360"/>
                <a:ext cx="3597480" cy="918720"/>
                <a:chOff x="3708360" y="2979360"/>
                <a:chExt cx="3597480" cy="918720"/>
              </a:xfrm>
            </p:grpSpPr>
            <p:grpSp>
              <p:nvGrpSpPr>
                <p:cNvPr id="1328" name=""/>
                <p:cNvGrpSpPr/>
                <p:nvPr/>
              </p:nvGrpSpPr>
              <p:grpSpPr>
                <a:xfrm>
                  <a:off x="3708360" y="2979360"/>
                  <a:ext cx="3597480" cy="228240"/>
                  <a:chOff x="3708360" y="2979360"/>
                  <a:chExt cx="3597480" cy="228240"/>
                </a:xfrm>
              </p:grpSpPr>
              <p:grpSp>
                <p:nvGrpSpPr>
                  <p:cNvPr id="1329" name=""/>
                  <p:cNvGrpSpPr/>
                  <p:nvPr/>
                </p:nvGrpSpPr>
                <p:grpSpPr>
                  <a:xfrm>
                    <a:off x="3708360" y="2979360"/>
                    <a:ext cx="1799640" cy="228240"/>
                    <a:chOff x="3708360" y="2979360"/>
                    <a:chExt cx="1799640" cy="228240"/>
                  </a:xfrm>
                </p:grpSpPr>
                <p:grpSp>
                  <p:nvGrpSpPr>
                    <p:cNvPr id="1330" name=""/>
                    <p:cNvGrpSpPr/>
                    <p:nvPr/>
                  </p:nvGrpSpPr>
                  <p:grpSpPr>
                    <a:xfrm>
                      <a:off x="3708360" y="2979360"/>
                      <a:ext cx="900000" cy="228240"/>
                      <a:chOff x="3708360" y="2979360"/>
                      <a:chExt cx="900000" cy="228240"/>
                    </a:xfrm>
                  </p:grpSpPr>
                  <p:grpSp>
                    <p:nvGrpSpPr>
                      <p:cNvPr id="1331" name=""/>
                      <p:cNvGrpSpPr/>
                      <p:nvPr/>
                    </p:nvGrpSpPr>
                    <p:grpSpPr>
                      <a:xfrm>
                        <a:off x="3708360" y="2979360"/>
                        <a:ext cx="449280" cy="228240"/>
                        <a:chOff x="3708360" y="2979360"/>
                        <a:chExt cx="449280" cy="228240"/>
                      </a:xfrm>
                    </p:grpSpPr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370836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39330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4158360" y="2979360"/>
                        <a:ext cx="450000" cy="228240"/>
                        <a:chOff x="4158360" y="2979360"/>
                        <a:chExt cx="450000" cy="22824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4158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43833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7" name=""/>
                    <p:cNvGrpSpPr/>
                    <p:nvPr/>
                  </p:nvGrpSpPr>
                  <p:grpSpPr>
                    <a:xfrm>
                      <a:off x="4606920" y="2979360"/>
                      <a:ext cx="901080" cy="228240"/>
                      <a:chOff x="4606920" y="2979360"/>
                      <a:chExt cx="901080" cy="228240"/>
                    </a:xfrm>
                  </p:grpSpPr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4606920" y="2979360"/>
                        <a:ext cx="450000" cy="228240"/>
                        <a:chOff x="4606920" y="2979360"/>
                        <a:chExt cx="450000" cy="22824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4606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483192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1" name=""/>
                      <p:cNvGrpSpPr/>
                      <p:nvPr/>
                    </p:nvGrpSpPr>
                    <p:grpSpPr>
                      <a:xfrm>
                        <a:off x="5057280" y="2979360"/>
                        <a:ext cx="450720" cy="228240"/>
                        <a:chOff x="5057280" y="2979360"/>
                        <a:chExt cx="450720" cy="228240"/>
                      </a:xfrm>
                    </p:grpSpPr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50572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528264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5506200" y="2979360"/>
                    <a:ext cx="1799640" cy="228240"/>
                    <a:chOff x="5506200" y="2979360"/>
                    <a:chExt cx="1799640" cy="228240"/>
                  </a:xfrm>
                </p:grpSpPr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5506200" y="2979360"/>
                      <a:ext cx="900000" cy="228240"/>
                      <a:chOff x="5506200" y="2979360"/>
                      <a:chExt cx="900000" cy="228240"/>
                    </a:xfrm>
                  </p:grpSpPr>
                  <p:grpSp>
                    <p:nvGrpSpPr>
                      <p:cNvPr id="1346" name=""/>
                      <p:cNvGrpSpPr/>
                      <p:nvPr/>
                    </p:nvGrpSpPr>
                    <p:grpSpPr>
                      <a:xfrm>
                        <a:off x="5506200" y="2979360"/>
                        <a:ext cx="449280" cy="228240"/>
                        <a:chOff x="5506200" y="2979360"/>
                        <a:chExt cx="449280" cy="228240"/>
                      </a:xfrm>
                    </p:grpSpPr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550620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5730840" y="297936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5956200" y="2979360"/>
                        <a:ext cx="450000" cy="228240"/>
                        <a:chOff x="5956200" y="2979360"/>
                        <a:chExt cx="450000" cy="22824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5956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618120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52" name=""/>
                    <p:cNvGrpSpPr/>
                    <p:nvPr/>
                  </p:nvGrpSpPr>
                  <p:grpSpPr>
                    <a:xfrm>
                      <a:off x="6404760" y="2979360"/>
                      <a:ext cx="901080" cy="228240"/>
                      <a:chOff x="6404760" y="2979360"/>
                      <a:chExt cx="901080" cy="228240"/>
                    </a:xfrm>
                  </p:grpSpPr>
                  <p:grpSp>
                    <p:nvGrpSpPr>
                      <p:cNvPr id="1353" name=""/>
                      <p:cNvGrpSpPr/>
                      <p:nvPr/>
                    </p:nvGrpSpPr>
                    <p:grpSpPr>
                      <a:xfrm>
                        <a:off x="6404760" y="2979360"/>
                        <a:ext cx="450000" cy="228240"/>
                        <a:chOff x="6404760" y="2979360"/>
                        <a:chExt cx="450000" cy="228240"/>
                      </a:xfrm>
                    </p:grpSpPr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6404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6629760" y="297936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56" name=""/>
                      <p:cNvGrpSpPr/>
                      <p:nvPr/>
                    </p:nvGrpSpPr>
                    <p:grpSpPr>
                      <a:xfrm>
                        <a:off x="6855120" y="2979360"/>
                        <a:ext cx="450720" cy="228240"/>
                        <a:chOff x="6855120" y="2979360"/>
                        <a:chExt cx="450720" cy="228240"/>
                      </a:xfrm>
                    </p:grpSpPr>
                    <p:sp>
                      <p:nvSpPr>
                        <p:cNvPr id="1357" name=""/>
                        <p:cNvSpPr/>
                        <p:nvPr/>
                      </p:nvSpPr>
                      <p:spPr>
                        <a:xfrm>
                          <a:off x="685512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8" name=""/>
                        <p:cNvSpPr/>
                        <p:nvPr/>
                      </p:nvSpPr>
                      <p:spPr>
                        <a:xfrm>
                          <a:off x="7080480" y="297936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3708360" y="3439800"/>
                  <a:ext cx="3597480" cy="228240"/>
                  <a:chOff x="3708360" y="3439800"/>
                  <a:chExt cx="3597480" cy="228240"/>
                </a:xfrm>
              </p:grpSpPr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3708360" y="3439800"/>
                    <a:ext cx="1799640" cy="228240"/>
                    <a:chOff x="3708360" y="3439800"/>
                    <a:chExt cx="1799640" cy="228240"/>
                  </a:xfrm>
                </p:grpSpPr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3708360" y="3439800"/>
                      <a:ext cx="900000" cy="228240"/>
                      <a:chOff x="3708360" y="3439800"/>
                      <a:chExt cx="900000" cy="228240"/>
                    </a:xfrm>
                  </p:grpSpPr>
                  <p:grpSp>
                    <p:nvGrpSpPr>
                      <p:cNvPr id="1362" name=""/>
                      <p:cNvGrpSpPr/>
                      <p:nvPr/>
                    </p:nvGrpSpPr>
                    <p:grpSpPr>
                      <a:xfrm>
                        <a:off x="3708360" y="3439800"/>
                        <a:ext cx="449280" cy="228240"/>
                        <a:chOff x="3708360" y="3439800"/>
                        <a:chExt cx="449280" cy="228240"/>
                      </a:xfrm>
                    </p:grpSpPr>
                    <p:sp>
                      <p:nvSpPr>
                        <p:cNvPr id="1363" name=""/>
                        <p:cNvSpPr/>
                        <p:nvPr/>
                      </p:nvSpPr>
                      <p:spPr>
                        <a:xfrm>
                          <a:off x="370836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4" name=""/>
                        <p:cNvSpPr/>
                        <p:nvPr/>
                      </p:nvSpPr>
                      <p:spPr>
                        <a:xfrm>
                          <a:off x="39330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5" name=""/>
                      <p:cNvGrpSpPr/>
                      <p:nvPr/>
                    </p:nvGrpSpPr>
                    <p:grpSpPr>
                      <a:xfrm>
                        <a:off x="4158360" y="3439800"/>
                        <a:ext cx="450000" cy="228240"/>
                        <a:chOff x="4158360" y="3439800"/>
                        <a:chExt cx="450000" cy="228240"/>
                      </a:xfrm>
                    </p:grpSpPr>
                    <p:sp>
                      <p:nvSpPr>
                        <p:cNvPr id="1366" name=""/>
                        <p:cNvSpPr/>
                        <p:nvPr/>
                      </p:nvSpPr>
                      <p:spPr>
                        <a:xfrm>
                          <a:off x="4158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7" name=""/>
                        <p:cNvSpPr/>
                        <p:nvPr/>
                      </p:nvSpPr>
                      <p:spPr>
                        <a:xfrm>
                          <a:off x="43833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68" name=""/>
                    <p:cNvGrpSpPr/>
                    <p:nvPr/>
                  </p:nvGrpSpPr>
                  <p:grpSpPr>
                    <a:xfrm>
                      <a:off x="4606920" y="3439800"/>
                      <a:ext cx="901080" cy="228240"/>
                      <a:chOff x="4606920" y="3439800"/>
                      <a:chExt cx="901080" cy="228240"/>
                    </a:xfrm>
                  </p:grpSpPr>
                  <p:grpSp>
                    <p:nvGrpSpPr>
                      <p:cNvPr id="1369" name=""/>
                      <p:cNvGrpSpPr/>
                      <p:nvPr/>
                    </p:nvGrpSpPr>
                    <p:grpSpPr>
                      <a:xfrm>
                        <a:off x="4606920" y="3439800"/>
                        <a:ext cx="450000" cy="228240"/>
                        <a:chOff x="4606920" y="3439800"/>
                        <a:chExt cx="450000" cy="228240"/>
                      </a:xfrm>
                    </p:grpSpPr>
                    <p:sp>
                      <p:nvSpPr>
                        <p:cNvPr id="1370" name=""/>
                        <p:cNvSpPr/>
                        <p:nvPr/>
                      </p:nvSpPr>
                      <p:spPr>
                        <a:xfrm>
                          <a:off x="4606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1" name=""/>
                        <p:cNvSpPr/>
                        <p:nvPr/>
                      </p:nvSpPr>
                      <p:spPr>
                        <a:xfrm>
                          <a:off x="483192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2" name=""/>
                      <p:cNvGrpSpPr/>
                      <p:nvPr/>
                    </p:nvGrpSpPr>
                    <p:grpSpPr>
                      <a:xfrm>
                        <a:off x="5057280" y="3439800"/>
                        <a:ext cx="450720" cy="228240"/>
                        <a:chOff x="5057280" y="3439800"/>
                        <a:chExt cx="450720" cy="228240"/>
                      </a:xfrm>
                    </p:grpSpPr>
                    <p:sp>
                      <p:nvSpPr>
                        <p:cNvPr id="1373" name=""/>
                        <p:cNvSpPr/>
                        <p:nvPr/>
                      </p:nvSpPr>
                      <p:spPr>
                        <a:xfrm>
                          <a:off x="50572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4" name=""/>
                        <p:cNvSpPr/>
                        <p:nvPr/>
                      </p:nvSpPr>
                      <p:spPr>
                        <a:xfrm>
                          <a:off x="528264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5506200" y="3439800"/>
                    <a:ext cx="1799640" cy="228240"/>
                    <a:chOff x="5506200" y="3439800"/>
                    <a:chExt cx="1799640" cy="228240"/>
                  </a:xfrm>
                </p:grpSpPr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5506200" y="3439800"/>
                      <a:ext cx="900000" cy="228240"/>
                      <a:chOff x="5506200" y="3439800"/>
                      <a:chExt cx="900000" cy="228240"/>
                    </a:xfrm>
                  </p:grpSpPr>
                  <p:grpSp>
                    <p:nvGrpSpPr>
                      <p:cNvPr id="1377" name=""/>
                      <p:cNvGrpSpPr/>
                      <p:nvPr/>
                    </p:nvGrpSpPr>
                    <p:grpSpPr>
                      <a:xfrm>
                        <a:off x="5506200" y="3439800"/>
                        <a:ext cx="449280" cy="228240"/>
                        <a:chOff x="5506200" y="3439800"/>
                        <a:chExt cx="449280" cy="228240"/>
                      </a:xfrm>
                    </p:grpSpPr>
                    <p:sp>
                      <p:nvSpPr>
                        <p:cNvPr id="1378" name=""/>
                        <p:cNvSpPr/>
                        <p:nvPr/>
                      </p:nvSpPr>
                      <p:spPr>
                        <a:xfrm>
                          <a:off x="550620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>
                          <a:off x="5730840" y="3439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0" name=""/>
                      <p:cNvGrpSpPr/>
                      <p:nvPr/>
                    </p:nvGrpSpPr>
                    <p:grpSpPr>
                      <a:xfrm>
                        <a:off x="5956200" y="3439800"/>
                        <a:ext cx="450000" cy="228240"/>
                        <a:chOff x="5956200" y="3439800"/>
                        <a:chExt cx="450000" cy="228240"/>
                      </a:xfrm>
                    </p:grpSpPr>
                    <p:sp>
                      <p:nvSpPr>
                        <p:cNvPr id="1381" name=""/>
                        <p:cNvSpPr/>
                        <p:nvPr/>
                      </p:nvSpPr>
                      <p:spPr>
                        <a:xfrm>
                          <a:off x="5956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2" name=""/>
                        <p:cNvSpPr/>
                        <p:nvPr/>
                      </p:nvSpPr>
                      <p:spPr>
                        <a:xfrm>
                          <a:off x="618120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3" name=""/>
                    <p:cNvGrpSpPr/>
                    <p:nvPr/>
                  </p:nvGrpSpPr>
                  <p:grpSpPr>
                    <a:xfrm>
                      <a:off x="6404760" y="3439800"/>
                      <a:ext cx="901080" cy="228240"/>
                      <a:chOff x="6404760" y="3439800"/>
                      <a:chExt cx="901080" cy="228240"/>
                    </a:xfrm>
                  </p:grpSpPr>
                  <p:grpSp>
                    <p:nvGrpSpPr>
                      <p:cNvPr id="1384" name=""/>
                      <p:cNvGrpSpPr/>
                      <p:nvPr/>
                    </p:nvGrpSpPr>
                    <p:grpSpPr>
                      <a:xfrm>
                        <a:off x="6404760" y="3439800"/>
                        <a:ext cx="450000" cy="228240"/>
                        <a:chOff x="6404760" y="3439800"/>
                        <a:chExt cx="450000" cy="228240"/>
                      </a:xfrm>
                    </p:grpSpPr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>
                          <a:off x="6404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"/>
                        <p:cNvSpPr/>
                        <p:nvPr/>
                      </p:nvSpPr>
                      <p:spPr>
                        <a:xfrm>
                          <a:off x="6629760" y="3439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87" name=""/>
                      <p:cNvGrpSpPr/>
                      <p:nvPr/>
                    </p:nvGrpSpPr>
                    <p:grpSpPr>
                      <a:xfrm>
                        <a:off x="6855120" y="3439800"/>
                        <a:ext cx="450720" cy="228240"/>
                        <a:chOff x="6855120" y="3439800"/>
                        <a:chExt cx="450720" cy="228240"/>
                      </a:xfrm>
                    </p:grpSpPr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685512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/>
                        <p:nvPr/>
                      </p:nvSpPr>
                      <p:spPr>
                        <a:xfrm>
                          <a:off x="7080480" y="3439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3708360" y="3209040"/>
                  <a:ext cx="3597480" cy="228960"/>
                  <a:chOff x="3708360" y="3209040"/>
                  <a:chExt cx="3597480" cy="228960"/>
                </a:xfrm>
              </p:grpSpPr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3708360" y="3209040"/>
                    <a:ext cx="1799640" cy="228960"/>
                    <a:chOff x="3708360" y="3209040"/>
                    <a:chExt cx="1799640" cy="228960"/>
                  </a:xfrm>
                </p:grpSpPr>
                <p:grpSp>
                  <p:nvGrpSpPr>
                    <p:cNvPr id="1392" name=""/>
                    <p:cNvGrpSpPr/>
                    <p:nvPr/>
                  </p:nvGrpSpPr>
                  <p:grpSpPr>
                    <a:xfrm>
                      <a:off x="3708360" y="3209040"/>
                      <a:ext cx="900000" cy="228960"/>
                      <a:chOff x="3708360" y="3209040"/>
                      <a:chExt cx="900000" cy="228960"/>
                    </a:xfrm>
                  </p:grpSpPr>
                  <p:grpSp>
                    <p:nvGrpSpPr>
                      <p:cNvPr id="1393" name=""/>
                      <p:cNvGrpSpPr/>
                      <p:nvPr/>
                    </p:nvGrpSpPr>
                    <p:grpSpPr>
                      <a:xfrm>
                        <a:off x="3708360" y="3209040"/>
                        <a:ext cx="449280" cy="228960"/>
                        <a:chOff x="3708360" y="3209040"/>
                        <a:chExt cx="449280" cy="228960"/>
                      </a:xfrm>
                    </p:grpSpPr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>
                          <a:off x="370836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5" name=""/>
                        <p:cNvSpPr/>
                        <p:nvPr/>
                      </p:nvSpPr>
                      <p:spPr>
                        <a:xfrm>
                          <a:off x="39330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4158360" y="3209040"/>
                        <a:ext cx="450000" cy="228960"/>
                        <a:chOff x="4158360" y="3209040"/>
                        <a:chExt cx="450000" cy="228960"/>
                      </a:xfrm>
                    </p:grpSpPr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>
                          <a:off x="4158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>
                          <a:off x="43833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4606920" y="3209040"/>
                      <a:ext cx="901080" cy="228960"/>
                      <a:chOff x="4606920" y="3209040"/>
                      <a:chExt cx="901080" cy="228960"/>
                    </a:xfrm>
                  </p:grpSpPr>
                  <p:grpSp>
                    <p:nvGrpSpPr>
                      <p:cNvPr id="1400" name=""/>
                      <p:cNvGrpSpPr/>
                      <p:nvPr/>
                    </p:nvGrpSpPr>
                    <p:grpSpPr>
                      <a:xfrm>
                        <a:off x="4606920" y="3209040"/>
                        <a:ext cx="450000" cy="228960"/>
                        <a:chOff x="4606920" y="3209040"/>
                        <a:chExt cx="450000" cy="228960"/>
                      </a:xfrm>
                    </p:grpSpPr>
                    <p:sp>
                      <p:nvSpPr>
                        <p:cNvPr id="1401" name=""/>
                        <p:cNvSpPr/>
                        <p:nvPr/>
                      </p:nvSpPr>
                      <p:spPr>
                        <a:xfrm>
                          <a:off x="4606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>
                          <a:off x="483192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3" name=""/>
                      <p:cNvGrpSpPr/>
                      <p:nvPr/>
                    </p:nvGrpSpPr>
                    <p:grpSpPr>
                      <a:xfrm>
                        <a:off x="5057280" y="3209040"/>
                        <a:ext cx="450720" cy="228960"/>
                        <a:chOff x="5057280" y="3209040"/>
                        <a:chExt cx="450720" cy="228960"/>
                      </a:xfrm>
                    </p:grpSpPr>
                    <p:sp>
                      <p:nvSpPr>
                        <p:cNvPr id="1404" name=""/>
                        <p:cNvSpPr/>
                        <p:nvPr/>
                      </p:nvSpPr>
                      <p:spPr>
                        <a:xfrm>
                          <a:off x="50572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>
                          <a:off x="528264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5506200" y="3209040"/>
                    <a:ext cx="1799640" cy="228960"/>
                    <a:chOff x="5506200" y="3209040"/>
                    <a:chExt cx="1799640" cy="228960"/>
                  </a:xfrm>
                </p:grpSpPr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5506200" y="3209040"/>
                      <a:ext cx="900000" cy="228960"/>
                      <a:chOff x="5506200" y="3209040"/>
                      <a:chExt cx="900000" cy="228960"/>
                    </a:xfrm>
                  </p:grpSpPr>
                  <p:grpSp>
                    <p:nvGrpSpPr>
                      <p:cNvPr id="1408" name=""/>
                      <p:cNvGrpSpPr/>
                      <p:nvPr/>
                    </p:nvGrpSpPr>
                    <p:grpSpPr>
                      <a:xfrm>
                        <a:off x="5506200" y="3209040"/>
                        <a:ext cx="449280" cy="228960"/>
                        <a:chOff x="5506200" y="3209040"/>
                        <a:chExt cx="449280" cy="228960"/>
                      </a:xfrm>
                    </p:grpSpPr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>
                          <a:off x="550620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0" name=""/>
                        <p:cNvSpPr/>
                        <p:nvPr/>
                      </p:nvSpPr>
                      <p:spPr>
                        <a:xfrm>
                          <a:off x="5730840" y="320904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1" name=""/>
                      <p:cNvGrpSpPr/>
                      <p:nvPr/>
                    </p:nvGrpSpPr>
                    <p:grpSpPr>
                      <a:xfrm>
                        <a:off x="5956200" y="3209040"/>
                        <a:ext cx="450000" cy="228960"/>
                        <a:chOff x="5956200" y="3209040"/>
                        <a:chExt cx="450000" cy="228960"/>
                      </a:xfrm>
                    </p:grpSpPr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>
                          <a:off x="5956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3" name=""/>
                        <p:cNvSpPr/>
                        <p:nvPr/>
                      </p:nvSpPr>
                      <p:spPr>
                        <a:xfrm>
                          <a:off x="618120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6404760" y="3209040"/>
                      <a:ext cx="901080" cy="228960"/>
                      <a:chOff x="6404760" y="3209040"/>
                      <a:chExt cx="901080" cy="228960"/>
                    </a:xfrm>
                  </p:grpSpPr>
                  <p:grpSp>
                    <p:nvGrpSpPr>
                      <p:cNvPr id="1415" name=""/>
                      <p:cNvGrpSpPr/>
                      <p:nvPr/>
                    </p:nvGrpSpPr>
                    <p:grpSpPr>
                      <a:xfrm>
                        <a:off x="6404760" y="3209040"/>
                        <a:ext cx="450000" cy="228960"/>
                        <a:chOff x="6404760" y="3209040"/>
                        <a:chExt cx="450000" cy="228960"/>
                      </a:xfrm>
                    </p:grpSpPr>
                    <p:sp>
                      <p:nvSpPr>
                        <p:cNvPr id="1416" name=""/>
                        <p:cNvSpPr/>
                        <p:nvPr/>
                      </p:nvSpPr>
                      <p:spPr>
                        <a:xfrm>
                          <a:off x="6404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>
                          <a:off x="6629760" y="320904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18" name=""/>
                      <p:cNvGrpSpPr/>
                      <p:nvPr/>
                    </p:nvGrpSpPr>
                    <p:grpSpPr>
                      <a:xfrm>
                        <a:off x="6855120" y="3209040"/>
                        <a:ext cx="450720" cy="228960"/>
                        <a:chOff x="6855120" y="3209040"/>
                        <a:chExt cx="450720" cy="228960"/>
                      </a:xfrm>
                    </p:grpSpPr>
                    <p:sp>
                      <p:nvSpPr>
                        <p:cNvPr id="1419" name=""/>
                        <p:cNvSpPr/>
                        <p:nvPr/>
                      </p:nvSpPr>
                      <p:spPr>
                        <a:xfrm>
                          <a:off x="685512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0" name=""/>
                        <p:cNvSpPr/>
                        <p:nvPr/>
                      </p:nvSpPr>
                      <p:spPr>
                        <a:xfrm>
                          <a:off x="7080480" y="320904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3708360" y="3669840"/>
                  <a:ext cx="3597480" cy="228240"/>
                  <a:chOff x="3708360" y="3669840"/>
                  <a:chExt cx="3597480" cy="22824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3708360" y="3669840"/>
                    <a:ext cx="1799640" cy="228240"/>
                    <a:chOff x="3708360" y="3669840"/>
                    <a:chExt cx="1799640" cy="228240"/>
                  </a:xfrm>
                </p:grpSpPr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3708360" y="3669840"/>
                      <a:ext cx="900000" cy="228240"/>
                      <a:chOff x="3708360" y="3669840"/>
                      <a:chExt cx="900000" cy="228240"/>
                    </a:xfrm>
                  </p:grpSpPr>
                  <p:grpSp>
                    <p:nvGrpSpPr>
                      <p:cNvPr id="1424" name=""/>
                      <p:cNvGrpSpPr/>
                      <p:nvPr/>
                    </p:nvGrpSpPr>
                    <p:grpSpPr>
                      <a:xfrm>
                        <a:off x="3708360" y="3669840"/>
                        <a:ext cx="449280" cy="228240"/>
                        <a:chOff x="3708360" y="3669840"/>
                        <a:chExt cx="449280" cy="228240"/>
                      </a:xfrm>
                    </p:grpSpPr>
                    <p:sp>
                      <p:nvSpPr>
                        <p:cNvPr id="1425" name=""/>
                        <p:cNvSpPr/>
                        <p:nvPr/>
                      </p:nvSpPr>
                      <p:spPr>
                        <a:xfrm>
                          <a:off x="370836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>
                          <a:off x="39330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27" name=""/>
                      <p:cNvGrpSpPr/>
                      <p:nvPr/>
                    </p:nvGrpSpPr>
                    <p:grpSpPr>
                      <a:xfrm>
                        <a:off x="4158360" y="3669840"/>
                        <a:ext cx="450000" cy="228240"/>
                        <a:chOff x="4158360" y="3669840"/>
                        <a:chExt cx="450000" cy="228240"/>
                      </a:xfrm>
                    </p:grpSpPr>
                    <p:sp>
                      <p:nvSpPr>
                        <p:cNvPr id="1428" name=""/>
                        <p:cNvSpPr/>
                        <p:nvPr/>
                      </p:nvSpPr>
                      <p:spPr>
                        <a:xfrm>
                          <a:off x="4158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>
                          <a:off x="43833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"/>
                    <p:cNvGrpSpPr/>
                    <p:nvPr/>
                  </p:nvGrpSpPr>
                  <p:grpSpPr>
                    <a:xfrm>
                      <a:off x="4606920" y="3669840"/>
                      <a:ext cx="901080" cy="228240"/>
                      <a:chOff x="4606920" y="3669840"/>
                      <a:chExt cx="901080" cy="228240"/>
                    </a:xfrm>
                  </p:grpSpPr>
                  <p:grpSp>
                    <p:nvGrpSpPr>
                      <p:cNvPr id="1431" name=""/>
                      <p:cNvGrpSpPr/>
                      <p:nvPr/>
                    </p:nvGrpSpPr>
                    <p:grpSpPr>
                      <a:xfrm>
                        <a:off x="4606920" y="3669840"/>
                        <a:ext cx="450000" cy="228240"/>
                        <a:chOff x="4606920" y="3669840"/>
                        <a:chExt cx="450000" cy="228240"/>
                      </a:xfrm>
                    </p:grpSpPr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>
                          <a:off x="4606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>
                          <a:off x="483192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34" name=""/>
                      <p:cNvGrpSpPr/>
                      <p:nvPr/>
                    </p:nvGrpSpPr>
                    <p:grpSpPr>
                      <a:xfrm>
                        <a:off x="5057280" y="3669840"/>
                        <a:ext cx="450720" cy="228240"/>
                        <a:chOff x="5057280" y="3669840"/>
                        <a:chExt cx="450720" cy="228240"/>
                      </a:xfrm>
                    </p:grpSpPr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>
                          <a:off x="50572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>
                          <a:off x="528264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37" name=""/>
                  <p:cNvGrpSpPr/>
                  <p:nvPr/>
                </p:nvGrpSpPr>
                <p:grpSpPr>
                  <a:xfrm>
                    <a:off x="5506200" y="3669840"/>
                    <a:ext cx="1799640" cy="228240"/>
                    <a:chOff x="5506200" y="3669840"/>
                    <a:chExt cx="1799640" cy="228240"/>
                  </a:xfrm>
                </p:grpSpPr>
                <p:grpSp>
                  <p:nvGrpSpPr>
                    <p:cNvPr id="1438" name=""/>
                    <p:cNvGrpSpPr/>
                    <p:nvPr/>
                  </p:nvGrpSpPr>
                  <p:grpSpPr>
                    <a:xfrm>
                      <a:off x="5506200" y="3669840"/>
                      <a:ext cx="900000" cy="228240"/>
                      <a:chOff x="5506200" y="3669840"/>
                      <a:chExt cx="900000" cy="228240"/>
                    </a:xfrm>
                  </p:grpSpPr>
                  <p:grpSp>
                    <p:nvGrpSpPr>
                      <p:cNvPr id="1439" name=""/>
                      <p:cNvGrpSpPr/>
                      <p:nvPr/>
                    </p:nvGrpSpPr>
                    <p:grpSpPr>
                      <a:xfrm>
                        <a:off x="5506200" y="3669840"/>
                        <a:ext cx="449280" cy="228240"/>
                        <a:chOff x="5506200" y="3669840"/>
                        <a:chExt cx="449280" cy="228240"/>
                      </a:xfrm>
                    </p:grpSpPr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>
                          <a:off x="550620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>
                          <a:off x="5730840" y="36698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2" name=""/>
                      <p:cNvGrpSpPr/>
                      <p:nvPr/>
                    </p:nvGrpSpPr>
                    <p:grpSpPr>
                      <a:xfrm>
                        <a:off x="5956200" y="3669840"/>
                        <a:ext cx="450000" cy="228240"/>
                        <a:chOff x="5956200" y="3669840"/>
                        <a:chExt cx="450000" cy="228240"/>
                      </a:xfrm>
                    </p:grpSpPr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>
                          <a:off x="5956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>
                          <a:off x="618120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5" name=""/>
                    <p:cNvGrpSpPr/>
                    <p:nvPr/>
                  </p:nvGrpSpPr>
                  <p:grpSpPr>
                    <a:xfrm>
                      <a:off x="6404760" y="3669840"/>
                      <a:ext cx="901080" cy="228240"/>
                      <a:chOff x="6404760" y="3669840"/>
                      <a:chExt cx="901080" cy="228240"/>
                    </a:xfrm>
                  </p:grpSpPr>
                  <p:grpSp>
                    <p:nvGrpSpPr>
                      <p:cNvPr id="1446" name=""/>
                      <p:cNvGrpSpPr/>
                      <p:nvPr/>
                    </p:nvGrpSpPr>
                    <p:grpSpPr>
                      <a:xfrm>
                        <a:off x="6404760" y="3669840"/>
                        <a:ext cx="450000" cy="228240"/>
                        <a:chOff x="6404760" y="3669840"/>
                        <a:chExt cx="450000" cy="228240"/>
                      </a:xfrm>
                    </p:grpSpPr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>
                          <a:off x="6404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>
                          <a:off x="6629760" y="36698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9" name=""/>
                      <p:cNvGrpSpPr/>
                      <p:nvPr/>
                    </p:nvGrpSpPr>
                    <p:grpSpPr>
                      <a:xfrm>
                        <a:off x="6855120" y="3669840"/>
                        <a:ext cx="450720" cy="228240"/>
                        <a:chOff x="6855120" y="3669840"/>
                        <a:chExt cx="450720" cy="228240"/>
                      </a:xfrm>
                    </p:grpSpPr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685512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7080480" y="36698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3708360" y="3897720"/>
                <a:ext cx="3597480" cy="919440"/>
                <a:chOff x="3708360" y="3897720"/>
                <a:chExt cx="3597480" cy="919440"/>
              </a:xfrm>
            </p:grpSpPr>
            <p:grpSp>
              <p:nvGrpSpPr>
                <p:cNvPr id="1453" name=""/>
                <p:cNvGrpSpPr/>
                <p:nvPr/>
              </p:nvGrpSpPr>
              <p:grpSpPr>
                <a:xfrm>
                  <a:off x="3708360" y="3897720"/>
                  <a:ext cx="3597480" cy="228600"/>
                  <a:chOff x="3708360" y="3897720"/>
                  <a:chExt cx="3597480" cy="228600"/>
                </a:xfrm>
              </p:grpSpPr>
              <p:grpSp>
                <p:nvGrpSpPr>
                  <p:cNvPr id="1454" name=""/>
                  <p:cNvGrpSpPr/>
                  <p:nvPr/>
                </p:nvGrpSpPr>
                <p:grpSpPr>
                  <a:xfrm>
                    <a:off x="3708360" y="3897720"/>
                    <a:ext cx="1799640" cy="228600"/>
                    <a:chOff x="3708360" y="3897720"/>
                    <a:chExt cx="1799640" cy="228600"/>
                  </a:xfrm>
                </p:grpSpPr>
                <p:grpSp>
                  <p:nvGrpSpPr>
                    <p:cNvPr id="1455" name=""/>
                    <p:cNvGrpSpPr/>
                    <p:nvPr/>
                  </p:nvGrpSpPr>
                  <p:grpSpPr>
                    <a:xfrm>
                      <a:off x="3708360" y="3897720"/>
                      <a:ext cx="900000" cy="228600"/>
                      <a:chOff x="3708360" y="3897720"/>
                      <a:chExt cx="900000" cy="228600"/>
                    </a:xfrm>
                  </p:grpSpPr>
                  <p:grpSp>
                    <p:nvGrpSpPr>
                      <p:cNvPr id="1456" name=""/>
                      <p:cNvGrpSpPr/>
                      <p:nvPr/>
                    </p:nvGrpSpPr>
                    <p:grpSpPr>
                      <a:xfrm>
                        <a:off x="3708360" y="3897720"/>
                        <a:ext cx="449280" cy="228600"/>
                        <a:chOff x="3708360" y="3897720"/>
                        <a:chExt cx="449280" cy="228600"/>
                      </a:xfrm>
                    </p:grpSpPr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370836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39330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9" name=""/>
                      <p:cNvGrpSpPr/>
                      <p:nvPr/>
                    </p:nvGrpSpPr>
                    <p:grpSpPr>
                      <a:xfrm>
                        <a:off x="4158360" y="3897720"/>
                        <a:ext cx="450000" cy="228600"/>
                        <a:chOff x="4158360" y="3897720"/>
                        <a:chExt cx="450000" cy="228600"/>
                      </a:xfrm>
                    </p:grpSpPr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4158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43833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62" name=""/>
                    <p:cNvGrpSpPr/>
                    <p:nvPr/>
                  </p:nvGrpSpPr>
                  <p:grpSpPr>
                    <a:xfrm>
                      <a:off x="4606920" y="3897720"/>
                      <a:ext cx="901080" cy="228600"/>
                      <a:chOff x="4606920" y="3897720"/>
                      <a:chExt cx="901080" cy="228600"/>
                    </a:xfrm>
                  </p:grpSpPr>
                  <p:grpSp>
                    <p:nvGrpSpPr>
                      <p:cNvPr id="1463" name=""/>
                      <p:cNvGrpSpPr/>
                      <p:nvPr/>
                    </p:nvGrpSpPr>
                    <p:grpSpPr>
                      <a:xfrm>
                        <a:off x="4606920" y="3897720"/>
                        <a:ext cx="450000" cy="228600"/>
                        <a:chOff x="4606920" y="3897720"/>
                        <a:chExt cx="450000" cy="228600"/>
                      </a:xfrm>
                    </p:grpSpPr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>
                          <a:off x="4606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>
                          <a:off x="483192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6" name=""/>
                      <p:cNvGrpSpPr/>
                      <p:nvPr/>
                    </p:nvGrpSpPr>
                    <p:grpSpPr>
                      <a:xfrm>
                        <a:off x="5057280" y="3897720"/>
                        <a:ext cx="450720" cy="228600"/>
                        <a:chOff x="5057280" y="3897720"/>
                        <a:chExt cx="450720" cy="228600"/>
                      </a:xfrm>
                    </p:grpSpPr>
                    <p:sp>
                      <p:nvSpPr>
                        <p:cNvPr id="1467" name=""/>
                        <p:cNvSpPr/>
                        <p:nvPr/>
                      </p:nvSpPr>
                      <p:spPr>
                        <a:xfrm>
                          <a:off x="50572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8" name=""/>
                        <p:cNvSpPr/>
                        <p:nvPr/>
                      </p:nvSpPr>
                      <p:spPr>
                        <a:xfrm>
                          <a:off x="528264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5506200" y="3897720"/>
                    <a:ext cx="1799640" cy="228600"/>
                    <a:chOff x="5506200" y="3897720"/>
                    <a:chExt cx="1799640" cy="228600"/>
                  </a:xfrm>
                </p:grpSpPr>
                <p:grpSp>
                  <p:nvGrpSpPr>
                    <p:cNvPr id="1470" name=""/>
                    <p:cNvGrpSpPr/>
                    <p:nvPr/>
                  </p:nvGrpSpPr>
                  <p:grpSpPr>
                    <a:xfrm>
                      <a:off x="5506200" y="3897720"/>
                      <a:ext cx="900000" cy="228600"/>
                      <a:chOff x="5506200" y="3897720"/>
                      <a:chExt cx="900000" cy="228600"/>
                    </a:xfrm>
                  </p:grpSpPr>
                  <p:grpSp>
                    <p:nvGrpSpPr>
                      <p:cNvPr id="1471" name=""/>
                      <p:cNvGrpSpPr/>
                      <p:nvPr/>
                    </p:nvGrpSpPr>
                    <p:grpSpPr>
                      <a:xfrm>
                        <a:off x="5506200" y="3897720"/>
                        <a:ext cx="449280" cy="228600"/>
                        <a:chOff x="5506200" y="3897720"/>
                        <a:chExt cx="449280" cy="228600"/>
                      </a:xfrm>
                    </p:grpSpPr>
                    <p:sp>
                      <p:nvSpPr>
                        <p:cNvPr id="1472" name=""/>
                        <p:cNvSpPr/>
                        <p:nvPr/>
                      </p:nvSpPr>
                      <p:spPr>
                        <a:xfrm>
                          <a:off x="550620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3" name=""/>
                        <p:cNvSpPr/>
                        <p:nvPr/>
                      </p:nvSpPr>
                      <p:spPr>
                        <a:xfrm>
                          <a:off x="5730840" y="38977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74" name=""/>
                      <p:cNvGrpSpPr/>
                      <p:nvPr/>
                    </p:nvGrpSpPr>
                    <p:grpSpPr>
                      <a:xfrm>
                        <a:off x="5956200" y="3897720"/>
                        <a:ext cx="450000" cy="228600"/>
                        <a:chOff x="5956200" y="3897720"/>
                        <a:chExt cx="450000" cy="228600"/>
                      </a:xfrm>
                    </p:grpSpPr>
                    <p:sp>
                      <p:nvSpPr>
                        <p:cNvPr id="1475" name=""/>
                        <p:cNvSpPr/>
                        <p:nvPr/>
                      </p:nvSpPr>
                      <p:spPr>
                        <a:xfrm>
                          <a:off x="5956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6" name=""/>
                        <p:cNvSpPr/>
                        <p:nvPr/>
                      </p:nvSpPr>
                      <p:spPr>
                        <a:xfrm>
                          <a:off x="618120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77" name=""/>
                    <p:cNvGrpSpPr/>
                    <p:nvPr/>
                  </p:nvGrpSpPr>
                  <p:grpSpPr>
                    <a:xfrm>
                      <a:off x="6404760" y="3897720"/>
                      <a:ext cx="901080" cy="228600"/>
                      <a:chOff x="6404760" y="3897720"/>
                      <a:chExt cx="901080" cy="228600"/>
                    </a:xfrm>
                  </p:grpSpPr>
                  <p:grpSp>
                    <p:nvGrpSpPr>
                      <p:cNvPr id="1478" name=""/>
                      <p:cNvGrpSpPr/>
                      <p:nvPr/>
                    </p:nvGrpSpPr>
                    <p:grpSpPr>
                      <a:xfrm>
                        <a:off x="6404760" y="3897720"/>
                        <a:ext cx="450000" cy="228600"/>
                        <a:chOff x="6404760" y="3897720"/>
                        <a:chExt cx="450000" cy="228600"/>
                      </a:xfrm>
                    </p:grpSpPr>
                    <p:sp>
                      <p:nvSpPr>
                        <p:cNvPr id="1479" name=""/>
                        <p:cNvSpPr/>
                        <p:nvPr/>
                      </p:nvSpPr>
                      <p:spPr>
                        <a:xfrm>
                          <a:off x="6404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>
                          <a:off x="6629760" y="38977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1" name=""/>
                      <p:cNvGrpSpPr/>
                      <p:nvPr/>
                    </p:nvGrpSpPr>
                    <p:grpSpPr>
                      <a:xfrm>
                        <a:off x="6855120" y="3897720"/>
                        <a:ext cx="450720" cy="228600"/>
                        <a:chOff x="6855120" y="3897720"/>
                        <a:chExt cx="450720" cy="228600"/>
                      </a:xfrm>
                    </p:grpSpPr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>
                          <a:off x="685512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>
                          <a:off x="7080480" y="38977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3708360" y="4358520"/>
                  <a:ext cx="3597480" cy="228600"/>
                  <a:chOff x="3708360" y="4358520"/>
                  <a:chExt cx="3597480" cy="22860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3708360" y="4358520"/>
                    <a:ext cx="1799640" cy="228600"/>
                    <a:chOff x="3708360" y="4358520"/>
                    <a:chExt cx="1799640" cy="228600"/>
                  </a:xfrm>
                </p:grpSpPr>
                <p:grpSp>
                  <p:nvGrpSpPr>
                    <p:cNvPr id="1486" name=""/>
                    <p:cNvGrpSpPr/>
                    <p:nvPr/>
                  </p:nvGrpSpPr>
                  <p:grpSpPr>
                    <a:xfrm>
                      <a:off x="3708360" y="4358520"/>
                      <a:ext cx="900000" cy="228600"/>
                      <a:chOff x="3708360" y="4358520"/>
                      <a:chExt cx="900000" cy="228600"/>
                    </a:xfrm>
                  </p:grpSpPr>
                  <p:grpSp>
                    <p:nvGrpSpPr>
                      <p:cNvPr id="1487" name=""/>
                      <p:cNvGrpSpPr/>
                      <p:nvPr/>
                    </p:nvGrpSpPr>
                    <p:grpSpPr>
                      <a:xfrm>
                        <a:off x="3708360" y="4358520"/>
                        <a:ext cx="449280" cy="228600"/>
                        <a:chOff x="3708360" y="4358520"/>
                        <a:chExt cx="449280" cy="228600"/>
                      </a:xfrm>
                    </p:grpSpPr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>
                          <a:off x="370836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>
                          <a:off x="39330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0" name=""/>
                      <p:cNvGrpSpPr/>
                      <p:nvPr/>
                    </p:nvGrpSpPr>
                    <p:grpSpPr>
                      <a:xfrm>
                        <a:off x="4158360" y="4358520"/>
                        <a:ext cx="450000" cy="228600"/>
                        <a:chOff x="4158360" y="4358520"/>
                        <a:chExt cx="450000" cy="228600"/>
                      </a:xfrm>
                    </p:grpSpPr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4158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>
                          <a:off x="43833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93" name=""/>
                    <p:cNvGrpSpPr/>
                    <p:nvPr/>
                  </p:nvGrpSpPr>
                  <p:grpSpPr>
                    <a:xfrm>
                      <a:off x="4606920" y="4358520"/>
                      <a:ext cx="901080" cy="228600"/>
                      <a:chOff x="4606920" y="4358520"/>
                      <a:chExt cx="901080" cy="228600"/>
                    </a:xfrm>
                  </p:grpSpPr>
                  <p:grpSp>
                    <p:nvGrpSpPr>
                      <p:cNvPr id="1494" name=""/>
                      <p:cNvGrpSpPr/>
                      <p:nvPr/>
                    </p:nvGrpSpPr>
                    <p:grpSpPr>
                      <a:xfrm>
                        <a:off x="4606920" y="4358520"/>
                        <a:ext cx="450000" cy="228600"/>
                        <a:chOff x="4606920" y="4358520"/>
                        <a:chExt cx="450000" cy="228600"/>
                      </a:xfrm>
                    </p:grpSpPr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>
                          <a:off x="4606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>
                          <a:off x="483192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7" name=""/>
                      <p:cNvGrpSpPr/>
                      <p:nvPr/>
                    </p:nvGrpSpPr>
                    <p:grpSpPr>
                      <a:xfrm>
                        <a:off x="5057280" y="4358520"/>
                        <a:ext cx="450720" cy="228600"/>
                        <a:chOff x="5057280" y="4358520"/>
                        <a:chExt cx="450720" cy="228600"/>
                      </a:xfrm>
                    </p:grpSpPr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>
                          <a:off x="50572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>
                          <a:off x="528264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5506200" y="4358520"/>
                    <a:ext cx="1799640" cy="228600"/>
                    <a:chOff x="5506200" y="4358520"/>
                    <a:chExt cx="1799640" cy="228600"/>
                  </a:xfrm>
                </p:grpSpPr>
                <p:grpSp>
                  <p:nvGrpSpPr>
                    <p:cNvPr id="1501" name=""/>
                    <p:cNvGrpSpPr/>
                    <p:nvPr/>
                  </p:nvGrpSpPr>
                  <p:grpSpPr>
                    <a:xfrm>
                      <a:off x="5506200" y="4358520"/>
                      <a:ext cx="900000" cy="228600"/>
                      <a:chOff x="5506200" y="4358520"/>
                      <a:chExt cx="900000" cy="228600"/>
                    </a:xfrm>
                  </p:grpSpPr>
                  <p:grpSp>
                    <p:nvGrpSpPr>
                      <p:cNvPr id="1502" name=""/>
                      <p:cNvGrpSpPr/>
                      <p:nvPr/>
                    </p:nvGrpSpPr>
                    <p:grpSpPr>
                      <a:xfrm>
                        <a:off x="5506200" y="4358520"/>
                        <a:ext cx="449280" cy="228600"/>
                        <a:chOff x="5506200" y="4358520"/>
                        <a:chExt cx="449280" cy="228600"/>
                      </a:xfrm>
                    </p:grpSpPr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>
                          <a:off x="550620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>
                          <a:off x="5730840" y="435852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5" name=""/>
                      <p:cNvGrpSpPr/>
                      <p:nvPr/>
                    </p:nvGrpSpPr>
                    <p:grpSpPr>
                      <a:xfrm>
                        <a:off x="5956200" y="4358520"/>
                        <a:ext cx="450000" cy="228600"/>
                        <a:chOff x="5956200" y="4358520"/>
                        <a:chExt cx="450000" cy="228600"/>
                      </a:xfrm>
                    </p:grpSpPr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>
                          <a:off x="5956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>
                          <a:off x="618120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8" name=""/>
                    <p:cNvGrpSpPr/>
                    <p:nvPr/>
                  </p:nvGrpSpPr>
                  <p:grpSpPr>
                    <a:xfrm>
                      <a:off x="6404760" y="4358520"/>
                      <a:ext cx="901080" cy="228600"/>
                      <a:chOff x="6404760" y="4358520"/>
                      <a:chExt cx="901080" cy="228600"/>
                    </a:xfrm>
                  </p:grpSpPr>
                  <p:grpSp>
                    <p:nvGrpSpPr>
                      <p:cNvPr id="1509" name=""/>
                      <p:cNvGrpSpPr/>
                      <p:nvPr/>
                    </p:nvGrpSpPr>
                    <p:grpSpPr>
                      <a:xfrm>
                        <a:off x="6404760" y="4358520"/>
                        <a:ext cx="450000" cy="228600"/>
                        <a:chOff x="6404760" y="4358520"/>
                        <a:chExt cx="450000" cy="228600"/>
                      </a:xfrm>
                    </p:grpSpPr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>
                          <a:off x="6404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>
                          <a:off x="6629760" y="435852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12" name=""/>
                      <p:cNvGrpSpPr/>
                      <p:nvPr/>
                    </p:nvGrpSpPr>
                    <p:grpSpPr>
                      <a:xfrm>
                        <a:off x="6855120" y="4358520"/>
                        <a:ext cx="450720" cy="228600"/>
                        <a:chOff x="6855120" y="4358520"/>
                        <a:chExt cx="450720" cy="228600"/>
                      </a:xfrm>
                    </p:grpSpPr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685512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7080480" y="435852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15" name=""/>
                <p:cNvGrpSpPr/>
                <p:nvPr/>
              </p:nvGrpSpPr>
              <p:grpSpPr>
                <a:xfrm>
                  <a:off x="3708360" y="4127760"/>
                  <a:ext cx="3597480" cy="229320"/>
                  <a:chOff x="3708360" y="4127760"/>
                  <a:chExt cx="3597480" cy="229320"/>
                </a:xfrm>
              </p:grpSpPr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3708360" y="4127760"/>
                    <a:ext cx="1799640" cy="229320"/>
                    <a:chOff x="3708360" y="4127760"/>
                    <a:chExt cx="1799640" cy="229320"/>
                  </a:xfrm>
                </p:grpSpPr>
                <p:grpSp>
                  <p:nvGrpSpPr>
                    <p:cNvPr id="1517" name=""/>
                    <p:cNvGrpSpPr/>
                    <p:nvPr/>
                  </p:nvGrpSpPr>
                  <p:grpSpPr>
                    <a:xfrm>
                      <a:off x="3708360" y="4127760"/>
                      <a:ext cx="900000" cy="229320"/>
                      <a:chOff x="3708360" y="4127760"/>
                      <a:chExt cx="900000" cy="229320"/>
                    </a:xfrm>
                  </p:grpSpPr>
                  <p:grpSp>
                    <p:nvGrpSpPr>
                      <p:cNvPr id="1518" name=""/>
                      <p:cNvGrpSpPr/>
                      <p:nvPr/>
                    </p:nvGrpSpPr>
                    <p:grpSpPr>
                      <a:xfrm>
                        <a:off x="3708360" y="4127760"/>
                        <a:ext cx="449280" cy="229320"/>
                        <a:chOff x="3708360" y="4127760"/>
                        <a:chExt cx="449280" cy="229320"/>
                      </a:xfrm>
                    </p:grpSpPr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>
                          <a:off x="370836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9330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1" name=""/>
                      <p:cNvGrpSpPr/>
                      <p:nvPr/>
                    </p:nvGrpSpPr>
                    <p:grpSpPr>
                      <a:xfrm>
                        <a:off x="4158360" y="4127760"/>
                        <a:ext cx="450000" cy="229320"/>
                        <a:chOff x="4158360" y="4127760"/>
                        <a:chExt cx="450000" cy="229320"/>
                      </a:xfrm>
                    </p:grpSpPr>
                    <p:sp>
                      <p:nvSpPr>
                        <p:cNvPr id="1522" name=""/>
                        <p:cNvSpPr/>
                        <p:nvPr/>
                      </p:nvSpPr>
                      <p:spPr>
                        <a:xfrm>
                          <a:off x="4158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3" name=""/>
                        <p:cNvSpPr/>
                        <p:nvPr/>
                      </p:nvSpPr>
                      <p:spPr>
                        <a:xfrm>
                          <a:off x="43833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4" name=""/>
                    <p:cNvGrpSpPr/>
                    <p:nvPr/>
                  </p:nvGrpSpPr>
                  <p:grpSpPr>
                    <a:xfrm>
                      <a:off x="4606920" y="4127760"/>
                      <a:ext cx="901080" cy="229320"/>
                      <a:chOff x="4606920" y="4127760"/>
                      <a:chExt cx="901080" cy="229320"/>
                    </a:xfrm>
                  </p:grpSpPr>
                  <p:grpSp>
                    <p:nvGrpSpPr>
                      <p:cNvPr id="1525" name=""/>
                      <p:cNvGrpSpPr/>
                      <p:nvPr/>
                    </p:nvGrpSpPr>
                    <p:grpSpPr>
                      <a:xfrm>
                        <a:off x="4606920" y="4127760"/>
                        <a:ext cx="450000" cy="229320"/>
                        <a:chOff x="4606920" y="4127760"/>
                        <a:chExt cx="450000" cy="229320"/>
                      </a:xfrm>
                    </p:grpSpPr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4606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7" name=""/>
                        <p:cNvSpPr/>
                        <p:nvPr/>
                      </p:nvSpPr>
                      <p:spPr>
                        <a:xfrm>
                          <a:off x="483192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28" name=""/>
                      <p:cNvGrpSpPr/>
                      <p:nvPr/>
                    </p:nvGrpSpPr>
                    <p:grpSpPr>
                      <a:xfrm>
                        <a:off x="5057280" y="4127760"/>
                        <a:ext cx="450720" cy="229320"/>
                        <a:chOff x="5057280" y="4127760"/>
                        <a:chExt cx="450720" cy="229320"/>
                      </a:xfrm>
                    </p:grpSpPr>
                    <p:sp>
                      <p:nvSpPr>
                        <p:cNvPr id="1529" name=""/>
                        <p:cNvSpPr/>
                        <p:nvPr/>
                      </p:nvSpPr>
                      <p:spPr>
                        <a:xfrm>
                          <a:off x="50572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0" name=""/>
                        <p:cNvSpPr/>
                        <p:nvPr/>
                      </p:nvSpPr>
                      <p:spPr>
                        <a:xfrm>
                          <a:off x="528264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506200" y="4127760"/>
                    <a:ext cx="1799640" cy="229320"/>
                    <a:chOff x="5506200" y="4127760"/>
                    <a:chExt cx="1799640" cy="229320"/>
                  </a:xfrm>
                </p:grpSpPr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5506200" y="4127760"/>
                      <a:ext cx="900000" cy="229320"/>
                      <a:chOff x="5506200" y="4127760"/>
                      <a:chExt cx="900000" cy="229320"/>
                    </a:xfrm>
                  </p:grpSpPr>
                  <p:grpSp>
                    <p:nvGrpSpPr>
                      <p:cNvPr id="1533" name=""/>
                      <p:cNvGrpSpPr/>
                      <p:nvPr/>
                    </p:nvGrpSpPr>
                    <p:grpSpPr>
                      <a:xfrm>
                        <a:off x="5506200" y="4127760"/>
                        <a:ext cx="449280" cy="229320"/>
                        <a:chOff x="5506200" y="4127760"/>
                        <a:chExt cx="449280" cy="229320"/>
                      </a:xfrm>
                    </p:grpSpPr>
                    <p:sp>
                      <p:nvSpPr>
                        <p:cNvPr id="1534" name=""/>
                        <p:cNvSpPr/>
                        <p:nvPr/>
                      </p:nvSpPr>
                      <p:spPr>
                        <a:xfrm>
                          <a:off x="550620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5" name=""/>
                        <p:cNvSpPr/>
                        <p:nvPr/>
                      </p:nvSpPr>
                      <p:spPr>
                        <a:xfrm>
                          <a:off x="5730840" y="4127760"/>
                          <a:ext cx="22464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5956200" y="4127760"/>
                        <a:ext cx="450000" cy="229320"/>
                        <a:chOff x="5956200" y="4127760"/>
                        <a:chExt cx="450000" cy="229320"/>
                      </a:xfrm>
                    </p:grpSpPr>
                    <p:sp>
                      <p:nvSpPr>
                        <p:cNvPr id="1537" name=""/>
                        <p:cNvSpPr/>
                        <p:nvPr/>
                      </p:nvSpPr>
                      <p:spPr>
                        <a:xfrm>
                          <a:off x="5956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/>
                        <p:nvPr/>
                      </p:nvSpPr>
                      <p:spPr>
                        <a:xfrm>
                          <a:off x="618120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39" name=""/>
                    <p:cNvGrpSpPr/>
                    <p:nvPr/>
                  </p:nvGrpSpPr>
                  <p:grpSpPr>
                    <a:xfrm>
                      <a:off x="6404760" y="4127760"/>
                      <a:ext cx="901080" cy="229320"/>
                      <a:chOff x="6404760" y="4127760"/>
                      <a:chExt cx="901080" cy="229320"/>
                    </a:xfrm>
                  </p:grpSpPr>
                  <p:grpSp>
                    <p:nvGrpSpPr>
                      <p:cNvPr id="1540" name=""/>
                      <p:cNvGrpSpPr/>
                      <p:nvPr/>
                    </p:nvGrpSpPr>
                    <p:grpSpPr>
                      <a:xfrm>
                        <a:off x="6404760" y="4127760"/>
                        <a:ext cx="450000" cy="229320"/>
                        <a:chOff x="6404760" y="4127760"/>
                        <a:chExt cx="450000" cy="229320"/>
                      </a:xfrm>
                    </p:grpSpPr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6404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2" name=""/>
                        <p:cNvSpPr/>
                        <p:nvPr/>
                      </p:nvSpPr>
                      <p:spPr>
                        <a:xfrm>
                          <a:off x="6629760" y="4127760"/>
                          <a:ext cx="22500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43" name=""/>
                      <p:cNvGrpSpPr/>
                      <p:nvPr/>
                    </p:nvGrpSpPr>
                    <p:grpSpPr>
                      <a:xfrm>
                        <a:off x="6855120" y="4127760"/>
                        <a:ext cx="450720" cy="229320"/>
                        <a:chOff x="6855120" y="4127760"/>
                        <a:chExt cx="450720" cy="229320"/>
                      </a:xfrm>
                    </p:grpSpPr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685512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7080480" y="4127760"/>
                          <a:ext cx="225360" cy="2293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3708360" y="4588560"/>
                  <a:ext cx="3597480" cy="228600"/>
                  <a:chOff x="3708360" y="4588560"/>
                  <a:chExt cx="3597480" cy="228600"/>
                </a:xfrm>
              </p:grpSpPr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3708360" y="4588560"/>
                    <a:ext cx="1799640" cy="228600"/>
                    <a:chOff x="3708360" y="4588560"/>
                    <a:chExt cx="1799640" cy="228600"/>
                  </a:xfrm>
                </p:grpSpPr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3708360" y="4588560"/>
                      <a:ext cx="900000" cy="228600"/>
                      <a:chOff x="3708360" y="4588560"/>
                      <a:chExt cx="900000" cy="228600"/>
                    </a:xfrm>
                  </p:grpSpPr>
                  <p:grpSp>
                    <p:nvGrpSpPr>
                      <p:cNvPr id="1549" name=""/>
                      <p:cNvGrpSpPr/>
                      <p:nvPr/>
                    </p:nvGrpSpPr>
                    <p:grpSpPr>
                      <a:xfrm>
                        <a:off x="3708360" y="4588560"/>
                        <a:ext cx="449280" cy="228600"/>
                        <a:chOff x="3708360" y="4588560"/>
                        <a:chExt cx="449280" cy="228600"/>
                      </a:xfrm>
                    </p:grpSpPr>
                    <p:sp>
                      <p:nvSpPr>
                        <p:cNvPr id="1550" name=""/>
                        <p:cNvSpPr/>
                        <p:nvPr/>
                      </p:nvSpPr>
                      <p:spPr>
                        <a:xfrm>
                          <a:off x="370836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1" name=""/>
                        <p:cNvSpPr/>
                        <p:nvPr/>
                      </p:nvSpPr>
                      <p:spPr>
                        <a:xfrm>
                          <a:off x="39330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2" name=""/>
                      <p:cNvGrpSpPr/>
                      <p:nvPr/>
                    </p:nvGrpSpPr>
                    <p:grpSpPr>
                      <a:xfrm>
                        <a:off x="4158360" y="4588560"/>
                        <a:ext cx="450000" cy="228600"/>
                        <a:chOff x="4158360" y="4588560"/>
                        <a:chExt cx="450000" cy="228600"/>
                      </a:xfrm>
                    </p:grpSpPr>
                    <p:sp>
                      <p:nvSpPr>
                        <p:cNvPr id="1553" name=""/>
                        <p:cNvSpPr/>
                        <p:nvPr/>
                      </p:nvSpPr>
                      <p:spPr>
                        <a:xfrm>
                          <a:off x="4158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43833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55" name=""/>
                    <p:cNvGrpSpPr/>
                    <p:nvPr/>
                  </p:nvGrpSpPr>
                  <p:grpSpPr>
                    <a:xfrm>
                      <a:off x="4606920" y="4588560"/>
                      <a:ext cx="901080" cy="228600"/>
                      <a:chOff x="4606920" y="4588560"/>
                      <a:chExt cx="901080" cy="228600"/>
                    </a:xfrm>
                  </p:grpSpPr>
                  <p:grpSp>
                    <p:nvGrpSpPr>
                      <p:cNvPr id="1556" name=""/>
                      <p:cNvGrpSpPr/>
                      <p:nvPr/>
                    </p:nvGrpSpPr>
                    <p:grpSpPr>
                      <a:xfrm>
                        <a:off x="4606920" y="4588560"/>
                        <a:ext cx="450000" cy="228600"/>
                        <a:chOff x="4606920" y="4588560"/>
                        <a:chExt cx="450000" cy="228600"/>
                      </a:xfrm>
                    </p:grpSpPr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4606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483192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9" name=""/>
                      <p:cNvGrpSpPr/>
                      <p:nvPr/>
                    </p:nvGrpSpPr>
                    <p:grpSpPr>
                      <a:xfrm>
                        <a:off x="5057280" y="4588560"/>
                        <a:ext cx="450720" cy="228600"/>
                        <a:chOff x="5057280" y="4588560"/>
                        <a:chExt cx="450720" cy="228600"/>
                      </a:xfrm>
                    </p:grpSpPr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50572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28264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5506200" y="4588560"/>
                    <a:ext cx="1799640" cy="228600"/>
                    <a:chOff x="5506200" y="4588560"/>
                    <a:chExt cx="1799640" cy="228600"/>
                  </a:xfrm>
                </p:grpSpPr>
                <p:grpSp>
                  <p:nvGrpSpPr>
                    <p:cNvPr id="1563" name=""/>
                    <p:cNvGrpSpPr/>
                    <p:nvPr/>
                  </p:nvGrpSpPr>
                  <p:grpSpPr>
                    <a:xfrm>
                      <a:off x="5506200" y="4588560"/>
                      <a:ext cx="900000" cy="228600"/>
                      <a:chOff x="5506200" y="4588560"/>
                      <a:chExt cx="900000" cy="228600"/>
                    </a:xfrm>
                  </p:grpSpPr>
                  <p:grpSp>
                    <p:nvGrpSpPr>
                      <p:cNvPr id="1564" name=""/>
                      <p:cNvGrpSpPr/>
                      <p:nvPr/>
                    </p:nvGrpSpPr>
                    <p:grpSpPr>
                      <a:xfrm>
                        <a:off x="5506200" y="4588560"/>
                        <a:ext cx="449280" cy="228600"/>
                        <a:chOff x="5506200" y="4588560"/>
                        <a:chExt cx="449280" cy="228600"/>
                      </a:xfrm>
                    </p:grpSpPr>
                    <p:sp>
                      <p:nvSpPr>
                        <p:cNvPr id="1565" name=""/>
                        <p:cNvSpPr/>
                        <p:nvPr/>
                      </p:nvSpPr>
                      <p:spPr>
                        <a:xfrm>
                          <a:off x="550620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6" name=""/>
                        <p:cNvSpPr/>
                        <p:nvPr/>
                      </p:nvSpPr>
                      <p:spPr>
                        <a:xfrm>
                          <a:off x="5730840" y="4588560"/>
                          <a:ext cx="22464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67" name=""/>
                      <p:cNvGrpSpPr/>
                      <p:nvPr/>
                    </p:nvGrpSpPr>
                    <p:grpSpPr>
                      <a:xfrm>
                        <a:off x="5956200" y="4588560"/>
                        <a:ext cx="450000" cy="228600"/>
                        <a:chOff x="5956200" y="4588560"/>
                        <a:chExt cx="450000" cy="228600"/>
                      </a:xfrm>
                    </p:grpSpPr>
                    <p:sp>
                      <p:nvSpPr>
                        <p:cNvPr id="1568" name=""/>
                        <p:cNvSpPr/>
                        <p:nvPr/>
                      </p:nvSpPr>
                      <p:spPr>
                        <a:xfrm>
                          <a:off x="5956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9" name=""/>
                        <p:cNvSpPr/>
                        <p:nvPr/>
                      </p:nvSpPr>
                      <p:spPr>
                        <a:xfrm>
                          <a:off x="618120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70" name=""/>
                    <p:cNvGrpSpPr/>
                    <p:nvPr/>
                  </p:nvGrpSpPr>
                  <p:grpSpPr>
                    <a:xfrm>
                      <a:off x="6404760" y="4588560"/>
                      <a:ext cx="901080" cy="228600"/>
                      <a:chOff x="6404760" y="4588560"/>
                      <a:chExt cx="901080" cy="228600"/>
                    </a:xfrm>
                  </p:grpSpPr>
                  <p:grpSp>
                    <p:nvGrpSpPr>
                      <p:cNvPr id="1571" name=""/>
                      <p:cNvGrpSpPr/>
                      <p:nvPr/>
                    </p:nvGrpSpPr>
                    <p:grpSpPr>
                      <a:xfrm>
                        <a:off x="6404760" y="4588560"/>
                        <a:ext cx="450000" cy="228600"/>
                        <a:chOff x="6404760" y="4588560"/>
                        <a:chExt cx="450000" cy="228600"/>
                      </a:xfrm>
                    </p:grpSpPr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>
                          <a:off x="6404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>
                          <a:off x="6629760" y="4588560"/>
                          <a:ext cx="22500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6855120" y="4588560"/>
                        <a:ext cx="450720" cy="228600"/>
                        <a:chOff x="6855120" y="4588560"/>
                        <a:chExt cx="450720" cy="22860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685512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7080480" y="4588560"/>
                          <a:ext cx="225360" cy="22860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77" name=""/>
              <p:cNvGrpSpPr/>
              <p:nvPr/>
            </p:nvGrpSpPr>
            <p:grpSpPr>
              <a:xfrm>
                <a:off x="3708360" y="4816800"/>
                <a:ext cx="3597480" cy="918720"/>
                <a:chOff x="3708360" y="4816800"/>
                <a:chExt cx="3597480" cy="918720"/>
              </a:xfrm>
            </p:grpSpPr>
            <p:grpSp>
              <p:nvGrpSpPr>
                <p:cNvPr id="1578" name=""/>
                <p:cNvGrpSpPr/>
                <p:nvPr/>
              </p:nvGrpSpPr>
              <p:grpSpPr>
                <a:xfrm>
                  <a:off x="3708360" y="4816800"/>
                  <a:ext cx="3597480" cy="228240"/>
                  <a:chOff x="3708360" y="4816800"/>
                  <a:chExt cx="3597480" cy="228240"/>
                </a:xfrm>
              </p:grpSpPr>
              <p:grpSp>
                <p:nvGrpSpPr>
                  <p:cNvPr id="1579" name=""/>
                  <p:cNvGrpSpPr/>
                  <p:nvPr/>
                </p:nvGrpSpPr>
                <p:grpSpPr>
                  <a:xfrm>
                    <a:off x="3708360" y="4816800"/>
                    <a:ext cx="1799640" cy="228240"/>
                    <a:chOff x="3708360" y="4816800"/>
                    <a:chExt cx="1799640" cy="228240"/>
                  </a:xfrm>
                </p:grpSpPr>
                <p:grpSp>
                  <p:nvGrpSpPr>
                    <p:cNvPr id="1580" name=""/>
                    <p:cNvGrpSpPr/>
                    <p:nvPr/>
                  </p:nvGrpSpPr>
                  <p:grpSpPr>
                    <a:xfrm>
                      <a:off x="3708360" y="4816800"/>
                      <a:ext cx="900000" cy="228240"/>
                      <a:chOff x="3708360" y="4816800"/>
                      <a:chExt cx="900000" cy="228240"/>
                    </a:xfrm>
                  </p:grpSpPr>
                  <p:grpSp>
                    <p:nvGrpSpPr>
                      <p:cNvPr id="1581" name=""/>
                      <p:cNvGrpSpPr/>
                      <p:nvPr/>
                    </p:nvGrpSpPr>
                    <p:grpSpPr>
                      <a:xfrm>
                        <a:off x="3708360" y="4816800"/>
                        <a:ext cx="449280" cy="228240"/>
                        <a:chOff x="3708360" y="4816800"/>
                        <a:chExt cx="449280" cy="228240"/>
                      </a:xfrm>
                    </p:grpSpPr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370836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>
                          <a:off x="39330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84" name=""/>
                      <p:cNvGrpSpPr/>
                      <p:nvPr/>
                    </p:nvGrpSpPr>
                    <p:grpSpPr>
                      <a:xfrm>
                        <a:off x="4158360" y="4816800"/>
                        <a:ext cx="450000" cy="228240"/>
                        <a:chOff x="4158360" y="4816800"/>
                        <a:chExt cx="450000" cy="228240"/>
                      </a:xfrm>
                    </p:grpSpPr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4158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43833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87" name=""/>
                    <p:cNvGrpSpPr/>
                    <p:nvPr/>
                  </p:nvGrpSpPr>
                  <p:grpSpPr>
                    <a:xfrm>
                      <a:off x="4606920" y="4816800"/>
                      <a:ext cx="901080" cy="228240"/>
                      <a:chOff x="4606920" y="4816800"/>
                      <a:chExt cx="901080" cy="228240"/>
                    </a:xfrm>
                  </p:grpSpPr>
                  <p:grpSp>
                    <p:nvGrpSpPr>
                      <p:cNvPr id="1588" name=""/>
                      <p:cNvGrpSpPr/>
                      <p:nvPr/>
                    </p:nvGrpSpPr>
                    <p:grpSpPr>
                      <a:xfrm>
                        <a:off x="4606920" y="4816800"/>
                        <a:ext cx="450000" cy="228240"/>
                        <a:chOff x="4606920" y="4816800"/>
                        <a:chExt cx="450000" cy="228240"/>
                      </a:xfrm>
                    </p:grpSpPr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4606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483192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1" name=""/>
                      <p:cNvGrpSpPr/>
                      <p:nvPr/>
                    </p:nvGrpSpPr>
                    <p:grpSpPr>
                      <a:xfrm>
                        <a:off x="5057280" y="4816800"/>
                        <a:ext cx="450720" cy="228240"/>
                        <a:chOff x="5057280" y="4816800"/>
                        <a:chExt cx="450720" cy="228240"/>
                      </a:xfrm>
                    </p:grpSpPr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50572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528264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94" name=""/>
                  <p:cNvGrpSpPr/>
                  <p:nvPr/>
                </p:nvGrpSpPr>
                <p:grpSpPr>
                  <a:xfrm>
                    <a:off x="5506200" y="4816800"/>
                    <a:ext cx="1799640" cy="228240"/>
                    <a:chOff x="5506200" y="4816800"/>
                    <a:chExt cx="1799640" cy="228240"/>
                  </a:xfrm>
                </p:grpSpPr>
                <p:grpSp>
                  <p:nvGrpSpPr>
                    <p:cNvPr id="1595" name=""/>
                    <p:cNvGrpSpPr/>
                    <p:nvPr/>
                  </p:nvGrpSpPr>
                  <p:grpSpPr>
                    <a:xfrm>
                      <a:off x="5506200" y="4816800"/>
                      <a:ext cx="900000" cy="228240"/>
                      <a:chOff x="5506200" y="4816800"/>
                      <a:chExt cx="900000" cy="228240"/>
                    </a:xfrm>
                  </p:grpSpPr>
                  <p:grpSp>
                    <p:nvGrpSpPr>
                      <p:cNvPr id="1596" name=""/>
                      <p:cNvGrpSpPr/>
                      <p:nvPr/>
                    </p:nvGrpSpPr>
                    <p:grpSpPr>
                      <a:xfrm>
                        <a:off x="5506200" y="4816800"/>
                        <a:ext cx="449280" cy="228240"/>
                        <a:chOff x="5506200" y="4816800"/>
                        <a:chExt cx="449280" cy="228240"/>
                      </a:xfrm>
                    </p:grpSpPr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550620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5730840" y="481680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99" name=""/>
                      <p:cNvGrpSpPr/>
                      <p:nvPr/>
                    </p:nvGrpSpPr>
                    <p:grpSpPr>
                      <a:xfrm>
                        <a:off x="5956200" y="4816800"/>
                        <a:ext cx="450000" cy="228240"/>
                        <a:chOff x="5956200" y="4816800"/>
                        <a:chExt cx="450000" cy="228240"/>
                      </a:xfrm>
                    </p:grpSpPr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5956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618120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6404760" y="4816800"/>
                      <a:ext cx="901080" cy="228240"/>
                      <a:chOff x="6404760" y="4816800"/>
                      <a:chExt cx="901080" cy="228240"/>
                    </a:xfrm>
                  </p:grpSpPr>
                  <p:grpSp>
                    <p:nvGrpSpPr>
                      <p:cNvPr id="1603" name=""/>
                      <p:cNvGrpSpPr/>
                      <p:nvPr/>
                    </p:nvGrpSpPr>
                    <p:grpSpPr>
                      <a:xfrm>
                        <a:off x="6404760" y="4816800"/>
                        <a:ext cx="450000" cy="228240"/>
                        <a:chOff x="6404760" y="4816800"/>
                        <a:chExt cx="450000" cy="228240"/>
                      </a:xfrm>
                    </p:grpSpPr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6404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>
                          <a:off x="6629760" y="481680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06" name=""/>
                      <p:cNvGrpSpPr/>
                      <p:nvPr/>
                    </p:nvGrpSpPr>
                    <p:grpSpPr>
                      <a:xfrm>
                        <a:off x="6855120" y="4816800"/>
                        <a:ext cx="450720" cy="228240"/>
                        <a:chOff x="6855120" y="4816800"/>
                        <a:chExt cx="450720" cy="228240"/>
                      </a:xfrm>
                    </p:grpSpPr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685512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8" name=""/>
                        <p:cNvSpPr/>
                        <p:nvPr/>
                      </p:nvSpPr>
                      <p:spPr>
                        <a:xfrm>
                          <a:off x="7080480" y="481680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3708360" y="5277240"/>
                  <a:ext cx="3597480" cy="228240"/>
                  <a:chOff x="3708360" y="5277240"/>
                  <a:chExt cx="3597480" cy="228240"/>
                </a:xfrm>
              </p:grpSpPr>
              <p:grpSp>
                <p:nvGrpSpPr>
                  <p:cNvPr id="1610" name=""/>
                  <p:cNvGrpSpPr/>
                  <p:nvPr/>
                </p:nvGrpSpPr>
                <p:grpSpPr>
                  <a:xfrm>
                    <a:off x="3708360" y="5277240"/>
                    <a:ext cx="1799640" cy="228240"/>
                    <a:chOff x="3708360" y="5277240"/>
                    <a:chExt cx="1799640" cy="228240"/>
                  </a:xfrm>
                </p:grpSpPr>
                <p:grpSp>
                  <p:nvGrpSpPr>
                    <p:cNvPr id="1611" name=""/>
                    <p:cNvGrpSpPr/>
                    <p:nvPr/>
                  </p:nvGrpSpPr>
                  <p:grpSpPr>
                    <a:xfrm>
                      <a:off x="3708360" y="5277240"/>
                      <a:ext cx="900000" cy="228240"/>
                      <a:chOff x="3708360" y="5277240"/>
                      <a:chExt cx="900000" cy="228240"/>
                    </a:xfrm>
                  </p:grpSpPr>
                  <p:grpSp>
                    <p:nvGrpSpPr>
                      <p:cNvPr id="1612" name=""/>
                      <p:cNvGrpSpPr/>
                      <p:nvPr/>
                    </p:nvGrpSpPr>
                    <p:grpSpPr>
                      <a:xfrm>
                        <a:off x="3708360" y="5277240"/>
                        <a:ext cx="449280" cy="228240"/>
                        <a:chOff x="3708360" y="5277240"/>
                        <a:chExt cx="449280" cy="228240"/>
                      </a:xfrm>
                    </p:grpSpPr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370836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39330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15" name=""/>
                      <p:cNvGrpSpPr/>
                      <p:nvPr/>
                    </p:nvGrpSpPr>
                    <p:grpSpPr>
                      <a:xfrm>
                        <a:off x="4158360" y="5277240"/>
                        <a:ext cx="450000" cy="228240"/>
                        <a:chOff x="4158360" y="5277240"/>
                        <a:chExt cx="450000" cy="228240"/>
                      </a:xfrm>
                    </p:grpSpPr>
                    <p:sp>
                      <p:nvSpPr>
                        <p:cNvPr id="1616" name=""/>
                        <p:cNvSpPr/>
                        <p:nvPr/>
                      </p:nvSpPr>
                      <p:spPr>
                        <a:xfrm>
                          <a:off x="4158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43833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8" name=""/>
                    <p:cNvGrpSpPr/>
                    <p:nvPr/>
                  </p:nvGrpSpPr>
                  <p:grpSpPr>
                    <a:xfrm>
                      <a:off x="4606920" y="5277240"/>
                      <a:ext cx="901080" cy="228240"/>
                      <a:chOff x="4606920" y="5277240"/>
                      <a:chExt cx="901080" cy="228240"/>
                    </a:xfrm>
                  </p:grpSpPr>
                  <p:grpSp>
                    <p:nvGrpSpPr>
                      <p:cNvPr id="1619" name=""/>
                      <p:cNvGrpSpPr/>
                      <p:nvPr/>
                    </p:nvGrpSpPr>
                    <p:grpSpPr>
                      <a:xfrm>
                        <a:off x="4606920" y="5277240"/>
                        <a:ext cx="450000" cy="228240"/>
                        <a:chOff x="4606920" y="5277240"/>
                        <a:chExt cx="450000" cy="228240"/>
                      </a:xfrm>
                    </p:grpSpPr>
                    <p:sp>
                      <p:nvSpPr>
                        <p:cNvPr id="1620" name=""/>
                        <p:cNvSpPr/>
                        <p:nvPr/>
                      </p:nvSpPr>
                      <p:spPr>
                        <a:xfrm>
                          <a:off x="4606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>
                          <a:off x="483192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22" name=""/>
                      <p:cNvGrpSpPr/>
                      <p:nvPr/>
                    </p:nvGrpSpPr>
                    <p:grpSpPr>
                      <a:xfrm>
                        <a:off x="5057280" y="5277240"/>
                        <a:ext cx="450720" cy="228240"/>
                        <a:chOff x="5057280" y="5277240"/>
                        <a:chExt cx="450720" cy="228240"/>
                      </a:xfrm>
                    </p:grpSpPr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>
                          <a:off x="50572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>
                          <a:off x="528264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5506200" y="5277240"/>
                    <a:ext cx="1799640" cy="228240"/>
                    <a:chOff x="5506200" y="5277240"/>
                    <a:chExt cx="1799640" cy="228240"/>
                  </a:xfrm>
                </p:grpSpPr>
                <p:grpSp>
                  <p:nvGrpSpPr>
                    <p:cNvPr id="1626" name=""/>
                    <p:cNvGrpSpPr/>
                    <p:nvPr/>
                  </p:nvGrpSpPr>
                  <p:grpSpPr>
                    <a:xfrm>
                      <a:off x="5506200" y="5277240"/>
                      <a:ext cx="900000" cy="228240"/>
                      <a:chOff x="5506200" y="5277240"/>
                      <a:chExt cx="900000" cy="228240"/>
                    </a:xfrm>
                  </p:grpSpPr>
                  <p:grpSp>
                    <p:nvGrpSpPr>
                      <p:cNvPr id="1627" name=""/>
                      <p:cNvGrpSpPr/>
                      <p:nvPr/>
                    </p:nvGrpSpPr>
                    <p:grpSpPr>
                      <a:xfrm>
                        <a:off x="5506200" y="5277240"/>
                        <a:ext cx="449280" cy="228240"/>
                        <a:chOff x="5506200" y="5277240"/>
                        <a:chExt cx="449280" cy="228240"/>
                      </a:xfrm>
                    </p:grpSpPr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>
                          <a:off x="550620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>
                          <a:off x="5730840" y="527724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0" name=""/>
                      <p:cNvGrpSpPr/>
                      <p:nvPr/>
                    </p:nvGrpSpPr>
                    <p:grpSpPr>
                      <a:xfrm>
                        <a:off x="5956200" y="5277240"/>
                        <a:ext cx="450000" cy="228240"/>
                        <a:chOff x="5956200" y="5277240"/>
                        <a:chExt cx="450000" cy="228240"/>
                      </a:xfrm>
                    </p:grpSpPr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>
                          <a:off x="5956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618120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33" name=""/>
                    <p:cNvGrpSpPr/>
                    <p:nvPr/>
                  </p:nvGrpSpPr>
                  <p:grpSpPr>
                    <a:xfrm>
                      <a:off x="6404760" y="5277240"/>
                      <a:ext cx="901080" cy="228240"/>
                      <a:chOff x="6404760" y="5277240"/>
                      <a:chExt cx="901080" cy="228240"/>
                    </a:xfrm>
                  </p:grpSpPr>
                  <p:grpSp>
                    <p:nvGrpSpPr>
                      <p:cNvPr id="1634" name=""/>
                      <p:cNvGrpSpPr/>
                      <p:nvPr/>
                    </p:nvGrpSpPr>
                    <p:grpSpPr>
                      <a:xfrm>
                        <a:off x="6404760" y="5277240"/>
                        <a:ext cx="450000" cy="228240"/>
                        <a:chOff x="6404760" y="5277240"/>
                        <a:chExt cx="450000" cy="228240"/>
                      </a:xfrm>
                    </p:grpSpPr>
                    <p:sp>
                      <p:nvSpPr>
                        <p:cNvPr id="1635" name=""/>
                        <p:cNvSpPr/>
                        <p:nvPr/>
                      </p:nvSpPr>
                      <p:spPr>
                        <a:xfrm>
                          <a:off x="6404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>
                          <a:off x="6629760" y="527724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7" name=""/>
                      <p:cNvGrpSpPr/>
                      <p:nvPr/>
                    </p:nvGrpSpPr>
                    <p:grpSpPr>
                      <a:xfrm>
                        <a:off x="6855120" y="5277240"/>
                        <a:ext cx="450720" cy="228240"/>
                        <a:chOff x="6855120" y="5277240"/>
                        <a:chExt cx="450720" cy="228240"/>
                      </a:xfrm>
                    </p:grpSpPr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>
                          <a:off x="685512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9" name=""/>
                        <p:cNvSpPr/>
                        <p:nvPr/>
                      </p:nvSpPr>
                      <p:spPr>
                        <a:xfrm>
                          <a:off x="7080480" y="527724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3708360" y="5046480"/>
                  <a:ext cx="3597480" cy="228960"/>
                  <a:chOff x="3708360" y="5046480"/>
                  <a:chExt cx="3597480" cy="228960"/>
                </a:xfrm>
              </p:grpSpPr>
              <p:grpSp>
                <p:nvGrpSpPr>
                  <p:cNvPr id="1641" name=""/>
                  <p:cNvGrpSpPr/>
                  <p:nvPr/>
                </p:nvGrpSpPr>
                <p:grpSpPr>
                  <a:xfrm>
                    <a:off x="3708360" y="5046480"/>
                    <a:ext cx="1799640" cy="228960"/>
                    <a:chOff x="3708360" y="5046480"/>
                    <a:chExt cx="1799640" cy="228960"/>
                  </a:xfrm>
                </p:grpSpPr>
                <p:grpSp>
                  <p:nvGrpSpPr>
                    <p:cNvPr id="1642" name=""/>
                    <p:cNvGrpSpPr/>
                    <p:nvPr/>
                  </p:nvGrpSpPr>
                  <p:grpSpPr>
                    <a:xfrm>
                      <a:off x="3708360" y="5046480"/>
                      <a:ext cx="900000" cy="228960"/>
                      <a:chOff x="3708360" y="5046480"/>
                      <a:chExt cx="900000" cy="228960"/>
                    </a:xfrm>
                  </p:grpSpPr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3708360" y="5046480"/>
                        <a:ext cx="449280" cy="228960"/>
                        <a:chOff x="3708360" y="5046480"/>
                        <a:chExt cx="449280" cy="228960"/>
                      </a:xfrm>
                    </p:grpSpPr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>
                          <a:off x="370836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>
                          <a:off x="39330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46" name=""/>
                      <p:cNvGrpSpPr/>
                      <p:nvPr/>
                    </p:nvGrpSpPr>
                    <p:grpSpPr>
                      <a:xfrm>
                        <a:off x="4158360" y="5046480"/>
                        <a:ext cx="450000" cy="228960"/>
                        <a:chOff x="4158360" y="5046480"/>
                        <a:chExt cx="450000" cy="228960"/>
                      </a:xfrm>
                    </p:grpSpPr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>
                          <a:off x="4158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>
                          <a:off x="43833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49" name=""/>
                    <p:cNvGrpSpPr/>
                    <p:nvPr/>
                  </p:nvGrpSpPr>
                  <p:grpSpPr>
                    <a:xfrm>
                      <a:off x="4606920" y="5046480"/>
                      <a:ext cx="901080" cy="228960"/>
                      <a:chOff x="4606920" y="5046480"/>
                      <a:chExt cx="901080" cy="228960"/>
                    </a:xfrm>
                  </p:grpSpPr>
                  <p:grpSp>
                    <p:nvGrpSpPr>
                      <p:cNvPr id="1650" name=""/>
                      <p:cNvGrpSpPr/>
                      <p:nvPr/>
                    </p:nvGrpSpPr>
                    <p:grpSpPr>
                      <a:xfrm>
                        <a:off x="4606920" y="5046480"/>
                        <a:ext cx="450000" cy="228960"/>
                        <a:chOff x="4606920" y="5046480"/>
                        <a:chExt cx="450000" cy="228960"/>
                      </a:xfrm>
                    </p:grpSpPr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>
                          <a:off x="4606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>
                          <a:off x="483192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53" name=""/>
                      <p:cNvGrpSpPr/>
                      <p:nvPr/>
                    </p:nvGrpSpPr>
                    <p:grpSpPr>
                      <a:xfrm>
                        <a:off x="5057280" y="5046480"/>
                        <a:ext cx="450720" cy="228960"/>
                        <a:chOff x="5057280" y="5046480"/>
                        <a:chExt cx="450720" cy="228960"/>
                      </a:xfrm>
                    </p:grpSpPr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>
                          <a:off x="50572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>
                          <a:off x="528264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5506200" y="5046480"/>
                    <a:ext cx="1799640" cy="228960"/>
                    <a:chOff x="5506200" y="5046480"/>
                    <a:chExt cx="1799640" cy="228960"/>
                  </a:xfrm>
                </p:grpSpPr>
                <p:grpSp>
                  <p:nvGrpSpPr>
                    <p:cNvPr id="1657" name=""/>
                    <p:cNvGrpSpPr/>
                    <p:nvPr/>
                  </p:nvGrpSpPr>
                  <p:grpSpPr>
                    <a:xfrm>
                      <a:off x="5506200" y="5046480"/>
                      <a:ext cx="900000" cy="228960"/>
                      <a:chOff x="5506200" y="5046480"/>
                      <a:chExt cx="900000" cy="228960"/>
                    </a:xfrm>
                  </p:grpSpPr>
                  <p:grpSp>
                    <p:nvGrpSpPr>
                      <p:cNvPr id="1658" name=""/>
                      <p:cNvGrpSpPr/>
                      <p:nvPr/>
                    </p:nvGrpSpPr>
                    <p:grpSpPr>
                      <a:xfrm>
                        <a:off x="5506200" y="5046480"/>
                        <a:ext cx="449280" cy="228960"/>
                        <a:chOff x="5506200" y="5046480"/>
                        <a:chExt cx="449280" cy="228960"/>
                      </a:xfrm>
                    </p:grpSpPr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>
                          <a:off x="550620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>
                          <a:off x="5730840" y="5046480"/>
                          <a:ext cx="22464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1" name=""/>
                      <p:cNvGrpSpPr/>
                      <p:nvPr/>
                    </p:nvGrpSpPr>
                    <p:grpSpPr>
                      <a:xfrm>
                        <a:off x="5956200" y="5046480"/>
                        <a:ext cx="450000" cy="228960"/>
                        <a:chOff x="5956200" y="5046480"/>
                        <a:chExt cx="450000" cy="228960"/>
                      </a:xfrm>
                    </p:grpSpPr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>
                          <a:off x="5956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618120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4" name=""/>
                    <p:cNvGrpSpPr/>
                    <p:nvPr/>
                  </p:nvGrpSpPr>
                  <p:grpSpPr>
                    <a:xfrm>
                      <a:off x="6404760" y="5046480"/>
                      <a:ext cx="901080" cy="228960"/>
                      <a:chOff x="6404760" y="5046480"/>
                      <a:chExt cx="901080" cy="228960"/>
                    </a:xfrm>
                  </p:grpSpPr>
                  <p:grpSp>
                    <p:nvGrpSpPr>
                      <p:cNvPr id="1665" name=""/>
                      <p:cNvGrpSpPr/>
                      <p:nvPr/>
                    </p:nvGrpSpPr>
                    <p:grpSpPr>
                      <a:xfrm>
                        <a:off x="6404760" y="5046480"/>
                        <a:ext cx="450000" cy="228960"/>
                        <a:chOff x="6404760" y="5046480"/>
                        <a:chExt cx="450000" cy="228960"/>
                      </a:xfrm>
                    </p:grpSpPr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>
                          <a:off x="6404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>
                          <a:off x="6629760" y="5046480"/>
                          <a:ext cx="22500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8" name=""/>
                      <p:cNvGrpSpPr/>
                      <p:nvPr/>
                    </p:nvGrpSpPr>
                    <p:grpSpPr>
                      <a:xfrm>
                        <a:off x="6855120" y="5046480"/>
                        <a:ext cx="450720" cy="228960"/>
                        <a:chOff x="6855120" y="5046480"/>
                        <a:chExt cx="450720" cy="228960"/>
                      </a:xfrm>
                    </p:grpSpPr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>
                          <a:off x="685512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>
                          <a:off x="7080480" y="5046480"/>
                          <a:ext cx="225360" cy="228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708360" y="5507280"/>
                  <a:ext cx="3597480" cy="228240"/>
                  <a:chOff x="3708360" y="5507280"/>
                  <a:chExt cx="3597480" cy="228240"/>
                </a:xfrm>
              </p:grpSpPr>
              <p:grpSp>
                <p:nvGrpSpPr>
                  <p:cNvPr id="1672" name=""/>
                  <p:cNvGrpSpPr/>
                  <p:nvPr/>
                </p:nvGrpSpPr>
                <p:grpSpPr>
                  <a:xfrm>
                    <a:off x="3708360" y="5507280"/>
                    <a:ext cx="1799640" cy="228240"/>
                    <a:chOff x="3708360" y="5507280"/>
                    <a:chExt cx="1799640" cy="228240"/>
                  </a:xfrm>
                </p:grpSpPr>
                <p:grpSp>
                  <p:nvGrpSpPr>
                    <p:cNvPr id="1673" name=""/>
                    <p:cNvGrpSpPr/>
                    <p:nvPr/>
                  </p:nvGrpSpPr>
                  <p:grpSpPr>
                    <a:xfrm>
                      <a:off x="3708360" y="5507280"/>
                      <a:ext cx="900000" cy="228240"/>
                      <a:chOff x="3708360" y="5507280"/>
                      <a:chExt cx="900000" cy="228240"/>
                    </a:xfrm>
                  </p:grpSpPr>
                  <p:grpSp>
                    <p:nvGrpSpPr>
                      <p:cNvPr id="1674" name=""/>
                      <p:cNvGrpSpPr/>
                      <p:nvPr/>
                    </p:nvGrpSpPr>
                    <p:grpSpPr>
                      <a:xfrm>
                        <a:off x="3708360" y="5507280"/>
                        <a:ext cx="449280" cy="228240"/>
                        <a:chOff x="3708360" y="5507280"/>
                        <a:chExt cx="449280" cy="228240"/>
                      </a:xfrm>
                    </p:grpSpPr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370836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>
                          <a:off x="39330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77" name=""/>
                      <p:cNvGrpSpPr/>
                      <p:nvPr/>
                    </p:nvGrpSpPr>
                    <p:grpSpPr>
                      <a:xfrm>
                        <a:off x="4158360" y="5507280"/>
                        <a:ext cx="450000" cy="228240"/>
                        <a:chOff x="4158360" y="5507280"/>
                        <a:chExt cx="450000" cy="228240"/>
                      </a:xfrm>
                    </p:grpSpPr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>
                          <a:off x="4158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>
                          <a:off x="43833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80" name=""/>
                    <p:cNvGrpSpPr/>
                    <p:nvPr/>
                  </p:nvGrpSpPr>
                  <p:grpSpPr>
                    <a:xfrm>
                      <a:off x="4606920" y="5507280"/>
                      <a:ext cx="901080" cy="228240"/>
                      <a:chOff x="4606920" y="5507280"/>
                      <a:chExt cx="901080" cy="228240"/>
                    </a:xfrm>
                  </p:grpSpPr>
                  <p:grpSp>
                    <p:nvGrpSpPr>
                      <p:cNvPr id="1681" name=""/>
                      <p:cNvGrpSpPr/>
                      <p:nvPr/>
                    </p:nvGrpSpPr>
                    <p:grpSpPr>
                      <a:xfrm>
                        <a:off x="4606920" y="5507280"/>
                        <a:ext cx="450000" cy="228240"/>
                        <a:chOff x="4606920" y="5507280"/>
                        <a:chExt cx="450000" cy="228240"/>
                      </a:xfrm>
                    </p:grpSpPr>
                    <p:sp>
                      <p:nvSpPr>
                        <p:cNvPr id="1682" name=""/>
                        <p:cNvSpPr/>
                        <p:nvPr/>
                      </p:nvSpPr>
                      <p:spPr>
                        <a:xfrm>
                          <a:off x="4606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3" name=""/>
                        <p:cNvSpPr/>
                        <p:nvPr/>
                      </p:nvSpPr>
                      <p:spPr>
                        <a:xfrm>
                          <a:off x="483192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84" name=""/>
                      <p:cNvGrpSpPr/>
                      <p:nvPr/>
                    </p:nvGrpSpPr>
                    <p:grpSpPr>
                      <a:xfrm>
                        <a:off x="5057280" y="5507280"/>
                        <a:ext cx="450720" cy="228240"/>
                        <a:chOff x="5057280" y="5507280"/>
                        <a:chExt cx="450720" cy="228240"/>
                      </a:xfrm>
                    </p:grpSpPr>
                    <p:sp>
                      <p:nvSpPr>
                        <p:cNvPr id="1685" name=""/>
                        <p:cNvSpPr/>
                        <p:nvPr/>
                      </p:nvSpPr>
                      <p:spPr>
                        <a:xfrm>
                          <a:off x="50572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6" name=""/>
                        <p:cNvSpPr/>
                        <p:nvPr/>
                      </p:nvSpPr>
                      <p:spPr>
                        <a:xfrm>
                          <a:off x="528264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5506200" y="5507280"/>
                    <a:ext cx="1799640" cy="228240"/>
                    <a:chOff x="5506200" y="5507280"/>
                    <a:chExt cx="1799640" cy="228240"/>
                  </a:xfrm>
                </p:grpSpPr>
                <p:grpSp>
                  <p:nvGrpSpPr>
                    <p:cNvPr id="1688" name=""/>
                    <p:cNvGrpSpPr/>
                    <p:nvPr/>
                  </p:nvGrpSpPr>
                  <p:grpSpPr>
                    <a:xfrm>
                      <a:off x="5506200" y="5507280"/>
                      <a:ext cx="900000" cy="228240"/>
                      <a:chOff x="5506200" y="5507280"/>
                      <a:chExt cx="900000" cy="228240"/>
                    </a:xfrm>
                  </p:grpSpPr>
                  <p:grpSp>
                    <p:nvGrpSpPr>
                      <p:cNvPr id="1689" name=""/>
                      <p:cNvGrpSpPr/>
                      <p:nvPr/>
                    </p:nvGrpSpPr>
                    <p:grpSpPr>
                      <a:xfrm>
                        <a:off x="5506200" y="5507280"/>
                        <a:ext cx="449280" cy="228240"/>
                        <a:chOff x="5506200" y="5507280"/>
                        <a:chExt cx="449280" cy="228240"/>
                      </a:xfrm>
                    </p:grpSpPr>
                    <p:sp>
                      <p:nvSpPr>
                        <p:cNvPr id="1690" name=""/>
                        <p:cNvSpPr/>
                        <p:nvPr/>
                      </p:nvSpPr>
                      <p:spPr>
                        <a:xfrm>
                          <a:off x="550620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1" name=""/>
                        <p:cNvSpPr/>
                        <p:nvPr/>
                      </p:nvSpPr>
                      <p:spPr>
                        <a:xfrm>
                          <a:off x="5730840" y="5507280"/>
                          <a:ext cx="22464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2" name=""/>
                      <p:cNvGrpSpPr/>
                      <p:nvPr/>
                    </p:nvGrpSpPr>
                    <p:grpSpPr>
                      <a:xfrm>
                        <a:off x="5956200" y="5507280"/>
                        <a:ext cx="450000" cy="228240"/>
                        <a:chOff x="5956200" y="5507280"/>
                        <a:chExt cx="450000" cy="228240"/>
                      </a:xfrm>
                    </p:grpSpPr>
                    <p:sp>
                      <p:nvSpPr>
                        <p:cNvPr id="1693" name=""/>
                        <p:cNvSpPr/>
                        <p:nvPr/>
                      </p:nvSpPr>
                      <p:spPr>
                        <a:xfrm>
                          <a:off x="5956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4" name=""/>
                        <p:cNvSpPr/>
                        <p:nvPr/>
                      </p:nvSpPr>
                      <p:spPr>
                        <a:xfrm>
                          <a:off x="618120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6404760" y="5507280"/>
                      <a:ext cx="901080" cy="228240"/>
                      <a:chOff x="6404760" y="5507280"/>
                      <a:chExt cx="901080" cy="228240"/>
                    </a:xfrm>
                  </p:grpSpPr>
                  <p:grpSp>
                    <p:nvGrpSpPr>
                      <p:cNvPr id="1696" name=""/>
                      <p:cNvGrpSpPr/>
                      <p:nvPr/>
                    </p:nvGrpSpPr>
                    <p:grpSpPr>
                      <a:xfrm>
                        <a:off x="6404760" y="5507280"/>
                        <a:ext cx="450000" cy="228240"/>
                        <a:chOff x="6404760" y="5507280"/>
                        <a:chExt cx="450000" cy="228240"/>
                      </a:xfrm>
                    </p:grpSpPr>
                    <p:sp>
                      <p:nvSpPr>
                        <p:cNvPr id="1697" name=""/>
                        <p:cNvSpPr/>
                        <p:nvPr/>
                      </p:nvSpPr>
                      <p:spPr>
                        <a:xfrm>
                          <a:off x="6404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6629760" y="5507280"/>
                          <a:ext cx="22500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99" name=""/>
                      <p:cNvGrpSpPr/>
                      <p:nvPr/>
                    </p:nvGrpSpPr>
                    <p:grpSpPr>
                      <a:xfrm>
                        <a:off x="6855120" y="5507280"/>
                        <a:ext cx="450720" cy="228240"/>
                        <a:chOff x="6855120" y="5507280"/>
                        <a:chExt cx="450720" cy="228240"/>
                      </a:xfrm>
                    </p:grpSpPr>
                    <p:sp>
                      <p:nvSpPr>
                        <p:cNvPr id="1700" name=""/>
                        <p:cNvSpPr/>
                        <p:nvPr/>
                      </p:nvSpPr>
                      <p:spPr>
                        <a:xfrm>
                          <a:off x="685512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1" name=""/>
                        <p:cNvSpPr/>
                        <p:nvPr/>
                      </p:nvSpPr>
                      <p:spPr>
                        <a:xfrm>
                          <a:off x="7080480" y="5507280"/>
                          <a:ext cx="225360" cy="2282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2a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2a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702" name=""/>
            <p:cNvSpPr/>
            <p:nvPr/>
          </p:nvSpPr>
          <p:spPr>
            <a:xfrm>
              <a:off x="3708360" y="3897720"/>
              <a:ext cx="3597840" cy="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5506920" y="2060280"/>
              <a:ext cx="0" cy="3675240"/>
            </a:xfrm>
            <a:prstGeom prst="line">
              <a:avLst/>
            </a:prstGeom>
            <a:ln w="3816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3708000" y="1989000"/>
            <a:ext cx="3619800" cy="3744720"/>
            <a:chOff x="3708000" y="1989000"/>
            <a:chExt cx="3619800" cy="3744720"/>
          </a:xfrm>
        </p:grpSpPr>
        <p:sp>
          <p:nvSpPr>
            <p:cNvPr id="1705" name=""/>
            <p:cNvSpPr/>
            <p:nvPr/>
          </p:nvSpPr>
          <p:spPr>
            <a:xfrm>
              <a:off x="5724360" y="386208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21080" y="38620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708000" y="3428640"/>
              <a:ext cx="3600360" cy="936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508720" y="2062080"/>
              <a:ext cx="64764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4932000" y="3862080"/>
              <a:ext cx="576360" cy="18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08360" y="2062080"/>
              <a:ext cx="3600360" cy="3671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4860360" y="2061720"/>
              <a:ext cx="1295640" cy="367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020000" y="3933720"/>
              <a:ext cx="3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08720" y="198900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221080" y="328608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так, схематически можно изобразить график прямой пропорциональности в зависимости от знака коэффициента 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684360" y="1773360"/>
            <a:ext cx="2808000" cy="2518920"/>
            <a:chOff x="684360" y="1773360"/>
            <a:chExt cx="2808000" cy="2518920"/>
          </a:xfrm>
        </p:grpSpPr>
        <p:grpSp>
          <p:nvGrpSpPr>
            <p:cNvPr id="1717" name=""/>
            <p:cNvGrpSpPr/>
            <p:nvPr/>
          </p:nvGrpSpPr>
          <p:grpSpPr>
            <a:xfrm>
              <a:off x="684360" y="1773360"/>
              <a:ext cx="2808000" cy="2518920"/>
              <a:chOff x="684360" y="1773360"/>
              <a:chExt cx="2808000" cy="251892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1979640" y="1915920"/>
                <a:ext cx="0" cy="237636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84360" y="2997360"/>
                <a:ext cx="2663640" cy="0"/>
              </a:xfrm>
              <a:prstGeom prst="line">
                <a:avLst/>
              </a:prstGeom>
              <a:ln w="28440">
                <a:solidFill>
                  <a:srgbClr val="002a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1258920" y="1989000"/>
                <a:ext cx="1368360" cy="2160720"/>
              </a:xfrm>
              <a:prstGeom prst="line">
                <a:avLst/>
              </a:prstGeom>
              <a:ln w="19080">
                <a:solidFill>
                  <a:srgbClr val="00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132000" y="306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a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619280" y="1773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84360" y="1989000"/>
                <a:ext cx="863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Arial"/>
                  </a:rPr>
                  <a:t>y=kx, k&gt;0</a:t>
                </a:r>
                <a:endParaRPr b="0" lang="en-US" sz="2000" spc="-1" strike="noStrike">
                  <a:solidFill>
                    <a:srgbClr val="002a00"/>
                  </a:solidFill>
                  <a:latin typeface="Arial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1979640" y="2997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5148360" y="1844640"/>
            <a:ext cx="2808360" cy="2518920"/>
            <a:chOff x="5148360" y="1844640"/>
            <a:chExt cx="2808360" cy="2518920"/>
          </a:xfrm>
        </p:grpSpPr>
        <p:sp>
          <p:nvSpPr>
            <p:cNvPr id="1726" name=""/>
            <p:cNvSpPr/>
            <p:nvPr/>
          </p:nvSpPr>
          <p:spPr>
            <a:xfrm flipV="1">
              <a:off x="6443640" y="1987200"/>
              <a:ext cx="0" cy="237636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148360" y="3068640"/>
              <a:ext cx="2663640" cy="0"/>
            </a:xfrm>
            <a:prstGeom prst="line">
              <a:avLst/>
            </a:prstGeom>
            <a:ln w="28440">
              <a:solidFill>
                <a:srgbClr val="002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flipV="1">
              <a:off x="5724000" y="1987560"/>
              <a:ext cx="1513080" cy="2304720"/>
            </a:xfrm>
            <a:prstGeom prst="line">
              <a:avLst/>
            </a:prstGeom>
            <a:ln w="1908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96360" y="3139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a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83280" y="18446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148360" y="2131920"/>
              <a:ext cx="86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y=kx, k&lt;0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085800" y="29955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a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124000" y="1916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195640" y="181296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411280" y="191628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11600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11600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195640" y="33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826920" y="1773360"/>
            <a:ext cx="777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се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 урока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Знакомство с прямой пропорциональностью и коэффициентом прямой пропорциональности;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Построение графика прямой пропорциональности.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равьте ошибки, допущенные в написании математических терминов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4546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КО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БЦИС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АРДИНАТА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ПРАПОРЦЫАНАЛЬ</a:t>
            </a:r>
            <a:r>
              <a:rPr b="1" lang="en-US" sz="2800" spc="-1" strike="noStrike">
                <a:solidFill>
                  <a:srgbClr val="002a00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002a00"/>
                </a:solidFill>
                <a:latin typeface="Verdana"/>
              </a:rPr>
              <a:t>НОСТЬ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52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ЛЕНЕЙН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ПРЕМАЯ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  <a:p>
            <a:pPr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a00"/>
                </a:solidFill>
                <a:latin typeface="Arial"/>
              </a:rPr>
              <a:t>КОЭФИЦЕНТ</a:t>
            </a:r>
            <a:endParaRPr b="0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69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ли функция, заданная формулой линейной? Если да, то укажите</a:t>
            </a:r>
            <a:r>
              <a:rPr b="1" lang="ru-RU" sz="2400" spc="-1" strike="noStrike">
                <a:solidFill>
                  <a:srgbClr val="d7f6f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эффициент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8880" y="1628640"/>
          <a:ext cx="30193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628640"/>
                    <a:ext cx="3019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7240" y="3014640"/>
          <a:ext cx="31593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014640"/>
                    <a:ext cx="31593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148360" y="3025800"/>
          <a:ext cx="201600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025800"/>
                    <a:ext cx="2016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1440" y="7639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2a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72280" y="4869000"/>
          <a:ext cx="17128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2280" y="4869000"/>
                    <a:ext cx="1712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13240" y="1197000"/>
          <a:ext cx="1754280" cy="14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3240" y="1197000"/>
                    <a:ext cx="17542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4437000"/>
          <a:ext cx="1657080" cy="16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4437000"/>
                    <a:ext cx="16570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Дана функция:</a:t>
            </a:r>
            <a:r>
              <a:rPr b="1" lang="ru-RU" sz="3600" spc="-1" strike="noStrike">
                <a:solidFill>
                  <a:srgbClr val="002a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y =–18x.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Принадлежат ли графику этой функции точки: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A(2; –36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B(–1; –18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C(0; 0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D(–</a:t>
            </a:r>
            <a:r>
              <a:rPr b="1" lang="en-US" sz="3600" spc="-1" strike="noStrike">
                <a:solidFill>
                  <a:srgbClr val="a76e23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a76e23"/>
                </a:solidFill>
                <a:latin typeface="Verdana"/>
              </a:rPr>
              <a:t>; 9)</a:t>
            </a:r>
            <a:endParaRPr b="1" lang="en-US" sz="36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Какой формулой записывается линейная функция?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 + </a:t>
            </a:r>
            <a:r>
              <a:rPr b="1" lang="en-US" sz="3200" spc="-1" strike="noStrike">
                <a:solidFill>
                  <a:srgbClr val="a76e23"/>
                </a:solidFill>
                <a:latin typeface="Verdana"/>
              </a:rPr>
              <a:t>b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Если </a:t>
            </a:r>
            <a:r>
              <a:rPr b="1" lang="en-US" sz="3200" spc="-1" strike="noStrike">
                <a:solidFill>
                  <a:srgbClr val="007600"/>
                </a:solidFill>
                <a:latin typeface="Verdana"/>
              </a:rPr>
              <a:t>b </a:t>
            </a: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= 0, то какой вид примет линейная функция?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y = k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76e23"/>
                </a:solidFill>
                <a:uFillTx/>
                <a:latin typeface="Verdana"/>
              </a:rPr>
              <a:t>Прямой пропорциональностью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называется функция вид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y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, где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x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зависимая переменная, а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k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неравное нулю число. 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Verdana"/>
              </a:rPr>
              <a:t>Примеры: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2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-0,5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Verdana"/>
              </a:rPr>
              <a:t>y=1/3x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меры прямой пропорциональности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1) 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t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у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60 км/ч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2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S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4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b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(площадь прямоугольника со стороной 40 см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3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m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9,3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масса бруска золота с плотностью 19,3 г/см</a:t>
            </a:r>
            <a:r>
              <a:rPr b="1" lang="ru-RU" sz="2800" spc="-1" strike="noStrike" baseline="30000">
                <a:solidFill>
                  <a:srgbClr val="a76e23"/>
                </a:solidFill>
                <a:latin typeface="Verdana"/>
              </a:rPr>
              <a:t>3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4)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C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=10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(С – стоимость, 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n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 – количество</a:t>
            </a:r>
            <a:r>
              <a:rPr b="1" lang="en-US" sz="2800" spc="-1" strike="noStrike">
                <a:solidFill>
                  <a:srgbClr val="a76e23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a76e23"/>
                </a:solidFill>
                <a:latin typeface="Verdana"/>
              </a:rPr>
              <a:t>товара по цене 10 рублей)</a:t>
            </a:r>
            <a:endParaRPr b="1" lang="en-US" sz="2800" spc="-1" strike="noStrike">
              <a:solidFill>
                <a:srgbClr val="002a00"/>
              </a:solidFill>
              <a:latin typeface="Verdana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афик функ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05000"/>
            <a:ext cx="8147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76e23"/>
                </a:solidFill>
                <a:latin typeface="Verdana"/>
              </a:rPr>
              <a:t>В прямоугольной системе координат выполните построение графиков функций: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y=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y=4x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Verdana"/>
              </a:rPr>
              <a:t>y=–3x</a:t>
            </a:r>
            <a:r>
              <a:rPr b="1" lang="ru-RU" sz="3200" spc="-1" strike="noStrike">
                <a:solidFill>
                  <a:srgbClr val="002a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2a00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4941720"/>
            <a:ext cx="2519280" cy="574920"/>
            <a:chOff x="468360" y="4941720"/>
            <a:chExt cx="2519280" cy="574920"/>
          </a:xfrm>
        </p:grpSpPr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468360" y="4941720"/>
              <a:ext cx="2519280" cy="57492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920"/>
                <a:gd name="textAreaBottom" fmla="*/ 537840 h 574920"/>
              </a:gdLst>
              <a:ahLst/>
              <a:rect l="textAreaLeft" t="textAreaTop" r="textAreaRight" b="textAreaBottom"/>
              <a:pathLst>
                <a:path w="94605" h="21600">
                  <a:moveTo>
                    <a:pt x="0" y="0"/>
                  </a:moveTo>
                  <a:lnTo>
                    <a:pt x="94605" y="0"/>
                  </a:lnTo>
                  <a:lnTo>
                    <a:pt x="94605" y="21600"/>
                  </a:lnTo>
                  <a:lnTo>
                    <a:pt x="0" y="21600"/>
                  </a:lnTo>
                  <a:close/>
                </a:path>
                <a:path fill="lightenLess" w="94605" h="21600">
                  <a:moveTo>
                    <a:pt x="0" y="0"/>
                  </a:moveTo>
                  <a:lnTo>
                    <a:pt x="94605" y="0"/>
                  </a:lnTo>
                  <a:lnTo>
                    <a:pt x="93205" y="1400"/>
                  </a:lnTo>
                  <a:lnTo>
                    <a:pt x="1400" y="1400"/>
                  </a:lnTo>
                  <a:close/>
                </a:path>
                <a:path fill="darken" w="94605" h="21600">
                  <a:moveTo>
                    <a:pt x="94605" y="0"/>
                  </a:moveTo>
                  <a:lnTo>
                    <a:pt x="94605" y="21600"/>
                  </a:lnTo>
                  <a:lnTo>
                    <a:pt x="93205" y="20200"/>
                  </a:lnTo>
                  <a:lnTo>
                    <a:pt x="93205" y="1400"/>
                  </a:lnTo>
                  <a:close/>
                </a:path>
                <a:path fill="darkenLess" w="94605" h="21600">
                  <a:moveTo>
                    <a:pt x="9460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05" y="20200"/>
                  </a:lnTo>
                  <a:close/>
                </a:path>
                <a:path fill="lighten" w="9460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640" y="494172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35640" y="4869000"/>
            <a:ext cx="2519280" cy="574560"/>
            <a:chOff x="5435640" y="4869000"/>
            <a:chExt cx="2519280" cy="574560"/>
          </a:xfrm>
        </p:grpSpPr>
        <p:sp>
          <p:nvSpPr>
            <p:cNvPr id="141" name="">
              <a:hlinkClick r:id="rId1" action="ppaction://hlinksldjump"/>
            </p:cNvPr>
            <p:cNvSpPr/>
            <p:nvPr/>
          </p:nvSpPr>
          <p:spPr>
            <a:xfrm>
              <a:off x="5435640" y="4869000"/>
              <a:ext cx="2519280" cy="574560"/>
            </a:xfrm>
            <a:custGeom>
              <a:avLst/>
              <a:gdLst>
                <a:gd name="textAreaLeft" fmla="*/ 37080 w 2519280"/>
                <a:gd name="textAreaRight" fmla="*/ 2482200 w 251928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94664" h="21600">
                  <a:moveTo>
                    <a:pt x="0" y="0"/>
                  </a:moveTo>
                  <a:lnTo>
                    <a:pt x="94664" y="0"/>
                  </a:lnTo>
                  <a:lnTo>
                    <a:pt x="94664" y="21600"/>
                  </a:lnTo>
                  <a:lnTo>
                    <a:pt x="0" y="21600"/>
                  </a:lnTo>
                  <a:close/>
                </a:path>
                <a:path fill="lightenLess" w="94664" h="21600">
                  <a:moveTo>
                    <a:pt x="0" y="0"/>
                  </a:moveTo>
                  <a:lnTo>
                    <a:pt x="94664" y="0"/>
                  </a:lnTo>
                  <a:lnTo>
                    <a:pt x="93264" y="1400"/>
                  </a:lnTo>
                  <a:lnTo>
                    <a:pt x="1400" y="1400"/>
                  </a:lnTo>
                  <a:close/>
                </a:path>
                <a:path fill="darken" w="94664" h="21600">
                  <a:moveTo>
                    <a:pt x="94664" y="0"/>
                  </a:moveTo>
                  <a:lnTo>
                    <a:pt x="94664" y="21600"/>
                  </a:lnTo>
                  <a:lnTo>
                    <a:pt x="93264" y="20200"/>
                  </a:lnTo>
                  <a:lnTo>
                    <a:pt x="93264" y="1400"/>
                  </a:lnTo>
                  <a:close/>
                </a:path>
                <a:path fill="darkenLess" w="94664" h="21600">
                  <a:moveTo>
                    <a:pt x="946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264" y="20200"/>
                  </a:lnTo>
                  <a:close/>
                </a:path>
                <a:path fill="lighten" w="946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2a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06920" y="48690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вет</a:t>
              </a:r>
              <a:endParaRPr b="0" lang="en-US" sz="2800" spc="-1" strike="noStrike">
                <a:solidFill>
                  <a:srgbClr val="002a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6:57:34Z</dcterms:created>
  <dc:creator>serg</dc:creator>
  <dc:description/>
  <dc:language>en-US</dc:language>
  <cp:lastModifiedBy>Е</cp:lastModifiedBy>
  <dcterms:modified xsi:type="dcterms:W3CDTF">2009-12-03T16:49:14Z</dcterms:modified>
  <cp:revision>26</cp:revision>
  <dc:subject/>
  <dc:title>«Прямая пропорциональность»</dc:title>
</cp:coreProperties>
</file>