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5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9F6-0606-407B-B950-8FF7BB49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323-A148-457E-9391-EAB1351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012-7E5B-4BB7-A78D-C46469B6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BA5-1272-4E31-921F-2D11B29A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EEED-D179-4F8F-98C1-83FFE712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6486-CB11-4C65-8CB7-C09CC5EE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8F1-DE52-441D-8BD3-B692ED58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ADC8-D73A-473A-97DF-C50EFFB2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89F-1D7D-477B-94B5-36E4262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DD02-38BE-4DBB-9A24-48713F6B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F531-F27A-4892-AEB5-E7F54D7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740-E016-4AA3-BFA3-EB3CD704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8C4F-2ED5-4CD6-9148-BC8B00C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53CC-BD43-447A-A4C5-E6ECB2F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851-3D94-47D7-B4CA-FD92B292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4E4-2FEF-4B14-8C85-90C7F421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A6C0-0ECD-431D-9323-D2743AF7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835-7D40-4EE7-9408-C7F35857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CD9-B8E3-4250-8EEE-5463890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FD2-C8A4-45F4-B54E-719E44D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B9F-1589-42FB-90B5-26BA1EE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4E9-C785-4AB7-8B26-EC5FDF9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3FA-23DC-40A9-8FDC-5A23696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775-D06E-4255-AD14-FC21F47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46D-4736-424E-B9C9-1F3CD007A6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70DA-63AE-4F5E-8447-94BDBFE545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rudocs.exdat.com/pars_docs/tw_refs/297/296279/296279_html_m96f180d.png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proza.ru/pics/2009/04/11/413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img_url=900igr.net%2Fdatas%2Fskazki-i-igry%2FNajdi-kartinku-2.files%2F0010-010-Tri-porosjonka.jpg&amp;iorient=&amp;icolor=&amp;site=&amp;text=&#1090;&#1088;&#1080;%20&#1087;&#1086;&#1088;&#1086;&#1089;&#1077;&#1085;&#1082;&#1072;%20&#1082;&#1072;&#1088;&#1090;&#1080;&#1085;&#1082;&#1080;&amp;wp=&amp;pos=1&amp;isize=&amp;type=&amp;recent=&amp;rpt=simage&amp;itype=&amp;nojs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img_url=s1.afisha.ru%2FAfisha7Files%2FUGPhotos%2F090209150404%2F090603221018%2Fp_f.jpg&amp;iorient=&amp;icolor=&amp;site=&amp;text=&#1076;&#1103;&#1076;&#1103;%20&#1089;&#1090;&#1077;&#1087;&#1072;%20&#1082;&#1072;&#1088;&#1090;&#1080;&#1085;&#1082;&#1080;&amp;wp=&amp;pos=0&amp;isize=&amp;type=&amp;recent=&amp;rpt=simage&amp;itype=&amp;nojs=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cs10244.vkontakte.ru%2Fu228270%2F-6%2Fx_76717c61.jpg&amp;iorient=&amp;icolor=&amp;site=&amp;text=&#1084;&#1072;&#1090;&#1088;&#1086;&#1089;&#1082;&#1080;&#1085;%20&#1080;&#1079;%20&#1087;&#1088;&#1086;&#1089;&#1090;&#1086;&#1082;&#1074;&#1072;&#1096;&#1080;&#1085;&#1086;%20&#1082;&#1072;&#1088;&#1090;&#1080;&#1085;&#1082;&#1080;&amp;wp=&amp;pos=0&amp;isize=&amp;type=&amp;recent=&amp;rpt=simage&amp;itype=&amp;noj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s47.radikal.ru/i117/1107/ca/af67ac8d6d40t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img_url=s3.afisha.net%2FAfisha7Files%2FUGPhotos%2F081216190036%2F081217181607%2Fp_f.jpg&amp;iorient=&amp;icolor=&amp;site=&amp;text=&#1073;&#1088;&#1077;&#1084;&#1077;&#1085;&#1089;&#1082;&#1080;&#1077;%20&#1084;&#1091;&#1079;&#1099;&#1082;&#1072;&#1085;&#1090;&#1099;%20&#1082;&#1072;&#1088;&#1090;&#1080;&#1085;&#1082;&#1080;%20&#1076;&#1083;&#1103;%20&#1076;&#1077;&#1090;&#1077;&#1081;&amp;wp=&amp;pos=6&amp;isize=&amp;type=&amp;recent=&amp;rpt=simage&amp;itype=&amp;noj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img_url=allfest.ru%2Fsites%2Fdefault%2Ffiles%2Fnewsimg%2Fparovozik_romashkovo.jpg&amp;iorient=&amp;icolor=&amp;site=&amp;text=&#1087;&#1072;&#1088;&#1086;&#1074;&#1086;&#1079;&#1080;&#1082;%20&#1080;&#1079;%20&#1088;&#1086;&#1084;&#1072;&#1096;&#1082;&#1086;&#1074;&#1086;%20%20&#1082;&#1072;&#1088;&#1090;&#1080;&#1085;&#1082;&#1080;%20&#1076;&#1083;&#1103;%20&#1076;&#1077;&#1090;&#1077;&#1081;&amp;wp=&amp;pos=4&amp;isize=&amp;type=&amp;recent=&amp;rpt=simage&amp;itype=&amp;nojs=1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0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частливый случай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Профессии бывают разны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ОУ 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Артем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повар"/>
          <p:cNvPicPr/>
          <p:nvPr/>
        </p:nvPicPr>
        <p:blipFill>
          <a:blip r:embed="rId1"/>
          <a:stretch/>
        </p:blipFill>
        <p:spPr>
          <a:xfrm>
            <a:off x="609480" y="441972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на корабле"/>
          <p:cNvPicPr/>
          <p:nvPr/>
        </p:nvPicPr>
        <p:blipFill>
          <a:blip r:embed="rId2"/>
          <a:stretch/>
        </p:blipFill>
        <p:spPr>
          <a:xfrm>
            <a:off x="304920" y="228600"/>
            <a:ext cx="10573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поливать цветы"/>
          <p:cNvPicPr/>
          <p:nvPr/>
        </p:nvPicPr>
        <p:blipFill>
          <a:blip r:embed="rId3"/>
          <a:stretch/>
        </p:blipFill>
        <p:spPr>
          <a:xfrm>
            <a:off x="1828800" y="4572000"/>
            <a:ext cx="1076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чий, занимающийся окраской зданий, помещ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МАЛЯР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1057320" cy="13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стер, занимающийся ручной ковк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КУЗНЕЦ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12193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Специалист по науке, изучающий историю монет, слитков и медалей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Нумизмат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Коллекцион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 средневековых университетах преподаватель получающий право читать лекции до защиты докторской диссертац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) Школя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) Лиценциа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915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9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оспитатель для детей, приглашаемый в семью, часто иностране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ГУВЕРНЕ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ава муниципалитета в Лондоне и некоторых крупных городах Великобрит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Жандарм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Лорд-мэ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162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курс пантоми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образить без слов представителей определенных профессий. Задача второй команды – угадать, кого изображает другая коман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 команда          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анимашки"/>
          <p:cNvPicPr/>
          <p:nvPr/>
        </p:nvPicPr>
        <p:blipFill>
          <a:blip r:embed="rId2"/>
          <a:stretch/>
        </p:blipFill>
        <p:spPr>
          <a:xfrm>
            <a:off x="304920" y="1066680"/>
            <a:ext cx="99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ФЕСС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икмахе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ульп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ент -шпи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ло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гра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2388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001000" y="1981080"/>
            <a:ext cx="8668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урс рек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профессию и показать рекламный ролик (3 мин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люди и профессии"/>
          <p:cNvPicPr/>
          <p:nvPr/>
        </p:nvPicPr>
        <p:blipFill>
          <a:blip r:embed="rId1"/>
          <a:stretch/>
        </p:blipFill>
        <p:spPr>
          <a:xfrm>
            <a:off x="533520" y="4648320"/>
            <a:ext cx="1523880" cy="132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анимашки"/>
          <p:cNvPicPr/>
          <p:nvPr/>
        </p:nvPicPr>
        <p:blipFill>
          <a:blip r:embed="rId2"/>
          <a:stretch/>
        </p:blipFill>
        <p:spPr>
          <a:xfrm>
            <a:off x="6934320" y="304920"/>
            <a:ext cx="1676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1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рофессия Печкина из мультфильма «Простоквашин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Человек, занимающийся цветоводст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Профессия Айбол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Профессия, которой хотел овладеть Незнайка, написав строки «Торопыжка был голодный, проглотил утюг холодный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Самый известный мультипликационный милицион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Профессия Буратино, Мальвины, Артем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Представитель какой профессии чаще всего использует пословицу «Семь раз отмерь, один раз отреж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В одной известной сказке три поросенка пытались овладеть навыками этой профессии. Ка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Доктор для 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Повар на кораб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Анимашки Люди"/>
          <p:cNvPicPr/>
          <p:nvPr/>
        </p:nvPicPr>
        <p:blipFill>
          <a:blip r:embed="rId1"/>
          <a:stretch/>
        </p:blipFill>
        <p:spPr>
          <a:xfrm>
            <a:off x="152280" y="22860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исок используемых ресур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 images.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fantasyflash.ru/an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914400" y="3733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ww.slovari. 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2416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75284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274320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743200"/>
            <a:ext cx="4267080" cy="34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6094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572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2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Кто видит землю в иллюминатор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Кому приходиться нелегко на службе у корабля, ведь приходиться так рано встава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вязующее «звено» между покупателем и магаз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«Мы едем, едем, едем в далекие края …» Представитель какой профессии чаще всего поет эту песн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Профессия дяди Степы на новый л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Где работал, по словам Матроскина, его дяд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Кому Антошка мог спеть свою песню «Это мы не проходили, это нам не задавали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Осел, петух, кот, собака и Трубадур из Бремена. Кто о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Представитель какой профессии с компьютером на «ты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«Опять от меня сбежала последняя электричка…» Кто был во главе побег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9625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04920"/>
            <a:ext cx="28101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251460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523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990720" y="434340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581280" y="3809880"/>
            <a:ext cx="3048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рестики-нол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143000"/>
          <a:ext cx="7924680" cy="50767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6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) Дежурный сторож на предприятии, в учрежде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Х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ся в прошлом торговец, преимущественно съестными припасами и напитками, сопровождающий армию в пох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повар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ровиан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23840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табист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) сторож при штаб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) секретарь штаб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) штабной офиц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66294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12:53Z</dcterms:created>
  <dc:creator>1</dc:creator>
  <dc:description/>
  <dc:language>en-US</dc:language>
  <cp:lastModifiedBy>1</cp:lastModifiedBy>
  <dcterms:modified xsi:type="dcterms:W3CDTF">2012-10-19T15:1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