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2.gif" ContentType="image/gif"/>
  <Override PartName="/ppt/media/image6.jpeg" ContentType="image/jpeg"/>
  <Override PartName="/ppt/media/image21.gif" ContentType="image/gif"/>
  <Override PartName="/ppt/media/image19.gif" ContentType="image/gif"/>
  <Override PartName="/ppt/media/image1.gif" ContentType="image/gif"/>
  <Override PartName="/ppt/media/image17.gif" ContentType="image/gif"/>
  <Override PartName="/ppt/media/image16.gif" ContentType="image/gif"/>
  <Override PartName="/ppt/media/image14.jpeg" ContentType="image/jpeg"/>
  <Override PartName="/ppt/media/image15.jpeg" ContentType="image/jpeg"/>
  <Override PartName="/ppt/media/image12.jpeg" ContentType="image/jpeg"/>
  <Override PartName="/ppt/media/image3.gif" ContentType="image/gif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FD6E-2DB5-426C-A152-1F97393D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EEA2-B859-44B2-BFED-3ABC139A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33E-67BB-4FE6-86B2-F3088781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73B-0EAF-40EA-B8E9-94A57685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2756-DDA4-447E-A31A-199FF763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2411-22A7-4123-8272-31909284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9285-6BD4-4369-9B32-E98375B7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F5A9-AE0D-41F9-B4DE-1B8D299D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87AF-F46D-40D4-919D-1BB74FE9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5948-51EC-4FAC-9CD9-E63A5CC3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2779-3B97-4177-8EB3-A74C1E95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BE7-9751-43CC-8F9B-2242497B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F05F-3C37-4CD2-9031-0509B13C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4991-B7B1-47A8-86F2-519F7E05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D44C-5008-41D2-9DEF-37953AE1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720A-D11B-4891-96CB-D9AAE00B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F4CE-8560-447E-92B7-AA1CC8D5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5BF-0967-4F3C-B578-76C12EE7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A2A-56D0-4B83-B524-4C233CF5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F9CD-14C3-4F72-9464-A17132BD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503-793F-4BDC-8B71-A1E1653A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D31E-100D-4D77-8123-6FC629EF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04A6-1C29-4302-9EC3-22FA5A9C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F6A0-1200-4B7E-BAFB-2FA3326F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FFC9-ACA4-4FEC-8114-4B91D9840B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F293-4D6E-4804-9DD1-35FA035AD4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rudocs.exdat.com/pars_docs/tw_refs/297/296279/296279_html_m96f180d.png" TargetMode="External"/><Relationship Id="rId4" Type="http://schemas.openxmlformats.org/officeDocument/2006/relationships/image" Target="../media/image7.png"/><Relationship Id="rId5" Type="http://schemas.openxmlformats.org/officeDocument/2006/relationships/hyperlink" Target="http://www.proza.ru/pics/2009/04/11/413.jp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yandex.ru/yandsearch?img_url=900igr.net%2Fdatas%2Fskazki-i-igry%2FNajdi-kartinku-2.files%2F0010-010-Tri-porosjonka.jpg&amp;iorient=&amp;icolor=&amp;site=&amp;text=&#1090;&#1088;&#1080;%20&#1087;&#1086;&#1088;&#1086;&#1089;&#1077;&#1085;&#1082;&#1072;%20&#1082;&#1072;&#1088;&#1090;&#1080;&#1085;&#1082;&#1080;&amp;wp=&amp;pos=1&amp;isize=&amp;type=&amp;recent=&amp;rpt=simage&amp;itype=&amp;nojs=1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yandex.ru/yandsearch?img_url=s1.afisha.ru%2FAfisha7Files%2FUGPhotos%2F090209150404%2F090603221018%2Fp_f.jpg&amp;iorient=&amp;icolor=&amp;site=&amp;text=&#1076;&#1103;&#1076;&#1103;%20&#1089;&#1090;&#1077;&#1087;&#1072;%20&#1082;&#1072;&#1088;&#1090;&#1080;&#1085;&#1082;&#1080;&amp;wp=&amp;pos=0&amp;isize=&amp;type=&amp;recent=&amp;rpt=simage&amp;itype=&amp;nojs=1" TargetMode="External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cs10244.vkontakte.ru%2Fu228270%2F-6%2Fx_76717c61.jpg&amp;iorient=&amp;icolor=&amp;site=&amp;text=&#1084;&#1072;&#1090;&#1088;&#1086;&#1089;&#1082;&#1080;&#1085;%20&#1080;&#1079;%20&#1087;&#1088;&#1086;&#1089;&#1090;&#1086;&#1082;&#1074;&#1072;&#1096;&#1080;&#1085;&#1086;%20&#1082;&#1072;&#1088;&#1090;&#1080;&#1085;&#1082;&#1080;&amp;wp=&amp;pos=0&amp;isize=&amp;type=&amp;recent=&amp;rpt=simage&amp;itype=&amp;nojs=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s47.radikal.ru/i117/1107/ca/af67ac8d6d40t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img_url=s3.afisha.net%2FAfisha7Files%2FUGPhotos%2F081216190036%2F081217181607%2Fp_f.jpg&amp;iorient=&amp;icolor=&amp;site=&amp;text=&#1073;&#1088;&#1077;&#1084;&#1077;&#1085;&#1089;&#1082;&#1080;&#1077;%20&#1084;&#1091;&#1079;&#1099;&#1082;&#1072;&#1085;&#1090;&#1099;%20&#1082;&#1072;&#1088;&#1090;&#1080;&#1085;&#1082;&#1080;%20&#1076;&#1083;&#1103;%20&#1076;&#1077;&#1090;&#1077;&#1081;&amp;wp=&amp;pos=6&amp;isize=&amp;type=&amp;recent=&amp;rpt=simage&amp;itype=&amp;nojs=1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img_url=allfest.ru%2Fsites%2Fdefault%2Ffiles%2Fnewsimg%2Fparovozik_romashkovo.jpg&amp;iorient=&amp;icolor=&amp;site=&amp;text=&#1087;&#1072;&#1088;&#1086;&#1074;&#1086;&#1079;&#1080;&#1082;%20&#1080;&#1079;%20&#1088;&#1086;&#1084;&#1072;&#1096;&#1082;&#1086;&#1074;&#1086;%20%20&#1082;&#1072;&#1088;&#1090;&#1080;&#1085;&#1082;&#1080;%20&#1076;&#1083;&#1103;%20&#1076;&#1077;&#1090;&#1077;&#1081;&amp;wp=&amp;pos=4&amp;isize=&amp;type=&amp;recent=&amp;rpt=simage&amp;itype=&amp;nojs=1" TargetMode="External"/><Relationship Id="rId8" Type="http://schemas.openxmlformats.org/officeDocument/2006/relationships/image" Target="../media/image14.jpeg"/><Relationship Id="rId9" Type="http://schemas.openxmlformats.org/officeDocument/2006/relationships/image" Target="../media/image10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частливый случай по тем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«Профессии бывают разные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41907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а Л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КОУ СОШ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. Артем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повар"/>
          <p:cNvPicPr/>
          <p:nvPr/>
        </p:nvPicPr>
        <p:blipFill>
          <a:blip r:embed="rId1"/>
          <a:stretch/>
        </p:blipFill>
        <p:spPr>
          <a:xfrm>
            <a:off x="609480" y="4419720"/>
            <a:ext cx="91440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на корабле"/>
          <p:cNvPicPr/>
          <p:nvPr/>
        </p:nvPicPr>
        <p:blipFill>
          <a:blip r:embed="rId2"/>
          <a:stretch/>
        </p:blipFill>
        <p:spPr>
          <a:xfrm>
            <a:off x="304920" y="228600"/>
            <a:ext cx="1057320" cy="990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поливать цветы"/>
          <p:cNvPicPr/>
          <p:nvPr/>
        </p:nvPicPr>
        <p:blipFill>
          <a:blip r:embed="rId3"/>
          <a:stretch/>
        </p:blipFill>
        <p:spPr>
          <a:xfrm>
            <a:off x="1828800" y="4572000"/>
            <a:ext cx="1076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абочий, занимающийся окраской зданий, помещени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МАЛЯР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6212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696080" y="1447920"/>
            <a:ext cx="1057320" cy="138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астер, занимающийся ручной ковко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КУЗНЕЦ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1219320" y="4800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Специалист по науке, изучающий историю монет, слитков и медалей.</a:t>
            </a:r>
            <a:br>
              <a:rPr sz="4700"/>
            </a:b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А) Нумизмат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) Коллекционе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72388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3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 средневековых университетах преподаватель получающий право читать лекции до защиты докторской диссертации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) Школяр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) Маркитант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) Лиценциа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73915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9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оспитатель для детей, приглашаемый в семью, часто иностранец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ГУВЕРНЕР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72388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142884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лава муниципалитета в Лондоне и некоторых крупных городах Великобритан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А) Жандарм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) Лорд-мэ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71629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93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Конкурс пантоми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образить без слов представителей определенных профессий. Задача второй команды – угадать, кого изображает другая коман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1 команда          2 коман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анимашки"/>
          <p:cNvPicPr/>
          <p:nvPr/>
        </p:nvPicPr>
        <p:blipFill>
          <a:blip r:embed="rId2"/>
          <a:stretch/>
        </p:blipFill>
        <p:spPr>
          <a:xfrm>
            <a:off x="304920" y="1066680"/>
            <a:ext cx="990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ПРОФЕССИ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команд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рикмахер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ульптор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гент -шпио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команд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лот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ктор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тограф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7238880" y="5334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001000" y="1981080"/>
            <a:ext cx="8668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нкурс рекл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рать профессию и показать рекламный ролик (3 мину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люди и профессии"/>
          <p:cNvPicPr/>
          <p:nvPr/>
        </p:nvPicPr>
        <p:blipFill>
          <a:blip r:embed="rId1"/>
          <a:stretch/>
        </p:blipFill>
        <p:spPr>
          <a:xfrm>
            <a:off x="533520" y="4648320"/>
            <a:ext cx="1523880" cy="1323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анимашки"/>
          <p:cNvPicPr/>
          <p:nvPr/>
        </p:nvPicPr>
        <p:blipFill>
          <a:blip r:embed="rId2"/>
          <a:stretch/>
        </p:blipFill>
        <p:spPr>
          <a:xfrm>
            <a:off x="6934320" y="304920"/>
            <a:ext cx="16761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АСИБО ЗА УЧАСТ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опросы для 1 команд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Профессия Печкина из мультфильма «Простоквашин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Человек, занимающийся цветоводств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Профессия Айболи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 Профессия, которой хотел овладеть Незнайка, написав строки «Торопыжка был голодный, проглотил утюг холодный…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) Самый известный мультипликационный милицион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) Профессия Буратино, Мальвины, Артемо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) Представитель какой профессии чаще всего использует пословицу «Семь раз отмерь, один раз отрежь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) В одной известной сказке три поросенка пытались овладеть навыками этой профессии. Как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9) Доктор для живот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) Повар на кораб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Анимашки Люди"/>
          <p:cNvPicPr/>
          <p:nvPr/>
        </p:nvPicPr>
        <p:blipFill>
          <a:blip r:embed="rId1"/>
          <a:stretch/>
        </p:blipFill>
        <p:spPr>
          <a:xfrm>
            <a:off x="152280" y="228600"/>
            <a:ext cx="1143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Список используемых ресурсо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w. images.yandex.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w.fantasyflash.ru/an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914400" y="3733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ww.slovari. yandex.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2324160" cy="38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24080" y="380880"/>
            <a:ext cx="1752840" cy="2438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2743200"/>
            <a:ext cx="3048120" cy="3809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2743200"/>
            <a:ext cx="4267080" cy="345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62720" y="60948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457200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опросы для 2 команд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Кто видит землю в иллюминатор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Кому приходиться нелегко на службе у корабля, ведь приходиться так рано встава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Связующее «звено» между покупателем и магазин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 «Мы едем, едем, едем в далекие края …» Представитель какой профессии чаще всего поет эту песню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) Профессия дяди Степы на новый ла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) Где работал, по словам Матроскина, его дяд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) Кому Антошка мог спеть свою песню «Это мы не проходили, это нам не задавали…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) Осел, петух, кот, собака и Трубадур из Бремена. Кто он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9) Представитель какой профессии с компьютером на «ты»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) «Опять от меня сбежала последняя электричка…» Кто был во главе побег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3962520"/>
            <a:ext cx="190512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304920"/>
            <a:ext cx="2810160" cy="3809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6680" y="2514600"/>
            <a:ext cx="236232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57600" y="1523880"/>
            <a:ext cx="2514600" cy="2210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990720" y="434340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3581280" y="3809880"/>
            <a:ext cx="3048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Крестики-ноли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1143000"/>
          <a:ext cx="7924680" cy="507672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16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3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) Дежурный сторож на предприятии, в учрежден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057400" y="40384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Х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назывался в прошлом торговец, преимущественно съестными припасами и напитками, сопровождающий армию в пох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повар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) маркитант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) провиант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3915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543800" y="1752480"/>
            <a:ext cx="1238400" cy="160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6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Штабист – эт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) сторож при штаб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) секретарь штаб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) штабной офице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662940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5:12:53Z</dcterms:created>
  <dc:creator>1</dc:creator>
  <dc:description/>
  <dc:language>en-US</dc:language>
  <cp:lastModifiedBy>1</cp:lastModifiedBy>
  <dcterms:modified xsi:type="dcterms:W3CDTF">2012-10-19T15:16:0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