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922-848E-43B2-B440-91D487CA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8BC-CDE8-4B51-A4C3-B8707662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7AE-E3DA-450A-A2F6-CD17521F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9C33-329C-4D91-BE79-E5554EDC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47D-B6B0-4916-973D-C9435A31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240C-B1B3-400C-8F88-4977BF7B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875-577F-4400-9048-2BC59038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E3F-4D63-4380-BC21-03D4BC7C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A180-ED76-494F-9A93-37998B6A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74AB-F3BD-4851-9814-BB5336EB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726-494A-4C34-8C93-2966294E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256-93DC-40A7-BEBB-87F599F5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B3F0-A84D-4C96-8712-A08AA41DF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Графики 3"/>
          <p:cNvPicPr/>
          <p:nvPr/>
        </p:nvPicPr>
        <p:blipFill>
          <a:blip r:embed="rId1"/>
          <a:srcRect l="51189" t="49877" r="0" b="0"/>
          <a:stretch/>
        </p:blipFill>
        <p:spPr>
          <a:xfrm>
            <a:off x="7072200" y="4000680"/>
            <a:ext cx="1797120" cy="121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" name="Picture 4" descr="Графики 3"/>
          <p:cNvPicPr/>
          <p:nvPr/>
        </p:nvPicPr>
        <p:blipFill>
          <a:blip r:embed="rId2"/>
          <a:srcRect l="0" t="49877" r="51189" b="0"/>
          <a:stretch/>
        </p:blipFill>
        <p:spPr>
          <a:xfrm>
            <a:off x="6858000" y="214200"/>
            <a:ext cx="1990800" cy="12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Picture 2" descr="Графики 3"/>
          <p:cNvPicPr/>
          <p:nvPr/>
        </p:nvPicPr>
        <p:blipFill>
          <a:blip r:embed="rId3"/>
          <a:srcRect l="51189" t="0" r="0" b="52502"/>
          <a:stretch/>
        </p:blipFill>
        <p:spPr>
          <a:xfrm>
            <a:off x="285840" y="4071960"/>
            <a:ext cx="19191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Picture 2" descr="Графики 3"/>
          <p:cNvPicPr/>
          <p:nvPr/>
        </p:nvPicPr>
        <p:blipFill>
          <a:blip r:embed="rId4"/>
          <a:srcRect l="0" t="0" r="51189" b="52502"/>
          <a:stretch/>
        </p:blipFill>
        <p:spPr>
          <a:xfrm>
            <a:off x="357120" y="214200"/>
            <a:ext cx="1879560" cy="11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Подзаголовок 2" descr=""/>
          <p:cNvPicPr/>
          <p:nvPr/>
        </p:nvPicPr>
        <p:blipFill>
          <a:blip r:embed="rId5"/>
          <a:stretch/>
        </p:blipFill>
        <p:spPr>
          <a:xfrm>
            <a:off x="1427040" y="5718240"/>
            <a:ext cx="6400800" cy="114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" name="Object 2"/>
              <p:cNvSpPr txBox="1"/>
              <p:nvPr/>
            </p:nvSpPr>
            <p:spPr>
              <a:xfrm>
                <a:off x="6143760" y="1143000"/>
                <a:ext cx="14284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3"/>
              <p:cNvSpPr txBox="1"/>
              <p:nvPr/>
            </p:nvSpPr>
            <p:spPr>
              <a:xfrm>
                <a:off x="1285920" y="4786200"/>
                <a:ext cx="14288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чётная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1214280" y="1143000"/>
                <a:ext cx="1411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четная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9" name="Прямоугольник 9" descr=""/>
          <p:cNvPicPr/>
          <p:nvPr/>
        </p:nvPicPr>
        <p:blipFill>
          <a:blip r:embed="rId6"/>
          <a:stretch/>
        </p:blipFill>
        <p:spPr>
          <a:xfrm>
            <a:off x="1835280" y="1859040"/>
            <a:ext cx="5181480" cy="12189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0" descr=""/>
          <p:cNvPicPr/>
          <p:nvPr/>
        </p:nvPicPr>
        <p:blipFill>
          <a:blip r:embed="rId7"/>
          <a:stretch/>
        </p:blipFill>
        <p:spPr>
          <a:xfrm>
            <a:off x="2335320" y="2786040"/>
            <a:ext cx="4626000" cy="12924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1" descr=""/>
          <p:cNvPicPr/>
          <p:nvPr/>
        </p:nvPicPr>
        <p:blipFill>
          <a:blip r:embed="rId8"/>
          <a:stretch/>
        </p:blipFill>
        <p:spPr>
          <a:xfrm>
            <a:off x="2998800" y="3645000"/>
            <a:ext cx="3395520" cy="1341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11"/>
              <p:cNvSpPr txBox="1"/>
              <p:nvPr/>
            </p:nvSpPr>
            <p:spPr>
              <a:xfrm>
                <a:off x="6342120" y="4786200"/>
                <a:ext cx="14572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Графики 3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Графики 3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5"/>
          <p:cNvSpPr/>
          <p:nvPr/>
        </p:nvSpPr>
        <p:spPr>
          <a:xfrm>
            <a:off x="484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V="1">
            <a:off x="0" y="3068640"/>
            <a:ext cx="914400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87720" y="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020920" y="-270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85560" y="3122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202000" y="3078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2"/>
              <p:cNvSpPr txBox="1"/>
              <p:nvPr/>
            </p:nvSpPr>
            <p:spPr>
              <a:xfrm>
                <a:off x="214200" y="785880"/>
                <a:ext cx="441036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4"/>
              <p:cNvSpPr txBox="1"/>
              <p:nvPr/>
            </p:nvSpPr>
            <p:spPr>
              <a:xfrm>
                <a:off x="5357880" y="642960"/>
                <a:ext cx="34480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5"/>
              <p:cNvSpPr txBox="1"/>
              <p:nvPr/>
            </p:nvSpPr>
            <p:spPr>
              <a:xfrm>
                <a:off x="642960" y="3857760"/>
                <a:ext cx="3571920" cy="22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нечётная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[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6"/>
              <p:cNvSpPr txBox="1"/>
              <p:nvPr/>
            </p:nvSpPr>
            <p:spPr>
              <a:xfrm>
                <a:off x="5214960" y="4000680"/>
                <a:ext cx="357192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]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;</m:t>
                            </m:r>
                            <m:r>
                              <m:t xml:space="preserve">9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5"/>
          <p:cNvSpPr/>
          <p:nvPr/>
        </p:nvSpPr>
        <p:spPr>
          <a:xfrm>
            <a:off x="0" y="3384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55560" y="6192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841640" y="-2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702360" y="342900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933800" y="342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2"/>
              <p:cNvSpPr txBox="1"/>
              <p:nvPr/>
            </p:nvSpPr>
            <p:spPr>
              <a:xfrm>
                <a:off x="571680" y="785880"/>
                <a:ext cx="357156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четная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3"/>
              <p:cNvSpPr txBox="1"/>
              <p:nvPr/>
            </p:nvSpPr>
            <p:spPr>
              <a:xfrm>
                <a:off x="5286240" y="928800"/>
                <a:ext cx="3429000" cy="19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чётная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4"/>
              <p:cNvSpPr txBox="1"/>
              <p:nvPr/>
            </p:nvSpPr>
            <p:spPr>
              <a:xfrm>
                <a:off x="142920" y="4429080"/>
                <a:ext cx="435780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5"/>
              <p:cNvSpPr txBox="1"/>
              <p:nvPr/>
            </p:nvSpPr>
            <p:spPr>
              <a:xfrm>
                <a:off x="5072040" y="4357800"/>
                <a:ext cx="385776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Графики 3"/>
          <p:cNvPicPr/>
          <p:nvPr/>
        </p:nvPicPr>
        <p:blipFill>
          <a:blip r:embed="rId1"/>
          <a:srcRect l="0" t="0" r="51189" b="52502"/>
          <a:stretch/>
        </p:blipFill>
        <p:spPr>
          <a:xfrm>
            <a:off x="1601640" y="279360"/>
            <a:ext cx="6480360" cy="4049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698400" y="4589640"/>
                <a:ext cx="40165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3"/>
              <p:cNvSpPr txBox="1"/>
              <p:nvPr/>
            </p:nvSpPr>
            <p:spPr>
              <a:xfrm>
                <a:off x="5072040" y="4572000"/>
                <a:ext cx="36432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четная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TextBox 4"/>
          <p:cNvSpPr/>
          <p:nvPr/>
        </p:nvSpPr>
        <p:spPr>
          <a:xfrm>
            <a:off x="1505520" y="34290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6006240" y="35002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575000" y="385776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6075360" y="385776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Графики 3"/>
          <p:cNvPicPr/>
          <p:nvPr/>
        </p:nvPicPr>
        <p:blipFill>
          <a:blip r:embed="rId1"/>
          <a:srcRect l="51189" t="0" r="0" b="52502"/>
          <a:stretch/>
        </p:blipFill>
        <p:spPr>
          <a:xfrm>
            <a:off x="1557360" y="142920"/>
            <a:ext cx="6345360" cy="46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642960" y="4357800"/>
                <a:ext cx="37148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4857840" y="4429080"/>
                <a:ext cx="3881520" cy="22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чётная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TextBox 4"/>
          <p:cNvSpPr/>
          <p:nvPr/>
        </p:nvSpPr>
        <p:spPr>
          <a:xfrm>
            <a:off x="1575000" y="385776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6147000" y="3929040"/>
            <a:ext cx="99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505520" y="34290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6006240" y="35002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Графики 3"/>
          <p:cNvPicPr/>
          <p:nvPr/>
        </p:nvPicPr>
        <p:blipFill>
          <a:blip r:embed="rId1"/>
          <a:srcRect l="0" t="49877" r="51189" b="0"/>
          <a:stretch/>
        </p:blipFill>
        <p:spPr>
          <a:xfrm>
            <a:off x="1015920" y="189000"/>
            <a:ext cx="7291440" cy="445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142920" y="4643280"/>
                <a:ext cx="441144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нечётная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[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4643280" y="4643280"/>
                <a:ext cx="435780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TextBox 5"/>
          <p:cNvSpPr/>
          <p:nvPr/>
        </p:nvSpPr>
        <p:spPr>
          <a:xfrm>
            <a:off x="1362600" y="350028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149160" y="3429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1360440" y="3929040"/>
            <a:ext cx="10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6289560" y="385776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Графики 3"/>
          <p:cNvPicPr/>
          <p:nvPr/>
        </p:nvPicPr>
        <p:blipFill>
          <a:blip r:embed="rId1"/>
          <a:srcRect l="51189" t="49877" r="0" b="0"/>
          <a:stretch/>
        </p:blipFill>
        <p:spPr>
          <a:xfrm>
            <a:off x="1500120" y="0"/>
            <a:ext cx="6300720" cy="409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357120" y="4500720"/>
                <a:ext cx="41436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]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;</m:t>
                            </m:r>
                            <m:r>
                              <m:t xml:space="preserve">9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4643280" y="4500720"/>
                <a:ext cx="421488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TextBox 4"/>
          <p:cNvSpPr/>
          <p:nvPr/>
        </p:nvSpPr>
        <p:spPr>
          <a:xfrm>
            <a:off x="1720080" y="36432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6363360" y="371484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1789200" y="407196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6432480" y="40719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6146280" y="20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Графики 3"/>
          <p:cNvPicPr/>
          <p:nvPr/>
        </p:nvPicPr>
        <p:blipFill>
          <a:blip r:embed="rId1"/>
          <a:stretch/>
        </p:blipFill>
        <p:spPr>
          <a:xfrm>
            <a:off x="3105000" y="552600"/>
            <a:ext cx="5778720" cy="2698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Графики 3"/>
          <p:cNvPicPr/>
          <p:nvPr/>
        </p:nvPicPr>
        <p:blipFill>
          <a:blip r:embed="rId2"/>
          <a:stretch/>
        </p:blipFill>
        <p:spPr>
          <a:xfrm>
            <a:off x="3016080" y="3340080"/>
            <a:ext cx="5965920" cy="3246480"/>
          </a:xfrm>
          <a:prstGeom prst="rect">
            <a:avLst/>
          </a:prstGeom>
          <a:ln w="0">
            <a:noFill/>
          </a:ln>
        </p:spPr>
      </p:pic>
      <p:sp>
        <p:nvSpPr>
          <p:cNvPr id="106" name="Line 4"/>
          <p:cNvSpPr/>
          <p:nvPr/>
        </p:nvSpPr>
        <p:spPr>
          <a:xfrm>
            <a:off x="0" y="3295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72800" y="106200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63160" y="4329000"/>
            <a:ext cx="18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195360" y="1206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085440" y="120636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224880" y="25732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194880" y="2573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195720" y="3962520"/>
            <a:ext cx="4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6129360" y="39178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240360" y="5340240"/>
            <a:ext cx="5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6174000" y="5384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4"/>
          <p:cNvSpPr/>
          <p:nvPr/>
        </p:nvSpPr>
        <p:spPr>
          <a:xfrm>
            <a:off x="438120" y="0"/>
            <a:ext cx="84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Сложилась фраза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2359 L -0.32118 0.1679 E">
                                      <p:cBhvr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0.06938 L -0.58941 0.1679 E">
                                      <p:cBhvr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39 0.04071 L -0.22813 -0.03145 E">
                                      <p:cBhvr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59 0.07355 L -0.51285 -0.03145 E">
                                      <p:cBhvr>
                                        <p:cTn id="162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0.05481 L -0.34166 0.18617 E">
                                      <p:cBhvr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15 0.08742 L -0.59271 0.19264 E">
                                      <p:cBhvr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17 0.12974 L -0.23767 -0.0148 E">
                                      <p:cBhvr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08 0.14269 L -0.50573 -0.02128 E">
                                      <p:cBhvr>
                                        <p:cTn id="174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8:49:07Z</dcterms:created>
  <dc:creator>Dasha</dc:creator>
  <dc:description/>
  <dc:language>en-US</dc:language>
  <cp:lastModifiedBy>PC</cp:lastModifiedBy>
  <dcterms:modified xsi:type="dcterms:W3CDTF">2013-03-21T08:27:18Z</dcterms:modified>
  <cp:revision>29</cp:revision>
  <dc:subject/>
  <dc:title>Слайд 1</dc:title>
</cp:coreProperties>
</file>