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645-51DF-4022-9380-188DF75B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CB2-B24C-440B-AE70-D5F1BBD7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2DF-E85D-4174-A4C1-D6FAEF61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E3C-46AF-450B-9EFD-7ACD6314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DD5-41C7-4723-AF0B-43874393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7A5-BBF4-4F7E-982A-53B29019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F36-0A9F-4BCC-BDFA-CCF7AB6C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A2D-3727-4D9E-9422-FA3BADB9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0A2-4E71-44E1-900F-501954DC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846-A09A-46E7-ADE0-8EBE6DDD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034-43C1-4570-A6E4-B7515B7D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A71-074B-4D06-A411-C9B7D61A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0AD4-C670-4E6D-904F-2BA1117B7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Графики 3"/>
          <p:cNvPicPr/>
          <p:nvPr/>
        </p:nvPicPr>
        <p:blipFill>
          <a:blip r:embed="rId1"/>
          <a:srcRect l="51189" t="49877" r="0" b="0"/>
          <a:stretch/>
        </p:blipFill>
        <p:spPr>
          <a:xfrm>
            <a:off x="7072200" y="4000680"/>
            <a:ext cx="1797120" cy="121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Picture 4" descr="Графики 3"/>
          <p:cNvPicPr/>
          <p:nvPr/>
        </p:nvPicPr>
        <p:blipFill>
          <a:blip r:embed="rId2"/>
          <a:srcRect l="0" t="49877" r="51189" b="0"/>
          <a:stretch/>
        </p:blipFill>
        <p:spPr>
          <a:xfrm>
            <a:off x="6858000" y="214200"/>
            <a:ext cx="1990800" cy="12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2" descr="Графики 3"/>
          <p:cNvPicPr/>
          <p:nvPr/>
        </p:nvPicPr>
        <p:blipFill>
          <a:blip r:embed="rId3"/>
          <a:srcRect l="51189" t="0" r="0" b="52502"/>
          <a:stretch/>
        </p:blipFill>
        <p:spPr>
          <a:xfrm>
            <a:off x="285840" y="4071960"/>
            <a:ext cx="1919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Picture 2" descr="Графики 3"/>
          <p:cNvPicPr/>
          <p:nvPr/>
        </p:nvPicPr>
        <p:blipFill>
          <a:blip r:embed="rId4"/>
          <a:srcRect l="0" t="0" r="51189" b="52502"/>
          <a:stretch/>
        </p:blipFill>
        <p:spPr>
          <a:xfrm>
            <a:off x="357120" y="214200"/>
            <a:ext cx="1879560" cy="11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Подзаголовок 2" descr=""/>
          <p:cNvPicPr/>
          <p:nvPr/>
        </p:nvPicPr>
        <p:blipFill>
          <a:blip r:embed="rId5"/>
          <a:stretch/>
        </p:blipFill>
        <p:spPr>
          <a:xfrm>
            <a:off x="1427040" y="5718240"/>
            <a:ext cx="6400800" cy="11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6143760" y="1143000"/>
                <a:ext cx="14284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1285920" y="4786200"/>
                <a:ext cx="14288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ётная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1214280" y="1143000"/>
                <a:ext cx="1411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е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9" name="Прямоугольник 9" descr=""/>
          <p:cNvPicPr/>
          <p:nvPr/>
        </p:nvPicPr>
        <p:blipFill>
          <a:blip r:embed="rId6"/>
          <a:stretch/>
        </p:blipFill>
        <p:spPr>
          <a:xfrm>
            <a:off x="1835280" y="1859040"/>
            <a:ext cx="5181480" cy="12189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0" descr=""/>
          <p:cNvPicPr/>
          <p:nvPr/>
        </p:nvPicPr>
        <p:blipFill>
          <a:blip r:embed="rId7"/>
          <a:stretch/>
        </p:blipFill>
        <p:spPr>
          <a:xfrm>
            <a:off x="2335320" y="2786040"/>
            <a:ext cx="4626000" cy="12924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1" descr=""/>
          <p:cNvPicPr/>
          <p:nvPr/>
        </p:nvPicPr>
        <p:blipFill>
          <a:blip r:embed="rId8"/>
          <a:stretch/>
        </p:blipFill>
        <p:spPr>
          <a:xfrm>
            <a:off x="2998800" y="3645000"/>
            <a:ext cx="3395520" cy="1341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11"/>
              <p:cNvSpPr txBox="1"/>
              <p:nvPr/>
            </p:nvSpPr>
            <p:spPr>
              <a:xfrm>
                <a:off x="6342120" y="4786200"/>
                <a:ext cx="14572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Графики 3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Графики 3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5"/>
          <p:cNvSpPr/>
          <p:nvPr/>
        </p:nvSpPr>
        <p:spPr>
          <a:xfrm>
            <a:off x="484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0" y="3068640"/>
            <a:ext cx="914400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7720" y="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020920" y="-270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85560" y="312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202000" y="3078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214200" y="785880"/>
                <a:ext cx="44103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5357880" y="642960"/>
                <a:ext cx="3448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5"/>
              <p:cNvSpPr txBox="1"/>
              <p:nvPr/>
            </p:nvSpPr>
            <p:spPr>
              <a:xfrm>
                <a:off x="642960" y="3857760"/>
                <a:ext cx="3571920" cy="22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ечё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[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6"/>
              <p:cNvSpPr txBox="1"/>
              <p:nvPr/>
            </p:nvSpPr>
            <p:spPr>
              <a:xfrm>
                <a:off x="5214960" y="4000680"/>
                <a:ext cx="357192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]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5"/>
          <p:cNvSpPr/>
          <p:nvPr/>
        </p:nvSpPr>
        <p:spPr>
          <a:xfrm>
            <a:off x="0" y="3384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5560" y="6192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841640" y="-2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02360" y="342900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93380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2"/>
              <p:cNvSpPr txBox="1"/>
              <p:nvPr/>
            </p:nvSpPr>
            <p:spPr>
              <a:xfrm>
                <a:off x="571680" y="785880"/>
                <a:ext cx="357156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е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5286240" y="928800"/>
                <a:ext cx="342900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ётная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4"/>
              <p:cNvSpPr txBox="1"/>
              <p:nvPr/>
            </p:nvSpPr>
            <p:spPr>
              <a:xfrm>
                <a:off x="142920" y="4429080"/>
                <a:ext cx="43578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5"/>
              <p:cNvSpPr txBox="1"/>
              <p:nvPr/>
            </p:nvSpPr>
            <p:spPr>
              <a:xfrm>
                <a:off x="5072040" y="4357800"/>
                <a:ext cx="385776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Графики 3"/>
          <p:cNvPicPr/>
          <p:nvPr/>
        </p:nvPicPr>
        <p:blipFill>
          <a:blip r:embed="rId1"/>
          <a:srcRect l="0" t="0" r="51189" b="52502"/>
          <a:stretch/>
        </p:blipFill>
        <p:spPr>
          <a:xfrm>
            <a:off x="1601640" y="279360"/>
            <a:ext cx="6480360" cy="404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698400" y="4589640"/>
                <a:ext cx="40165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5072040" y="4572000"/>
                <a:ext cx="36432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е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Box 4"/>
          <p:cNvSpPr/>
          <p:nvPr/>
        </p:nvSpPr>
        <p:spPr>
          <a:xfrm>
            <a:off x="1505520" y="34290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6006240" y="3500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575000" y="3857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6075360" y="3857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Графики 3"/>
          <p:cNvPicPr/>
          <p:nvPr/>
        </p:nvPicPr>
        <p:blipFill>
          <a:blip r:embed="rId1"/>
          <a:srcRect l="51189" t="0" r="0" b="52502"/>
          <a:stretch/>
        </p:blipFill>
        <p:spPr>
          <a:xfrm>
            <a:off x="1557360" y="142920"/>
            <a:ext cx="6345360" cy="46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642960" y="4357800"/>
                <a:ext cx="3714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4857840" y="4429080"/>
                <a:ext cx="3881520" cy="22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чётная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TextBox 4"/>
          <p:cNvSpPr/>
          <p:nvPr/>
        </p:nvSpPr>
        <p:spPr>
          <a:xfrm>
            <a:off x="1575000" y="3857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6147000" y="3929040"/>
            <a:ext cx="9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505520" y="34290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6006240" y="3500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Графики 3"/>
          <p:cNvPicPr/>
          <p:nvPr/>
        </p:nvPicPr>
        <p:blipFill>
          <a:blip r:embed="rId1"/>
          <a:srcRect l="0" t="49877" r="51189" b="0"/>
          <a:stretch/>
        </p:blipFill>
        <p:spPr>
          <a:xfrm>
            <a:off x="1015920" y="189000"/>
            <a:ext cx="7291440" cy="44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142920" y="4643280"/>
                <a:ext cx="441144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ечётная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[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limLow>
                          <m:e/>
                          <m:lim/>
                        </m:limLow>
                        <m:r>
                          <m:rPr>
                            <m:lit/>
                            <m:nor/>
                          </m:rPr>
                          <m:t xml:space="preserve">существует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643280" y="4643280"/>
                <a:ext cx="435780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TextBox 5"/>
          <p:cNvSpPr/>
          <p:nvPr/>
        </p:nvSpPr>
        <p:spPr>
          <a:xfrm>
            <a:off x="1362600" y="350028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149160" y="3429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360440" y="392904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289560" y="38577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Графики 3"/>
          <p:cNvPicPr/>
          <p:nvPr/>
        </p:nvPicPr>
        <p:blipFill>
          <a:blip r:embed="rId1"/>
          <a:srcRect l="51189" t="49877" r="0" b="0"/>
          <a:stretch/>
        </p:blipFill>
        <p:spPr>
          <a:xfrm>
            <a:off x="1500120" y="0"/>
            <a:ext cx="6300720" cy="409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357120" y="4500720"/>
                <a:ext cx="41436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]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4643280" y="4500720"/>
                <a:ext cx="421488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limLow>
                          <m:e/>
                          <m:lim/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любого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limUpp>
                          <m:e/>
                          <m:lim/>
                        </m:limUp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TextBox 4"/>
          <p:cNvSpPr/>
          <p:nvPr/>
        </p:nvSpPr>
        <p:spPr>
          <a:xfrm>
            <a:off x="1720080" y="36432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6363360" y="37148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789200" y="40719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6432480" y="40719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614628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Графики 3"/>
          <p:cNvPicPr/>
          <p:nvPr/>
        </p:nvPicPr>
        <p:blipFill>
          <a:blip r:embed="rId1"/>
          <a:stretch/>
        </p:blipFill>
        <p:spPr>
          <a:xfrm>
            <a:off x="3105000" y="552600"/>
            <a:ext cx="5778720" cy="269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Графики 3"/>
          <p:cNvPicPr/>
          <p:nvPr/>
        </p:nvPicPr>
        <p:blipFill>
          <a:blip r:embed="rId2"/>
          <a:stretch/>
        </p:blipFill>
        <p:spPr>
          <a:xfrm>
            <a:off x="3016080" y="3340080"/>
            <a:ext cx="5965920" cy="3246480"/>
          </a:xfrm>
          <a:prstGeom prst="rect">
            <a:avLst/>
          </a:prstGeom>
          <a:ln w="0">
            <a:noFill/>
          </a:ln>
        </p:spPr>
      </p:pic>
      <p:sp>
        <p:nvSpPr>
          <p:cNvPr id="106" name="Line 4"/>
          <p:cNvSpPr/>
          <p:nvPr/>
        </p:nvSpPr>
        <p:spPr>
          <a:xfrm>
            <a:off x="0" y="3295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72800" y="106200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3160" y="432900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195360" y="1206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085440" y="120636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224880" y="25732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194880" y="2573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195720" y="396252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129360" y="3917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240360" y="534024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174000" y="5384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438120" y="0"/>
            <a:ext cx="84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Сложилась фраза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2359 L -0.32118 0.1679 E">
                                      <p:cBhvr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0.06938 L -0.58941 0.1679 E">
                                      <p:cBhvr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39 0.04071 L -0.22813 -0.03145 E">
                                      <p:cBhvr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59 0.07355 L -0.51285 -0.03145 E">
                                      <p:cBhvr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5481 L -0.34166 0.18617 E">
                                      <p:cBhvr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15 0.08742 L -0.59271 0.19264 E">
                                      <p:cBhvr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17 0.12974 L -0.23767 -0.0148 E">
                                      <p:cBhvr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08 0.14269 L -0.50573 -0.02128 E">
                                      <p:cBhvr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8:49:07Z</dcterms:created>
  <dc:creator>Dasha</dc:creator>
  <dc:description/>
  <dc:language>en-US</dc:language>
  <cp:lastModifiedBy>PC</cp:lastModifiedBy>
  <dcterms:modified xsi:type="dcterms:W3CDTF">2013-03-21T08:27:18Z</dcterms:modified>
  <cp:revision>29</cp:revision>
  <dc:subject/>
  <dc:title>Слайд 1</dc:title>
</cp:coreProperties>
</file>