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C80-95B1-4E40-B679-B133B7C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869-729C-4773-B294-69CCF38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653-45A2-44E8-B293-94D7377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542-7A97-47A0-9DE9-7DAA1DDF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739-9CC6-4E68-B12A-D6E2C16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136-8DDA-4B63-980A-2E5B9DB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B43-405D-4E89-8619-26C81E5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6B1-6AFE-4D63-ABAC-11E1321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288-38FA-4046-BEAF-E4185B4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E13-ECBE-4121-A206-8D136420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ED3-11E1-46AE-A3F0-8327935E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929-301E-4997-B5D4-DA3EFCC4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6E6C-139D-4976-B570-3A2CFB8B9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7072200" y="4000680"/>
            <a:ext cx="179712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4" descr="Графики 3"/>
          <p:cNvPicPr/>
          <p:nvPr/>
        </p:nvPicPr>
        <p:blipFill>
          <a:blip r:embed="rId2"/>
          <a:srcRect l="0" t="49877" r="51189" b="0"/>
          <a:stretch/>
        </p:blipFill>
        <p:spPr>
          <a:xfrm>
            <a:off x="6858000" y="214200"/>
            <a:ext cx="199080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2" descr="Графики 3"/>
          <p:cNvPicPr/>
          <p:nvPr/>
        </p:nvPicPr>
        <p:blipFill>
          <a:blip r:embed="rId3"/>
          <a:srcRect l="51189" t="0" r="0" b="52502"/>
          <a:stretch/>
        </p:blipFill>
        <p:spPr>
          <a:xfrm>
            <a:off x="285840" y="4071960"/>
            <a:ext cx="1919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2" descr="Графики 3"/>
          <p:cNvPicPr/>
          <p:nvPr/>
        </p:nvPicPr>
        <p:blipFill>
          <a:blip r:embed="rId4"/>
          <a:srcRect l="0" t="0" r="51189" b="52502"/>
          <a:stretch/>
        </p:blipFill>
        <p:spPr>
          <a:xfrm>
            <a:off x="357120" y="214200"/>
            <a:ext cx="1879560" cy="11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Подзаголовок 2" descr=""/>
          <p:cNvPicPr/>
          <p:nvPr/>
        </p:nvPicPr>
        <p:blipFill>
          <a:blip r:embed="rId5"/>
          <a:stretch/>
        </p:blipFill>
        <p:spPr>
          <a:xfrm>
            <a:off x="1427040" y="5718240"/>
            <a:ext cx="6400800" cy="11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6143760" y="1143000"/>
                <a:ext cx="14284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1285920" y="4786200"/>
                <a:ext cx="14288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1214280" y="1143000"/>
                <a:ext cx="141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9" name="Прямоугольник 9" descr=""/>
          <p:cNvPicPr/>
          <p:nvPr/>
        </p:nvPicPr>
        <p:blipFill>
          <a:blip r:embed="rId6"/>
          <a:stretch/>
        </p:blipFill>
        <p:spPr>
          <a:xfrm>
            <a:off x="1835280" y="1859040"/>
            <a:ext cx="5181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7"/>
          <a:stretch/>
        </p:blipFill>
        <p:spPr>
          <a:xfrm>
            <a:off x="2335320" y="2786040"/>
            <a:ext cx="462600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8"/>
          <a:stretch/>
        </p:blipFill>
        <p:spPr>
          <a:xfrm>
            <a:off x="2998800" y="3645000"/>
            <a:ext cx="3395520" cy="134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6342120" y="4786200"/>
                <a:ext cx="1457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Графики 3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Графики 3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"/>
          <p:cNvSpPr/>
          <p:nvPr/>
        </p:nvSpPr>
        <p:spPr>
          <a:xfrm>
            <a:off x="484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0" y="3068640"/>
            <a:ext cx="91440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7720" y="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020920" y="-270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85560" y="312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02000" y="307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214200" y="785880"/>
                <a:ext cx="44103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5357880" y="642960"/>
                <a:ext cx="344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5"/>
              <p:cNvSpPr txBox="1"/>
              <p:nvPr/>
            </p:nvSpPr>
            <p:spPr>
              <a:xfrm>
                <a:off x="642960" y="3857760"/>
                <a:ext cx="35719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5214960" y="4000680"/>
                <a:ext cx="35719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5"/>
          <p:cNvSpPr/>
          <p:nvPr/>
        </p:nvSpPr>
        <p:spPr>
          <a:xfrm>
            <a:off x="0" y="338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5560" y="619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841640" y="-2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02360" y="3429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93380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571680" y="785880"/>
                <a:ext cx="357156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5286240" y="928800"/>
                <a:ext cx="3429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142920" y="4429080"/>
                <a:ext cx="43578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072040" y="4357800"/>
                <a:ext cx="385776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Графики 3"/>
          <p:cNvPicPr/>
          <p:nvPr/>
        </p:nvPicPr>
        <p:blipFill>
          <a:blip r:embed="rId1"/>
          <a:srcRect l="0" t="0" r="51189" b="52502"/>
          <a:stretch/>
        </p:blipFill>
        <p:spPr>
          <a:xfrm>
            <a:off x="1601640" y="279360"/>
            <a:ext cx="6480360" cy="404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698400" y="4589640"/>
                <a:ext cx="40165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5072040" y="4572000"/>
                <a:ext cx="36432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Box 4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07536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Графики 3"/>
          <p:cNvPicPr/>
          <p:nvPr/>
        </p:nvPicPr>
        <p:blipFill>
          <a:blip r:embed="rId1"/>
          <a:srcRect l="51189" t="0" r="0" b="52502"/>
          <a:stretch/>
        </p:blipFill>
        <p:spPr>
          <a:xfrm>
            <a:off x="1557360" y="142920"/>
            <a:ext cx="6345360" cy="46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642960" y="4357800"/>
                <a:ext cx="3714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857840" y="4429080"/>
                <a:ext cx="388152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Box 4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147000" y="3929040"/>
            <a:ext cx="9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Графики 3"/>
          <p:cNvPicPr/>
          <p:nvPr/>
        </p:nvPicPr>
        <p:blipFill>
          <a:blip r:embed="rId1"/>
          <a:srcRect l="0" t="49877" r="51189" b="0"/>
          <a:stretch/>
        </p:blipFill>
        <p:spPr>
          <a:xfrm>
            <a:off x="1015920" y="189000"/>
            <a:ext cx="7291440" cy="44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42920" y="4643280"/>
                <a:ext cx="44114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643280" y="4643280"/>
                <a:ext cx="435780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TextBox 5"/>
          <p:cNvSpPr/>
          <p:nvPr/>
        </p:nvSpPr>
        <p:spPr>
          <a:xfrm>
            <a:off x="1362600" y="350028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149160" y="3429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360440" y="392904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289560" y="3857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1500120" y="0"/>
            <a:ext cx="6300720" cy="409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57120" y="4500720"/>
                <a:ext cx="4143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643280" y="4500720"/>
                <a:ext cx="421488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Box 4"/>
          <p:cNvSpPr/>
          <p:nvPr/>
        </p:nvSpPr>
        <p:spPr>
          <a:xfrm>
            <a:off x="1720080" y="36432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6363360" y="37148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789200" y="40719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32480" y="40719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14628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Графики 3"/>
          <p:cNvPicPr/>
          <p:nvPr/>
        </p:nvPicPr>
        <p:blipFill>
          <a:blip r:embed="rId1"/>
          <a:stretch/>
        </p:blipFill>
        <p:spPr>
          <a:xfrm>
            <a:off x="3105000" y="552600"/>
            <a:ext cx="577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Графики 3"/>
          <p:cNvPicPr/>
          <p:nvPr/>
        </p:nvPicPr>
        <p:blipFill>
          <a:blip r:embed="rId2"/>
          <a:stretch/>
        </p:blipFill>
        <p:spPr>
          <a:xfrm>
            <a:off x="3016080" y="3340080"/>
            <a:ext cx="5965920" cy="324648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0" y="3295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2800" y="106200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60" y="432900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195360" y="120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85440" y="12063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24880" y="2573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194880" y="2573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195720" y="396252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129360" y="3917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240360" y="534024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174000" y="5384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438120" y="0"/>
            <a:ext cx="84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ложилась фраз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2359 L -0.32118 0.1679 E">
                                      <p:cBhvr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6938 L -0.58941 0.1679 E">
                                      <p:cBhvr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9 0.04071 L -0.22813 -0.03145 E">
                                      <p:cBhvr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9 0.07355 L -0.51285 -0.03145 E">
                                      <p:cBhvr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5481 L -0.34166 0.18617 E">
                                      <p:cBhvr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0.08742 L -0.59271 0.19264 E">
                                      <p:cBhvr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17 0.12974 L -0.23767 -0.0148 E">
                                      <p:cBhvr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14269 L -0.50573 -0.02128 E">
                                      <p:cBhvr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8:49:07Z</dcterms:created>
  <dc:creator>Dasha</dc:creator>
  <dc:description/>
  <dc:language>en-US</dc:language>
  <cp:lastModifiedBy>PC</cp:lastModifiedBy>
  <dcterms:modified xsi:type="dcterms:W3CDTF">2013-03-21T08:27:18Z</dcterms:modified>
  <cp:revision>29</cp:revision>
  <dc:subject/>
  <dc:title>Слайд 1</dc:title>
</cp:coreProperties>
</file>