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06A-094F-4870-8E45-33F1DCF9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007-317E-4D5B-93C9-2F82742F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192-EC68-4B43-9148-2C5DA151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E5C-F6D9-4F7B-A37C-3B0B87FB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1BA-BB1A-4F05-8627-D8A69900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553F-402C-4BBB-B28E-77B02642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C57-54C5-445C-A287-EDCC7B58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646-48C0-4608-A2B9-B26F18F5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E8F-8DC1-4B06-BD19-32B8986D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77C-694F-45B1-9FED-9C2C996D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59F-6772-483F-AF0C-71E945DB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C59-C24C-4A34-8B7E-451A276E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F3D8-E45F-4763-B9E3-C63289855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3520" y="609480"/>
            <a:ext cx="8001000" cy="1191240"/>
          </a:xfrm>
          <a:prstGeom prst="rect">
            <a:avLst/>
          </a:prstGeom>
          <a:solidFill>
            <a:srgbClr val="cbf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Как вести себя при большом скоплении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85800" y="2743200"/>
            <a:ext cx="7696080" cy="26535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а митингах, стадионных мероприятиях, религиозных и политических демонстрациях, концертах,, в кинотеатрах и т.д. могут возникнуть очень опасные ситуации, приведенные к панике и да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2666880" y="5715000"/>
            <a:ext cx="3733920" cy="762120"/>
          </a:xfrm>
          <a:prstGeom prst="ellipse">
            <a:avLst/>
          </a:prstGeom>
          <a:solidFill>
            <a:srgbClr val="cbf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733920" y="5867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пом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610240" cy="4476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914400" y="685800"/>
            <a:ext cx="7238880" cy="13737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ходи в места, где собир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чень много активно настроенных люд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638760" cy="3980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676520" y="525780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219320" y="4419720"/>
            <a:ext cx="5943600" cy="18003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 привлекай к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внимание активно настроенных люд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апример, фотографируя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800600" cy="3886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33520" y="304920"/>
            <a:ext cx="4647960" cy="228852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Не высказывай в толпу своего отношение к происходяще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9640" cy="2361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505320" y="4267080"/>
            <a:ext cx="2361960" cy="966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8001000" y="609480"/>
            <a:ext cx="689040" cy="244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STP63978"/>
          <p:cNvPicPr/>
          <p:nvPr/>
        </p:nvPicPr>
        <p:blipFill>
          <a:blip r:embed="rId4"/>
          <a:stretch/>
        </p:blipFill>
        <p:spPr>
          <a:xfrm>
            <a:off x="3124080" y="1600200"/>
            <a:ext cx="2819520" cy="1663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380880" y="3886200"/>
            <a:ext cx="1828800" cy="173988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ними все, что повязано вокруг шеи, застегни все пуговицы и мол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438280" y="3352680"/>
            <a:ext cx="4496040" cy="91692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Держись по возможности дальше от стен, столбов, деревьев и оград. Ни в коем случае не хватайся за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7238880" y="3809880"/>
            <a:ext cx="1676520" cy="201420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Освободи руки от всех предметов, согни в локтях, прикрой ими гру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590920" y="5257800"/>
            <a:ext cx="4495680" cy="133416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Старайся не уп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 случае падения свернись клубком в направлении движения толпы, защити голову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1676520" y="228600"/>
            <a:ext cx="6324480" cy="1381680"/>
          </a:xfrm>
          <a:prstGeom prst="rect">
            <a:avLst/>
          </a:prstGeom>
          <a:solidFill>
            <a:srgbClr val="cbf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действия в тол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йся вместе с общим потоком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495680" cy="327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295280" y="4114800"/>
            <a:ext cx="7162920" cy="2043720"/>
          </a:xfrm>
          <a:prstGeom prst="rect">
            <a:avLst/>
          </a:prstGeom>
          <a:solidFill>
            <a:srgbClr val="fac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ридя на массовое мероприятие, заранее запомни, где находятся аварийные и запасные выход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3T19:30:5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