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6AC-8DE7-4BE3-B5F3-CCCB4321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F22E-AD32-4D1D-B2B2-28EBBE30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34C3-6E1C-4249-8A8C-74F28F0D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872D-19FF-43B9-A214-C84369D8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B9FC-3563-48F4-B154-55948826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4FBA-85D4-4CA1-998B-A284274A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A54B-BE6D-45F2-83B0-565280C9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5EEE-352B-46A3-865E-C907877D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8D4-94FD-4007-9211-FE8E95F4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6103-FA38-42AC-A4BC-BA4A046D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D8E6-D62F-4CC5-A8CD-E18CC4FD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B354-F0B4-45DC-A9E8-09EE14D1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E790-2B8D-4C84-AED6-BDD6AF7BD3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3520" y="609480"/>
            <a:ext cx="8001000" cy="1191240"/>
          </a:xfrm>
          <a:prstGeom prst="rect">
            <a:avLst/>
          </a:prstGeom>
          <a:solidFill>
            <a:srgbClr val="cbf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Как вести себя при большом скоплении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685800" y="2743200"/>
            <a:ext cx="7696080" cy="2653560"/>
          </a:xfrm>
          <a:prstGeom prst="rect">
            <a:avLst/>
          </a:prstGeom>
          <a:solidFill>
            <a:srgbClr val="fac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На митингах, стадионных мероприятиях, религиозных и политических демонстрациях, концертах,, в кинотеатрах и т.д. могут возникнуть очень опасные ситуации, приведенные к панике и дав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6"/>
          <p:cNvSpPr/>
          <p:nvPr/>
        </p:nvSpPr>
        <p:spPr>
          <a:xfrm>
            <a:off x="2666880" y="5715000"/>
            <a:ext cx="3733920" cy="762120"/>
          </a:xfrm>
          <a:prstGeom prst="ellipse">
            <a:avLst/>
          </a:prstGeom>
          <a:solidFill>
            <a:srgbClr val="cbf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7339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Запомн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610240" cy="4476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914400" y="685800"/>
            <a:ext cx="7238880" cy="1373760"/>
          </a:xfrm>
          <a:prstGeom prst="rect">
            <a:avLst/>
          </a:prstGeom>
          <a:solidFill>
            <a:srgbClr val="fac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Не ходи в места, где собир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очень много активно настроенных люд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638760" cy="39801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676520" y="525780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219320" y="4419720"/>
            <a:ext cx="5943600" cy="1800360"/>
          </a:xfrm>
          <a:prstGeom prst="rect">
            <a:avLst/>
          </a:prstGeom>
          <a:solidFill>
            <a:srgbClr val="fac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Не привлекай к с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внимание активно настроенных люд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например, фотографируя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4800600" cy="3886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533520" y="304920"/>
            <a:ext cx="4647960" cy="2288520"/>
          </a:xfrm>
          <a:prstGeom prst="rect">
            <a:avLst/>
          </a:prstGeom>
          <a:solidFill>
            <a:srgbClr val="fac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Не высказывай в толпу своего отношение к происходяще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09640" cy="2361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3505320" y="4267080"/>
            <a:ext cx="2361960" cy="966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8001000" y="609480"/>
            <a:ext cx="689040" cy="244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STP63978"/>
          <p:cNvPicPr/>
          <p:nvPr/>
        </p:nvPicPr>
        <p:blipFill>
          <a:blip r:embed="rId4"/>
          <a:stretch/>
        </p:blipFill>
        <p:spPr>
          <a:xfrm>
            <a:off x="3124080" y="1600200"/>
            <a:ext cx="2819520" cy="1663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380880" y="3886200"/>
            <a:ext cx="1828800" cy="1739880"/>
          </a:xfrm>
          <a:prstGeom prst="rect">
            <a:avLst/>
          </a:prstGeom>
          <a:solidFill>
            <a:srgbClr val="fac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ними все, что повязано вокруг шеи, застегни все пуговицы и мол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438280" y="3352680"/>
            <a:ext cx="4496040" cy="916920"/>
          </a:xfrm>
          <a:prstGeom prst="rect">
            <a:avLst/>
          </a:prstGeom>
          <a:solidFill>
            <a:srgbClr val="fac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ержись по возможности дальше от стен, столбов, деревьев и оград. Ни в коем случае не хватайся за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7238880" y="3809880"/>
            <a:ext cx="1676520" cy="2014200"/>
          </a:xfrm>
          <a:prstGeom prst="rect">
            <a:avLst/>
          </a:prstGeom>
          <a:solidFill>
            <a:srgbClr val="fac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свободи руки от всех предметов, согни в локтях, прикрой ими гру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2590920" y="5257800"/>
            <a:ext cx="4495680" cy="1334160"/>
          </a:xfrm>
          <a:prstGeom prst="rect">
            <a:avLst/>
          </a:prstGeom>
          <a:solidFill>
            <a:srgbClr val="fac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райся не уп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 случае падения свернись клубком в направлении движения толпы, защити голову ру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1676520" y="228600"/>
            <a:ext cx="6324480" cy="1381680"/>
          </a:xfrm>
          <a:prstGeom prst="rect">
            <a:avLst/>
          </a:prstGeom>
          <a:solidFill>
            <a:srgbClr val="cbf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действия в тол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игайся вместе с общим потоком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590920" y="533520"/>
            <a:ext cx="4495680" cy="3276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1295280" y="4114800"/>
            <a:ext cx="7162920" cy="2043720"/>
          </a:xfrm>
          <a:prstGeom prst="rect">
            <a:avLst/>
          </a:prstGeom>
          <a:solidFill>
            <a:srgbClr val="fac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Придя на массовое мероприятие, заранее запомни, где находятся аварийные и запасные выход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6-23T19:30:5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