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B7B-32B1-4C14-BE8B-D79BFCFE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CBF-6984-424A-9B34-8FD63CAC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11D-7F28-4458-8C6E-022C4B3C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6FE-0DE6-4B47-9AA2-907DCFD7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488-8B07-456C-A692-FAACB85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F67-0133-4DE8-B2BF-344E0C24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7EB-4E93-4B63-8050-60C8C29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D30-C07B-467D-BEE8-7063CA28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6A1-0855-4D43-B359-8E8ADE7A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E71-2FF6-4D3E-9FE0-6129698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A87-3D23-4E5F-A382-5F476EB2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526-4315-4F72-AF7D-E652853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200B-3E70-4BCA-977F-F45C4DA57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609480"/>
            <a:ext cx="8001000" cy="119124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ак вести себя при большом скоплени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5800" y="2743200"/>
            <a:ext cx="7696080" cy="26535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 митингах, стадионных мероприятиях, религиозных и политических демонстрациях, концертах,, в кинотеатрах и т.д. могут возникнуть очень опасные ситуации, приведенные к панике и да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666880" y="5715000"/>
            <a:ext cx="3733920" cy="762120"/>
          </a:xfrm>
          <a:prstGeom prst="ellipse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339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610240" cy="4476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14400" y="685800"/>
            <a:ext cx="7238880" cy="13737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ходи в места, где собир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чень много активно настроенных лю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638760" cy="398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676520" y="5257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19320" y="4419720"/>
            <a:ext cx="5943600" cy="18003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ривлекай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нимание активно настроенных люд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пример, фотографиру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80060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33520" y="304920"/>
            <a:ext cx="4647960" cy="22885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е высказывай в толпу своего отношение к происходящ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964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2361960" cy="96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8001000" y="609480"/>
            <a:ext cx="689040" cy="244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TP63978"/>
          <p:cNvPicPr/>
          <p:nvPr/>
        </p:nvPicPr>
        <p:blipFill>
          <a:blip r:embed="rId4"/>
          <a:stretch/>
        </p:blipFill>
        <p:spPr>
          <a:xfrm>
            <a:off x="3124080" y="1600200"/>
            <a:ext cx="2819520" cy="1663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380880" y="3886200"/>
            <a:ext cx="1828800" cy="173988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ними все, что повязано вокруг шеи, застегни все пуговицы и мол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38280" y="3352680"/>
            <a:ext cx="4496040" cy="9169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ержись по возможности дальше от стен, столбов, деревьев и оград. Ни в коем случае не хватайся з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238880" y="3809880"/>
            <a:ext cx="1676520" cy="201420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вободи руки от всех предметов, согни в локтях, прикрой ими гру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590920" y="5257800"/>
            <a:ext cx="4495680" cy="13341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райся не уп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 случае падения свернись клубком в направлении движения толпы, защити голову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676520" y="228600"/>
            <a:ext cx="6324480" cy="138168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действия в тол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йся вместе с общим потоком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495680" cy="327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295280" y="4114800"/>
            <a:ext cx="7162920" cy="20437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дя на массовое мероприятие, заранее запомни, где находятся аварийные и запасные вых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30:5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