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842-C703-4D02-A829-72163F6C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99A-820E-4AB1-888A-2A3D283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374-AD79-4088-B255-BE1B60EC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BC1-B4EE-498F-8B12-D7C66FD2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81E-B823-44AD-9D56-B4AED6B5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BC2-C625-430D-9B6E-AAD52C5A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BF0-14C5-4B1E-B84D-F1EEC954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A62-DF1E-4A7E-9058-EA970F7D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1D0-B7E6-4848-AB52-0B595675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332-2DBB-48B8-B573-674BBE45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60F-133A-4455-AADA-108B2806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E04-22FA-4B30-8947-FD21CA7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960A-1B00-4474-BB28-17BCBDA07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oeZRI6aIBm2tr2.jpg"/>
          <p:cNvPicPr/>
          <p:nvPr/>
        </p:nvPicPr>
        <p:blipFill>
          <a:blip r:embed="rId1"/>
          <a:srcRect l="23622" t="0" r="0" b="10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 rot="20368200">
            <a:off x="3156120" y="411480"/>
            <a:ext cx="4601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Необходимо соблюдать режим дня лагеря, общие санитарно-гигиенические нормы (умываться, причесываться, принимать душ, одеваться по погоде и т.д.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Каждый ребенок обязан соблюдать все установленные в лагере правила, в том числе правила противопожарной безопасности, правила проведения купаний, экскурсий, автобусных поездок, походов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Ребенок обязан быть вместе с отрядом. При необходимости отлучиться обязательно разрешение своего вожатог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Выход за территорию лагеря допускается только с разрешения начальника смены (или директора) и только в сопровождении вожатого или родите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Каждый ребенок и сотрудник лагеря должен беречь зеленые насаждения на территории лагеря, соблюдать чистот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.Нельзя есть незнакомые ягоды, пл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.В случае ухудшения самочувствия необходимо сообщать вожаты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Необходимо соблюдать правила поведения в общественных местах - словами, действиями и поведением не мешать окружающим, не оскорблять их эстетическое чувств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В лагере запрещается курить и употреблять спиртные напитки, в том числе пив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.Необходимо бережно относиться к личному имуществу и имуществу лаге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281160"/>
            <a:ext cx="2895840" cy="7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8XDEUZOJ2R2NKc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2268360" y="1125360"/>
            <a:ext cx="475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Ha территории образовательного учреждения запрещается разводить костры, зажигать факелы, применять фейерверки и петар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Запрещается курить в здании образовательного учреждения и на его территор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Запрещается приносить в образовательное учреждение спички, горючие жидкости (бензин и растворители), легковоспламеняющиеся вещества и материа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Запрещается пользоваться в кабинетах осветительными и нагревательными приборами с    открытым пламенем или спиралью (у электроплито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Не пользоваться неисправными электроприборами.   При пользовании электроутюгом необходимо ставить его на надежную подстав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оставлять без присмотра включенные электроприб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В случае возгорания и появления пламе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менить имеющиеся средства пожаротуш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звать пожарных по телефону 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кинуть помещение, если огонь не удалось погас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-201600" y="426960"/>
            <a:ext cx="93520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uaTT4uPmyFBU2ROMRdbr.jpg"/>
          <p:cNvPicPr/>
          <p:nvPr/>
        </p:nvPicPr>
        <p:blipFill>
          <a:blip r:embed="rId1"/>
          <a:srcRect l="22596" t="0" r="178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 rot="199200">
            <a:off x="766800" y="1484280"/>
            <a:ext cx="752508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Не включать без разрешения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педагогов или воспитателей электроприб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Не проверять температуру электроутюга касанием его подошвы пальцами р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Не включать радиорепродуктор в электросе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Не открывать электрошкафы, не включать электрорубиль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Не вывинчивать электролампочки при включенной настольной лампе или включенном выключате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касаться никаких оголенных проводов руками, они могут быть под напря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Не открывать розетки и выключатели для ремонта, даже если вы уже в 11 кла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 Не забрасывать на провода различные предметы и вере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 При обнаружении упавшего на землю электропровода со столба не подходите к нему ближе 5 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804960"/>
            <a:ext cx="756000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2b56edb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826920" y="549360"/>
            <a:ext cx="76327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Переходить дорогу только в установленных местах. На регулируемых перекрестках – на зеленый свет светофора. На нерегулируемых светофором установленных и обозначенных разметкой местах соблюдать максимальную осторожность и внима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Не выбегать на проезжую часть из-за стоящего транспорта. Неожиданное появление человека перед быстро движущимся автомобилем не позволяет водителю избежать наезда на пешехода или может привести к иной аварии с тяжкими последств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При выходе из транспорта, если необходимо перейти на другую сторону, нужно пропустить автобус, чтобы контролировать дорогу. Автобус обходить сзади, трамвай спере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При переходе дороги сначала посмотреть налево, а после перехода половины              ширины дороги – напра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Если не успели закончить переход и загорелся красный свет светофора, остановитесь на островке безопас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перебегайте дорогу перед близко идущим транспортом – помните, что               автомобиль мгновенно остановить невозможно и вы рискуете поп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 кол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Не играйте с мячом близко от дороги. Мяч может покати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проезжую часть, и вы в азарте не заметите опасности, выбеж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мяч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426960"/>
            <a:ext cx="915696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2b3f42d5.jpg"/>
          <p:cNvPicPr/>
          <p:nvPr/>
        </p:nvPicPr>
        <p:blipFill>
          <a:blip r:embed="rId1"/>
          <a:srcRect l="0" t="0" r="287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1042920" y="836640"/>
            <a:ext cx="5041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Не умеешь плавать – не купайся на глубоком месте, не надейся на надувной матрац или иные плавсредства – они могут выскользнуть из-под Вас и вы утон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Не заплывайте далеко, можно устать и не доплыть до бере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Надувные средства (камера, матрац) могут «уйти» от вас, и если плавать не умеете, то можете утону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Не ныряйте в неизвестном месте и на мели, так как можно удариться головой о дно или какой-либо пред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Не играйте на глубине с погружением головы в воду, можно захлебну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плавайте в лодке без спасательных средств (спасательного жилета или круг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Не шалите в лодке на воде, можно опрокину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 Не подплывайте к дебаркадерам, баржам, судам – может затянуть под дн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 Не зная брода, не переходите речку. Можно попасть в я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182600" y="517680"/>
            <a:ext cx="48340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F32unpAahz9Kb.jpg"/>
          <p:cNvPicPr/>
          <p:nvPr/>
        </p:nvPicPr>
        <p:blipFill>
          <a:blip r:embed="rId1"/>
          <a:srcRect l="16927" t="10105" r="8263" b="69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1908000" y="765000"/>
            <a:ext cx="5328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При отсутствии воспитателя не влезать на спортивные снаряды и оборуд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Перед выполнением упражнений провести разминку и разогрев мыш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Перед прыжками проверить прыжковую яму на отсутствие камней, стекла и других опасных предм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Не толкать друг друга, не ставить поднож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Обувь должна быть на нескользящей подошве (кроссовки, кед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Если при беге себя плохо почувствовали, перейдите на шаг, а потом сядь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При игре в футбол и хоккей применяйте спецодежду (защитные щитки, наплечники, налокотники и другие защитные средст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 При беге по пересеченной местности будьте внимательны, чтобы не оступиться или не попасть в я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 Если очень устали и тяжело дышать, прекратите бег и пойдите спортивной ходьбой или обычным пешим ходом. При головокружении или тошноте сообщите об э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231920" y="317520"/>
            <a:ext cx="6978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ZGtiveZQD56fsruzsw.jpg"/>
          <p:cNvPicPr/>
          <p:nvPr/>
        </p:nvPicPr>
        <p:blipFill>
          <a:blip r:embed="rId1"/>
          <a:srcRect l="1928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4284720" y="1578960"/>
            <a:ext cx="4535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При проведении массовых мероприятий следует находиться вместе с отрядом. Отойти можно только в сопровождении вожатог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Мероприятия следует посещать в соответствующей одежде и обуви. Если это не предполагается сценарием, нельзя появляться на мероприятиях в купальнике, шлепанц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При проведении массовых мероприятий на открытых площадках в солнечную погоду наличие головного убора обязательн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Следует соблюдать правила этикета в общественных местах (не шуметь, не толкаться, не свистеть, не топать ног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4322880" y="878040"/>
            <a:ext cx="37353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O5KUieUvDBxnkaY.jpg"/>
          <p:cNvPicPr/>
          <p:nvPr/>
        </p:nvPicPr>
        <p:blipFill>
          <a:blip r:embed="rId1"/>
          <a:srcRect l="2750" t="0" r="369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1403280" y="404640"/>
            <a:ext cx="655344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К пешеходным экскурсиям допускаются дети в соответствующей форме одежды: закрытая удобная обувь, головной убор, при необходимости длинные брюки и рубашки (кофты) с длинными рукав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Старшим во время проведения экскурсии (похода) является экскурсовод. Необходимо строго выполнять указания экскурсовода, а также сопровождающих вожаты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Во время прогулки, экскурсии, похода следует находиться с отрядом, не разбредаться. Не разрешается отходить от маршрута (тропы, дорожки), подходить к электропроводам, неогороженным краям оврагов, ущелий, обрыв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Необходимо своевременно сообщить вожатому об ухудшении состояния здоровья или травм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Следует уважительно относится к местным традициям и обычаям, бережно относиться к природе, памятникам истории и культур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Фотографирование разрешено в специально отведенных местах при общей остановке отряда по разрешению экскурсово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По окончании экскурсии (прогулки, похода) собраться в указанном месте и после объявления окончания экскурсии следовать указаниям своего вожато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Покупки в магазине можно делать только с разрешения вожато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При переходе через проезжую часть соблюдать правила дорожного движения, четко выполняя указания вожат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-60480"/>
            <a:ext cx="91569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25:21Z</dcterms:created>
  <dc:creator>Вика</dc:creator>
  <dc:description/>
  <dc:language>en-US</dc:language>
  <cp:lastModifiedBy>Вика</cp:lastModifiedBy>
  <dcterms:modified xsi:type="dcterms:W3CDTF">2012-06-01T18:29:56Z</dcterms:modified>
  <cp:revision>10</cp:revision>
  <dc:subject/>
  <dc:title>Слайд 1</dc:title>
</cp:coreProperties>
</file>