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655-2F8D-4524-9601-70229E50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89F-54C7-4917-868D-5ACEF22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36C-70FE-469F-9EBA-32A04B9F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3CA-F1E8-4799-8E73-6840A2A8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D85-C0A4-41F5-8C12-DCE3E119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5AF-01B7-400B-8318-1E94EBA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D07-42A0-494A-A1E4-A2C08DD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9F7-C457-4AE5-9751-4FB1460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66A-3C1B-4063-96A3-41D2F01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EA9-FEA2-45AC-BE11-1FD8B61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B94-6512-4ADE-995B-F11F5CF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F30-5D10-4A05-B9A9-1C57099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18D-D838-4BC0-B246-C58708178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oeZRI6aIBm2tr2.jpg"/>
          <p:cNvPicPr/>
          <p:nvPr/>
        </p:nvPicPr>
        <p:blipFill>
          <a:blip r:embed="rId1"/>
          <a:srcRect l="23622" t="0" r="0" b="10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 rot="20368200">
            <a:off x="3156120" y="411480"/>
            <a:ext cx="4601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Необходимо соблюдать режим дня лагеря, общие санитарно-гигиенические нормы (умываться, причесываться, принимать душ, одеваться по погоде и т.д.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Каждый ребенок обязан соблюдать все установленные в лагере правила, в том числе правила противопожарной безопасности, правила проведения купаний, экскурсий, автобусных поездок, походов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Ребенок обязан быть вместе с отрядом. При необходимости отлучиться обязательно разрешение своего вожатог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Выход за территорию лагеря допускается только с разрешения начальника смены (или директора) и только в сопровождении вожатого или родител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Каждый ребенок и сотрудник лагеря должен беречь зеленые насаждения на территории лагеря, соблюдать чистот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.Нельзя есть незнакомые ягоды, пл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.В случае ухудшения самочувствия необходимо сообщать вожаты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Необходимо соблюдать правила поведения в общественных местах - словами, действиями и поведением не мешать окружающим, не оскорблять их эстетическое чувст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В лагере запрещается курить и употреблять спиртные напитки, в том числе пив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.Необходимо бережно относиться к личному имуществу и имуществу лаге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281160"/>
            <a:ext cx="2895840" cy="7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8XDEUZOJ2R2NKc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2268360" y="1125360"/>
            <a:ext cx="475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Ha территории образовательного учреждения запрещается разводить костры, зажигать факелы, применять фейерверки и петар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Запрещается курить в здании образовательного учреждения и на его террит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Запрещается приносить в образовательное учреждение спички, горючие жидкости (бензин и растворители), легковоспламеняющиеся вещества и материа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Запрещается пользоваться в кабинетах осветительными и нагревательными приборами с    открытым пламенем или спиралью (у электроплиток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пользоваться неисправными электроприборами.   При пользовании электроутюгом необходимо ставить его на надежную подста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оставлять без присмотра включенные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В случае возгорания и появления пламе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менить имеющиеся средства пожаротуш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звать пожарных по телефону 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кинуть помещение, если огонь не удалось погас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-201600" y="426960"/>
            <a:ext cx="9352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uaTT4uPmyFBU2ROMRdbr.jpg"/>
          <p:cNvPicPr/>
          <p:nvPr/>
        </p:nvPicPr>
        <p:blipFill>
          <a:blip r:embed="rId1"/>
          <a:srcRect l="22596" t="0" r="178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 rot="199200">
            <a:off x="766800" y="1484280"/>
            <a:ext cx="7525080" cy="29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включать без разрешения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педагогов или воспитателей электроприб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проверять температуру электроутюга касанием его подошвы пальцами р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е включать радиорепродуктор в электросе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открывать электрошкафы, не включать электрорубиль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вывинчивать электролампочки при включенной настольной лампе или включенном выключ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касаться никаких оголенных проводов руками, они могут быть под напряж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открывать розетки и выключатели для ремонта, даже если вы уже в 11 кла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забрасывать на провода различные предметы и вере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При обнаружении упавшего на землю электропровода со столба не подходите к нему ближе 5 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804960"/>
            <a:ext cx="756000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2b56edb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826920" y="549360"/>
            <a:ext cx="76327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ереходить дорогу только в установленных местах. На регулируемых перекрестках – на зеленый свет светофора. На нерегулируемых светофором установленных и обозначенных разметкой местах соблюдать максимальную осторожность и внима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выбегать на проезжую часть из-за стоящего транспорта. Неожиданное появление человека перед быстро движущимся автомобилем не позволяет водителю избежать наезда на пешехода или может привести к иной аварии с тяжкими последств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ри выходе из транспорта, если необходимо перейти на другую сторону, нужно пропустить автобус, чтобы контролировать дорогу. Автобус обходить сзади, трамвай спере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При переходе дороги сначала посмотреть налево, а после перехода половины              ширины дороги – напра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Если не успели закончить переход и загорелся красный свет светофора, остановитесь на островке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еребегайте дорогу перед близко идущим транспортом – помните, что               автомобиль мгновенно остановить невозможно и вы рискуете поп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 кол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играйте с мячом близко от дороги. Мяч может покат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 проезжую часть, и вы в азарте не заметите опасности, выбеж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15696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2b3f42d5.jpg"/>
          <p:cNvPicPr/>
          <p:nvPr/>
        </p:nvPicPr>
        <p:blipFill>
          <a:blip r:embed="rId1"/>
          <a:srcRect l="0" t="0" r="287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1042920" y="836640"/>
            <a:ext cx="5041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Не умеешь плавать – не купайся на глубоком месте, не надейся на надувной матрац или иные плавсредства – они могут выскользнуть из-под Вас и вы утон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Не заплывайте далеко, можно устать и не доплыть до бере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Надувные средства (камера, матрац) могут «уйти» от вас, и если плавать не умеете, то можете утон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ныряйте в неизвестном месте и на мели, так как можно удариться головой о дно или какой-либо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Не играйте на глубине с погружением головы в воду, можно захлеб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Не плавайте в лодке без спасательных средств (спасательного жилета или круг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Не шалите в лодке на воде, можно опрокину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Не подплывайте к дебаркадерам, баржам, судам – может затянуть под дн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Не зная брода, не переходите речку. Можно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182600" y="517680"/>
            <a:ext cx="483408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F32unpAahz9Kb.jpg"/>
          <p:cNvPicPr/>
          <p:nvPr/>
        </p:nvPicPr>
        <p:blipFill>
          <a:blip r:embed="rId1"/>
          <a:srcRect l="16927" t="10105" r="8263" b="69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1"/>
          <p:cNvSpPr/>
          <p:nvPr/>
        </p:nvSpPr>
        <p:spPr>
          <a:xfrm>
            <a:off x="1908000" y="765000"/>
            <a:ext cx="5328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 При отсутствии воспитателя не влезать на спортивные снаряды и оборуд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 Перед выполнением упражнений провести разминку и разогрев мыш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 Перед прыжками проверить прыжковую яму на отсутствие камней, стекла и других опасных предм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 Не толкать друг друга, не ставить поднож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 Обувь должна быть на нескользящей подошве (кроссовки, кед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 Если при беге себя плохо почувствовали, перейдите на шаг, а потом сядь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 При игре в футбол и хоккей применяйте спецодежду (защитные щитки, наплечники, налокотники и другие защитные средст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 При беге по пересеченной местности будьте внимательны, чтобы не оступиться или не попасть в я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 Если очень устали и тяжело дышать, прекратите бег и пойдите спортивной ходьбой или обычным пешим ходом. При головокружении или тошноте сообщите об э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231920" y="317520"/>
            <a:ext cx="6978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ZGtiveZQD56fsruzsw.jpg"/>
          <p:cNvPicPr/>
          <p:nvPr/>
        </p:nvPicPr>
        <p:blipFill>
          <a:blip r:embed="rId1"/>
          <a:srcRect l="1928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4284720" y="1578960"/>
            <a:ext cx="4535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При проведении массовых мероприятий следует находиться вместе с отрядом. Отойти можно только в сопровождении вожатог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Мероприятия следует посещать в соответствующей одежде и обуви. Если это не предполагается сценарием, нельзя появляться на мероприятиях в купальнике, шлепанц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При проведении массовых мероприятий на открытых площадках в солнечную погоду наличие головного убора обязательно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Следует соблюдать правила этикета в общественных местах (не шуметь, не толкаться, не свистеть, не топать ног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4322880" y="878040"/>
            <a:ext cx="373536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O5KUieUvDBxnkaY.jpg"/>
          <p:cNvPicPr/>
          <p:nvPr/>
        </p:nvPicPr>
        <p:blipFill>
          <a:blip r:embed="rId1"/>
          <a:srcRect l="2750" t="0" r="369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"/>
          <p:cNvSpPr/>
          <p:nvPr/>
        </p:nvSpPr>
        <p:spPr>
          <a:xfrm>
            <a:off x="1403280" y="404640"/>
            <a:ext cx="655344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К пешеходным экскурсиям допускаются дети в соответствующей форме одежды: закрытая удобная обувь, головной убор, при необходимости длинные брюки и рубашки (кофты) с длинными рукав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Старшим во время проведения экскурсии (похода) является экскурсовод. Необходимо строго выполнять указания экскурсовода, а также сопровождающих вожат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Во время прогулки, экскурсии, похода следует находиться с отрядом, не разбредаться. Не разрешается отходить от маршрута (тропы, дорожки), подходить к электропроводам, неогороженным краям оврагов, ущелий, обрыв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.Необходимо своевременно сообщить вожатому об ухудшении состояния здоровья или травм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.Следует уважительно относится к местным традициям и обычаям, бережно относиться к природе, памятникам истории и культур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6.Фотографирование разрешено в специально отведенных местах при общей остановке отряда по разрешению экскурсово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.По окончании экскурсии (прогулки, похода) собраться в указанном месте и после объявления окончания экскурсии следовать указаниям своего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.Покупки в магазине можно делать только с разрешения вожато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9.При переходе через проезжую часть соблюдать правила дорожного движения, четко выполняя указания вожат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60480"/>
            <a:ext cx="91569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25:21Z</dcterms:created>
  <dc:creator>Вика</dc:creator>
  <dc:description/>
  <dc:language>en-US</dc:language>
  <cp:lastModifiedBy>Вика</cp:lastModifiedBy>
  <dcterms:modified xsi:type="dcterms:W3CDTF">2012-06-01T18:29:56Z</dcterms:modified>
  <cp:revision>10</cp:revision>
  <dc:subject/>
  <dc:title>Слайд 1</dc:title>
</cp:coreProperties>
</file>