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3704-A51D-4905-B0DC-A836891A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5C19-0614-4258-94FF-3EF0BC08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504-EF38-42EB-9E47-C3380AB9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0186-F406-47FA-9F3A-BA9A069E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71F2-6D04-46EB-A611-348498AE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F4EE-5F35-48B1-8BC0-6AF36B58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A83C-DC23-4123-92FE-AFD7EC8E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AA92-46C0-432A-AE3D-2F79A6D6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C9B7-75A8-45FE-88EC-C0961B0F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AB1A-99D1-435D-8ED3-E3E6203A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7364-5872-45E2-8E89-8346C0B5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B3F4-0B50-49A9-811D-810CEBA6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662A-D146-486A-B643-F89DF8B850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oeZRI6aIBm2tr2.jpg"/>
          <p:cNvPicPr/>
          <p:nvPr/>
        </p:nvPicPr>
        <p:blipFill>
          <a:blip r:embed="rId1"/>
          <a:srcRect l="23622" t="0" r="0" b="101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"/>
          <p:cNvSpPr/>
          <p:nvPr/>
        </p:nvSpPr>
        <p:spPr>
          <a:xfrm rot="20368200">
            <a:off x="3156120" y="411480"/>
            <a:ext cx="46018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Необходимо соблюдать режим дня лагеря, общие санитарно-гигиенические нормы (умываться, причесываться, принимать душ, одеваться по погоде и т.д.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Каждый ребенок обязан соблюдать все установленные в лагере правила, в том числе правила противопожарной безопасности, правила проведения купаний, экскурсий, автобусных поездок, походов и т.п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Ребенок обязан быть вместе с отрядом. При необходимости отлучиться обязательно разрешение своего вожатог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Выход за территорию лагеря допускается только с разрешения начальника смены (или директора) и только в сопровождении вожатого или родител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.Каждый ребенок и сотрудник лагеря должен беречь зеленые насаждения на территории лагеря, соблюдать чистоту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6.Нельзя есть незнакомые ягоды, пло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7.В случае ухудшения самочувствия необходимо сообщать вожаты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8.Необходимо соблюдать правила поведения в общественных местах - словами, действиями и поведением не мешать окружающим, не оскорблять их эстетическое чувств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.В лагере запрещается курить и употреблять спиртные напитки, в том числе пив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.Необходимо бережно относиться к личному имуществу и имуществу лагер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2" descr=""/>
          <p:cNvPicPr/>
          <p:nvPr/>
        </p:nvPicPr>
        <p:blipFill>
          <a:blip r:embed="rId2"/>
          <a:stretch/>
        </p:blipFill>
        <p:spPr>
          <a:xfrm>
            <a:off x="171360" y="281160"/>
            <a:ext cx="2895840" cy="76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8XDEUZOJ2R2NKc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2268360" y="1125360"/>
            <a:ext cx="47516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 Ha территории образовательного учреждения запрещается разводить костры, зажигать факелы, применять фейерверки и петар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 Запрещается курить в здании образовательного учреждения и на его территор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 Запрещается приносить в образовательное учреждение спички, горючие жидкости (бензин и растворители), легковоспламеняющиеся вещества и материа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 Запрещается пользоваться в кабинетах осветительными и нагревательными приборами с    открытым пламенем или спиралью (у электроплиток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 Не пользоваться неисправными электроприборами.   При пользовании электроутюгом необходимо ставить его на надежную подстав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 Не оставлять без присмотра включенные электроприбо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 В случае возгорания и появления пламен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менить имеющиеся средства пожаротуш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звать пожарных по телефону 0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кинуть помещение, если огонь не удалось погас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Прямоугольник 4" descr=""/>
          <p:cNvPicPr/>
          <p:nvPr/>
        </p:nvPicPr>
        <p:blipFill>
          <a:blip r:embed="rId2"/>
          <a:stretch/>
        </p:blipFill>
        <p:spPr>
          <a:xfrm>
            <a:off x="-201600" y="426960"/>
            <a:ext cx="935208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uaTT4uPmyFBU2ROMRdbr.jpg"/>
          <p:cNvPicPr/>
          <p:nvPr/>
        </p:nvPicPr>
        <p:blipFill>
          <a:blip r:embed="rId1"/>
          <a:srcRect l="22596" t="0" r="1787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1"/>
          <p:cNvSpPr/>
          <p:nvPr/>
        </p:nvSpPr>
        <p:spPr>
          <a:xfrm rot="199200">
            <a:off x="766800" y="1484280"/>
            <a:ext cx="7525080" cy="29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 Не включать без разрешения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педагогов или воспитателей электроприбо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 Не проверять температуру электроутюга касанием его подошвы пальцами ру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 Не включать радиорепродуктор в электросе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 Не открывать электрошкафы, не включать электрорубильн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 Не вывинчивать электролампочки при включенной настольной лампе или включенном выключате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 Не касаться никаких оголенных проводов руками, они могут быть под напряже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 Не открывать розетки и выключатели для ремонта, даже если вы уже в 11 кла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 Не забрасывать на провода различные предметы и верев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9. При обнаружении упавшего на землю электропровода со столба не подходите к нему ближе 5 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2" descr=""/>
          <p:cNvPicPr/>
          <p:nvPr/>
        </p:nvPicPr>
        <p:blipFill>
          <a:blip r:embed="rId2"/>
          <a:stretch/>
        </p:blipFill>
        <p:spPr>
          <a:xfrm>
            <a:off x="792000" y="804960"/>
            <a:ext cx="756000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4" descr="2b56edb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"/>
          <p:cNvSpPr/>
          <p:nvPr/>
        </p:nvSpPr>
        <p:spPr>
          <a:xfrm>
            <a:off x="826920" y="549360"/>
            <a:ext cx="763272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 Переходить дорогу только в установленных местах. На регулируемых перекрестках – на зеленый свет светофора. На нерегулируемых светофором установленных и обозначенных разметкой местах соблюдать максимальную осторожность и вниматель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 Не выбегать на проезжую часть из-за стоящего транспорта. Неожиданное появление человека перед быстро движущимся автомобилем не позволяет водителю избежать наезда на пешехода или может привести к иной аварии с тяжкими последстви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 При выходе из транспорта, если необходимо перейти на другую сторону, нужно пропустить автобус, чтобы контролировать дорогу. Автобус обходить сзади, трамвай спере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 При переходе дороги сначала посмотреть налево, а после перехода половины              ширины дороги – напра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 Если не успели закончить переход и загорелся красный свет светофора, остановитесь на островке безопас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 Не перебегайте дорогу перед близко идущим транспортом – помните, что               автомобиль мгновенно остановить невозможно и вы рискуете поп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д коле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 Не играйте с мячом близко от дороги. Мяч может покатить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 проезжую часть, и вы в азарте не заметите опасности, выбежа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 мяч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426960"/>
            <a:ext cx="915696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2b3f42d5.jpg"/>
          <p:cNvPicPr/>
          <p:nvPr/>
        </p:nvPicPr>
        <p:blipFill>
          <a:blip r:embed="rId1"/>
          <a:srcRect l="0" t="0" r="2874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"/>
          <p:cNvSpPr/>
          <p:nvPr/>
        </p:nvSpPr>
        <p:spPr>
          <a:xfrm>
            <a:off x="1042920" y="836640"/>
            <a:ext cx="50418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 Не умеешь плавать – не купайся на глубоком месте, не надейся на надувной матрац или иные плавсредства – они могут выскользнуть из-под Вас и вы утон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 Не заплывайте далеко, можно устать и не доплыть до бере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 Надувные средства (камера, матрац) могут «уйти» от вас, и если плавать не умеете, то можете утону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 Не ныряйте в неизвестном месте и на мели, так как можно удариться головой о дно или какой-либо предм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 Не играйте на глубине с погружением головы в воду, можно захлебнуть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 Не плавайте в лодке без спасательных средств (спасательного жилета или круг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 Не шалите в лодке на воде, можно опрокинуть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 Не подплывайте к дебаркадерам, баржам, судам – может затянуть под днищ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9. Не зная брода, не переходите речку. Можно попасть в я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2" descr=""/>
          <p:cNvPicPr/>
          <p:nvPr/>
        </p:nvPicPr>
        <p:blipFill>
          <a:blip r:embed="rId2"/>
          <a:stretch/>
        </p:blipFill>
        <p:spPr>
          <a:xfrm>
            <a:off x="1182600" y="517680"/>
            <a:ext cx="483408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F32unpAahz9Kb.jpg"/>
          <p:cNvPicPr/>
          <p:nvPr/>
        </p:nvPicPr>
        <p:blipFill>
          <a:blip r:embed="rId1"/>
          <a:srcRect l="16927" t="10105" r="8263" b="69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1908000" y="765000"/>
            <a:ext cx="53280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 При отсутствии воспитателя не влезать на спортивные снаряды и оборудо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 Перед выполнением упражнений провести разминку и разогрев мыш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 Перед прыжками проверить прыжковую яму на отсутствие камней, стекла и других опасных предме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 Не толкать друг друга, не ставить поднож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 Обувь должна быть на нескользящей подошве (кроссовки, кед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 Если при беге себя плохо почувствовали, перейдите на шаг, а потом сядь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 При игре в футбол и хоккей применяйте спецодежду (защитные щитки, наплечники, налокотники и другие защитные средств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 При беге по пересеченной местности будьте внимательны, чтобы не оступиться или не попасть в я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9. Если очень устали и тяжело дышать, прекратите бег и пойдите спортивной ходьбой или обычным пешим ходом. При головокружении или тошноте сообщите об эт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1231920" y="317520"/>
            <a:ext cx="6978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uZGtiveZQD56fsruzsw.jpg"/>
          <p:cNvPicPr/>
          <p:nvPr/>
        </p:nvPicPr>
        <p:blipFill>
          <a:blip r:embed="rId1"/>
          <a:srcRect l="1928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4284720" y="1578960"/>
            <a:ext cx="453528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При проведении массовых мероприятий следует находиться вместе с отрядом. Отойти можно только в сопровождении вожатого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Мероприятия следует посещать в соответствующей одежде и обуви. Если это не предполагается сценарием, нельзя появляться на мероприятиях в купальнике, шлепанцах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При проведении массовых мероприятий на открытых площадках в солнечную погоду наличие головного убора обязательно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.Следует соблюдать правила этикета в общественных местах (не шуметь, не толкаться, не свистеть, не топать ногам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2" descr=""/>
          <p:cNvPicPr/>
          <p:nvPr/>
        </p:nvPicPr>
        <p:blipFill>
          <a:blip r:embed="rId2"/>
          <a:stretch/>
        </p:blipFill>
        <p:spPr>
          <a:xfrm>
            <a:off x="4322880" y="878040"/>
            <a:ext cx="373536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O5KUieUvDBxnkaY.jpg"/>
          <p:cNvPicPr/>
          <p:nvPr/>
        </p:nvPicPr>
        <p:blipFill>
          <a:blip r:embed="rId1"/>
          <a:srcRect l="2750" t="0" r="369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"/>
          <p:cNvSpPr/>
          <p:nvPr/>
        </p:nvSpPr>
        <p:spPr>
          <a:xfrm>
            <a:off x="1403280" y="404640"/>
            <a:ext cx="655344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К пешеходным экскурсиям допускаются дети в соответствующей форме одежды: закрытая удобная обувь, головной убор, при необходимости длинные брюки и рубашки (кофты) с длинными рукавам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Старшим во время проведения экскурсии (похода) является экскурсовод. Необходимо строго выполнять указания экскурсовода, а также сопровождающих вожатых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.Во время прогулки, экскурсии, похода следует находиться с отрядом, не разбредаться. Не разрешается отходить от маршрута (тропы, дорожки), подходить к электропроводам, неогороженным краям оврагов, ущелий, обрыво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.Необходимо своевременно сообщить вожатому об ухудшении состояния здоровья или травмах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.Следует уважительно относится к местным традициям и обычаям, бережно относиться к природе, памятникам истории и культуры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.Фотографирование разрешено в специально отведенных местах при общей остановке отряда по разрешению экскурсовод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.По окончании экскурсии (прогулки, похода) собраться в указанном месте и после объявления окончания экскурсии следовать указаниям своего вожатого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8.Покупки в магазине можно делать только с разрешения вожатого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9.При переходе через проезжую часть соблюдать правила дорожного движения, четко выполняя указания вожат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-60480"/>
            <a:ext cx="915696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16:25:21Z</dcterms:created>
  <dc:creator>Вика</dc:creator>
  <dc:description/>
  <dc:language>en-US</dc:language>
  <cp:lastModifiedBy>Вика</cp:lastModifiedBy>
  <dcterms:modified xsi:type="dcterms:W3CDTF">2012-06-01T18:29:56Z</dcterms:modified>
  <cp:revision>10</cp:revision>
  <dc:subject/>
  <dc:title>Слайд 1</dc:title>
</cp:coreProperties>
</file>