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6DC-5283-4435-B26F-DA71FEC2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E3E-6586-4C28-A6CF-5E0F0D80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0F2-ABEC-41D0-BBFA-69FCCFF3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9D0-A216-4BA5-B5BC-4B6D827C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0366-D6E8-4EC9-AC5F-239FA6EA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21B0-1AF3-4D14-B504-BC11AFC3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CBC9-F356-428B-A059-EA5A3CBD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474D-F683-4C95-A066-3AEE4480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44D2-C79A-48C3-9774-4A4D2B16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B163-7DF2-4A3F-B51C-2804185F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4540-0AB3-4964-B562-B4A39BA7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520-89E7-403A-BB86-C9CD1BE1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30D2-F4EC-447F-9CD1-34B7E627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B12C-72B1-4AAF-BC58-C62F41F0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392A-E197-4B95-9AF4-8F1BC5DC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ABAD-6121-4A38-8388-983F68FB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8794-82B4-4A0C-B7E6-0B158023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43CF-5A41-4563-80A0-7AECD5DE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B767-026C-4B2B-B68B-00D08389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D7DC-0565-4E86-960F-F6B5E15B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4B3-A76E-4656-ABFD-DC1BDE6C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22E-1195-45F6-9EB7-DDAAAE7B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41F-46A3-43A5-BAFC-B2AE1A8D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1FD-4096-4405-B289-81F96440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94AA-CF95-4383-9ED8-634D798876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64F8-2E70-48B9-80CB-5E7819E0B1C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j0232732"/>
          <p:cNvPicPr/>
          <p:nvPr/>
        </p:nvPicPr>
        <p:blipFill>
          <a:blip r:embed="rId1"/>
          <a:stretch/>
        </p:blipFill>
        <p:spPr>
          <a:xfrm>
            <a:off x="6443640" y="3500280"/>
            <a:ext cx="1973160" cy="30211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Правила поведения на природе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втор: Павлова Е. 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Цель проекта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учить детей бережно относиться к природ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блюдать правила поведения на природ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ить видеть красоту окружающего ми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j0197388"/>
          <p:cNvPicPr/>
          <p:nvPr/>
        </p:nvPicPr>
        <p:blipFill>
          <a:blip r:embed="rId1"/>
          <a:stretch/>
        </p:blipFill>
        <p:spPr>
          <a:xfrm>
            <a:off x="6156360" y="4437000"/>
            <a:ext cx="2424240" cy="1927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j0198046"/>
          <p:cNvPicPr/>
          <p:nvPr/>
        </p:nvPicPr>
        <p:blipFill>
          <a:blip r:embed="rId2"/>
          <a:stretch/>
        </p:blipFill>
        <p:spPr>
          <a:xfrm>
            <a:off x="684360" y="4214880"/>
            <a:ext cx="24476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авило первое: пилите на дрова только сухостой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илите на дрова только сухостой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мертвые деревья. Это легко определить по наличию зеленых листьев. Даже если на самом верху есть хоть одна зеленая ветка — поищите другое дерево. Живое все равно плохо будет гореть, так что это правило вроде все знают. Но не все, к сожалению,  грамотно спиливают сухостой — старайтесь спилить его так, чтобы он не раздавил десяток других, молодых и живых еще деревье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j0215100"/>
          <p:cNvPicPr/>
          <p:nvPr/>
        </p:nvPicPr>
        <p:blipFill>
          <a:blip r:embed="rId1"/>
          <a:stretch/>
        </p:blipFill>
        <p:spPr>
          <a:xfrm>
            <a:off x="7308720" y="5157720"/>
            <a:ext cx="1494000" cy="1368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j0310266"/>
          <p:cNvPicPr/>
          <p:nvPr/>
        </p:nvPicPr>
        <p:blipFill>
          <a:blip r:embed="rId2"/>
          <a:stretch/>
        </p:blipFill>
        <p:spPr>
          <a:xfrm>
            <a:off x="1619280" y="5516640"/>
            <a:ext cx="158436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j0215291"/>
          <p:cNvPicPr/>
          <p:nvPr/>
        </p:nvPicPr>
        <p:blipFill>
          <a:blip r:embed="rId1"/>
          <a:stretch/>
        </p:blipFill>
        <p:spPr>
          <a:xfrm>
            <a:off x="7380360" y="5346720"/>
            <a:ext cx="1374840" cy="1511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авило второе : не ставьте палатки близко к муравейникам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е ставьте палатки близко к муравейникам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и на муравьиных тропах. Муравьи расчистили не для нас сосновую стоянку и не виноваты, что люди сюда пришли. Они не меняют своих маршрутов, и в результате сотни их гибнут от наших ног, потому что очень часто их тропа совпадает с нашей. А кто проложил ее первым — догадайтесь сами. Так что — уступи дорогу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5" descr="j0230894"/>
          <p:cNvPicPr/>
          <p:nvPr/>
        </p:nvPicPr>
        <p:blipFill>
          <a:blip r:embed="rId2"/>
          <a:stretch/>
        </p:blipFill>
        <p:spPr>
          <a:xfrm>
            <a:off x="2124000" y="5589720"/>
            <a:ext cx="1656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6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6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j0229175"/>
          <p:cNvPicPr/>
          <p:nvPr/>
        </p:nvPicPr>
        <p:blipFill>
          <a:blip r:embed="rId1"/>
          <a:stretch/>
        </p:blipFill>
        <p:spPr>
          <a:xfrm>
            <a:off x="5867280" y="3789360"/>
            <a:ext cx="2305080" cy="2565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авило третье: не вбивайте гвозди в живые деревья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нужно вбивать гвозди в живые деревья- это приносит огромный вред здоровому дереву. Придумайте что нибудь другое: вбейте колья в землю или натяните верев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7" descr="j0286875"/>
          <p:cNvPicPr/>
          <p:nvPr/>
        </p:nvPicPr>
        <p:blipFill>
          <a:blip r:embed="rId2"/>
          <a:stretch/>
        </p:blipFill>
        <p:spPr>
          <a:xfrm>
            <a:off x="1692360" y="3933720"/>
            <a:ext cx="271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1250"/>
                            </p:stCondLst>
                            <p:childTnLst>
                              <p:par>
                                <p:cTn id="8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авило четвертое :не устраивайте в сухую погоду костров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 устраивайте в сухую погоду «пионерских» костров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под деревьями. Достаточно подпалить одну ветку большой сосны, под которой вы расположились, и вы устроите верховой пожар, потушить который не сможете никогда, так как он распространяется очень быстро и недосягаем. В результате вам придется спешно убегать, а по вашей милости сгорят десятки гектаров леса, вместе с мелким зверье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j0215337"/>
          <p:cNvPicPr/>
          <p:nvPr/>
        </p:nvPicPr>
        <p:blipFill>
          <a:blip r:embed="rId1"/>
          <a:stretch/>
        </p:blipFill>
        <p:spPr>
          <a:xfrm>
            <a:off x="7812000" y="5365800"/>
            <a:ext cx="1067040" cy="1492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j0232816"/>
          <p:cNvPicPr/>
          <p:nvPr/>
        </p:nvPicPr>
        <p:blipFill>
          <a:blip r:embed="rId2"/>
          <a:stretch/>
        </p:blipFill>
        <p:spPr>
          <a:xfrm>
            <a:off x="324000" y="836640"/>
            <a:ext cx="148428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авило пятое: не оставляйте остатки еды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 оставляйте остатки еды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Оболочки от продуктов питания — уже ясно, куда девать (см. выше), сами продукты, особенно если это крупы, тушенка, сухари и т.п.. — просто высыпьте под дерево. Как только вы уйдете, благодарные зверьки и птицы все  скушают , а что не скушают— с дождями уйдет в землю. Можно остатки крупяных изделий выкинуть в воду. Хорошо, если у вас осталась мука и постное масло — скатайте комок теста — лучший подарок карповым рыбам! Однако помните, что если в реке живут только хищные, «спиннинговые» рыбы, вы только засорите дно, потому что даже мальки хищников не особо любят растительную пищу, предпочитая планктон, жучков, мотыля и насекомы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j0198625"/>
          <p:cNvPicPr/>
          <p:nvPr/>
        </p:nvPicPr>
        <p:blipFill>
          <a:blip r:embed="rId1"/>
          <a:stretch/>
        </p:blipFill>
        <p:spPr>
          <a:xfrm>
            <a:off x="6659640" y="5821200"/>
            <a:ext cx="129708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Берегите природу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ироде ничто  не существует обособленно, все ее элементы тесно связаны между собой, влияют друг на друга, и ущерб, нанесенный одному, немедленно вызывает ухудшение других. Каждый должен по возможности обогащать природу, и ни при каких обстоятельствах не обеднять е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4" descr="j0237524"/>
          <p:cNvPicPr/>
          <p:nvPr/>
        </p:nvPicPr>
        <p:blipFill>
          <a:blip r:embed="rId1"/>
          <a:stretch/>
        </p:blipFill>
        <p:spPr>
          <a:xfrm>
            <a:off x="6659640" y="4365720"/>
            <a:ext cx="2038320" cy="2165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j0346417"/>
          <p:cNvPicPr/>
          <p:nvPr/>
        </p:nvPicPr>
        <p:blipFill>
          <a:blip r:embed="rId2"/>
          <a:stretch/>
        </p:blipFill>
        <p:spPr>
          <a:xfrm>
            <a:off x="468360" y="458640"/>
            <a:ext cx="1224000" cy="11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08:53:16Z</dcterms:created>
  <dc:creator>учитель</dc:creator>
  <dc:description/>
  <dc:language>en-US</dc:language>
  <cp:lastModifiedBy>Николай</cp:lastModifiedBy>
  <dcterms:modified xsi:type="dcterms:W3CDTF">2013-07-01T11:27:00Z</dcterms:modified>
  <cp:revision>5</cp:revision>
  <dc:subject/>
  <dc:title>Правила поведения на природе.</dc:title>
</cp:coreProperties>
</file>