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FE6-E81F-4AB1-BF80-26A5A578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74E-6038-400B-A7B2-BDE58A28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5D1-B697-499F-BC18-C158D92B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230-775A-48BF-8231-272CFE70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50B8-BA6B-488D-ABD9-A320A4AE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EF0A-F37C-4B97-AA3E-1FD72455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F3AA-20E0-48A3-8E43-FC848D21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EA38-E1A8-4A40-B56A-544CCB2F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D4DA-DB45-4C98-A4E6-3A0D777E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47AE-7BC4-498A-9AF0-73A1BD7A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B6AA-FD3C-4091-8BE4-5678B8FE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E44-82BF-462A-B64A-F71799DE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6D21-87E0-4187-BF90-B0B3C45D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FD1D-7BDD-4480-AC3D-856F9E48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84C0-F028-41C8-B62B-B846FF70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D92C-68B5-4C38-B8C8-948E3D62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CDB8-4F80-4BBF-AC49-874AF423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2EA1-FCB1-49BD-AF50-B91A0D13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CDE-7DD0-4178-8A23-A09C2603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D92-CFC8-4C9D-8273-C6CF82B5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175-596F-4658-9829-7B1CAFE6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01ED-6504-471D-B4FE-DAA1D5BC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47D-7624-4C83-BB90-FDEBE991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B8F4-9AB2-487F-A096-82F1A8E5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B839-F347-4DA1-8BF0-A4A99ADDF8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F66D-8D3B-4655-B3AC-E450CB5068F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j0232732"/>
          <p:cNvPicPr/>
          <p:nvPr/>
        </p:nvPicPr>
        <p:blipFill>
          <a:blip r:embed="rId1"/>
          <a:stretch/>
        </p:blipFill>
        <p:spPr>
          <a:xfrm>
            <a:off x="6443640" y="3500280"/>
            <a:ext cx="1973160" cy="30211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Правила поведения на природе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втор: Павлова Е. 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Цель проекта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учить детей бережно относиться к природ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блюдать правила поведения на природ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ить видеть красоту окружающего ми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j0197388"/>
          <p:cNvPicPr/>
          <p:nvPr/>
        </p:nvPicPr>
        <p:blipFill>
          <a:blip r:embed="rId1"/>
          <a:stretch/>
        </p:blipFill>
        <p:spPr>
          <a:xfrm>
            <a:off x="6156360" y="4437000"/>
            <a:ext cx="2424240" cy="1927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j0198046"/>
          <p:cNvPicPr/>
          <p:nvPr/>
        </p:nvPicPr>
        <p:blipFill>
          <a:blip r:embed="rId2"/>
          <a:stretch/>
        </p:blipFill>
        <p:spPr>
          <a:xfrm>
            <a:off x="684360" y="4214880"/>
            <a:ext cx="24476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авило первое: пилите на дрова только сухостой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илите на дрова только сухостой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мертвые деревья. Это легко определить по наличию зеленых листьев. Даже если на самом верху есть хоть одна зеленая ветка — поищите другое дерево. Живое все равно плохо будет гореть, так что это правило вроде все знают. Но не все, к сожалению,  грамотно спиливают сухостой — старайтесь спилить его так, чтобы он не раздавил десяток других, молодых и живых еще деревье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j0215100"/>
          <p:cNvPicPr/>
          <p:nvPr/>
        </p:nvPicPr>
        <p:blipFill>
          <a:blip r:embed="rId1"/>
          <a:stretch/>
        </p:blipFill>
        <p:spPr>
          <a:xfrm>
            <a:off x="7308720" y="5157720"/>
            <a:ext cx="1494000" cy="1368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j0310266"/>
          <p:cNvPicPr/>
          <p:nvPr/>
        </p:nvPicPr>
        <p:blipFill>
          <a:blip r:embed="rId2"/>
          <a:stretch/>
        </p:blipFill>
        <p:spPr>
          <a:xfrm>
            <a:off x="1619280" y="5516640"/>
            <a:ext cx="158436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j0215291"/>
          <p:cNvPicPr/>
          <p:nvPr/>
        </p:nvPicPr>
        <p:blipFill>
          <a:blip r:embed="rId1"/>
          <a:stretch/>
        </p:blipFill>
        <p:spPr>
          <a:xfrm>
            <a:off x="7380360" y="5346720"/>
            <a:ext cx="1374840" cy="1511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авило второе : не ставьте палатки близко к муравейникам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е ставьте палатки близко к муравейникам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и на муравьиных тропах. Муравьи расчистили не для нас сосновую стоянку и не виноваты, что люди сюда пришли. Они не меняют своих маршрутов, и в результате сотни их гибнут от наших ног, потому что очень часто их тропа совпадает с нашей. А кто проложил ее первым — догадайтесь сами. Так что — уступи дорогу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5" descr="j0230894"/>
          <p:cNvPicPr/>
          <p:nvPr/>
        </p:nvPicPr>
        <p:blipFill>
          <a:blip r:embed="rId2"/>
          <a:stretch/>
        </p:blipFill>
        <p:spPr>
          <a:xfrm>
            <a:off x="2124000" y="5589720"/>
            <a:ext cx="1656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6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6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j0229175"/>
          <p:cNvPicPr/>
          <p:nvPr/>
        </p:nvPicPr>
        <p:blipFill>
          <a:blip r:embed="rId1"/>
          <a:stretch/>
        </p:blipFill>
        <p:spPr>
          <a:xfrm>
            <a:off x="5867280" y="3789360"/>
            <a:ext cx="2305080" cy="2565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авило третье: не вбивайте гвозди в живые деревья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нужно вбивать гвозди в живые деревья- это приносит огромный вред здоровому дереву. Придумайте что нибудь другое: вбейте колья в землю или натяните верев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7" descr="j0286875"/>
          <p:cNvPicPr/>
          <p:nvPr/>
        </p:nvPicPr>
        <p:blipFill>
          <a:blip r:embed="rId2"/>
          <a:stretch/>
        </p:blipFill>
        <p:spPr>
          <a:xfrm>
            <a:off x="1692360" y="3933720"/>
            <a:ext cx="271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1250"/>
                            </p:stCondLst>
                            <p:childTnLst>
                              <p:par>
                                <p:cTn id="8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авило четвертое :не устраивайте в сухую погоду костров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 устраивайте в сухую погоду «пионерских» костров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под деревьями. Достаточно подпалить одну ветку большой сосны, под которой вы расположились, и вы устроите верховой пожар, потушить который не сможете никогда, так как он распространяется очень быстро и недосягаем. В результате вам придется спешно убегать, а по вашей милости сгорят десятки гектаров леса, вместе с мелким зверье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j0215337"/>
          <p:cNvPicPr/>
          <p:nvPr/>
        </p:nvPicPr>
        <p:blipFill>
          <a:blip r:embed="rId1"/>
          <a:stretch/>
        </p:blipFill>
        <p:spPr>
          <a:xfrm>
            <a:off x="7812000" y="5365800"/>
            <a:ext cx="1067040" cy="1492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j0232816"/>
          <p:cNvPicPr/>
          <p:nvPr/>
        </p:nvPicPr>
        <p:blipFill>
          <a:blip r:embed="rId2"/>
          <a:stretch/>
        </p:blipFill>
        <p:spPr>
          <a:xfrm>
            <a:off x="324000" y="836640"/>
            <a:ext cx="148428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авило пятое: не оставляйте остатки еды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 оставляйте остатки еды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Оболочки от продуктов питания — уже ясно, куда девать (см. выше), сами продукты, особенно если это крупы, тушенка, сухари и т.п.. — просто высыпьте под дерево. Как только вы уйдете, благодарные зверьки и птицы все  скушают , а что не скушают— с дождями уйдет в землю. Можно остатки крупяных изделий выкинуть в воду. Хорошо, если у вас осталась мука и постное масло — скатайте комок теста — лучший подарок карповым рыбам! Однако помните, что если в реке живут только хищные, «спиннинговые» рыбы, вы только засорите дно, потому что даже мальки хищников не особо любят растительную пищу, предпочитая планктон, жучков, мотыля и насекомы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j0198625"/>
          <p:cNvPicPr/>
          <p:nvPr/>
        </p:nvPicPr>
        <p:blipFill>
          <a:blip r:embed="rId1"/>
          <a:stretch/>
        </p:blipFill>
        <p:spPr>
          <a:xfrm>
            <a:off x="6659640" y="5821200"/>
            <a:ext cx="129708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Берегите природу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ироде ничто  не существует обособленно, все ее элементы тесно связаны между собой, влияют друг на друга, и ущерб, нанесенный одному, немедленно вызывает ухудшение других. Каждый должен по возможности обогащать природу, и ни при каких обстоятельствах не обеднять е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4" descr="j0237524"/>
          <p:cNvPicPr/>
          <p:nvPr/>
        </p:nvPicPr>
        <p:blipFill>
          <a:blip r:embed="rId1"/>
          <a:stretch/>
        </p:blipFill>
        <p:spPr>
          <a:xfrm>
            <a:off x="6659640" y="4365720"/>
            <a:ext cx="2038320" cy="2165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j0346417"/>
          <p:cNvPicPr/>
          <p:nvPr/>
        </p:nvPicPr>
        <p:blipFill>
          <a:blip r:embed="rId2"/>
          <a:stretch/>
        </p:blipFill>
        <p:spPr>
          <a:xfrm>
            <a:off x="468360" y="458640"/>
            <a:ext cx="1224000" cy="11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08:53:16Z</dcterms:created>
  <dc:creator>учитель</dc:creator>
  <dc:description/>
  <dc:language>en-US</dc:language>
  <cp:lastModifiedBy>Николай</cp:lastModifiedBy>
  <dcterms:modified xsi:type="dcterms:W3CDTF">2013-07-01T11:27:00Z</dcterms:modified>
  <cp:revision>5</cp:revision>
  <dc:subject/>
  <dc:title>Правила поведения на природе.</dc:title>
</cp:coreProperties>
</file>