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78B8-BEAB-4A8A-9BCD-CB1D9036E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5ADD-982D-441C-A93E-27EFF64ED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ACD1-24B1-490E-94FE-E2B34CD72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C508-26EC-47EF-B893-74E7CE2A6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56756-C47A-4628-AC74-FBC1845FD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08C97-1B9D-49AA-8B70-E8FECC69D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40DBB-F805-4BE6-9827-8ED180B13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8A569-4D09-4314-983E-FB281CBCC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723A0-7C20-4741-B64A-37FE93478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CACEA-C55D-4409-A4C6-3516561B2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49E13-7549-4963-8405-EFD04F60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2E1A-8E0E-4B99-9268-4537D83D9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444F9-84E2-4160-96BB-97618F63B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7594C-0AE2-4411-86E4-40DEEAD7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CC805-D56A-41CB-A8C7-77493141C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9F9C9-E25A-4270-8413-EC9C18A98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71C3B-468A-4718-9D7A-3E9830DCC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BAAC-DE82-42B2-85CE-B7EA84019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1E73-20D3-499C-8453-DF102C24C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EFFB-E4CB-4CB9-A516-2CD8740C2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3090-C602-4AAD-8E5C-9A3E3CFFE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853C-82BF-48DA-9B21-E066B909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BFB0-8B8B-4311-A3EE-C2C88366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CC28-2A22-4548-A285-D1E3E2BEF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3A5D4-B6AB-42FA-A80C-6EA598ED365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5D147-A308-43F5-8882-A6707022616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j0232732"/>
          <p:cNvPicPr/>
          <p:nvPr/>
        </p:nvPicPr>
        <p:blipFill>
          <a:blip r:embed="rId1"/>
          <a:stretch/>
        </p:blipFill>
        <p:spPr>
          <a:xfrm>
            <a:off x="6443640" y="3500280"/>
            <a:ext cx="1973160" cy="30211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Правила поведения на природе.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втор: Павлова Е. Г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Цель проекта: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учить детей бережно относиться к природе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облюдать правила поведения на природе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Учить видеть красоту окружающего мир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4" descr="j0197388"/>
          <p:cNvPicPr/>
          <p:nvPr/>
        </p:nvPicPr>
        <p:blipFill>
          <a:blip r:embed="rId1"/>
          <a:stretch/>
        </p:blipFill>
        <p:spPr>
          <a:xfrm>
            <a:off x="6156360" y="4437000"/>
            <a:ext cx="2424240" cy="19274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j0198046"/>
          <p:cNvPicPr/>
          <p:nvPr/>
        </p:nvPicPr>
        <p:blipFill>
          <a:blip r:embed="rId2"/>
          <a:stretch/>
        </p:blipFill>
        <p:spPr>
          <a:xfrm>
            <a:off x="684360" y="4214880"/>
            <a:ext cx="244764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9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Правило первое: пилите на дрова только сухостой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Пилите на дрова только сухостой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— мертвые деревья. Это легко определить по наличию зеленых листьев. Даже если на самом верху есть хоть одна зеленая ветка — поищите другое дерево. Живое все равно плохо будет гореть, так что это правило вроде все знают. Но не все, к сожалению,  грамотно спиливают сухостой — старайтесь спилить его так, чтобы он не раздавил десяток других, молодых и живых еще деревьев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4" descr="j0215100"/>
          <p:cNvPicPr/>
          <p:nvPr/>
        </p:nvPicPr>
        <p:blipFill>
          <a:blip r:embed="rId1"/>
          <a:stretch/>
        </p:blipFill>
        <p:spPr>
          <a:xfrm>
            <a:off x="7308720" y="5157720"/>
            <a:ext cx="1494000" cy="1368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j0310266"/>
          <p:cNvPicPr/>
          <p:nvPr/>
        </p:nvPicPr>
        <p:blipFill>
          <a:blip r:embed="rId2"/>
          <a:stretch/>
        </p:blipFill>
        <p:spPr>
          <a:xfrm>
            <a:off x="1619280" y="5516640"/>
            <a:ext cx="1584360" cy="10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j0215291"/>
          <p:cNvPicPr/>
          <p:nvPr/>
        </p:nvPicPr>
        <p:blipFill>
          <a:blip r:embed="rId1"/>
          <a:stretch/>
        </p:blipFill>
        <p:spPr>
          <a:xfrm>
            <a:off x="7380360" y="5346720"/>
            <a:ext cx="1374840" cy="15112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Правило второе : не ставьте палатки близко к муравейникам.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Не ставьте палатки близко к муравейникам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и на муравьиных тропах. Муравьи расчистили не для нас сосновую стоянку и не виноваты, что люди сюда пришли. Они не меняют своих маршрутов, и в результате сотни их гибнут от наших ног, потому что очень часто их тропа совпадает с нашей. А кто проложил ее первым — догадайтесь сами. Так что — уступи дорогу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Picture 5" descr="j0230894"/>
          <p:cNvPicPr/>
          <p:nvPr/>
        </p:nvPicPr>
        <p:blipFill>
          <a:blip r:embed="rId2"/>
          <a:stretch/>
        </p:blipFill>
        <p:spPr>
          <a:xfrm>
            <a:off x="2124000" y="5589720"/>
            <a:ext cx="165600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6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6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6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j0229175"/>
          <p:cNvPicPr/>
          <p:nvPr/>
        </p:nvPicPr>
        <p:blipFill>
          <a:blip r:embed="rId1"/>
          <a:stretch/>
        </p:blipFill>
        <p:spPr>
          <a:xfrm>
            <a:off x="5867280" y="3789360"/>
            <a:ext cx="2305080" cy="256536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Правило третье: не вбивайте гвозди в живые деревья.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е нужно вбивать гвозди в живые деревья- это приносит огромный вред здоровому дереву. Придумайте что нибудь другое: вбейте колья в землю или натяните веревк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2" name="Picture 7" descr="j0286875"/>
          <p:cNvPicPr/>
          <p:nvPr/>
        </p:nvPicPr>
        <p:blipFill>
          <a:blip r:embed="rId2"/>
          <a:stretch/>
        </p:blipFill>
        <p:spPr>
          <a:xfrm>
            <a:off x="1692360" y="3933720"/>
            <a:ext cx="271764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1250"/>
                            </p:stCondLst>
                            <p:childTnLst>
                              <p:par>
                                <p:cTn id="8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Правило четвертое :не устраивайте в сухую погоду костров.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Не устраивайте в сухую погоду «пионерских» костров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под деревьями. Достаточно подпалить одну ветку большой сосны, под которой вы расположились, и вы устроите верховой пожар, потушить который не сможете никогда, так как он распространяется очень быстро и недосягаем. В результате вам придется спешно убегать, а по вашей милости сгорят десятки гектаров леса, вместе с мелким зверьем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4" descr="j0215337"/>
          <p:cNvPicPr/>
          <p:nvPr/>
        </p:nvPicPr>
        <p:blipFill>
          <a:blip r:embed="rId1"/>
          <a:stretch/>
        </p:blipFill>
        <p:spPr>
          <a:xfrm>
            <a:off x="7812000" y="5365800"/>
            <a:ext cx="1067040" cy="1492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j0232816"/>
          <p:cNvPicPr/>
          <p:nvPr/>
        </p:nvPicPr>
        <p:blipFill>
          <a:blip r:embed="rId2"/>
          <a:stretch/>
        </p:blipFill>
        <p:spPr>
          <a:xfrm>
            <a:off x="324000" y="836640"/>
            <a:ext cx="148428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Правило пятое: не оставляйте остатки еды.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Не оставляйте остатки еды.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Оболочки от продуктов питания — уже ясно, куда девать (см. выше), сами продукты, особенно если это крупы, тушенка, сухари и т.п.. — просто высыпьте под дерево. Как только вы уйдете, благодарные зверьки и птицы все  скушают , а что не скушают— с дождями уйдет в землю. Можно остатки крупяных изделий выкинуть в воду. Хорошо, если у вас осталась мука и постное масло — скатайте комок теста — лучший подарок карповым рыбам! Однако помните, что если в реке живут только хищные, «спиннинговые» рыбы, вы только засорите дно, потому что даже мальки хищников не особо любят растительную пищу, предпочитая планктон, жучков, мотыля и насекомых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4" descr="j0198625"/>
          <p:cNvPicPr/>
          <p:nvPr/>
        </p:nvPicPr>
        <p:blipFill>
          <a:blip r:embed="rId1"/>
          <a:stretch/>
        </p:blipFill>
        <p:spPr>
          <a:xfrm>
            <a:off x="6659640" y="5821200"/>
            <a:ext cx="1297080" cy="7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Берегите природу!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природе ничто  не существует обособленно, все ее элементы тесно связаны между собой, влияют друг на друга, и ущерб, нанесенный одному, немедленно вызывает ухудшение других. Каждый должен по возможности обогащать природу, и ни при каких обстоятельствах не обеднять ее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Picture 4" descr="j0237524"/>
          <p:cNvPicPr/>
          <p:nvPr/>
        </p:nvPicPr>
        <p:blipFill>
          <a:blip r:embed="rId1"/>
          <a:stretch/>
        </p:blipFill>
        <p:spPr>
          <a:xfrm>
            <a:off x="6659640" y="4365720"/>
            <a:ext cx="2038320" cy="21654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j0346417"/>
          <p:cNvPicPr/>
          <p:nvPr/>
        </p:nvPicPr>
        <p:blipFill>
          <a:blip r:embed="rId2"/>
          <a:stretch/>
        </p:blipFill>
        <p:spPr>
          <a:xfrm>
            <a:off x="468360" y="458640"/>
            <a:ext cx="1224000" cy="11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4T08:53:16Z</dcterms:created>
  <dc:creator>учитель</dc:creator>
  <dc:description/>
  <dc:language>en-US</dc:language>
  <cp:lastModifiedBy>Николай</cp:lastModifiedBy>
  <dcterms:modified xsi:type="dcterms:W3CDTF">2013-07-01T11:27:00Z</dcterms:modified>
  <cp:revision>5</cp:revision>
  <dc:subject/>
  <dc:title>Правила поведения на природе.</dc:title>
</cp:coreProperties>
</file>