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9.wmf" ContentType="image/x-wmf"/>
  <Override PartName="/ppt/media/image6.gif" ContentType="image/gif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511-148C-4205-999E-22233703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2D0-E54D-41F2-B1CF-9DF90C62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EDE-337A-426E-A3B0-1F4B67EC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E0D-024E-41B7-9FFD-6166812C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863-9F96-4DB0-BF10-3075FCE7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64E-43D4-441D-B768-74939F52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CB0-D0C2-4B42-ADCA-31CF29A0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261-7BC2-4C20-BD5F-2E78B5CB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99F-4C66-4F84-9529-B8148A37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1F2-3E0B-4B03-B679-9AA4C3E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6AA-74AA-4C10-BA9B-3720BF50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5D5-E8DA-43EE-8FEB-C26516EF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B115-D3CE-42A0-8542-E9DC9E58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404640"/>
            <a:ext cx="655308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ссный ча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говорим о сквернослов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кой русский хотя бы иногда не использует в повседневной жизни слов, которые наука называет грубоэкспрессивными?"/>
          <p:cNvPicPr/>
          <p:nvPr/>
        </p:nvPicPr>
        <p:blipFill>
          <a:blip r:embed="rId2"/>
          <a:stretch/>
        </p:blipFill>
        <p:spPr>
          <a:xfrm>
            <a:off x="324000" y="3284640"/>
            <a:ext cx="2857320" cy="2381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00720" y="4005360"/>
            <a:ext cx="25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ка Никаноровой Екатерины Борисовны, учителя школы № 9                         г. Череповца Волог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826920" y="1844640"/>
          <a:ext cx="7572600" cy="42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844640"/>
                    <a:ext cx="757260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39560" y="404640"/>
            <a:ext cx="826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читаете ли вы мат неотъемлемой частью жизни русского обще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Белгородская программа &quot;Мат - не наш формат&quot;"/>
          <p:cNvPicPr/>
          <p:nvPr/>
        </p:nvPicPr>
        <p:blipFill>
          <a:blip r:embed="rId2"/>
          <a:stretch/>
        </p:blipFill>
        <p:spPr>
          <a:xfrm>
            <a:off x="2411280" y="404640"/>
            <a:ext cx="3996000" cy="29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Белгородская программа &quot;Мат - не наш формат&quot;"/>
          <p:cNvPicPr/>
          <p:nvPr/>
        </p:nvPicPr>
        <p:blipFill>
          <a:blip r:embed="rId3"/>
          <a:stretch/>
        </p:blipFill>
        <p:spPr>
          <a:xfrm>
            <a:off x="5292720" y="3968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1250502475_mat"/>
          <p:cNvPicPr/>
          <p:nvPr/>
        </p:nvPicPr>
        <p:blipFill>
          <a:blip r:embed="rId4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549360"/>
            <a:ext cx="8569080" cy="12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ни скверно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языческой древней Руси мат являлся ни чем иным, как заклинанием, формулой против нечистой си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все знали, бранить детей нельзя матом, они будут мучимы бе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Материться в доме нельзя: бесы будут жить в этом жилищ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же нельзя было ругаться в лесу: леший может обидеться, на берегу реки или озера - оскорбится водя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39640" y="836640"/>
            <a:ext cx="7992360" cy="5038920"/>
            <a:chOff x="539640" y="836640"/>
            <a:chExt cx="7992360" cy="5038920"/>
          </a:xfrm>
        </p:grpSpPr>
        <p:cxnSp>
          <p:nvCxnSpPr>
            <p:cNvPr id="76" name="_s5136"/>
            <p:cNvCxnSpPr>
              <a:stCxn id="77" idx="0"/>
              <a:endCxn id="78" idx="2"/>
            </p:cNvCxnSpPr>
            <p:nvPr/>
          </p:nvCxnSpPr>
          <p:spPr>
            <a:xfrm flipV="1" rot="16200000">
              <a:off x="5586840" y="1802160"/>
              <a:ext cx="1008360" cy="310680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5134"/>
            <p:cNvCxnSpPr>
              <a:stCxn id="80" idx="0"/>
              <a:endCxn id="78" idx="2"/>
            </p:cNvCxnSpPr>
            <p:nvPr/>
          </p:nvCxnSpPr>
          <p:spPr>
            <a:xfrm flipV="1" rot="16200000">
              <a:off x="4550760" y="2838240"/>
              <a:ext cx="1008360" cy="103464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5133"/>
            <p:cNvCxnSpPr>
              <a:stCxn id="82" idx="0"/>
              <a:endCxn id="78" idx="2"/>
            </p:cNvCxnSpPr>
            <p:nvPr/>
          </p:nvCxnSpPr>
          <p:spPr>
            <a:xfrm flipH="1" flipV="1" rot="5400000">
              <a:off x="3514680" y="2836440"/>
              <a:ext cx="1008360" cy="103860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5132"/>
            <p:cNvCxnSpPr>
              <a:stCxn id="84" idx="0"/>
              <a:endCxn id="78" idx="2"/>
            </p:cNvCxnSpPr>
            <p:nvPr/>
          </p:nvCxnSpPr>
          <p:spPr>
            <a:xfrm flipH="1" flipV="1" rot="5400000">
              <a:off x="2478600" y="1800360"/>
              <a:ext cx="1008360" cy="3111120"/>
            </a:xfrm>
            <a:prstGeom prst="bentConnector3">
              <a:avLst>
                <a:gd name="adj1" fmla="val 13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5128"/>
            <p:cNvSpPr/>
            <p:nvPr/>
          </p:nvSpPr>
          <p:spPr>
            <a:xfrm>
              <a:off x="3647520" y="83664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Языческие обря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Древней Руси 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заклинани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формула проти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ечистой сил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5129"/>
            <p:cNvSpPr/>
            <p:nvPr/>
          </p:nvSpPr>
          <p:spPr>
            <a:xfrm>
              <a:off x="53964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ранить детей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атом нельзя: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они будут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учимы беса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5130"/>
            <p:cNvSpPr/>
            <p:nvPr/>
          </p:nvSpPr>
          <p:spPr>
            <a:xfrm>
              <a:off x="261180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раниться мато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при женщина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ельзя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Этим буд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оскорблен вес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род от свое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праматер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5131"/>
            <p:cNvSpPr/>
            <p:nvPr/>
          </p:nvSpPr>
          <p:spPr>
            <a:xfrm>
              <a:off x="468396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раниться мато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 доме нельзя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бесы будут жить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 этом жилищ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5135"/>
            <p:cNvSpPr/>
            <p:nvPr/>
          </p:nvSpPr>
          <p:spPr>
            <a:xfrm>
              <a:off x="6756120" y="3859920"/>
              <a:ext cx="1775880" cy="2015640"/>
            </a:xfrm>
            <a:custGeom>
              <a:avLst/>
              <a:gdLst>
                <a:gd name="textAreaLeft" fmla="*/ 86400 w 1775880"/>
                <a:gd name="textAreaRight" fmla="*/ 1689480 w 1775880"/>
                <a:gd name="textAreaTop" fmla="*/ 86400 h 2015640"/>
                <a:gd name="textAreaBottom" fmla="*/ 1929240 h 2015640"/>
              </a:gdLst>
              <a:ahLst/>
              <a:rect l="textAreaLeft" t="textAreaTop" r="textAreaRight" b="textAreaBottom"/>
              <a:pathLst>
                <a:path w="21600" h="24516">
                  <a:moveTo>
                    <a:pt x="3600" y="0"/>
                  </a:moveTo>
                  <a:arcTo wR="3600" hR="3600" stAng="16200000" swAng="-5400000"/>
                  <a:lnTo>
                    <a:pt x="0" y="20916"/>
                  </a:lnTo>
                  <a:arcTo wR="3600" hR="3600" stAng="10800000" swAng="-5400000"/>
                  <a:lnTo>
                    <a:pt x="18000" y="24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нельзя бранитьс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 лесу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ожет обидетьс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леший; на рек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может обидетьс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водя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64360" y="1052640"/>
            <a:ext cx="2879640" cy="1871640"/>
          </a:xfrm>
          <a:prstGeom prst="wedgeRectCallout">
            <a:avLst>
              <a:gd name="adj1" fmla="val -99115"/>
              <a:gd name="adj2" fmla="val 59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98100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раниться можно в поле, на пашне – отпугивать нечистую силу от своего будущего урожая.   Отсюда: поле бр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Картинка 238 из 3626"/>
          <p:cNvPicPr/>
          <p:nvPr/>
        </p:nvPicPr>
        <p:blipFill>
          <a:blip r:embed="rId2"/>
          <a:stretch/>
        </p:blipFill>
        <p:spPr>
          <a:xfrm>
            <a:off x="468360" y="260280"/>
            <a:ext cx="215892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3644640"/>
            <a:ext cx="277164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ся, как единицы именования предметов и действий, и как междометия, выражающие разнообразные чувства, и как балластные наполнители речевого пото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87640" y="3644640"/>
            <a:ext cx="295272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язано с выражением какого-либо чувства и обычно является эмоциональной реакцией человека на ситуацию, слова или поведение других людей, даже на собственн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260280"/>
            <a:ext cx="8784360" cy="3384000"/>
            <a:chOff x="0" y="260280"/>
            <a:chExt cx="8784360" cy="3384000"/>
          </a:xfrm>
        </p:grpSpPr>
        <p:cxnSp>
          <p:nvCxnSpPr>
            <p:cNvPr id="91" name="_s30726"/>
            <p:cNvCxnSpPr>
              <a:stCxn id="92" idx="0"/>
              <a:endCxn id="93" idx="2"/>
            </p:cNvCxnSpPr>
            <p:nvPr/>
          </p:nvCxnSpPr>
          <p:spPr>
            <a:xfrm flipV="1" rot="16200000">
              <a:off x="5590800" y="414360"/>
              <a:ext cx="677520" cy="3075120"/>
            </a:xfrm>
            <a:prstGeom prst="bentConnector3">
              <a:avLst>
                <a:gd name="adj1" fmla="val 155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0727"/>
            <p:cNvCxnSpPr>
              <a:stCxn id="95" idx="0"/>
              <a:endCxn id="93" idx="2"/>
            </p:cNvCxnSpPr>
            <p:nvPr/>
          </p:nvCxnSpPr>
          <p:spPr>
            <a:xfrm flipV="1">
              <a:off x="4392000" y="1613520"/>
              <a:ext cx="3960" cy="67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30728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2516040" y="414720"/>
              <a:ext cx="677520" cy="3075120"/>
            </a:xfrm>
            <a:prstGeom prst="bentConnector3">
              <a:avLst>
                <a:gd name="adj1" fmla="val 155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30729"/>
            <p:cNvSpPr/>
            <p:nvPr/>
          </p:nvSpPr>
          <p:spPr>
            <a:xfrm>
              <a:off x="3074400" y="2602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зновиднос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а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30730"/>
            <p:cNvSpPr/>
            <p:nvPr/>
          </p:nvSpPr>
          <p:spPr>
            <a:xfrm>
              <a:off x="0" y="22906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ривыч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30731"/>
            <p:cNvSpPr/>
            <p:nvPr/>
          </p:nvSpPr>
          <p:spPr>
            <a:xfrm>
              <a:off x="3074400" y="22906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ффектив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30732"/>
            <p:cNvSpPr/>
            <p:nvPr/>
          </p:nvSpPr>
          <p:spPr>
            <a:xfrm>
              <a:off x="6149160" y="2290680"/>
              <a:ext cx="2635200" cy="135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Намерен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6027120" y="3733200"/>
            <a:ext cx="2957040" cy="29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нгвистическое хулиганство, надписи на заборах и в туалетах, манерно-циничные выступления интеллигенции и произведения искусства – книги, кинофильмы, спектак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1794240"/>
            <a:ext cx="518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кверное слово - гнилое слово. Егда кто матерными словами ругается, тогда Мати Божия данный Ею молитвенный покров от человека отнимает, и Сама отступ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04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 грехе сквернословия в Святом 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7800" y="5634000"/>
            <a:ext cx="50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ятой апостол Пав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Картинка 37 из 1851"/>
          <p:cNvPicPr/>
          <p:nvPr/>
        </p:nvPicPr>
        <p:blipFill>
          <a:blip r:embed="rId2"/>
          <a:stretch/>
        </p:blipFill>
        <p:spPr>
          <a:xfrm>
            <a:off x="6012000" y="1700280"/>
            <a:ext cx="28875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16360"/>
            <a:ext cx="84960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амым важным и научно подтверждённым является то, что мат опасен для здоровья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 способствует снижению интеллек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оцирует преступления, создавая иллюз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дозвол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воровывает нас духов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жает и оскорбляет нас, но и впитывая в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есную гряз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лечит людские судь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водит к раннему старению                                               и преждев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285768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51160" y="368640"/>
            <a:ext cx="4431600" cy="174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ред сквернословия            на здоровь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2852280"/>
            <a:ext cx="78375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ияет на молекулы наследственности ДНК, способствуя различным заболеваниям и ускоряя старение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ывает мутагенный эффект, подобный тому, что даёт радиоактивное облучение мощностью в тысячи рент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5660640"/>
            <a:ext cx="77043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ёны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тор биологии, академик медико-техниче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ётр Горя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тор биологи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ван Беля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9 из 3626"/>
          <p:cNvPicPr/>
          <p:nvPr/>
        </p:nvPicPr>
        <p:blipFill>
          <a:blip r:embed="rId2"/>
          <a:stretch/>
        </p:blipFill>
        <p:spPr>
          <a:xfrm>
            <a:off x="5651640" y="189000"/>
            <a:ext cx="283500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286160" cy="4514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03640" y="1612440"/>
            <a:ext cx="396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ная брань – это язык бе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щина -  вредная привы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бое матерное слово несет в себе эмоциональный оттенок жестокости, пошлости, цинизма и хам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глушается голос совести, сты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щина убивает душу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62064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ч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488240" y="324576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0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73280" y="773280"/>
            <a:ext cx="7806960" cy="109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ровать подростков о проблеме скверно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560" y="2060280"/>
            <a:ext cx="64818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историей скверносл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сти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ить сущность 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упредить о вреде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283824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08360" y="260280"/>
            <a:ext cx="543564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 пути для тех, кто сквернослов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я, что это плохо, продолжать нецензурно выражаться, тем самым включить программу самоуничтожения себя как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я, что это плохо, отказаться от вредной привычки, встать на путь духовного роста, самосовершенствования, путь крас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6000" y="4437000"/>
            <a:ext cx="266364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Картинка 24 из 3626"/>
          <p:cNvPicPr/>
          <p:nvPr/>
        </p:nvPicPr>
        <p:blipFill>
          <a:blip r:embed="rId3"/>
          <a:stretch/>
        </p:blipFill>
        <p:spPr>
          <a:xfrm>
            <a:off x="179280" y="333360"/>
            <a:ext cx="338472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32000" y="573408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сами дети матерятся – виноваты в этом                                             прежде всего родит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8560" y="189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е всего от грубости,                                              нецензурщины страдают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Картинка 59 из 3626"/>
          <p:cNvPicPr/>
          <p:nvPr/>
        </p:nvPicPr>
        <p:blipFill>
          <a:blip r:embed="rId2"/>
          <a:stretch/>
        </p:blipFill>
        <p:spPr>
          <a:xfrm>
            <a:off x="1979640" y="1268280"/>
            <a:ext cx="437040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Картинка 255 из 1851"/>
          <p:cNvPicPr/>
          <p:nvPr/>
        </p:nvPicPr>
        <p:blipFill>
          <a:blip r:embed="rId2"/>
          <a:stretch/>
        </p:blipFill>
        <p:spPr>
          <a:xfrm>
            <a:off x="3203640" y="2349360"/>
            <a:ext cx="3200400" cy="4191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476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усть эта фраза станет правилом жизни всех тех, кт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квернил  себ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анными словам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12640" y="330120"/>
            <a:ext cx="213156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отребляя мат, человек начинает смотреть на мир сквозь сетку, узлы которой связаны из матерных слов, и мир этот удручающе примитивен, поскольку всё многообразие жизни низводится в нём до простейших отпра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привычки сквернословить развивается и склонность к совершению дурных поступко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ристо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3143160" cy="1724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692280"/>
            <a:ext cx="835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нные - нецензурные -  мате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ова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прил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пристой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корбительные 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Большой толковый словарь русского языка под ред. С. Ожег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0360" y="2133720"/>
            <a:ext cx="2171880" cy="1666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64000" y="4292640"/>
            <a:ext cx="303372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60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ерпение, раздражительность, нервозность, агрессия – распространенные черты поведения людей в наш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2133720"/>
            <a:ext cx="2376360" cy="232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24 из 3626"/>
          <p:cNvPicPr/>
          <p:nvPr/>
        </p:nvPicPr>
        <p:blipFill>
          <a:blip r:embed="rId4"/>
          <a:stretch/>
        </p:blipFill>
        <p:spPr>
          <a:xfrm>
            <a:off x="5580000" y="1197000"/>
            <a:ext cx="3264120" cy="2811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12640" y="330120"/>
            <a:ext cx="5587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ы анкет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ли вы употребляете мат в своей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читаете ли вы нормой поведения употребление нецензурной бра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ите ли вы, что сквернословие вредит вашему здоров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вашей семье часто присутств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цензурная бра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Считаете ли вы мат неотъемл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ью жизни русского об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1 из 3626"/>
          <p:cNvPicPr/>
          <p:nvPr/>
        </p:nvPicPr>
        <p:blipFill>
          <a:blip r:embed="rId2"/>
          <a:stretch/>
        </p:blipFill>
        <p:spPr>
          <a:xfrm>
            <a:off x="6156360" y="4005360"/>
            <a:ext cx="283824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10"/>
          <p:cNvGraphicFramePr/>
          <p:nvPr/>
        </p:nvGraphicFramePr>
        <p:xfrm>
          <a:off x="812880" y="1557360"/>
          <a:ext cx="7980120" cy="44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2880" y="1557360"/>
                    <a:ext cx="798012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843200" y="549360"/>
            <a:ext cx="668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сто ли вы употребляете мат в своей ре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3720" y="260280"/>
            <a:ext cx="829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читаете ли вы нормой поведения употребление нецензурной бра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841320" y="1557360"/>
          <a:ext cx="7716960" cy="454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557360"/>
                    <a:ext cx="771696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49320" y="620640"/>
            <a:ext cx="724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ите ли вы, что сквернословие вредит вашему здоров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841320" y="1557360"/>
          <a:ext cx="7570800" cy="454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557360"/>
                    <a:ext cx="757080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71520" y="549360"/>
            <a:ext cx="66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вашей семье часто присутствует нецензурная бра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841320" y="2367000"/>
          <a:ext cx="7534440" cy="374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367000"/>
                    <a:ext cx="753444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6:04:06Z</dcterms:created>
  <dc:creator>*</dc:creator>
  <dc:description/>
  <dc:language>en-US</dc:language>
  <cp:lastModifiedBy>*</cp:lastModifiedBy>
  <dcterms:modified xsi:type="dcterms:W3CDTF">2012-03-23T05:09:19Z</dcterms:modified>
  <cp:revision>11</cp:revision>
  <dc:subject/>
  <dc:title>Слайд 1</dc:title>
</cp:coreProperties>
</file>