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9.wmf" ContentType="image/x-wmf"/>
  <Override PartName="/ppt/media/image6.gif" ContentType="image/gif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226-2146-4D09-BBBD-59C47BF7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1F5-64BD-452D-A116-882BE161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E6A-BC62-492A-B4A1-95696168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799-3797-4BC6-BC71-2F8EC2F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70F-D1CB-4527-BC91-BC41B8B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F33-C49F-4FFD-AB09-0AE36E2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6ED-F83A-4868-967F-DCAE081D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55A-6FFF-4DE9-9B2C-A28B2BD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2DE-1C36-4E05-848E-BB44BD0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102-D272-4479-9830-3BF981C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9B4-7CB6-4474-B305-34FC560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D00-FC4E-4C7E-8C73-3637BF4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D497-68FD-470A-9F6D-906D2121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04640"/>
            <a:ext cx="655308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ный ча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говорим о сквернослов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кой русский хотя бы иногда не использует в повседневной жизни слов, которые наука называет грубоэкспрессивными?"/>
          <p:cNvPicPr/>
          <p:nvPr/>
        </p:nvPicPr>
        <p:blipFill>
          <a:blip r:embed="rId2"/>
          <a:stretch/>
        </p:blipFill>
        <p:spPr>
          <a:xfrm>
            <a:off x="324000" y="3284640"/>
            <a:ext cx="2857320" cy="238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00720" y="400536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Никаноровой Екатерины Борисовны, учителя школы № 9                         г. Череповца Волог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826920" y="1844640"/>
          <a:ext cx="7572600" cy="42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844640"/>
                    <a:ext cx="757260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39560" y="404640"/>
            <a:ext cx="82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читаете ли вы мат неотъемлемой частью жизни русского об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Белгородская программа &quot;Мат - не наш формат&quot;"/>
          <p:cNvPicPr/>
          <p:nvPr/>
        </p:nvPicPr>
        <p:blipFill>
          <a:blip r:embed="rId2"/>
          <a:stretch/>
        </p:blipFill>
        <p:spPr>
          <a:xfrm>
            <a:off x="2411280" y="404640"/>
            <a:ext cx="3996000" cy="29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Белгородская программа &quot;Мат - не наш формат&quot;"/>
          <p:cNvPicPr/>
          <p:nvPr/>
        </p:nvPicPr>
        <p:blipFill>
          <a:blip r:embed="rId3"/>
          <a:stretch/>
        </p:blipFill>
        <p:spPr>
          <a:xfrm>
            <a:off x="529272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1250502475_mat"/>
          <p:cNvPicPr/>
          <p:nvPr/>
        </p:nvPicPr>
        <p:blipFill>
          <a:blip r:embed="rId4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549360"/>
            <a:ext cx="8569080" cy="12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и скверно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языческой древней Руси мат являлся ни чем иным, как заклинанием, формулой против нечистой си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все знали, бранить детей нельзя матом, они будут мучимы бе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Материться в доме нельзя: бесы будут жить в этом жилищ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нельзя было ругаться в лесу: леший может обидеться, на берегу реки или озера - оскорбится водя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9640" y="836640"/>
            <a:ext cx="7992360" cy="5038920"/>
            <a:chOff x="539640" y="836640"/>
            <a:chExt cx="7992360" cy="5038920"/>
          </a:xfrm>
        </p:grpSpPr>
        <p:cxnSp>
          <p:nvCxnSpPr>
            <p:cNvPr id="76" name="_s5136"/>
            <p:cNvCxnSpPr>
              <a:stCxn id="77" idx="0"/>
              <a:endCxn id="78" idx="2"/>
            </p:cNvCxnSpPr>
            <p:nvPr/>
          </p:nvCxnSpPr>
          <p:spPr>
            <a:xfrm flipV="1" rot="16200000">
              <a:off x="5586840" y="1802160"/>
              <a:ext cx="1008360" cy="310680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5134"/>
            <p:cNvCxnSpPr>
              <a:stCxn id="80" idx="0"/>
              <a:endCxn id="78" idx="2"/>
            </p:cNvCxnSpPr>
            <p:nvPr/>
          </p:nvCxnSpPr>
          <p:spPr>
            <a:xfrm flipV="1" rot="16200000">
              <a:off x="4550760" y="2838240"/>
              <a:ext cx="1008360" cy="103464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5133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3514680" y="2836440"/>
              <a:ext cx="1008360" cy="103860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5132"/>
            <p:cNvCxnSpPr>
              <a:stCxn id="84" idx="0"/>
              <a:endCxn id="78" idx="2"/>
            </p:cNvCxnSpPr>
            <p:nvPr/>
          </p:nvCxnSpPr>
          <p:spPr>
            <a:xfrm flipH="1" flipV="1" rot="5400000">
              <a:off x="2478600" y="1800360"/>
              <a:ext cx="1008360" cy="311112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5128"/>
            <p:cNvSpPr/>
            <p:nvPr/>
          </p:nvSpPr>
          <p:spPr>
            <a:xfrm>
              <a:off x="3647520" y="83664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Языческие обря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Древней Руси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заклинан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формула проти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чистой сил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5129"/>
            <p:cNvSpPr/>
            <p:nvPr/>
          </p:nvSpPr>
          <p:spPr>
            <a:xfrm>
              <a:off x="53964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 дете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атом нельзя: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они буду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учимы бес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5130"/>
            <p:cNvSpPr/>
            <p:nvPr/>
          </p:nvSpPr>
          <p:spPr>
            <a:xfrm>
              <a:off x="261180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ся мат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при женщин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льзя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Этим буд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оскорблен вес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род от сво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праматер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5131"/>
            <p:cNvSpPr/>
            <p:nvPr/>
          </p:nvSpPr>
          <p:spPr>
            <a:xfrm>
              <a:off x="468396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ся мат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доме нельзя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есы будут жит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этом жилищ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35"/>
            <p:cNvSpPr/>
            <p:nvPr/>
          </p:nvSpPr>
          <p:spPr>
            <a:xfrm>
              <a:off x="675612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льзя бранить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лесу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ожет обидеть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леший; на рек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ожет обидеть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одя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64360" y="1052640"/>
            <a:ext cx="2879640" cy="1871640"/>
          </a:xfrm>
          <a:prstGeom prst="wedgeRectCallout">
            <a:avLst>
              <a:gd name="adj1" fmla="val -99115"/>
              <a:gd name="adj2" fmla="val 59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981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раниться можно в поле, на пашне – отпугивать нечистую силу от своего будущего урожая.   Отсюда: поле бр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артинка 238 из 3626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27716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, как единицы именования предметов и действий, и как междометия, выражающие разнообразные чувства, и как балластные наполнители речевого пот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3644640"/>
            <a:ext cx="295272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язано с выражением какого-либо чувства и обычно является эмоциональной реакцией человека на ситуацию, слова или поведение других людей, даже на собствен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260280"/>
            <a:ext cx="8784360" cy="3384000"/>
            <a:chOff x="0" y="260280"/>
            <a:chExt cx="8784360" cy="3384000"/>
          </a:xfrm>
        </p:grpSpPr>
        <p:cxnSp>
          <p:nvCxnSpPr>
            <p:cNvPr id="91" name="_s30726"/>
            <p:cNvCxnSpPr>
              <a:stCxn id="92" idx="0"/>
              <a:endCxn id="93" idx="2"/>
            </p:cNvCxnSpPr>
            <p:nvPr/>
          </p:nvCxnSpPr>
          <p:spPr>
            <a:xfrm flipV="1" rot="16200000">
              <a:off x="5590800" y="414360"/>
              <a:ext cx="677520" cy="3075120"/>
            </a:xfrm>
            <a:prstGeom prst="bentConnector3">
              <a:avLst>
                <a:gd name="adj1" fmla="val 15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0727"/>
            <p:cNvCxnSpPr>
              <a:stCxn id="95" idx="0"/>
              <a:endCxn id="93" idx="2"/>
            </p:cNvCxnSpPr>
            <p:nvPr/>
          </p:nvCxnSpPr>
          <p:spPr>
            <a:xfrm flipV="1">
              <a:off x="4392000" y="1613520"/>
              <a:ext cx="396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30728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16040" y="414720"/>
              <a:ext cx="677520" cy="3075120"/>
            </a:xfrm>
            <a:prstGeom prst="bentConnector3">
              <a:avLst>
                <a:gd name="adj1" fmla="val 15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30729"/>
            <p:cNvSpPr/>
            <p:nvPr/>
          </p:nvSpPr>
          <p:spPr>
            <a:xfrm>
              <a:off x="3074400" y="2602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зновид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0730"/>
            <p:cNvSpPr/>
            <p:nvPr/>
          </p:nvSpPr>
          <p:spPr>
            <a:xfrm>
              <a:off x="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ивыч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0731"/>
            <p:cNvSpPr/>
            <p:nvPr/>
          </p:nvSpPr>
          <p:spPr>
            <a:xfrm>
              <a:off x="307440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ффектив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0732"/>
            <p:cNvSpPr/>
            <p:nvPr/>
          </p:nvSpPr>
          <p:spPr>
            <a:xfrm>
              <a:off x="614916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мере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6027120" y="3733200"/>
            <a:ext cx="2957040" cy="29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нгвистическое хулиганство, надписи на заборах и в туалетах, манерно-циничные выступления интеллигенции и произведения искусства – книги, кинофильмы, спектак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794240"/>
            <a:ext cx="51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кверное слово - гнилое слово. Егда кто матерными словами ругается, тогда Мати Божия данный Ею молитвенный покров от человека отнимает, и Сама отступ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04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 грехе сквернословия в Святом 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7800" y="5634000"/>
            <a:ext cx="50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той апостол Пав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37 из 1851"/>
          <p:cNvPicPr/>
          <p:nvPr/>
        </p:nvPicPr>
        <p:blipFill>
          <a:blip r:embed="rId2"/>
          <a:stretch/>
        </p:blipFill>
        <p:spPr>
          <a:xfrm>
            <a:off x="6012000" y="1700280"/>
            <a:ext cx="2887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16360"/>
            <a:ext cx="8496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ым важным и научно подтверждённым является то, что мат опасен для здоровь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 способствует снижению интеллек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цирует преступления, создавая иллюз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дозвол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воровывает нас духов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жает и оскорбляет нас, но и впитывая в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есную гр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ечит людские судь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водит к раннему старению                                               и преждев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85768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51160" y="368640"/>
            <a:ext cx="4431600" cy="174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ред сквернословия            на здоровь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2852280"/>
            <a:ext cx="7837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ияет на молекулы наследственности ДНК, способствуя различным заболеваниям и ускоряя старение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т мутагенный эффект, подобный тому, что даёт радиоактивное облучение мощностью в тысячи рент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5660640"/>
            <a:ext cx="7704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ён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биологии, академик медико-техн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 Горя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биолог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 Беля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9 из 3626"/>
          <p:cNvPicPr/>
          <p:nvPr/>
        </p:nvPicPr>
        <p:blipFill>
          <a:blip r:embed="rId2"/>
          <a:stretch/>
        </p:blipFill>
        <p:spPr>
          <a:xfrm>
            <a:off x="5651640" y="189000"/>
            <a:ext cx="2835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86160" cy="451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1612440"/>
            <a:ext cx="396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ная брань – это язык бе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щина -  вредная привы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ое матерное слово несет в себе эмоциональный оттенок жестокости, пошлости, цинизма и ха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лушается голос совести, сты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щина убивает душу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62064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ч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488240" y="324576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0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73280" y="773280"/>
            <a:ext cx="780696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ровать подростков о проблеме скверно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2060280"/>
            <a:ext cx="64818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историей скверно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 сущность 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дить о вреде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83824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08360" y="260280"/>
            <a:ext cx="54356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пути для тех, кто сквернослов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, что это плохо, продолжать нецензурно выражаться, тем самым включить программу самоуничтожения себя как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, что это плохо, отказаться от вредной привычки, встать на путь духовного роста, самосовершенствования, путь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266364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24 из 3626"/>
          <p:cNvPicPr/>
          <p:nvPr/>
        </p:nvPicPr>
        <p:blipFill>
          <a:blip r:embed="rId3"/>
          <a:stretch/>
        </p:blipFill>
        <p:spPr>
          <a:xfrm>
            <a:off x="179280" y="333360"/>
            <a:ext cx="338472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573408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сами дети матерятся – виноваты в этом                                             прежде всего родит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8560" y="189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 всего от грубости,                                              нецензурщины страдают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Картинка 59 из 3626"/>
          <p:cNvPicPr/>
          <p:nvPr/>
        </p:nvPicPr>
        <p:blipFill>
          <a:blip r:embed="rId2"/>
          <a:stretch/>
        </p:blipFill>
        <p:spPr>
          <a:xfrm>
            <a:off x="1979640" y="1268280"/>
            <a:ext cx="437040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Картинка 255 из 1851"/>
          <p:cNvPicPr/>
          <p:nvPr/>
        </p:nvPicPr>
        <p:blipFill>
          <a:blip r:embed="rId2"/>
          <a:stretch/>
        </p:blipFill>
        <p:spPr>
          <a:xfrm>
            <a:off x="3203640" y="2349360"/>
            <a:ext cx="3200400" cy="419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47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сть эта фраза станет правилом жизни всех тех, к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квернил  себ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анными словам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12640" y="330120"/>
            <a:ext cx="213156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требляя мат, человек начинает смотреть на мир сквозь сетку, узлы которой связаны из матерных слов, и мир этот удручающе примитивен, поскольку всё многообразие жизни низводится в нём до простейших отпр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привычки сквернословить развивается и склонность к совершению дурных поступко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ристо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14316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92280"/>
            <a:ext cx="835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нные - нецензурные -  мате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ва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ри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ристой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корбительные 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Большой толковый словарь русского языка под ред. С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171880" cy="1666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ерпение, раздражительность, нервозность, агрессия – распространенные черты поведения людей в наш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2376360" cy="23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24 из 3626"/>
          <p:cNvPicPr/>
          <p:nvPr/>
        </p:nvPicPr>
        <p:blipFill>
          <a:blip r:embed="rId4"/>
          <a:stretch/>
        </p:blipFill>
        <p:spPr>
          <a:xfrm>
            <a:off x="5580000" y="1197000"/>
            <a:ext cx="326412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12640" y="330120"/>
            <a:ext cx="5587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 анке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ли вы употребляете мат в сво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итаете ли вы нормой поведения употребление нецензурной бра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ите ли вы, что сквернословие вредит вашему здоров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ашей семье часто прису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цензурная бра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Считаете ли вы мат неотъемл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ью жизни русского об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1 из 3626"/>
          <p:cNvPicPr/>
          <p:nvPr/>
        </p:nvPicPr>
        <p:blipFill>
          <a:blip r:embed="rId2"/>
          <a:stretch/>
        </p:blipFill>
        <p:spPr>
          <a:xfrm>
            <a:off x="6156360" y="4005360"/>
            <a:ext cx="28382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0"/>
          <p:cNvGraphicFramePr/>
          <p:nvPr/>
        </p:nvGraphicFramePr>
        <p:xfrm>
          <a:off x="812880" y="1557360"/>
          <a:ext cx="7980120" cy="44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1557360"/>
                    <a:ext cx="79801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843200" y="549360"/>
            <a:ext cx="66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то ли вы употребляете мат в своей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3720" y="260280"/>
            <a:ext cx="82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читаете ли вы нормой поведения употребление нецензурной бра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841320" y="1557360"/>
          <a:ext cx="7716960" cy="454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557360"/>
                    <a:ext cx="77169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9320" y="620640"/>
            <a:ext cx="724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ите ли вы, что сквернословие вредит вашему здоров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841320" y="1557360"/>
          <a:ext cx="7570800" cy="45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557360"/>
                    <a:ext cx="75708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71520" y="549360"/>
            <a:ext cx="66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ашей семье часто присутствует нецензурная бр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841320" y="2367000"/>
          <a:ext cx="7534440" cy="37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367000"/>
                    <a:ext cx="75344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6:04:06Z</dcterms:created>
  <dc:creator>*</dc:creator>
  <dc:description/>
  <dc:language>en-US</dc:language>
  <cp:lastModifiedBy>*</cp:lastModifiedBy>
  <dcterms:modified xsi:type="dcterms:W3CDTF">2012-03-23T05:09:19Z</dcterms:modified>
  <cp:revision>11</cp:revision>
  <dc:subject/>
  <dc:title>Слайд 1</dc:title>
</cp:coreProperties>
</file>