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0B1-68C1-404E-B687-8815FE05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5A3-CAB9-421E-AD91-678F0397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379-65C7-40A8-B592-78055023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130-61E6-488D-8F36-3CCD0C8E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E1BB-CF32-464F-AED8-59B48617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8C67-2271-4302-B065-A0A58D05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C51D-7368-4F43-A6B0-DD9D4F78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BB86-5950-4497-970B-400317CE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1958-B242-4A63-B9A9-8B09E96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A51A-6C70-493E-80AC-9C5591EE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2684-172A-477B-AEBE-1AE8A611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EA9-27A9-4875-8530-34374C79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1BAA-5421-4406-BD05-04B2879A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2413-69BD-4DC0-A8F9-837C517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AE34-3223-4987-9E0E-850CE6A7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1AC0-AA09-4A91-8F0F-3DB1BE7D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81DD-F347-497C-8ABB-F4A17CA1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7A06D-FEB8-4F3A-8E4C-72F60FAA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4CA6D-EEC0-46BB-9A63-F4799297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14D43-9BDB-48A3-B157-668B65E7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FDE30-412B-4815-82AE-A2C25CEA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599AB-356C-49D0-A2E4-14662097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EE9-63FB-4F95-846A-BABDC3E0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C54F3-6FEC-427E-B562-88A89EB7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0E1BC-74CA-4C1B-AE93-6E205624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6E99D-511D-42B3-A8DA-9BD6580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27CB8-1426-4CC0-A82A-1C06A99B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E4FF4-A953-4859-8EBE-8C7BF03C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35D89-801D-4A16-AB47-4460A1B2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2620A-4634-4680-80BA-EB49CDDE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5696-90C4-4EEB-9CB3-8C939276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F9294-B3ED-42EE-8DEA-6D5B0C98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BD4E-6A46-4363-8890-FE83EB45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D4D-D989-476F-B94C-44330775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81F3-5D9B-4DDD-9A6A-1DFA459D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1A99-54F9-4D1B-B2FD-686B525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1077-03A0-45A0-944B-5A53F116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76BF-2B16-454E-BF2F-E23EDE5A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4123-047B-49C3-8B8F-B55F1D6D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4F14-53E3-4E38-AC67-9EF4F35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84949-0651-43E7-AC59-4B30B2E9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B20B-446B-4CB8-BDE7-4C713FB6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DA99-2836-47DF-A0FB-3F30DEE7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A5E-4BAF-4A3A-8859-7E26DF8B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E50-EE4D-4BCC-B559-1BC31B43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7BB-40E6-43C0-B4D4-46F85E9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88C-D5ED-4FB8-B719-24AC0492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B5B-4478-48DF-A444-8D8CE9A2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C6FF-8003-4BD3-934B-44A70689B8C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B380-453A-4333-ADB0-8A67B656612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E432-5D7B-48D3-908C-458DE37907C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B909-AC2C-496D-A198-26A43AA2173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ikatv.kz/spaw/images/6-04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853920"/>
            <a:ext cx="7772400" cy="163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rebuchet MS"/>
              </a:rPr>
              <a:t>Подросток в обществе риска.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786280" y="3898800"/>
            <a:ext cx="314352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езентацию сделал  ученик 7В класса школы 32 Соха Серге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4" descr="6"/>
          <p:cNvPicPr/>
          <p:nvPr/>
        </p:nvPicPr>
        <p:blipFill>
          <a:blip r:embed="rId1"/>
          <a:stretch/>
        </p:blipFill>
        <p:spPr>
          <a:xfrm>
            <a:off x="0" y="3481560"/>
            <a:ext cx="4405320" cy="29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6. Подростковая нарком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i-main-pic" descr="Картинка 415 из 1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781360"/>
            <a:ext cx="329868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712800" y="197496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1.Эволюция одиночества такова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 -</a:t>
            </a: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 чем больше людей на планете, тем меньше одиноче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2.Чувство одиночества </a:t>
            </a:r>
            <a:r>
              <a:rPr b="1" i="1" lang="en-US" sz="2400" spc="-1" strike="noStrike">
                <a:solidFill>
                  <a:srgbClr val="424456"/>
                </a:solidFill>
                <a:latin typeface="Georgia"/>
              </a:rPr>
              <a:t>- </a:t>
            </a: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это одна из категорий вечных пережива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3.Одиночество и депрессия ни как между собой не взаимосвязан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4. У одиночества есть позитивная окрас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5. В зрелом возрасте одиночество чувствуется остре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ambria"/>
              </a:rPr>
              <a:t>В современном обществе подросток подвергается большей опасности, чем его одногодки в прежние времена.</a:t>
            </a:r>
            <a:br>
              <a:rPr sz="2400"/>
            </a:b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18"/>
          <p:cNvPicPr/>
          <p:nvPr/>
        </p:nvPicPr>
        <p:blipFill>
          <a:blip r:embed="rId1"/>
          <a:stretch/>
        </p:blipFill>
        <p:spPr>
          <a:xfrm>
            <a:off x="1835280" y="2565360"/>
            <a:ext cx="5143320" cy="34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24456"/>
                </a:solidFill>
                <a:latin typeface="Georgia"/>
              </a:rPr>
              <a:t>Однако не только общество служит источником опасностей для подростка, но и его собственное поведение, часто неуправляемое и импульсивное, выступает источником риска для окружающих людей. При этом оказалось, что мальчики и юноши ведут себя более рискованно чаще, чем молодые девуш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1. Шу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4" descr="23"/>
          <p:cNvPicPr/>
          <p:nvPr/>
        </p:nvPicPr>
        <p:blipFill>
          <a:blip r:embed="rId1"/>
          <a:stretch/>
        </p:blipFill>
        <p:spPr>
          <a:xfrm>
            <a:off x="2050920" y="242100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2. Подростковый алкоголиз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4" descr="21"/>
          <p:cNvPicPr/>
          <p:nvPr/>
        </p:nvPicPr>
        <p:blipFill>
          <a:blip r:embed="rId1"/>
          <a:stretch/>
        </p:blipFill>
        <p:spPr>
          <a:xfrm>
            <a:off x="1908000" y="2857680"/>
            <a:ext cx="52214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3.Отрицательные последствия просмотров</a:t>
            </a:r>
            <a:r>
              <a:rPr b="0" i="1" lang="en-US" sz="28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телепрограм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2" name="Picture 4" descr="175"/>
          <p:cNvPicPr/>
          <p:nvPr/>
        </p:nvPicPr>
        <p:blipFill>
          <a:blip r:embed="rId1"/>
          <a:stretch/>
        </p:blipFill>
        <p:spPr>
          <a:xfrm>
            <a:off x="1908000" y="3286080"/>
            <a:ext cx="523584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4. Раннее сексуальное развит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tumblr_lh10jfTa4C1qa2oqno1_500"/>
          <p:cNvPicPr/>
          <p:nvPr/>
        </p:nvPicPr>
        <p:blipFill>
          <a:blip r:embed="rId1"/>
          <a:stretch/>
        </p:blipFill>
        <p:spPr>
          <a:xfrm>
            <a:off x="2050920" y="2724120"/>
            <a:ext cx="52358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Trebuchet MS"/>
              </a:rPr>
              <a:t>Риски, окружающие подростка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24456"/>
                </a:solidFill>
                <a:latin typeface="Georgia"/>
              </a:rPr>
              <a:t>5. Приобщение к курению  Период приобщения к курению совпадает с периодом приобщения к пиву: с 4-го по 9-й класс включительно. Это совпадение объясняется примерно равной доступностью того и другого для школь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5" descr="78"/>
          <p:cNvPicPr/>
          <p:nvPr/>
        </p:nvPicPr>
        <p:blipFill>
          <a:blip r:embed="rId1"/>
          <a:stretch/>
        </p:blipFill>
        <p:spPr>
          <a:xfrm>
            <a:off x="5292720" y="4581360"/>
            <a:ext cx="30718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20:24Z</dcterms:created>
  <dc:creator>User</dc:creator>
  <dc:description/>
  <dc:language>en-US</dc:language>
  <cp:lastModifiedBy>Николай</cp:lastModifiedBy>
  <dcterms:modified xsi:type="dcterms:W3CDTF">2013-07-02T12:14:13Z</dcterms:modified>
  <cp:revision>13</cp:revision>
  <dc:subject/>
  <dc:title>Подросток в обществе риска.</dc:title>
</cp:coreProperties>
</file>