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50A-44E1-45BA-B862-5A0ECFBB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649-ED94-476C-A607-6F7DD35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875-D2FF-48AC-AF92-39060292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06F-FE7E-45C8-B274-EA60308A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ED3A-F293-4E4B-912C-30F1876A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7AF-7A12-474D-9D0B-F4E80877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608-898B-493C-9205-7CDCFD8E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668-7EFD-4826-BB96-F8E57094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F765-81C3-4AA6-8AA9-29DA2A61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8AA3-17E7-4AD2-BAA5-68E728A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DF10-B054-4B95-BF1E-072C37E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449-9588-4E92-942F-A04942C3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F0A-ED78-4F58-B298-B3FF961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A11B-4281-4D19-BABC-521C009A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514-A86F-45D2-8376-4EF8EBC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26CC-2DCC-491A-9E6F-1D6FFB2D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299B-D0AC-4A84-A1DA-E9541478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10252-3E50-42EC-8393-80538C1A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BAC05-92F3-4C6C-9754-7788F69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8848C-2209-42F8-8A5B-F484DD5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A4FAE-4E2C-4DF9-AB8C-CD75E95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B4A9C-6B59-4014-8852-EB57FB8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BF9-29BD-435C-9B6E-6DA17AAA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9336A-DBF4-4815-97B7-45E4694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CD639-B3DF-49D0-880B-ED36795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6F2BF-AAAF-41F1-8955-E877AF6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EBABE-BD8E-4431-9DF2-A8A48B6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E9415-5DF7-4989-801C-E551A5E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E901F-2EA6-40DD-94DD-00035BE3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F105B-C6A8-4492-88D8-6D5002CC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6F84-25A5-44C3-A46D-EB2B282A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E3E9-505F-41FD-931B-F8BA2529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21FB-7F34-4FCB-8A1C-267A6510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A3D-BC62-419E-B009-5E84DC2D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D9B0-3119-4BDF-B86F-A5531DA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3D13A-FB13-44DE-A919-DC2550AD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6233-0616-4553-B9CB-57F98C0E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A860-51E6-4135-93F2-0B1EFD5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13F3-36AC-4908-A18E-F9A36C6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D5D1-C3FB-4D5E-B8AC-96FCE0E0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3DFB-EAEF-426A-B275-5C10565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DEFE-9A7B-4D96-AC3C-E217C750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875D-EEF8-4D10-9768-3606EC80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FD3-09C2-4BE2-9582-90DE5346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AC7-C48C-4FE7-8FD5-BC2831E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F1C-9F84-42D1-AD09-5443718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2F8-7E67-4C49-8B93-326EB054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995-EBC2-41D9-AEEA-CBA3135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C53A-AAD2-4DB0-8173-A88A58193EE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C97D-F6F9-4C4E-A5DF-CBA35FEE876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DB68-A7A9-4914-85F3-FA8A27D69A0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D0C-6A3F-4DCE-960C-85F9DDC38F9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ikatv.kz/spaw/images/6-0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85392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rebuchet MS"/>
              </a:rPr>
              <a:t>Подросток в обществе риска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786280" y="3898800"/>
            <a:ext cx="314352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зентацию сделал  ученик 7В класса школы 32 Соха Серге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6"/>
          <p:cNvPicPr/>
          <p:nvPr/>
        </p:nvPicPr>
        <p:blipFill>
          <a:blip r:embed="rId1"/>
          <a:stretch/>
        </p:blipFill>
        <p:spPr>
          <a:xfrm>
            <a:off x="0" y="3481560"/>
            <a:ext cx="440532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6. Подростковая нарком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i-main-pic" descr="Картинка 415 из 1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781360"/>
            <a:ext cx="329868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1.Эволюция одиночества такова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-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 чем больше людей на планете, тем меньше одиноч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2.Чувство одиночества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- 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это одна из категорий вечных пережива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3.Одиночество и депрессия ни как между собой не взаимосвяза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4. У одиночества есть позитивная окрас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5. В зрелом возрасте одиночество чувствуется остре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ambria"/>
              </a:rPr>
              <a:t>В современном обществе подросток подвергается большей опасности, чем его одногодки в прежние времена.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18"/>
          <p:cNvPicPr/>
          <p:nvPr/>
        </p:nvPicPr>
        <p:blipFill>
          <a:blip r:embed="rId1"/>
          <a:stretch/>
        </p:blipFill>
        <p:spPr>
          <a:xfrm>
            <a:off x="1835280" y="2565360"/>
            <a:ext cx="514332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Однако не только общество служит источником опасностей для подростка, но и его собственное поведение, часто неуправляемое и импульсивное, выступает источником риска для окружающих людей. При этом оказалось, что мальчики и юноши ведут себя более рискованно чаще, чем молодые девуш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1. Шу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4" descr="23"/>
          <p:cNvPicPr/>
          <p:nvPr/>
        </p:nvPicPr>
        <p:blipFill>
          <a:blip r:embed="rId1"/>
          <a:stretch/>
        </p:blipFill>
        <p:spPr>
          <a:xfrm>
            <a:off x="2050920" y="242100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2. Подростковый алкогол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21"/>
          <p:cNvPicPr/>
          <p:nvPr/>
        </p:nvPicPr>
        <p:blipFill>
          <a:blip r:embed="rId1"/>
          <a:stretch/>
        </p:blipFill>
        <p:spPr>
          <a:xfrm>
            <a:off x="1908000" y="2857680"/>
            <a:ext cx="5221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3.Отрицательные последствия просмотров</a:t>
            </a:r>
            <a:r>
              <a:rPr b="0" i="1" lang="en-US" sz="28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телепрограм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175"/>
          <p:cNvPicPr/>
          <p:nvPr/>
        </p:nvPicPr>
        <p:blipFill>
          <a:blip r:embed="rId1"/>
          <a:stretch/>
        </p:blipFill>
        <p:spPr>
          <a:xfrm>
            <a:off x="1908000" y="3286080"/>
            <a:ext cx="52358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4. Раннее сексуальное развит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tumblr_lh10jfTa4C1qa2oqno1_500"/>
          <p:cNvPicPr/>
          <p:nvPr/>
        </p:nvPicPr>
        <p:blipFill>
          <a:blip r:embed="rId1"/>
          <a:stretch/>
        </p:blipFill>
        <p:spPr>
          <a:xfrm>
            <a:off x="2050920" y="2724120"/>
            <a:ext cx="52358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5. Приобщение к курению  Период приобщения к курению совпадает с периодом приобщения к пиву: с 4-го по 9-й класс включительно. Это совпадение объясняется примерно равной доступностью того и другого для 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78"/>
          <p:cNvPicPr/>
          <p:nvPr/>
        </p:nvPicPr>
        <p:blipFill>
          <a:blip r:embed="rId1"/>
          <a:stretch/>
        </p:blipFill>
        <p:spPr>
          <a:xfrm>
            <a:off x="5292720" y="4581360"/>
            <a:ext cx="30718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20:24Z</dcterms:created>
  <dc:creator>User</dc:creator>
  <dc:description/>
  <dc:language>en-US</dc:language>
  <cp:lastModifiedBy>Николай</cp:lastModifiedBy>
  <dcterms:modified xsi:type="dcterms:W3CDTF">2013-07-02T12:14:13Z</dcterms:modified>
  <cp:revision>13</cp:revision>
  <dc:subject/>
  <dc:title>Подросток в обществе риска.</dc:title>
</cp:coreProperties>
</file>