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2EE-4DFB-4473-96D2-35097D2E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DB4-5807-44F4-93FC-2ECECFF4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228-084F-4BF7-97B8-AE82FDC2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1CD-5A25-4AAD-8AAB-4D5BB932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010A-C5C7-40E0-A516-952A546C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B68D-8F0B-45A4-9BB8-83B29753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6EF5-159E-4607-B97E-B81EDAF8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35DD-9AC2-46AB-991F-47CB00E7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8BAF-BE21-4E1B-9D7A-5C6B3578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BCA8-9968-48D7-A0B1-6C1E3E5C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DB21-9018-4D55-8243-B2ACE62C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CA9-8BF6-464B-A8B8-E4044EF8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4298-F94C-4CBF-B518-0AA43B3E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3168-0C5C-4E41-99F5-AE795C20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90C8-8166-44CB-AE0E-7529A764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C625-4567-4957-9118-33E2088D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E64D-5D4B-45E0-AF9C-ADC24412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96BB2-0D2F-4AB7-A100-2F77C6B4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6F3B1-91A8-4ADB-B85F-A1F153D1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F57E6-43CD-4DBB-886E-60E23B2E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DC992-271F-419F-B29D-13224FF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28745-0F1E-4BDE-BAC3-6793D877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4E0-181B-4B01-80A7-2963B95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DFC3B-7C6C-4D8C-B7CD-31BEA98B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9531B-800E-4B68-93F9-EDE1DBF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F55C1-FCD2-408C-BB7A-331EB46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71FB6-6D84-4556-A261-E20EC2E1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397B4-338E-4826-980F-7E8852D6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0CA31-680F-4DBB-8170-88D79BE1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BD4A6-3CDD-4FB9-B032-90C1D307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F8A6C-7E1D-4C70-ABED-B841266A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634B2-F29F-42C2-8137-A3688C53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BA0B-F0E5-4724-8262-4A74C4D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040-2C6B-489A-805E-00A60884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B9872-7C47-4331-BA5F-59218A12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464B-7BA7-46D8-A77F-18A7D47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60EA-3519-42D8-8660-7579EC60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A32C-9A7C-4251-B5E9-F3C55A40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2220-FF5D-48EC-9CD7-BB8E1382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383F-33ED-45C6-8794-D77521FB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7662-AA6B-480B-8029-FC4BBED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AA145-879C-4830-B2CB-77742EA5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3A984-8CD1-44A5-AA48-EDC46A6F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E25-B1D2-4B13-9C63-3B708566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6AE-0D24-4680-A664-92CAB8D9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52D-B2C8-4F74-BDA4-33634C0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8F4-B11E-4C8D-9787-25EDDCF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587-4E49-47DE-AA4B-8C1D3E53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C120-5405-41FA-A9EB-DF37CDB7756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4C7-ABCE-4086-9FC6-02537CE7423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1FC0-084E-457C-B4B1-CE35440B551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D69F-416C-49D6-969A-1918491715F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ikatv.kz/spaw/images/6-04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853920"/>
            <a:ext cx="7772400" cy="16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rebuchet MS"/>
              </a:rPr>
              <a:t>Подросток в обществе риска.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786280" y="3898800"/>
            <a:ext cx="314352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езентацию сделал  ученик 7В класса школы 32 Соха Серге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4" descr="6"/>
          <p:cNvPicPr/>
          <p:nvPr/>
        </p:nvPicPr>
        <p:blipFill>
          <a:blip r:embed="rId1"/>
          <a:stretch/>
        </p:blipFill>
        <p:spPr>
          <a:xfrm>
            <a:off x="0" y="3481560"/>
            <a:ext cx="440532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6. Подростковая нарком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i-main-pic" descr="Картинка 415 из 1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781360"/>
            <a:ext cx="329868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712800" y="197496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1.Эволюция одиночества такова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 -</a:t>
            </a: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 чем больше людей на планете, тем меньше одиноче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2.Чувство одиночества 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- </a:t>
            </a: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это одна из категорий вечных пережива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3.Одиночество и депрессия ни как между собой не взаимосвязан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4. У одиночества есть позитивная окрас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5. В зрелом возрасте одиночество чувствуется остре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ambria"/>
              </a:rPr>
              <a:t>В современном обществе подросток подвергается большей опасности, чем его одногодки в прежние времена.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18"/>
          <p:cNvPicPr/>
          <p:nvPr/>
        </p:nvPicPr>
        <p:blipFill>
          <a:blip r:embed="rId1"/>
          <a:stretch/>
        </p:blipFill>
        <p:spPr>
          <a:xfrm>
            <a:off x="1835280" y="2565360"/>
            <a:ext cx="5143320" cy="34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Однако не только общество служит источником опасностей для подростка, но и его собственное поведение, часто неуправляемое и импульсивное, выступает источником риска для окружающих людей. При этом оказалось, что мальчики и юноши ведут себя более рискованно чаще, чем молодые девуш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1. Шу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4" descr="23"/>
          <p:cNvPicPr/>
          <p:nvPr/>
        </p:nvPicPr>
        <p:blipFill>
          <a:blip r:embed="rId1"/>
          <a:stretch/>
        </p:blipFill>
        <p:spPr>
          <a:xfrm>
            <a:off x="2050920" y="242100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2. Подростковый алкоголиз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4" descr="21"/>
          <p:cNvPicPr/>
          <p:nvPr/>
        </p:nvPicPr>
        <p:blipFill>
          <a:blip r:embed="rId1"/>
          <a:stretch/>
        </p:blipFill>
        <p:spPr>
          <a:xfrm>
            <a:off x="1908000" y="2857680"/>
            <a:ext cx="52214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3.Отрицательные последствия просмотров</a:t>
            </a:r>
            <a:r>
              <a:rPr b="0" i="1" lang="en-US" sz="28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телепрограм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Picture 4" descr="175"/>
          <p:cNvPicPr/>
          <p:nvPr/>
        </p:nvPicPr>
        <p:blipFill>
          <a:blip r:embed="rId1"/>
          <a:stretch/>
        </p:blipFill>
        <p:spPr>
          <a:xfrm>
            <a:off x="1908000" y="3286080"/>
            <a:ext cx="52358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4. Раннее сексуальное развит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tumblr_lh10jfTa4C1qa2oqno1_500"/>
          <p:cNvPicPr/>
          <p:nvPr/>
        </p:nvPicPr>
        <p:blipFill>
          <a:blip r:embed="rId1"/>
          <a:stretch/>
        </p:blipFill>
        <p:spPr>
          <a:xfrm>
            <a:off x="2050920" y="2724120"/>
            <a:ext cx="52358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5. Приобщение к курению  Период приобщения к курению совпадает с периодом приобщения к пиву: с 4-го по 9-й класс включительно. Это совпадение объясняется примерно равной доступностью того и другого для школь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5" descr="78"/>
          <p:cNvPicPr/>
          <p:nvPr/>
        </p:nvPicPr>
        <p:blipFill>
          <a:blip r:embed="rId1"/>
          <a:stretch/>
        </p:blipFill>
        <p:spPr>
          <a:xfrm>
            <a:off x="5292720" y="4581360"/>
            <a:ext cx="30718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20:24Z</dcterms:created>
  <dc:creator>User</dc:creator>
  <dc:description/>
  <dc:language>en-US</dc:language>
  <cp:lastModifiedBy>Николай</cp:lastModifiedBy>
  <dcterms:modified xsi:type="dcterms:W3CDTF">2013-07-02T12:14:13Z</dcterms:modified>
  <cp:revision>13</cp:revision>
  <dc:subject/>
  <dc:title>Подросток в обществе риска.</dc:title>
</cp:coreProperties>
</file>