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B0F5-9663-4FCB-B8A7-628310E82B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5499-AF01-41FB-A5DD-09C41F02C286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5523-1B4A-4BD1-8F38-25EF93670AA1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888B-3C1F-4E00-ABC4-FF41AA5E8617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0C46-26ED-4A32-8F18-3724E631CFA8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82D3-ADBD-4D74-A52B-05BED3C5434D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468C-B27A-4D7B-B4ED-896098566A64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CAC3-46C9-4A20-86B4-B64F4288E616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3E66-70B7-4795-8930-A8B1767F01DB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31FF-42B0-424E-AC72-ED9E70D0D1B9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C2D4-CBD8-4504-B298-28EE61F6E946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63EF-06C0-4773-B172-FAB5BF01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F4A-AED8-4A14-BEB5-BBC95D39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409-7A49-4B4D-B025-86814F75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FD84-91E5-489E-8B1F-F21EB5CB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1391-698F-46A5-BC2A-13B0DB24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CE4F-0E7D-4809-8422-4AD69916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5C88-B88F-498F-9BA7-7F92DFEC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E815-3E3E-4D9D-8BCD-B4DE3AEF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A15B-AC3E-452A-839D-2311B3BE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C85F-47BC-464F-8868-60CA06DC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4CDE-3CD6-44D1-B4E0-D0BB5B1F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B05A-4EC8-4101-B53D-41AF8415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F83D-97B8-4FC6-ACBB-EEC5CD53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2EE0-C6B0-4568-9239-8E1B4DA1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31D9-DACB-4D35-93E5-D44B5599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69BE-DCEF-4CC3-9898-3EFCF8F8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6851-B5D3-4F71-BBF5-8DBD36B1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DCCE-E3FF-4E3F-A31A-5876507F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AE82-6D3F-4E2F-B4B9-29ED479F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6456-8976-4036-816E-F5BA57DA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34C7-2B62-4823-97FB-D88572E2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750C-7222-4B53-973D-7A656E1A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5496-6362-4A6E-B3E8-104F44C1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136-10FD-46F6-9A81-9F0B4C4A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1C26-94C1-4C4D-9F52-AB5D8A32D8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6AB6-18CB-4E21-A2F6-8F2F316981B0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9;&#1090;&#1088;&#1086;&#1085;&#1086;&#1084;&#1080;&#1095;&#1077;&#1089;&#1082;&#1080;&#1081;_&#1089;&#1087;&#1091;&#1090;&#1085;&#1080;&#1082;" TargetMode="External"/><Relationship Id="rId2" Type="http://schemas.openxmlformats.org/officeDocument/2006/relationships/hyperlink" Target="http://ru.wikipedia.org/w/index.php?title=&#1041;&#1080;&#1086;&#1089;&#1087;&#1091;&#1090;&#1085;&#1080;&#1082;&amp;action=edit&amp;redlink=1" TargetMode="External"/><Relationship Id="rId3" Type="http://schemas.openxmlformats.org/officeDocument/2006/relationships/hyperlink" Target="http://ru.wikipedia.org/wiki/&#1044;&#1080;&#1089;&#1090;&#1072;&#1085;&#1094;&#1080;&#1086;&#1085;&#1085;&#1086;&#1077;_&#1079;&#1086;&#1085;&#1076;&#1080;&#1088;&#1086;&#1074;&#1072;&#1085;&#1080;&#1077;_&#1047;&#1077;&#1084;&#1083;&#1080;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9;&#1084;&#1080;&#1095;&#1077;&#1089;&#1082;&#1080;&#1081;_&#1082;&#1086;&#1088;&#1072;&#1073;&#1083;&#1100;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АГАРИНСКИЕ ЧТЕНИЯ-20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12 АПРЕЛЯ-День авиации и космонавтики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довое обозначение спутника — ПС-1 (Простейший Спутник-1). Запуск осуществлялся с 5-го научно-исследовательского полигона министерства обороны СССР «Тюра-Там» (получившего впоследствии открытое наименование космодром Байконур) на ракете-носителе «Спутник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Содержимое 7" descr="модель 1 сп.jpg"/>
          <p:cNvPicPr/>
          <p:nvPr/>
        </p:nvPicPr>
        <p:blipFill>
          <a:blip r:embed="rId1"/>
          <a:stretch/>
        </p:blipFill>
        <p:spPr>
          <a:xfrm>
            <a:off x="1708200" y="1523880"/>
            <a:ext cx="70754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440" y="489888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3 ноября 1957 года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запущен 2-й ИСЗ с собакой Лайкой на борту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3" name="Рисунок 10" descr="cosmos_dog_11.jpg"/>
          <p:cNvPicPr/>
          <p:nvPr/>
        </p:nvPicPr>
        <p:blipFill>
          <a:blip r:embed="rId1"/>
          <a:srcRect l="0" t="3240" r="0" b="324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440" y="489888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15 мая 1958 года запущен 3-й ИСЗ с научной аппаратурой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6" name="Picture 2" descr="C:\Documents and Settings\Наташа\Мои документы\Мои рисунки\3 исз.jpg"/>
          <p:cNvPicPr/>
          <p:nvPr/>
        </p:nvPicPr>
        <p:blipFill>
          <a:blip r:embed="rId1"/>
          <a:srcRect l="0" t="22067" r="0" b="2206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440" y="5007960"/>
            <a:ext cx="548640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Рисунок 6" descr="луна1.jpg"/>
          <p:cNvPicPr/>
          <p:nvPr/>
        </p:nvPicPr>
        <p:blipFill>
          <a:blip r:embed="rId1"/>
          <a:srcRect l="5580" t="0" r="5580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2 января 1959 года запуск космической станции «Луна». Достигнута вторая космическая скорость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смические скорости Зем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12" name="Рисунок 5" descr="ris27"/>
          <p:cNvPicPr/>
          <p:nvPr/>
        </p:nvPicPr>
        <p:blipFill>
          <a:blip r:embed="rId1"/>
          <a:stretch/>
        </p:blipFill>
        <p:spPr>
          <a:xfrm>
            <a:off x="2214720" y="1714680"/>
            <a:ext cx="51433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840" y="228240"/>
            <a:ext cx="7562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смические скорости Зем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500120" y="1285920"/>
          <a:ext cx="6858000" cy="4857840"/>
        </p:xfrm>
        <a:graphic>
          <a:graphicData uri="http://schemas.openxmlformats.org/drawingml/2006/table">
            <a:tbl>
              <a:tblPr/>
              <a:tblGrid>
                <a:gridCol w="1716120"/>
                <a:gridCol w="1306440"/>
                <a:gridCol w="1532160"/>
                <a:gridCol w="2303280"/>
              </a:tblGrid>
              <a:tr h="1096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осмическая скорость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Значение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м/с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Вид траектории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Движение тела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ервая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окружность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путник Земли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003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1,2&gt;</a:t>
                      </a:r>
                      <a:r>
                        <a:rPr b="1" i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i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&gt;7,9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эллипс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09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Вторая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fe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fe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арабола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fe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окидает пределы Солнечной системы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fe4"/>
                    </a:solidFill>
                  </a:tcPr>
                </a:tc>
              </a:tr>
              <a:tr h="644760"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1e0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&gt; 11</a:t>
                      </a: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1e0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гипербола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1e0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1e0ff"/>
                    </a:solidFill>
                  </a:tcPr>
                </a:tc>
              </a:tr>
            </a:tbl>
          </a:graphicData>
        </a:graphic>
      </p:graphicFrame>
      <p:sp>
        <p:nvSpPr>
          <p:cNvPr id="21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З «Восток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Рисунок 5" descr="исз восток.jpg"/>
          <p:cNvPicPr/>
          <p:nvPr/>
        </p:nvPicPr>
        <p:blipFill>
          <a:blip r:embed="rId1"/>
          <a:srcRect l="10510" t="0" r="10510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ИСЗ выводятся на орбиты с помощью многоступенчатых ракет-носителей, которые поднимают их на определенную высоту над поверхностью </a:t>
            </a:r>
            <a:r>
              <a:rPr b="1" i="1" lang="ru-RU" sz="1400" spc="-1" strike="noStrike">
                <a:solidFill>
                  <a:srgbClr val="333300"/>
                </a:solidFill>
                <a:latin typeface="Arial"/>
              </a:rPr>
              <a:t>Земли 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и разгоняют до скорости, равной или превышающей (но не более чем в 1,4 раза) первую космическую скорость. 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85920" y="2906280"/>
            <a:ext cx="720864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 fontScale="73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По целям и задачам ИСЗ подразделяются на две большие группы — научно-исследовательские и прикладные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21" name="Picture 2" descr="C:\Documents and Settings\Наташа\Мои документы\Мои рисунки\0004-010-Iskusstvennye-sputniki-Zemli.jpg"/>
          <p:cNvPicPr/>
          <p:nvPr/>
        </p:nvPicPr>
        <p:blipFill>
          <a:blip r:embed="rId1"/>
          <a:stretch/>
        </p:blipFill>
        <p:spPr>
          <a:xfrm>
            <a:off x="3786120" y="4429080"/>
            <a:ext cx="15717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орбитам, на которые ИСЗ выводятся, спутники Земли делятся на круговые, эллиптические, экваториальные (плоскость орбиты ИСЗ лежит в плоскости экватора), полярные (плоскость орбиты ИСЗ составляет с плоскостью экватора 90°), стационарны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Содержимое 6" descr="837219238.jpg"/>
          <p:cNvPicPr/>
          <p:nvPr/>
        </p:nvPicPr>
        <p:blipFill>
          <a:blip r:embed="rId1"/>
          <a:stretch/>
        </p:blipFill>
        <p:spPr>
          <a:xfrm>
            <a:off x="1643040" y="1785960"/>
            <a:ext cx="3357720" cy="2500200"/>
          </a:xfrm>
          <a:prstGeom prst="rect">
            <a:avLst/>
          </a:prstGeom>
          <a:ln w="0">
            <a:noFill/>
          </a:ln>
        </p:spPr>
      </p:pic>
      <p:pic>
        <p:nvPicPr>
          <p:cNvPr id="224" name="Содержимое 9" descr="0004-011-Iskusstvennye-sputniki-Zemli.jpg"/>
          <p:cNvPicPr/>
          <p:nvPr/>
        </p:nvPicPr>
        <p:blipFill>
          <a:blip r:embed="rId2"/>
          <a:stretch/>
        </p:blipFill>
        <p:spPr>
          <a:xfrm>
            <a:off x="5715000" y="3643200"/>
            <a:ext cx="283680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505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меры, масса, оборудование ИСЗ зависят от задач, которые спутники решают. Первый в мире советский ИСЗ имел массу 83,6 кг, корпус в виде шара диаметром 0,58 м. Масса наименьшего ИСЗ составляла всего 700 г. Масса советского ИСЗ «Протон-4» около 17 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7030a0"/>
                </a:solidFill>
                <a:latin typeface="Times New Roman"/>
              </a:rPr>
              <a:t>ПИЛИГРИМЫ КОСМОС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741760" y="4124160"/>
            <a:ext cx="5045040" cy="9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Учитель физики БОУ СОШ №6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овалева Наталья Евгеньевна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00120" y="177480"/>
            <a:ext cx="7429680" cy="52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Различают следующие типы спутников:</a:t>
            </a:r>
            <a:br>
              <a:rPr sz="2800"/>
            </a:br>
            <a:r>
              <a:rPr b="0" lang="ru-RU" sz="2800" spc="-1" strike="noStrike" u="sng">
                <a:solidFill>
                  <a:srgbClr val="999933"/>
                </a:solidFill>
                <a:uFillTx/>
                <a:latin typeface="Calibri"/>
                <a:ea typeface="Times New Roman"/>
                <a:hlinkClick r:id="rId1"/>
              </a:rPr>
              <a:t>Астрономические спутники</a:t>
            </a:r>
            <a:br>
              <a:rPr sz="2800"/>
            </a:br>
            <a:r>
              <a:rPr b="1" lang="ru-RU" sz="2800" spc="-1" strike="noStrike">
                <a:solidFill>
                  <a:srgbClr val="333300"/>
                </a:solidFill>
                <a:latin typeface="Calibri"/>
                <a:ea typeface="Times New Roman"/>
              </a:rPr>
              <a:t>— это спутники,</a:t>
            </a:r>
            <a:br>
              <a:rPr sz="2800"/>
            </a:br>
            <a:r>
              <a:rPr b="1" lang="ru-RU" sz="2800" spc="-1" strike="noStrike">
                <a:solidFill>
                  <a:srgbClr val="333300"/>
                </a:solidFill>
                <a:latin typeface="Calibri"/>
                <a:ea typeface="Times New Roman"/>
              </a:rPr>
              <a:t> предназначенные для исследования планет, </a:t>
            </a:r>
            <a:br>
              <a:rPr sz="2800"/>
            </a:br>
            <a:r>
              <a:rPr b="1" lang="ru-RU" sz="2800" spc="-1" strike="noStrike">
                <a:solidFill>
                  <a:srgbClr val="333300"/>
                </a:solidFill>
                <a:latin typeface="Calibri"/>
                <a:ea typeface="Times New Roman"/>
              </a:rPr>
              <a:t>галактик и других космических объектов.</a:t>
            </a:r>
            <a:br>
              <a:rPr sz="2800"/>
            </a:br>
            <a:r>
              <a:rPr b="0" lang="ru-RU" sz="2800" spc="-1" strike="noStrike" u="sng">
                <a:solidFill>
                  <a:srgbClr val="999933"/>
                </a:solidFill>
                <a:uFillTx/>
                <a:latin typeface="Calibri"/>
                <a:ea typeface="Times New Roman"/>
                <a:hlinkClick r:id="rId2"/>
              </a:rPr>
              <a:t>Биоспутники</a:t>
            </a:r>
            <a:r>
              <a:rPr b="1" lang="ru-RU" sz="2800" spc="-1" strike="noStrike">
                <a:solidFill>
                  <a:srgbClr val="333300"/>
                </a:solidFill>
                <a:latin typeface="Calibri"/>
                <a:ea typeface="Times New Roman"/>
              </a:rPr>
              <a:t>— это спутники,</a:t>
            </a:r>
            <a:br>
              <a:rPr sz="2800"/>
            </a:br>
            <a:r>
              <a:rPr b="1" lang="ru-RU" sz="2800" spc="-1" strike="noStrike">
                <a:solidFill>
                  <a:srgbClr val="333300"/>
                </a:solidFill>
                <a:latin typeface="Calibri"/>
                <a:ea typeface="Times New Roman"/>
              </a:rPr>
              <a:t> предназначенные </a:t>
            </a:r>
            <a:br>
              <a:rPr sz="2800"/>
            </a:br>
            <a:r>
              <a:rPr b="1" lang="ru-RU" sz="2800" spc="-1" strike="noStrike">
                <a:solidFill>
                  <a:srgbClr val="333300"/>
                </a:solidFill>
                <a:latin typeface="Calibri"/>
                <a:ea typeface="Times New Roman"/>
              </a:rPr>
              <a:t>для проведения научных экспериментов </a:t>
            </a:r>
            <a:br>
              <a:rPr sz="2800"/>
            </a:br>
            <a:r>
              <a:rPr b="1" lang="ru-RU" sz="2800" spc="-1" strike="noStrike">
                <a:solidFill>
                  <a:srgbClr val="333300"/>
                </a:solidFill>
                <a:latin typeface="Calibri"/>
                <a:ea typeface="Times New Roman"/>
              </a:rPr>
              <a:t>над живыми организмами в условиях космоса.</a:t>
            </a:r>
            <a:br>
              <a:rPr sz="2800"/>
            </a:br>
            <a:r>
              <a:rPr b="0" lang="ru-RU" sz="2800" spc="-1" strike="noStrike" u="sng">
                <a:solidFill>
                  <a:srgbClr val="999933"/>
                </a:solidFill>
                <a:uFillTx/>
                <a:latin typeface="Calibri"/>
                <a:ea typeface="Times New Roman"/>
                <a:hlinkClick r:id="rId3"/>
              </a:rPr>
              <a:t>Дистанционного зондирования Земл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605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Космические корабл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— пилотируемые космические аппараты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смические станции— долговременные космические корабл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5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еорологические спутники— это спутники, предназначенные для передачи данных в целях предсказания погоды, а также для наблюдения климата Земл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лые спутник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— спутники малого веса (менее 1 или 0.5 тонн) и размера. Включают в себя мини-спутники (более 100 кг), микроспутники (более 10 кг) и наноспутники (легче 10 кг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605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ведывательные спутник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вигационные спутник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утники связ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кспериментальные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Содержимое 8" descr="беспилотный космический аппарат.jpg"/>
          <p:cNvPicPr/>
          <p:nvPr/>
        </p:nvPicPr>
        <p:blipFill>
          <a:blip r:embed="rId1"/>
          <a:stretch/>
        </p:blipFill>
        <p:spPr>
          <a:xfrm>
            <a:off x="4214880" y="3929040"/>
            <a:ext cx="4214880" cy="2571840"/>
          </a:xfrm>
          <a:prstGeom prst="rect">
            <a:avLst/>
          </a:prstGeom>
          <a:ln w="0">
            <a:noFill/>
          </a:ln>
        </p:spPr>
      </p:pic>
      <p:pic>
        <p:nvPicPr>
          <p:cNvPr id="232" name="Содержимое 7" descr="764038085.jpg"/>
          <p:cNvPicPr/>
          <p:nvPr/>
        </p:nvPicPr>
        <p:blipFill>
          <a:blip r:embed="rId2"/>
          <a:stretch/>
        </p:blipFill>
        <p:spPr>
          <a:xfrm>
            <a:off x="1857240" y="571680"/>
            <a:ext cx="32148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Содержимое 4" descr="110407141352_satellites_when_464_ru.jpg"/>
          <p:cNvPicPr/>
          <p:nvPr/>
        </p:nvPicPr>
        <p:blipFill>
          <a:blip r:embed="rId1"/>
          <a:stretch/>
        </p:blipFill>
        <p:spPr>
          <a:xfrm>
            <a:off x="2000160" y="500040"/>
            <a:ext cx="5857920" cy="50007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5321160" y="1523520"/>
            <a:ext cx="3670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Содержимое 6" descr="110407141345_satellites_inactive_464_ru.jpg"/>
          <p:cNvPicPr/>
          <p:nvPr/>
        </p:nvPicPr>
        <p:blipFill>
          <a:blip r:embed="rId1"/>
          <a:stretch/>
        </p:blipFill>
        <p:spPr>
          <a:xfrm>
            <a:off x="1500120" y="571680"/>
            <a:ext cx="3668760" cy="3004920"/>
          </a:xfrm>
          <a:prstGeom prst="rect">
            <a:avLst/>
          </a:prstGeom>
          <a:ln w="0">
            <a:noFill/>
          </a:ln>
        </p:spPr>
      </p:pic>
      <p:pic>
        <p:nvPicPr>
          <p:cNvPr id="238" name="Содержимое 9" descr="110407141349_satellites_what_464_ru.jpg"/>
          <p:cNvPicPr/>
          <p:nvPr/>
        </p:nvPicPr>
        <p:blipFill>
          <a:blip r:embed="rId2"/>
          <a:stretch/>
        </p:blipFill>
        <p:spPr>
          <a:xfrm>
            <a:off x="5214960" y="3214800"/>
            <a:ext cx="367020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59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временные пилигримы космоса будут по-прежнему служить на благо человечеств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2" descr="C:\Documents and Settings\Наташа\Мои документы\Мои рисунки\0001-003-Podgotovila-Ilicheva-Vera-Aleksandrovna-MOU-Arjovskaja-SOSH.png"/>
          <p:cNvPicPr/>
          <p:nvPr/>
        </p:nvPicPr>
        <p:blipFill>
          <a:blip r:embed="rId1"/>
          <a:stretch/>
        </p:blipFill>
        <p:spPr>
          <a:xfrm>
            <a:off x="6286680" y="4357800"/>
            <a:ext cx="25239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52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СПАСИБО за внимание!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С Днем авиации и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космонавтики!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Рисунок 4" descr="C:\Documents and Settings\Наташа\Мои документы\Мои рисунки\0001-001-Podgotovila-Ilicheva-Vera-Aleksandrovna-MOU-Arjovskaja-SOSH.jpg"/>
          <p:cNvPicPr/>
          <p:nvPr/>
        </p:nvPicPr>
        <p:blipFill>
          <a:blip r:embed="rId1"/>
          <a:stretch/>
        </p:blipFill>
        <p:spPr>
          <a:xfrm>
            <a:off x="2643120" y="3214800"/>
            <a:ext cx="36435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Documents and Settings\Наташа\Мои документы\Мои рисунки\к.э.циолковский.jpg"/>
          <p:cNvPicPr/>
          <p:nvPr/>
        </p:nvPicPr>
        <p:blipFill>
          <a:blip r:embed="rId1"/>
          <a:stretch/>
        </p:blipFill>
        <p:spPr>
          <a:xfrm>
            <a:off x="4857840" y="3714840"/>
            <a:ext cx="1643040" cy="2143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Documents and Settings\Наташа\Мои документы\Мои рисунки\н.е.жуковский.jpg"/>
          <p:cNvPicPr/>
          <p:nvPr/>
        </p:nvPicPr>
        <p:blipFill>
          <a:blip r:embed="rId2"/>
          <a:stretch/>
        </p:blipFill>
        <p:spPr>
          <a:xfrm>
            <a:off x="5786280" y="214200"/>
            <a:ext cx="2357640" cy="2643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Наташа\Мои документы\Мои рисунки\сп королев.jpg"/>
          <p:cNvPicPr/>
          <p:nvPr/>
        </p:nvPicPr>
        <p:blipFill>
          <a:blip r:embed="rId3"/>
          <a:stretch/>
        </p:blipFill>
        <p:spPr>
          <a:xfrm>
            <a:off x="1428840" y="221472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176" name="Rectangle 5" descr=""/>
          <p:cNvPicPr/>
          <p:nvPr/>
        </p:nvPicPr>
        <p:blipFill>
          <a:blip r:embed="rId4"/>
          <a:stretch/>
        </p:blipFill>
        <p:spPr>
          <a:xfrm>
            <a:off x="1566720" y="781200"/>
            <a:ext cx="5010120" cy="109044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7"/>
          <p:cNvSpPr/>
          <p:nvPr/>
        </p:nvSpPr>
        <p:spPr>
          <a:xfrm>
            <a:off x="5214960" y="29289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4929120" y="285768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Calibri"/>
                <a:ea typeface="Times New Roman"/>
              </a:rPr>
              <a:t>165 лет со дня рождения Н.Е.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Calibri"/>
                <a:ea typeface="Times New Roman"/>
              </a:rPr>
              <a:t>Жуковского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Прямоугольник 9"/>
          <p:cNvSpPr/>
          <p:nvPr/>
        </p:nvSpPr>
        <p:spPr>
          <a:xfrm>
            <a:off x="2357280" y="585792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Calibri"/>
                <a:ea typeface="Times New Roman"/>
              </a:rPr>
              <a:t>155 </a:t>
            </a:r>
            <a:r>
              <a:rPr b="1" lang="ru-RU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Calibri"/>
                <a:ea typeface="Times New Roman"/>
              </a:rPr>
              <a:t>лет со дня рождения К.Э. Циолковского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 хочу рассказать о пилигримах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смоса-искусственных спутниках Земл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3" name="Содержимое 12" descr="гагарин.jpg"/>
          <p:cNvPicPr/>
          <p:nvPr/>
        </p:nvPicPr>
        <p:blipFill>
          <a:blip r:embed="rId1"/>
          <a:stretch/>
        </p:blipFill>
        <p:spPr>
          <a:xfrm>
            <a:off x="1500120" y="2643120"/>
            <a:ext cx="3881520" cy="3951360"/>
          </a:xfrm>
          <a:prstGeom prst="rect">
            <a:avLst/>
          </a:prstGeom>
          <a:ln w="0">
            <a:noFill/>
          </a:ln>
        </p:spPr>
      </p:pic>
      <p:pic>
        <p:nvPicPr>
          <p:cNvPr id="184" name="Содержимое 15" descr="беспилотный космический аппарат.jpg"/>
          <p:cNvPicPr/>
          <p:nvPr/>
        </p:nvPicPr>
        <p:blipFill>
          <a:blip r:embed="rId2"/>
          <a:stretch/>
        </p:blipFill>
        <p:spPr>
          <a:xfrm>
            <a:off x="5715000" y="1643040"/>
            <a:ext cx="3100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 55-ЛЕТИЮ ПОЛЕТА ИС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Преодолев земное притяженье,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Ракета от Земли оторвалась…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И не было счастливее мгновенья –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Здесь новая эпоха началась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Ступень… вторая…  Третья отделилась,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Сгорая в атмосфере без следа…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А над Землей внезапно появилась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Стремительно летящая звезд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И Человечество застыло в изумленье: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Летящий в небе серебристый шар -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Рук человеческих великое творенье -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Был послан от Земли Вселенной в дар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440" y="4812840"/>
            <a:ext cx="548640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Содержимое 6" descr="космос голос диспетчера отрыв.jpg"/>
          <p:cNvPicPr/>
          <p:nvPr/>
        </p:nvPicPr>
        <p:blipFill>
          <a:blip r:embed="rId1"/>
          <a:srcRect l="0" t="3125" r="0" b="3125"/>
          <a:stretch/>
        </p:blipFill>
        <p:spPr>
          <a:xfrm>
            <a:off x="2214720" y="1000080"/>
            <a:ext cx="5064120" cy="3571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олгим и трудным путем шло человечество к осуществлению мечты о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корении Вселенной.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оссия-родина космонавт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У ее истоков стояли мужественные люди, гениальные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ученые, смелые мечтатели: Н. Коперник, Д. Бруно, И. Кеплер, Г. Галилей, И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ьютон, М. Ломоносов, К. Циолковский,С.П.Королё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 я с гордостью могу сказать ,что самая большая заслуга принадлежит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ученым моей необъятной России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.Э.Циолковскому и С.П.Королеву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же представляют собой искусственные спутники и какую пользу из них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влекает человек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4" name="Рисунок 5" descr="E:\Наташа\Nata\Аттестация\www_fizika_ru - Искусственные спутники.files\14e-i2.gif"/>
          <p:cNvPicPr/>
          <p:nvPr/>
        </p:nvPicPr>
        <p:blipFill>
          <a:blip r:embed="rId1"/>
          <a:stretch/>
        </p:blipFill>
        <p:spPr>
          <a:xfrm>
            <a:off x="3214800" y="2357280"/>
            <a:ext cx="38574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 октября 1957 г. в СССР с космодрома Байконур был осуществлен запуск первого искусственного спутника Земли (ИСЗ). Это всемирно-историческое событие стало началом новой эры в истории человечества — эры изучения и освоения космического пространства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2286000" y="28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Calibri"/>
                <a:ea typeface="Times New Roman"/>
              </a:rPr>
              <a:t>.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8" name="Рисунок 7" descr="Sputnik_asm.jpg"/>
          <p:cNvPicPr/>
          <p:nvPr/>
        </p:nvPicPr>
        <p:blipFill>
          <a:blip r:embed="rId1"/>
          <a:srcRect l="0" t="4218" r="0" b="421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57:04Z</dcterms:created>
  <dc:creator>Наташа</dc:creator>
  <dc:description/>
  <dc:language>en-US</dc:language>
  <cp:lastModifiedBy>Наташа</cp:lastModifiedBy>
  <dcterms:modified xsi:type="dcterms:W3CDTF">2012-04-14T07:07:24Z</dcterms:modified>
  <cp:revision>27</cp:revision>
  <dc:subject/>
  <dc:title>ГАГАРИНСКИЕ ЧТЕНИЯ-201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