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9CF8-D80F-4EDC-9125-79FC19F136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0E93-A817-48B9-9133-5A2464ACB781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6FEF-2961-47DB-BA45-C99F1EAF831E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46C5-1D4F-4D43-9CC8-2EA2C7946342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1C68-DFAC-48E3-8B19-90F01050C2AC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0893-715E-497B-8A84-9CA5786978C0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2B96-7140-48C3-978F-EF41138ECC90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61F8-AE5D-4D44-9D6F-CC43E20DD468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8134-21E1-4D8E-BAF6-DAAD6D595244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EB82-7B31-4930-A9F7-696324751EA2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15C4-511A-43D3-84EF-C74BA142E45B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01A-B9BC-4309-B783-F87DA178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7D2-E2F6-4568-9545-AE1F68EB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376-C81B-4B5B-A5D2-039EA325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F24-E650-44FB-BAFE-74FDCEE6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A613-5FEA-484D-A08B-205A0C20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55E4-F64C-48BE-8FC7-B6247316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8EEC-2EF6-4818-ABB0-A5FBC76E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FA70-F7EC-49F2-8A88-2F700DA5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9F16-0F0F-498F-BE0A-817E5974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0332-F405-4BE0-BCFB-7563C2DC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86D8-48EE-4028-BD0D-F6C8832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4A4-F457-44F1-8EAA-E4494343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A216-7DB8-494B-8640-B261E7AE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E8E4-35B1-4EA1-BB95-BF8F93D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935D-1D27-49CE-8572-161EE3F4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6336-019D-4A3A-8D79-4FE5398D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232C-ED1E-445F-8ECB-3C715871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5D3-E2C0-4DF9-94C4-24BD5136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A94-5D70-43B3-9458-CE46B5A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71D-4AF2-4C5A-AE73-8F281703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B51-E92C-4EE6-B37D-34E12FD4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47A-F473-4E82-93C6-1A055EF3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BD7-871E-4FC7-9EA3-82DE653B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BCA-79F5-452F-902F-DFEDC28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D785-D337-41F5-99F2-D943894392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0D5A-8318-467C-B377-4249D08410F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9;&#1090;&#1088;&#1086;&#1085;&#1086;&#1084;&#1080;&#1095;&#1077;&#1089;&#1082;&#1080;&#1081;_&#1089;&#1087;&#1091;&#1090;&#1085;&#1080;&#1082;" TargetMode="External"/><Relationship Id="rId2" Type="http://schemas.openxmlformats.org/officeDocument/2006/relationships/hyperlink" Target="http://ru.wikipedia.org/w/index.php?title=&#1041;&#1080;&#1086;&#1089;&#1087;&#1091;&#1090;&#1085;&#1080;&#1082;&amp;action=edit&amp;redlink=1" TargetMode="External"/><Relationship Id="rId3" Type="http://schemas.openxmlformats.org/officeDocument/2006/relationships/hyperlink" Target="http://ru.wikipedia.org/wiki/&#1044;&#1080;&#1089;&#1090;&#1072;&#1085;&#1094;&#1080;&#1086;&#1085;&#1085;&#1086;&#1077;_&#1079;&#1086;&#1085;&#1076;&#1080;&#1088;&#1086;&#1074;&#1072;&#1085;&#1080;&#1077;_&#1047;&#1077;&#1084;&#1083;&#1080;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0;&#1095;&#1077;&#1089;&#1082;&#1080;&#1081;_&#1082;&#1086;&#1088;&#1072;&#1073;&#1083;&#1100;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ГАРИНСКИЕ ЧТЕНИЯ-20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2 АПРЕЛЯ-День авиации и космонавтик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овое обозначение спутника — ПС-1 (Простейший Спутник-1). Запуск осуществлялся с 5-го научно-исследовательского полигона министерства обороны СССР «Тюра-Там» (получившего впоследствии открытое наименование космодром Байконур) на ракете-носителе «Спутник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Содержимое 7" descr="модель 1 сп.jpg"/>
          <p:cNvPicPr/>
          <p:nvPr/>
        </p:nvPicPr>
        <p:blipFill>
          <a:blip r:embed="rId1"/>
          <a:stretch/>
        </p:blipFill>
        <p:spPr>
          <a:xfrm>
            <a:off x="1708200" y="1523880"/>
            <a:ext cx="7075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440" y="48988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3 ноября 1957 года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запущен 2-й ИСЗ с собакой Лайкой на борту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3" name="Рисунок 10" descr="cosmos_dog_11.jpg"/>
          <p:cNvPicPr/>
          <p:nvPr/>
        </p:nvPicPr>
        <p:blipFill>
          <a:blip r:embed="rId1"/>
          <a:srcRect l="0" t="3240" r="0" b="324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440" y="48988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15 мая 1958 года запущен 3-й ИСЗ с научной аппаратурой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6" name="Picture 2" descr="C:\Documents and Settings\Наташа\Мои документы\Мои рисунки\3 исз.jpg"/>
          <p:cNvPicPr/>
          <p:nvPr/>
        </p:nvPicPr>
        <p:blipFill>
          <a:blip r:embed="rId1"/>
          <a:srcRect l="0" t="22067" r="0" b="2206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440" y="5007960"/>
            <a:ext cx="5486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Рисунок 6" descr="луна1.jpg"/>
          <p:cNvPicPr/>
          <p:nvPr/>
        </p:nvPicPr>
        <p:blipFill>
          <a:blip r:embed="rId1"/>
          <a:srcRect l="5580" t="0" r="558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2 января 1959 года запуск космической станции «Луна». Достигнута вторая космическая ско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мические скорости Зем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2" name="Рисунок 5" descr="ris27"/>
          <p:cNvPicPr/>
          <p:nvPr/>
        </p:nvPicPr>
        <p:blipFill>
          <a:blip r:embed="rId1"/>
          <a:stretch/>
        </p:blipFill>
        <p:spPr>
          <a:xfrm>
            <a:off x="2214720" y="1714680"/>
            <a:ext cx="51433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840" y="228240"/>
            <a:ext cx="756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мические скорости Зем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00120" y="1285920"/>
          <a:ext cx="6858000" cy="4857840"/>
        </p:xfrm>
        <a:graphic>
          <a:graphicData uri="http://schemas.openxmlformats.org/drawingml/2006/table">
            <a:tbl>
              <a:tblPr/>
              <a:tblGrid>
                <a:gridCol w="1716120"/>
                <a:gridCol w="1306440"/>
                <a:gridCol w="1532160"/>
                <a:gridCol w="2303280"/>
              </a:tblGrid>
              <a:tr h="10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осмическая скорость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Значение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м/с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ид траектори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Движение тел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ервая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окружность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путник Земл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0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,2&gt;</a:t>
                      </a:r>
                      <a:r>
                        <a:rPr b="1" i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i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&gt;7,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эллипс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9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торая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арабол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кидает пределы Солнечной систем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</a:tr>
              <a:tr h="64476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&gt; 11</a:t>
                      </a: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ипербол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</a:tr>
            </a:tbl>
          </a:graphicData>
        </a:graphic>
      </p:graphicFrame>
      <p:sp>
        <p:nvSpPr>
          <p:cNvPr id="21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З «Вост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Рисунок 5" descr="исз восток.jpg"/>
          <p:cNvPicPr/>
          <p:nvPr/>
        </p:nvPicPr>
        <p:blipFill>
          <a:blip r:embed="rId1"/>
          <a:srcRect l="10510" t="0" r="1051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ИСЗ выводятся на орбиты с помощью многоступенчатых ракет-носителей, которые поднимают их на определенную высоту над поверхностью </a:t>
            </a:r>
            <a:r>
              <a:rPr b="1" i="1" lang="ru-RU" sz="1400" spc="-1" strike="noStrike">
                <a:solidFill>
                  <a:srgbClr val="333300"/>
                </a:solidFill>
                <a:latin typeface="Arial"/>
              </a:rPr>
              <a:t>Земли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и разгоняют до скорости, равной или превышающей (но не более чем в 1,4 раза) первую космическую скорость.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85920" y="2906280"/>
            <a:ext cx="720864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73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По целям и задачам ИСЗ подразделяются на две большие группы — научно-исследовательские и прикладные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1" name="Picture 2" descr="C:\Documents and Settings\Наташа\Мои документы\Мои рисунки\0004-010-Iskusstvennye-sputniki-Zemli.jpg"/>
          <p:cNvPicPr/>
          <p:nvPr/>
        </p:nvPicPr>
        <p:blipFill>
          <a:blip r:embed="rId1"/>
          <a:stretch/>
        </p:blipFill>
        <p:spPr>
          <a:xfrm>
            <a:off x="3786120" y="4429080"/>
            <a:ext cx="1571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рбитам, на которые ИСЗ выводятся, спутники Земли делятся на круговые, эллиптические, экваториальные (плоскость орбиты ИСЗ лежит в плоскости экватора), полярные (плоскость орбиты ИСЗ составляет с плоскостью экватора 90°), стационарны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Содержимое 6" descr="837219238.jpg"/>
          <p:cNvPicPr/>
          <p:nvPr/>
        </p:nvPicPr>
        <p:blipFill>
          <a:blip r:embed="rId1"/>
          <a:stretch/>
        </p:blipFill>
        <p:spPr>
          <a:xfrm>
            <a:off x="1643040" y="1785960"/>
            <a:ext cx="3357720" cy="250020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9" descr="0004-011-Iskusstvennye-sputniki-Zemli.jpg"/>
          <p:cNvPicPr/>
          <p:nvPr/>
        </p:nvPicPr>
        <p:blipFill>
          <a:blip r:embed="rId2"/>
          <a:stretch/>
        </p:blipFill>
        <p:spPr>
          <a:xfrm>
            <a:off x="5715000" y="3643200"/>
            <a:ext cx="28368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50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меры, масса, оборудование ИСЗ зависят от задач, которые спутники решают. Первый в мире советский ИСЗ имел массу 83,6 кг, корпус в виде шара диаметром 0,58 м. Масса наименьшего ИСЗ составляла всего 700 г. Масса советского ИСЗ «Протон-4» около 17 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</a:rPr>
              <a:t>ПИЛИГРИМЫ КОСМОС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741760" y="4124160"/>
            <a:ext cx="504504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итель физики БОУ СОШ №6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овалева Наталья Евгеньевна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177480"/>
            <a:ext cx="7429680" cy="52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Различают следующие типы спутников:</a:t>
            </a:r>
            <a:br>
              <a:rPr sz="2800"/>
            </a:br>
            <a:r>
              <a:rPr b="0" lang="ru-RU" sz="2800" spc="-1" strike="noStrike" u="sng">
                <a:solidFill>
                  <a:srgbClr val="999933"/>
                </a:solidFill>
                <a:uFillTx/>
                <a:latin typeface="Calibri"/>
                <a:ea typeface="Times New Roman"/>
                <a:hlinkClick r:id="rId1"/>
              </a:rPr>
              <a:t>Астрономические спутники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— это спутники,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 предназначенные для исследования планет, 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галактик и других космических объектов.</a:t>
            </a:r>
            <a:br>
              <a:rPr sz="2800"/>
            </a:br>
            <a:r>
              <a:rPr b="0" lang="ru-RU" sz="2800" spc="-1" strike="noStrike" u="sng">
                <a:solidFill>
                  <a:srgbClr val="999933"/>
                </a:solidFill>
                <a:uFillTx/>
                <a:latin typeface="Calibri"/>
                <a:ea typeface="Times New Roman"/>
                <a:hlinkClick r:id="rId2"/>
              </a:rPr>
              <a:t>Биоспутники</a:t>
            </a: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— это спутники,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 предназначенные 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для проведения научных экспериментов 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над живыми организмами в условиях космоса.</a:t>
            </a:r>
            <a:br>
              <a:rPr sz="2800"/>
            </a:br>
            <a:r>
              <a:rPr b="0" lang="ru-RU" sz="2800" spc="-1" strike="noStrike" u="sng">
                <a:solidFill>
                  <a:srgbClr val="999933"/>
                </a:solidFill>
                <a:uFillTx/>
                <a:latin typeface="Calibri"/>
                <a:ea typeface="Times New Roman"/>
                <a:hlinkClick r:id="rId3"/>
              </a:rPr>
              <a:t>Дистанционного зондирования Земл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605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Космические корабл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— пилотируемые космические аппарат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мические станции— долговременные космические корабл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5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еорологические спутники— это спутники, предназначенные для передачи данных в целях предсказания погоды, а также для наблюдения климата Зем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лые спутн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спутники малого веса (менее 1 или 0.5 тонн) и размера. Включают в себя мини-спутники (более 100 кг), микроспутники (более 10 кг) и наноспутники (легче 10 к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605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едывательные спутни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вигационные спутни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утники связ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кспериментальны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Содержимое 8" descr="беспилотный космический аппарат.jpg"/>
          <p:cNvPicPr/>
          <p:nvPr/>
        </p:nvPicPr>
        <p:blipFill>
          <a:blip r:embed="rId1"/>
          <a:stretch/>
        </p:blipFill>
        <p:spPr>
          <a:xfrm>
            <a:off x="4214880" y="3929040"/>
            <a:ext cx="4214880" cy="257184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7" descr="764038085.jpg"/>
          <p:cNvPicPr/>
          <p:nvPr/>
        </p:nvPicPr>
        <p:blipFill>
          <a:blip r:embed="rId2"/>
          <a:stretch/>
        </p:blipFill>
        <p:spPr>
          <a:xfrm>
            <a:off x="1857240" y="571680"/>
            <a:ext cx="3214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Содержимое 4" descr="110407141352_satellites_when_464_ru.jpg"/>
          <p:cNvPicPr/>
          <p:nvPr/>
        </p:nvPicPr>
        <p:blipFill>
          <a:blip r:embed="rId1"/>
          <a:stretch/>
        </p:blipFill>
        <p:spPr>
          <a:xfrm>
            <a:off x="2000160" y="500040"/>
            <a:ext cx="5857920" cy="5000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Содержимое 6" descr="110407141345_satellites_inactive_464_ru.jpg"/>
          <p:cNvPicPr/>
          <p:nvPr/>
        </p:nvPicPr>
        <p:blipFill>
          <a:blip r:embed="rId1"/>
          <a:stretch/>
        </p:blipFill>
        <p:spPr>
          <a:xfrm>
            <a:off x="1500120" y="571680"/>
            <a:ext cx="3668760" cy="300492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9" descr="110407141349_satellites_what_464_ru.jpg"/>
          <p:cNvPicPr/>
          <p:nvPr/>
        </p:nvPicPr>
        <p:blipFill>
          <a:blip r:embed="rId2"/>
          <a:stretch/>
        </p:blipFill>
        <p:spPr>
          <a:xfrm>
            <a:off x="5214960" y="3214800"/>
            <a:ext cx="36702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временные пилигримы космоса будут по-прежнему служить на благо человечеств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" descr="C:\Documents and Settings\Наташа\Мои документы\Мои рисунки\0001-003-Podgotovila-Ilicheva-Vera-Aleksandrovna-MOU-Arjovskaja-SOSH.png"/>
          <p:cNvPicPr/>
          <p:nvPr/>
        </p:nvPicPr>
        <p:blipFill>
          <a:blip r:embed="rId1"/>
          <a:stretch/>
        </p:blipFill>
        <p:spPr>
          <a:xfrm>
            <a:off x="6286680" y="4357800"/>
            <a:ext cx="25239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52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 Днем авиации и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космонавтики!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Рисунок 4" descr="C:\Documents and Settings\Наташа\Мои документы\Мои рисунки\0001-001-Podgotovila-Ilicheva-Vera-Aleksandrovna-MOU-Arjovskaja-SOSH.jpg"/>
          <p:cNvPicPr/>
          <p:nvPr/>
        </p:nvPicPr>
        <p:blipFill>
          <a:blip r:embed="rId1"/>
          <a:stretch/>
        </p:blipFill>
        <p:spPr>
          <a:xfrm>
            <a:off x="2643120" y="3214800"/>
            <a:ext cx="3643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Наташа\Мои документы\Мои рисунки\к.э.циолковский.jpg"/>
          <p:cNvPicPr/>
          <p:nvPr/>
        </p:nvPicPr>
        <p:blipFill>
          <a:blip r:embed="rId1"/>
          <a:stretch/>
        </p:blipFill>
        <p:spPr>
          <a:xfrm>
            <a:off x="4857840" y="371484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Documents and Settings\Наташа\Мои документы\Мои рисунки\н.е.жуковский.jpg"/>
          <p:cNvPicPr/>
          <p:nvPr/>
        </p:nvPicPr>
        <p:blipFill>
          <a:blip r:embed="rId2"/>
          <a:stretch/>
        </p:blipFill>
        <p:spPr>
          <a:xfrm>
            <a:off x="5786280" y="214200"/>
            <a:ext cx="2357640" cy="264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Наташа\Мои документы\Мои рисунки\сп королев.jpg"/>
          <p:cNvPicPr/>
          <p:nvPr/>
        </p:nvPicPr>
        <p:blipFill>
          <a:blip r:embed="rId3"/>
          <a:stretch/>
        </p:blipFill>
        <p:spPr>
          <a:xfrm>
            <a:off x="1428840" y="2214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5" descr=""/>
          <p:cNvPicPr/>
          <p:nvPr/>
        </p:nvPicPr>
        <p:blipFill>
          <a:blip r:embed="rId4"/>
          <a:stretch/>
        </p:blipFill>
        <p:spPr>
          <a:xfrm>
            <a:off x="1566720" y="781200"/>
            <a:ext cx="5010120" cy="10904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7"/>
          <p:cNvSpPr/>
          <p:nvPr/>
        </p:nvSpPr>
        <p:spPr>
          <a:xfrm>
            <a:off x="5214960" y="29289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4929120" y="28576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165 лет со дня рождения Н.Е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Жуковског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2357280" y="58579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155 </a:t>
            </a:r>
            <a:r>
              <a:rPr b="1" lang="ru-RU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лет со дня рождения К.Э. Циолковског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хочу рассказать о пилигрима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смоса-искусственных спутниках Земл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3" name="Содержимое 12" descr="гагарин.jpg"/>
          <p:cNvPicPr/>
          <p:nvPr/>
        </p:nvPicPr>
        <p:blipFill>
          <a:blip r:embed="rId1"/>
          <a:stretch/>
        </p:blipFill>
        <p:spPr>
          <a:xfrm>
            <a:off x="1500120" y="2643120"/>
            <a:ext cx="3881520" cy="395136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15" descr="беспилотный космический аппарат.jpg"/>
          <p:cNvPicPr/>
          <p:nvPr/>
        </p:nvPicPr>
        <p:blipFill>
          <a:blip r:embed="rId2"/>
          <a:stretch/>
        </p:blipFill>
        <p:spPr>
          <a:xfrm>
            <a:off x="5715000" y="1643040"/>
            <a:ext cx="3100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 55-ЛЕТИЮ ПОЛЕТА ИС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реодолев земное притяженье,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Ракета от Земли оторвалась…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И не было счастливее мгновенья –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Здесь новая эпоха началась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упень… вторая…  Третья отделилась,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горая в атмосфере без следа…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А над Землей внезапно появилас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ремительно летящая звезд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И Человечество застыло в изумленье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Летящий в небе серебристый шар -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Рук человеческих великое творенье -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Был послан от Земли Вселенной в дар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440" y="4812840"/>
            <a:ext cx="5486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Содержимое 6" descr="космос голос диспетчера отрыв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2214720" y="1000080"/>
            <a:ext cx="5064120" cy="3571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олгим и трудным путем шло человечество к осуществлению мечты о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корении Вселенной.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ссия-родина космонав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 ее истоков стояли мужественные люди, гениальные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еные, смелые мечтатели: Н. Коперник, Д. Бруно, И. Кеплер, Г. Галилей, 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ьютон, М. Ломоносов, К. Циолковский,С.П.Королё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я с гордостью могу сказать ,что самая большая заслуга принадлежит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еным моей необъятной Росс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.Э.Циолковскому и С.П.Королеву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же представляют собой искусственные спутники и какую пользу из ни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влекает челове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4" name="Рисунок 5" descr="E:\Наташа\Nata\Аттестация\www_fizika_ru - Искусственные спутники.files\14e-i2.gif"/>
          <p:cNvPicPr/>
          <p:nvPr/>
        </p:nvPicPr>
        <p:blipFill>
          <a:blip r:embed="rId1"/>
          <a:stretch/>
        </p:blipFill>
        <p:spPr>
          <a:xfrm>
            <a:off x="3214800" y="2357280"/>
            <a:ext cx="385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октября 1957 г. в СССР с космодрома Байконур был осуществлен запуск первого искусственного спутника Земли (ИСЗ). Это всемирно-историческое событие стало началом новой эры в истории человечества — эры изучения и освоения космического пространства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8" name="Рисунок 7" descr="Sputnik_asm.jpg"/>
          <p:cNvPicPr/>
          <p:nvPr/>
        </p:nvPicPr>
        <p:blipFill>
          <a:blip r:embed="rId1"/>
          <a:srcRect l="0" t="4218" r="0" b="421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57:04Z</dcterms:created>
  <dc:creator>Наташа</dc:creator>
  <dc:description/>
  <dc:language>en-US</dc:language>
  <cp:lastModifiedBy>Наташа</cp:lastModifiedBy>
  <dcterms:modified xsi:type="dcterms:W3CDTF">2012-04-14T07:07:24Z</dcterms:modified>
  <cp:revision>27</cp:revision>
  <dc:subject/>
  <dc:title>ГАГАРИНСКИЕ ЧТЕНИЯ-20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