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1F4-5BEF-4594-83D9-3683DA63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050-FC6A-44B5-A615-4D77167A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B99-017B-4290-BDCA-DC936154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595-0BAD-401B-ACF7-544EE5DA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25B-E838-47B3-841F-8B249AEC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703-6363-477E-B604-5EF4AA8D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6B1-DC44-40AA-B285-C6FA38A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EB00-8258-4AAB-AC31-C310F75E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1DC-6464-4DF4-8D9D-62D647F7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9656-2EB1-424E-9227-D264D34D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EAE-F2D2-4DBA-BA8B-E276609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772-FE56-4876-9A79-E6307B36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5A3-465E-4CCB-8F88-991DF06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C67-DE50-4D43-A8EF-066B921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20B0-101B-4D6B-B867-2812B463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CB2F-574B-4ABD-865E-0244D026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7137-1F9B-44F7-8F64-91430518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16DA-0F67-4F1F-BEB6-9BB0BC00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D03-5675-4B96-A663-34FCD3E8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256-1E3C-4D46-B6DE-C8A2D56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21E-B82B-4530-ADDE-A6F2C6B3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D05-8B23-4A79-BA25-ED1393CF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038-52A4-48C0-AB1A-ED38C66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A64-74F7-4B32-AC8A-CD571138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729B-8BCF-4F92-8B60-48BE8284B5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6EF4-7DA0-4E6C-A82A-D10A1ADDB4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653080" y="5372280"/>
            <a:ext cx="3024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653080" y="4005000"/>
            <a:ext cx="187164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4005360"/>
            <a:ext cx="1150920" cy="1368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3080" y="5335560"/>
            <a:ext cx="934920" cy="11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88000" y="5371920"/>
            <a:ext cx="208764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588000" y="4005360"/>
            <a:ext cx="93672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3571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537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29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0809800">
            <a:off x="539280" y="1844640"/>
            <a:ext cx="2521080" cy="356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00000" y="1628640"/>
            <a:ext cx="770436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640" y="33336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88cc"/>
                    </a:gs>
                    <a:gs pos="100000">
                      <a:srgbClr val="8585a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геометрии в 10 класс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88cc"/>
                  </a:gs>
                  <a:gs pos="100000">
                    <a:srgbClr val="8585ad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1557360"/>
            <a:ext cx="7451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Каково может быть взаимное расположение двух прямых на плоскост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781360"/>
            <a:ext cx="838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(совпадают, пересекаются, параллельн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3357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3357720"/>
            <a:ext cx="745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Дайте определение параллельных прямых на плоск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63640" y="4792680"/>
            <a:ext cx="6193080" cy="1922400"/>
            <a:chOff x="1763640" y="4792680"/>
            <a:chExt cx="6193080" cy="1922400"/>
          </a:xfrm>
        </p:grpSpPr>
        <p:sp>
          <p:nvSpPr>
            <p:cNvPr id="111" name=""/>
            <p:cNvSpPr/>
            <p:nvPr/>
          </p:nvSpPr>
          <p:spPr>
            <a:xfrm>
              <a:off x="1763640" y="479268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99"/>
                  </a:solidFill>
                  <a:latin typeface="Monotype Corsiva"/>
                </a:rPr>
                <a:t>(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3080" y="479268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99"/>
                  </a:solidFill>
                  <a:latin typeface="Monotype Corsiva"/>
                </a:rPr>
                <a:t>)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5640" y="54417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8200" y="54766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700360" y="5729040"/>
              <a:ext cx="109440" cy="288720"/>
              <a:chOff x="2700360" y="5729040"/>
              <a:chExt cx="109440" cy="288720"/>
            </a:xfrm>
          </p:grpSpPr>
          <p:sp>
            <p:nvSpPr>
              <p:cNvPr id="116" name=""/>
              <p:cNvSpPr/>
              <p:nvPr/>
            </p:nvSpPr>
            <p:spPr>
              <a:xfrm>
                <a:off x="2700360" y="5729040"/>
                <a:ext cx="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09800" y="5729040"/>
                <a:ext cx="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564000" y="5800680"/>
              <a:ext cx="647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64000" y="5945040"/>
              <a:ext cx="647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11640" y="5945040"/>
              <a:ext cx="289080" cy="289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11640" y="5513400"/>
              <a:ext cx="289080" cy="287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49719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4932360" y="504360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4360" y="500832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r>
                <a:rPr b="1" lang="en-US" sz="4400" spc="-1" strike="noStrike">
                  <a:solidFill>
                    <a:srgbClr val="000099"/>
                  </a:solidFill>
                  <a:latin typeface="Monotype Corsiva"/>
                </a:rPr>
                <a:t>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6443640" y="504360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75640" y="500832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6360" y="500832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7080" y="5765760"/>
              <a:ext cx="12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37440" y="58006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003640" y="6018120"/>
              <a:ext cx="431640" cy="287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19280" y="422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Параллельными называются прямые, лежащие в одной плоскости и не пересекающие друг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763640" y="4292640"/>
            <a:ext cx="6193080" cy="1922400"/>
            <a:chOff x="1763640" y="4292640"/>
            <a:chExt cx="6193080" cy="1922400"/>
          </a:xfrm>
        </p:grpSpPr>
        <p:sp>
          <p:nvSpPr>
            <p:cNvPr id="136" name=""/>
            <p:cNvSpPr/>
            <p:nvPr/>
          </p:nvSpPr>
          <p:spPr>
            <a:xfrm>
              <a:off x="1763640" y="429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Monotype Corsiva"/>
                </a:rPr>
                <a:t>(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3080" y="429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Monotype Corsiva"/>
                </a:rPr>
                <a:t>)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95640" y="494172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78200" y="49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700360" y="5229000"/>
              <a:ext cx="109440" cy="288720"/>
              <a:chOff x="2700360" y="5229000"/>
              <a:chExt cx="109440" cy="288720"/>
            </a:xfrm>
          </p:grpSpPr>
          <p:sp>
            <p:nvSpPr>
              <p:cNvPr id="141" name=""/>
              <p:cNvSpPr/>
              <p:nvPr/>
            </p:nvSpPr>
            <p:spPr>
              <a:xfrm>
                <a:off x="2700360" y="5229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09800" y="5229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564000" y="5300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64000" y="54450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5445000"/>
              <a:ext cx="2890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211640" y="5013360"/>
              <a:ext cx="2890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0" y="447192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4932360" y="45435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64360" y="450828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4400" spc="-1" strike="noStrike">
                  <a:solidFill>
                    <a:srgbClr val="000000"/>
                  </a:solidFill>
                  <a:latin typeface="Monotype Corsiva"/>
                </a:rPr>
                <a:t>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6443640" y="45435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75640" y="450828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56360" y="4508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37080" y="5265720"/>
              <a:ext cx="12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7440" y="5300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003640" y="5518080"/>
              <a:ext cx="431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366920" y="1700280"/>
            <a:ext cx="7777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араллельными прямыми в пространстве называются прямые, лежащие в одной плоскости и не пересекающие друг дру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628640"/>
            <a:ext cx="7777080" cy="2664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55736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ан куб. Являются 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раллельными прям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633240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418464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4360" y="4184280"/>
            <a:ext cx="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43280" y="4184280"/>
            <a:ext cx="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5648400"/>
            <a:ext cx="21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50028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60360" y="3500280"/>
            <a:ext cx="0" cy="2159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19640" y="3500280"/>
            <a:ext cx="0" cy="215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4360" y="5660640"/>
            <a:ext cx="57456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4360" y="3499920"/>
            <a:ext cx="574560" cy="6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43280" y="3499920"/>
            <a:ext cx="574560" cy="6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843280" y="5660640"/>
            <a:ext cx="57456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616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558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623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4076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35772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005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2130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2276640"/>
            <a:ext cx="75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)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С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? 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708280"/>
            <a:ext cx="75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)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? 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645000"/>
            <a:ext cx="4643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В пространстве есть прямые, которые не пересекаются, но и не являются параллель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32000" y="2133720"/>
            <a:ext cx="705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Две прямые называются скрещивающимися, если они не лежат в одной плоск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989000"/>
            <a:ext cx="6913800" cy="172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3640" y="4149720"/>
            <a:ext cx="2592360" cy="1434600"/>
            <a:chOff x="3203640" y="4149720"/>
            <a:chExt cx="2592360" cy="1434600"/>
          </a:xfrm>
        </p:grpSpPr>
        <p:sp>
          <p:nvSpPr>
            <p:cNvPr id="192" name=""/>
            <p:cNvSpPr/>
            <p:nvPr/>
          </p:nvSpPr>
          <p:spPr>
            <a:xfrm>
              <a:off x="3203640" y="4149720"/>
              <a:ext cx="2592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800" spc="-1" strike="noStrike">
                  <a:solidFill>
                    <a:srgbClr val="000000"/>
                  </a:solidFill>
                  <a:latin typeface="Times New Roman"/>
                </a:rPr>
                <a:t>c    b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067280" y="4832280"/>
              <a:ext cx="576000" cy="181080"/>
              <a:chOff x="4067280" y="4832280"/>
              <a:chExt cx="576000" cy="181080"/>
            </a:xfrm>
          </p:grpSpPr>
          <p:sp>
            <p:nvSpPr>
              <p:cNvPr id="194" name=""/>
              <p:cNvSpPr/>
              <p:nvPr/>
            </p:nvSpPr>
            <p:spPr>
              <a:xfrm>
                <a:off x="4067280" y="5013360"/>
                <a:ext cx="5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84720" y="483228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2360" y="1557360"/>
            <a:ext cx="74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о рисункам назовит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21337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) пары скрещивающихся реб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270828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) пары параллельных реб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083200"/>
            <a:ext cx="3024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00000" y="3715920"/>
            <a:ext cx="187164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3716280"/>
            <a:ext cx="1150920" cy="1368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5046840"/>
            <a:ext cx="935280" cy="118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835280" y="5082840"/>
            <a:ext cx="2087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35280" y="3716280"/>
            <a:ext cx="93636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0000" y="3282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508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494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70200" y="611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37879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6720" y="37879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4290840"/>
            <a:ext cx="0" cy="172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78792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551664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3787920"/>
            <a:ext cx="43164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516640"/>
            <a:ext cx="43164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24360" y="3787920"/>
            <a:ext cx="223236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24360" y="5516640"/>
            <a:ext cx="223236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5372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1640" y="594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6200" y="357192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36432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84760" y="4219560"/>
            <a:ext cx="75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8360" y="3500280"/>
            <a:ext cx="0" cy="23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4365720"/>
            <a:ext cx="0" cy="143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5229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5229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436572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56000" y="3500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1640" y="1557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лгоритм распознавания взаимного расположения двух прямых в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4760" y="2205000"/>
            <a:ext cx="151308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2924280"/>
            <a:ext cx="288144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Леж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ли в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плоск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3789360"/>
            <a:ext cx="288108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ме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хотя бы од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бщ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точ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4653000"/>
            <a:ext cx="288144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ме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более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точ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280" y="5803920"/>
            <a:ext cx="151308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43280" y="5803920"/>
            <a:ext cx="151272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5805360"/>
            <a:ext cx="1512720" cy="50508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5805360"/>
            <a:ext cx="1513080" cy="50508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0760" y="2025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9636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012000" y="5911920"/>
            <a:ext cx="72720" cy="215640"/>
            <a:chOff x="6012000" y="5911920"/>
            <a:chExt cx="72720" cy="215640"/>
          </a:xfrm>
        </p:grpSpPr>
        <p:sp>
          <p:nvSpPr>
            <p:cNvPr id="253" name=""/>
            <p:cNvSpPr/>
            <p:nvPr/>
          </p:nvSpPr>
          <p:spPr>
            <a:xfrm>
              <a:off x="6012000" y="5911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4720" y="5911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956720" y="5551560"/>
            <a:ext cx="360360" cy="581400"/>
            <a:chOff x="7956720" y="5551560"/>
            <a:chExt cx="360360" cy="581400"/>
          </a:xfrm>
        </p:grpSpPr>
        <p:sp>
          <p:nvSpPr>
            <p:cNvPr id="256" name=""/>
            <p:cNvSpPr/>
            <p:nvPr/>
          </p:nvSpPr>
          <p:spPr>
            <a:xfrm>
              <a:off x="7956720" y="60548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56720" y="55515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92760" y="436392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85080" y="350028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3500280"/>
            <a:ext cx="719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436392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52275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522756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96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86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31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24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486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155736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гда ли две непересекающиеся прямые в пространстве параллель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242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242100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две прямые в пространстве называются 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3465360"/>
            <a:ext cx="647640" cy="64800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2360" y="3357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но:        . Докажите, что все прямые, пересекающие данные лежат в од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70200" y="3141720"/>
            <a:ext cx="1081080" cy="764280"/>
            <a:chOff x="2770200" y="3141720"/>
            <a:chExt cx="1081080" cy="764280"/>
          </a:xfrm>
        </p:grpSpPr>
        <p:sp>
          <p:nvSpPr>
            <p:cNvPr id="280" name=""/>
            <p:cNvSpPr/>
            <p:nvPr/>
          </p:nvSpPr>
          <p:spPr>
            <a:xfrm>
              <a:off x="2770200" y="31417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235320" y="3502080"/>
              <a:ext cx="73080" cy="215640"/>
              <a:chOff x="3235320" y="3502080"/>
              <a:chExt cx="73080" cy="215640"/>
            </a:xfrm>
          </p:grpSpPr>
          <p:sp>
            <p:nvSpPr>
              <p:cNvPr id="282" name=""/>
              <p:cNvSpPr/>
              <p:nvPr/>
            </p:nvSpPr>
            <p:spPr>
              <a:xfrm>
                <a:off x="3235320" y="3502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08400" y="3502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900000" y="4724280"/>
            <a:ext cx="647640" cy="64800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472428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олько можно провести в пространстве прямых, проходящих через данную точку, параллельных данной пря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87280" y="1557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98560" y="1916280"/>
            <a:ext cx="824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еометрия: Учебник для средней школы. 10–11 классы./ Под ред. Л.С. Атанасяна, В.Ф. Бутузова, С.Б. Кадомцева и др. – М.: Просвещение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Геометрия. 10 класс. Поурочные планы / Авт.-сост. Г.И. Ковалева – Волгоград: Учитель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357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861920" cy="2519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843280" y="414972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Кузьм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1480" y="4653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учитель математики 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1480" y="5156280"/>
            <a:ext cx="29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Колобовская МСОШ Шуйский район Иван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148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6732720" y="522936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4:28Z</dcterms:created>
  <dc:creator>1</dc:creator>
  <dc:description/>
  <dc:language>en-US</dc:language>
  <cp:lastModifiedBy>1</cp:lastModifiedBy>
  <dcterms:modified xsi:type="dcterms:W3CDTF">2010-11-29T18:22:33Z</dcterms:modified>
  <cp:revision>43</cp:revision>
  <dc:subject/>
  <dc:title>Слайд 1</dc:title>
</cp:coreProperties>
</file>