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423-62A6-4E71-A02E-2515A49F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291-80DE-40DE-9683-EB46B052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8C4-6F28-4E9D-A802-5D824DE7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879-E57B-48C5-AC51-A6D6E8B8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130F-2062-4748-8849-7B5A547B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03E8-4E42-465E-A71C-CF27A30F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639D-013C-4966-9B54-313812DA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8763-D534-4A2C-AED6-6079C56C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00C9-7ADC-4492-8095-0A9BAC2C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DD56-2063-435D-88AB-E831216A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B3F8-89B7-4D48-979B-AEA3EAA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F15-C241-4325-B794-AD485C4D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91BD-5E05-406A-9AA3-6A5F8F91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4BA7-3EFE-4391-8CDC-819845A3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8FBA-1E16-434C-A97D-DB92998C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483F-F17B-4348-813D-C68D56BD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E28E-89D8-4366-9D72-D0156E1C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3E6-D6E1-488E-999F-280EED62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C5D-7D4A-4809-A206-19CCC7E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B70-0FCD-47A1-8FBE-FB7624F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7AC-66F5-4174-A060-87222598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2FE-97D4-473F-96E4-A3210F6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895-9B9C-4E54-AA95-EADC34C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81C-226F-482B-B915-2A86156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0272-536A-436F-8ED6-0A117F8BDD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10F1-D359-4975-BF05-1E0FF72BCE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653080" y="5372280"/>
            <a:ext cx="3024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653080" y="4005000"/>
            <a:ext cx="187164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4005360"/>
            <a:ext cx="1150920" cy="1368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3080" y="5335560"/>
            <a:ext cx="934920" cy="11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88000" y="5371920"/>
            <a:ext cx="208764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588000" y="4005360"/>
            <a:ext cx="93672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3571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537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29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0809800">
            <a:off x="539280" y="1844640"/>
            <a:ext cx="2521080" cy="356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00000" y="1628640"/>
            <a:ext cx="770436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640" y="33336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88cc"/>
                    </a:gs>
                    <a:gs pos="100000">
                      <a:srgbClr val="8585a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геометрии в 10 класс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88cc"/>
                  </a:gs>
                  <a:gs pos="100000">
                    <a:srgbClr val="8585ad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1557360"/>
            <a:ext cx="7451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Каково может быть взаимное расположение двух прямых на плоскост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781360"/>
            <a:ext cx="838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(совпадают, пересекаются, параллельн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3357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3357720"/>
            <a:ext cx="745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Дайте определение параллельных прямых на плоск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63640" y="4792680"/>
            <a:ext cx="6193080" cy="1922400"/>
            <a:chOff x="1763640" y="4792680"/>
            <a:chExt cx="6193080" cy="1922400"/>
          </a:xfrm>
        </p:grpSpPr>
        <p:sp>
          <p:nvSpPr>
            <p:cNvPr id="111" name=""/>
            <p:cNvSpPr/>
            <p:nvPr/>
          </p:nvSpPr>
          <p:spPr>
            <a:xfrm>
              <a:off x="1763640" y="479268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99"/>
                  </a:solidFill>
                  <a:latin typeface="Monotype Corsiva"/>
                </a:rPr>
                <a:t>(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3080" y="479268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99"/>
                  </a:solidFill>
                  <a:latin typeface="Monotype Corsiva"/>
                </a:rPr>
                <a:t>)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5640" y="54417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78200" y="54766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700360" y="5729040"/>
              <a:ext cx="109440" cy="288720"/>
              <a:chOff x="2700360" y="5729040"/>
              <a:chExt cx="109440" cy="288720"/>
            </a:xfrm>
          </p:grpSpPr>
          <p:sp>
            <p:nvSpPr>
              <p:cNvPr id="116" name=""/>
              <p:cNvSpPr/>
              <p:nvPr/>
            </p:nvSpPr>
            <p:spPr>
              <a:xfrm>
                <a:off x="2700360" y="5729040"/>
                <a:ext cx="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09800" y="5729040"/>
                <a:ext cx="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564000" y="5800680"/>
              <a:ext cx="647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64000" y="5945040"/>
              <a:ext cx="647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11640" y="5945040"/>
              <a:ext cx="289080" cy="289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211640" y="5513400"/>
              <a:ext cx="289080" cy="287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49719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4932360" y="504360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4360" y="500832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r>
                <a:rPr b="1" lang="en-US" sz="4400" spc="-1" strike="noStrike">
                  <a:solidFill>
                    <a:srgbClr val="000099"/>
                  </a:solidFill>
                  <a:latin typeface="Monotype Corsiva"/>
                </a:rPr>
                <a:t>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6443640" y="504360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75640" y="500832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56360" y="500832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7080" y="5765760"/>
              <a:ext cx="12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 </a:t>
              </a: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37440" y="58006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003640" y="6018120"/>
              <a:ext cx="431640" cy="287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19280" y="4221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Параллельными называются прямые, лежащие в одной плоскости и не пересекающие друг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763640" y="4292640"/>
            <a:ext cx="6193080" cy="1922400"/>
            <a:chOff x="1763640" y="4292640"/>
            <a:chExt cx="6193080" cy="1922400"/>
          </a:xfrm>
        </p:grpSpPr>
        <p:sp>
          <p:nvSpPr>
            <p:cNvPr id="136" name=""/>
            <p:cNvSpPr/>
            <p:nvPr/>
          </p:nvSpPr>
          <p:spPr>
            <a:xfrm>
              <a:off x="1763640" y="429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Monotype Corsiva"/>
                </a:rPr>
                <a:t>(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3080" y="429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Monotype Corsiva"/>
                </a:rPr>
                <a:t>)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95640" y="494172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78200" y="49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700360" y="5229000"/>
              <a:ext cx="109440" cy="288720"/>
              <a:chOff x="2700360" y="5229000"/>
              <a:chExt cx="109440" cy="288720"/>
            </a:xfrm>
          </p:grpSpPr>
          <p:sp>
            <p:nvSpPr>
              <p:cNvPr id="141" name=""/>
              <p:cNvSpPr/>
              <p:nvPr/>
            </p:nvSpPr>
            <p:spPr>
              <a:xfrm>
                <a:off x="2700360" y="5229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09800" y="5229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564000" y="5300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64000" y="54450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5445000"/>
              <a:ext cx="2890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211640" y="5013360"/>
              <a:ext cx="2890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0" y="447192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4932360" y="45435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64360" y="450828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4400" spc="-1" strike="noStrike">
                  <a:solidFill>
                    <a:srgbClr val="000000"/>
                  </a:solidFill>
                  <a:latin typeface="Monotype Corsiva"/>
                </a:rPr>
                <a:t>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6443640" y="45435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75640" y="450828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56360" y="4508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37080" y="5265720"/>
              <a:ext cx="12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7440" y="5300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003640" y="5518080"/>
              <a:ext cx="43164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366920" y="1700280"/>
            <a:ext cx="7777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араллельными прямыми в пространстве называются прямые, лежащие в одной плоскости и не пересекающие друг дру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628640"/>
            <a:ext cx="7777080" cy="2664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155736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ан куб. Являются 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араллельными прям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633240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418464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4360" y="4184280"/>
            <a:ext cx="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43280" y="4184280"/>
            <a:ext cx="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5648400"/>
            <a:ext cx="21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350028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60360" y="3500280"/>
            <a:ext cx="0" cy="2159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19640" y="3500280"/>
            <a:ext cx="0" cy="215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4360" y="5660640"/>
            <a:ext cx="574560" cy="64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4360" y="3499920"/>
            <a:ext cx="574560" cy="6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843280" y="3499920"/>
            <a:ext cx="574560" cy="6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843280" y="5660640"/>
            <a:ext cx="57456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616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558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623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4076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35772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005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2130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2276640"/>
            <a:ext cx="75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)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С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? 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2708280"/>
            <a:ext cx="75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)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? 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645000"/>
            <a:ext cx="4643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В пространстве есть прямые, которые не пересекаются, но и не являются параллель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32000" y="2133720"/>
            <a:ext cx="705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Две прямые называются скрещивающимися, если они не лежат в одной плоск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1989000"/>
            <a:ext cx="6913800" cy="172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3640" y="4149720"/>
            <a:ext cx="2592360" cy="1434600"/>
            <a:chOff x="3203640" y="4149720"/>
            <a:chExt cx="2592360" cy="1434600"/>
          </a:xfrm>
        </p:grpSpPr>
        <p:sp>
          <p:nvSpPr>
            <p:cNvPr id="192" name=""/>
            <p:cNvSpPr/>
            <p:nvPr/>
          </p:nvSpPr>
          <p:spPr>
            <a:xfrm>
              <a:off x="3203640" y="4149720"/>
              <a:ext cx="2592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800" spc="-1" strike="noStrike">
                  <a:solidFill>
                    <a:srgbClr val="000000"/>
                  </a:solidFill>
                  <a:latin typeface="Times New Roman"/>
                </a:rPr>
                <a:t>c    b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067280" y="4832280"/>
              <a:ext cx="576000" cy="181080"/>
              <a:chOff x="4067280" y="4832280"/>
              <a:chExt cx="576000" cy="181080"/>
            </a:xfrm>
          </p:grpSpPr>
          <p:sp>
            <p:nvSpPr>
              <p:cNvPr id="194" name=""/>
              <p:cNvSpPr/>
              <p:nvPr/>
            </p:nvSpPr>
            <p:spPr>
              <a:xfrm>
                <a:off x="4067280" y="5013360"/>
                <a:ext cx="5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84720" y="483228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92360" y="1557360"/>
            <a:ext cx="74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о рисункам назовит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213372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) пары скрещивающихся реб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270828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) пары параллельных реб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5083200"/>
            <a:ext cx="3024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00000" y="3715920"/>
            <a:ext cx="187164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3716280"/>
            <a:ext cx="1150920" cy="1368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5046840"/>
            <a:ext cx="935280" cy="118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835280" y="5082840"/>
            <a:ext cx="2087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35280" y="3716280"/>
            <a:ext cx="93636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0000" y="3282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5083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494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70200" y="611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37879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6720" y="37879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4290840"/>
            <a:ext cx="0" cy="172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787920"/>
            <a:ext cx="266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5516640"/>
            <a:ext cx="266400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3787920"/>
            <a:ext cx="43164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516640"/>
            <a:ext cx="43164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24360" y="3787920"/>
            <a:ext cx="223236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24360" y="5516640"/>
            <a:ext cx="223236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53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5372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1640" y="5948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86200" y="357192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36432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84760" y="4219560"/>
            <a:ext cx="75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8360" y="3500280"/>
            <a:ext cx="0" cy="23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4365720"/>
            <a:ext cx="0" cy="143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5229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5229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436572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56000" y="3500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1640" y="1557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лгоритм распознавания взаимного расположения двух прямых в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4760" y="2205000"/>
            <a:ext cx="151308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2924280"/>
            <a:ext cx="288144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Леж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ли в 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плоск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3789360"/>
            <a:ext cx="288108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ме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хотя бы од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бщ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точ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4653000"/>
            <a:ext cx="288144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ме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более 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точ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280" y="5803920"/>
            <a:ext cx="151308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43280" y="5803920"/>
            <a:ext cx="151272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5805360"/>
            <a:ext cx="1512720" cy="50508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5805360"/>
            <a:ext cx="1513080" cy="50508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00760" y="2025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9636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012000" y="5911920"/>
            <a:ext cx="72720" cy="215640"/>
            <a:chOff x="6012000" y="5911920"/>
            <a:chExt cx="72720" cy="215640"/>
          </a:xfrm>
        </p:grpSpPr>
        <p:sp>
          <p:nvSpPr>
            <p:cNvPr id="253" name=""/>
            <p:cNvSpPr/>
            <p:nvPr/>
          </p:nvSpPr>
          <p:spPr>
            <a:xfrm>
              <a:off x="6012000" y="5911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4720" y="5911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956720" y="5551560"/>
            <a:ext cx="360360" cy="581400"/>
            <a:chOff x="7956720" y="5551560"/>
            <a:chExt cx="360360" cy="581400"/>
          </a:xfrm>
        </p:grpSpPr>
        <p:sp>
          <p:nvSpPr>
            <p:cNvPr id="256" name=""/>
            <p:cNvSpPr/>
            <p:nvPr/>
          </p:nvSpPr>
          <p:spPr>
            <a:xfrm>
              <a:off x="7956720" y="605484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56720" y="55515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92760" y="436392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85080" y="350028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3500280"/>
            <a:ext cx="719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436392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52275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522756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96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86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12000" y="31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2436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486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155736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гда ли две непересекающиеся прямые в пространстве параллель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242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242100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две прямые в пространстве называются 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3465360"/>
            <a:ext cx="647640" cy="64800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2360" y="33577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но:        . Докажите, что все прямые, пересекающие данные лежат в одн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70200" y="3141720"/>
            <a:ext cx="1081080" cy="764280"/>
            <a:chOff x="2770200" y="3141720"/>
            <a:chExt cx="1081080" cy="764280"/>
          </a:xfrm>
        </p:grpSpPr>
        <p:sp>
          <p:nvSpPr>
            <p:cNvPr id="280" name=""/>
            <p:cNvSpPr/>
            <p:nvPr/>
          </p:nvSpPr>
          <p:spPr>
            <a:xfrm>
              <a:off x="2770200" y="31417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235320" y="3502080"/>
              <a:ext cx="73080" cy="215640"/>
              <a:chOff x="3235320" y="3502080"/>
              <a:chExt cx="73080" cy="215640"/>
            </a:xfrm>
          </p:grpSpPr>
          <p:sp>
            <p:nvSpPr>
              <p:cNvPr id="282" name=""/>
              <p:cNvSpPr/>
              <p:nvPr/>
            </p:nvSpPr>
            <p:spPr>
              <a:xfrm>
                <a:off x="3235320" y="35020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08400" y="35020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900000" y="4724280"/>
            <a:ext cx="647640" cy="64800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472428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олько можно провести в пространстве прямых, проходящих через данную точку, параллельных данной пря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87280" y="1557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98560" y="1916280"/>
            <a:ext cx="824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еометрия: Учебник для средней школы. 10–11 классы./ Под ред. Л.С. Атанасяна, В.Ф. Бутузова, С.Б. Кадомцева и др. – М.: Просвещение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Геометрия. 10 класс. Поурочные планы / Авт.-сост. Г.И. Ковалева – Волгоград: Учитель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357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1861920" cy="2519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843280" y="414972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Кузьм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1480" y="4653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учитель математики 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1480" y="5156280"/>
            <a:ext cx="29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Колобовская МСОШ Шуйский район Иван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1480" y="63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6732720" y="522936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4:28Z</dcterms:created>
  <dc:creator>1</dc:creator>
  <dc:description/>
  <dc:language>en-US</dc:language>
  <cp:lastModifiedBy>1</cp:lastModifiedBy>
  <dcterms:modified xsi:type="dcterms:W3CDTF">2010-11-29T18:22:33Z</dcterms:modified>
  <cp:revision>43</cp:revision>
  <dc:subject/>
  <dc:title>Слайд 1</dc:title>
</cp:coreProperties>
</file>