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6FD-B816-46F2-A69F-BF8E6504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A91-C6DC-4EF6-B891-4C72D0CA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7E3-09EE-434C-A1F5-0AAA6224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E10-45E8-474C-A6FB-0C8705F5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CECC-7665-4CE1-B7E2-4F0C184D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1BC3-0993-4F5F-99B1-31862895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525D-EA9C-4979-9B99-D08CDE7F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C613-F49F-4A88-833D-3ACFA3E2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AC6A-0BB3-43A5-871C-03BCFBBD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2216-7891-408B-BA51-5C83F629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8B4E-D0DF-4B3C-B94F-B48930EE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2D0-4964-458C-8B3F-0B4F2BEE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EA61-DCD0-4D08-93D4-B8DFE0C8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94DA-8200-456B-BB9F-1407C01A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8D7F-42C8-448E-B5CF-F6BA25FC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CF67-D44F-41C1-B315-CD279062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A169-B390-4D87-ABC1-1793548C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C88-6774-499D-B5D8-010BC36C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015-E599-4477-A2E4-04BC1359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783-ADEC-421D-948E-B09820E5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36C-4B77-4515-9BAD-CF732387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C12-F208-40E0-A036-BFDBA2DB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CF6-B792-4309-9BDA-56B5FC3C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BCC-44CC-4DCE-8404-32E33C14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6CFE-84F5-4BD1-AEA5-818D673036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EAB7-83A8-4958-B3C0-75D8F83E1B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653080" y="5372280"/>
            <a:ext cx="302436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653080" y="4005000"/>
            <a:ext cx="1871640" cy="1366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4005360"/>
            <a:ext cx="1150920" cy="1368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3080" y="5335560"/>
            <a:ext cx="934920" cy="118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588000" y="5371920"/>
            <a:ext cx="208764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588000" y="4005360"/>
            <a:ext cx="936720" cy="25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3080" y="35719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8360" y="537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2920" y="64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20809800">
            <a:off x="539280" y="1844640"/>
            <a:ext cx="2521080" cy="356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900000" y="1628640"/>
            <a:ext cx="770436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6666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6666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6666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6666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55640" y="333360"/>
            <a:ext cx="612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88cc"/>
                    </a:gs>
                    <a:gs pos="100000">
                      <a:srgbClr val="8585a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геометрии в 10 класс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88cc"/>
                  </a:gs>
                  <a:gs pos="100000">
                    <a:srgbClr val="8585ad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557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1557360"/>
            <a:ext cx="7451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Каково может быть взаимное расположение двух прямых на плоскост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2781360"/>
            <a:ext cx="838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Verdana"/>
              </a:rPr>
              <a:t>(совпадают, пересекаются, параллельны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335772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3357720"/>
            <a:ext cx="7451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Дайте определение параллельных прямых на плоск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763640" y="4792680"/>
            <a:ext cx="6193080" cy="1922400"/>
            <a:chOff x="1763640" y="4792680"/>
            <a:chExt cx="6193080" cy="1922400"/>
          </a:xfrm>
        </p:grpSpPr>
        <p:sp>
          <p:nvSpPr>
            <p:cNvPr id="111" name=""/>
            <p:cNvSpPr/>
            <p:nvPr/>
          </p:nvSpPr>
          <p:spPr>
            <a:xfrm>
              <a:off x="1763640" y="479268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99"/>
                  </a:solidFill>
                  <a:latin typeface="Monotype Corsiva"/>
                </a:rPr>
                <a:t>(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93080" y="479268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99"/>
                  </a:solidFill>
                  <a:latin typeface="Monotype Corsiva"/>
                </a:rPr>
                <a:t>)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5640" y="544176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Monotype Corsiva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78200" y="54766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2700360" y="5729040"/>
              <a:ext cx="109440" cy="288720"/>
              <a:chOff x="2700360" y="5729040"/>
              <a:chExt cx="109440" cy="288720"/>
            </a:xfrm>
          </p:grpSpPr>
          <p:sp>
            <p:nvSpPr>
              <p:cNvPr id="116" name=""/>
              <p:cNvSpPr/>
              <p:nvPr/>
            </p:nvSpPr>
            <p:spPr>
              <a:xfrm>
                <a:off x="2700360" y="5729040"/>
                <a:ext cx="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09800" y="5729040"/>
                <a:ext cx="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3564000" y="5800680"/>
              <a:ext cx="6476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64000" y="5945040"/>
              <a:ext cx="6476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11640" y="5945040"/>
              <a:ext cx="289080" cy="2890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211640" y="5513400"/>
              <a:ext cx="289080" cy="287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497196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Monotype Corsiva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4932360" y="504360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64360" y="500832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</a:t>
              </a:r>
              <a:r>
                <a:rPr b="1" lang="en-US" sz="4400" spc="-1" strike="noStrike">
                  <a:solidFill>
                    <a:srgbClr val="000099"/>
                  </a:solidFill>
                  <a:latin typeface="Monotype Corsiva"/>
                </a:rPr>
                <a:t>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800000">
              <a:off x="6443640" y="504360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75640" y="500832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56360" y="500832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7080" y="5765760"/>
              <a:ext cx="1258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Monotype Corsiva"/>
                </a:rPr>
                <a:t>a </a:t>
              </a: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37440" y="58006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003640" y="6018120"/>
              <a:ext cx="431640" cy="287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19280" y="422100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Параллельными называются прямые, лежащие в одной плоскости и не пересекающие друг дру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763640" y="4292640"/>
            <a:ext cx="6193080" cy="1922400"/>
            <a:chOff x="1763640" y="4292640"/>
            <a:chExt cx="6193080" cy="1922400"/>
          </a:xfrm>
        </p:grpSpPr>
        <p:sp>
          <p:nvSpPr>
            <p:cNvPr id="136" name=""/>
            <p:cNvSpPr/>
            <p:nvPr/>
          </p:nvSpPr>
          <p:spPr>
            <a:xfrm>
              <a:off x="1763640" y="429264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00"/>
                  </a:solidFill>
                  <a:latin typeface="Monotype Corsiva"/>
                </a:rPr>
                <a:t>(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93080" y="429264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000000"/>
                  </a:solidFill>
                  <a:latin typeface="Monotype Corsiva"/>
                </a:rPr>
                <a:t>)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95640" y="4941720"/>
              <a:ext cx="50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78200" y="4976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700360" y="5229000"/>
              <a:ext cx="109440" cy="288720"/>
              <a:chOff x="2700360" y="5229000"/>
              <a:chExt cx="109440" cy="288720"/>
            </a:xfrm>
          </p:grpSpPr>
          <p:sp>
            <p:nvSpPr>
              <p:cNvPr id="141" name=""/>
              <p:cNvSpPr/>
              <p:nvPr/>
            </p:nvSpPr>
            <p:spPr>
              <a:xfrm>
                <a:off x="2700360" y="522900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09800" y="522900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564000" y="5300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64000" y="54450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1640" y="5445000"/>
              <a:ext cx="28908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211640" y="5013360"/>
              <a:ext cx="28908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0" y="447192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0000">
              <a:off x="4932360" y="454356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64360" y="450828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4400" spc="-1" strike="noStrike">
                  <a:solidFill>
                    <a:srgbClr val="000000"/>
                  </a:solidFill>
                  <a:latin typeface="Monotype Corsiva"/>
                </a:rPr>
                <a:t>,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0800000">
              <a:off x="6443640" y="454356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75640" y="450828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56360" y="450828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37080" y="5265720"/>
              <a:ext cx="1258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a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37440" y="5300640"/>
              <a:ext cx="50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003640" y="5518080"/>
              <a:ext cx="43164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366920" y="1700280"/>
            <a:ext cx="7777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Параллельными прямыми в пространстве называются прямые, лежащие в одной плоскости и не пересекающие друг дру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1628640"/>
            <a:ext cx="7777080" cy="2664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00000" y="1557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155736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ан куб. Являются 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араллельными прям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6332400"/>
            <a:ext cx="2158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4184640"/>
            <a:ext cx="2158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4360" y="4184280"/>
            <a:ext cx="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843280" y="4184280"/>
            <a:ext cx="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60360" y="5648400"/>
            <a:ext cx="215928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3500280"/>
            <a:ext cx="2158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260360" y="3500280"/>
            <a:ext cx="0" cy="21592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419640" y="3500280"/>
            <a:ext cx="0" cy="215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4360" y="5660640"/>
            <a:ext cx="574560" cy="647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84360" y="3499920"/>
            <a:ext cx="574560" cy="68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843280" y="3499920"/>
            <a:ext cx="574560" cy="68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843280" y="5660640"/>
            <a:ext cx="57456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6165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558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623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892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407664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335772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400536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32130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2276640"/>
            <a:ext cx="759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) А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D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и С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? Ответ обосн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2708280"/>
            <a:ext cx="759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) А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? Они пересека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3645000"/>
            <a:ext cx="46432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В пространстве есть прямые, которые не пересекаются, но и не являются параллельны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332000" y="2133720"/>
            <a:ext cx="7056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Две прямые называются скрещивающимися, если они не лежат в одной плоск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1989000"/>
            <a:ext cx="6913800" cy="172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3640" y="4149720"/>
            <a:ext cx="2592360" cy="1434600"/>
            <a:chOff x="3203640" y="4149720"/>
            <a:chExt cx="2592360" cy="1434600"/>
          </a:xfrm>
        </p:grpSpPr>
        <p:sp>
          <p:nvSpPr>
            <p:cNvPr id="192" name=""/>
            <p:cNvSpPr/>
            <p:nvPr/>
          </p:nvSpPr>
          <p:spPr>
            <a:xfrm>
              <a:off x="3203640" y="4149720"/>
              <a:ext cx="2592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800" spc="-1" strike="noStrike">
                  <a:solidFill>
                    <a:srgbClr val="000000"/>
                  </a:solidFill>
                  <a:latin typeface="Times New Roman"/>
                </a:rPr>
                <a:t>c    b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067280" y="4832280"/>
              <a:ext cx="576000" cy="181080"/>
              <a:chOff x="4067280" y="4832280"/>
              <a:chExt cx="576000" cy="181080"/>
            </a:xfrm>
          </p:grpSpPr>
          <p:sp>
            <p:nvSpPr>
              <p:cNvPr id="194" name=""/>
              <p:cNvSpPr/>
              <p:nvPr/>
            </p:nvSpPr>
            <p:spPr>
              <a:xfrm>
                <a:off x="4067280" y="5013360"/>
                <a:ext cx="57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84720" y="4832280"/>
                <a:ext cx="108000" cy="108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557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92360" y="1557360"/>
            <a:ext cx="745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По рисункам назовит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213372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) пары скрещивающихся реб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7640" y="270828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) пары параллельных реб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5083200"/>
            <a:ext cx="302436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00000" y="3715920"/>
            <a:ext cx="1871640" cy="1366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3716280"/>
            <a:ext cx="1150920" cy="1368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5046840"/>
            <a:ext cx="935280" cy="118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835280" y="5082840"/>
            <a:ext cx="208728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835280" y="3716280"/>
            <a:ext cx="936360" cy="25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40000" y="32828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35280" y="50832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4940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70200" y="611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92720" y="378792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56720" y="378792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24360" y="4290840"/>
            <a:ext cx="0" cy="172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3787920"/>
            <a:ext cx="266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92720" y="5516640"/>
            <a:ext cx="266400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2720" y="3787920"/>
            <a:ext cx="43164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2720" y="5516640"/>
            <a:ext cx="43164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724360" y="3787920"/>
            <a:ext cx="223236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724360" y="5516640"/>
            <a:ext cx="2232360" cy="50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530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5372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51640" y="5948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86200" y="357192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56720" y="3643200"/>
            <a:ext cx="57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84760" y="4219560"/>
            <a:ext cx="75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443640" y="26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88360" y="3500280"/>
            <a:ext cx="0" cy="2305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27640" y="4365720"/>
            <a:ext cx="0" cy="1439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5640" y="5229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5229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95640" y="436572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56000" y="350028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71640" y="155736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Алгоритм распознавания взаимного расположения двух прямых в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84760" y="2205000"/>
            <a:ext cx="1513080" cy="50472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2924280"/>
            <a:ext cx="2881440" cy="1152360"/>
          </a:xfrm>
          <a:prstGeom prst="diamond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Леж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ли в 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плоскос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16360" y="3789360"/>
            <a:ext cx="2881080" cy="1152360"/>
          </a:xfrm>
          <a:prstGeom prst="diamond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Име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хотя бы од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общ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точк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4653000"/>
            <a:ext cx="2881440" cy="1152360"/>
          </a:xfrm>
          <a:prstGeom prst="diamond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Имею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более од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об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точк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280" y="5803920"/>
            <a:ext cx="1513080" cy="50472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43280" y="5803920"/>
            <a:ext cx="1512720" cy="50472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92720" y="5805360"/>
            <a:ext cx="1512720" cy="50508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08720" y="5805360"/>
            <a:ext cx="1513080" cy="50508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bcdfde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00760" y="2025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5589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59280" y="5589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80000" y="5589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96360" y="5589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012000" y="5911920"/>
            <a:ext cx="72720" cy="215640"/>
            <a:chOff x="6012000" y="5911920"/>
            <a:chExt cx="72720" cy="215640"/>
          </a:xfrm>
        </p:grpSpPr>
        <p:sp>
          <p:nvSpPr>
            <p:cNvPr id="253" name=""/>
            <p:cNvSpPr/>
            <p:nvPr/>
          </p:nvSpPr>
          <p:spPr>
            <a:xfrm>
              <a:off x="6012000" y="59119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84720" y="59119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956720" y="5551560"/>
            <a:ext cx="360360" cy="581400"/>
            <a:chOff x="7956720" y="5551560"/>
            <a:chExt cx="360360" cy="581400"/>
          </a:xfrm>
        </p:grpSpPr>
        <p:sp>
          <p:nvSpPr>
            <p:cNvPr id="256" name=""/>
            <p:cNvSpPr/>
            <p:nvPr/>
          </p:nvSpPr>
          <p:spPr>
            <a:xfrm>
              <a:off x="7956720" y="6054840"/>
              <a:ext cx="25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56720" y="55515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792760" y="436392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85080" y="3500280"/>
            <a:ext cx="503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56000" y="3500280"/>
            <a:ext cx="719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436392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5280" y="52275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5227560"/>
            <a:ext cx="2872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84720" y="314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96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486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12000" y="3141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24360" y="400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64000" y="486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/>
          <p:nvPr/>
        </p:nvSpPr>
        <p:spPr>
          <a:xfrm>
            <a:off x="6335640" y="661356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ab6b4"/>
                </a:solidFill>
                <a:latin typeface="Arial"/>
                <a:ea typeface="Arial"/>
              </a:rPr>
              <a:t>©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  <a:ea typeface="Arial"/>
              </a:rPr>
              <a:t> </a:t>
            </a:r>
            <a:r>
              <a:rPr b="0" lang="ru-RU" sz="1000" spc="-1" strike="noStrike">
                <a:solidFill>
                  <a:srgbClr val="6ab6b4"/>
                </a:solidFill>
                <a:latin typeface="Arial"/>
              </a:rPr>
              <a:t>Кузьмина Е.А., Колобовская МСОШ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900000" y="155736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92360" y="155736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гда ли две непересекающиеся прямые в пространстве параллель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2421000"/>
            <a:ext cx="647640" cy="64764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92360" y="242100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две прямые в пространстве называются паралле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3465360"/>
            <a:ext cx="647640" cy="64800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2360" y="335772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но:        . Докажите, что все прямые, пересекающие данные лежат в одн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770200" y="3141720"/>
            <a:ext cx="1081080" cy="764280"/>
            <a:chOff x="2770200" y="3141720"/>
            <a:chExt cx="1081080" cy="764280"/>
          </a:xfrm>
        </p:grpSpPr>
        <p:sp>
          <p:nvSpPr>
            <p:cNvPr id="280" name=""/>
            <p:cNvSpPr/>
            <p:nvPr/>
          </p:nvSpPr>
          <p:spPr>
            <a:xfrm>
              <a:off x="2770200" y="31417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4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235320" y="3502080"/>
              <a:ext cx="73080" cy="215640"/>
              <a:chOff x="3235320" y="3502080"/>
              <a:chExt cx="73080" cy="215640"/>
            </a:xfrm>
          </p:grpSpPr>
          <p:sp>
            <p:nvSpPr>
              <p:cNvPr id="282" name=""/>
              <p:cNvSpPr/>
              <p:nvPr/>
            </p:nvSpPr>
            <p:spPr>
              <a:xfrm>
                <a:off x="3235320" y="350208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08400" y="350208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900000" y="4724280"/>
            <a:ext cx="647640" cy="648000"/>
          </a:xfrm>
          <a:prstGeom prst="ellipse">
            <a:avLst/>
          </a:prstGeom>
          <a:gradFill rotWithShape="0">
            <a:gsLst>
              <a:gs pos="0">
                <a:srgbClr val="99cccc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0d1b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2360" y="472428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олько можно провести в пространстве прямых, проходящих через данную точку, параллельных данной прям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87280" y="15573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спользуем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98560" y="1916280"/>
            <a:ext cx="8245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еометрия: Учебник для средней школы. 10–11 классы./ Под ред. Л.С. Атанасяна, В.Ф. Бутузова, С.Б. Кадомцева и др. – М.: Просвещение, 19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Геометрия. 10 класс. Поурочные планы / Авт.-сост. Г.И. Ковалева – Волгоград: Учитель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87280" y="35733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Презентацию 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1861920" cy="2519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843280" y="414972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Кузьмин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41480" y="46530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учитель математики и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41480" y="5156280"/>
            <a:ext cx="295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Колобовская МСОШ Шуйский район Иванов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41480" y="6308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6732720" y="5229360"/>
            <a:ext cx="1908000" cy="1431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8070840" y="71280"/>
            <a:ext cx="1000080" cy="1413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75564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ac6d2"/>
                  </a:solidFill>
                  <a:miter/>
                </a:ln>
                <a:gradFill rotWithShape="0">
                  <a:gsLst>
                    <a:gs pos="0">
                      <a:srgbClr val="0091da"/>
                    </a:gs>
                    <a:gs pos="100000">
                      <a:srgbClr val="8c8c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раллельные прямые в пространстве</a:t>
            </a:r>
            <a:endParaRPr b="1" lang="en-US" sz="1800" spc="1" strike="noStrike">
              <a:ln w="9360">
                <a:solidFill>
                  <a:srgbClr val="cac6d2"/>
                </a:solidFill>
                <a:miter/>
              </a:ln>
              <a:gradFill rotWithShape="0">
                <a:gsLst>
                  <a:gs pos="0">
                    <a:srgbClr val="0091da"/>
                  </a:gs>
                  <a:gs pos="100000">
                    <a:srgbClr val="8c8c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2:34:28Z</dcterms:created>
  <dc:creator>1</dc:creator>
  <dc:description/>
  <dc:language>en-US</dc:language>
  <cp:lastModifiedBy>1</cp:lastModifiedBy>
  <dcterms:modified xsi:type="dcterms:W3CDTF">2010-11-29T18:22:33Z</dcterms:modified>
  <cp:revision>43</cp:revision>
  <dc:subject/>
  <dc:title>Слайд 1</dc:title>
</cp:coreProperties>
</file>